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5.png" ContentType="image/png"/>
  <Override PartName="/ppt/media/applause.wav" ContentType="audio/x-wav"/>
  <Override PartName="/ppt/media/image30.wmf" ContentType="image/x-wmf"/>
  <Override PartName="/ppt/media/image10.png" ContentType="image/png"/>
  <Override PartName="/ppt/media/image2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5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19.jpeg" ContentType="image/jpeg"/>
  <Override PartName="/ppt/media/image29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279-109A-415D-9E5D-C8415C73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59B-A91B-4D51-94DE-2E47FCBB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3A4-16FA-49A7-9EBF-4C678559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A2B-29C8-4A9E-B0F1-242713B6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8AA-71B8-4BB9-8341-882ACEE6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51B-DEA3-4C18-A898-DD51BDE0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A87-A170-4237-829B-6DE67767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EF1-7826-4365-A144-2A098549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3B3-DF17-4D40-AA33-25C4D2C4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9DBA-115B-4C72-9F40-213B0E70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573-CE6B-4D76-87DE-0E51571D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B5A-5746-4FEC-BDAA-EBA8EE68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937B-6F32-4A3C-A79E-8C912CC70E8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0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audio" Target="file:///usr/lib/libreoffice/share/gallery/sounds/applause.wav" TargetMode="External"/><Relationship Id="rId4" Type="http://schemas.microsoft.com/office/2007/relationships/media" Target="file:///usr/lib/libreoffice/share/gallery/sounds/applause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wmf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565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-1866600" y="3314520"/>
            <a:ext cx="5181480" cy="1447920"/>
          </a:xfrm>
          <a:custGeom>
            <a:avLst/>
            <a:gdLst>
              <a:gd name="textAreaLeft" fmla="*/ 714600 w 5181480"/>
              <a:gd name="textAreaRight" fmla="*/ 4466880 w 5181480"/>
              <a:gd name="textAreaTop" fmla="*/ 199440 h 1447920"/>
              <a:gd name="textAreaBottom" fmla="*/ 1248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8" y="21600"/>
                </a:lnTo>
                <a:lnTo>
                  <a:pt x="2212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8749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1"/>
                </p:tgtEl>
              </p:cMediaNode>
            </p:audio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74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-1714680" y="2781360"/>
            <a:ext cx="5181840" cy="1752480"/>
          </a:xfrm>
          <a:custGeom>
            <a:avLst/>
            <a:gdLst>
              <a:gd name="textAreaLeft" fmla="*/ 714600 w 5181840"/>
              <a:gd name="textAreaRight" fmla="*/ 4467240 w 5181840"/>
              <a:gd name="textAreaTop" fmla="*/ 241560 h 1752480"/>
              <a:gd name="textAreaBottom" fmla="*/ 15109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8" y="21600"/>
                </a:lnTo>
                <a:lnTo>
                  <a:pt x="2212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5T08:17:5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