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7.png" ContentType="image/png"/>
  <Override PartName="/ppt/media/image33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30.jpeg" ContentType="image/jpeg"/>
  <Override PartName="/ppt/media/image7.wmf" ContentType="image/x-wmf"/>
  <Override PartName="/ppt/media/image20.jpeg" ContentType="image/jpeg"/>
  <Override PartName="/ppt/media/image12.png" ContentType="image/png"/>
  <Override PartName="/ppt/media/image13.png" ContentType="image/png"/>
  <Override PartName="/ppt/media/image11.png" ContentType="image/png"/>
  <Override PartName="/ppt/media/image6.wmf" ContentType="image/x-wmf"/>
  <Override PartName="/ppt/media/image31.jpeg" ContentType="image/jpeg"/>
  <Override PartName="/ppt/media/image8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3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165C-5084-4CA5-A157-A67FB09596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40E5-2552-46D8-8135-8BA4CF01A1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0C3-D2AE-4B2D-89C2-2F590AD9C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090-49E3-45A7-817D-F918D912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68E-4244-4159-8623-E9A7AB1F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45B-4D8B-4A44-84D4-07830DB1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18D1-50F6-4086-970B-AFEB1A5F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26F0-807C-4AF0-A175-9B9344FA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92B3-DC9C-4254-B66F-9D4EF1F3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62AA-1461-4BB4-8D1C-EC19FBA5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1363-5FC2-4389-A4E8-5D6341B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64F2-872D-4F7D-881F-D8F7E74D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D0E1-BE78-46BE-ACD6-166A749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A7B-E889-4FF8-B880-872215B9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54EF-A5DA-428F-9B9A-FEE083DD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69BE-3C6B-493F-A91D-305F989F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119C-71E6-416C-A9FA-A8465EFC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E902-B402-44F2-9603-D799ACAE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937B-E0B5-434C-AA2A-E64B2A98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D265-33AF-4178-ACC8-BA323F3C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3880-67E0-42C6-B406-4F4D9997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69BAB-D405-4B73-8FB3-CFAF35C8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23DA-5748-447A-B7E0-8D0B38D3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A924-17AE-4C68-9B10-BE7076C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DDD-836C-4167-9915-83774DDF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78AA-A529-451E-8629-31599E66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D75C-708F-48DF-B7AB-64F1C3B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6B4E-FBB8-4C35-A350-432DAE15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F8E43-5F85-4671-9E1F-644C6152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47BA-6081-41F6-91D4-1E50A7DF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C9BB-8961-415C-81F3-9AB17359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37CD-262E-4AEC-AECC-AFB21CBA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FC4B-EC72-4C01-9DE8-70DB115C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BD438-A5CB-4021-85BA-7D589B9A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0843-76A5-47D5-B99E-F3C0601F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8B04-0EA8-4F60-8EDB-78168CD9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18C2-5ED9-4265-A574-BC35AF2C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80CED-8E35-4322-897E-AFB01162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7B2E4-3D85-4D70-8535-89518D17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41E29-14F2-4692-8AE5-E9018E7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601E-0E74-4F11-99FD-ED1CB801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CEBFE-32DA-41D3-A35B-FF3040F5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4E971-B913-4CFA-B107-FAC9C4E5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8636-F954-4860-8ECD-5B9F1BC8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6FF21-E0A0-4E28-9F14-C7C74B24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FAE7-7A2D-4747-82FA-8013A609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5E9-4E6A-48AF-8DBB-45C8F721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C21B7-5EB1-4C42-B752-4D587B60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A72B6-2771-4ED7-9695-16F2B07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6B321-8DB8-41BE-845A-A10718ED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D1728-A399-4376-B9EE-DF18FBC1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F3E48-ED2D-4224-B89B-86DC1C1D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10022-BF25-49B8-9BC7-0825222F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6B468-B63C-4E31-988D-77DE14C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BF253-3E52-48E5-A844-81F1A7C6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52E83-1BEB-4319-9561-F5AD5FD0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0CAD9-8DD2-4454-A4A7-5B8DC24B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EBB-90C1-4276-8E6A-C1EB641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1FF1B-FDCD-4709-BC75-C02A6475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894-2D63-4C11-9E2B-6538416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251-90A9-4D3A-916A-9B12738B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76F-4A30-4A9E-904D-932B9AB4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9B2-F0A7-4AC4-99FD-67B5CAFBF3F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D924-40E4-462D-AE35-4FA6ADF6AD07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134F-9CAE-4EDF-A5C0-3BD2254C5A2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DCCC-7FDE-43D8-B274-E5987524CF68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C2C6-5A3A-47F2-B726-30AE139BC22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0.png"/><Relationship Id="rId3" Type="http://schemas.openxmlformats.org/officeDocument/2006/relationships/hyperlink" Target="http://images.yandex.ru/yandsearch?p=50&amp;ed=1&amp;stype=simage&amp;text=&#1082;&#1072;&#1088;&#1090;&#1080;&#1085;&#1082;&#1080;%20&#1089;&#1087;&#1086;&#1088;&#1090;&#1080;&#1074;&#1085;&#1099;&#1093;%20&#1080;&#1075;&#1088;%20&#1089;%20&#1084;&#1103;&#1095;&#1086;&#1084;&amp;spsite=www.sportsaler.ru&amp;img_url=sport.teem.ru/images/eptun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png"/><Relationship Id="rId3" Type="http://schemas.openxmlformats.org/officeDocument/2006/relationships/hyperlink" Target="http://images.yandex.ru/yandsearch?p=44&amp;ed=1&amp;stype=simage&amp;text=&#1082;&#1072;&#1088;&#1090;&#1080;&#1085;&#1082;&#1080;%20&#1089;&#1087;&#1086;&#1088;&#1090;&#1080;&#1074;&#1085;&#1099;&#1093;%20&#1080;&#1075;&#1088;%20&#1089;%20&#1084;&#1103;&#1095;&#1086;&#1084;&amp;spsite=www.maksatiha.ru&amp;img_url=iptv.com.ua/images/news/1150886552580307948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yandex.ru/yandsearch?p=24&amp;ed=1&amp;stype=simage&amp;text=&#1082;&#1072;&#1088;&#1090;&#1080;&#1085;&#1082;&#1080;%20&#1089;&#1087;&#1086;&#1088;&#1090;&#1080;&#1074;&#1085;&#1099;&#1093;%20&#1080;&#1075;&#1088;%20&#1089;%20&#1084;&#1103;&#1095;&#1086;&#1084;&amp;spsite=www.magazinov.net&amp;img_url=www.konkurentov.net/_files/b/g/bgl7-rfb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hyperlink" Target="http://images.yandex.ru/yandsearch?p=21&amp;ed=1&amp;stype=simage&amp;text=&#1082;&#1072;&#1088;&#1090;&#1080;&#1085;&#1082;&#1080;%20&#1089;&#1087;&#1086;&#1088;&#1090;&#1080;&#1074;&#1085;&#1099;&#1093;%20&#1080;&#1075;&#1088;%20&#1089;%20&#1084;&#1103;&#1095;&#1086;&#1084;&amp;spsite=photofinish.narod.ru&amp;img_url=pics.posternazakaz.ru/pnz/product/big/40f398fbdc04d5c750520e89b163f069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p=33&amp;ed=1&amp;stype=simage&amp;text=&#1082;&#1072;&#1088;&#1090;&#1080;&#1085;&#1082;&#1080;%20&#1089;&#1087;&#1086;&#1088;&#1090;&#1080;&#1074;&#1085;&#1099;&#1093;%20&#1080;&#1075;&#1088;%20&#1089;%20&#1084;&#1103;&#1095;&#1086;&#1084;&amp;spsite=img-2007-11.photosight.ru&amp;img_url=img-2007-11.photosight.ru/07/2397974.jpg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yandex.ru/yandsearch?p=19&amp;ed=1&amp;text=&#1082;&#1072;&#1088;&#1090;&#1080;&#1085;&#1082;&#1080;%20&#1089;&#1087;&#1086;&#1088;&#1090;&#1080;&#1074;&#1085;&#1099;&#1093;%20&#1080;&#1075;&#1088;%20&#1089;%20&#1084;&#1103;&#1095;&#1086;&#1084;&amp;spsite=www.ruscountry.ru&amp;img_url=www.aatravel.ru/uploaded/File/PODMOSKOVE/tentab003.jpg&amp;rpt=simage" TargetMode="External"/><Relationship Id="rId8" Type="http://schemas.openxmlformats.org/officeDocument/2006/relationships/image" Target="../media/image31.jpeg"/><Relationship Id="rId9" Type="http://schemas.openxmlformats.org/officeDocument/2006/relationships/hyperlink" Target="http://images.yandex.ru/yandsearch?p=39&amp;ed=1&amp;stype=simage&amp;text=&#1082;&#1072;&#1088;&#1090;&#1080;&#1085;&#1082;&#1080;%20&#1089;&#1087;&#1086;&#1088;&#1090;&#1080;&#1074;&#1085;&#1099;&#1093;%20&#1080;&#1075;&#1088;%20&#1089;%20&#1084;&#1103;&#1095;&#1086;&#1084;&amp;spsite=www.dinaburg.com&amp;img_url=img-2007-06.photosight.ru/27/2167515.jpg" TargetMode="External"/><Relationship Id="rId10" Type="http://schemas.openxmlformats.org/officeDocument/2006/relationships/image" Target="../media/image32.jpeg"/><Relationship Id="rId11" Type="http://schemas.openxmlformats.org/officeDocument/2006/relationships/hyperlink" Target="http://images.yandex.ru/yandsearch?p=31&amp;ed=1&amp;stype=simage&amp;text=&#1082;&#1072;&#1088;&#1090;&#1080;&#1085;&#1082;&#1080;%20&#1089;&#1087;&#1086;&#1088;&#1090;&#1080;&#1074;&#1085;&#1099;&#1093;%20&#1080;&#1075;&#1088;%20&#1089;%20&#1084;&#1103;&#1095;&#1086;&#1084;&amp;spsite=school599.narod.ru&amp;img_url=alextegin.narod.ru/Basket/b_067.JPG" TargetMode="External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jpe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4&amp;ed=1&amp;stype=simage&amp;text=&#1082;&#1072;&#1088;&#1090;&#1080;&#1085;&#1082;&#1080;%20&#1089;&#1087;&#1086;&#1088;&#1090;&#1080;&#1074;&#1085;&#1099;&#1093;%20&#1080;&#1075;&#1088;%20&#1089;%20&#1084;&#1103;&#1095;&#1086;&#1084;&amp;spsite=www.maksatiha.ru&amp;img_url=iptv.com.ua/images/news/1150886552580307948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p=14&amp;ed=1&amp;text=&#1084;&#1072;&#1090;&#1077;&#1088;&#1080;&#1072;&#1083;%20&#1086;%20&#1087;&#1077;&#1088;&#1074;&#1086;&#1084;%20&#1087;&#1086;&#1103;&#1074;&#1083;&#1077;&#1085;&#1080;&#1080;%20&#1084;&#1103;&#1095;&#1072;&amp;spsite=www.fontanka.ru&amp;img_url=www.fontanka.ru/2007/10/18/015/1.jpg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yandsearch?p=24&amp;ed=1&amp;stype=simage&amp;text=&#1082;&#1072;&#1088;&#1090;&#1080;&#1085;&#1082;&#1080;%20&#1089;&#1087;&#1086;&#1088;&#1090;&#1080;&#1074;&#1085;&#1099;&#1093;%20&#1080;&#1075;&#1088;%20&#1089;%20&#1084;&#1103;&#1095;&#1086;&#1084;&amp;spsite=www.magazinov.net&amp;img_url=www.konkurentov.net/_files/b/g/bgl7-rfb.jpg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yandex.ru/yandsearch?p=50&amp;ed=1&amp;stype=simage&amp;text=&#1082;&#1072;&#1088;&#1090;&#1080;&#1085;&#1082;&#1080;%20&#1089;&#1087;&#1086;&#1088;&#1090;&#1080;&#1074;&#1085;&#1099;&#1093;%20&#1080;&#1075;&#1088;%20&#1089;%20&#1084;&#1103;&#1095;&#1086;&#1084;&amp;spsite=www.sportsaler.ru&amp;img_url=sport.teem.ru/images/eptun.jpg" TargetMode="External"/><Relationship Id="rId8" Type="http://schemas.openxmlformats.org/officeDocument/2006/relationships/image" Target="../media/image18.jpeg"/><Relationship Id="rId9" Type="http://schemas.openxmlformats.org/officeDocument/2006/relationships/hyperlink" Target="http://images.yandex.ru/yandsearch?p=11&amp;serverurl=www.artsides.ru&amp;text=&#1082;&#1072;&#1088;&#1090;&#1080;&#1085;&#1082;&#1080;%20&#1089;&#1087;&#1086;&#1088;&#1090;&#1080;&#1074;&#1085;&#1099;&#1093;%20&#1080;&#1075;&#1088;%20&#1089;%20&#1084;&#1103;&#1095;&#1086;&#1084;&amp;spsite=www.artsides.ru&amp;img_url=www.artsides.ru/big/item_4949.jpg&amp;rpt=simage" TargetMode="External"/><Relationship Id="rId10" Type="http://schemas.openxmlformats.org/officeDocument/2006/relationships/image" Target="../media/image19.jpeg"/><Relationship Id="rId11" Type="http://schemas.openxmlformats.org/officeDocument/2006/relationships/hyperlink" Target="http://images.yandex.ru/yandsearch?p=5&amp;ed=1&amp;text=&#1084;&#1072;&#1090;&#1077;&#1088;&#1080;&#1072;&#1083;%20&#1086;%20&#1087;&#1077;&#1088;&#1074;&#1086;&#1084;%20&#1087;&#1086;&#1103;&#1074;&#1083;&#1077;&#1085;&#1080;&#1080;%20&#1084;&#1103;&#1095;&#1072;&amp;spsite=www.golfproshop.ru&amp;img_url=www.golf-klubs.com/gal/sub5.2/3.jpg&amp;rpt=simage" TargetMode="External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png"/><Relationship Id="rId3" Type="http://schemas.openxmlformats.org/officeDocument/2006/relationships/hyperlink" Target="http://images.yandex.ru/yandsearch?p=14&amp;ed=1&amp;text=&#1084;&#1072;&#1090;&#1077;&#1088;&#1080;&#1072;&#1083;%20&#1086;%20&#1087;&#1077;&#1088;&#1074;&#1086;&#1084;%20&#1087;&#1086;&#1103;&#1074;&#1083;&#1077;&#1085;&#1080;&#1080;%20&#1084;&#1103;&#1095;&#1072;&amp;spsite=www.fontanka.ru&amp;img_url=www.fontanka.ru/2007/10/18/015/1.jpg&amp;rpt=simage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3425760" y="573120"/>
            <a:ext cx="5108760" cy="28652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114880" cy="153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мый первый на земле?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аким он был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то придумал в него играть?                                История, так история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читель: Чернова И.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Documents and Settings\Алёнка\Рабочий стол\картинки\СПОРТ\SL01040_.WMF"/>
          <p:cNvPicPr/>
          <p:nvPr/>
        </p:nvPicPr>
        <p:blipFill>
          <a:blip r:embed="rId2"/>
          <a:stretch/>
        </p:blipFill>
        <p:spPr>
          <a:xfrm>
            <a:off x="857160" y="3429000"/>
            <a:ext cx="893880" cy="90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Алёнка\Рабочий стол\картинки\СПОРТ\06.wmf"/>
          <p:cNvPicPr/>
          <p:nvPr/>
        </p:nvPicPr>
        <p:blipFill>
          <a:blip r:embed="rId3"/>
          <a:stretch/>
        </p:blipFill>
        <p:spPr>
          <a:xfrm>
            <a:off x="857160" y="5357880"/>
            <a:ext cx="711360" cy="749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C:\Documents and Settings\Алёнка\Рабочий стол\картинки\СПОРТ\SL00712_.WMF"/>
          <p:cNvPicPr/>
          <p:nvPr/>
        </p:nvPicPr>
        <p:blipFill>
          <a:blip r:embed="rId4"/>
          <a:stretch/>
        </p:blipFill>
        <p:spPr>
          <a:xfrm>
            <a:off x="214200" y="857160"/>
            <a:ext cx="1997280" cy="1735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91440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00040" y="171468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1895 году, преподаватель  физкультуры колледжа в американском городе Холиоке предложил своим питомцам побросать через рыболовную сеть надутую резиновую камеру. Ребята с азартом стали обмениваться пасами , а учитель после урока разработал первые правила игры в волейбол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285840" y="1500120"/>
            <a:ext cx="1071360" cy="11430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http://im2-tub.yandex.net/i?id=13227796&amp;tov=2">
            <a:hlinkClick r:id="rId3"/>
          </p:cNvPr>
          <p:cNvPicPr/>
          <p:nvPr/>
        </p:nvPicPr>
        <p:blipFill>
          <a:blip r:embed="rId4"/>
          <a:stretch/>
        </p:blipFill>
        <p:spPr>
          <a:xfrm rot="21431400">
            <a:off x="5289120" y="4983120"/>
            <a:ext cx="1895400" cy="1674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91440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а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мой популярной игрой в мире, безусловно, является футбол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«С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упня» -  по-английски «фут»,  «мяч » - «бол». Если сложить получится ножной мяч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 баскетбол своему названию обязан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рзине… из-под персиков. Именно её приспособили для первого на планете баскетбольного матча. Изобретатель этой игры американец Джеймс Нейсмит. «Бол» - «мяч», «баскет» - «корзина»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428760" y="1071720"/>
            <a:ext cx="1000080" cy="10951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http://im7-tub.yandex.net/i?id=13021249&amp;tov=7">
            <a:hlinkClick r:id="rId3"/>
          </p:cNvPr>
          <p:cNvPicPr/>
          <p:nvPr/>
        </p:nvPicPr>
        <p:blipFill>
          <a:blip r:embed="rId4"/>
          <a:stretch/>
        </p:blipFill>
        <p:spPr>
          <a:xfrm rot="1290600">
            <a:off x="6215040" y="2725200"/>
            <a:ext cx="1022400" cy="97164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5" descr="http://im3-tub.yandex.net/i?id=73344913&amp;tov=3">
            <a:hlinkClick r:id="rId5"/>
          </p:cNvPr>
          <p:cNvPicPr/>
          <p:nvPr/>
        </p:nvPicPr>
        <p:blipFill>
          <a:blip r:embed="rId6"/>
          <a:stretch/>
        </p:blipFill>
        <p:spPr>
          <a:xfrm rot="270600">
            <a:off x="6486480" y="5495400"/>
            <a:ext cx="1354320" cy="1224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914400" y="285840"/>
            <a:ext cx="8229600" cy="1141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C:\Documents and Settings\Алёнка\Рабочий стол\картинки\РОЖИ\slide0093_image192.gif"/>
          <p:cNvPicPr/>
          <p:nvPr/>
        </p:nvPicPr>
        <p:blipFill>
          <a:blip r:embed="rId2"/>
          <a:stretch/>
        </p:blipFill>
        <p:spPr>
          <a:xfrm>
            <a:off x="4214880" y="5286240"/>
            <a:ext cx="1038240" cy="13338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5" descr="http://im6-tub.yandex.net/i?id=61963536&amp;tov=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5000760"/>
            <a:ext cx="1890720" cy="16430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6" descr="http://im5-tub.yandex.net/i?id=14902229&amp;tov=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72200" y="1857240"/>
            <a:ext cx="1785960" cy="181944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7" descr="http://im7-tub.yandex.net/i?id=52541396&amp;tov=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4920" y="2928960"/>
            <a:ext cx="2071800" cy="13572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8" descr="http://im4-tub.yandex.net/i?id=60915268&amp;tov=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86080" y="1325520"/>
            <a:ext cx="1933560" cy="16318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9" descr="http://im5-tub.yandex.net/i?id=46485231&amp;tov=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429160" y="135720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http://im6-tub.yandex.net/i?id=45917009&amp;tov=6"/>
          <p:cNvPicPr/>
          <p:nvPr/>
        </p:nvPicPr>
        <p:blipFill>
          <a:blip r:embed="rId13"/>
          <a:stretch/>
        </p:blipFill>
        <p:spPr>
          <a:xfrm>
            <a:off x="2643120" y="3643200"/>
            <a:ext cx="2000160" cy="17146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1" descr="http://im8-tub.yandex.net/i?id=52155870&amp;tov=8"/>
          <p:cNvPicPr/>
          <p:nvPr/>
        </p:nvPicPr>
        <p:blipFill>
          <a:blip r:embed="rId14"/>
          <a:stretch/>
        </p:blipFill>
        <p:spPr>
          <a:xfrm>
            <a:off x="5072040" y="4286160"/>
            <a:ext cx="1428840" cy="1857600"/>
          </a:xfrm>
          <a:prstGeom prst="rect">
            <a:avLst/>
          </a:prstGeom>
          <a:ln w="0">
            <a:noFill/>
          </a:ln>
        </p:spPr>
      </p:pic>
      <p:sp>
        <p:nvSpPr>
          <p:cNvPr id="281" name="TextBox 12"/>
          <p:cNvSpPr/>
          <p:nvPr/>
        </p:nvSpPr>
        <p:spPr>
          <a:xfrm>
            <a:off x="1285920" y="1785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аске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374400" y="2143080"/>
            <a:ext cx="14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утб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4"/>
          <p:cNvSpPr/>
          <p:nvPr/>
        </p:nvSpPr>
        <p:spPr>
          <a:xfrm>
            <a:off x="1643040" y="27147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енн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5"/>
          <p:cNvSpPr/>
          <p:nvPr/>
        </p:nvSpPr>
        <p:spPr>
          <a:xfrm>
            <a:off x="500040" y="3429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лей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6"/>
          <p:cNvSpPr/>
          <p:nvPr/>
        </p:nvSpPr>
        <p:spPr>
          <a:xfrm>
            <a:off x="500040" y="4286160"/>
            <a:ext cx="20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одное по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7"/>
          <p:cNvSpPr/>
          <p:nvPr/>
        </p:nvSpPr>
        <p:spPr>
          <a:xfrm>
            <a:off x="714240" y="5214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ег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8"/>
          <p:cNvSpPr/>
          <p:nvPr/>
        </p:nvSpPr>
        <p:spPr>
          <a:xfrm>
            <a:off x="1504080" y="571500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оккей с мя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6" descr=""/>
          <p:cNvPicPr/>
          <p:nvPr/>
        </p:nvPicPr>
        <p:blipFill>
          <a:blip r:embed="rId1"/>
          <a:stretch/>
        </p:blipFill>
        <p:spPr>
          <a:xfrm>
            <a:off x="0" y="3603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2571840"/>
            <a:ext cx="7238880" cy="38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…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Африке  на берегу реки Нил с незапамятных времён живут жуки-скарабеи. Те, что скатывают земляные шарики. Может это , у скарабеев за 5 тысяч лет до нашей эры люди научились лепить шары из нильского ила?.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214200" y="1357200"/>
            <a:ext cx="2071800" cy="13575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6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6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6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71280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2142720"/>
            <a:ext cx="723888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тех пор появилось много мячей!.. Тряпичные, войлочные, каменные, деревянные!.. Мячи набивали перьями, песком, даже фисташковыми зёрнами!.. Играть в них считалось страшно полезным делом. Один древнеримский врач всем больным вместо лекарств прописывал игру в мяч. А погоняй-ка такой, каменный или с песком! Тяжеловато, но как полезно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214200" y="1571760"/>
            <a:ext cx="928800" cy="10238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6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6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642960" y="1999800"/>
            <a:ext cx="723888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о  вот однажды, две тысячи лет назад, в Риме произошло следующее. Учитель гимнастики, звали его Атциус, проходя мимо мясной лавки, обратил внимание на огромный бычий пузырь, надутый воздухом и перевязанный верёвкой. Он висел над входной дверью для красоты. Южный ветер трепал пузырь и стукал его об стену, а он отскакивал. Тут Атциуса и осенило. Он купил пузырь. Обшил его чехлом из кожи, и получился мяч – лёгкий и прыгучий! Вот это было открытие!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285840" y="928800"/>
            <a:ext cx="1500120" cy="12142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6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6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639720" y="3603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2499840"/>
            <a:ext cx="723888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С тех пор изменились формы и вес мячей!.. Для каждой игры появился свой – особенный мяч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428760" y="1500120"/>
            <a:ext cx="128592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500040" y="3603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2000160"/>
            <a:ext cx="72388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Д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я водного поло – пластиковый, для баскетбола – резиновый, для футбола и волейбола - кожаный, для регби – овальный, для большого тенниса – резиновый, обтянутый шерстяной тканью, для хоккея на траве – белый, для хоккея на льду – оранжевый внутри пробковый снаружи верёвочны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428760" y="1500120"/>
            <a:ext cx="1071360" cy="1000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Алёнка\Рабочий стол\картинки\люди\дядьки (35).gif"/>
          <p:cNvPicPr/>
          <p:nvPr/>
        </p:nvPicPr>
        <p:blipFill>
          <a:blip r:embed="rId3"/>
          <a:stretch/>
        </p:blipFill>
        <p:spPr>
          <a:xfrm>
            <a:off x="428760" y="1500120"/>
            <a:ext cx="1071360" cy="1000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1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19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http://im7-tub.yandex.net/i?id=1302124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6040" y="1928880"/>
            <a:ext cx="2571840" cy="2286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http://im0-tub.yandex.net/i?id=45834440&amp;tov=0">
            <a:hlinkClick r:id="rId3"/>
          </p:cNvPr>
          <p:cNvPicPr/>
          <p:nvPr/>
        </p:nvPicPr>
        <p:blipFill>
          <a:blip r:embed="rId4"/>
          <a:stretch/>
        </p:blipFill>
        <p:spPr>
          <a:xfrm rot="19817400">
            <a:off x="1285560" y="785520"/>
            <a:ext cx="216684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http://im3-tub.yandex.net/i?id=73344913&amp;tov=3">
            <a:hlinkClick r:id="rId5"/>
          </p:cNvPr>
          <p:cNvPicPr/>
          <p:nvPr/>
        </p:nvPicPr>
        <p:blipFill>
          <a:blip r:embed="rId6"/>
          <a:stretch/>
        </p:blipFill>
        <p:spPr>
          <a:xfrm rot="19731600">
            <a:off x="1571400" y="4024080"/>
            <a:ext cx="2500200" cy="23572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http://im2-tub.yandex.net/i?id=13227796&amp;tov=2">
            <a:hlinkClick r:id="rId7"/>
          </p:cNvPr>
          <p:cNvPicPr/>
          <p:nvPr/>
        </p:nvPicPr>
        <p:blipFill>
          <a:blip r:embed="rId8"/>
          <a:stretch/>
        </p:blipFill>
        <p:spPr>
          <a:xfrm rot="538800">
            <a:off x="4235400" y="4387680"/>
            <a:ext cx="25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http://im3-tub.yandex.net/i?id=101160540&amp;tov=3">
            <a:hlinkClick r:id="rId9"/>
          </p:cNvPr>
          <p:cNvPicPr/>
          <p:nvPr/>
        </p:nvPicPr>
        <p:blipFill>
          <a:blip r:embed="rId10"/>
          <a:stretch/>
        </p:blipFill>
        <p:spPr>
          <a:xfrm rot="950400">
            <a:off x="4642920" y="428760"/>
            <a:ext cx="2119320" cy="23288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" descr="http://im2-tub.yandex.net/i?id=4099113&amp;tov=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57920" y="2786040"/>
            <a:ext cx="1581120" cy="1523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J:\разное\Спорт\Боулинг\00045825.jpg"/>
          <p:cNvPicPr/>
          <p:nvPr/>
        </p:nvPicPr>
        <p:blipFill>
          <a:blip r:embed="rId13"/>
          <a:stretch/>
        </p:blipFill>
        <p:spPr>
          <a:xfrm>
            <a:off x="285840" y="321480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J:\разное\Спорт\Бильярд\00045565.jpg"/>
          <p:cNvPicPr/>
          <p:nvPr/>
        </p:nvPicPr>
        <p:blipFill>
          <a:blip r:embed="rId14"/>
          <a:stretch/>
        </p:blipFill>
        <p:spPr>
          <a:xfrm>
            <a:off x="6929280" y="4500720"/>
            <a:ext cx="1627200" cy="1463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357120" y="2214720"/>
            <a:ext cx="1836720" cy="17143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2571840" y="2214720"/>
            <a:ext cx="528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агаю Вашему вниманию истории возникновения спортивных иг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914400" y="2127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 развалинах древних индийских городов на Юкатанском полуострове Центральной Америки обнаружены площадки для игры в мяч. Индейцы считали мяч символом Солнца и Луны. Поэтому во многих играх его даже руками не касались. А только ракетками. Никогда и ни за что игрок индеец нарочно не ударил бы соперника. Но если уж нечаянно «засветят», индеец должен был, перетерпев боль, рассмеяться. Злиться в таких случаях или плакать считалось позорным и недостойным мужчины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Documents and Settings\Алёнка\Рабочий стол\картинки\люди\дядьки (35).gif"/>
          <p:cNvPicPr/>
          <p:nvPr/>
        </p:nvPicPr>
        <p:blipFill>
          <a:blip r:embed="rId2"/>
          <a:stretch/>
        </p:blipFill>
        <p:spPr>
          <a:xfrm>
            <a:off x="428760" y="1071720"/>
            <a:ext cx="1071360" cy="10951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http://im0-tub.yandex.net/i?id=45834440&amp;tov=0">
            <a:hlinkClick r:id="rId3"/>
          </p:cNvPr>
          <p:cNvPicPr/>
          <p:nvPr/>
        </p:nvPicPr>
        <p:blipFill>
          <a:blip r:embed="rId4"/>
          <a:stretch/>
        </p:blipFill>
        <p:spPr>
          <a:xfrm rot="1159200">
            <a:off x="6850080" y="5363640"/>
            <a:ext cx="1339920" cy="1173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6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6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20:26:23Z</dcterms:created>
  <dc:creator>www.PHILka.RU</dc:creator>
  <dc:description/>
  <dc:language>en-US</dc:language>
  <cp:lastModifiedBy>user</cp:lastModifiedBy>
  <dcterms:modified xsi:type="dcterms:W3CDTF">2023-11-13T20:02:08Z</dcterms:modified>
  <cp:revision>45</cp:revision>
  <dc:subject/>
  <dc:title>От куда взялся мяч?</dc:title>
</cp:coreProperties>
</file>