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7.png" ContentType="image/png"/>
  <Override PartName="/ppt/media/image33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12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31.jpeg" ContentType="image/jpeg"/>
  <Override PartName="/ppt/media/image8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DF7-0617-403A-9C95-280FD58618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ACF-A302-4BE7-827C-03D007DD9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21-5ED1-4732-B85C-F1CC8A07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FD0-C69C-4204-B113-97CA2DA5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F46-98AC-4A25-9496-83C6BB4A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DF3-9B38-45F9-8F5F-B800B804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48A-6EA0-412F-898B-BD61791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993-1E64-44DD-A22C-8AA5E15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41F7-72CA-4E9F-A700-46CBB77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94DD-E71F-45C4-8B9B-E993BD5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993-0055-4968-AD74-B51CB5F2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86C-AE8E-4C71-9007-7BDA16B2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180F-E2E6-42E6-9B4F-D37CDA52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F11-215B-46A4-B405-15A8F84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00C3-D363-4D3C-831E-BF1AC1C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96CB-7125-46DA-B065-0807E59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5BF6-0067-454A-9D96-F4DE0E5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7951-9087-465C-96A8-DE13F92D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B8A1-F339-483E-A59D-99C7BF3F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919F-16CF-4A16-9867-30FD5710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B323-2873-44D1-BAB5-FDFAB50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4621-C8C5-4E02-B9CC-AEFB28A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39D2-A1DE-4049-A758-A32AA64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7105-5965-49BD-86E9-7782F8F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1FE-0C85-4E7C-A370-27EFBB1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8E6B-2298-4C7F-B99B-D60B6AB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63A1-EA40-40A2-8E54-BEB7810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BAE5-0120-448D-8C6F-3DF6D12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81D4-4A6F-48B0-8959-589EF6D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225B-61B1-494D-985B-5AD3160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BB70-844A-47FD-93F3-EE5F8480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E985-4DB7-4F9F-93EB-64C769CD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12DF-E889-4763-BAAA-4838570F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93C0-1B24-4846-AB57-4110CCC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CE63-A19D-47FE-B4DB-4F344DC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875-4BDF-44A9-A070-17F400D1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E808-FBFF-4280-AA5F-DB802231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760D-D986-4914-91CC-A021532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5194-3137-4AD6-B7BD-8D7342F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05FD-CE86-42E0-89F5-41AE604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883C-DD55-49E0-BDD7-F014F72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916F-E625-487D-AA55-68BE7A9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2A84-6B36-4CE9-80E3-8F50FFA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424C-1BE5-4339-B2CC-26CC0180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ACCF-A362-4728-959D-BA3DDD7A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9FB3-4157-4633-BFCF-353D470B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1F4-9CBE-4950-969F-9342D537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A17BE-46F9-475E-91B4-ECD8C3FE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8A73-AF34-4862-ACA4-AFA17D0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1F6E-59B1-451A-A159-E2293922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78C8-3DA9-46EB-972D-FEE2C26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994D1-369A-45E6-9BB8-5C8DA2AD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F5F8-0D54-43FC-9795-A278F3D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469C-90A0-4D8A-A0F2-DEA4E11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6789-2D59-4ED2-B8CD-E940942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9A9C-1330-4822-AC0B-788A1DA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BABD-F09B-46DE-BE38-A6551481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B8B-2010-44AE-99D8-7A9BC6A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3694-749D-4EDF-9F3C-43CD7845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C11-298F-4E25-83FB-94D628A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5CF-B773-4D41-92D8-2C3E912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4D1-31B4-4880-8904-0B683DA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AFF3-3277-4B4B-B7EB-375EF1D1FBD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907-ADD2-446C-BA99-DD917187964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3DF-1B3C-4755-8B3A-A100612F32A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C7EF-3039-405E-8062-838793820E3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29D-E3CD-473A-94F0-8175869E2A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50&amp;ed=1&amp;stype=simage&amp;text=&#1082;&#1072;&#1088;&#1090;&#1080;&#1085;&#1082;&#1080;%20&#1089;&#1087;&#1086;&#1088;&#1090;&#1080;&#1074;&#1085;&#1099;&#1093;%20&#1080;&#1075;&#1088;%20&#1089;%20&#1084;&#1103;&#1095;&#1086;&#1084;&amp;spsite=www.sportsaler.ru&amp;img_url=sport.teem.ru/images/eptun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44&amp;ed=1&amp;stype=simage&amp;text=&#1082;&#1072;&#1088;&#1090;&#1080;&#1085;&#1082;&#1080;%20&#1089;&#1087;&#1086;&#1088;&#1090;&#1080;&#1074;&#1085;&#1099;&#1093;%20&#1080;&#1075;&#1088;%20&#1089;%20&#1084;&#1103;&#1095;&#1086;&#1084;&amp;spsite=www.maksatiha.ru&amp;img_url=iptv.com.ua/images/news/1150886552580307948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yandex.ru/yandsearch?p=24&amp;ed=1&amp;stype=simage&amp;text=&#1082;&#1072;&#1088;&#1090;&#1080;&#1085;&#1082;&#1080;%20&#1089;&#1087;&#1086;&#1088;&#1090;&#1080;&#1074;&#1085;&#1099;&#1093;%20&#1080;&#1075;&#1088;%20&#1089;%20&#1084;&#1103;&#1095;&#1086;&#1084;&amp;spsite=www.magazinov.net&amp;img_url=www.konkurentov.net/_files/b/g/bgl7-rfb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hyperlink" Target="http://images.yandex.ru/yandsearch?p=21&amp;ed=1&amp;stype=simage&amp;text=&#1082;&#1072;&#1088;&#1090;&#1080;&#1085;&#1082;&#1080;%20&#1089;&#1087;&#1086;&#1088;&#1090;&#1080;&#1074;&#1085;&#1099;&#1093;%20&#1080;&#1075;&#1088;%20&#1089;%20&#1084;&#1103;&#1095;&#1086;&#1084;&amp;spsite=photofinish.narod.ru&amp;img_url=pics.posternazakaz.ru/pnz/product/big/40f398fbdc04d5c750520e89b163f069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p=33&amp;ed=1&amp;stype=simage&amp;text=&#1082;&#1072;&#1088;&#1090;&#1080;&#1085;&#1082;&#1080;%20&#1089;&#1087;&#1086;&#1088;&#1090;&#1080;&#1074;&#1085;&#1099;&#1093;%20&#1080;&#1075;&#1088;%20&#1089;%20&#1084;&#1103;&#1095;&#1086;&#1084;&amp;spsite=img-2007-11.photosight.ru&amp;img_url=img-2007-11.photosight.ru/07/2397974.jp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yandex.ru/yandsearch?p=19&amp;ed=1&amp;text=&#1082;&#1072;&#1088;&#1090;&#1080;&#1085;&#1082;&#1080;%20&#1089;&#1087;&#1086;&#1088;&#1090;&#1080;&#1074;&#1085;&#1099;&#1093;%20&#1080;&#1075;&#1088;%20&#1089;%20&#1084;&#1103;&#1095;&#1086;&#1084;&amp;spsite=www.ruscountry.ru&amp;img_url=www.aatravel.ru/uploaded/File/PODMOSKOVE/tentab003.jpg&amp;rpt=simage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yandex.ru/yandsearch?p=39&amp;ed=1&amp;stype=simage&amp;text=&#1082;&#1072;&#1088;&#1090;&#1080;&#1085;&#1082;&#1080;%20&#1089;&#1087;&#1086;&#1088;&#1090;&#1080;&#1074;&#1085;&#1099;&#1093;%20&#1080;&#1075;&#1088;%20&#1089;%20&#1084;&#1103;&#1095;&#1086;&#1084;&amp;spsite=www.dinaburg.com&amp;img_url=img-2007-06.photosight.ru/27/2167515.jpg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yandex.ru/yandsearch?p=31&amp;ed=1&amp;stype=simage&amp;text=&#1082;&#1072;&#1088;&#1090;&#1080;&#1085;&#1082;&#1080;%20&#1089;&#1087;&#1086;&#1088;&#1090;&#1080;&#1074;&#1085;&#1099;&#1093;%20&#1080;&#1075;&#1088;%20&#1089;%20&#1084;&#1103;&#1095;&#1086;&#1084;&amp;spsite=school599.narod.ru&amp;img_url=alextegin.narod.ru/Basket/b_067.JPG" TargetMode="External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4&amp;ed=1&amp;stype=simage&amp;text=&#1082;&#1072;&#1088;&#1090;&#1080;&#1085;&#1082;&#1080;%20&#1089;&#1087;&#1086;&#1088;&#1090;&#1080;&#1074;&#1085;&#1099;&#1093;%20&#1080;&#1075;&#1088;%20&#1089;%20&#1084;&#1103;&#1095;&#1086;&#1084;&amp;spsite=www.maksatiha.ru&amp;img_url=iptv.com.ua/images/news/1150886552580307948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p=14&amp;ed=1&amp;text=&#1084;&#1072;&#1090;&#1077;&#1088;&#1080;&#1072;&#1083;%20&#1086;%20&#1087;&#1077;&#1088;&#1074;&#1086;&#1084;%20&#1087;&#1086;&#1103;&#1074;&#1083;&#1077;&#1085;&#1080;&#1080;%20&#1084;&#1103;&#1095;&#1072;&amp;spsite=www.fontanka.ru&amp;img_url=www.fontanka.ru/2007/10/18/015/1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p=24&amp;ed=1&amp;stype=simage&amp;text=&#1082;&#1072;&#1088;&#1090;&#1080;&#1085;&#1082;&#1080;%20&#1089;&#1087;&#1086;&#1088;&#1090;&#1080;&#1074;&#1085;&#1099;&#1093;%20&#1080;&#1075;&#1088;%20&#1089;%20&#1084;&#1103;&#1095;&#1086;&#1084;&amp;spsite=www.magazinov.net&amp;img_url=www.konkurentov.net/_files/b/g/bgl7-rfb.jpg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yandsearch?p=50&amp;ed=1&amp;stype=simage&amp;text=&#1082;&#1072;&#1088;&#1090;&#1080;&#1085;&#1082;&#1080;%20&#1089;&#1087;&#1086;&#1088;&#1090;&#1080;&#1074;&#1085;&#1099;&#1093;%20&#1080;&#1075;&#1088;%20&#1089;%20&#1084;&#1103;&#1095;&#1086;&#1084;&amp;spsite=www.sportsaler.ru&amp;img_url=sport.teem.ru/images/eptun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yandex.ru/yandsearch?p=11&amp;serverurl=www.artsides.ru&amp;text=&#1082;&#1072;&#1088;&#1090;&#1080;&#1085;&#1082;&#1080;%20&#1089;&#1087;&#1086;&#1088;&#1090;&#1080;&#1074;&#1085;&#1099;&#1093;%20&#1080;&#1075;&#1088;%20&#1089;%20&#1084;&#1103;&#1095;&#1086;&#1084;&amp;spsite=www.artsides.ru&amp;img_url=www.artsides.ru/big/item_4949.jpg&amp;rpt=simage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yandex.ru/yandsearch?p=5&amp;ed=1&amp;text=&#1084;&#1072;&#1090;&#1077;&#1088;&#1080;&#1072;&#1083;%20&#1086;%20&#1087;&#1077;&#1088;&#1074;&#1086;&#1084;%20&#1087;&#1086;&#1103;&#1074;&#1083;&#1077;&#1085;&#1080;&#1080;%20&#1084;&#1103;&#1095;&#1072;&amp;spsite=www.golfproshop.ru&amp;img_url=www.golf-klubs.com/gal/sub5.2/3.jpg&amp;rpt=simage" TargetMode="External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14&amp;ed=1&amp;text=&#1084;&#1072;&#1090;&#1077;&#1088;&#1080;&#1072;&#1083;%20&#1086;%20&#1087;&#1077;&#1088;&#1074;&#1086;&#1084;%20&#1087;&#1086;&#1103;&#1074;&#1083;&#1077;&#1085;&#1080;&#1080;%20&#1084;&#1103;&#1095;&#1072;&amp;spsite=www.fontanka.ru&amp;img_url=www.fontanka.ru/2007/10/18/015/1.jpg&amp;rpt=simag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425760" y="573120"/>
            <a:ext cx="5108760" cy="28652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153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мый первый на земле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аким он был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то придумал в него играть?                                История, так история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итель: Чернова И.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Documents and Settings\Алёнка\Рабочий стол\картинки\СПОРТ\SL01040_.WMF"/>
          <p:cNvPicPr/>
          <p:nvPr/>
        </p:nvPicPr>
        <p:blipFill>
          <a:blip r:embed="rId2"/>
          <a:stretch/>
        </p:blipFill>
        <p:spPr>
          <a:xfrm>
            <a:off x="857160" y="3429000"/>
            <a:ext cx="893880" cy="90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Алёнка\Рабочий стол\картинки\СПОРТ\06.wmf"/>
          <p:cNvPicPr/>
          <p:nvPr/>
        </p:nvPicPr>
        <p:blipFill>
          <a:blip r:embed="rId3"/>
          <a:stretch/>
        </p:blipFill>
        <p:spPr>
          <a:xfrm>
            <a:off x="857160" y="5357880"/>
            <a:ext cx="711360" cy="74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Documents and Settings\Алёнка\Рабочий стол\картинки\СПОРТ\SL00712_.WMF"/>
          <p:cNvPicPr/>
          <p:nvPr/>
        </p:nvPicPr>
        <p:blipFill>
          <a:blip r:embed="rId4"/>
          <a:stretch/>
        </p:blipFill>
        <p:spPr>
          <a:xfrm>
            <a:off x="214200" y="857160"/>
            <a:ext cx="1997280" cy="1735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00040" y="171468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895 году, преподаватель  физкультуры колледжа в американском городе Холиоке предложил своим питомцам побросать через рыболовную сеть надутую резиновую камеру. Ребята с азартом стали обмениваться пасами , а учитель после урока разработал первые правила игры в волейбо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85840" y="1500120"/>
            <a:ext cx="107136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http://im2-tub.yandex.net/i?id=13227796&amp;tov=2">
            <a:hlinkClick r:id="rId3"/>
          </p:cNvPr>
          <p:cNvPicPr/>
          <p:nvPr/>
        </p:nvPicPr>
        <p:blipFill>
          <a:blip r:embed="rId4"/>
          <a:stretch/>
        </p:blipFill>
        <p:spPr>
          <a:xfrm rot="21431400">
            <a:off x="5289120" y="4983120"/>
            <a:ext cx="1895400" cy="1674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мой популярной игрой в мире, безусловно, является футбо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«С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упня» -  по-английски «фут»,  «мяч » - «бол». Если сложить получится ножной мяч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баскетбол своему названию обязан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рзине… из-под персиков. Именно её приспособили для первого на планете баскетбольного матча. Изобретатель этой игры американец Джеймс Нейсмит. «Бол» - «мяч», «баскет» - «корзина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071720"/>
            <a:ext cx="1000080" cy="10951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http://im7-tub.yandex.net/i?id=13021249&amp;tov=7">
            <a:hlinkClick r:id="rId3"/>
          </p:cNvPr>
          <p:cNvPicPr/>
          <p:nvPr/>
        </p:nvPicPr>
        <p:blipFill>
          <a:blip r:embed="rId4"/>
          <a:stretch/>
        </p:blipFill>
        <p:spPr>
          <a:xfrm rot="1290600">
            <a:off x="6215040" y="2725200"/>
            <a:ext cx="1022400" cy="9716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5" descr="http://im3-tub.yandex.net/i?id=73344913&amp;tov=3">
            <a:hlinkClick r:id="rId5"/>
          </p:cNvPr>
          <p:cNvPicPr/>
          <p:nvPr/>
        </p:nvPicPr>
        <p:blipFill>
          <a:blip r:embed="rId6"/>
          <a:stretch/>
        </p:blipFill>
        <p:spPr>
          <a:xfrm rot="270600">
            <a:off x="6486480" y="5495400"/>
            <a:ext cx="1354320" cy="122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Алёнка\Рабочий стол\картинки\РОЖИ\slide0093_image192.gif"/>
          <p:cNvPicPr/>
          <p:nvPr/>
        </p:nvPicPr>
        <p:blipFill>
          <a:blip r:embed="rId2"/>
          <a:stretch/>
        </p:blipFill>
        <p:spPr>
          <a:xfrm>
            <a:off x="4214880" y="5286240"/>
            <a:ext cx="1038240" cy="13338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http://im6-tub.yandex.net/i?id=61963536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5000760"/>
            <a:ext cx="1890720" cy="16430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" descr="http://im5-tub.yandex.net/i?id=14902229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72200" y="1857240"/>
            <a:ext cx="1785960" cy="18194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http://im7-tub.yandex.net/i?id=52541396&amp;tov=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2928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http://im4-tub.yandex.net/i?id=60915268&amp;tov=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86080" y="1325520"/>
            <a:ext cx="1933560" cy="16318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9" descr="http://im5-tub.yandex.net/i?id=46485231&amp;tov=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29160" y="13572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http://im6-tub.yandex.net/i?id=45917009&amp;tov=6"/>
          <p:cNvPicPr/>
          <p:nvPr/>
        </p:nvPicPr>
        <p:blipFill>
          <a:blip r:embed="rId13"/>
          <a:stretch/>
        </p:blipFill>
        <p:spPr>
          <a:xfrm>
            <a:off x="2643120" y="3643200"/>
            <a:ext cx="2000160" cy="17146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http://im8-tub.yandex.net/i?id=52155870&amp;tov=8"/>
          <p:cNvPicPr/>
          <p:nvPr/>
        </p:nvPicPr>
        <p:blipFill>
          <a:blip r:embed="rId14"/>
          <a:stretch/>
        </p:blipFill>
        <p:spPr>
          <a:xfrm>
            <a:off x="5072040" y="4286160"/>
            <a:ext cx="1428840" cy="18576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2"/>
          <p:cNvSpPr/>
          <p:nvPr/>
        </p:nvSpPr>
        <p:spPr>
          <a:xfrm>
            <a:off x="1285920" y="1785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аске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74400" y="214308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утб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1643040" y="27147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нн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500040" y="3429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лей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00040" y="428616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ное п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714240" y="5214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г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504080" y="5715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ккей с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6" descr=""/>
          <p:cNvPicPr/>
          <p:nvPr/>
        </p:nvPicPr>
        <p:blipFill>
          <a:blip r:embed="rId1"/>
          <a:stretch/>
        </p:blipFill>
        <p:spPr>
          <a:xfrm>
            <a:off x="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571840"/>
            <a:ext cx="7238880" cy="38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Африке  на берегу реки Нил с незапамятных времён живут жуки-скарабеи. Те, что скатывают земляные шарики. Может это , у скарабеев за 5 тысяч лет до нашей эры люди научились лепить шары из нильского ила?.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14200" y="1357200"/>
            <a:ext cx="2071800" cy="1357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71280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142720"/>
            <a:ext cx="723888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тех пор появилось много мячей!.. Тряпичные, войлочные, каменные, деревянные!.. Мячи набивали перьями, песком, даже фисташковыми зёрнами!.. Играть в них считалось страшно полезным делом. Один древнеримский врач всем больным вместо лекарств прописывал игру в мяч. А погоняй-ка такой, каменный или с песком! Тяжеловато, но как полезн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14200" y="1571760"/>
            <a:ext cx="928800" cy="1023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6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642960" y="1999800"/>
            <a:ext cx="72388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  вот однажды, две тысячи лет назад, в Риме произошло следующее. Учитель гимнастики, звали его Атциус, проходя мимо мясной лавки, обратил внимание на огромный бычий пузырь, надутый воздухом и перевязанный верёвкой. Он висел над входной дверью для красоты. Южный ветер трепал пузырь и стукал его об стену, а он отскакивал. Тут Атциуса и осенило. Он купил пузырь. Обшил его чехлом из кожи, и получился мяч – лёгкий и прыгучий! Вот это было открытие!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85840" y="928800"/>
            <a:ext cx="1500120" cy="1214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63972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 тех пор изменились формы и вес мячей!.. Для каждой игры появился свой – особенный мяч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50012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я водного поло – пластиковый, для баскетбола – резиновый, для футбола и волейбола - кожаный, для регби – овальный, для большого тенниса – резиновый, обтянутый шерстяной тканью, для хоккея на траве – белый, для хоккея на льду – оранжевый внутри пробковый снаружи верёвочны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50012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Алёнка\Рабочий стол\картинки\люди\дядьки (35).gif"/>
          <p:cNvPicPr/>
          <p:nvPr/>
        </p:nvPicPr>
        <p:blipFill>
          <a:blip r:embed="rId3"/>
          <a:stretch/>
        </p:blipFill>
        <p:spPr>
          <a:xfrm>
            <a:off x="428760" y="1500120"/>
            <a:ext cx="107136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im7-tub.yandex.net/i?id=1302124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92888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http://im0-tub.yandex.net/i?id=45834440&amp;tov=0">
            <a:hlinkClick r:id="rId3"/>
          </p:cNvPr>
          <p:cNvPicPr/>
          <p:nvPr/>
        </p:nvPicPr>
        <p:blipFill>
          <a:blip r:embed="rId4"/>
          <a:stretch/>
        </p:blipFill>
        <p:spPr>
          <a:xfrm rot="19817400">
            <a:off x="1285560" y="785520"/>
            <a:ext cx="216684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http://im3-tub.yandex.net/i?id=73344913&amp;tov=3">
            <a:hlinkClick r:id="rId5"/>
          </p:cNvPr>
          <p:cNvPicPr/>
          <p:nvPr/>
        </p:nvPicPr>
        <p:blipFill>
          <a:blip r:embed="rId6"/>
          <a:stretch/>
        </p:blipFill>
        <p:spPr>
          <a:xfrm rot="19731600">
            <a:off x="1571400" y="4024080"/>
            <a:ext cx="2500200" cy="2357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http://im2-tub.yandex.net/i?id=13227796&amp;tov=2">
            <a:hlinkClick r:id="rId7"/>
          </p:cNvPr>
          <p:cNvPicPr/>
          <p:nvPr/>
        </p:nvPicPr>
        <p:blipFill>
          <a:blip r:embed="rId8"/>
          <a:stretch/>
        </p:blipFill>
        <p:spPr>
          <a:xfrm rot="538800">
            <a:off x="4235400" y="4387680"/>
            <a:ext cx="25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http://im3-tub.yandex.net/i?id=101160540&amp;tov=3">
            <a:hlinkClick r:id="rId9"/>
          </p:cNvPr>
          <p:cNvPicPr/>
          <p:nvPr/>
        </p:nvPicPr>
        <p:blipFill>
          <a:blip r:embed="rId10"/>
          <a:stretch/>
        </p:blipFill>
        <p:spPr>
          <a:xfrm rot="950400">
            <a:off x="4642920" y="428760"/>
            <a:ext cx="2119320" cy="23288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http://im2-tub.yandex.net/i?id=4099113&amp;tov=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57920" y="2786040"/>
            <a:ext cx="158112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J:\разное\Спорт\Боулинг\00045825.jpg"/>
          <p:cNvPicPr/>
          <p:nvPr/>
        </p:nvPicPr>
        <p:blipFill>
          <a:blip r:embed="rId13"/>
          <a:stretch/>
        </p:blipFill>
        <p:spPr>
          <a:xfrm>
            <a:off x="285840" y="321480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J:\разное\Спорт\Бильярд\00045565.jpg"/>
          <p:cNvPicPr/>
          <p:nvPr/>
        </p:nvPicPr>
        <p:blipFill>
          <a:blip r:embed="rId14"/>
          <a:stretch/>
        </p:blipFill>
        <p:spPr>
          <a:xfrm>
            <a:off x="6929280" y="4500720"/>
            <a:ext cx="1627200" cy="1463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357120" y="2214720"/>
            <a:ext cx="1836720" cy="17143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2571840" y="221472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агаю Вашему вниманию истории возникновения спортивных и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развалинах древних индийских городов на Юкатанском полуострове Центральной Америки обнаружены площадки для игры в мяч. Индейцы считали мяч символом Солнца и Луны. Поэтому во многих играх его даже руками не касались. А только ракетками. Никогда и ни за что игрок индеец нарочно не ударил бы соперника. Но если уж нечаянно «засветят», индеец должен был, перетерпев боль, рассмеяться. Злиться в таких случаях или плакать считалось позорным и недостойным мужчин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071720"/>
            <a:ext cx="1071360" cy="1095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http://im0-tub.yandex.net/i?id=45834440&amp;tov=0">
            <a:hlinkClick r:id="rId3"/>
          </p:cNvPr>
          <p:cNvPicPr/>
          <p:nvPr/>
        </p:nvPicPr>
        <p:blipFill>
          <a:blip r:embed="rId4"/>
          <a:stretch/>
        </p:blipFill>
        <p:spPr>
          <a:xfrm rot="1159200">
            <a:off x="6850080" y="5363640"/>
            <a:ext cx="1339920" cy="1173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0:26:23Z</dcterms:created>
  <dc:creator>www.PHILka.RU</dc:creator>
  <dc:description/>
  <dc:language>en-US</dc:language>
  <cp:lastModifiedBy>user</cp:lastModifiedBy>
  <dcterms:modified xsi:type="dcterms:W3CDTF">2023-11-13T20:02:08Z</dcterms:modified>
  <cp:revision>45</cp:revision>
  <dc:subject/>
  <dc:title>От куда взялся мяч?</dc:title>
</cp:coreProperties>
</file>