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195A-0B3C-4D9D-921A-346971009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AB3E-84ED-4C19-8735-4026ACBA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1B67-22C0-4801-9AD5-29F554F5C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7D73-4D25-4332-BCC0-F3BA85574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BCF8-F168-4356-B6A6-7DF6A757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DC95-6330-4704-A220-E60A0C14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9480-CA92-42B7-B938-F71E847F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C123-4CE5-427D-B742-2B6DEECD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A2E1-8942-421D-817A-EE5CAFC8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87FD-91C1-4448-878E-4F4C6762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07A1-860C-437C-8C16-D8A1901A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8D87-AA6F-423A-913F-23A8CDCD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4A10-E444-410F-814A-081EE9CFB5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силение металлических конструк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репление с помощью бол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болтов для присоединения элементов усиления рекомендуется в случаях, ког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эксплуатации  не допускают применения  свар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 усиливаемого и усиливающего элементов относится к трудносвариваемом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тельно избежать дополнительных сварочных напряжений  и деформа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товые соединения технологически более удоб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рядок выполнения усилений с применением бол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тся сборка соединения на струбцин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авливаются болтов в концевых участк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концов к середине осуществляются промежуточные соедин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верливание следующих отверстий производится после установки болта в предыдуще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нчательно закручиваются болты в концевых участ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болтов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40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жатых элементах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i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 растянутых элементах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радиус инерции усиливающего элем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хемы усиления стальных балок путем увеличения се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rcRect l="58760" t="12339" r="6252" b="50741"/>
          <a:stretch/>
        </p:blipFill>
        <p:spPr>
          <a:xfrm>
            <a:off x="1619280" y="1628640"/>
            <a:ext cx="605628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бщие замечания к выбору схемы усил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ts val="25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ффективны двусторонние схемы усиления, т.к. при этом достигается существенное увеличение момента инерции и момента сопроти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ts val="25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ко ввиду размещения покрытия (перекрытия) на верхнюю полку балки, двусторонняя схема осуществима не всег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ts val="25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стороннее усиление эффективно только при учете упругопластической стадии работы материала или усилении регулированием напряжений. В противном случае необходимо существенное увеличение высоты элемен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ts val="25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арные швы преимущественно следует проектировать  нижни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ts val="25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 фасонного проката, более технологично по сравнению с листовой сталью (меньший объем резки металл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хемы усиления колонн увеличением се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rcRect l="61487" t="17133" r="6724" b="51705"/>
          <a:stretch/>
        </p:blipFill>
        <p:spPr>
          <a:xfrm>
            <a:off x="1476360" y="1138320"/>
            <a:ext cx="6551640" cy="52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иду сложности разгрузки усиление колонн является наиболее трудоемк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иление колонн изменением конструктивной схемы применяется в двух случая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еменная нагрузка составляет более 40% полной и в период усиления может быть устране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ка предварительно напряженных элементов практически не осуществим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симметричные схемы усилений рационально использовать  при преобладании моментов одного зна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усилении колонн крайних рядов следует учитывать отсутствие доступа или необходимость разборки ст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хемы усиления деформированных стержней стропильных ферм при искривлен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плоскости фермы 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, 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лоскости фермы в сторону пера уголков 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лоскости фермы в сторону обушка уголков 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rcRect l="61705" t="54423" r="7108" b="24780"/>
          <a:stretch/>
        </p:blipFill>
        <p:spPr>
          <a:xfrm>
            <a:off x="900000" y="2276640"/>
            <a:ext cx="7272360" cy="41576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537372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ановка наклонных ребер жесткости без пригонки к поясам (а,б) и с пригонкой к поясам (в,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rcRect l="60114" t="58382" r="8658" b="20682"/>
          <a:stretch/>
        </p:blipFill>
        <p:spPr>
          <a:xfrm>
            <a:off x="1403280" y="1844640"/>
            <a:ext cx="662472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иление сварных соедин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буется пр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наружении трещин или дефектов в швах или околошовной зо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достаточной длине или толщине шва (по результатам расчет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иление выполняе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тем увеличение длины ш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величения толщины ш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ройством дополнительных  промежуточных дета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4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ебования при усилении сварных шв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аметр электродов не более 4 м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ла тока не более 220 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щина шва за один проход не более 4 м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послойном наложении – толщина слоев не более 2 м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арка последующего слоя производится после охлаждения предыдущего шва до температур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≤ 10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арка производится п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≥ -15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толщин до 30 мм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≥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толщин свыше 30 м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чтение отдается длинным и тонким шв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тличительные особенности металлических конструкций зданий и сооруж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3840" y="1071360"/>
            <a:ext cx="864396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сокая однородность материал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уславливающая высокую степень соответствия работы элементов и узлов расчетным предпосылкам и, соответственно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лые запасы проч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аложенные при проектировании; в результате, незначительные отклонения от расчетных положений, нарушения требуемой точности в изготовлении, монтаже, небольшие перегрузки могут привести к существенным перенапряжениям элементов металлических конструкций;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сокая удельная прочность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ношение прочности к массе материала),  которая обуславливает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онкостенность и гибкость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ущих элементов,  следовательно,  подверженность под влиянием различных случайных воздействий при изготовлении,  перевозке,  монтаже, эксплуатации различного рода деформациям - это особенно опасно для сжатых элемен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лонность к хрупкому и усталостному разрушению при наличии различных концентраторов напряжен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особенно,  трещин в сочетании с низкими температурами и динамическими нагрузкам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личие сварных соединен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имеющих отличные   от основного металла физико-механические свойства и характеризуемых значительным разбросом эксплуатационных свойств в зависимости от качества наложения сварных шв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верженность корроз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силение сварных швов узлов стропильных ферм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величением длины швов;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 введением коротышей;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длинением фасо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rcRect l="24724" t="17756" r="35401" b="50012"/>
          <a:stretch/>
        </p:blipFill>
        <p:spPr>
          <a:xfrm>
            <a:off x="714240" y="1555920"/>
            <a:ext cx="755820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иление болтовых соедин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едостаточной несущей способности устанавливаются дополнительные бол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нагруженные крайние болты могут заменяться высокопрочными болт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иление обычных болтовых соединений сваркой допускается только при восприятии всех усилий сварными шв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иление соединений на высокопрочных болтах с применением сварки допускается при соответствующем обосновании деформативности соеди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ранение повреж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ранение местных погнутостей стальных уголков (а,б) и выпучивания стенок двутавра (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rcRect l="24724" t="54612" r="35401" b="18116"/>
          <a:stretch/>
        </p:blipFill>
        <p:spPr>
          <a:xfrm>
            <a:off x="642960" y="1857240"/>
            <a:ext cx="8001000" cy="43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становление выреза нижней полки и стенки двутавра: 1 – линия выреза; 2 – стальные накла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rcRect l="40720" t="13363" r="24207" b="62997"/>
          <a:stretch/>
        </p:blipFill>
        <p:spPr>
          <a:xfrm>
            <a:off x="1403280" y="1700280"/>
            <a:ext cx="633744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2"/>
          <a:srcRect l="30441" t="30517" r="25286" b="11407"/>
          <a:stretch/>
        </p:blipFill>
        <p:spPr>
          <a:xfrm>
            <a:off x="158760" y="260280"/>
            <a:ext cx="885492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rcRect l="26839" t="32111" r="25015" b="8829"/>
          <a:stretch/>
        </p:blipFill>
        <p:spPr>
          <a:xfrm>
            <a:off x="250920" y="476280"/>
            <a:ext cx="8569080" cy="59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rcRect l="37906" t="17347" r="26122" b="46590"/>
          <a:stretch/>
        </p:blipFill>
        <p:spPr>
          <a:xfrm>
            <a:off x="395280" y="266760"/>
            <a:ext cx="8137440" cy="3882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rcRect l="37906" t="54838" r="26122" b="15344"/>
          <a:stretch/>
        </p:blipFill>
        <p:spPr>
          <a:xfrm>
            <a:off x="547560" y="3860640"/>
            <a:ext cx="771552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708000" y="274320"/>
            <a:ext cx="497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иление колон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rcRect l="41951" t="13361" r="31216" b="16639"/>
          <a:stretch/>
        </p:blipFill>
        <p:spPr>
          <a:xfrm>
            <a:off x="3924360" y="2205000"/>
            <a:ext cx="2160360" cy="3168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rcRect l="51013" t="18863" r="39140" b="63622"/>
          <a:stretch/>
        </p:blipFill>
        <p:spPr>
          <a:xfrm>
            <a:off x="250920" y="333360"/>
            <a:ext cx="3492360" cy="4041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3"/>
          <a:srcRect l="43526" t="36304" r="31216" b="26565"/>
          <a:stretch/>
        </p:blipFill>
        <p:spPr>
          <a:xfrm>
            <a:off x="3635280" y="1484280"/>
            <a:ext cx="5329440" cy="4405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4"/>
          <a:srcRect l="49043" t="73440" r="38352" b="16639"/>
          <a:stretch/>
        </p:blipFill>
        <p:spPr>
          <a:xfrm>
            <a:off x="363600" y="4581360"/>
            <a:ext cx="341640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обенности оценки несущей способности металлических констру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замеренная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еличина дефекта не превышает нормативные требова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изготовление, монтаж или эксплуатацию и меньше значений, учтенных при проектировании, то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асчет конструкций производится по действующим нормам проектир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ех случаях, когда в конструкциях обнаружены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дефекты и повреждения, не учтенные нормами на проектиров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или замеренная их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еличина превышает требования нормативных документ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роверочный расчет металлических конструкций производят с учетом влияния этих дефектов и повреждений на несущую способность в соответствии с разработанным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екомендациями по оценке состояний эксплуатируемых металлических конструкц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репление усиливающих элементов к существующ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авило, металлические конструкции усиливаются путем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арки дополнительных стальных элемент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еобходимости, например, для повышения жесткости стальных элементов (особенно сжатых стоек) без существенного повышения прочности или для защиты стали от коррозии могут применятьс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тон, железобетон, фибробето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для временного усиления гибких стержней может применятьс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усилении бетоном сцепление бетона с металлом обеспечивается приваркой к поверхности стали стержней диаметром 5...8 мм, которые могут иметь крюки на концах. Деревянные элементы крепятся с помощью стальных скру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пление усиливающих стальных элементов к усиливаемым конструкциям помимо сварки, может быть осуществлено с применением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опрочных болтов и реже на болтах повышенной точ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класса точности 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епление с помощью свар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14200" y="999720"/>
            <a:ext cx="8715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ои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начительный объема дополнительного метал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ое включение усиливающего элемента в работу конструк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сварки снижается несущая способность элемен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стывании получаются сварочные деформации или остаточные напря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28760" y="357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ts val="22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ь снижения несущей способности и величина остаточных деформаций зависят о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ts val="2299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има сварки (вида и силы тока, диаметра электрода, скорости сварки и т.п.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ts val="2299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щины и ширины элемен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ts val="2299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овательности наложения шв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ts val="2299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ts val="22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одольных швов при нагреве снижение прочности находится в пределах до 15 %, для поперечных швов может достигать 40 %. Поэтому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жение швов поперек элемента при усилении его под нагрузкой запрещается. В растянутых элементах не допускаются поперечные швы в любом случа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ts val="22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ts val="2299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иление под нагрузкой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именением сварки производя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ts val="2299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тически определимых конструкциях при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8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ts val="2299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тически неопределимых конструкциях, при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6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риваемость стали оценивается по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глеродному эквивалент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й вычисл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э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С + М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6 + 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5 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5 + Мо/4 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15 + 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13 + Р/2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глерод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арганец,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хром,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одород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никель,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олибден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медь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фосфор – содержание химических элементов в 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э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0,42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ь имеет удовлетворительную свариваем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э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0,42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уется назначать специальные режимы сварки, гарантирующие качество сварного соеди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ядок выполнения сварки при усил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0560" y="785880"/>
            <a:ext cx="8569080" cy="58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соединение (прижатие) элементов усиления по всей длине к усиливаемой конструкции с помощью струбцин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тяжек или иных устройств. Возникающие при этом силы трения обеспечивают совместную работу элементов при наложении сварочных прихваток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варка элементов усиления на сварочных прихватка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это обеспечивает включение элементов усиления в совместную работу на изгиб  при малом разогреве основного стержня, повышает  несущую способность стержня в процессе усиления и способствует значительному уменьшению сварочных деформаций. Сварочные прихватки воспринимают незначительные сдвигающие усилия, возникающие вследствие приращения прогибов стержня при наложении в последующем связующих швов.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размещают в местах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ложения швов (для шпоночных швов) с шагом 300...500 мм и длиной 20...30 мм;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варка концевых участков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ключающая в работу элементы усиления усиливаемого по всей длине, в определенной степени снижающая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рочные деформаци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ложение связующих швов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еспечивающих совместную работу усиливаемого стержня и элементов усил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ядок наложения швов при свар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rcRect l="20716" t="11998" r="34915" b="26447"/>
          <a:stretch/>
        </p:blipFill>
        <p:spPr>
          <a:xfrm>
            <a:off x="714240" y="2357280"/>
            <a:ext cx="7613640" cy="400068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4"/>
          <p:cNvSpPr/>
          <p:nvPr/>
        </p:nvSpPr>
        <p:spPr>
          <a:xfrm>
            <a:off x="428760" y="1000080"/>
            <a:ext cx="82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к. деформации сжатия при сварке превышают деформации растяжения, то сварные швы вначале накладывают со стороны растянутых волокон, затем – со стороны сжатых воло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0T14:09:38Z</dcterms:created>
  <dc:creator>User</dc:creator>
  <dc:description/>
  <dc:language>en-US</dc:language>
  <cp:lastModifiedBy>DANTE199615</cp:lastModifiedBy>
  <dcterms:modified xsi:type="dcterms:W3CDTF">2021-11-07T17:09:18Z</dcterms:modified>
  <cp:revision>88</cp:revision>
  <dc:subject/>
  <dc:title>Слайд 1</dc:title>
</cp:coreProperties>
</file>