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DF4-5E5F-47D9-97F2-026D8588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409-33E9-41B6-837B-7A2A0BC3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869-F573-4CD9-84DE-9D8E8DED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DC5-08E8-4F38-91C2-E52A1B1E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255-B0C1-42E9-8D11-D515D763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7B1-9114-4472-92FB-B7D09ACF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B26-4665-4315-B99F-0405168A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452-9754-43A7-AF43-539A6C94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B813-950F-47FE-9379-9FB753C0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28C9-2EE2-49A4-A3E9-35ADE451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881-41D1-4353-99B3-3E01A7B4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838D-3265-4093-BEB8-324F5C42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F0EB-A27F-4BFE-BF97-7F0F8EE8C0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иление металлических констру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епление с помощью бол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болтов для присоединения элементов усиления рекомендуется в случаях, ког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эксплуатации  не допускают применения  свар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 усиливаемого и усиливающего элементов относится к трудносвариваем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ельно избежать дополнительных сварочных напряжений  и деформ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товые соединения технологически более удоб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ядок выполнения усилений с применением бол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ся сборка соединения на струбцин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ются болтов в концевых участ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концов к середине осуществляются промежуточные соеди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рливание следующих отверстий производится после установки болта в предыдущ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тельно закручиваются болты в концевых участ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болтов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40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жатых элементах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 растянутых элементах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адиус инерции усиливающего эле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ы усиления стальных балок путем увеличения с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rcRect l="58760" t="12339" r="6252" b="50741"/>
          <a:stretch/>
        </p:blipFill>
        <p:spPr>
          <a:xfrm>
            <a:off x="1619280" y="1628640"/>
            <a:ext cx="605628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бщие замечания к выбору схемы уси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ы двусторонние схемы усиления, т.к. при этом достигается существенное увеличение момента инерции и момента сопроти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ввиду размещения покрытия (перекрытия) на верхнюю полку балки, двусторонняя схема осуществима не всег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стороннее усиление эффективно только при учете упругопластической стадии работы материала или усилении регулированием напряжений. В противном случае необходимо существенное увеличение высоты элем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арные швы преимущественно следует проектировать  нижни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фасонного проката, более технологично по сравнению с листовой сталью (меньший объем резки металл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ы усиления колонн увеличением с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61487" t="17133" r="6724" b="51705"/>
          <a:stretch/>
        </p:blipFill>
        <p:spPr>
          <a:xfrm>
            <a:off x="1476360" y="1138320"/>
            <a:ext cx="655164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иду сложности разгрузки усиление колонн является наиболее трудоемк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иление колонн изменением конструктивной схемы применяется в двух случа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енная нагрузка составляет более 40% полной и в период усиления может быть устране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предварительно напряженных элементов практически не осуществи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имметричные схемы усилений рационально использовать  при преобладании моментов одного зна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усилении колонн крайних рядов следует учитывать отсутствие доступа или необходимость разборки ст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ы усиления деформированных стержней стропильных ферм при искривле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плоскости фермы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, 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лоскости фермы в сторону пера уголков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лоскости фермы в сторону обушка уголков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rcRect l="61705" t="54423" r="7108" b="24780"/>
          <a:stretch/>
        </p:blipFill>
        <p:spPr>
          <a:xfrm>
            <a:off x="900000" y="2276640"/>
            <a:ext cx="7272360" cy="4157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ка наклонных ребер жесткости без пригонки к поясам (а,б) и с пригонкой к поясам (в,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rcRect l="60114" t="58382" r="8658" b="20682"/>
          <a:stretch/>
        </p:blipFill>
        <p:spPr>
          <a:xfrm>
            <a:off x="1403280" y="1844640"/>
            <a:ext cx="662472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иление сварных соеди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буется пр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наружении трещин или дефектов в швах или околошовной зо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статочной длине или толщине шва (по результатам расче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иление выполня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ем увеличение длины ш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ения толщины ш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ройством дополнительных  промежуточных де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бования при усилении сварных ш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метр электродов не более 4 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а тока не более 220 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щина шва за один проход не более 4 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слойном наложении – толщина слоев не более 2 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арка последующего слоя производится после охлаждения предыдущего шва до температур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≤ 10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арка производится п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≥ -15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толщин до 30 мм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толщин свыше 30 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чтение отдается длинным и тонким ш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личительные особенности металлических конструкций зданий и соору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3840" y="1071360"/>
            <a:ext cx="86439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сокая однородность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уславливающая высокую степень соответствия работы элементов и узлов расчетным предпосылкам и, соответственно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лые запасы проч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ложенные при проектировании; в результате, незначительные отклонения от расчетных положений, нарушения требуемой точности в изготовлении, монтаже, небольшие перегрузки могут привести к существенным перенапряжениям элементов металлических конструкций;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сокая удельная прочнос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ношение прочности к массе материала),  которая обуславливает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нкостенность и гибкос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ущих элементов,  следовательно,  подверженность под влиянием различных случайных воздействий при изготовлении,  перевозке,  монтаже, эксплуатации различного рода деформациям - это особенно опасно для сжатых элем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лонность к хрупкому и усталостному разрушению при наличии различных концентраторов напряж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особенно,  трещин в сочетании с низкими температурами и динамическими нагрузк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сварных соедин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имеющих отличные   от основного металла физико-механические свойства и характеризуемых значительным разбросом эксплуатационных свойств в зависимости от качества наложения сварных шв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верженность корроз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силение сварных швов узлов стропильных ферм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величением длины швов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 введением коротышей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длинением фасо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24724" t="17756" r="35401" b="50012"/>
          <a:stretch/>
        </p:blipFill>
        <p:spPr>
          <a:xfrm>
            <a:off x="714240" y="1555920"/>
            <a:ext cx="755820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иление болтовых соеди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достаточной несущей способности устанавливаются дополнительные бол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нагруженные крайние болты могут заменяться высокопрочными болт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ение обычных болтовых соединений сваркой допускается только при восприятии всех усилий сварными шв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ение соединений на высокопрочных болтах с применением сварки допускается при соответствующем обосновании деформативности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анение пов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анение местных погнутостей стальных уголков (а,б) и выпучивания стенок двутавра (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24724" t="54612" r="35401" b="18116"/>
          <a:stretch/>
        </p:blipFill>
        <p:spPr>
          <a:xfrm>
            <a:off x="642960" y="1857240"/>
            <a:ext cx="8001000" cy="43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становление выреза нижней полки и стенки двутавра: 1 – линия выреза; 2 – стальные накл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rcRect l="40720" t="13363" r="24207" b="62997"/>
          <a:stretch/>
        </p:blipFill>
        <p:spPr>
          <a:xfrm>
            <a:off x="1403280" y="1700280"/>
            <a:ext cx="633744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rcRect l="30441" t="30517" r="25286" b="11407"/>
          <a:stretch/>
        </p:blipFill>
        <p:spPr>
          <a:xfrm>
            <a:off x="158760" y="260280"/>
            <a:ext cx="88549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rcRect l="26839" t="32111" r="25015" b="8829"/>
          <a:stretch/>
        </p:blipFill>
        <p:spPr>
          <a:xfrm>
            <a:off x="250920" y="476280"/>
            <a:ext cx="856908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rcRect l="37906" t="17347" r="26122" b="46590"/>
          <a:stretch/>
        </p:blipFill>
        <p:spPr>
          <a:xfrm>
            <a:off x="395280" y="266760"/>
            <a:ext cx="8137440" cy="388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rcRect l="37906" t="54838" r="26122" b="15344"/>
          <a:stretch/>
        </p:blipFill>
        <p:spPr>
          <a:xfrm>
            <a:off x="547560" y="3860640"/>
            <a:ext cx="77155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08000" y="27432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иление колон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rcRect l="41951" t="13361" r="31216" b="16639"/>
          <a:stretch/>
        </p:blipFill>
        <p:spPr>
          <a:xfrm>
            <a:off x="3924360" y="2205000"/>
            <a:ext cx="2160360" cy="3168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rcRect l="51013" t="18863" r="39140" b="63622"/>
          <a:stretch/>
        </p:blipFill>
        <p:spPr>
          <a:xfrm>
            <a:off x="250920" y="333360"/>
            <a:ext cx="3492360" cy="4041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3"/>
          <a:srcRect l="43526" t="36304" r="31216" b="26565"/>
          <a:stretch/>
        </p:blipFill>
        <p:spPr>
          <a:xfrm>
            <a:off x="3635280" y="1484280"/>
            <a:ext cx="5329440" cy="440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4"/>
          <a:srcRect l="49043" t="73440" r="38352" b="16639"/>
          <a:stretch/>
        </p:blipFill>
        <p:spPr>
          <a:xfrm>
            <a:off x="363600" y="4581360"/>
            <a:ext cx="341640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оценки несущей способности металлических констру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замеренна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еличина дефекта не превышает нормативные треб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изготовление, монтаж или эксплуатацию и меньше значений, учтенных при проектировании, т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счет конструкций производится по действующим нормам проект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х случаях, когда в конструкциях обнаружены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ефекты и повреждения, не учтенные нормами на проект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ли замеренная их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еличина превышает требования нормативных докумен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оверочный расчет металлических конструкций производят с учетом влияния этих дефектов и повреждений на несущую способность в соответствии с разработанным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комендациями по оценке состояний эксплуатируемых металлических конструк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репление усиливающих элементов к существующ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авило, металлические конструкции усиливаются путе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арки дополнительных стальных элемен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обходимости, например, для повышения жесткости стальных элементов (особенно сжатых стоек) без существенного повышения прочности или для защиты стали от коррозии могут применять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он, железобетон, фибробето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для временного усиления гибких стержней может применять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силении бетоном сцепление бетона с металлом обеспечивается приваркой к поверхности стали стержней диаметром 5...8 мм, которые могут иметь крюки на концах. Деревянные элементы крепятся с помощью стальных скр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пление усиливающих стальных элементов к усиливаемым конструкциям помимо сварки, может быть осуществлено с применение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прочных болтов и реже на болтах повышенной точ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ласса точности 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епление с помощью сва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4200" y="999720"/>
            <a:ext cx="8715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чительный объема дополнительного метал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е включение усиливающего элемента в работу констру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сварки снижается несущая способность элем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стывании получаются сварочные деформации или остаточные напря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ts val="22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снижения несущей способности и величина остаточных деформаций зависят 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299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а сварки (вида и силы тока, диаметра электрода, скорости сварки и т.п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299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щины и ширины элем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299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и наложения шв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299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2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дольных швов при нагреве снижение прочности находится в пределах до 15 %, для поперечных швов может достигать 40 %. Поэтому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ение швов поперек элемента при усилении его под нагрузкой запрещается. В растянутых элементах не допускаются поперечные швы в любом случа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2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299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иление под нагрузко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сварки производя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299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чески определимых конструкциях при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8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299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чески неопределимых конструкциях, при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риваемость стали оценивается по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глеродному эквивалент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вычис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С + 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6 +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+ Мо/4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15 +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13 + Р/2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глерод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ганец,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хром,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одород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икель,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олибден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едь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фосфор – содержание химических элементов в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0,42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ь имеет удовлетворительную сваривае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,4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ся назначать специальные режимы сварки, гарантирующие качество сварного соед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ядок выполнения сварки при уси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785880"/>
            <a:ext cx="856908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соединение (прижатие) элементов усиления по всей длине к усиливаемой конструкции с помощью струбци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яжек или иных устройств. Возникающие при этом силы трения обеспечивают совместную работу элементов при наложении сварочных прихваток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варка элементов усиления на сварочных прихватка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это обеспечивает включение элементов усиления в совместную работу на изгиб  при малом разогреве основного стержня, повышает  несущую способность стержня в процессе усиления и способствует значительному уменьшению сварочных деформаций. Сварочные прихватки воспринимают незначительные сдвигающие усилия, возникающие вследствие приращения прогибов стержня при наложении в последующем связующих швов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размещают в местах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ложения швов (для шпоночных швов) с шагом 300...500 мм и длиной 20...30 мм;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арка концевых участко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ющая в работу элементы усиления усиливаемого по всей длине, в определенной степени снижающ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рочные деформ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ожение связующих шво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еспечивающих совместную работу усиливаемого стержня и элементов уси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ядок наложения швов при свар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20716" t="11998" r="34915" b="26447"/>
          <a:stretch/>
        </p:blipFill>
        <p:spPr>
          <a:xfrm>
            <a:off x="714240" y="2357280"/>
            <a:ext cx="7613640" cy="40006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428760" y="1000080"/>
            <a:ext cx="82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к. деформации сжатия при сварке превышают деформации растяжения, то сварные швы вначале накладывают со стороны растянутых волокон, затем – со стороны сжатых воло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4:09:38Z</dcterms:created>
  <dc:creator>User</dc:creator>
  <dc:description/>
  <dc:language>en-US</dc:language>
  <cp:lastModifiedBy>DANTE199615</cp:lastModifiedBy>
  <dcterms:modified xsi:type="dcterms:W3CDTF">2021-11-07T17:09:18Z</dcterms:modified>
  <cp:revision>88</cp:revision>
  <dc:subject/>
  <dc:title>Слайд 1</dc:title>
</cp:coreProperties>
</file>