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2CAF-3DBE-444B-B30B-2955FABD3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5CC7-D705-4DFF-902A-4DEE6145E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1F92-B863-4750-B395-C703BF5BF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DDF4-432D-49BA-97D8-6B36E0FFD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8358A-4DCD-412D-A5E0-CBE02705A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B11E6-5D87-4B6B-B1C2-46094C384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4C22D-F8EB-4EB0-89E4-CFA71331E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EB592-989B-4776-AB39-FDED7F4FC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057F1-AFD0-4462-A7F5-8BCD8AA54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84B13-F591-4181-8E20-B05DAFFC1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21EDC-7A19-4DA1-A3E0-01424F78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02E7-39D9-4835-AAB3-7AE37F6B9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B613C-AEF8-4096-8DFB-EE367F29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4A22E-6287-4B48-AB61-4DCDAA88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2164B-8859-4A2B-A46D-376CCB110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1B156-23D1-43B6-9D5F-4998F7287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55141-C781-48EC-92E9-8E7EA763C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F07EA-F9F6-436F-BDDB-742024474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133AA-939F-461B-A7CD-0F45B38B9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BBEE1-C06B-4D2A-874C-032D86DDF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B4856-A50C-4713-AEA1-FF7547BD3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5DCEE-751C-401A-8724-B17543EE7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CEB6-DEFC-4690-BD72-6D004CA00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EECBA-4FEF-437A-8D0A-9EC84B7A7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D4C19-A319-4D78-8E94-F3D2A4F3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6452E-D593-4BAE-891A-46B22E90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DA9E4-9A4C-49C2-A168-C027BCED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8642F-2933-4A80-BEAC-3D805F8C5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DF0EA-6803-4F4B-BCB4-8E02DB3E0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0B590-B147-486B-80D1-147ADFB13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B98D4-5903-4B08-9945-5438B6943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1F4FE-EC2B-4AD6-91A6-DFCDB2419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86C2C-207F-4170-A40E-C5B8C6C5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9322-0528-4C36-993A-759A25A81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56DF8-023A-4DE4-AC13-E554F1D2D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DC996-54AE-48FB-8B5A-C4375AC04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5A5A4-01FC-4205-B01B-ED6BD9FFC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A3312-75DE-4989-8094-0FAF7436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57042-2B9C-429D-A24C-FFE9EFE9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349F9-1961-4044-8A75-44DBE950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7A7A0-1E15-4996-AB99-2CCD96FEE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4B03E-723A-4D94-B9AD-F0D6348BB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7AA77-E6C7-402F-BEFA-1CDACB674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687CD-FA82-44E8-ADBA-505A83753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620C-BAB0-472B-82CC-A522A2F5E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0AEFA-92DB-4C20-A374-1D5ED8AE7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8C578-F656-4139-BEE5-E5AE94F79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EF7AA-F566-48AC-9062-05D9E596B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4C42D-CA42-4EBC-9437-CC0D37069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21D4F-9D1D-4896-B486-6FC365237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60E63-BDCD-467A-8E5D-58DB81EF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13059-7FBF-4BE0-ABA2-36FE1355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4B746-B746-4FB7-9704-1B67D096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B86DA-2054-4B4A-AE52-001BADE6D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F9AC3-EBAA-4F20-8050-841FEC379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BE0F-587E-4952-9E7D-E4EA00E8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13856-81A0-46DD-B111-74D121FDE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56DA95-8516-41E6-BE88-64AAB6929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1E5BC-3407-4EEA-92BF-01FC5005A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45D88-8FA3-42F2-9FBD-BE8A71E16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2DD74-ABE4-4743-80AD-C76957F42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C361BD-B4B2-4D87-9138-CC30F5ECF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6FD21-14DB-4112-B57A-41BC70A08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12F4B-64C8-4F6C-B4B7-94FB5817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525662-887C-4AED-A36A-EFB5185C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FD441-0A02-45C0-8B76-184A40F7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E29E-AA49-468B-B847-DCA8AE0E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424C5B-75AB-4796-80E2-DABE1C021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AA0C4-4ADA-4E86-A6F6-1BC768218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1B4EA-8784-4D52-80AD-31F4EA017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87586-2876-4DA6-8AB3-7C9AB6124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E7A58E-E00E-48AA-B351-05723C23F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B44B5B-E3C7-4616-8FB7-6E57918A8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4A5EA-DC0B-477C-85A3-439330982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3A874-AD8A-433F-B64B-DD2C430C8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6E839A-A21D-4663-9A3C-A0051EF57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5E08C8-4F43-4CEA-9988-C8CF1F0D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B900-32E6-4683-92C2-74D8B587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A29634-DD6A-4926-B712-4C05CFCF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720958-052B-40F6-83FE-C42A6471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84428-D18E-4593-A737-3E1665565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60EFB-1273-4313-9F80-C5A574812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F3EBA-599E-47BF-9DDB-2767540EA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C582-CB31-40A4-950C-1C28C2F8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7518-38A0-43A8-84FF-AD4DD3A9A81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E858C-5D60-4DBD-B26B-25F8D96139E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F911E-EB05-43BD-9011-B1E8801A9C9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2F2EA-79B8-4296-9219-97964170914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02E11-4B20-418F-B310-45862C55E35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4B8DE-E265-4A10-A8FD-611FC360AE0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23B3B-2ECD-43DF-AF7A-28E2B2E6F3C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br>
              <a:rPr sz="4300"/>
            </a:br>
            <a:br>
              <a:rPr sz="4300"/>
            </a:br>
            <a:r>
              <a:rPr b="1" lang="ru-RU" sz="4300" spc="-1" strike="noStrike">
                <a:solidFill>
                  <a:srgbClr val="ffffff"/>
                </a:solidFill>
                <a:latin typeface="Candara"/>
              </a:rPr>
              <a:t>Строение электрической сварочной дуги и её свойства</a:t>
            </a: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Подзаголовок 2"/>
          <p:cNvSpPr/>
          <p:nvPr/>
        </p:nvSpPr>
        <p:spPr>
          <a:xfrm>
            <a:off x="228600" y="4191120"/>
            <a:ext cx="6286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33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Тема: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Основы технологии сварк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73e87"/>
                </a:solidFill>
                <a:latin typeface="Candara"/>
              </a:rPr>
              <a:t>Зажигание дуги при сварке плавящимся электродом также начинается с короткого замыкания. Из-за шероховатости поверхностей касание электрода с основным металлом происходит отдельными выступающими участками, которые мгновенно расплавляются под действием выделяющейся теплоты, образуя жидкую перемычку между основным металлом и электродом. 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ndara"/>
              </a:rPr>
              <a:t>Зажигание дуг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53352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По длине дугового промежутка можно выделить три области : катодную, анодную и находящийся между ними столб дуги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Катодная область включает в себя нагретую поверхность катода, называемую катодным пятном, и часть дугового промежутка, примыкающую к ней.</a:t>
            </a:r>
            <a:br>
              <a:rPr sz="2000"/>
            </a:b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Температура катодного пятна на стальных электродах достигает 2400... 2700С. В катодном пятне выделяется до 38% общей теплоты дуги. Основным физическим процессом в этой области является разгон электронов.</a:t>
            </a:r>
            <a:br>
              <a:rPr sz="2000"/>
            </a:b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Падение напряжения в катодной области </a:t>
            </a:r>
            <a:r>
              <a:rPr b="0" i="1" lang="en-US" sz="2000" spc="-1" strike="noStrike">
                <a:solidFill>
                  <a:srgbClr val="073e87"/>
                </a:solidFill>
                <a:latin typeface="Candara"/>
              </a:rPr>
              <a:t>UK 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составляет 10...20 В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Анодная область состоит из анодного пятна на поверхности анода и части дугового промежутка, примыкающего к нему. Анодное пятно — имеет примерно такую же температуру, как и катодное пятно, но в результате бомбардировки электронами на нем выделяется больше теплоты, чем на катоде. Для дуг с плавящимся электродом анодное падение напряжения составляет 2...6 В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Столб дуги, расположенный между катодной и анодной областями, имеет наибольшую протяженность в дуговом промежутке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ndara"/>
              </a:rPr>
              <a:t>Области дугового промежутка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73e87"/>
                </a:solidFill>
                <a:uFillTx/>
                <a:latin typeface="Candara"/>
              </a:rPr>
              <a:t>по применяемым электродам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— с плавящимся и неплавящимся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73e87"/>
                </a:solidFill>
                <a:uFillTx/>
                <a:latin typeface="Candara"/>
              </a:rPr>
              <a:t>по степени сжатия дуги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—свободная и сжатая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73e87"/>
                </a:solidFill>
                <a:uFillTx/>
                <a:latin typeface="Candara"/>
              </a:rPr>
              <a:t>по схеме подвода сварочного тока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— прямого и косвенного </a:t>
            </a:r>
            <a:r>
              <a:rPr b="0" i="1" lang="ru-RU" sz="20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действия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73e87"/>
                </a:solidFill>
                <a:uFillTx/>
                <a:latin typeface="Candara"/>
              </a:rPr>
              <a:t>по роду тока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— постоянного и переменного (однофазного или трехфазного) тока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73e87"/>
                </a:solidFill>
                <a:uFillTx/>
                <a:latin typeface="Candara"/>
              </a:rPr>
              <a:t>по полярности постоянного тока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— прямой и обратной полярности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Дугу называют </a:t>
            </a:r>
            <a:r>
              <a:rPr b="0" i="1" lang="ru-RU" sz="2000" spc="-1" strike="noStrike">
                <a:solidFill>
                  <a:srgbClr val="073e87"/>
                </a:solidFill>
                <a:latin typeface="Candara"/>
              </a:rPr>
              <a:t>короткой, 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если длина ее составляет 2...4 мм. Длина </a:t>
            </a:r>
            <a:r>
              <a:rPr b="0" i="1" lang="ru-RU" sz="2000" spc="-1" strike="noStrike">
                <a:solidFill>
                  <a:srgbClr val="073e87"/>
                </a:solidFill>
                <a:latin typeface="Candara"/>
              </a:rPr>
              <a:t>нормальной 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дуги составляет 4...6 мм. Дугу длиной более 6 мм называют </a:t>
            </a:r>
            <a:r>
              <a:rPr b="0" i="1" lang="ru-RU" sz="2000" spc="-1" strike="noStrike">
                <a:solidFill>
                  <a:srgbClr val="073e87"/>
                </a:solidFill>
                <a:latin typeface="Candara"/>
              </a:rPr>
              <a:t>длинной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ndara"/>
              </a:rPr>
              <a:t>Классификация сварочной дуги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Заголовок 1"/>
          <p:cNvSpPr/>
          <p:nvPr/>
        </p:nvSpPr>
        <p:spPr>
          <a:xfrm>
            <a:off x="0" y="64296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85840" y="64260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ndara"/>
              </a:rPr>
              <a:t>Сварочную дугу классифицируют:</a:t>
            </a:r>
            <a:endParaRPr b="0" lang="en-US" sz="2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42560" y="1428480"/>
            <a:ext cx="9001080" cy="185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442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42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69" name="Picture 2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85840" y="1187280"/>
            <a:ext cx="7858080" cy="56707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Заголовок 1"/>
          <p:cNvSpPr/>
          <p:nvPr/>
        </p:nvSpPr>
        <p:spPr>
          <a:xfrm>
            <a:off x="0" y="64296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85840" y="71388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ndara"/>
              </a:rPr>
              <a:t>Сварочную дугу классифицируют:</a:t>
            </a:r>
            <a:endParaRPr b="0" lang="en-US" sz="2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42560" y="1428480"/>
            <a:ext cx="9001080" cy="185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442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42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73" name="Picture 2" descr=""/>
          <p:cNvPicPr/>
          <p:nvPr/>
        </p:nvPicPr>
        <p:blipFill>
          <a:blip r:embed="rId1">
            <a:lum contrast="30000"/>
          </a:blip>
          <a:srcRect l="0" t="0" r="52597" b="53851"/>
          <a:stretch/>
        </p:blipFill>
        <p:spPr>
          <a:xfrm>
            <a:off x="571680" y="1428840"/>
            <a:ext cx="7829280" cy="51624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Заголовок 1"/>
          <p:cNvSpPr/>
          <p:nvPr/>
        </p:nvSpPr>
        <p:spPr>
          <a:xfrm>
            <a:off x="0" y="64296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85840" y="71388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ndara"/>
              </a:rPr>
              <a:t>Сварочную дугу классифицируют:</a:t>
            </a:r>
            <a:endParaRPr b="0" lang="en-US" sz="2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42560" y="1428480"/>
            <a:ext cx="9001080" cy="185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442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42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1">
            <a:lum contrast="30000"/>
          </a:blip>
          <a:srcRect l="52111" t="653" r="1890" b="53851"/>
          <a:stretch/>
        </p:blipFill>
        <p:spPr>
          <a:xfrm>
            <a:off x="714240" y="1571760"/>
            <a:ext cx="7429680" cy="49766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Заголовок 1"/>
          <p:cNvSpPr/>
          <p:nvPr/>
        </p:nvSpPr>
        <p:spPr>
          <a:xfrm>
            <a:off x="0" y="64296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85840" y="71388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ndara"/>
              </a:rPr>
              <a:t>Сварочную дугу классифицируют:</a:t>
            </a:r>
            <a:endParaRPr b="0" lang="en-US" sz="2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2560" y="1428480"/>
            <a:ext cx="9001080" cy="185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442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42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81" name="Picture 2" descr=""/>
          <p:cNvPicPr/>
          <p:nvPr/>
        </p:nvPicPr>
        <p:blipFill>
          <a:blip r:embed="rId1">
            <a:lum contrast="30000"/>
          </a:blip>
          <a:srcRect l="0" t="51286" r="52172" b="2565"/>
          <a:stretch/>
        </p:blipFill>
        <p:spPr>
          <a:xfrm>
            <a:off x="714240" y="1428840"/>
            <a:ext cx="7715520" cy="50418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Заголовок 1"/>
          <p:cNvSpPr/>
          <p:nvPr/>
        </p:nvSpPr>
        <p:spPr>
          <a:xfrm>
            <a:off x="0" y="64296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85840" y="71388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ndara"/>
              </a:rPr>
              <a:t>Сварочную дугу классифицируют:</a:t>
            </a:r>
            <a:endParaRPr b="0" lang="en-US" sz="2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42560" y="1428480"/>
            <a:ext cx="9001080" cy="185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442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42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85" name="Picture 2" descr=""/>
          <p:cNvPicPr/>
          <p:nvPr/>
        </p:nvPicPr>
        <p:blipFill>
          <a:blip r:embed="rId1">
            <a:lum contrast="30000"/>
          </a:blip>
          <a:srcRect l="51748" t="51286" r="1369" b="5131"/>
          <a:stretch/>
        </p:blipFill>
        <p:spPr>
          <a:xfrm>
            <a:off x="571680" y="1571760"/>
            <a:ext cx="7992720" cy="50320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Электрическая дуга представляет собой один из видов электрических разрядов в газах, при котором наблюдается прохождение электрического тока через газовый промежуток под воздействием электрического поля. Прохождение электрического тока через газ возможно только при наличии в нем заряженных частиц — электронов и ионов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Возникновение заряженных частиц в дуговом промежутке обусловливается эмиссией (испусканием) электронов с поверхности отрицательного электрода (катода) и ионизацией находящихся в промежутке газов и паров. Электрическую дугу, используемую для сварки металлов, называют </a:t>
            </a:r>
            <a:r>
              <a:rPr b="0" i="1" lang="ru-RU" sz="2000" spc="-1" strike="noStrike" u="sng">
                <a:solidFill>
                  <a:srgbClr val="073e87"/>
                </a:solidFill>
                <a:uFillTx/>
                <a:latin typeface="Candara"/>
              </a:rPr>
              <a:t>сварочной дугой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Природа сварочной дуги</a:t>
            </a: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53352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Сварочная дуга представляет собой электрический дуговой разряд в ионизированной смеси не только газов, но и паров металла и компонентов, входящих в состав электродных покрытий, флюсов и т.д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Если ионизированный воздушный промежуток находится в электрическом поле, то подвижные газовые ионы приходят в движение и создают электрический ток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Как только прекращается действие ионизирующих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факторов, исчезает электропроводность и ток прекращается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Сварочная дуг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Дуга является частью электрической сварочной цепи. При сварке на постоянном токе электрод, подсоединенный к положительному полюсу источника питания дуги, называют </a:t>
            </a:r>
            <a:r>
              <a:rPr b="0" i="1" lang="ru-RU" sz="2800" spc="-1" strike="noStrike">
                <a:solidFill>
                  <a:srgbClr val="073e87"/>
                </a:solidFill>
                <a:latin typeface="Candara"/>
              </a:rPr>
              <a:t>анодом, </a:t>
            </a: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а к отрицательному — </a:t>
            </a:r>
            <a:r>
              <a:rPr b="0" i="1" lang="ru-RU" sz="2800" spc="-1" strike="noStrike">
                <a:solidFill>
                  <a:srgbClr val="073e87"/>
                </a:solidFill>
                <a:latin typeface="Candara"/>
              </a:rPr>
              <a:t>катодом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Если сварку ведут на переменном токе, то каждый из электродов является попеременно анодом или катодом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Промежуток между электродами называют областью дугового разряда, или </a:t>
            </a:r>
            <a:r>
              <a:rPr b="0" i="1" lang="ru-RU" sz="2800" spc="-1" strike="noStrike">
                <a:solidFill>
                  <a:srgbClr val="073e87"/>
                </a:solidFill>
                <a:latin typeface="Candara"/>
              </a:rPr>
              <a:t>дуговым промежутком; </a:t>
            </a: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длину дугового промежутка — </a:t>
            </a:r>
            <a:r>
              <a:rPr b="0" i="1" lang="ru-RU" sz="2800" spc="-1" strike="noStrike">
                <a:solidFill>
                  <a:srgbClr val="073e87"/>
                </a:solidFill>
                <a:latin typeface="Candara"/>
              </a:rPr>
              <a:t>длиной дуги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Заголовок 1"/>
          <p:cNvSpPr/>
          <p:nvPr/>
        </p:nvSpPr>
        <p:spPr>
          <a:xfrm>
            <a:off x="0" y="64296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85840" y="64260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ndara"/>
              </a:rPr>
              <a:t>Области дугового промежутка:</a:t>
            </a:r>
            <a:endParaRPr b="0" lang="en-US" sz="2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286320" y="2000160"/>
            <a:ext cx="2571480" cy="414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Дуговой промежуток подразделяется на три основные области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-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ndara"/>
              </a:rPr>
              <a:t>катодную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ndara"/>
              </a:rPr>
              <a:t>L</a:t>
            </a:r>
            <a:r>
              <a:rPr b="0" lang="en-US" sz="2400" spc="-1" strike="noStrike" u="sng" baseline="-25000">
                <a:solidFill>
                  <a:srgbClr val="000000"/>
                </a:solidFill>
                <a:uFillTx/>
                <a:latin typeface="Candara"/>
              </a:rPr>
              <a:t>k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ndara"/>
              </a:rPr>
              <a:t>; </a:t>
            </a:r>
            <a:br>
              <a:rPr sz="2400"/>
            </a:br>
            <a:r>
              <a:rPr b="0" lang="ru-RU" sz="2400" spc="-1" strike="noStrike" u="sng">
                <a:solidFill>
                  <a:srgbClr val="03706d"/>
                </a:solidFill>
                <a:uFillTx/>
                <a:latin typeface="Candara"/>
              </a:rPr>
              <a:t>-анодную</a:t>
            </a:r>
            <a:r>
              <a:rPr b="0" lang="en-US" sz="2400" spc="-1" strike="noStrike" u="sng">
                <a:solidFill>
                  <a:srgbClr val="03706d"/>
                </a:solidFill>
                <a:uFillTx/>
                <a:latin typeface="Candara"/>
              </a:rPr>
              <a:t> L</a:t>
            </a:r>
            <a:r>
              <a:rPr b="0" lang="en-US" sz="2400" spc="-1" strike="noStrike" u="sng" baseline="-25000">
                <a:solidFill>
                  <a:srgbClr val="03706d"/>
                </a:solidFill>
                <a:uFillTx/>
                <a:latin typeface="Candara"/>
              </a:rPr>
              <a:t>a</a:t>
            </a:r>
            <a:r>
              <a:rPr b="0" lang="ru-RU" sz="2400" spc="-1" strike="noStrike" u="sng">
                <a:solidFill>
                  <a:srgbClr val="03706d"/>
                </a:solidFill>
                <a:uFillTx/>
                <a:latin typeface="Candara"/>
              </a:rPr>
              <a:t>; </a:t>
            </a:r>
            <a:br>
              <a:rPr sz="2400"/>
            </a:br>
            <a:r>
              <a:rPr b="0" lang="ru-RU" sz="2400" spc="-1" strike="noStrike" u="sng">
                <a:solidFill>
                  <a:srgbClr val="03706d"/>
                </a:solidFill>
                <a:uFillTx/>
                <a:latin typeface="Candara"/>
              </a:rPr>
              <a:t>- столб дуги</a:t>
            </a:r>
            <a:r>
              <a:rPr b="0" lang="en-US" sz="2400" spc="-1" strike="noStrike" u="sng">
                <a:solidFill>
                  <a:srgbClr val="03706d"/>
                </a:solidFill>
                <a:uFillTx/>
                <a:latin typeface="Candara"/>
              </a:rPr>
              <a:t> L</a:t>
            </a:r>
            <a:r>
              <a:rPr b="0" lang="en-US" sz="2400" spc="-1" strike="noStrike" u="sng" baseline="-25000">
                <a:solidFill>
                  <a:srgbClr val="03706d"/>
                </a:solidFill>
                <a:uFillTx/>
                <a:latin typeface="Candara"/>
              </a:rPr>
              <a:t>c</a:t>
            </a:r>
            <a:r>
              <a:rPr b="0" lang="ru-RU" sz="2400" spc="-1" strike="noStrike">
                <a:solidFill>
                  <a:srgbClr val="ffffff"/>
                </a:solidFill>
                <a:latin typeface="Candara"/>
              </a:rPr>
              <a:t>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1"/>
          <a:srcRect l="2931" t="9868" r="1853" b="15416"/>
          <a:stretch/>
        </p:blipFill>
        <p:spPr>
          <a:xfrm>
            <a:off x="0" y="1598760"/>
            <a:ext cx="6100920" cy="49734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Заголовок 1"/>
          <p:cNvSpPr/>
          <p:nvPr/>
        </p:nvSpPr>
        <p:spPr>
          <a:xfrm>
            <a:off x="0" y="64296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85840" y="64260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ndara"/>
              </a:rPr>
              <a:t>Области дугового промежутка:</a:t>
            </a:r>
            <a:endParaRPr b="0" lang="en-US" sz="2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28760" y="1285560"/>
            <a:ext cx="8501040" cy="16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ndara"/>
              </a:rPr>
              <a:t>Катодное пятно 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является источником потока свободных электронов. Температура его для стальных электродов достигает 2400-2600 °С. В катодном пятне выделяется около 38% общей теплоты дуги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49" name="Picture 2" descr=""/>
          <p:cNvPicPr/>
          <p:nvPr/>
        </p:nvPicPr>
        <p:blipFill>
          <a:blip r:embed="rId1"/>
          <a:srcRect l="2931" t="9868" r="1853" b="15416"/>
          <a:stretch/>
        </p:blipFill>
        <p:spPr>
          <a:xfrm>
            <a:off x="357120" y="2941560"/>
            <a:ext cx="4500720" cy="36687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Заголовок 1"/>
          <p:cNvSpPr/>
          <p:nvPr/>
        </p:nvSpPr>
        <p:spPr>
          <a:xfrm>
            <a:off x="0" y="64296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85840" y="64260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ndara"/>
              </a:rPr>
              <a:t>Области дугового промежутка:</a:t>
            </a:r>
            <a:endParaRPr b="0" lang="en-US" sz="2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57120" y="1285920"/>
            <a:ext cx="8406000" cy="200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ndara"/>
              </a:rPr>
              <a:t>Анодное пятно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является местом входа и нейтрализации свободных электронов. Оно имеет примерно такую же температуру, как и катодное пятно, но в результате бомбардировки электронами на нем выделяется больше теплоты, чем на катодном (примерно 42%)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1"/>
          <a:srcRect l="2931" t="9868" r="1853" b="15416"/>
          <a:stretch/>
        </p:blipFill>
        <p:spPr>
          <a:xfrm>
            <a:off x="357120" y="3352680"/>
            <a:ext cx="4214880" cy="32576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Заголовок 1"/>
          <p:cNvSpPr/>
          <p:nvPr/>
        </p:nvSpPr>
        <p:spPr>
          <a:xfrm>
            <a:off x="0" y="64296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85840" y="64260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ndara"/>
              </a:rPr>
              <a:t>Области дугового промежутка:</a:t>
            </a:r>
            <a:endParaRPr b="0" lang="en-US" sz="2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14200" y="1143000"/>
            <a:ext cx="8701200" cy="200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5000"/>
          </a:bodyPr>
          <a:p>
            <a:pPr marL="417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andara"/>
              </a:rPr>
              <a:t>Столб дуги </a:t>
            </a: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представляет собой проводник электрического тока. В нем свободные электроны и отрицательно заряженные ионы движутся к аноду, а положительно заряженные ионы - к катоду. В целом столб дуги не имеет заряда. Он нейтрален, так как в каждом сечении столба одновременно находятся равные количества противоположно заряженных частиц.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rcRect l="2931" t="9868" r="1853" b="15416"/>
          <a:stretch/>
        </p:blipFill>
        <p:spPr>
          <a:xfrm>
            <a:off x="214200" y="3755880"/>
            <a:ext cx="3643560" cy="29718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При коротком замыкании электрода и детали в местах касания их поверхности разогреваются. При размыкании электродов с нагретой поверхности катода происходит испускание электронов — электронная эмиссия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Выход электронов в первую очередь связывают с термическим эффектом (термоэлектронная эмиссия) и наличием электрического поля высокой напряженности (автоэлектронная эмиссия)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Наличие электронной эмиссии с поверхности катода считают непременным условием существования дугового разряда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ndara"/>
              </a:rPr>
              <a:t>Возбуждение дуг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DANTE199615</cp:lastModifiedBy>
  <dcterms:modified xsi:type="dcterms:W3CDTF">2021-11-07T17:08:35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