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3BC-81B9-4AD9-AF7A-A7E5D0DA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36D4-35D6-4752-8525-D08EB170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4B0F-446D-40B8-B1C8-4D44B2B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184-4068-4682-96BA-236D13F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1FD2-9ABE-4A27-8487-7F29F54A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B1FF-4BC7-4B83-A27D-39D1477B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040E-1798-4300-A1FD-26688EB6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A8DF-EB9E-4F08-88E5-C6795A3C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6ABC-6E52-4F61-B9C7-C9F34826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68FA-E4E0-44DC-BE32-C8AD265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0BBC-10A5-4D87-9551-5E0A532A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0B2-8E15-40AA-BC7F-9DAF1E6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66F7-9AE8-4C92-9825-5B76712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5FD7-F610-42AF-9C79-F215A6C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E8E7-C9A4-440E-A23C-59B62646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CB56-EEE5-4C6F-A728-9F38B523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C1E6-7613-4E22-9838-8A2B80A1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5228-F1F3-41B4-ABCC-23E163FA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7B48-4B9B-4EE7-B79E-A6792CCC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1369-5763-449A-AFA8-31A2C637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D5AFF-B7D8-4013-9B9C-35197DD2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DD3D3-54E9-40B6-9A4A-FA3A294C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AD3-B14E-4279-B8E3-3593851C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38AA-06AF-4F92-8EC1-79240D9C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68686-2549-485E-897B-0B8ED55D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71D6-4730-4F8C-A033-63AFA71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A2A5-6B0A-4582-8ED5-65914A4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74B31-9FF5-4946-B74A-CA408914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EBDC-90F6-4AA9-90C8-8018676E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2D7D-98DE-424C-871C-52BE3362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54EA2-6F54-4376-B6E2-486960C9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BA37-8E10-4FA5-AEF9-CFE12AB5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F77A-2949-43A9-8EEF-53F12FCF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26F-0712-430B-A395-98F6CA31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67677-4C7F-4DE5-AD3B-413AC1C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D1F6-6863-463A-B482-CA40E8D1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E33B-6469-47E4-95E5-171E9901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CBDCE-8B3A-49C7-AD62-E6835873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6043-42B7-43CC-A33D-B1BF56E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47F15-370F-4EE1-B35D-2F23DBDB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5A880-0761-484B-8907-FF5CB9D1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1102-E530-4B22-AD16-9220B0DE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E203-924C-4DAA-BCD5-F75C02CC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CD83F-B37A-460F-9298-C57BB4018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B37E-8120-4244-8EE5-054B0A71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5398A-3928-46BF-8AD0-FE3B27EC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A17F-8ACB-4A58-B556-A9D8EB85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8A15A-E4A5-4EC0-9D4C-E22FC47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4A98-37AB-4487-8E31-EF1E9494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5D4D7-7EF2-42A5-ADA2-36AFCDF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9CC34-5276-4987-AED9-CE4EE03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3A2ED-8DB0-41AD-908A-F4CD43C2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988B-F25D-43D7-ABDF-CBDBED62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09AD-FE3D-4EFE-B8C5-BF709771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3DCD-5D8A-4E12-99D5-98141450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7CD-8287-49D5-B73E-2A188EB0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D47CE-24EE-4A1C-8817-5BCDD703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F27A-631B-4936-9080-C3FC1FA2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DE3A3-0F79-424E-B402-BC97FC0A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6BE9-11BE-4462-8904-CA064097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2D83-25FF-485B-8CBF-29BD005C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153CE-8264-402E-82D4-A9257080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D743-966E-4B37-960C-5E5D2797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904C7-0C5C-4CF7-98DE-984DBDCD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4A13C-BDDC-45DB-AE40-D0BEE6A4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9D683-7BFF-441E-9F0E-A4F5F09D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ECD-12EB-49A6-902C-9FB5AB3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F4AB8-0E3D-4E3C-B7C4-90C5FC71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53ED0-8D01-4AB4-9C48-939F0690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2C4D-3BE5-44D2-8240-1250C399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E6D76-26BB-45D7-866E-F8C0F23E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123FD-815A-479F-95B7-08875FBE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C7E3B-4F0C-4E3B-B063-1C4CF301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4B491-CAD6-4B00-ACCA-47686777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23F5-73D3-4777-92E3-D485913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7C2B-EB66-4E1B-8027-A11932B1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3E9C-8158-4980-81FC-EC6A74C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B69-628B-45DF-B38C-9EAEFFD3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F96B-EC69-4C81-8A18-611D64DF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85BB-0E75-4860-B1D4-735D64CB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F70A3-7272-4667-8255-86AD20A7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64578-52B0-446A-B1EC-571FE2C7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47A1A-FA93-4117-BE4F-7FC6A7BC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A41-25AE-4622-A1BC-357DD7C7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2344-3CA5-4BED-BB4D-4FE3EB23A77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1243-9CB9-48C3-B2E1-720A7ABACB0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BA24-FE04-4868-AC10-08BC3F5BD6F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A56E-DE54-4C29-9FE8-DECEF237FF0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C758-A132-472D-805A-BFE432A193B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D86D-363E-4D1A-BA94-FAC8DF06F79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D33-65EC-489E-AF53-9F2E9446F7E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Candara"/>
              </a:rPr>
              <a:t>Строение электрической сварочной дуги и её свойства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Подзаголовок 2"/>
          <p:cNvSpPr/>
          <p:nvPr/>
        </p:nvSpPr>
        <p:spPr>
          <a:xfrm>
            <a:off x="228600" y="4191120"/>
            <a:ext cx="628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33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: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Основы технологии свар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Зажигание дуги при сварке плавящимся электродом также начинается с короткого замыкания. Из-за шероховатости поверхностей касание электрода с основным металлом происходит отдельными выступающими участками, которые мгновенно расплавляются под действием выделяющейся теплоты, образуя жидкую перемычку между основным металлом и электродом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Зажигание дуг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53352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о длине дугового промежутка можно выделить три области : катодную, анодную и находящийся между ними столб дуг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атодная область включает в себя нагретую поверхность катода, называемую катодным пятном, и часть дугового промежутка, примыкающую к ней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емпература катодного пятна на стальных электродах достигает 2400... 2700С. В катодном пятне выделяется до 38% общей теплоты дуги. Основным физическим процессом в этой области является разгон электронов.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адение напряжения в катодной области </a:t>
            </a:r>
            <a:r>
              <a:rPr b="0" i="1" lang="en-US" sz="2000" spc="-1" strike="noStrike">
                <a:solidFill>
                  <a:srgbClr val="073e87"/>
                </a:solidFill>
                <a:latin typeface="Candara"/>
              </a:rPr>
              <a:t>UK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оставляет 10...20 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нодная область состоит из анодного пятна на поверхности анода и части дугового промежутка, примыкающего к нему. Анодное пятно — имеет примерно такую же температуру, как и катодное пятно, но в результате бомбардировки электронами на нем выделяется больше теплоты, чем на катоде. Для дуг с плавящимся электродом анодное падение напряжения составляет 2...6 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Столб дуги, расположенный между катодной и анодной областями, имеет наибольшую протяженность в дуговом промежутк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Области дугового промежутка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применяемым электродам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с плавящимся и неплавящимс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степени сжатия дуги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свободная и сжата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схеме подвода сварочного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рямого и косвенного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ействия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роду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остоянного и переменного (однофазного или трехфазного) то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по полярности постоянного тока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— прямой и обратной полярност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угу называют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короткой,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если длина ее составляет 2...4 мм. Длина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нормальной </a:t>
            </a: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дуги составляет 4...6 мм. Дугу длиной более 6 мм называют </a:t>
            </a:r>
            <a:r>
              <a:rPr b="0" i="1" lang="ru-RU" sz="2000" spc="-1" strike="noStrike">
                <a:solidFill>
                  <a:srgbClr val="073e87"/>
                </a:solidFill>
                <a:latin typeface="Candara"/>
              </a:rPr>
              <a:t>длинн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Классификация сварочной дуг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85840" y="1187280"/>
            <a:ext cx="7858080" cy="5670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>
            <a:lum contrast="30000"/>
          </a:blip>
          <a:srcRect l="0" t="0" r="52597" b="53851"/>
          <a:stretch/>
        </p:blipFill>
        <p:spPr>
          <a:xfrm>
            <a:off x="571680" y="1428840"/>
            <a:ext cx="7829280" cy="5162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>
            <a:lum contrast="30000"/>
          </a:blip>
          <a:srcRect l="52111" t="653" r="1890" b="53851"/>
          <a:stretch/>
        </p:blipFill>
        <p:spPr>
          <a:xfrm>
            <a:off x="714240" y="1571760"/>
            <a:ext cx="7429680" cy="4976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>
            <a:lum contrast="30000"/>
          </a:blip>
          <a:srcRect l="0" t="51286" r="52172" b="2565"/>
          <a:stretch/>
        </p:blipFill>
        <p:spPr>
          <a:xfrm>
            <a:off x="714240" y="1428840"/>
            <a:ext cx="7715520" cy="5041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71388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Сварочную дугу классифицируют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2560" y="1428480"/>
            <a:ext cx="900108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>
            <a:lum contrast="30000"/>
          </a:blip>
          <a:srcRect l="51748" t="51286" r="1369" b="5131"/>
          <a:stretch/>
        </p:blipFill>
        <p:spPr>
          <a:xfrm>
            <a:off x="571680" y="1571760"/>
            <a:ext cx="7992720" cy="5032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Электрическая дуга представляет собой один из видов электрических разрядов в газах, при котором наблюдается прохождение электрического тока через газовый промежуток под воздействием электрического поля. Прохождение электрического тока через газ возможно только при наличии в нем заряженных частиц — электронов и ион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озникновение заряженных частиц в дуговом промежутке обусловливается эмиссией (испусканием) электронов с поверхности отрицательного электрода (катода) и ионизацией находящихся в промежутке газов и паров. Электрическую дугу, используемую для сварки металлов, называют </a:t>
            </a:r>
            <a:r>
              <a:rPr b="0" i="1" lang="ru-RU" sz="2000" spc="-1" strike="noStrike" u="sng">
                <a:solidFill>
                  <a:srgbClr val="073e87"/>
                </a:solidFill>
                <a:uFillTx/>
                <a:latin typeface="Candara"/>
              </a:rPr>
              <a:t>сварочной дуг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рода сварочной дуги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варочная дуга представляет собой электрический дуговой разряд в ионизированной смеси не только газов, но и паров металла и компонентов, входящих в состав электродных покрытий, флюсов и т.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Если ионизированный воздушный промежуток находится в электрическом поле, то подвижные газовые ионы приходят в движение и создают электрический то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ак только прекращается действие ионизирующих</a:t>
            </a:r>
            <a:br>
              <a:rPr sz="2400"/>
            </a:b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акторов, исчезает электропроводность и ток прекраща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варочная дуг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уга является частью электрической сварочной цепи. При сварке на постоянном токе электрод, подсоединенный к положительному полюсу источника питания дуги, называют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анодом,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а к отрицательному —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катодо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Если сварку ведут на переменном токе, то каждый из электродов является попеременно анодом или катодом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омежуток между электродами называют областью дугового разряда, или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дуговым промежутком; </a:t>
            </a: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длину дугового промежутка — </a:t>
            </a:r>
            <a:r>
              <a:rPr b="0" i="1" lang="ru-RU" sz="2800" spc="-1" strike="noStrike">
                <a:solidFill>
                  <a:srgbClr val="073e87"/>
                </a:solidFill>
                <a:latin typeface="Candara"/>
              </a:rPr>
              <a:t>длиной дуг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6320" y="2000160"/>
            <a:ext cx="257148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уговой промежуток подразделяется на три основные области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-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катодную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ndara"/>
              </a:rPr>
              <a:t>L</a:t>
            </a:r>
            <a:r>
              <a:rPr b="0" lang="en-US" sz="2400" spc="-1" strike="noStrike" u="sng" baseline="-25000">
                <a:solidFill>
                  <a:srgbClr val="000000"/>
                </a:solidFill>
                <a:uFillTx/>
                <a:latin typeface="Candara"/>
              </a:rPr>
              <a:t>k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; </a:t>
            </a:r>
            <a:br>
              <a:rPr sz="2400"/>
            </a:b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-анодную</a:t>
            </a:r>
            <a:r>
              <a:rPr b="0" lang="en-US" sz="2400" spc="-1" strike="noStrike" u="sng">
                <a:solidFill>
                  <a:srgbClr val="03706d"/>
                </a:solidFill>
                <a:uFillTx/>
                <a:latin typeface="Candara"/>
              </a:rPr>
              <a:t> L</a:t>
            </a:r>
            <a:r>
              <a:rPr b="0" lang="en-US" sz="2400" spc="-1" strike="noStrike" u="sng" baseline="-25000">
                <a:solidFill>
                  <a:srgbClr val="03706d"/>
                </a:solidFill>
                <a:uFillTx/>
                <a:latin typeface="Candara"/>
              </a:rPr>
              <a:t>a</a:t>
            </a: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; </a:t>
            </a:r>
            <a:br>
              <a:rPr sz="2400"/>
            </a:br>
            <a:r>
              <a:rPr b="0" lang="ru-RU" sz="2400" spc="-1" strike="noStrike" u="sng">
                <a:solidFill>
                  <a:srgbClr val="03706d"/>
                </a:solidFill>
                <a:uFillTx/>
                <a:latin typeface="Candara"/>
              </a:rPr>
              <a:t>- столб дуги</a:t>
            </a:r>
            <a:r>
              <a:rPr b="0" lang="en-US" sz="2400" spc="-1" strike="noStrike" u="sng">
                <a:solidFill>
                  <a:srgbClr val="03706d"/>
                </a:solidFill>
                <a:uFillTx/>
                <a:latin typeface="Candara"/>
              </a:rPr>
              <a:t> L</a:t>
            </a:r>
            <a:r>
              <a:rPr b="0" lang="en-US" sz="2400" spc="-1" strike="noStrike" u="sng" baseline="-25000">
                <a:solidFill>
                  <a:srgbClr val="03706d"/>
                </a:solidFill>
                <a:uFillTx/>
                <a:latin typeface="Candara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Candara"/>
              </a:rPr>
              <a:t>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0" y="1598760"/>
            <a:ext cx="6100920" cy="4973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28760" y="1285560"/>
            <a:ext cx="850104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Катодное пятно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является источником потока свободных электронов. Температура его для стальных электродов достигает 2400-2600 °С. В катодном пятне выделяется около 38% общей теплоты дуг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357120" y="2941560"/>
            <a:ext cx="4500720" cy="3668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4060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Анодное пятно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является местом входа и нейтрализации свободных электронов. Оно имеет примерно такую же температуру, как и катодное пятно, но в результате бомбардировки электронами на нем выделяется больше теплоты, чем на катодном (примерно 42%)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357120" y="3352680"/>
            <a:ext cx="4214880" cy="325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Заголовок 1"/>
          <p:cNvSpPr/>
          <p:nvPr/>
        </p:nvSpPr>
        <p:spPr>
          <a:xfrm>
            <a:off x="0" y="642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ndara"/>
              </a:rPr>
              <a:t>Области дугового промежутка: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0120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417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Столб дуги 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редставляет собой проводник электрического тока. В нем свободные электроны и отрицательно заряженные ионы движутся к аноду, а положительно заряженные ионы - к катоду. В целом столб дуги не имеет заряда. Он нейтрален, так как в каждом сечении столба одновременно находятся равные количества противоположно заряженных частиц.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rcRect l="2931" t="9868" r="1853" b="15416"/>
          <a:stretch/>
        </p:blipFill>
        <p:spPr>
          <a:xfrm>
            <a:off x="214200" y="3755880"/>
            <a:ext cx="3643560" cy="29718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При коротком замыкании электрода и детали в местах касания их поверхности разогреваются. При размыкании электродов с нагретой поверхности катода происходит испускание электронов — электронная эмиссия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ыход электронов в первую очередь связывают с термическим эффектом (термоэлектронная эмиссия) и наличием электрического поля высокой напряженности (автоэлектронная эмиссия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Наличие электронной эмиссии с поверхности катода считают непременным условием существования дугового разряд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Возбуждение дуг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DANTE199615</cp:lastModifiedBy>
  <dcterms:modified xsi:type="dcterms:W3CDTF">2021-11-07T17:08:3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