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8CD16-1129-44B0-A9DD-ED4856F45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D1177-307B-4011-B3CB-00257FAD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7C88C-44E5-4C3B-84B6-6D78AFDCE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0557B-C642-4113-972D-147F6F24E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0EBD-2327-4B32-A214-A514591A2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549A-1ECF-403F-AB23-3B6D387B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8679-4383-46BC-AE27-D3C78090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571E-3C58-4C9F-BEBD-C5319B6A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9D1A-183C-4294-99DB-345C86AE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2232-476C-439E-8CF0-788BAE9B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A2B1-DCA9-4DFA-A0B4-2311FF9C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19EB8-6482-421B-B18F-B1D9F34C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6156-D9DD-467E-87E5-F98CA5F7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8051-C65E-4A50-9AB5-29B28EE0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4C53-E137-4D20-B8ED-6C844F9A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2C2A-7660-44DB-8712-ADFBA08F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19E6-3301-4F0F-ADF8-A0AC99FF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A4863-9BB2-4C49-8F22-81FB87E5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38CF9-A436-4F43-8507-2B43C631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CF2C7-5B69-4DB9-8FB7-F20580A5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412F6-CBB5-40D7-8494-EE734B75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D43C1-0F4C-47AC-BA42-D41CF0D9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D1188-07F0-456B-8D95-5142624C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CC57A-3BED-4BC7-B894-7A25187D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b25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BD21-6DD6-4042-BCD6-559D82F8D203}" type="slidenum">
              <a:rPr b="0" lang="ru-RU" sz="12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d9d2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d2ca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b25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d9d2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d2ca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b25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b25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E913-13B7-4FE1-8908-5B8478C18F26}" type="slidenum">
              <a:rPr b="0" lang="ru-RU" sz="12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1736640"/>
            <a:ext cx="78501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a69564"/>
                </a:solidFill>
                <a:latin typeface="Garamond"/>
              </a:rPr>
              <a:t>Счёт лет в </a:t>
            </a:r>
            <a:br>
              <a:rPr sz="7200"/>
            </a:br>
            <a:r>
              <a:rPr b="1" lang="ru-RU" sz="7200" spc="-1" strike="noStrike">
                <a:solidFill>
                  <a:srgbClr val="a69564"/>
                </a:solidFill>
                <a:latin typeface="Garamond"/>
              </a:rPr>
              <a:t>	</a:t>
            </a:r>
            <a:r>
              <a:rPr b="1" lang="ru-RU" sz="7200" spc="-1" strike="noStrike">
                <a:solidFill>
                  <a:srgbClr val="a69564"/>
                </a:solidFill>
                <a:latin typeface="Garamond"/>
              </a:rPr>
              <a:t>	</a:t>
            </a:r>
            <a:r>
              <a:rPr b="1" lang="ru-RU" sz="7200" spc="-1" strike="noStrike">
                <a:solidFill>
                  <a:srgbClr val="a69564"/>
                </a:solidFill>
                <a:latin typeface="Garamond"/>
              </a:rPr>
              <a:t>	</a:t>
            </a:r>
            <a:r>
              <a:rPr b="1" lang="ru-RU" sz="7200" spc="-1" strike="noStrike">
                <a:solidFill>
                  <a:srgbClr val="a69564"/>
                </a:solidFill>
                <a:latin typeface="Garamond"/>
              </a:rPr>
              <a:t>	</a:t>
            </a:r>
            <a:r>
              <a:rPr b="1" lang="ru-RU" sz="7200" spc="-1" strike="noStrike">
                <a:solidFill>
                  <a:srgbClr val="a69564"/>
                </a:solidFill>
                <a:latin typeface="Garamond"/>
              </a:rPr>
              <a:t>истории</a:t>
            </a:r>
            <a:endParaRPr b="1" lang="en-US" sz="7200" spc="-1" strike="noStrike">
              <a:solidFill>
                <a:srgbClr val="a6956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Что такое хронология?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197000"/>
            <a:ext cx="813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Хронология </a:t>
            </a: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(наука о времени)– </a:t>
            </a:r>
            <a:endParaRPr b="0" lang="en-US" sz="2800" spc="-1" strike="noStrike">
              <a:solidFill>
                <a:srgbClr val="4b25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это последовательность </a:t>
            </a: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исторических событий во времени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5300640"/>
            <a:ext cx="8569440" cy="0"/>
          </a:xfrm>
          <a:prstGeom prst="line">
            <a:avLst/>
          </a:prstGeom>
          <a:ln w="57240">
            <a:solidFill>
              <a:srgbClr val="808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56000" y="4869000"/>
            <a:ext cx="0" cy="792000"/>
          </a:xfrm>
          <a:prstGeom prst="line">
            <a:avLst/>
          </a:prstGeom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916360" y="2565360"/>
            <a:ext cx="2808000" cy="2320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rot="5400000">
            <a:off x="6300720" y="3645000"/>
            <a:ext cx="287280" cy="4176720"/>
          </a:xfrm>
          <a:custGeom>
            <a:avLst/>
            <a:gdLst>
              <a:gd name="textAreaLeft" fmla="*/ 0 w 287280"/>
              <a:gd name="textAreaRight" fmla="*/ 103680 w 28728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451"/>
                </a:lnTo>
                <a:cubicBezTo>
                  <a:pt x="10800" y="9351"/>
                  <a:pt x="16200" y="10251"/>
                  <a:pt x="21600" y="10251"/>
                </a:cubicBezTo>
                <a:cubicBezTo>
                  <a:pt x="16200" y="10251"/>
                  <a:pt x="10800" y="11151"/>
                  <a:pt x="10800" y="1205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2124000" y="3645000"/>
            <a:ext cx="287280" cy="4176720"/>
          </a:xfrm>
          <a:custGeom>
            <a:avLst/>
            <a:gdLst>
              <a:gd name="textAreaLeft" fmla="*/ 0 w 287280"/>
              <a:gd name="textAreaRight" fmla="*/ 103680 w 28728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451"/>
                </a:lnTo>
                <a:cubicBezTo>
                  <a:pt x="10800" y="9351"/>
                  <a:pt x="16200" y="10251"/>
                  <a:pt x="21600" y="10251"/>
                </a:cubicBezTo>
                <a:cubicBezTo>
                  <a:pt x="16200" y="10251"/>
                  <a:pt x="10800" y="11151"/>
                  <a:pt x="10800" y="1205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23000" y="595800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наша эра</a:t>
            </a:r>
            <a:endParaRPr b="0" lang="en-US" sz="20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32360" y="5950080"/>
            <a:ext cx="205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до нашей эры</a:t>
            </a:r>
            <a:endParaRPr b="0" lang="en-US" sz="2000" spc="-1" strike="noStrike">
              <a:solidFill>
                <a:srgbClr val="4b25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7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70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Что такое хронология?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907920"/>
          <a:ext cx="2411280" cy="32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24112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547640" y="1125360"/>
            <a:ext cx="2519640" cy="3384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132000" y="1341360"/>
            <a:ext cx="2511720" cy="3529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318320" y="4797360"/>
            <a:ext cx="233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b2500"/>
                </a:solidFill>
                <a:latin typeface="Garamond"/>
              </a:rPr>
              <a:t>Древний мир</a:t>
            </a:r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8960" y="5229360"/>
            <a:ext cx="23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b2500"/>
                </a:solidFill>
                <a:latin typeface="Garamond"/>
              </a:rPr>
              <a:t>Средние века</a:t>
            </a:r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16120" y="566100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b2500"/>
                </a:solidFill>
                <a:latin typeface="Garamond"/>
              </a:rPr>
              <a:t>Новое время</a:t>
            </a:r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59960" y="6021360"/>
            <a:ext cx="293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b2500"/>
                </a:solidFill>
                <a:latin typeface="Garamond"/>
              </a:rPr>
              <a:t>Новейшее время</a:t>
            </a:r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788000" y="1700280"/>
            <a:ext cx="2592360" cy="367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6516720" y="2133720"/>
          <a:ext cx="2627280" cy="3527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16720" y="2133720"/>
                    <a:ext cx="2627280" cy="35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-180000" y="4365720"/>
            <a:ext cx="27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b2500"/>
                </a:solidFill>
                <a:latin typeface="Garamond"/>
              </a:rPr>
              <a:t>Первобытность</a:t>
            </a:r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Век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5" name=""/>
          <p:cNvSpPr/>
          <p:nvPr/>
        </p:nvSpPr>
        <p:spPr>
          <a:xfrm>
            <a:off x="179280" y="5300640"/>
            <a:ext cx="8569440" cy="0"/>
          </a:xfrm>
          <a:prstGeom prst="line">
            <a:avLst/>
          </a:prstGeom>
          <a:ln w="57240">
            <a:solidFill>
              <a:srgbClr val="808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4869000"/>
            <a:ext cx="0" cy="792000"/>
          </a:xfrm>
          <a:prstGeom prst="line">
            <a:avLst/>
          </a:prstGeom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6300720" y="3645000"/>
            <a:ext cx="287280" cy="4176720"/>
          </a:xfrm>
          <a:custGeom>
            <a:avLst/>
            <a:gdLst>
              <a:gd name="textAreaLeft" fmla="*/ 0 w 287280"/>
              <a:gd name="textAreaRight" fmla="*/ 103680 w 28728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451"/>
                </a:lnTo>
                <a:cubicBezTo>
                  <a:pt x="10800" y="9351"/>
                  <a:pt x="16200" y="10251"/>
                  <a:pt x="21600" y="10251"/>
                </a:cubicBezTo>
                <a:cubicBezTo>
                  <a:pt x="16200" y="10251"/>
                  <a:pt x="10800" y="11151"/>
                  <a:pt x="10800" y="1205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2124000" y="3645000"/>
            <a:ext cx="287280" cy="4176720"/>
          </a:xfrm>
          <a:custGeom>
            <a:avLst/>
            <a:gdLst>
              <a:gd name="textAreaLeft" fmla="*/ 0 w 287280"/>
              <a:gd name="textAreaRight" fmla="*/ 103680 w 28728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451"/>
                </a:lnTo>
                <a:cubicBezTo>
                  <a:pt x="10800" y="9351"/>
                  <a:pt x="16200" y="10251"/>
                  <a:pt x="21600" y="10251"/>
                </a:cubicBezTo>
                <a:cubicBezTo>
                  <a:pt x="16200" y="10251"/>
                  <a:pt x="10800" y="11151"/>
                  <a:pt x="10800" y="1205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32360" y="5950080"/>
            <a:ext cx="205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до нашей эры</a:t>
            </a:r>
            <a:endParaRPr b="0" lang="en-US" sz="20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23000" y="595800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наша эра</a:t>
            </a:r>
            <a:endParaRPr b="0" lang="en-US" sz="20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80000" y="5084640"/>
            <a:ext cx="0" cy="360360"/>
          </a:xfrm>
          <a:prstGeom prst="line">
            <a:avLst/>
          </a:prstGeom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59280" y="5084640"/>
            <a:ext cx="0" cy="360360"/>
          </a:xfrm>
          <a:prstGeom prst="line">
            <a:avLst/>
          </a:prstGeom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35640" y="5084640"/>
            <a:ext cx="0" cy="360360"/>
          </a:xfrm>
          <a:prstGeom prst="line">
            <a:avLst/>
          </a:prstGeom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2000" y="5084640"/>
            <a:ext cx="0" cy="360360"/>
          </a:xfrm>
          <a:prstGeom prst="line">
            <a:avLst/>
          </a:prstGeom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516720" y="5084640"/>
            <a:ext cx="0" cy="360360"/>
          </a:xfrm>
          <a:prstGeom prst="line">
            <a:avLst/>
          </a:prstGeom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5084640"/>
            <a:ext cx="0" cy="360360"/>
          </a:xfrm>
          <a:prstGeom prst="line">
            <a:avLst/>
          </a:prstGeom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71640" y="5084640"/>
            <a:ext cx="0" cy="360360"/>
          </a:xfrm>
          <a:prstGeom prst="line">
            <a:avLst/>
          </a:prstGeom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5084640"/>
            <a:ext cx="0" cy="360360"/>
          </a:xfrm>
          <a:prstGeom prst="line">
            <a:avLst/>
          </a:prstGeom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48400" y="4653000"/>
            <a:ext cx="4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2500"/>
                </a:solidFill>
                <a:latin typeface="Garamond"/>
              </a:rPr>
              <a:t>IV</a:t>
            </a:r>
            <a:endParaRPr b="0" lang="en-US" sz="18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4653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2500"/>
                </a:solidFill>
                <a:latin typeface="Garamond"/>
              </a:rPr>
              <a:t>III</a:t>
            </a:r>
            <a:endParaRPr b="0" lang="en-US" sz="18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32720" y="465300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2500"/>
                </a:solidFill>
                <a:latin typeface="Garamond"/>
              </a:rPr>
              <a:t>II</a:t>
            </a:r>
            <a:endParaRPr b="0" lang="en-US" sz="18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36360" y="4653000"/>
            <a:ext cx="2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2500"/>
                </a:solidFill>
                <a:latin typeface="Garamond"/>
              </a:rPr>
              <a:t>I</a:t>
            </a:r>
            <a:endParaRPr b="0" lang="en-US" sz="18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16360" y="4653000"/>
            <a:ext cx="2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2500"/>
                </a:solidFill>
                <a:latin typeface="Garamond"/>
              </a:rPr>
              <a:t>I</a:t>
            </a:r>
            <a:endParaRPr b="0" lang="en-US" sz="18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93440" y="465300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2500"/>
                </a:solidFill>
                <a:latin typeface="Garamond"/>
              </a:rPr>
              <a:t>II</a:t>
            </a:r>
            <a:endParaRPr b="0" lang="en-US" sz="18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4653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2500"/>
                </a:solidFill>
                <a:latin typeface="Garamond"/>
              </a:rPr>
              <a:t>III</a:t>
            </a:r>
            <a:endParaRPr b="0" lang="en-US" sz="18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69840" y="4653000"/>
            <a:ext cx="4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2500"/>
                </a:solidFill>
                <a:latin typeface="Garamond"/>
              </a:rPr>
              <a:t>IV</a:t>
            </a:r>
            <a:endParaRPr b="0" lang="en-US" sz="18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1125360"/>
            <a:ext cx="8713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Исторические эпохи – делятся</a:t>
            </a: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на более короткие отрезки, которые называются </a:t>
            </a: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«века»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или </a:t>
            </a: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«столетия».</a:t>
            </a:r>
            <a:endParaRPr b="0" lang="en-US" sz="2800" spc="-1" strike="noStrike">
              <a:solidFill>
                <a:srgbClr val="4b25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I</a:t>
            </a: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 – 1 век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VI</a:t>
            </a: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 – 6 век</a:t>
            </a:r>
            <a:endParaRPr b="0" lang="en-US" sz="2800" spc="-1" strike="noStrike">
              <a:solidFill>
                <a:srgbClr val="4b25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II</a:t>
            </a: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 – 2 век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VII</a:t>
            </a: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 – 7 век</a:t>
            </a:r>
            <a:endParaRPr b="0" lang="en-US" sz="2800" spc="-1" strike="noStrike">
              <a:solidFill>
                <a:srgbClr val="4b25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III</a:t>
            </a: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 – 3 век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VIII</a:t>
            </a: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 – 8 век</a:t>
            </a:r>
            <a:endParaRPr b="0" lang="en-US" sz="2800" spc="-1" strike="noStrike">
              <a:solidFill>
                <a:srgbClr val="4b25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IV</a:t>
            </a: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 – 4 век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IX</a:t>
            </a: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 – 9 век</a:t>
            </a:r>
            <a:endParaRPr b="0" lang="en-US" sz="2800" spc="-1" strike="noStrike">
              <a:solidFill>
                <a:srgbClr val="4b25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V</a:t>
            </a: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 – 5 век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X</a:t>
            </a: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 – 10 век</a:t>
            </a:r>
            <a:endParaRPr b="0" lang="en-US" sz="2800" spc="-1" strike="noStrike">
              <a:solidFill>
                <a:srgbClr val="4b25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2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Год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9" name=""/>
          <p:cNvSpPr/>
          <p:nvPr/>
        </p:nvSpPr>
        <p:spPr>
          <a:xfrm>
            <a:off x="-267480" y="1052640"/>
            <a:ext cx="93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Века делятся на </a:t>
            </a: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«года».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Один век равен </a:t>
            </a: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100 годам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9280" y="5300640"/>
            <a:ext cx="8569440" cy="0"/>
          </a:xfrm>
          <a:prstGeom prst="line">
            <a:avLst/>
          </a:prstGeom>
          <a:ln w="57240">
            <a:solidFill>
              <a:srgbClr val="808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68360" y="5084640"/>
            <a:ext cx="0" cy="360360"/>
          </a:xfrm>
          <a:prstGeom prst="line">
            <a:avLst/>
          </a:prstGeom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16720" y="5084640"/>
            <a:ext cx="0" cy="360360"/>
          </a:xfrm>
          <a:prstGeom prst="line">
            <a:avLst/>
          </a:prstGeom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1486800"/>
            <a:ext cx="792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Каждый век начинается в 1-й день 1-го года столетия и заканчивается последним днем года с двумя нулями на конце . </a:t>
            </a:r>
            <a:endParaRPr b="0" lang="en-US" sz="28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60440" y="4508640"/>
            <a:ext cx="218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1 января 1901г.</a:t>
            </a:r>
            <a:endParaRPr b="0" lang="en-US" sz="20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17560" y="4581360"/>
            <a:ext cx="24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31 декабря 2000г.</a:t>
            </a:r>
            <a:endParaRPr b="0" lang="en-US" sz="20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4213080" y="3645000"/>
            <a:ext cx="287280" cy="4176720"/>
          </a:xfrm>
          <a:custGeom>
            <a:avLst/>
            <a:gdLst>
              <a:gd name="textAreaLeft" fmla="*/ 0 w 287280"/>
              <a:gd name="textAreaRight" fmla="*/ 103680 w 28728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451"/>
                </a:lnTo>
                <a:cubicBezTo>
                  <a:pt x="10800" y="9351"/>
                  <a:pt x="16200" y="10251"/>
                  <a:pt x="21600" y="10251"/>
                </a:cubicBezTo>
                <a:cubicBezTo>
                  <a:pt x="16200" y="10251"/>
                  <a:pt x="10800" y="11151"/>
                  <a:pt x="10800" y="1205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40360" y="6021360"/>
            <a:ext cx="24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b2500"/>
                </a:solidFill>
                <a:latin typeface="Garamond"/>
              </a:rPr>
              <a:t>100 лет = 1 век</a:t>
            </a:r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17840" y="306864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b2500"/>
                </a:solidFill>
                <a:latin typeface="Garamond"/>
              </a:rPr>
              <a:t>История </a:t>
            </a:r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24360" y="328464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b2500"/>
                </a:solidFill>
                <a:latin typeface="Garamond"/>
              </a:rPr>
              <a:t>Эпоха</a:t>
            </a:r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58360" y="3429000"/>
            <a:ext cx="7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b2500"/>
                </a:solidFill>
                <a:latin typeface="Garamond"/>
              </a:rPr>
              <a:t>Век</a:t>
            </a:r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34520" y="36450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b2500"/>
                </a:solidFill>
                <a:latin typeface="Garamond"/>
              </a:rPr>
              <a:t>Год</a:t>
            </a:r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26080" y="386064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b2500"/>
                </a:solidFill>
                <a:latin typeface="Garamond"/>
              </a:rPr>
              <a:t>Месяц</a:t>
            </a:r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567920" y="41497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b2500"/>
                </a:solidFill>
                <a:latin typeface="Garamond"/>
              </a:rPr>
              <a:t>День</a:t>
            </a:r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66200" y="321300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b2500"/>
                </a:solidFill>
                <a:latin typeface="Garamond"/>
              </a:rPr>
              <a:t>Эра</a:t>
            </a:r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Как определить век?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2500"/>
                </a:solidFill>
                <a:latin typeface="Garamond"/>
              </a:rPr>
              <a:t>1567 год = ?</a:t>
            </a:r>
            <a:r>
              <a:rPr b="1" lang="ru-RU" sz="32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4b2500"/>
                </a:solidFill>
                <a:latin typeface="Garamond"/>
              </a:rPr>
              <a:t>234 год = ?</a:t>
            </a:r>
            <a:r>
              <a:rPr b="1" lang="ru-RU" sz="32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4b2500"/>
                </a:solidFill>
                <a:latin typeface="Garamond"/>
              </a:rPr>
              <a:t>25 год = ?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198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198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b2500"/>
                </a:solidFill>
                <a:latin typeface="Garamond"/>
              </a:rPr>
              <a:t> </a:t>
            </a:r>
            <a:endParaRPr b="0" lang="en-US" sz="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234936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b2500"/>
                </a:solidFill>
                <a:latin typeface="Garamond"/>
              </a:rPr>
              <a:t>1567 =15 + 1 = 16</a:t>
            </a:r>
            <a:endParaRPr b="0" lang="en-US" sz="3600" spc="-1" strike="noStrike">
              <a:solidFill>
                <a:srgbClr val="4b25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4b2500"/>
                </a:solidFill>
                <a:latin typeface="Garamond"/>
              </a:rPr>
              <a:t>234 = 2 + 1 = 3</a:t>
            </a:r>
            <a:endParaRPr b="0" lang="en-US" sz="3600" spc="-1" strike="noStrike">
              <a:solidFill>
                <a:srgbClr val="4b25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4b2500"/>
                </a:solidFill>
                <a:latin typeface="Garamond"/>
              </a:rPr>
              <a:t>    </a:t>
            </a:r>
            <a:r>
              <a:rPr b="1" lang="ru-RU" sz="3600" spc="-1" strike="noStrike">
                <a:solidFill>
                  <a:srgbClr val="4b2500"/>
                </a:solidFill>
                <a:latin typeface="Garamond"/>
              </a:rPr>
              <a:t>25 = 1</a:t>
            </a:r>
            <a:endParaRPr b="0" lang="en-US" sz="36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4365720"/>
            <a:ext cx="7775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125 год = ?</a:t>
            </a: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1999 год = ? </a:t>
            </a: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 7 год = ?</a:t>
            </a: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4b25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1240 год = ? </a:t>
            </a: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1185 год = ?</a:t>
            </a: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374 год = ?</a:t>
            </a:r>
            <a:r>
              <a:rPr b="1" i="1" lang="ru-RU" sz="18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1" i="1" lang="ru-RU" sz="1800" spc="-1" strike="noStrike">
                <a:solidFill>
                  <a:srgbClr val="4b25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4b25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74 год = ?</a:t>
            </a: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2007 год = ?</a:t>
            </a: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2125 год = ?</a:t>
            </a:r>
            <a:endParaRPr b="0" lang="en-US" sz="2800" spc="-1" strike="noStrike">
              <a:solidFill>
                <a:srgbClr val="4b25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2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Год, которого нет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0" name=""/>
          <p:cNvSpPr/>
          <p:nvPr/>
        </p:nvSpPr>
        <p:spPr>
          <a:xfrm>
            <a:off x="179280" y="3716280"/>
            <a:ext cx="8569440" cy="0"/>
          </a:xfrm>
          <a:prstGeom prst="line">
            <a:avLst/>
          </a:prstGeom>
          <a:ln w="57240">
            <a:solidFill>
              <a:srgbClr val="808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27640" y="3357720"/>
            <a:ext cx="0" cy="792000"/>
          </a:xfrm>
          <a:prstGeom prst="line">
            <a:avLst/>
          </a:prstGeom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2195640" y="2204640"/>
            <a:ext cx="287280" cy="4176720"/>
          </a:xfrm>
          <a:custGeom>
            <a:avLst/>
            <a:gdLst>
              <a:gd name="textAreaLeft" fmla="*/ 0 w 287280"/>
              <a:gd name="textAreaRight" fmla="*/ 103680 w 28728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451"/>
                </a:lnTo>
                <a:cubicBezTo>
                  <a:pt x="10800" y="9351"/>
                  <a:pt x="16200" y="10251"/>
                  <a:pt x="21600" y="10251"/>
                </a:cubicBezTo>
                <a:cubicBezTo>
                  <a:pt x="16200" y="10251"/>
                  <a:pt x="10800" y="11151"/>
                  <a:pt x="10800" y="1205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6372360" y="2204640"/>
            <a:ext cx="287280" cy="4176720"/>
          </a:xfrm>
          <a:custGeom>
            <a:avLst/>
            <a:gdLst>
              <a:gd name="textAreaLeft" fmla="*/ 0 w 287280"/>
              <a:gd name="textAreaRight" fmla="*/ 103680 w 28728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451"/>
                </a:lnTo>
                <a:cubicBezTo>
                  <a:pt x="10800" y="9351"/>
                  <a:pt x="16200" y="10251"/>
                  <a:pt x="21600" y="10251"/>
                </a:cubicBezTo>
                <a:cubicBezTo>
                  <a:pt x="16200" y="10251"/>
                  <a:pt x="10800" y="11151"/>
                  <a:pt x="10800" y="1205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03640" y="4581360"/>
            <a:ext cx="205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до нашей эры</a:t>
            </a:r>
            <a:endParaRPr b="0" lang="en-US" sz="20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87880" y="458136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наша эра</a:t>
            </a:r>
            <a:endParaRPr b="0" lang="en-US" sz="20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95640" y="3500280"/>
            <a:ext cx="0" cy="360360"/>
          </a:xfrm>
          <a:prstGeom prst="line">
            <a:avLst/>
          </a:prstGeom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3500280"/>
            <a:ext cx="0" cy="360360"/>
          </a:xfrm>
          <a:prstGeom prst="line">
            <a:avLst/>
          </a:prstGeom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52360" y="3141720"/>
            <a:ext cx="2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2500"/>
                </a:solidFill>
                <a:latin typeface="Garamond"/>
              </a:rPr>
              <a:t>I</a:t>
            </a:r>
            <a:endParaRPr b="0" lang="en-US" sz="18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17440" y="3141720"/>
            <a:ext cx="2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2500"/>
                </a:solidFill>
                <a:latin typeface="Garamond"/>
              </a:rPr>
              <a:t>I</a:t>
            </a:r>
            <a:endParaRPr b="0" lang="en-US" sz="18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16360" y="3500280"/>
            <a:ext cx="0" cy="360360"/>
          </a:xfrm>
          <a:prstGeom prst="line">
            <a:avLst/>
          </a:prstGeom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88000" y="3500280"/>
            <a:ext cx="0" cy="360360"/>
          </a:xfrm>
          <a:prstGeom prst="line">
            <a:avLst/>
          </a:prstGeom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51120" y="3029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84800" y="314172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b2500"/>
                </a:solidFill>
                <a:latin typeface="Garamond"/>
              </a:rPr>
              <a:t>10 г.</a:t>
            </a:r>
            <a:endParaRPr b="0" lang="en-US" sz="18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93800" y="314172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b2500"/>
                </a:solidFill>
                <a:latin typeface="Garamond"/>
              </a:rPr>
              <a:t>20 г.</a:t>
            </a:r>
            <a:endParaRPr b="0" lang="en-US" sz="18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16360" y="3716280"/>
            <a:ext cx="3671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8320" y="1413000"/>
            <a:ext cx="241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2500"/>
                </a:solidFill>
                <a:latin typeface="Garamond"/>
              </a:rPr>
              <a:t>10 + 20 = 30</a:t>
            </a:r>
            <a:endParaRPr b="0" lang="en-US" sz="32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69200" y="1413000"/>
            <a:ext cx="153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aramond"/>
              </a:rPr>
              <a:t>- 1 = 29</a:t>
            </a:r>
            <a:endParaRPr b="0" lang="en-US" sz="3200" spc="-1" strike="noStrike">
              <a:solidFill>
                <a:srgbClr val="4b25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Решаем задачки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1. Сколько лет прожил Октавиан Август, если он родился в 63 году до н.э. и умер в 14 году н.э.?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14 – (-63) </a:t>
            </a:r>
            <a:r>
              <a:rPr b="0" lang="ru-RU" sz="3200" spc="-1" strike="noStrike">
                <a:solidFill>
                  <a:srgbClr val="ff3300"/>
                </a:solidFill>
                <a:latin typeface="Garamond"/>
              </a:rPr>
              <a:t>– 1</a:t>
            </a: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 = 14 + 63 </a:t>
            </a:r>
            <a:r>
              <a:rPr b="0" lang="ru-RU" sz="3200" spc="-1" strike="noStrike">
                <a:solidFill>
                  <a:srgbClr val="ff3300"/>
                </a:solidFill>
                <a:latin typeface="Garamond"/>
              </a:rPr>
              <a:t>– 1</a:t>
            </a: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 = 76 лет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2. Когда будет 2000-ая годовщина сражения при мысе Акции? (31 год до н.э.)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(-31 + 2000) </a:t>
            </a:r>
            <a:r>
              <a:rPr b="0" lang="ru-RU" sz="3200" spc="-1" strike="noStrike">
                <a:solidFill>
                  <a:srgbClr val="ff3300"/>
                </a:solidFill>
                <a:latin typeface="Garamond"/>
              </a:rPr>
              <a:t>+ 1</a:t>
            </a: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 = 1969 </a:t>
            </a:r>
            <a:r>
              <a:rPr b="0" lang="ru-RU" sz="3200" spc="-1" strike="noStrike">
                <a:solidFill>
                  <a:srgbClr val="ff3300"/>
                </a:solidFill>
                <a:latin typeface="Garamond"/>
              </a:rPr>
              <a:t>+</a:t>
            </a: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Garamond"/>
              </a:rPr>
              <a:t>1</a:t>
            </a: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 = 1970 год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Рабочая тетрадь: с.17, задания 18 - 21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3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3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Запомните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i="1" lang="ru-RU" sz="4000" spc="-1" strike="noStrike">
                <a:solidFill>
                  <a:srgbClr val="4b2500"/>
                </a:solidFill>
                <a:latin typeface="Garamond"/>
              </a:rPr>
              <a:t>Хронология</a:t>
            </a:r>
            <a:r>
              <a:rPr b="0" lang="ru-RU" sz="4000" spc="-1" strike="noStrike">
                <a:solidFill>
                  <a:srgbClr val="4b2500"/>
                </a:solidFill>
                <a:latin typeface="Garamond"/>
              </a:rPr>
              <a:t> – это последовательность исторических событий во времени.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0" lang="ru-RU" sz="4000" spc="-1" strike="noStrike">
                <a:solidFill>
                  <a:srgbClr val="4b2500"/>
                </a:solidFill>
                <a:latin typeface="Garamond"/>
              </a:rPr>
              <a:t>	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0" lang="ru-RU" sz="40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0" lang="ru-RU" sz="4000" spc="-1" strike="noStrike">
                <a:solidFill>
                  <a:srgbClr val="4b2500"/>
                </a:solidFill>
                <a:latin typeface="Garamond"/>
              </a:rPr>
              <a:t>История делится на </a:t>
            </a:r>
            <a:r>
              <a:rPr b="1" i="1" lang="ru-RU" sz="4000" spc="-1" strike="noStrike">
                <a:solidFill>
                  <a:srgbClr val="4b2500"/>
                </a:solidFill>
                <a:latin typeface="Garamond"/>
              </a:rPr>
              <a:t>эры, эпохи, века, годы, месяцы, дни.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07-09-24T03:55:28Z</dcterms:modified>
  <cp:revision>7</cp:revision>
  <dc:subject/>
  <dc:title>PowerPoint Presentation</dc:title>
</cp:coreProperties>
</file>