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AB89-D4D7-473A-A1A0-E4015409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54DF0-9481-4F82-9A19-1E3E41CA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C32B-D456-498F-B120-BD9DA1E7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89AC-777C-439F-92DB-D77A084B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911D-DE7C-44FB-A4EA-D4E924B9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2BBC-C063-4C0B-A665-E8E459DE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33D5-2A51-4B9C-8F39-1ED1B483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4AFE-08B3-4BD5-9859-7C98ACA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ECD8A-F0AA-466A-9FD4-CCDA090B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C982-E674-4AD8-846B-28F2418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A690-9A2B-4A9B-BD21-21F1D65D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4FD9-CB18-4FF1-86A6-E1E376A1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802F-4107-45D9-94A6-BB245C1C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A279-7774-4730-A484-DDA777A2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E95D-D219-47EE-8487-9DF81CF7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D1E7-1CDD-4422-96A7-D04D6CD7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723F-213D-4C56-BAC9-236F7AEA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004F6-3302-4978-B720-1A2D4E79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C34FB-E35A-4687-9D07-C5D145EA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3590-7FB8-4BAA-8DAC-D604DE02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BE387-0959-402C-8570-4D0B5C50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DD10-D245-4BEA-A8A8-C065D49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0214-FBDC-4EAF-B706-58729795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09B4-3513-4466-89AD-A0AB359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40B0-807A-4238-9F97-D622CAB337DA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A035-84F5-444B-98AF-40CECE652DA5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736640"/>
            <a:ext cx="78501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Счёт лет в </a:t>
            </a:r>
            <a:br>
              <a:rPr sz="7200"/>
            </a:b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ru-RU" sz="7200" spc="-1" strike="noStrike">
                <a:solidFill>
                  <a:srgbClr val="a69564"/>
                </a:solidFill>
                <a:latin typeface="Garamond"/>
              </a:rPr>
              <a:t>истории</a:t>
            </a:r>
            <a:endParaRPr b="1" lang="en-US" sz="7200" spc="-1" strike="noStrike">
              <a:solidFill>
                <a:srgbClr val="a69564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такое хронология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1970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Хронология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(наука о времени)– 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это последовательность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исторических событий во времени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56000" y="486900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2808000" cy="2320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5400000">
            <a:off x="630072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212400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23000" y="5958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360" y="595008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Что такое хронология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907920"/>
          <a:ext cx="2411280" cy="32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24112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47640" y="1125360"/>
            <a:ext cx="251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132000" y="1341360"/>
            <a:ext cx="2511720" cy="3529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18320" y="479736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Древний мир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8960" y="522936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Средние век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6120" y="5661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Новое время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59960" y="6021360"/>
            <a:ext cx="29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Новейшее время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788000" y="1700280"/>
            <a:ext cx="2592360" cy="36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516720" y="2133720"/>
          <a:ext cx="2627280" cy="352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6720" y="2133720"/>
                    <a:ext cx="2627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-180000" y="436572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ервобытность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Век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86900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630072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212400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360" y="595008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3000" y="595800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5928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200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48400" y="4653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720" y="4653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6360" y="465300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16360" y="4653000"/>
            <a:ext cx="2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93440" y="46530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I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69840" y="465300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V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125360"/>
            <a:ext cx="871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сторические эпохи – делятся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а более короткие отрезки, которые называются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века»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или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столетия»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1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6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2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7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3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III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8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V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4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X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9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5 век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X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 – 10 век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Год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-267480" y="1052640"/>
            <a:ext cx="9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ека делятся на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«года».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Один век равен </a:t>
            </a: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100 годам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530064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16720" y="508464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1486800"/>
            <a:ext cx="792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Каждый век начинается в 1-й день 1-го года столетия и заканчивается последним днем года с двумя нулями на конце . 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0440" y="4508640"/>
            <a:ext cx="218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1 января 1901г.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17560" y="458136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31 декабря 2000г.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4213080" y="364500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40360" y="602136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100 лет = 1 век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17840" y="30686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История 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32846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Эпох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58360" y="34290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Век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34520" y="3645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Год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26080" y="3860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Месяц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67920" y="4149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День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66200" y="321300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b2500"/>
                </a:solidFill>
                <a:latin typeface="Garamond"/>
              </a:rPr>
              <a:t>Эра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Как определить век?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1567 год = ?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234 год = ?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25 год = 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198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198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234936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1567 =15 + 1 = 16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234 = 2 + 1 = 3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1" lang="ru-RU" sz="3600" spc="-1" strike="noStrike">
                <a:solidFill>
                  <a:srgbClr val="4b2500"/>
                </a:solidFill>
                <a:latin typeface="Garamond"/>
              </a:rPr>
              <a:t>25 = 1</a:t>
            </a:r>
            <a:endParaRPr b="0" lang="en-US" sz="36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365720"/>
            <a:ext cx="7775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25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999 год = ?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 7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240 год = ?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1185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374 год = ?</a:t>
            </a:r>
            <a:r>
              <a:rPr b="1" i="1" lang="ru-RU" sz="1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i="1" lang="ru-RU" sz="18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74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2007 год = ?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2800" spc="-1" strike="noStrike">
                <a:solidFill>
                  <a:srgbClr val="4b2500"/>
                </a:solidFill>
                <a:latin typeface="Garamond"/>
              </a:rPr>
              <a:t>2125 год = ?</a:t>
            </a: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Год, которого нет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3716280"/>
            <a:ext cx="8569440" cy="0"/>
          </a:xfrm>
          <a:prstGeom prst="line">
            <a:avLst/>
          </a:prstGeom>
          <a:ln w="57240">
            <a:solidFill>
              <a:srgbClr val="808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3357720"/>
            <a:ext cx="0" cy="79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2195640" y="220464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372360" y="2204640"/>
            <a:ext cx="287280" cy="4176720"/>
          </a:xfrm>
          <a:custGeom>
            <a:avLst/>
            <a:gdLst>
              <a:gd name="textAreaLeft" fmla="*/ 0 w 287280"/>
              <a:gd name="textAreaRight" fmla="*/ 103680 w 28728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451"/>
                </a:lnTo>
                <a:cubicBezTo>
                  <a:pt x="10800" y="9351"/>
                  <a:pt x="16200" y="10251"/>
                  <a:pt x="21600" y="10251"/>
                </a:cubicBezTo>
                <a:cubicBezTo>
                  <a:pt x="16200" y="10251"/>
                  <a:pt x="10800" y="11151"/>
                  <a:pt x="10800" y="1205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03640" y="4581360"/>
            <a:ext cx="20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до нашей эры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87880" y="458136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наша эра</a:t>
            </a:r>
            <a:endParaRPr b="0" lang="en-US" sz="20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360" y="314172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7440" y="314172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3500280"/>
            <a:ext cx="0" cy="360360"/>
          </a:xfrm>
          <a:prstGeom prst="line">
            <a:avLst/>
          </a:prstGeom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51120" y="3029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84800" y="314172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10 г.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93800" y="3141720"/>
            <a:ext cx="6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b2500"/>
                </a:solidFill>
                <a:latin typeface="Garamond"/>
              </a:rPr>
              <a:t>20 г.</a:t>
            </a:r>
            <a:endParaRPr b="0" lang="en-US" sz="18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16360" y="3716280"/>
            <a:ext cx="367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8320" y="1413000"/>
            <a:ext cx="24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2500"/>
                </a:solidFill>
                <a:latin typeface="Garamond"/>
              </a:rPr>
              <a:t>10 + 20 = 30</a:t>
            </a:r>
            <a:endParaRPr b="0" lang="en-US" sz="32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69200" y="1413000"/>
            <a:ext cx="15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- 1 = 29</a:t>
            </a:r>
            <a:endParaRPr b="0" lang="en-US" sz="32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Решаем задачки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. Сколько лет прожил Октавиан Август, если он родился в 63 году до н.э. и умер в 14 году н.э.?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14 – (-63)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–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4 + 63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–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76 ле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2. Когда будет 2000-ая годовщина сражения при мысе Акции? (31 год до н.э.)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(-31 + 2000)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+ 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969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Garamond"/>
              </a:rPr>
              <a:t>1</a:t>
            </a: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 = 1970 год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Рабочая тетрадь: с.17, задания 18 - 21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3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помните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1" i="1" lang="ru-RU" sz="4000" spc="-1" strike="noStrike">
                <a:solidFill>
                  <a:srgbClr val="4b2500"/>
                </a:solidFill>
                <a:latin typeface="Garamond"/>
              </a:rPr>
              <a:t>Хронология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 – это последовательность исторических событий во времени.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История делится на </a:t>
            </a:r>
            <a:r>
              <a:rPr b="1" i="1" lang="ru-RU" sz="4000" spc="-1" strike="noStrike">
                <a:solidFill>
                  <a:srgbClr val="4b2500"/>
                </a:solidFill>
                <a:latin typeface="Garamond"/>
              </a:rPr>
              <a:t>эры, эпохи, века, годы, месяцы, дни.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7-09-24T03:55:28Z</dcterms:modified>
  <cp:revision>7</cp:revision>
  <dc:subject/>
  <dc:title>PowerPoint Presentation</dc:title>
</cp:coreProperties>
</file>