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370-4257-4AF9-90F5-B4574330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D669-8EEF-49D9-B3F0-0B136DEF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D85-BF8F-43DE-817A-7D59B3E5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D40-1DC2-4B84-A159-A22805F6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0AF0-DD02-4B0E-99BA-F788FD9E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15F4-7DCC-4F31-8D3D-6E4407BC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DCB4-3E42-49A4-9F3F-A26CD6FC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E472-7D6A-4DC2-A8B5-71164DEB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F4BC-3A20-47D6-A081-AD7D119B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3D06-8ACB-44AD-835C-25EE5E20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613F-DA7F-4696-8889-B64D0862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8C98-4395-452E-97EA-52556D5A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70EF-2892-4B32-AF89-AE0FB93D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84DE-A5BC-451A-A189-97A28EE6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4C7C-10B9-4C94-AF35-5B8910CF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6949-5486-4DE7-916C-0BBCE041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8237-3186-44DB-8CC5-B42BF3E71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D628B-B3EC-445C-B469-966B2110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EDF0-BDFC-47DA-934B-3BF0667D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BC783-7561-4F56-B771-D92700D5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65319-1C7A-4FC4-B6FE-5EBBD4D7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ADC2F-79DF-401D-8A83-8FE4B0E7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9639-1097-41A4-8E0E-574B5247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04F78-ACCA-4F3B-88B3-A8331942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2AAC0-58CD-430C-84F6-BF418E2C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ABCCB-16C2-4B2B-8CC2-BABD230C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65A8C-34AA-44B5-804E-EC4619B4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56215-690D-4483-8D41-CD484F9E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CAC9D-3D19-4893-BBBE-F43E4F15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3C69E-8769-4AFE-B32D-C2E22B92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C0C20-39FC-4DB2-AF7C-78F65794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0617E-A99E-4190-8B97-9039390D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89865-FE5C-493D-8691-E091654E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E9D-B2AC-4828-B1D5-8838DCC8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31009-32CF-43E7-8D5E-5DE89F04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E7525-406C-4B92-90E5-8479AE5D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9A8A0-3FC9-42A4-8601-B3EFF25B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21D15-7CA1-46AD-9896-1C1F207C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52A77-75A5-43C0-BA80-8CE6A42D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F85CE-CB56-4C75-B59C-BFBB404D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7BF2C-6E2B-4CB9-8A7B-3B7F585C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3AE36-9DD1-4616-B3D8-D1970E69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00BBE-BCA4-46C5-93FD-A0FC0574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323-23F2-4997-9AAD-5F9C6463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CD40-E048-4EE7-AF08-2150841B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25D-1FEE-43AB-BD69-5D18AE64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259-66D3-4A03-BBEC-3EA543EE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4795-E9E9-403A-A317-0318A933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DBC25-6EF4-45EB-8387-A0550698E0D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430DF-C4B0-4854-82D9-2D24CEAF399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A7FED-13B1-48E8-A1A2-9FF8379CE85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CFEB9-A5AC-4FB6-9828-6383B454324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4800" spc="-1" strike="noStrike">
                <a:solidFill>
                  <a:srgbClr val="002060"/>
                </a:solidFill>
                <a:latin typeface="Trebuchet MS"/>
              </a:rPr>
              <a:t>Проект</a:t>
            </a:r>
            <a:r>
              <a:rPr b="0" lang="uk-UA" sz="4800" spc="-1" strike="noStrike">
                <a:solidFill>
                  <a:srgbClr val="002060"/>
                </a:solidFill>
                <a:latin typeface="Trebuchet MS"/>
              </a:rPr>
              <a:t> </a:t>
            </a:r>
            <a:br>
              <a:rPr sz="4800"/>
            </a:br>
            <a:r>
              <a:rPr b="0" lang="uk-UA" sz="6000" spc="-1" strike="noStrike">
                <a:solidFill>
                  <a:srgbClr val="002060"/>
                </a:solidFill>
                <a:latin typeface="Monotype Corsiva"/>
              </a:rPr>
              <a:t>“Химия вокруг нас ”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505320" cy="2992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304920" y="44197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2800" spc="-1" strike="noStrike">
                <a:solidFill>
                  <a:srgbClr val="2c3c43"/>
                </a:solidFill>
                <a:latin typeface="Times New Roman"/>
              </a:rPr>
              <a:t>Выполнила учитель хими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2800" spc="-1" strike="noStrike">
                <a:solidFill>
                  <a:srgbClr val="2c3c43"/>
                </a:solidFill>
                <a:latin typeface="Monotype Corsiva"/>
              </a:rPr>
              <a:t>Качурина Аурика Анатольевн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Любой современный молодой человек пользуеться косметико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400" spc="-1" strike="noStrike">
                <a:solidFill>
                  <a:srgbClr val="404040"/>
                </a:solidFill>
                <a:latin typeface="Trebuchet MS"/>
              </a:rPr>
              <a:t>Косметика 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– происходит од греческого, что означает искусство украшать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Это лаки для волос и ногтей, краска для ресниц и волос, помада для губ, шампуни и др…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Это зубные пасты, дезодоранты, без которых человек не может обойтись ни одного дн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Все они созданы при помощ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разных химических соединен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6324480" y="4876920"/>
            <a:ext cx="2819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886200" cy="3276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2"/>
          <a:stretch/>
        </p:blipFill>
        <p:spPr>
          <a:xfrm>
            <a:off x="0" y="32004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"/>
          <p:cNvPicPr/>
          <p:nvPr/>
        </p:nvPicPr>
        <p:blipFill>
          <a:blip r:embed="rId3"/>
          <a:stretch/>
        </p:blipFill>
        <p:spPr>
          <a:xfrm>
            <a:off x="7315200" y="0"/>
            <a:ext cx="1828800" cy="3200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"/>
          <p:cNvPicPr/>
          <p:nvPr/>
        </p:nvPicPr>
        <p:blipFill>
          <a:blip r:embed="rId4"/>
          <a:stretch/>
        </p:blipFill>
        <p:spPr>
          <a:xfrm>
            <a:off x="3886200" y="3200400"/>
            <a:ext cx="5257800" cy="2971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5"/>
          <a:stretch/>
        </p:blipFill>
        <p:spPr>
          <a:xfrm>
            <a:off x="3886200" y="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6840" y="914400"/>
            <a:ext cx="609588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Тяжело сказать, когда люди начали чистить зубы? Но есть сведения, что одним из средств  для чистки зубов была табачная зол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Сейчас зубные пасты имеют многокомпонентные составные. Они бывают разные по назначению: гигиенические и лечебно  – профилактические. Первые – очищают и освежают, а другие – кроме того еще и выполняют профилактическое действие и могут лечить зубы и полость рт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3048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6553080" y="3048120"/>
            <a:ext cx="2590920" cy="38098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10666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400" spc="-1" strike="noStrike">
                <a:solidFill>
                  <a:srgbClr val="2c3c43"/>
                </a:solidFill>
                <a:latin typeface="Trebuchet MS"/>
              </a:rPr>
              <a:t>Зубная паста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ДЕЗОДОРАНТЫ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599840"/>
            <a:ext cx="4876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400" spc="-1" strike="noStrike">
                <a:solidFill>
                  <a:srgbClr val="404040"/>
                </a:solidFill>
                <a:latin typeface="Trebuchet MS"/>
              </a:rPr>
              <a:t>Дезодоранты 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– это вещества, которые уничтожают неприятный запах пот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Мы знаем, что человек потеет. С потом из организма выводятся продукты метаболизма: мочевина, мочевая кислота, аммиак, некоторые жирные кислоты и друго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Неприятный запах связан с бактериальным разложением его составных и с окислением их кислородом воздух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5257800" y="11430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2606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60948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Строители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 не могут обойтись без знаний по химии. Делая цементный расствор (цемент, вода, песок), он должен знать, какие химические процессы вызывают твердения цемента, чтобы изготовить цемент необходимой марк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4572000" y="3276720"/>
            <a:ext cx="3657600" cy="4190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3657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   </a:t>
            </a:r>
            <a:r>
              <a:rPr b="1" i="1" lang="uk-UA" sz="4000" spc="-1" strike="noStrike">
                <a:solidFill>
                  <a:srgbClr val="404040"/>
                </a:solidFill>
                <a:latin typeface="Trebuchet MS"/>
              </a:rPr>
              <a:t>Соль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Trebuchet MS"/>
              </a:rPr>
              <a:t>Ученые установили, если почву пропитать расствором соли, он не будет пропускать воду. Это открытия начали использовать во время строительств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029200" y="3944880"/>
            <a:ext cx="4114800" cy="2913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34290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Если на дно водоема положить слой из земли пропитанной солью, то просочения воды не осуществляетс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419076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Строители используют соль для устранения замерзания зимой земли и превращения ее на твердый камень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Для этого участок почвы, который планируют выбирать, осенью густо посыпают солью. В этом случае в сильные морозы данные участки земли остаются мягким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362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6840" y="457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В металургии при помощи химических реакций превращают руду на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62940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чугу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сталь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352680" cy="3333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1981080" y="3733920"/>
            <a:ext cx="35816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Широко простирает химия руки свои в дела человеческие…. Куда не посмотришь, куда не оглянешься, везде встают перед глазами нашими успехи ее стара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                                            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М. В. Ломонос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429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91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которые необходимы для строительства машин, верстаков и разных металлических издели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4647960" cy="3098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2"/>
          <a:stretch/>
        </p:blipFill>
        <p:spPr>
          <a:xfrm>
            <a:off x="5638680" y="3124080"/>
            <a:ext cx="2895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6200" y="533160"/>
            <a:ext cx="449568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Большое значенния имеет химия для охраны здоровья люд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2286000" y="3505320"/>
            <a:ext cx="5191200" cy="3054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04920" y="304560"/>
            <a:ext cx="8610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Глубоко проникает химия и в сельское хозяйство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Растениям необходимы минеральные удобрения, вода, воздух, средства защиты от вредителей и болезн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2819520" y="3048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                                </a:t>
            </a:r>
            <a:r>
              <a:rPr b="1" lang="uk-UA" sz="4400" spc="-1" strike="noStrike">
                <a:solidFill>
                  <a:srgbClr val="90c226"/>
                </a:solidFill>
                <a:latin typeface="Trebuchet MS"/>
              </a:rPr>
              <a:t>Вывод: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Продукты химии и химиеские процессы используются везде: в промышленности, сельском хозяйстве, на транспорте, в медицине, в строительстве, в быту и др …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Знания химии необходимы всем , независимо от того, какую профессию  себе человек   выбирает, поскольку химические знания широко используются в практической деяльности человека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Теперь мы знаем, что быт современного человека без химии не возможен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Ключевые вопросы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90c226"/>
                </a:solidFill>
                <a:latin typeface="Monotype Corsiva"/>
              </a:rPr>
              <a:t>Возможен ли  быт современного человека без химии?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2514600" y="3200400"/>
            <a:ext cx="4191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Тематические вопросы 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Monotype Corsiva"/>
              </a:rPr>
              <a:t>Какую ценность в жизни человека  имеют химические веществ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Monotype Corsiva"/>
              </a:rPr>
              <a:t>Какую роль играют химические вещеКакое место среди наук о природе занимает химия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Monotype Corsiva"/>
              </a:rPr>
              <a:t>ства в повседневной жизни человека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Monotype Corsiva"/>
              </a:rPr>
              <a:t>Как  могу я применить эти знанния в своей жизни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90c226"/>
                </a:solidFill>
                <a:latin typeface="Trebuchet MS"/>
              </a:rPr>
              <a:t>Цели и задачи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Trebuchet MS"/>
              </a:rPr>
              <a:t>В своей работе мы ставили такие цели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Trebuchet MS"/>
              </a:rPr>
              <a:t>Выяснить, какое место химии среди наук о природе?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Trebuchet MS"/>
              </a:rPr>
              <a:t>Довести необходимость использования  химических веществ в повседненной жизни челове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Trebuchet MS"/>
              </a:rPr>
              <a:t>Выяснить, в яких отрослях применяется хим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838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800" spc="-1" strike="noStrike">
                <a:solidFill>
                  <a:srgbClr val="404040"/>
                </a:solidFill>
                <a:latin typeface="Trebuchet MS"/>
              </a:rPr>
              <a:t>Химия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 – сравнительно молодая наука, является нашим незаменимым помошником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Она принадлежит к естественным  наукам и изучает природу, весь окружающий мир и прежде всего – вещества и  их превраще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Все, что нас окружает, и мы сами - состоим из вещест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886200" y="472428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762120" y="228600"/>
            <a:ext cx="17524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Число самых популярных химических веществ перевалило далеко за тысячу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Очень тяжело найти ту область, где бы не использовались те или другие химические вещества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За примерами далеко ходить не надо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866920" y="685800"/>
            <a:ext cx="2971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Уничтожить комаров, мух, тараканов, гр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ы</a:t>
            </a:r>
            <a:r>
              <a:rPr b="0" lang="uk-UA" sz="2800" spc="-1" strike="noStrike">
                <a:solidFill>
                  <a:srgbClr val="404040"/>
                </a:solidFill>
                <a:latin typeface="Trebuchet MS"/>
              </a:rPr>
              <a:t>зунов поможет бытовая химия, которая знакома каждой хозяйк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1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105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0880" y="228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Моющие средства, стиральные     порошки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полироли,средства по уходу  за полом, и др…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Как же без них обеспечить чистоту в доме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0" y="4114800"/>
            <a:ext cx="3657600" cy="327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2"/>
          <a:stretch/>
        </p:blipFill>
        <p:spPr>
          <a:xfrm>
            <a:off x="3581280" y="411480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3"/>
          <a:stretch/>
        </p:blipFill>
        <p:spPr>
          <a:xfrm>
            <a:off x="7467480" y="4114800"/>
            <a:ext cx="1676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урика Качурина</cp:lastModifiedBy>
  <dcterms:modified xsi:type="dcterms:W3CDTF">2023-11-13T17:57:14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