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B92-6DFA-411A-BAE0-7619DB8A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C59-FDC6-41DA-8B8B-54C263AF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03F-25B9-4979-A898-1199623D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5F3-6290-48D9-8042-C1CE00DC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4A0A-5DEE-42A6-A5E1-947DD4C6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0639-46EA-4F86-802E-F6AE5E57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E5E2-17AF-43A8-BD21-B37356E9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6254-CD45-4548-9DBE-42297DE6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D09C-AEBA-4C2F-9890-66FC71E4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319F-215D-44D9-A4F3-28F6F903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08D-830E-4D58-9678-C7B59712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2D4-EFE8-491C-9C8B-96458E86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CB34-E230-433C-880B-4C7CFCB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926F-F75C-4EDD-A68D-78693182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12C2-2F2F-4EED-B25A-CE8EA63E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220A-4496-469F-B711-B3570558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0A19-BBC0-44F2-90C0-D5E0D416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B812-E76D-4F7D-A167-5B5FCA73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4B0E-803E-4108-9AEA-7F51625D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9FF7-784B-4CA8-BD85-B6E0ECA9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AB68-9F3B-4DBA-9818-7948DC65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2A4C-97B1-45A6-924B-E18DF659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798-3838-4FD7-9405-CC9E92DE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0743-ADD7-4F7F-82D2-2AD68AAE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36B88-72DA-404D-846F-2CFFE29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30BD-07B7-474A-9B81-C7BA9EF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6B56-577C-4A08-B587-6AA82FB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0AB8-E295-4BB0-86CD-FDB0D055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4714-D289-4278-B004-85825F79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54D6-4B8A-457B-B64B-909B013A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284B-0D3D-4ABA-B456-FE830834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6C2E-8ECB-44AD-9261-E5B2C221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7B32-01BD-4251-AE4F-2642D2CC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ED4-0A11-4901-A35A-C4E403E4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0C56-90DF-4139-8828-240094B3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E074-3017-4577-A664-188E2912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6DA1-E31B-45EE-8C63-AD49CEA8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58F62-4A19-4372-A210-4FFA57C8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D83E1-34E7-4A03-85F6-FE0C28AA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0DBC-1BF3-40B0-8763-EF478585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1FB6-F6E5-47C2-B600-B6ADA083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9911-CD5E-4627-B4AA-08E1D05F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1E9CF-73EC-4846-B032-06E01724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F53-036D-4DE3-9906-8409A2B2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29A-4638-4881-8BEC-C697695E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4E4-6C15-4DCF-82F1-656F0AC8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944-CE57-4913-A875-270A308D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EE8-2378-43FC-B684-B97FA566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92F74-81FD-4837-BF39-624C245E191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8DC08-BD90-4BD4-ACE4-B34463B2996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B5FA1-5565-4FF9-9664-2F5902F2DCE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FB66E-42D4-42A6-8E7F-98FF589146A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4800" spc="-1" strike="noStrike">
                <a:solidFill>
                  <a:srgbClr val="002060"/>
                </a:solidFill>
                <a:latin typeface="Trebuchet MS"/>
              </a:rPr>
              <a:t>Проект</a:t>
            </a:r>
            <a:r>
              <a:rPr b="0" lang="uk-UA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br>
              <a:rPr sz="4800"/>
            </a:br>
            <a:r>
              <a:rPr b="0" lang="uk-UA" sz="6000" spc="-1" strike="noStrike">
                <a:solidFill>
                  <a:srgbClr val="002060"/>
                </a:solidFill>
                <a:latin typeface="Monotype Corsiva"/>
              </a:rPr>
              <a:t>“Химия вокруг нас ”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505320" cy="2992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304920" y="44197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800" spc="-1" strike="noStrike">
                <a:solidFill>
                  <a:srgbClr val="2c3c43"/>
                </a:solidFill>
                <a:latin typeface="Times New Roman"/>
              </a:rPr>
              <a:t>Выполнила учитель хим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800" spc="-1" strike="noStrike">
                <a:solidFill>
                  <a:srgbClr val="2c3c43"/>
                </a:solidFill>
                <a:latin typeface="Monotype Corsiva"/>
              </a:rPr>
              <a:t>Качурина Аурика Анатольев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Любой современный молодой человек пользуеться косметико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400" spc="-1" strike="noStrike">
                <a:solidFill>
                  <a:srgbClr val="404040"/>
                </a:solidFill>
                <a:latin typeface="Trebuchet MS"/>
              </a:rPr>
              <a:t>Косметика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– происходит од греческого, что означает искусство украша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Это лаки для волос и ногтей, краска для ресниц и волос, помада для губ, шампуни и др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Это зубные пасты, дезодоранты, без которых человек не может обойтись ни одного д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Все они созданы при помощ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разных химических соедине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27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0" y="32004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3200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4"/>
          <a:stretch/>
        </p:blipFill>
        <p:spPr>
          <a:xfrm>
            <a:off x="3886200" y="320040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5"/>
          <a:stretch/>
        </p:blipFill>
        <p:spPr>
          <a:xfrm>
            <a:off x="3886200" y="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914400"/>
            <a:ext cx="609588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Тяжело сказать, когда люди начали чистить зубы? Но есть сведения, что одним из средств  для чистки зубов была табачная зол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Сейчас зубные пасты имеют многокомпонентные составные. Они бывают разные по назначению: гигиенические и лечебно  – профилактические. Первые – очищают и освежают, а другие – кроме того еще и выполняют профилактическое действие и могут лечить зубы и полость рт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6553080" y="30481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10666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2c3c43"/>
                </a:solidFill>
                <a:latin typeface="Trebuchet MS"/>
              </a:rPr>
              <a:t>Зубная паст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ДЕЗОДОРАНТ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400" spc="-1" strike="noStrike">
                <a:solidFill>
                  <a:srgbClr val="404040"/>
                </a:solidFill>
                <a:latin typeface="Trebuchet MS"/>
              </a:rPr>
              <a:t>Дезодоранты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– это вещества, которые уничтожают неприятный запах пот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ы знаем, что человек потеет. С потом из организма выводятся продукты метаболизма: мочевина, мочевая кислота, аммиак, некоторые жирные кислоты и друго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Неприятный запах связан с бактериальным разложением его составных и с окислением их кислородом воздух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606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094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троители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не могут обойтись без знаний по химии. Делая цементный расствор (цемент, вода, песок), он должен знать, какие химические процессы вызывают твердения цемента, чтобы изготовить цемент необходимой мар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4572000" y="3276720"/>
            <a:ext cx="3657600" cy="4190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</a:t>
            </a:r>
            <a:r>
              <a:rPr b="1" i="1" lang="uk-UA" sz="4000" spc="-1" strike="noStrike">
                <a:solidFill>
                  <a:srgbClr val="404040"/>
                </a:solidFill>
                <a:latin typeface="Trebuchet MS"/>
              </a:rPr>
              <a:t>Соль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Ученые установили, если почву пропитать расствором соли, он не будет пропускать воду. Это открытия начали использовать во время строительст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029200" y="3944880"/>
            <a:ext cx="4114800" cy="2913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3429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Если на дно водоема положить слой из земли пропитанной солью, то просочения воды не осуществляет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41907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Строители используют соль для устранения замерзания зимой земли и превращения ее на твердый камень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Для этого участок почвы, который планируют выбирать, осенью густо посыпают солью. В этом случае в сильные морозы данные участки земли остаются мягки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36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457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В металургии при помощи химических реакций превращают руду на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6294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чугу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аль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352680" cy="3333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1981080" y="3733920"/>
            <a:ext cx="3581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Широко простирает химия руки свои в дела человеческие…. Куда не посмотришь, куда не оглянешься, везде встают перед глазами нашими успехи ее стар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. В. Ломонос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4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оторые необходимы для строительства машин, верстаков и разных металлических издел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647960" cy="3098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895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6200" y="533160"/>
            <a:ext cx="449568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Большое значенния имеет химия для охраны здоровья люд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5191200" cy="305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04920" y="30456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Глубоко проникает химия и в сельское хозяйств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Растениям необходимы минеральные удобрения, вода, воздух, средства защиты от вредителей и болез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                               </a:t>
            </a:r>
            <a:r>
              <a:rPr b="1" lang="uk-UA" sz="4400" spc="-1" strike="noStrike">
                <a:solidFill>
                  <a:srgbClr val="90c226"/>
                </a:solidFill>
                <a:latin typeface="Trebuchet MS"/>
              </a:rPr>
              <a:t>Вывод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Продукты химии и химиеские процессы используются везде: в промышленности, сельском хозяйстве, на транспорте, в медицине, в строительстве, в быту и др 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Знания химии необходимы всем , независимо от того, какую профессию  себе человек   выбирает, поскольку химические знания широко используются в практической деяльности человек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Теперь мы знаем, что быт современного человека без химии не возможе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Ключевые вопрос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Monotype Corsiva"/>
              </a:rPr>
              <a:t>Возможен ли  быт современного человека без химии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4191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Тематические вопросы 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Monotype Corsiva"/>
              </a:rPr>
              <a:t>Какую ценность в жизни человека  имеют химические вещест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Monotype Corsiva"/>
              </a:rPr>
              <a:t>Какую роль играют химические вещеКакое место среди наук о природе занимает химия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Monotype Corsiva"/>
              </a:rPr>
              <a:t>ства в повседневной жизни человек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Monotype Corsiva"/>
              </a:rPr>
              <a:t>Как  могу я применить эти знанния в своей жизн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Цели и задач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В своей работе мы ставили такие цели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Выяснить, какое место химии среди наук о природе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Довести необходимость использования  химических веществ в повседненной жизни челове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Выяснить, в яких отрослях применяется хим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800" spc="-1" strike="noStrike">
                <a:solidFill>
                  <a:srgbClr val="404040"/>
                </a:solidFill>
                <a:latin typeface="Trebuchet MS"/>
              </a:rPr>
              <a:t>Химия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– сравнительно молодая наука, является нашим незаменимым помошник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Она принадлежит к естественным  наукам и изучает природу, весь окружающий мир и прежде всего – вещества и  их превращ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Все, что нас окружает, и мы сами - состоим из вещест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86200" y="4724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7524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Число самых популярных химических веществ перевалило далеко за тысяч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Очень тяжело найти ту область, где бы не использовались те или другие химические веществ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За примерами далеко ходить не над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866920" y="68580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Уничтожить комаров, мух, тараканов, гр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ы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зунов поможет бытовая химия, которая знакома каждой хозяйк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105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088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оющие средства, стиральные     порош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полироли,средства по уходу  за полом, и др…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Как же без них обеспечить чистоту в доме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411480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3"/>
          <a:stretch/>
        </p:blipFill>
        <p:spPr>
          <a:xfrm>
            <a:off x="7467480" y="4114800"/>
            <a:ext cx="1676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урика Качурина</cp:lastModifiedBy>
  <dcterms:modified xsi:type="dcterms:W3CDTF">2023-11-13T17:57:14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