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png" ContentType="image/png"/>
  <Override PartName="/ppt/media/image31.png" ContentType="image/png"/>
  <Override PartName="/ppt/media/image26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4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2DE-C0FA-4785-9B2A-647BEF6C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4A9-4DBD-411E-B61A-6B497C2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7C7-DDE4-48D8-9E27-FB1BA010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958-33ED-48A0-B2CB-C898D16D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466-618C-4CE7-89EB-AB72FCD3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A65-59ED-4D08-ADFF-FC886B55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044-0ABF-44FA-A2DB-ABEF01D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E36-E49F-4C0F-BF5B-007AC61A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0D3-CBC9-43C9-AA8C-44273F2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B56-DE7B-43A5-A815-0FBF20F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293A-C116-4BB5-A913-A662349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8F7-BAEC-4885-BE6D-5EE5615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5BA-B3F5-46E1-8907-DAA0A71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D38-E5C4-4CB2-A135-13091CF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E9C2-4794-41D7-977D-EE4E497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ACAA-6229-4950-A29E-F05A52FE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B72F-D554-4EEA-997A-A196F392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C9F-6464-4A23-BD17-EA31FFA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2CC-B909-4002-B1E5-B9F3364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F65-961E-4B49-BB54-D8AF8AA8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B9F-2880-4988-911B-4A845011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3C7-4777-40B8-A33B-4A30CCE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383-61DA-4303-AF40-BEF0255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197-DFCF-441E-8A8A-1620B63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7E0A-A26D-4AF6-9C16-F90957D1C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B9E-03C0-4557-BAAF-5291E54B1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-36360" y="-14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3114720" cy="356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ba4d49055a90"/>
          <p:cNvPicPr/>
          <p:nvPr/>
        </p:nvPicPr>
        <p:blipFill>
          <a:blip r:embed="rId2"/>
          <a:stretch/>
        </p:blipFill>
        <p:spPr>
          <a:xfrm>
            <a:off x="3900600" y="1979640"/>
            <a:ext cx="2508120" cy="68166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9"/>
          <p:cNvSpPr/>
          <p:nvPr/>
        </p:nvSpPr>
        <p:spPr>
          <a:xfrm>
            <a:off x="189000" y="5580000"/>
            <a:ext cx="458928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89000" y="5580000"/>
            <a:ext cx="4589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9" descr="p_F"/>
          <p:cNvPicPr/>
          <p:nvPr/>
        </p:nvPicPr>
        <p:blipFill>
          <a:blip r:embed="rId1"/>
          <a:stretch/>
        </p:blipFill>
        <p:spPr>
          <a:xfrm>
            <a:off x="765000" y="2997360"/>
            <a:ext cx="273528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51736868_skazki0204"/>
          <p:cNvPicPr/>
          <p:nvPr/>
        </p:nvPicPr>
        <p:blipFill>
          <a:blip r:embed="rId2"/>
          <a:stretch/>
        </p:blipFill>
        <p:spPr>
          <a:xfrm>
            <a:off x="3860640" y="3035160"/>
            <a:ext cx="2489400" cy="34182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4" descr="4248914d1f331e16c6539d5bde7a22fb"/>
          <p:cNvPicPr/>
          <p:nvPr/>
        </p:nvPicPr>
        <p:blipFill>
          <a:blip r:embed="rId1"/>
          <a:stretch/>
        </p:blipFill>
        <p:spPr>
          <a:xfrm>
            <a:off x="2943360" y="2459160"/>
            <a:ext cx="2646360" cy="343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130997_12_mesyatsev1956-3"/>
          <p:cNvPicPr/>
          <p:nvPr/>
        </p:nvPicPr>
        <p:blipFill>
          <a:blip r:embed="rId2"/>
          <a:stretch/>
        </p:blipFill>
        <p:spPr>
          <a:xfrm>
            <a:off x="352440" y="2459160"/>
            <a:ext cx="2482920" cy="3436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603630_7135thumb500"/>
          <p:cNvPicPr/>
          <p:nvPr/>
        </p:nvPicPr>
        <p:blipFill>
          <a:blip r:embed="rId3"/>
          <a:stretch/>
        </p:blipFill>
        <p:spPr>
          <a:xfrm>
            <a:off x="1989000" y="5896080"/>
            <a:ext cx="29512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914400"/>
            <a:ext cx="3151440" cy="2292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onvention_ontherightsofthechild_2009"/>
          <p:cNvPicPr/>
          <p:nvPr/>
        </p:nvPicPr>
        <p:blipFill>
          <a:blip r:embed="rId2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3b42e3081059"/>
          <p:cNvPicPr/>
          <p:nvPr/>
        </p:nvPicPr>
        <p:blipFill>
          <a:blip r:embed="rId3"/>
          <a:stretch/>
        </p:blipFill>
        <p:spPr>
          <a:xfrm>
            <a:off x="1609560" y="5437080"/>
            <a:ext cx="4724640" cy="621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Наталья\Мои документы\Мои рисунки\2009_04_10_16_41_163466668.jpg"/>
          <p:cNvPicPr/>
          <p:nvPr/>
        </p:nvPicPr>
        <p:blipFill>
          <a:blip r:embed="rId4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0800d915c9d9"/>
          <p:cNvPicPr/>
          <p:nvPr/>
        </p:nvPicPr>
        <p:blipFill>
          <a:blip r:embed="rId2"/>
          <a:stretch/>
        </p:blipFill>
        <p:spPr>
          <a:xfrm>
            <a:off x="3500280" y="3435480"/>
            <a:ext cx="25657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User</cp:lastModifiedBy>
  <cp:lastPrinted>2015-04-01T21:45:38Z</cp:lastPrinted>
  <dcterms:modified xsi:type="dcterms:W3CDTF">2022-11-22T05:51:04Z</dcterms:modified>
  <cp:revision>32</cp:revision>
  <dc:subject/>
  <dc:title>"Мы тоже имеем права!"</dc:title>
</cp:coreProperties>
</file>