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jpeg" ContentType="image/jpeg"/>
  <Override PartName="/ppt/media/image27.jpeg" ContentType="image/jpeg"/>
  <Override PartName="/ppt/media/image25.jpeg" ContentType="image/jpeg"/>
  <Override PartName="/ppt/media/image24.jpeg" ContentType="image/jpeg"/>
  <Override PartName="/ppt/media/image21.jpeg" ContentType="image/jpeg"/>
  <Override PartName="/ppt/media/image6.png" ContentType="image/png"/>
  <Override PartName="/ppt/media/image31.png" ContentType="image/png"/>
  <Override PartName="/ppt/media/image26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7.gif" ContentType="image/gif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4.jpeg" ContentType="image/jpeg"/>
  <Override PartName="/ppt/media/image12.jpeg" ContentType="image/jpeg"/>
  <Override PartName="/ppt/media/image4.png" ContentType="image/png"/>
  <Override PartName="/ppt/media/image14.jpeg" ContentType="image/jpeg"/>
  <Override PartName="/ppt/media/image33.png" ContentType="image/png"/>
  <Override PartName="/ppt/media/image3.png" ContentType="image/png"/>
  <Override PartName="/ppt/media/image17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32.gif" ContentType="image/gif"/>
  <Override PartName="/ppt/media/image19.jpeg" ContentType="image/jpeg"/>
  <Override PartName="/ppt/media/image2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6858000" cy="9144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B66C6-EDB2-4FCF-8B57-704177862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14440" y="202680"/>
            <a:ext cx="51530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14440" y="2437920"/>
            <a:ext cx="57722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4440" y="4985280"/>
            <a:ext cx="57722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DD53C-E54C-4619-B059-0AD0F6AD7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202680"/>
            <a:ext cx="51530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14440" y="2437920"/>
            <a:ext cx="2816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472200" y="2437920"/>
            <a:ext cx="2816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4440" y="4985280"/>
            <a:ext cx="2816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472200" y="4985280"/>
            <a:ext cx="2816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58F22-6692-42CB-9543-0F15FB542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14440" y="202680"/>
            <a:ext cx="51530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14440" y="2437920"/>
            <a:ext cx="1858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2466000" y="2437920"/>
            <a:ext cx="1858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417560" y="2437920"/>
            <a:ext cx="1858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4440" y="4985280"/>
            <a:ext cx="1858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2466000" y="4985280"/>
            <a:ext cx="1858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4417560" y="4985280"/>
            <a:ext cx="1858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E3AA5-1494-48FD-9EA9-F7174FFCE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CE26E-C667-41E9-9076-9EC2C9C76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14440" y="202680"/>
            <a:ext cx="51530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514440" y="2437920"/>
            <a:ext cx="577224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1C077-A490-4FCE-A7DF-5CA77C810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14440" y="202680"/>
            <a:ext cx="51530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14440" y="2437920"/>
            <a:ext cx="57722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5EC54-1309-4892-BBEF-0F5BB1B0B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14440" y="202680"/>
            <a:ext cx="51530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14440" y="2437920"/>
            <a:ext cx="28166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472200" y="2437920"/>
            <a:ext cx="28166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D9EFE-340A-4E13-9E20-59F439D9A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14440" y="202680"/>
            <a:ext cx="51530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E72DA-7E0C-48F4-9FA2-7C8AF8B74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514440" y="202680"/>
            <a:ext cx="5153040" cy="989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C7075-1D70-4368-9568-50ACA9021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14440" y="202680"/>
            <a:ext cx="51530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14440" y="2437920"/>
            <a:ext cx="2816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472200" y="2437920"/>
            <a:ext cx="28166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14440" y="4985280"/>
            <a:ext cx="2816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8F2D1-7403-48C5-B8AB-CD597FA7B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14440" y="202680"/>
            <a:ext cx="51530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14440" y="2437920"/>
            <a:ext cx="577224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9EA5C-B4B5-4A8D-B00A-A415C0EA1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14440" y="202680"/>
            <a:ext cx="51530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14440" y="2437920"/>
            <a:ext cx="28166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472200" y="2437920"/>
            <a:ext cx="2816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3472200" y="4985280"/>
            <a:ext cx="2816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F3F97-74A3-4BE0-86FC-AF4207E21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14440" y="202680"/>
            <a:ext cx="51530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14440" y="2437920"/>
            <a:ext cx="2816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472200" y="2437920"/>
            <a:ext cx="2816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514440" y="4985280"/>
            <a:ext cx="57722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23C1D-9C62-4050-B62D-25445333F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14440" y="202680"/>
            <a:ext cx="51530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14440" y="2437920"/>
            <a:ext cx="57722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14440" y="4985280"/>
            <a:ext cx="57722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AAB1C-0654-43A6-A988-7E597DF03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14440" y="202680"/>
            <a:ext cx="51530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14440" y="2437920"/>
            <a:ext cx="2816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472200" y="2437920"/>
            <a:ext cx="2816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14440" y="4985280"/>
            <a:ext cx="2816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3472200" y="4985280"/>
            <a:ext cx="2816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BF5A6-07A6-4266-941A-845074A25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14440" y="202680"/>
            <a:ext cx="51530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14440" y="2437920"/>
            <a:ext cx="1858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466000" y="2437920"/>
            <a:ext cx="1858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417560" y="2437920"/>
            <a:ext cx="1858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514440" y="4985280"/>
            <a:ext cx="1858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466000" y="4985280"/>
            <a:ext cx="1858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4417560" y="4985280"/>
            <a:ext cx="1858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A704C-27E0-4861-8D5A-08C216A49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14440" y="202680"/>
            <a:ext cx="51530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14440" y="2437920"/>
            <a:ext cx="57722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DF066-648A-472D-A8FE-2E6DBE1FA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14440" y="202680"/>
            <a:ext cx="51530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14440" y="2437920"/>
            <a:ext cx="28166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472200" y="2437920"/>
            <a:ext cx="28166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90026-30B6-44DA-967C-B63DA28AB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14440" y="202680"/>
            <a:ext cx="51530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5C4C7-2F9E-496C-960A-116621473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514440" y="202680"/>
            <a:ext cx="5153040" cy="989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6E167-8C4B-4587-A972-F3AF2439A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14440" y="202680"/>
            <a:ext cx="51530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14440" y="2437920"/>
            <a:ext cx="2816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3472200" y="2437920"/>
            <a:ext cx="28166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14440" y="4985280"/>
            <a:ext cx="2816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02D6C-C71F-46DE-A100-2EF76D1FD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14440" y="202680"/>
            <a:ext cx="51530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14440" y="2437920"/>
            <a:ext cx="28166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472200" y="2437920"/>
            <a:ext cx="2816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472200" y="4985280"/>
            <a:ext cx="2816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11ED6-9D46-48A7-9185-04254029D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14440" y="202680"/>
            <a:ext cx="51530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14440" y="2437920"/>
            <a:ext cx="2816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472200" y="2437920"/>
            <a:ext cx="2816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4440" y="4985280"/>
            <a:ext cx="57722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2A0CC-1E7F-4970-802A-B2A768BEF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5494680" y="587880"/>
            <a:ext cx="1549440" cy="156384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14440" y="202680"/>
            <a:ext cx="51530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14440" y="2437920"/>
            <a:ext cx="57722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98400" indent="-26856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74240" indent="-21456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504080" indent="-21456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933920" indent="-21456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0288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666520" y="8331120"/>
            <a:ext cx="21718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503820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5EF2E-AD6B-48F0-BF97-82D8058759A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5559120" y="644040"/>
            <a:ext cx="1554120" cy="15732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5574240" y="714600"/>
            <a:ext cx="1366920" cy="117792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6480" y="7386480"/>
            <a:ext cx="1337760" cy="1661400"/>
            <a:chOff x="6480" y="7386480"/>
            <a:chExt cx="1337760" cy="1661400"/>
          </a:xfrm>
        </p:grpSpPr>
        <p:sp>
          <p:nvSpPr>
            <p:cNvPr id="9" name="Freeform 11"/>
            <p:cNvSpPr/>
            <p:nvPr/>
          </p:nvSpPr>
          <p:spPr>
            <a:xfrm>
              <a:off x="28800" y="7418160"/>
              <a:ext cx="1296360" cy="137376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217160" y="7581240"/>
              <a:ext cx="84240" cy="27252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24120" y="7987320"/>
              <a:ext cx="942840" cy="8679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154080" y="8059320"/>
              <a:ext cx="624960" cy="79128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77800" y="7475040"/>
              <a:ext cx="160560" cy="25632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763560" y="8811000"/>
              <a:ext cx="90360" cy="23688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600480" y="7634160"/>
              <a:ext cx="229680" cy="81072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795600" y="7598160"/>
              <a:ext cx="433080" cy="3679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13280" y="7815960"/>
              <a:ext cx="185400" cy="14184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6480" y="7386480"/>
              <a:ext cx="1337760" cy="1650600"/>
              <a:chOff x="6480" y="7386480"/>
              <a:chExt cx="1337760" cy="16506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594360" y="7538400"/>
                <a:ext cx="651960" cy="1498680"/>
                <a:chOff x="594360" y="7538400"/>
                <a:chExt cx="651960" cy="14986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594360" y="7591320"/>
                  <a:ext cx="186840" cy="18360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757440" y="8755560"/>
                  <a:ext cx="136800" cy="2815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195200" y="7538400"/>
                  <a:ext cx="51120" cy="24732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90720" y="7898400"/>
                <a:ext cx="708120" cy="52920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309960" y="8224560"/>
                <a:ext cx="290160" cy="3132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672840" y="7788600"/>
                <a:ext cx="127080" cy="50328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6480" y="7386480"/>
                <a:ext cx="1337760" cy="1434600"/>
                <a:chOff x="6480" y="7386480"/>
                <a:chExt cx="1337760" cy="14346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796680" y="8567280"/>
                  <a:ext cx="89280" cy="18360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6480" y="7889760"/>
                  <a:ext cx="1002240" cy="93132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26360" y="7979040"/>
                  <a:ext cx="95040" cy="3531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534960" y="7386480"/>
                  <a:ext cx="383040" cy="125676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688320" y="7724520"/>
                  <a:ext cx="114120" cy="5335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390600" y="7682400"/>
                  <a:ext cx="231840" cy="28584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783720" y="7488000"/>
                  <a:ext cx="560520" cy="44820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853920" y="7631640"/>
                  <a:ext cx="291240" cy="18216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6509880" y="2820960"/>
            <a:ext cx="288720" cy="5744880"/>
            <a:chOff x="6509880" y="2820960"/>
            <a:chExt cx="288720" cy="5744880"/>
          </a:xfrm>
        </p:grpSpPr>
        <p:sp>
          <p:nvSpPr>
            <p:cNvPr id="36" name="Freeform 38"/>
            <p:cNvSpPr/>
            <p:nvPr/>
          </p:nvSpPr>
          <p:spPr>
            <a:xfrm flipH="1">
              <a:off x="6509520" y="5545080"/>
              <a:ext cx="243720" cy="30207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6554520" y="2820960"/>
              <a:ext cx="243720" cy="345672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5167440" y="108360"/>
            <a:ext cx="2244600" cy="2649600"/>
            <a:chOff x="5167440" y="108360"/>
            <a:chExt cx="2244600" cy="2649600"/>
          </a:xfrm>
        </p:grpSpPr>
        <p:grpSp>
          <p:nvGrpSpPr>
            <p:cNvPr id="39" name="Group 41"/>
            <p:cNvGrpSpPr/>
            <p:nvPr/>
          </p:nvGrpSpPr>
          <p:grpSpPr>
            <a:xfrm>
              <a:off x="5167440" y="108360"/>
              <a:ext cx="2244600" cy="2649600"/>
              <a:chOff x="5167440" y="108360"/>
              <a:chExt cx="2244600" cy="264960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6437160" y="2430360"/>
                <a:ext cx="131400" cy="34272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5167440" y="108360"/>
                <a:ext cx="2244600" cy="2396520"/>
                <a:chOff x="5167440" y="108360"/>
                <a:chExt cx="2244600" cy="23965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5842080" y="208080"/>
                  <a:ext cx="324000" cy="14904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5888160" y="902160"/>
                  <a:ext cx="569160" cy="52164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5552280" y="798120"/>
                  <a:ext cx="1069200" cy="106884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5487120" y="582120"/>
                  <a:ext cx="1604880" cy="160020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6229440" y="1952280"/>
                  <a:ext cx="358200" cy="1450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6171480" y="1770120"/>
                  <a:ext cx="383040" cy="17136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5851800" y="512640"/>
                  <a:ext cx="383040" cy="17496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5810760" y="360720"/>
                  <a:ext cx="379080" cy="16416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5798880" y="177480"/>
              <a:ext cx="50040" cy="203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15840" y="17640"/>
            <a:ext cx="6672240" cy="903888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46160" y="312840"/>
            <a:ext cx="2841480" cy="2371320"/>
            <a:chOff x="146160" y="312840"/>
            <a:chExt cx="2841480" cy="2371320"/>
          </a:xfrm>
        </p:grpSpPr>
        <p:sp>
          <p:nvSpPr>
            <p:cNvPr id="89" name="Freeform 9"/>
            <p:cNvSpPr/>
            <p:nvPr/>
          </p:nvSpPr>
          <p:spPr>
            <a:xfrm>
              <a:off x="210600" y="374040"/>
              <a:ext cx="2679120" cy="215280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197280" y="551880"/>
              <a:ext cx="2671920" cy="21322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564120" y="727560"/>
              <a:ext cx="1771920" cy="19454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46160" y="312840"/>
              <a:ext cx="2841480" cy="2288520"/>
              <a:chOff x="146160" y="312840"/>
              <a:chExt cx="2841480" cy="22885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2387160" y="1976760"/>
                <a:ext cx="252360" cy="45252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46160" y="312840"/>
                <a:ext cx="2841480" cy="22885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385560" y="333720"/>
                <a:ext cx="2007720" cy="129960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486720" y="530640"/>
                <a:ext cx="270000" cy="8679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007280" y="1134000"/>
                <a:ext cx="822600" cy="7704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5684040" y="5833800"/>
            <a:ext cx="1062000" cy="1393560"/>
            <a:chOff x="5684040" y="5833800"/>
            <a:chExt cx="1062000" cy="1393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5553000" y="6349680"/>
              <a:ext cx="1332360" cy="3488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5535360" y="6319080"/>
              <a:ext cx="1328040" cy="3452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5758920" y="6288840"/>
              <a:ext cx="880920" cy="31536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5684040" y="5833800"/>
              <a:ext cx="1062000" cy="1393560"/>
              <a:chOff x="5684040" y="5833800"/>
              <a:chExt cx="1062000" cy="1393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5910120" y="6779520"/>
                <a:ext cx="125280" cy="7236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5508720" y="6345360"/>
                <a:ext cx="1412280" cy="3697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5807160" y="6424560"/>
                <a:ext cx="999720" cy="20880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6357240" y="6133680"/>
                <a:ext cx="133200" cy="14004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6025320" y="6396840"/>
                <a:ext cx="408600" cy="12312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676440" y="6738840"/>
            <a:ext cx="5105160" cy="971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3057480" y="2573280"/>
            <a:ext cx="666720" cy="50796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14440" y="202680"/>
            <a:ext cx="51530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514440" y="2437920"/>
            <a:ext cx="57722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98400" indent="-26856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74240" indent="-21456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504080" indent="-21456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933920" indent="-21456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1334E-D646-4D8E-B0C0-4C26F432E32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gif"/><Relationship Id="rId2" Type="http://schemas.openxmlformats.org/officeDocument/2006/relationships/image" Target="../media/image32.gif"/><Relationship Id="rId3" Type="http://schemas.openxmlformats.org/officeDocument/2006/relationships/image" Target="../media/image32.gif"/><Relationship Id="rId4" Type="http://schemas.openxmlformats.org/officeDocument/2006/relationships/image" Target="../media/image32.gif"/><Relationship Id="rId5" Type="http://schemas.openxmlformats.org/officeDocument/2006/relationships/image" Target="../media/image32.gif"/><Relationship Id="rId6" Type="http://schemas.openxmlformats.org/officeDocument/2006/relationships/image" Target="../media/image32.gif"/><Relationship Id="rId7" Type="http://schemas.openxmlformats.org/officeDocument/2006/relationships/image" Target="../media/image32.gif"/><Relationship Id="rId8" Type="http://schemas.openxmlformats.org/officeDocument/2006/relationships/image" Target="../media/image33.png"/><Relationship Id="rId9" Type="http://schemas.openxmlformats.org/officeDocument/2006/relationships/image" Target="../media/image34.jpeg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5" descr="p0000222"/>
          <p:cNvPicPr/>
          <p:nvPr/>
        </p:nvPicPr>
        <p:blipFill>
          <a:blip r:embed="rId1"/>
          <a:stretch/>
        </p:blipFill>
        <p:spPr>
          <a:xfrm>
            <a:off x="-36360" y="-1440"/>
            <a:ext cx="6858000" cy="9144000"/>
          </a:xfrm>
          <a:prstGeom prst="rect">
            <a:avLst/>
          </a:prstGeom>
          <a:ln w="0">
            <a:noFill/>
          </a:ln>
        </p:spPr>
      </p:pic>
      <p:sp>
        <p:nvSpPr>
          <p:cNvPr id="152" name="WordArt 6"/>
          <p:cNvSpPr txBox="1"/>
          <p:nvPr/>
        </p:nvSpPr>
        <p:spPr>
          <a:xfrm>
            <a:off x="1700280" y="1887480"/>
            <a:ext cx="3806640" cy="21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"Наши права и 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обязанности"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20640" y="347400"/>
            <a:ext cx="5153040" cy="131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В каких сказках героев насильно перемещали и похищали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2" name="Picture 4" descr="1015a8dae979"/>
          <p:cNvPicPr/>
          <p:nvPr/>
        </p:nvPicPr>
        <p:blipFill>
          <a:blip r:embed="rId1"/>
          <a:stretch/>
        </p:blipFill>
        <p:spPr>
          <a:xfrm>
            <a:off x="243000" y="1979640"/>
            <a:ext cx="3114720" cy="356724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8" descr="ba4d49055a90"/>
          <p:cNvPicPr/>
          <p:nvPr/>
        </p:nvPicPr>
        <p:blipFill>
          <a:blip r:embed="rId2"/>
          <a:stretch/>
        </p:blipFill>
        <p:spPr>
          <a:xfrm>
            <a:off x="3900600" y="1979640"/>
            <a:ext cx="2508120" cy="6816600"/>
          </a:xfrm>
          <a:prstGeom prst="rect">
            <a:avLst/>
          </a:prstGeom>
          <a:ln w="0">
            <a:noFill/>
          </a:ln>
        </p:spPr>
      </p:pic>
      <p:sp>
        <p:nvSpPr>
          <p:cNvPr id="184" name="AutoShape 9"/>
          <p:cNvSpPr/>
          <p:nvPr/>
        </p:nvSpPr>
        <p:spPr>
          <a:xfrm>
            <a:off x="189000" y="5580000"/>
            <a:ext cx="4589280" cy="1824120"/>
          </a:xfrm>
          <a:prstGeom prst="foldedCorner">
            <a:avLst>
              <a:gd name="adj" fmla="val 12500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Text Box 11"/>
          <p:cNvSpPr/>
          <p:nvPr/>
        </p:nvSpPr>
        <p:spPr>
          <a:xfrm>
            <a:off x="189000" y="5580000"/>
            <a:ext cx="4589280" cy="19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Статья 11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Государства-участники принимают меры для борьбы с незаконным перемещением и невозвращением детей из-за границы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0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3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7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2" dur="8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3" dur="8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4" dur="8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7" dur="8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8" dur="8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9" dur="8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12640" y="444600"/>
            <a:ext cx="5153040" cy="2133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В каких произведениях затрагивается тема о праве на полноценную и достойную жизнь (по состоянию здоровья)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7" name="Picture 9" descr="p_F"/>
          <p:cNvPicPr/>
          <p:nvPr/>
        </p:nvPicPr>
        <p:blipFill>
          <a:blip r:embed="rId1"/>
          <a:stretch/>
        </p:blipFill>
        <p:spPr>
          <a:xfrm>
            <a:off x="765000" y="2997360"/>
            <a:ext cx="2735280" cy="345600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13" descr="51736868_skazki0204"/>
          <p:cNvPicPr/>
          <p:nvPr/>
        </p:nvPicPr>
        <p:blipFill>
          <a:blip r:embed="rId2"/>
          <a:stretch/>
        </p:blipFill>
        <p:spPr>
          <a:xfrm>
            <a:off x="3860640" y="3035160"/>
            <a:ext cx="2489400" cy="3418200"/>
          </a:xfrm>
          <a:prstGeom prst="rect">
            <a:avLst/>
          </a:prstGeom>
          <a:ln w="0">
            <a:noFill/>
          </a:ln>
        </p:spPr>
      </p:pic>
      <p:sp>
        <p:nvSpPr>
          <p:cNvPr id="189" name="AutoShape 15"/>
          <p:cNvSpPr/>
          <p:nvPr/>
        </p:nvSpPr>
        <p:spPr>
          <a:xfrm>
            <a:off x="1376280" y="6877080"/>
            <a:ext cx="4589640" cy="1824120"/>
          </a:xfrm>
          <a:prstGeom prst="foldedCorner">
            <a:avLst>
              <a:gd name="adj" fmla="val 12500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Text Box 16"/>
          <p:cNvSpPr/>
          <p:nvPr/>
        </p:nvSpPr>
        <p:spPr>
          <a:xfrm>
            <a:off x="1376280" y="6877080"/>
            <a:ext cx="448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Статья 23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раво на  полноценную и достойную жизнь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0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3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8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7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2" dur="8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3" dur="8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4" dur="8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7" dur="8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8" dur="8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9" dur="8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12640" y="347760"/>
            <a:ext cx="5153040" cy="2133360"/>
          </a:xfrm>
          <a:prstGeom prst="rect">
            <a:avLst/>
          </a:prstGeom>
          <a:solidFill>
            <a:srgbClr val="fff9c2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В каком  произведении затрагивается тема о праве на пользование услугами здравоохранения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2" name="Picture 6" descr="005fx70z"/>
          <p:cNvPicPr/>
          <p:nvPr/>
        </p:nvPicPr>
        <p:blipFill>
          <a:blip r:embed="rId1"/>
          <a:stretch/>
        </p:blipFill>
        <p:spPr>
          <a:xfrm>
            <a:off x="620640" y="3322800"/>
            <a:ext cx="2328840" cy="3073320"/>
          </a:xfrm>
          <a:prstGeom prst="rect">
            <a:avLst/>
          </a:prstGeom>
          <a:ln w="0">
            <a:noFill/>
          </a:ln>
        </p:spPr>
      </p:pic>
      <p:sp>
        <p:nvSpPr>
          <p:cNvPr id="193" name="AutoShape 8"/>
          <p:cNvSpPr/>
          <p:nvPr/>
        </p:nvSpPr>
        <p:spPr>
          <a:xfrm>
            <a:off x="1755720" y="7164360"/>
            <a:ext cx="4265640" cy="1631880"/>
          </a:xfrm>
          <a:prstGeom prst="foldedCorner">
            <a:avLst>
              <a:gd name="adj" fmla="val 12500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Text Box 9"/>
          <p:cNvSpPr/>
          <p:nvPr/>
        </p:nvSpPr>
        <p:spPr>
          <a:xfrm>
            <a:off x="1863720" y="7164360"/>
            <a:ext cx="4049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Статья 24.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раво на пользование услугами здравоохранения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5" name="Picture 11" descr="aibolit"/>
          <p:cNvPicPr/>
          <p:nvPr/>
        </p:nvPicPr>
        <p:blipFill>
          <a:blip r:embed="rId2"/>
          <a:stretch/>
        </p:blipFill>
        <p:spPr>
          <a:xfrm>
            <a:off x="3483000" y="2652840"/>
            <a:ext cx="203976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0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4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8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3" dur="8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4" dur="8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5" dur="8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8" dur="8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9" dur="8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0" dur="8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12640" y="252000"/>
            <a:ext cx="5153040" cy="2219400"/>
          </a:xfrm>
          <a:prstGeom prst="rect">
            <a:avLst/>
          </a:prstGeom>
          <a:solidFill>
            <a:srgbClr val="fff9c2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В каких сказках нарушается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статья 36 о Защите ребёнка  от экономической и всех форм эксплуатации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7" name="Picture 14" descr="4248914d1f331e16c6539d5bde7a22fb"/>
          <p:cNvPicPr/>
          <p:nvPr/>
        </p:nvPicPr>
        <p:blipFill>
          <a:blip r:embed="rId1"/>
          <a:stretch/>
        </p:blipFill>
        <p:spPr>
          <a:xfrm>
            <a:off x="2943360" y="2459160"/>
            <a:ext cx="2646360" cy="343692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0" descr="130997_12_mesyatsev1956-3"/>
          <p:cNvPicPr/>
          <p:nvPr/>
        </p:nvPicPr>
        <p:blipFill>
          <a:blip r:embed="rId2"/>
          <a:stretch/>
        </p:blipFill>
        <p:spPr>
          <a:xfrm>
            <a:off x="352440" y="2459160"/>
            <a:ext cx="2482920" cy="343692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2" descr="603630_7135thumb500"/>
          <p:cNvPicPr/>
          <p:nvPr/>
        </p:nvPicPr>
        <p:blipFill>
          <a:blip r:embed="rId3"/>
          <a:stretch/>
        </p:blipFill>
        <p:spPr>
          <a:xfrm>
            <a:off x="1989000" y="5896080"/>
            <a:ext cx="2951280" cy="29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0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4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8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5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2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12640" y="347760"/>
            <a:ext cx="5153040" cy="141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В какой сказке защищаются права детей на получение образования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1" name="Picture 9" descr="413"/>
          <p:cNvPicPr/>
          <p:nvPr/>
        </p:nvPicPr>
        <p:blipFill>
          <a:blip r:embed="rId1"/>
          <a:stretch/>
        </p:blipFill>
        <p:spPr>
          <a:xfrm>
            <a:off x="3591000" y="2747880"/>
            <a:ext cx="2647800" cy="3398760"/>
          </a:xfrm>
          <a:prstGeom prst="rect">
            <a:avLst/>
          </a:prstGeom>
          <a:ln w="0">
            <a:noFill/>
          </a:ln>
        </p:spPr>
      </p:pic>
      <p:sp>
        <p:nvSpPr>
          <p:cNvPr id="202" name="AutoShape 10"/>
          <p:cNvSpPr/>
          <p:nvPr/>
        </p:nvSpPr>
        <p:spPr>
          <a:xfrm>
            <a:off x="1322280" y="6877080"/>
            <a:ext cx="4645080" cy="1979640"/>
          </a:xfrm>
          <a:prstGeom prst="foldedCorner">
            <a:avLst>
              <a:gd name="adj" fmla="val 12500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Статья 28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Право ребенка на образование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3" name="Picture 12" descr="i4be94448a701b"/>
          <p:cNvPicPr/>
          <p:nvPr/>
        </p:nvPicPr>
        <p:blipFill>
          <a:blip r:embed="rId2"/>
          <a:stretch/>
        </p:blipFill>
        <p:spPr>
          <a:xfrm>
            <a:off x="674640" y="2747880"/>
            <a:ext cx="2648160" cy="34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0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4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7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8" dur="8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9" dur="8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0" dur="8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20640" y="539640"/>
            <a:ext cx="5153040" cy="1316160"/>
          </a:xfrm>
          <a:prstGeom prst="rect">
            <a:avLst/>
          </a:prstGeom>
          <a:solidFill>
            <a:srgbClr val="fff9c2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Какие права ребёнка нарушены в этой сказке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5" name="Picture 5" descr="ba5cb770eceb"/>
          <p:cNvPicPr/>
          <p:nvPr/>
        </p:nvPicPr>
        <p:blipFill>
          <a:blip r:embed="rId1"/>
          <a:stretch/>
        </p:blipFill>
        <p:spPr>
          <a:xfrm>
            <a:off x="1538280" y="2076480"/>
            <a:ext cx="3456000" cy="4376880"/>
          </a:xfrm>
          <a:prstGeom prst="rect">
            <a:avLst/>
          </a:prstGeom>
          <a:ln w="0">
            <a:noFill/>
          </a:ln>
        </p:spPr>
      </p:pic>
      <p:sp>
        <p:nvSpPr>
          <p:cNvPr id="206" name="AutoShape 6"/>
          <p:cNvSpPr/>
          <p:nvPr/>
        </p:nvSpPr>
        <p:spPr>
          <a:xfrm>
            <a:off x="1322280" y="6877080"/>
            <a:ext cx="4645080" cy="1979640"/>
          </a:xfrm>
          <a:prstGeom prst="foldedCorner">
            <a:avLst>
              <a:gd name="adj" fmla="val 12500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Статья 9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Ребёнок имеет право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знать своих родителей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и право на их заботу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nodeType="clickEffect" fill="hold">
                      <p:stCondLst>
                        <p:cond delay="0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4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9" dur="8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0" dur="8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1" dur="8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12640" y="347400"/>
            <a:ext cx="5153040" cy="1508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mic Sans MS"/>
              </a:rPr>
              <a:t>Узнав так много о правах, не забудьте о своих обязанностях.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296640" y="1883880"/>
            <a:ext cx="5832360" cy="4821480"/>
          </a:xfrm>
          <a:prstGeom prst="rect">
            <a:avLst/>
          </a:prstGeom>
          <a:solidFill>
            <a:srgbClr val="fff5a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Comic Sans MS"/>
              </a:rPr>
              <a:t>Следить за собой и участвовать в домашних делах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Comic Sans MS"/>
              </a:rPr>
              <a:t>Учиться в соответствии со своим физическим и умственным развитием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Comic Sans MS"/>
              </a:rPr>
              <a:t>С уважением относиться к своим родителям и другим членам семьи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Comic Sans MS"/>
              </a:rPr>
              <a:t>Беречь своё здоровье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Comic Sans MS"/>
              </a:rPr>
              <a:t>С уважением относиться к своему государству и соблюдать его законы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Comic Sans MS"/>
              </a:rPr>
              <a:t>Соблюдать принятые в обществе  правила поведения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Comic Sans MS"/>
              </a:rPr>
              <a:t>Бережно относиться к окружающей среде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9" name="My malenkie deti.mp3" descr=""/>
          <p:cNvPicPr/>
          <p:nvPr/>
        </p:nvPicPr>
        <p:blipFill>
          <a:blip r:embed="rId8"/>
          <a:stretch/>
        </p:blipFill>
        <p:spPr>
          <a:xfrm>
            <a:off x="135000" y="252360"/>
            <a:ext cx="228600" cy="40644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2" descr="C:\Documents and Settings\Наталья\Мои документы\Мои рисунки\99_1.jpg"/>
          <p:cNvPicPr/>
          <p:nvPr/>
        </p:nvPicPr>
        <p:blipFill>
          <a:blip r:embed="rId9"/>
          <a:stretch/>
        </p:blipFill>
        <p:spPr>
          <a:xfrm>
            <a:off x="1903320" y="6108840"/>
            <a:ext cx="2892600" cy="28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nodeType="clickEffect" fill="hold">
                      <p:stCondLst>
                        <p:cond delay="0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7" dur="1" fill="hold"/>
                                        <p:tgtEl>
                                          <p:spTgt spid="2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7" dur="8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8" dur="8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9" dur="8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2180"/>
                            </p:stCondLst>
                            <p:childTnLst>
                              <p:par>
                                <p:cTn id="32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3" dur="80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4" dur="80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5" dur="80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nodeType="afterEffect" fill="hold">
                            <p:stCondLst>
                              <p:cond delay="4540"/>
                            </p:stCondLst>
                            <p:childTnLst>
                              <p:par>
                                <p:cTn id="32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9" dur="80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0" dur="80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1" dur="80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nodeType="afterEffect" fill="hold">
                            <p:stCondLst>
                              <p:cond delay="6740"/>
                            </p:stCondLst>
                            <p:childTnLst>
                              <p:par>
                                <p:cTn id="33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5" dur="80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6" dur="80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7" dur="80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nodeType="afterEffect" fill="hold">
                            <p:stCondLst>
                              <p:cond delay="7540"/>
                            </p:stCondLst>
                            <p:childTnLst>
                              <p:par>
                                <p:cTn id="33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1" dur="80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2" dur="80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3" dur="80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nodeType="afterEffect" fill="hold">
                            <p:stCondLst>
                              <p:cond delay="9900"/>
                            </p:stCondLst>
                            <p:childTnLst>
                              <p:par>
                                <p:cTn id="34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7" dur="80"/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8" dur="80"/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9" dur="80"/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nodeType="afterEffect" fill="hold">
                            <p:stCondLst>
                              <p:cond delay="11660"/>
                            </p:stCondLst>
                            <p:childTnLst>
                              <p:par>
                                <p:cTn id="35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3" dur="80"/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4" dur="80"/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5" dur="80"/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nodeType="afterEffect" fill="hold">
                            <p:stCondLst>
                              <p:cond delay="13060"/>
                            </p:stCondLst>
                            <p:childTnLst>
                              <p:par>
                                <p:cTn id="35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4" descr="convention_ontherightsofthechild_2009"/>
          <p:cNvPicPr/>
          <p:nvPr/>
        </p:nvPicPr>
        <p:blipFill>
          <a:blip r:embed="rId1"/>
          <a:stretch/>
        </p:blipFill>
        <p:spPr>
          <a:xfrm>
            <a:off x="1593720" y="0"/>
            <a:ext cx="415296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Прямоугольник 1" descr=""/>
          <p:cNvPicPr/>
          <p:nvPr/>
        </p:nvPicPr>
        <p:blipFill>
          <a:blip r:embed="rId1"/>
          <a:stretch/>
        </p:blipFill>
        <p:spPr>
          <a:xfrm>
            <a:off x="-60480" y="914400"/>
            <a:ext cx="3151440" cy="22924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4" descr="convention_ontherightsofthechild_2009"/>
          <p:cNvPicPr/>
          <p:nvPr/>
        </p:nvPicPr>
        <p:blipFill>
          <a:blip r:embed="rId2"/>
          <a:stretch/>
        </p:blipFill>
        <p:spPr>
          <a:xfrm>
            <a:off x="2925720" y="96840"/>
            <a:ext cx="2109960" cy="78836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4" descr="3b42e3081059"/>
          <p:cNvPicPr/>
          <p:nvPr/>
        </p:nvPicPr>
        <p:blipFill>
          <a:blip r:embed="rId3"/>
          <a:stretch/>
        </p:blipFill>
        <p:spPr>
          <a:xfrm>
            <a:off x="1609560" y="5437080"/>
            <a:ext cx="4724640" cy="62121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3" descr="C:\Documents and Settings\Наталья\Мои документы\Мои рисунки\2009_04_10_16_41_163466668.jpg"/>
          <p:cNvPicPr/>
          <p:nvPr/>
        </p:nvPicPr>
        <p:blipFill>
          <a:blip r:embed="rId4"/>
          <a:stretch/>
        </p:blipFill>
        <p:spPr>
          <a:xfrm>
            <a:off x="4870440" y="1682640"/>
            <a:ext cx="1494000" cy="47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3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" dur="3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14440" y="202680"/>
            <a:ext cx="515304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КОНВЕНЦИЯ О ПРАВАХ РЕБЕНК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14440" y="2437920"/>
            <a:ext cx="5772240" cy="607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Конвенция принята единогласно Генеральной Ассамблеей ООН 20 ноября 1989 года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и открыта для подписания, ратификации и присоединения. 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Конвенция вступила в силу 2 сентября 1990 года в соответствии со статьей 49.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Конвенция ратифицирована Верховным Советом СССР 13 июня 1990 года.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Конвенция вступила в силу для Российской Федерации 15 сентября 1990 года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0" name="Picture 7" descr="H:\МАМА\АНИМАШКИ\6236051.gif"/>
          <p:cNvPicPr/>
          <p:nvPr/>
        </p:nvPicPr>
        <p:blipFill>
          <a:blip r:embed="rId1"/>
          <a:stretch/>
        </p:blipFill>
        <p:spPr>
          <a:xfrm>
            <a:off x="6265800" y="3035160"/>
            <a:ext cx="592200" cy="533412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" descr="http://basik.ru/images/2691/short.jpg"/>
          <p:cNvPicPr/>
          <p:nvPr/>
        </p:nvPicPr>
        <p:blipFill>
          <a:blip r:embed="rId2"/>
          <a:stretch/>
        </p:blipFill>
        <p:spPr>
          <a:xfrm>
            <a:off x="5319720" y="0"/>
            <a:ext cx="1252440" cy="23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0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14440" y="202680"/>
            <a:ext cx="5153040" cy="2133720"/>
          </a:xfrm>
          <a:prstGeom prst="rect">
            <a:avLst/>
          </a:prstGeom>
          <a:solidFill>
            <a:srgbClr val="fff9c2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Какие литературные герои могли бы пожаловаться, что нарушено их право на неприкосновенность их жилища?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3" name="Picture 10" descr="536967d561d6"/>
          <p:cNvPicPr/>
          <p:nvPr/>
        </p:nvPicPr>
        <p:blipFill>
          <a:blip r:embed="rId1"/>
          <a:stretch/>
        </p:blipFill>
        <p:spPr>
          <a:xfrm>
            <a:off x="3537000" y="2363760"/>
            <a:ext cx="2754360" cy="347976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3" descr="rasskazy%20po%20kartinkam%20teremok%20vnutri%201_enl"/>
          <p:cNvPicPr/>
          <p:nvPr/>
        </p:nvPicPr>
        <p:blipFill>
          <a:blip r:embed="rId2"/>
          <a:stretch/>
        </p:blipFill>
        <p:spPr>
          <a:xfrm>
            <a:off x="3537000" y="5627520"/>
            <a:ext cx="2754360" cy="32004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5" descr="345b566ee80b"/>
          <p:cNvPicPr/>
          <p:nvPr/>
        </p:nvPicPr>
        <p:blipFill>
          <a:blip r:embed="rId3"/>
          <a:stretch/>
        </p:blipFill>
        <p:spPr>
          <a:xfrm>
            <a:off x="1432080" y="4859280"/>
            <a:ext cx="1888920" cy="393696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8" descr="3"/>
          <p:cNvPicPr/>
          <p:nvPr/>
        </p:nvPicPr>
        <p:blipFill>
          <a:blip r:embed="rId4"/>
          <a:stretch/>
        </p:blipFill>
        <p:spPr>
          <a:xfrm>
            <a:off x="135000" y="2459160"/>
            <a:ext cx="2430360" cy="31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5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9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13" descr="3e92ad8dfeb7a07a021cfd33406a6b1a_21149"/>
          <p:cNvPicPr/>
          <p:nvPr/>
        </p:nvPicPr>
        <p:blipFill>
          <a:blip r:embed="rId1"/>
          <a:stretch/>
        </p:blipFill>
        <p:spPr>
          <a:xfrm>
            <a:off x="1322280" y="3132000"/>
            <a:ext cx="1319400" cy="393552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0" y="252000"/>
            <a:ext cx="6858000" cy="2737080"/>
          </a:xfrm>
          <a:prstGeom prst="rect">
            <a:avLst/>
          </a:prstGeom>
          <a:solidFill>
            <a:srgbClr val="fff9c2"/>
          </a:solidFill>
          <a:ln w="0">
            <a:noFill/>
          </a:ln>
        </p:spPr>
        <p:txBody>
          <a:bodyPr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mic Sans MS"/>
              </a:rPr>
              <a:t>Мачеха с утра до ночи заставляет Золушку трудиться. Несчастной девочке запрещено участвовать в играх и забавах ее сестер. Какая статья Конвенции была бы нарушена, если бы подобное происходило в наши дни?</a:t>
            </a: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AutoShape 7"/>
          <p:cNvSpPr/>
          <p:nvPr/>
        </p:nvSpPr>
        <p:spPr>
          <a:xfrm>
            <a:off x="1538280" y="6684840"/>
            <a:ext cx="4753080" cy="2206800"/>
          </a:xfrm>
          <a:prstGeom prst="foldedCorner">
            <a:avLst>
              <a:gd name="adj" fmla="val 12500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Text Box 8"/>
          <p:cNvSpPr/>
          <p:nvPr/>
        </p:nvSpPr>
        <p:spPr>
          <a:xfrm>
            <a:off x="1646280" y="6684840"/>
            <a:ext cx="4699080" cy="19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Статья 31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раво ребенка на отдых и досуг, право участвовать в играх и развлекательных мероприятиях, и свободно участвовать в культурной жизни и заниматься искусством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1" name="Picture 10" descr="1234189592_zolushka"/>
          <p:cNvPicPr/>
          <p:nvPr/>
        </p:nvPicPr>
        <p:blipFill>
          <a:blip r:embed="rId2"/>
          <a:stretch/>
        </p:blipFill>
        <p:spPr>
          <a:xfrm>
            <a:off x="3213000" y="3322800"/>
            <a:ext cx="2106720" cy="29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0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3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7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" dur="8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" dur="8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" dur="8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7" dur="8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8" dur="8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" dur="8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14440" y="202680"/>
            <a:ext cx="5153040" cy="2133720"/>
          </a:xfrm>
          <a:prstGeom prst="rect">
            <a:avLst/>
          </a:prstGeom>
          <a:solidFill>
            <a:srgbClr val="fffce0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Баба-яга уносит братца Иванушку от сестрицы Аленушки за тридевять земель в тридесятое царство. Какая статья Конвенции была нарушена.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3" name="Picture 4" descr="1015a8dae979"/>
          <p:cNvPicPr/>
          <p:nvPr/>
        </p:nvPicPr>
        <p:blipFill>
          <a:blip r:embed="rId1"/>
          <a:stretch/>
        </p:blipFill>
        <p:spPr>
          <a:xfrm>
            <a:off x="2349360" y="2459160"/>
            <a:ext cx="2322720" cy="4225680"/>
          </a:xfrm>
          <a:prstGeom prst="rect">
            <a:avLst/>
          </a:prstGeom>
          <a:ln w="0">
            <a:noFill/>
          </a:ln>
        </p:spPr>
      </p:pic>
      <p:sp>
        <p:nvSpPr>
          <p:cNvPr id="174" name="AutoShape 6"/>
          <p:cNvSpPr/>
          <p:nvPr/>
        </p:nvSpPr>
        <p:spPr>
          <a:xfrm>
            <a:off x="1538280" y="6972480"/>
            <a:ext cx="4699080" cy="1919160"/>
          </a:xfrm>
          <a:prstGeom prst="foldedCorner">
            <a:avLst>
              <a:gd name="adj" fmla="val 12500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Статья 16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раво на личную жизнь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неприкосновенность и свободу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3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8" dur="8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9" dur="8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" dur="8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0" y="252000"/>
            <a:ext cx="6399360" cy="1631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mic Sans MS"/>
              </a:rPr>
              <a:t>В каких ещё сказках нарушено право на личную неприкосновенность, жизнь и свободу?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6" name="Picture 7" descr="4200"/>
          <p:cNvPicPr/>
          <p:nvPr/>
        </p:nvPicPr>
        <p:blipFill>
          <a:blip r:embed="rId1"/>
          <a:stretch/>
        </p:blipFill>
        <p:spPr>
          <a:xfrm>
            <a:off x="243000" y="1884240"/>
            <a:ext cx="3078000" cy="412128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1" descr="0800d915c9d9"/>
          <p:cNvPicPr/>
          <p:nvPr/>
        </p:nvPicPr>
        <p:blipFill>
          <a:blip r:embed="rId2"/>
          <a:stretch/>
        </p:blipFill>
        <p:spPr>
          <a:xfrm>
            <a:off x="3500280" y="3435480"/>
            <a:ext cx="2565720" cy="41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0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66280" y="635040"/>
            <a:ext cx="5100840" cy="1604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mic Sans MS"/>
              </a:rPr>
              <a:t>В каких ещё сказках нарушено право на личную неприкосновенность, жизнь и свободу?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9" name="Picture 4" descr="8m"/>
          <p:cNvPicPr/>
          <p:nvPr/>
        </p:nvPicPr>
        <p:blipFill>
          <a:blip r:embed="rId1"/>
          <a:stretch/>
        </p:blipFill>
        <p:spPr>
          <a:xfrm>
            <a:off x="890640" y="2266920"/>
            <a:ext cx="2117520" cy="47862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5" descr="nlit-435"/>
          <p:cNvPicPr/>
          <p:nvPr/>
        </p:nvPicPr>
        <p:blipFill>
          <a:blip r:embed="rId2"/>
          <a:stretch/>
        </p:blipFill>
        <p:spPr>
          <a:xfrm>
            <a:off x="3808440" y="3227400"/>
            <a:ext cx="1932120" cy="470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0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4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8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0T09:56:41Z</dcterms:created>
  <dc:creator>Елена</dc:creator>
  <dc:description/>
  <dc:language>en-US</dc:language>
  <cp:lastModifiedBy>User</cp:lastModifiedBy>
  <cp:lastPrinted>2015-04-01T21:45:38Z</cp:lastPrinted>
  <dcterms:modified xsi:type="dcterms:W3CDTF">2022-11-22T05:51:04Z</dcterms:modified>
  <cp:revision>32</cp:revision>
  <dc:subject/>
  <dc:title>"Мы тоже имеем права!"</dc:title>
</cp:coreProperties>
</file>