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2.gif" ContentType="image/gif"/>
  <Override PartName="/ppt/media/image13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E3B-B76A-4E00-9F4D-CEB68648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E6D-B253-4198-9E15-A33174D1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C34-81B6-48E3-8C47-975E8C5A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279-E6DB-4FEE-957B-17B6ED7E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BFA4-C3BF-4A14-AC03-F0612D4A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4041-347B-4CBF-B8EE-BA833B7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ABB-0E0F-440F-91F8-D381E167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EBE9-5E3E-4501-AFEF-4D7C2ABE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06BD-1FDF-4B8F-B387-8E4D752E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2404-DE54-43FE-82DE-BEE53DB7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0D48-FBDC-4E9B-9F6B-51F4E9BB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815-0B11-4240-A99C-DFAA0779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DFA3-51F5-4531-815D-5B576086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CDA2-9B4F-477C-9DAA-81C600A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2C3A-8114-4153-998D-131EE399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D185-A8C3-4E3B-B96D-4D9DB9D2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53AC-A6EC-40C4-A047-99BAA263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FA68-F184-4B4E-B1E2-2D0A2F2B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94F7-D926-4A7E-838D-8D238757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0504-6626-49F2-8568-728E7D3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3375-7D86-49B8-98C4-BC0D7C6C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53BD-57CB-47B0-8C60-7AE429FE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4D9-9235-4647-B2C9-8D51F2AF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1F3E-BC6C-4061-A68C-51AE30B4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52FE-4A9B-4365-A00B-5853960B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B8FB-C32E-4F35-B116-D7C8486A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964C-25DB-4848-9F3B-9069EB4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7976-F6AF-4EFA-9088-93F241CD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0058-F3C0-4529-B30F-8208831D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A7B0-9DB8-4C78-9A60-8D5C664C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5F26-E4E3-4A50-AD3A-006B7C1F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6A65-0C2D-4819-AF57-32944B4F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922BF-0C77-4174-B01C-FFC88813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A89-BF38-4C61-AE43-01C86D00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C6CF-2D73-4465-B537-0F244276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4D1A-89A2-4EA7-BC8F-38E3473A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D247-E5AD-4CE1-8591-1A0C2EB1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EDE9-420A-4C3E-AE97-FA78D6E3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67BA-C53F-41E2-A827-799A56E0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BC8D-1807-44FA-80B6-F2E99D56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884EB-0710-4EB4-97AA-8955336A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0E1B-5773-4ED9-B7DF-EA53B83A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D15BC-76DE-4334-A628-B4D58021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B94CB-8427-48C7-905C-7DC95925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7AC-5E29-46C6-BEEA-A56851AC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7D0FB-3CAA-4038-B004-D520F58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1066-A5D6-4659-BCE7-7DBE8815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B5912-AC5D-4A3C-AA53-7E9B1296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BE070-C8E7-469D-8C04-5CEA88BD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01806-3536-4715-84AA-89606C2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75A2A-17EC-4CEF-ADD5-CFBC96C7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3E18B-9792-4057-A1A0-AE52DB9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FE8A-A51A-4622-AB1F-C9B5B11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355C-93EE-4D79-ADD8-2F097800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D46B8-E7FE-40AB-8188-74B045E7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256-FE75-43F5-90F9-1D266160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E7683-3943-4048-8847-B9238405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9FA5D-03D9-42BD-95CD-3DB62C87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ED98B-7271-4B2C-AA7A-06740692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8D428-03AD-4067-A821-D8D8205A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C7E8F-BD52-40B9-BD3B-798CF047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1EB8E-F1C7-4963-9768-7CD7E343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7FFC8-59CD-4D05-BE79-2FE1D9C6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969A0-FD99-41D3-8142-43880416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5E038-3D1B-4D47-B2FB-9C3706C1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0E4E-E1CE-41C9-8ACD-47F59126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CDB-B8AD-47D6-A8C4-5347362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4A94-A119-463C-8734-E0912CA4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99E8-A285-430F-BB0D-431EB37D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FCCC-F38B-4060-9C81-E773B83D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C01D-CB02-438E-B7C8-39229CE5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91A43-9746-4322-BD52-B7F04F34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2C80E-9567-441E-969E-0DC0980A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1CF33-4E3F-403B-A4D1-9D5E823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3EA5-816A-4370-9819-30E89765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DAE7C-C0A1-4189-81F3-260258AD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197B-66B0-4EEC-911E-3E508792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570-F18A-45BB-AF80-E43231A0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901A-3D6B-40B5-BA89-D5F45619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75AC-DF30-4593-912F-665CCDAB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590D8-D348-4ACA-B988-29C574A7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98CE-488F-4DAD-806B-4E11A849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8B68F-0B65-4065-BC66-3B3282F7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396-AC6F-4A38-BAAF-58B476A8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46520" y="635652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14440" y="6356520"/>
            <a:ext cx="582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DD28-6792-45E2-AD18-3C239F5880D9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3-HD-BTM.png"/>
          <p:cNvPicPr/>
          <p:nvPr/>
        </p:nvPicPr>
        <p:blipFill>
          <a:blip r:embed="rId3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440" y="4314960"/>
            <a:ext cx="218304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028520" y="4324320"/>
            <a:ext cx="480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7720" y="1430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BB4B-B863-445F-B9B9-B723C5B5F328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86080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14080" y="380880"/>
            <a:ext cx="5243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22E5-8BF7-48A3-84AB-04314DA261AB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86080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14080" y="379440"/>
            <a:ext cx="52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9BD2-AB1B-4FA8-AF19-696D19999580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9"/>
          <p:cNvSpPr/>
          <p:nvPr/>
        </p:nvSpPr>
        <p:spPr>
          <a:xfrm>
            <a:off x="357120" y="93348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8237520" y="2701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86080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14080" y="379440"/>
            <a:ext cx="52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2519-1F3C-4F53-84DF-C1370E4EF1BD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86080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14080" y="379440"/>
            <a:ext cx="52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4141-0725-466A-A961-BBABB1406C5F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86080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14080" y="380520"/>
            <a:ext cx="52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77C7-CF66-447A-B635-AAED62A6F496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610920" y="1267920"/>
            <a:ext cx="8281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 Зная, что 113 * 25 = 2825 найдите: 11,3 * 2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) 0,113 * 0,25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Найди ошибку и объясни её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12,47 * 31=38,657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7,1 * 12= 85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) 1,275 * 100=12,7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Вычислите удобным способо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) 2,17 * 2,5 * 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) 2,48 * 2 * 0,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) 4 * 0,5 * 0,2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4) 4 * 3,78 * 2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8" name="Picture 2" descr="https://img2.freepng.ru/20180615/oxx/kisspng-mathematics-number-mathematical-problem-child-arabic-kids-5b2378d4e422b9.6235786015290513489345.jpg"/>
          <p:cNvPicPr/>
          <p:nvPr/>
        </p:nvPicPr>
        <p:blipFill>
          <a:blip r:embed="rId1"/>
          <a:stretch/>
        </p:blipFill>
        <p:spPr>
          <a:xfrm>
            <a:off x="5864400" y="1981080"/>
            <a:ext cx="281592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858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ИТЬ ДЕЙСТВИЯ С  ДЕСЯТИЧНЫМИ ДРОБЯМ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0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248000" cy="2087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https://kartinkin.net/uploads/posts/2022-03/1646375756_73-kartinkin-net-p-matematicheskie-kartinki-dlya-oformleniya-79.png"/>
          <p:cNvPicPr/>
          <p:nvPr/>
        </p:nvPicPr>
        <p:blipFill>
          <a:blip r:embed="rId2"/>
          <a:stretch/>
        </p:blipFill>
        <p:spPr>
          <a:xfrm>
            <a:off x="2771640" y="4962600"/>
            <a:ext cx="3672000" cy="1895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93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Математические рисунки"/>
          <p:cNvPicPr/>
          <p:nvPr/>
        </p:nvPicPr>
        <p:blipFill>
          <a:blip r:embed="rId2"/>
          <a:stretch/>
        </p:blipFill>
        <p:spPr>
          <a:xfrm>
            <a:off x="2700360" y="3112920"/>
            <a:ext cx="391968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2012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gradFill rotWithShape="0">
            <a:gsLst>
              <a:gs pos="0">
                <a:srgbClr val="fffda3"/>
              </a:gs>
              <a:gs pos="50000">
                <a:srgbClr val="ffffff"/>
              </a:gs>
              <a:gs pos="100000">
                <a:srgbClr val="fffda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УСТНАЯ ПРОВЕРОЧНАЯ РАБОТА</a:t>
            </a:r>
            <a:r>
              <a:rPr b="0" lang="ru-RU" sz="3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4"/>
              <p:cNvSpPr txBox="1"/>
              <p:nvPr/>
            </p:nvSpPr>
            <p:spPr>
              <a:xfrm>
                <a:off x="228600" y="1905120"/>
                <a:ext cx="21574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"/>
              <p:cNvSpPr txBox="1"/>
              <p:nvPr/>
            </p:nvSpPr>
            <p:spPr>
              <a:xfrm>
                <a:off x="2714760" y="1928880"/>
                <a:ext cx="917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Text Box 6"/>
          <p:cNvSpPr/>
          <p:nvPr/>
        </p:nvSpPr>
        <p:spPr>
          <a:xfrm>
            <a:off x="914400" y="685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умн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4643280" y="1143000"/>
            <a:ext cx="0" cy="5410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1447920" y="1219320"/>
            <a:ext cx="2361960" cy="520560"/>
          </a:xfrm>
          <a:prstGeom prst="rect">
            <a:avLst/>
          </a:prstGeom>
          <a:solidFill>
            <a:srgbClr val="fff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6507"/>
                </a:solidFill>
                <a:latin typeface="Arial"/>
              </a:rPr>
              <a:t>Вариан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5257800" y="1219320"/>
            <a:ext cx="2362320" cy="520560"/>
          </a:xfrm>
          <a:prstGeom prst="rect">
            <a:avLst/>
          </a:prstGeom>
          <a:solidFill>
            <a:srgbClr val="fff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0bdb"/>
                </a:solidFill>
                <a:latin typeface="Arial"/>
              </a:rPr>
              <a:t>Вариант</a:t>
            </a:r>
            <a:r>
              <a:rPr b="0" lang="ru-RU" sz="2800" spc="-1" strike="noStrike">
                <a:solidFill>
                  <a:srgbClr val="12650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0"/>
              <p:cNvSpPr txBox="1"/>
              <p:nvPr/>
            </p:nvSpPr>
            <p:spPr>
              <a:xfrm>
                <a:off x="228600" y="2590920"/>
                <a:ext cx="20574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2786040" y="2571840"/>
                <a:ext cx="914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2"/>
              <p:cNvSpPr txBox="1"/>
              <p:nvPr/>
            </p:nvSpPr>
            <p:spPr>
              <a:xfrm>
                <a:off x="228600" y="3276720"/>
                <a:ext cx="251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3"/>
              <p:cNvSpPr txBox="1"/>
              <p:nvPr/>
            </p:nvSpPr>
            <p:spPr>
              <a:xfrm>
                <a:off x="2743200" y="3276720"/>
                <a:ext cx="142236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4"/>
              <p:cNvSpPr txBox="1"/>
              <p:nvPr/>
            </p:nvSpPr>
            <p:spPr>
              <a:xfrm>
                <a:off x="228600" y="3962520"/>
                <a:ext cx="2281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7,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5"/>
              <p:cNvSpPr txBox="1"/>
              <p:nvPr/>
            </p:nvSpPr>
            <p:spPr>
              <a:xfrm>
                <a:off x="2714760" y="3929040"/>
                <a:ext cx="1547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6"/>
              <p:cNvSpPr txBox="1"/>
              <p:nvPr/>
            </p:nvSpPr>
            <p:spPr>
              <a:xfrm>
                <a:off x="228600" y="4648320"/>
                <a:ext cx="25066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7"/>
              <p:cNvSpPr txBox="1"/>
              <p:nvPr/>
            </p:nvSpPr>
            <p:spPr>
              <a:xfrm>
                <a:off x="2743200" y="4648320"/>
                <a:ext cx="1176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8"/>
              <p:cNvSpPr txBox="1"/>
              <p:nvPr/>
            </p:nvSpPr>
            <p:spPr>
              <a:xfrm>
                <a:off x="4857840" y="2000160"/>
                <a:ext cx="20937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9"/>
              <p:cNvSpPr txBox="1"/>
              <p:nvPr/>
            </p:nvSpPr>
            <p:spPr>
              <a:xfrm>
                <a:off x="7215120" y="2000160"/>
                <a:ext cx="863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0"/>
              <p:cNvSpPr txBox="1"/>
              <p:nvPr/>
            </p:nvSpPr>
            <p:spPr>
              <a:xfrm>
                <a:off x="4724280" y="2514600"/>
                <a:ext cx="2629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1"/>
              <p:cNvSpPr txBox="1"/>
              <p:nvPr/>
            </p:nvSpPr>
            <p:spPr>
              <a:xfrm>
                <a:off x="7315200" y="2514600"/>
                <a:ext cx="1276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2"/>
              <p:cNvSpPr txBox="1"/>
              <p:nvPr/>
            </p:nvSpPr>
            <p:spPr>
              <a:xfrm>
                <a:off x="4786200" y="3143160"/>
                <a:ext cx="2514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3"/>
              <p:cNvSpPr txBox="1"/>
              <p:nvPr/>
            </p:nvSpPr>
            <p:spPr>
              <a:xfrm>
                <a:off x="7358040" y="3214800"/>
                <a:ext cx="1066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4"/>
              <p:cNvSpPr txBox="1"/>
              <p:nvPr/>
            </p:nvSpPr>
            <p:spPr>
              <a:xfrm>
                <a:off x="4857840" y="385776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5"/>
              <p:cNvSpPr txBox="1"/>
              <p:nvPr/>
            </p:nvSpPr>
            <p:spPr>
              <a:xfrm>
                <a:off x="7358040" y="3857760"/>
                <a:ext cx="990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6"/>
              <p:cNvSpPr txBox="1"/>
              <p:nvPr/>
            </p:nvSpPr>
            <p:spPr>
              <a:xfrm>
                <a:off x="4876920" y="4572000"/>
                <a:ext cx="2117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7"/>
              <p:cNvSpPr txBox="1"/>
              <p:nvPr/>
            </p:nvSpPr>
            <p:spPr>
              <a:xfrm>
                <a:off x="7286760" y="4572000"/>
                <a:ext cx="1047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47280" y="763200"/>
            <a:ext cx="759636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523880" y="2209680"/>
          <a:ext cx="7080480" cy="2803680"/>
        </p:xfrm>
        <a:graphic>
          <a:graphicData uri="http://schemas.openxmlformats.org/drawingml/2006/table">
            <a:tbl>
              <a:tblPr/>
              <a:tblGrid>
                <a:gridCol w="7080480"/>
              </a:tblGrid>
              <a:tr h="2803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рочитать теоретический материал п.36  на стр. 102-103 учебника, выучить алгоритм умножения десятичных дроб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ыполнить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44, 551,554, (для преуспевающих учеников: №553, 556)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0"/>
          <p:cNvSpPr/>
          <p:nvPr/>
        </p:nvSpPr>
        <p:spPr>
          <a:xfrm>
            <a:off x="1547640" y="1125360"/>
            <a:ext cx="59770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ПОКАЖИ  СВОЁ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НАСТРО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            </a:t>
            </a: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и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4" descr="4d123fbc6b642667114737f0590440a5"/>
          <p:cNvPicPr/>
          <p:nvPr/>
        </p:nvPicPr>
        <p:blipFill>
          <a:blip r:embed="rId1"/>
          <a:stretch/>
        </p:blipFill>
        <p:spPr>
          <a:xfrm>
            <a:off x="324000" y="4221000"/>
            <a:ext cx="2800080" cy="995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6" descr="26a8bc3773f1f0871eb342d8d742252b"/>
          <p:cNvPicPr/>
          <p:nvPr/>
        </p:nvPicPr>
        <p:blipFill>
          <a:blip r:embed="rId2"/>
          <a:stretch/>
        </p:blipFill>
        <p:spPr>
          <a:xfrm>
            <a:off x="6084720" y="414972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s://gas-kvas.com/uploads/posts/2023-01/1674049923_gas-kvas-com-p-risunok-na-temu-moi-lyubimii-predmet-matem-48.jpg"/>
          <p:cNvPicPr/>
          <p:nvPr/>
        </p:nvPicPr>
        <p:blipFill>
          <a:blip r:embed="rId1"/>
          <a:stretch/>
        </p:blipFill>
        <p:spPr>
          <a:xfrm>
            <a:off x="1974960" y="2273400"/>
            <a:ext cx="5626080" cy="4376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18920" y="981000"/>
            <a:ext cx="6458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35,8*0,4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467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УМНОЖЕНИЕ ДЕСЯТИЧНЫХ  ДРОБЕЙ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br>
              <a:rPr sz="1600"/>
            </a:b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2" name="Picture 56" descr="J0216708"/>
          <p:cNvPicPr/>
          <p:nvPr/>
        </p:nvPicPr>
        <p:blipFill>
          <a:blip r:embed="rId1"/>
          <a:stretch/>
        </p:blipFill>
        <p:spPr>
          <a:xfrm>
            <a:off x="2843280" y="2276640"/>
            <a:ext cx="4108320" cy="4214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ЧЕЛОВЕК ИДЕТ СО СКОРОСТЬЮ 4,6 КМ/Ч. КАКОЕ РАССТОЯНИЕ ОН ПРОЙДЕТ: А) ЗА 3 Ч, Б) ЗА 0,1 Ч, В) ЗА 0,3 Ч?</a:t>
            </a:r>
            <a:br>
              <a:rPr sz="3200"/>
            </a:br>
            <a:br>
              <a:rPr sz="3200"/>
            </a:b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br>
              <a:rPr sz="1600"/>
            </a:b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4" name="Picture 2" descr="https://img.favpng.com/3/6/1/elementary-mathematics-clip-art-png-favpng-RA3qUTQtcvrzbUaNAshBDMBRh.jpg"/>
          <p:cNvPicPr/>
          <p:nvPr/>
        </p:nvPicPr>
        <p:blipFill>
          <a:blip r:embed="rId1"/>
          <a:srcRect l="24894" t="17644" r="24401" b="14324"/>
          <a:stretch/>
        </p:blipFill>
        <p:spPr>
          <a:xfrm>
            <a:off x="2700360" y="2970360"/>
            <a:ext cx="395928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34920" y="763200"/>
            <a:ext cx="6794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РЕШЕНИЕ ЗАДАЧИ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500040" y="17146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3 ч человек пройдет 4,6 • 3, то есть 13,8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 0,1 ч, то есть за       ч, человек пройдет в 10 раз меньше, чем за 1 ч, то есть он пройдет (4,6 : 10) км, или 0,46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Так как 0,3 =       ч, то путь, пройденный за 0,3 ч, втрое больше пути, пройденного за 0,1 ч. Он равен (0,46 • 3) км, то есть 1,38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3643200" y="2214720"/>
                <a:ext cx="428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2714760" y="3643200"/>
                <a:ext cx="428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СДЕЛАЙТЕ ОБОБЩЕНИЕ ПО СЛЕДУЮЩИМ ПРЕДЛОЖЕНИЯМ ЗАДАЧ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ак как путь равен произведению скорости движения и времени, то надо считать, что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,6 • 0,1 = 0,46. 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от же результат получается при 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делении  4,6 на 10,  то есть 4,6 : 10 = 0,46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братите внимание на то, что один и тот же ответ получается при различных действиях с дробями, сделайте вывод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ак как при различных действиях получились равные значения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,6 • 0,1 = 0,46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,6  : 10  = 0,46,   то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 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Умножить число на 0,1;   0,01;  0,001 —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о же самое,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что разделить его на 10, 100, 1000»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763560"/>
            <a:ext cx="792180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ЧТОБЫ УМНОЖИТЬ ДЕСЯТИЧНЫЕ ДРОБИ, НУЖНО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Записать числа в столбик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Умножить их не обращая внимания на запятые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осчитать количество знаков после запятой в обоих множителях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В произведении отделить запятой справа получившееся число знаков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0" y="260280"/>
            <a:ext cx="4464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множение десятичной дроби на натураль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4680000" y="260280"/>
            <a:ext cx="432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множение десятичной дроби на десятич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475"/>
          <p:cNvGrpSpPr/>
          <p:nvPr/>
        </p:nvGrpSpPr>
        <p:grpSpPr>
          <a:xfrm>
            <a:off x="6227640" y="873000"/>
            <a:ext cx="2376720" cy="1390680"/>
            <a:chOff x="6227640" y="873000"/>
            <a:chExt cx="2376720" cy="1390680"/>
          </a:xfrm>
        </p:grpSpPr>
        <p:sp>
          <p:nvSpPr>
            <p:cNvPr id="318" name="Text Box 405"/>
            <p:cNvSpPr/>
            <p:nvPr/>
          </p:nvSpPr>
          <p:spPr>
            <a:xfrm>
              <a:off x="806436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06"/>
            <p:cNvSpPr/>
            <p:nvPr/>
          </p:nvSpPr>
          <p:spPr>
            <a:xfrm>
              <a:off x="741672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07"/>
            <p:cNvSpPr/>
            <p:nvPr/>
          </p:nvSpPr>
          <p:spPr>
            <a:xfrm>
              <a:off x="684036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408"/>
            <p:cNvSpPr/>
            <p:nvPr/>
          </p:nvSpPr>
          <p:spPr>
            <a:xfrm>
              <a:off x="622764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423"/>
            <p:cNvSpPr/>
            <p:nvPr/>
          </p:nvSpPr>
          <p:spPr>
            <a:xfrm>
              <a:off x="6443640" y="1197000"/>
              <a:ext cx="53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657"/>
          <p:cNvGrpSpPr/>
          <p:nvPr/>
        </p:nvGrpSpPr>
        <p:grpSpPr>
          <a:xfrm>
            <a:off x="7451640" y="1881360"/>
            <a:ext cx="1115640" cy="1427040"/>
            <a:chOff x="7451640" y="1881360"/>
            <a:chExt cx="1115640" cy="1427040"/>
          </a:xfrm>
        </p:grpSpPr>
        <p:sp>
          <p:nvSpPr>
            <p:cNvPr id="324" name="Text Box 410"/>
            <p:cNvSpPr/>
            <p:nvPr/>
          </p:nvSpPr>
          <p:spPr>
            <a:xfrm>
              <a:off x="8027640" y="1881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415"/>
            <p:cNvSpPr/>
            <p:nvPr/>
          </p:nvSpPr>
          <p:spPr>
            <a:xfrm>
              <a:off x="7451640" y="1881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424"/>
            <p:cNvSpPr/>
            <p:nvPr/>
          </p:nvSpPr>
          <p:spPr>
            <a:xfrm>
              <a:off x="7738920" y="2241720"/>
              <a:ext cx="539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73"/>
          <p:cNvGrpSpPr/>
          <p:nvPr/>
        </p:nvGrpSpPr>
        <p:grpSpPr>
          <a:xfrm>
            <a:off x="5653080" y="5084640"/>
            <a:ext cx="2951280" cy="1371960"/>
            <a:chOff x="5653080" y="5084640"/>
            <a:chExt cx="2951280" cy="1371960"/>
          </a:xfrm>
        </p:grpSpPr>
        <p:sp>
          <p:nvSpPr>
            <p:cNvPr id="328" name="Text Box 416"/>
            <p:cNvSpPr/>
            <p:nvPr/>
          </p:nvSpPr>
          <p:spPr>
            <a:xfrm>
              <a:off x="8064360" y="508464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17"/>
            <p:cNvSpPr/>
            <p:nvPr/>
          </p:nvSpPr>
          <p:spPr>
            <a:xfrm>
              <a:off x="745344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18"/>
            <p:cNvSpPr/>
            <p:nvPr/>
          </p:nvSpPr>
          <p:spPr>
            <a:xfrm>
              <a:off x="687708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19"/>
            <p:cNvSpPr/>
            <p:nvPr/>
          </p:nvSpPr>
          <p:spPr>
            <a:xfrm>
              <a:off x="626436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420"/>
            <p:cNvSpPr/>
            <p:nvPr/>
          </p:nvSpPr>
          <p:spPr>
            <a:xfrm>
              <a:off x="565308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425"/>
          <p:cNvSpPr/>
          <p:nvPr/>
        </p:nvSpPr>
        <p:spPr>
          <a:xfrm>
            <a:off x="5904000" y="5445000"/>
            <a:ext cx="539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6"/>
          <p:cNvSpPr/>
          <p:nvPr/>
        </p:nvSpPr>
        <p:spPr>
          <a:xfrm>
            <a:off x="5651640" y="1665360"/>
            <a:ext cx="53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427"/>
          <p:cNvSpPr/>
          <p:nvPr/>
        </p:nvSpPr>
        <p:spPr>
          <a:xfrm flipV="1">
            <a:off x="6840360" y="1988280"/>
            <a:ext cx="1764000" cy="179640"/>
          </a:xfrm>
          <a:custGeom>
            <a:avLst/>
            <a:gdLst>
              <a:gd name="textAreaLeft" fmla="*/ 0 w 1764000"/>
              <a:gd name="textAreaRight" fmla="*/ 1764360 w 1764000"/>
              <a:gd name="textAreaTop" fmla="*/ -360 h 179640"/>
              <a:gd name="textAreaBottom" fmla="*/ 179640 h 17964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rc 428"/>
          <p:cNvSpPr/>
          <p:nvPr/>
        </p:nvSpPr>
        <p:spPr>
          <a:xfrm flipV="1">
            <a:off x="6840360" y="1988280"/>
            <a:ext cx="1764000" cy="179640"/>
          </a:xfrm>
          <a:custGeom>
            <a:avLst/>
            <a:gdLst>
              <a:gd name="textAreaLeft" fmla="*/ 0 w 1764000"/>
              <a:gd name="textAreaRight" fmla="*/ 1764360 w 1764000"/>
              <a:gd name="textAreaTop" fmla="*/ -360 h 179640"/>
              <a:gd name="textAreaBottom" fmla="*/ 179640 h 17964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429"/>
          <p:cNvSpPr/>
          <p:nvPr/>
        </p:nvSpPr>
        <p:spPr>
          <a:xfrm flipV="1">
            <a:off x="8136000" y="2959920"/>
            <a:ext cx="503280" cy="181080"/>
          </a:xfrm>
          <a:custGeom>
            <a:avLst/>
            <a:gdLst>
              <a:gd name="textAreaLeft" fmla="*/ 0 w 503280"/>
              <a:gd name="textAreaRight" fmla="*/ 503640 w 50328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78"/>
          <p:cNvSpPr/>
          <p:nvPr/>
        </p:nvSpPr>
        <p:spPr>
          <a:xfrm>
            <a:off x="6192720" y="321300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79"/>
          <p:cNvSpPr/>
          <p:nvPr/>
        </p:nvSpPr>
        <p:spPr>
          <a:xfrm>
            <a:off x="900000" y="1773360"/>
            <a:ext cx="54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86"/>
          <p:cNvGrpSpPr/>
          <p:nvPr/>
        </p:nvGrpSpPr>
        <p:grpSpPr>
          <a:xfrm>
            <a:off x="1547640" y="909720"/>
            <a:ext cx="1728720" cy="1390680"/>
            <a:chOff x="1547640" y="909720"/>
            <a:chExt cx="1728720" cy="1390680"/>
          </a:xfrm>
        </p:grpSpPr>
        <p:sp>
          <p:nvSpPr>
            <p:cNvPr id="341" name="Text Box 482"/>
            <p:cNvSpPr/>
            <p:nvPr/>
          </p:nvSpPr>
          <p:spPr>
            <a:xfrm>
              <a:off x="273672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83"/>
            <p:cNvSpPr/>
            <p:nvPr/>
          </p:nvSpPr>
          <p:spPr>
            <a:xfrm>
              <a:off x="216036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84"/>
            <p:cNvSpPr/>
            <p:nvPr/>
          </p:nvSpPr>
          <p:spPr>
            <a:xfrm>
              <a:off x="154764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85"/>
            <p:cNvSpPr/>
            <p:nvPr/>
          </p:nvSpPr>
          <p:spPr>
            <a:xfrm>
              <a:off x="1763640" y="1233720"/>
              <a:ext cx="53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510"/>
          <p:cNvGrpSpPr/>
          <p:nvPr/>
        </p:nvGrpSpPr>
        <p:grpSpPr>
          <a:xfrm>
            <a:off x="1547640" y="3033720"/>
            <a:ext cx="1692360" cy="1371960"/>
            <a:chOff x="1547640" y="3033720"/>
            <a:chExt cx="1692360" cy="1371960"/>
          </a:xfrm>
        </p:grpSpPr>
        <p:sp>
          <p:nvSpPr>
            <p:cNvPr id="346" name="Text Box 488"/>
            <p:cNvSpPr/>
            <p:nvPr/>
          </p:nvSpPr>
          <p:spPr>
            <a:xfrm>
              <a:off x="2700360" y="3033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489"/>
            <p:cNvSpPr/>
            <p:nvPr/>
          </p:nvSpPr>
          <p:spPr>
            <a:xfrm>
              <a:off x="2160720" y="3033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490"/>
            <p:cNvSpPr/>
            <p:nvPr/>
          </p:nvSpPr>
          <p:spPr>
            <a:xfrm>
              <a:off x="154764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491"/>
          <p:cNvSpPr/>
          <p:nvPr/>
        </p:nvSpPr>
        <p:spPr>
          <a:xfrm>
            <a:off x="1727280" y="5516640"/>
            <a:ext cx="539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492"/>
          <p:cNvSpPr/>
          <p:nvPr/>
        </p:nvSpPr>
        <p:spPr>
          <a:xfrm flipV="1">
            <a:off x="2158920" y="2023920"/>
            <a:ext cx="1044720" cy="216000"/>
          </a:xfrm>
          <a:custGeom>
            <a:avLst/>
            <a:gdLst>
              <a:gd name="textAreaLeft" fmla="*/ 0 w 1044720"/>
              <a:gd name="textAreaRight" fmla="*/ 1045080 w 104472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94"/>
          <p:cNvSpPr/>
          <p:nvPr/>
        </p:nvSpPr>
        <p:spPr>
          <a:xfrm>
            <a:off x="1368360" y="3141720"/>
            <a:ext cx="19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509"/>
          <p:cNvGrpSpPr/>
          <p:nvPr/>
        </p:nvGrpSpPr>
        <p:grpSpPr>
          <a:xfrm>
            <a:off x="2087640" y="1952640"/>
            <a:ext cx="1152360" cy="1419480"/>
            <a:chOff x="2087640" y="1952640"/>
            <a:chExt cx="1152360" cy="1419480"/>
          </a:xfrm>
        </p:grpSpPr>
        <p:sp>
          <p:nvSpPr>
            <p:cNvPr id="353" name="Text Box 481"/>
            <p:cNvSpPr/>
            <p:nvPr/>
          </p:nvSpPr>
          <p:spPr>
            <a:xfrm>
              <a:off x="2700360" y="20001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495"/>
            <p:cNvSpPr/>
            <p:nvPr/>
          </p:nvSpPr>
          <p:spPr>
            <a:xfrm>
              <a:off x="2087640" y="1952640"/>
              <a:ext cx="539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55"/>
          <p:cNvGrpSpPr/>
          <p:nvPr/>
        </p:nvGrpSpPr>
        <p:grpSpPr>
          <a:xfrm>
            <a:off x="971640" y="4076640"/>
            <a:ext cx="1692360" cy="1371960"/>
            <a:chOff x="971640" y="4076640"/>
            <a:chExt cx="1692360" cy="1371960"/>
          </a:xfrm>
        </p:grpSpPr>
        <p:sp>
          <p:nvSpPr>
            <p:cNvPr id="356" name="Text Box 512"/>
            <p:cNvSpPr/>
            <p:nvPr/>
          </p:nvSpPr>
          <p:spPr>
            <a:xfrm>
              <a:off x="2124000" y="407664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513"/>
            <p:cNvSpPr/>
            <p:nvPr/>
          </p:nvSpPr>
          <p:spPr>
            <a:xfrm>
              <a:off x="1511280" y="4076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514"/>
            <p:cNvSpPr/>
            <p:nvPr/>
          </p:nvSpPr>
          <p:spPr>
            <a:xfrm>
              <a:off x="971640" y="4076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Line 543"/>
          <p:cNvSpPr/>
          <p:nvPr/>
        </p:nvSpPr>
        <p:spPr>
          <a:xfrm>
            <a:off x="863640" y="526572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56"/>
          <p:cNvGrpSpPr/>
          <p:nvPr/>
        </p:nvGrpSpPr>
        <p:grpSpPr>
          <a:xfrm>
            <a:off x="863640" y="5229360"/>
            <a:ext cx="2376360" cy="1371960"/>
            <a:chOff x="863640" y="5229360"/>
            <a:chExt cx="2376360" cy="1371960"/>
          </a:xfrm>
        </p:grpSpPr>
        <p:sp>
          <p:nvSpPr>
            <p:cNvPr id="361" name="Text Box 545"/>
            <p:cNvSpPr/>
            <p:nvPr/>
          </p:nvSpPr>
          <p:spPr>
            <a:xfrm>
              <a:off x="270036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546"/>
            <p:cNvSpPr/>
            <p:nvPr/>
          </p:nvSpPr>
          <p:spPr>
            <a:xfrm>
              <a:off x="2124000" y="522936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547"/>
            <p:cNvSpPr/>
            <p:nvPr/>
          </p:nvSpPr>
          <p:spPr>
            <a:xfrm>
              <a:off x="144000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548"/>
            <p:cNvSpPr/>
            <p:nvPr/>
          </p:nvSpPr>
          <p:spPr>
            <a:xfrm>
              <a:off x="86364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551"/>
          <p:cNvSpPr/>
          <p:nvPr/>
        </p:nvSpPr>
        <p:spPr>
          <a:xfrm>
            <a:off x="287280" y="3753000"/>
            <a:ext cx="53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rc 658"/>
          <p:cNvSpPr/>
          <p:nvPr/>
        </p:nvSpPr>
        <p:spPr>
          <a:xfrm flipV="1">
            <a:off x="8101080" y="2959920"/>
            <a:ext cx="503280" cy="181080"/>
          </a:xfrm>
          <a:custGeom>
            <a:avLst/>
            <a:gdLst>
              <a:gd name="textAreaLeft" fmla="*/ 0 w 503280"/>
              <a:gd name="textAreaRight" fmla="*/ 503640 w 50328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9"/>
          <p:cNvSpPr/>
          <p:nvPr/>
        </p:nvSpPr>
        <p:spPr>
          <a:xfrm>
            <a:off x="5435640" y="530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666"/>
          <p:cNvGrpSpPr/>
          <p:nvPr/>
        </p:nvGrpSpPr>
        <p:grpSpPr>
          <a:xfrm>
            <a:off x="6227640" y="3033720"/>
            <a:ext cx="2376720" cy="1371960"/>
            <a:chOff x="6227640" y="3033720"/>
            <a:chExt cx="2376720" cy="1371960"/>
          </a:xfrm>
        </p:grpSpPr>
        <p:sp>
          <p:nvSpPr>
            <p:cNvPr id="369" name="Text Box 661"/>
            <p:cNvSpPr/>
            <p:nvPr/>
          </p:nvSpPr>
          <p:spPr>
            <a:xfrm>
              <a:off x="806436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662"/>
            <p:cNvSpPr/>
            <p:nvPr/>
          </p:nvSpPr>
          <p:spPr>
            <a:xfrm>
              <a:off x="741672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663"/>
            <p:cNvSpPr/>
            <p:nvPr/>
          </p:nvSpPr>
          <p:spPr>
            <a:xfrm>
              <a:off x="684036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664"/>
            <p:cNvSpPr/>
            <p:nvPr/>
          </p:nvSpPr>
          <p:spPr>
            <a:xfrm>
              <a:off x="622764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67"/>
          <p:cNvGrpSpPr/>
          <p:nvPr/>
        </p:nvGrpSpPr>
        <p:grpSpPr>
          <a:xfrm>
            <a:off x="5616720" y="4041720"/>
            <a:ext cx="2376000" cy="1371960"/>
            <a:chOff x="5616720" y="4041720"/>
            <a:chExt cx="2376000" cy="1371960"/>
          </a:xfrm>
        </p:grpSpPr>
        <p:sp>
          <p:nvSpPr>
            <p:cNvPr id="374" name="Text Box 668"/>
            <p:cNvSpPr/>
            <p:nvPr/>
          </p:nvSpPr>
          <p:spPr>
            <a:xfrm>
              <a:off x="745308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669"/>
            <p:cNvSpPr/>
            <p:nvPr/>
          </p:nvSpPr>
          <p:spPr>
            <a:xfrm>
              <a:off x="680544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670"/>
            <p:cNvSpPr/>
            <p:nvPr/>
          </p:nvSpPr>
          <p:spPr>
            <a:xfrm>
              <a:off x="622908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671"/>
            <p:cNvSpPr/>
            <p:nvPr/>
          </p:nvSpPr>
          <p:spPr>
            <a:xfrm>
              <a:off x="561672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672"/>
          <p:cNvSpPr/>
          <p:nvPr/>
        </p:nvSpPr>
        <p:spPr>
          <a:xfrm>
            <a:off x="5076720" y="3789360"/>
            <a:ext cx="54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674"/>
          <p:cNvSpPr/>
          <p:nvPr/>
        </p:nvSpPr>
        <p:spPr>
          <a:xfrm flipV="1">
            <a:off x="2124000" y="6308640"/>
            <a:ext cx="1044720" cy="216000"/>
          </a:xfrm>
          <a:custGeom>
            <a:avLst/>
            <a:gdLst>
              <a:gd name="textAreaLeft" fmla="*/ 0 w 1044720"/>
              <a:gd name="textAreaRight" fmla="*/ 1045080 w 104472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676"/>
          <p:cNvSpPr/>
          <p:nvPr/>
        </p:nvSpPr>
        <p:spPr>
          <a:xfrm flipV="1">
            <a:off x="2158920" y="2023920"/>
            <a:ext cx="1044720" cy="216000"/>
          </a:xfrm>
          <a:custGeom>
            <a:avLst/>
            <a:gdLst>
              <a:gd name="textAreaLeft" fmla="*/ 0 w 1044720"/>
              <a:gd name="textAreaRight" fmla="*/ 1045080 w 104472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679"/>
          <p:cNvGrpSpPr/>
          <p:nvPr/>
        </p:nvGrpSpPr>
        <p:grpSpPr>
          <a:xfrm>
            <a:off x="6300720" y="6200280"/>
            <a:ext cx="2340000" cy="181080"/>
            <a:chOff x="6300720" y="6200280"/>
            <a:chExt cx="2340000" cy="181080"/>
          </a:xfrm>
        </p:grpSpPr>
        <p:sp>
          <p:nvSpPr>
            <p:cNvPr id="382" name="Arc 677"/>
            <p:cNvSpPr/>
            <p:nvPr/>
          </p:nvSpPr>
          <p:spPr>
            <a:xfrm flipV="1">
              <a:off x="6300720" y="6199920"/>
              <a:ext cx="503280" cy="1810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fill="none" w="43200" h="22436">
                  <a:moveTo>
                    <a:pt x="16" y="22435"/>
                  </a:moveTo>
                  <a:cubicBezTo>
                    <a:pt x="5" y="22157"/>
                    <a:pt x="0" y="2187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436">
                  <a:moveTo>
                    <a:pt x="16" y="22435"/>
                  </a:moveTo>
                  <a:cubicBezTo>
                    <a:pt x="5" y="22157"/>
                    <a:pt x="0" y="2187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rc 678"/>
            <p:cNvSpPr/>
            <p:nvPr/>
          </p:nvSpPr>
          <p:spPr>
            <a:xfrm flipV="1">
              <a:off x="6877080" y="6199920"/>
              <a:ext cx="1763640" cy="1796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-360 h 179640"/>
                <a:gd name="textAreaBottom" fmla="*/ 179640 h 179640"/>
              </a:gdLst>
              <a:ahLst/>
              <a:rect l="textAreaLeft" t="textAreaTop" r="textAreaRight" b="textAreaBottom"/>
              <a:pathLst>
                <a:path fill="none" w="43200" h="22436">
                  <a:moveTo>
                    <a:pt x="16" y="22435"/>
                  </a:moveTo>
                  <a:cubicBezTo>
                    <a:pt x="5" y="22157"/>
                    <a:pt x="0" y="2187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436">
                  <a:moveTo>
                    <a:pt x="16" y="22435"/>
                  </a:moveTo>
                  <a:cubicBezTo>
                    <a:pt x="5" y="22157"/>
                    <a:pt x="0" y="2187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481"/>
          <p:cNvSpPr/>
          <p:nvPr/>
        </p:nvSpPr>
        <p:spPr>
          <a:xfrm>
            <a:off x="2214720" y="2000160"/>
            <a:ext cx="539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2085 C 0.10868 0.04819 0.15833 0.11747 0.17483 0.20621 C 0.19132 0.29495 0.17778 0.43721 0.15781 0.51112 C 0.13785 0.58503 0.08316 0.62952 0.05521 0.64991 C 0.02726 0.67029 0.00868 0.65222 -0.00972 0.63415 E">
                                      <p:cBhvr>
                                        <p:cTn id="7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16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3" presetSubtype="16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3" presetSubtype="1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8.34106E-008 C -0.02413 0.00602 -0.04826 0.01228 -0.07135 0.02618 C -0.09444 0.04008 -0.12031 0.06487 -0.13888 0.08341 C -0.15746 0.10195 -0.16649 0.1133 -0.18316 0.13693 C -0.19982 0.16057 -0.22517 0.19532 -0.23888 0.22544 C -0.2526 0.25556 -0.26041 0.28568 -0.26493 0.31719 C -0.26944 0.3487 -0.26892 0.38299 -0.26614 0.41427 C -0.26336 0.44555 -0.25729 0.47637 -0.24809 0.5044 C -0.23888 0.53244 -0.22343 0.56024 -0.21041 0.58248 C -0.19739 0.60473 -0.19218 0.62419 -0.17013 0.63786 C -0.14809 0.65153 -0.10642 0.66798 -0.07795 0.66404 C -0.04947 0.6601 -0.01545 0.62419 0.00105 0.61353 E">
                                      <p:cBhvr>
                                        <p:cTn id="164" dur="3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574 C -0.01858 0.01967 -0.03872 0.02361 -0.06719 0.02963 C -0.09566 0.03565 -0.13889 0.04236 -0.16979 0.05208 C -0.2007 0.0618 -0.22726 0.07153 -0.25295 0.08842 C -0.27865 0.10532 -0.30608 0.13541 -0.32431 0.1544 C -0.34254 0.17338 -0.34879 0.18055 -0.36268 0.20301 C -0.37656 0.22546 -0.39792 0.25787 -0.40816 0.28958 C -0.4184 0.32129 -0.42535 0.36157 -0.42379 0.39375 C -0.42222 0.42569 -0.41198 0.45926 -0.39844 0.48194 C -0.3849 0.50463 -0.36198 0.52083 -0.34254 0.53055 C -0.32309 0.54028 -0.30226 0.54143 -0.28212 0.54074 C -0.26198 0.54004 -0.23611 0.53773 -0.2217 0.52639 C -0.20729 0.51504 -0.20087 0.48379 -0.19531 0.47268 E">
                                      <p:cBhvr>
                                        <p:cTn id="174" dur="3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2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2" nodeType="after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3" presetSubtype="32" repeatCount="3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18:10:41Z</dcterms:created>
  <dc:creator>Татьяна Петровна</dc:creator>
  <dc:description/>
  <dc:language>en-US</dc:language>
  <cp:lastModifiedBy>User</cp:lastModifiedBy>
  <dcterms:modified xsi:type="dcterms:W3CDTF">2023-03-15T10:31:00Z</dcterms:modified>
  <cp:revision>59</cp:revision>
  <dc:subject/>
  <dc:title>Слайд 1</dc:title>
</cp:coreProperties>
</file>