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2.gif" ContentType="image/gif"/>
  <Override PartName="/ppt/media/image13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B50-A45A-4018-BC9E-868D1E27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00B-77CE-43D3-B34F-A3E63A6C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CDD-FC45-44D4-BD41-9422D6EF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26F-9614-41D8-97C0-879843B4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3438-37F4-4FDA-A9D0-2BC61D6C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C98B-A3C7-49C6-B275-8AA5C64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DCE-2AE2-46BA-AF48-B1100F18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5AB3-5BD9-4488-9D70-1C0D427A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8398-4AF6-4029-8FE1-6ADE520D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5850-78EC-44F5-9792-BD0B5B65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9A7A-5C0D-4A11-9CC7-637787D7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7A4-D1D0-438C-A880-5FFC4E7C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CF10-1D28-4E33-A92B-868678D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AEA2-C6C2-49A5-95D2-38B0EB9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4B86-C16F-4C27-942E-D6DCF0E2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E12D-11BE-44BF-A3C4-FF9513AE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D62F-76A4-400A-B454-66B4962E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6566F-A61A-4EC5-8A2F-C5DE77DE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0E27E-3235-4EE8-99FC-5ED1B584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19E5E-2554-4DA2-84B8-9DC9114E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5EA6-4289-4A15-8F1B-16248C8C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75F9E-8D37-4CE3-9EB7-17FE9F81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B97-683B-4596-86A0-BDFF3D47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8E1E-5090-4EE4-8ADC-4D1D16B0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CD37-B364-46FA-A668-954C2CCB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5D546-653D-48BB-959F-242A4A6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5C420-992A-4429-9CB6-B42AC1F8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27DE-5B6F-4406-A38C-7B56697C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8CEC-5EAF-42B4-9E7E-8705D113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8A29-0A37-4495-AE03-47F5A53A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2E01F-60D2-473B-A757-6FE8D01F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33597-B8C9-4B0C-8DD0-A65AC60B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B392-BFE8-4E5A-8F2B-C9EC899D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B15-F025-4CAA-A089-8A230086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6B2A-928D-4DC5-A957-92B6E950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7923-E158-49C4-8E3E-E3B70479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D1FA-DCA3-4E47-91EA-3F1B831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ABF5E-7255-40B9-9E69-99A72C0A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7E872-872B-40E8-AB7F-1764742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3E52-92DB-41CC-B0E1-A4F14CD5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0237F-DB59-4A5D-A73A-7A690BFB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50B3D-92D7-4B95-9AC6-B4B9C846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800D-5D6F-4892-968C-ECDAA695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76ED4-3938-407F-8720-BF4EB2F0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80D-BF39-44EE-BC33-6B62609B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279E-2C60-47D6-AC0F-75F1B9B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234A-384D-496B-ADD6-29EB212B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26121-4B71-4E42-A0DE-223ADFB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3682E-2F46-4E74-868A-26E5C341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47B03-A48A-46AB-B3DD-5786F3D7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D07B-31EE-430F-9EED-C5A2262F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616E8-504F-437A-B0E1-D96AC7F0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EB90-74D9-4F49-858C-882617DF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2B25D-581D-46E0-9357-CA7FEC29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B520B-E7A4-46AB-B827-E0FA5E11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59B5-E0C6-4FB1-9EAC-8B805939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83C7C-C593-463B-95AB-379C9FE4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F889E-3764-45EE-9972-21D9B036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F05D9-133C-4D14-AC45-ABB7E2C7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34656-F95F-463F-A5A1-498C74A4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0DEA-F180-4B65-9812-F45F1B1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56DB-F0FF-462C-A0CC-97B26DF7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2616B-B8B4-4B77-AB81-A60B8A51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2A8F-DE8F-44A3-8671-AEE92ACE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921D-2180-44B1-86DA-3C942902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2E60C-E9A5-4D36-8566-DE000D1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3EA-B362-46EA-90FA-110BEF6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0DCDF-0C13-48A9-8441-A39AB20D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1B68-9503-49B3-84AD-FBAAF00B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6F74A-4B5F-43A0-A721-788DC39B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908C5-A9EA-4707-B068-703FCDE1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1EB99-3AC5-441F-B111-7D9A75E7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F7CB8-244C-453E-BB13-BD1C0AD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8C1C9-3026-4C8C-9A22-F572FFF4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6E6BC-236B-49F1-9218-CBD723A7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4576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50C1-F2D6-4E4D-97C7-8E9A8E6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7936D-3DF9-4769-AD37-C321F76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DA5B-7E1C-4531-8AE0-E7446E3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4802-C86F-4064-A227-6B29E0A5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9DF8-84B0-4F4B-BE43-E52604A7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B8A3-E823-4EB1-AADF-86A0BBEC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2800" y="42958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7A162-DF6A-4914-9367-A93AC2B6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5836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02280" y="21934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1444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5836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02280" y="4295880"/>
            <a:ext cx="261288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ECA3A-E6F6-4470-A4C2-34EF56C6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2193480"/>
            <a:ext cx="39600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4295880"/>
            <a:ext cx="81151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20A-A4F6-4BBD-8DBB-DAA6227C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41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46520" y="635652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14440" y="6356520"/>
            <a:ext cx="5829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EA3-622E-434F-8C51-0A4670843184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3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4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3-HD-BTM.png"/>
          <p:cNvPicPr/>
          <p:nvPr/>
        </p:nvPicPr>
        <p:blipFill>
          <a:blip r:embed="rId3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440" y="4314960"/>
            <a:ext cx="2183040" cy="37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1028520" y="4324320"/>
            <a:ext cx="480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7720" y="14302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F177-AA56-4A69-AA15-5D40B14A8735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14080" y="380880"/>
            <a:ext cx="5243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E448-3905-49F1-9B1B-2F48F9BB7101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C64-9C2C-4603-8F6C-5AB78B9349C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9"/>
          <p:cNvSpPr/>
          <p:nvPr/>
        </p:nvSpPr>
        <p:spPr>
          <a:xfrm>
            <a:off x="357120" y="93348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8237520" y="2701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86080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FE2D-5170-475F-A9B5-AEFFA17EDF90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86080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14080" y="379440"/>
            <a:ext cx="524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3F9-D6D7-45CF-934B-DC7DDDAE639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3-HD-BTM.png"/>
          <p:cNvPicPr/>
          <p:nvPr/>
        </p:nvPicPr>
        <p:blipFill>
          <a:blip r:embed="rId2"/>
          <a:stretch/>
        </p:blipFill>
        <p:spPr>
          <a:xfrm>
            <a:off x="0" y="4375080"/>
            <a:ext cx="9144000" cy="24829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86080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14080" y="380520"/>
            <a:ext cx="5243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47160" y="380520"/>
            <a:ext cx="482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A326-5395-4A3F-BD3D-379367EA7EA8}" type="slidenum">
              <a:rPr b="0" lang="ru-RU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610920" y="1267920"/>
            <a:ext cx="8281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 Зная, что 113 * 25 = 2825 найдите: 11,3 * 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0,113 * 0,25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йди ошибку и объясни её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12,47 * 31=38,657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7,1 * 12= 852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1,275 * 100=12,7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Вычислите удобным способом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) 2,17 * 2,5 * 4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) 2,48 * 2 * 0,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) 4 * 0,5 * 0,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4) 4 * 3,78 * 2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8" name="Picture 2" descr="https://img2.freepng.ru/20180615/oxx/kisspng-mathematics-number-mathematical-problem-child-arabic-kids-5b2378d4e422b9.6235786015290513489345.jpg"/>
          <p:cNvPicPr/>
          <p:nvPr/>
        </p:nvPicPr>
        <p:blipFill>
          <a:blip r:embed="rId1"/>
          <a:stretch/>
        </p:blipFill>
        <p:spPr>
          <a:xfrm>
            <a:off x="5864400" y="1981080"/>
            <a:ext cx="281592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858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ИТЬ ДЕЙСТВИЯ С  ДЕСЯТИЧНЫМИ ДРОБЯМИ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Рисунок 10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4248000" cy="2087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2" descr="https://kartinkin.net/uploads/posts/2022-03/1646375756_73-kartinkin-net-p-matematicheskie-kartinki-dlya-oformleniya-79.png"/>
          <p:cNvPicPr/>
          <p:nvPr/>
        </p:nvPicPr>
        <p:blipFill>
          <a:blip r:embed="rId2"/>
          <a:stretch/>
        </p:blipFill>
        <p:spPr>
          <a:xfrm>
            <a:off x="2771640" y="4962600"/>
            <a:ext cx="3672000" cy="1895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936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Математические рисунки"/>
          <p:cNvPicPr/>
          <p:nvPr/>
        </p:nvPicPr>
        <p:blipFill>
          <a:blip r:embed="rId2"/>
          <a:stretch/>
        </p:blipFill>
        <p:spPr>
          <a:xfrm>
            <a:off x="2700360" y="3112920"/>
            <a:ext cx="3919680" cy="3745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52012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УСТНАЯ ПРОВЕРОЧНАЯ РАБОТА</a:t>
            </a:r>
            <a:r>
              <a:rPr b="0" lang="ru-RU" sz="3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4"/>
              <p:cNvSpPr txBox="1"/>
              <p:nvPr/>
            </p:nvSpPr>
            <p:spPr>
              <a:xfrm>
                <a:off x="228600" y="1905120"/>
                <a:ext cx="2157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5"/>
              <p:cNvSpPr txBox="1"/>
              <p:nvPr/>
            </p:nvSpPr>
            <p:spPr>
              <a:xfrm>
                <a:off x="2714760" y="1928880"/>
                <a:ext cx="917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 Box 6"/>
          <p:cNvSpPr/>
          <p:nvPr/>
        </p:nvSpPr>
        <p:spPr>
          <a:xfrm>
            <a:off x="914400" y="685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умн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4643280" y="1143000"/>
            <a:ext cx="0" cy="5410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1447920" y="1219320"/>
            <a:ext cx="236196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Вариа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5257800" y="1219320"/>
            <a:ext cx="236232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bdb"/>
                </a:solidFill>
                <a:latin typeface="Arial"/>
              </a:rPr>
              <a:t>Вариант</a:t>
            </a: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10"/>
              <p:cNvSpPr txBox="1"/>
              <p:nvPr/>
            </p:nvSpPr>
            <p:spPr>
              <a:xfrm>
                <a:off x="228600" y="2590920"/>
                <a:ext cx="2057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2786040" y="2571840"/>
                <a:ext cx="914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2"/>
              <p:cNvSpPr txBox="1"/>
              <p:nvPr/>
            </p:nvSpPr>
            <p:spPr>
              <a:xfrm>
                <a:off x="228600" y="3276720"/>
                <a:ext cx="251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13"/>
              <p:cNvSpPr txBox="1"/>
              <p:nvPr/>
            </p:nvSpPr>
            <p:spPr>
              <a:xfrm>
                <a:off x="2743200" y="3276720"/>
                <a:ext cx="1422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4"/>
              <p:cNvSpPr txBox="1"/>
              <p:nvPr/>
            </p:nvSpPr>
            <p:spPr>
              <a:xfrm>
                <a:off x="228600" y="3962520"/>
                <a:ext cx="2281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,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5"/>
              <p:cNvSpPr txBox="1"/>
              <p:nvPr/>
            </p:nvSpPr>
            <p:spPr>
              <a:xfrm>
                <a:off x="2714760" y="3929040"/>
                <a:ext cx="1547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6"/>
              <p:cNvSpPr txBox="1"/>
              <p:nvPr/>
            </p:nvSpPr>
            <p:spPr>
              <a:xfrm>
                <a:off x="228600" y="4648320"/>
                <a:ext cx="2506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7"/>
              <p:cNvSpPr txBox="1"/>
              <p:nvPr/>
            </p:nvSpPr>
            <p:spPr>
              <a:xfrm>
                <a:off x="2743200" y="4648320"/>
                <a:ext cx="117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8"/>
              <p:cNvSpPr txBox="1"/>
              <p:nvPr/>
            </p:nvSpPr>
            <p:spPr>
              <a:xfrm>
                <a:off x="4857840" y="2000160"/>
                <a:ext cx="2093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9"/>
              <p:cNvSpPr txBox="1"/>
              <p:nvPr/>
            </p:nvSpPr>
            <p:spPr>
              <a:xfrm>
                <a:off x="7215120" y="2000160"/>
                <a:ext cx="86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0"/>
              <p:cNvSpPr txBox="1"/>
              <p:nvPr/>
            </p:nvSpPr>
            <p:spPr>
              <a:xfrm>
                <a:off x="4724280" y="2514600"/>
                <a:ext cx="2629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21"/>
              <p:cNvSpPr txBox="1"/>
              <p:nvPr/>
            </p:nvSpPr>
            <p:spPr>
              <a:xfrm>
                <a:off x="7315200" y="2514600"/>
                <a:ext cx="127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22"/>
              <p:cNvSpPr txBox="1"/>
              <p:nvPr/>
            </p:nvSpPr>
            <p:spPr>
              <a:xfrm>
                <a:off x="4786200" y="3143160"/>
                <a:ext cx="2514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23"/>
              <p:cNvSpPr txBox="1"/>
              <p:nvPr/>
            </p:nvSpPr>
            <p:spPr>
              <a:xfrm>
                <a:off x="7358040" y="321480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4"/>
              <p:cNvSpPr txBox="1"/>
              <p:nvPr/>
            </p:nvSpPr>
            <p:spPr>
              <a:xfrm>
                <a:off x="4857840" y="385776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5"/>
              <p:cNvSpPr txBox="1"/>
              <p:nvPr/>
            </p:nvSpPr>
            <p:spPr>
              <a:xfrm>
                <a:off x="7358040" y="385776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6"/>
              <p:cNvSpPr txBox="1"/>
              <p:nvPr/>
            </p:nvSpPr>
            <p:spPr>
              <a:xfrm>
                <a:off x="4876920" y="4572000"/>
                <a:ext cx="2117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7"/>
              <p:cNvSpPr txBox="1"/>
              <p:nvPr/>
            </p:nvSpPr>
            <p:spPr>
              <a:xfrm>
                <a:off x="7286760" y="4572000"/>
                <a:ext cx="1047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47280" y="763200"/>
            <a:ext cx="759636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3880" y="2209680"/>
          <a:ext cx="7080480" cy="2803680"/>
        </p:xfrm>
        <a:graphic>
          <a:graphicData uri="http://schemas.openxmlformats.org/drawingml/2006/table">
            <a:tbl>
              <a:tblPr/>
              <a:tblGrid>
                <a:gridCol w="7080480"/>
              </a:tblGrid>
              <a:tr h="28036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очитать теоретический материал п.36  на стр. 102-103 учебника, выучить алгоритм умножения десятичных дроб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ыполнить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544, 551,554, (для преуспевающих учеников: №553, 556)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0"/>
          <p:cNvSpPr/>
          <p:nvPr/>
        </p:nvSpPr>
        <p:spPr>
          <a:xfrm>
            <a:off x="1547640" y="1125360"/>
            <a:ext cx="597708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ОКАЖИ  СВО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НАСТРО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            </a:t>
            </a: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4" descr="4d123fbc6b642667114737f0590440a5"/>
          <p:cNvPicPr/>
          <p:nvPr/>
        </p:nvPicPr>
        <p:blipFill>
          <a:blip r:embed="rId1"/>
          <a:stretch/>
        </p:blipFill>
        <p:spPr>
          <a:xfrm>
            <a:off x="324000" y="4221000"/>
            <a:ext cx="2800080" cy="995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6" descr="26a8bc3773f1f0871eb342d8d742252b"/>
          <p:cNvPicPr/>
          <p:nvPr/>
        </p:nvPicPr>
        <p:blipFill>
          <a:blip r:embed="rId2"/>
          <a:stretch/>
        </p:blipFill>
        <p:spPr>
          <a:xfrm>
            <a:off x="6084720" y="414972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s://gas-kvas.com/uploads/posts/2023-01/1674049923_gas-kvas-com-p-risunok-na-temu-moi-lyubimii-predmet-matem-48.jpg"/>
          <p:cNvPicPr/>
          <p:nvPr/>
        </p:nvPicPr>
        <p:blipFill>
          <a:blip r:embed="rId1"/>
          <a:stretch/>
        </p:blipFill>
        <p:spPr>
          <a:xfrm>
            <a:off x="1974960" y="2273400"/>
            <a:ext cx="5626080" cy="4376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18920" y="981000"/>
            <a:ext cx="6458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35,8*0,4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4678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УМНОЖЕНИЕ ДЕСЯТИЧНЫХ  ДРОБЕЙ</a:t>
            </a: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Picture 56" descr="J0216708"/>
          <p:cNvPicPr/>
          <p:nvPr/>
        </p:nvPicPr>
        <p:blipFill>
          <a:blip r:embed="rId1"/>
          <a:stretch/>
        </p:blipFill>
        <p:spPr>
          <a:xfrm>
            <a:off x="2843280" y="2276640"/>
            <a:ext cx="4108320" cy="42145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7138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ЧЕЛОВЕК ИДЕТ СО СКОРОСТЬЮ 4,6 КМ/Ч. КАКОЕ РАССТОЯНИЕ ОН ПРОЙДЕТ: А) ЗА 3 Ч, Б) ЗА 0,1 Ч, В) ЗА 0,3 Ч?</a:t>
            </a:r>
            <a:br>
              <a:rPr sz="3200"/>
            </a:br>
            <a:br>
              <a:rPr sz="3200"/>
            </a:br>
            <a:r>
              <a:rPr b="0" i="1" lang="ru-RU" sz="29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4" name="Picture 2" descr="https://img.favpng.com/3/6/1/elementary-mathematics-clip-art-png-favpng-RA3qUTQtcvrzbUaNAshBDMBRh.jpg"/>
          <p:cNvPicPr/>
          <p:nvPr/>
        </p:nvPicPr>
        <p:blipFill>
          <a:blip r:embed="rId1"/>
          <a:srcRect l="24894" t="17644" r="24401" b="14324"/>
          <a:stretch/>
        </p:blipFill>
        <p:spPr>
          <a:xfrm>
            <a:off x="2700360" y="2970360"/>
            <a:ext cx="395928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34920" y="763200"/>
            <a:ext cx="6794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РЕШЕНИЕ ЗАДАЧИ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500040" y="171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 ч человек пройдет 4,6 • 3, то есть 13,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 0,1 ч, то есть за       ч, человек пройдет в 10 раз меньше, чем за 1 ч, то есть он пройдет (4,6 : 10) км, или 0,46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Так как 0,3 =       ч, то путь, пройденный за 0,3 ч, втрое больше пути, пройденного за 0,1 ч. Он равен (0,46 • 3) км, то есть 1,3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2"/>
              <p:cNvSpPr txBox="1"/>
              <p:nvPr/>
            </p:nvSpPr>
            <p:spPr>
              <a:xfrm>
                <a:off x="3643200" y="2214720"/>
                <a:ext cx="428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2714760" y="3643200"/>
                <a:ext cx="428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СДЕЛАЙТЕ ОБОБЩЕНИЕ ПО СЛЕДУЮЩИМ ПРЕДЛОЖЕНИЯМ ЗАДАЧ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ак как путь равен произведению скорости движения и времени, то надо считать, что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• 0,1 = 0,46. 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от же результат получается при </a:t>
            </a: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делении  4,6 на 10,  то есть 4,6 : 10 = 0,46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Обратите внимание на то, что один и тот же ответ получается при различных действиях с дробями, сделайте вывод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4576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ак как при различных действиях получились равные значения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• 0,1 = 0,46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и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4,6  : 10  = 0,46,   то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 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Умножить число на 0,1;   0,01;  0,001 —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то же самое,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что разделить его на 10, 100, 1000»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763560"/>
            <a:ext cx="792180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ЧТОБЫ УМНОЖИТЬ ДЕСЯТИЧНЫЕ ДРОБИ, НУЖНО: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14440" y="2193480"/>
            <a:ext cx="81151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Записать числа в столби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Умножить их не обращая внимания на запятые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осчитать количество знаков после запятой в обоих множителях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В произведении отделить запятой справа получившееся число знаков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4"/>
          <p:cNvSpPr/>
          <p:nvPr/>
        </p:nvSpPr>
        <p:spPr>
          <a:xfrm>
            <a:off x="0" y="260280"/>
            <a:ext cx="446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натураль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4680000" y="260280"/>
            <a:ext cx="432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475"/>
          <p:cNvGrpSpPr/>
          <p:nvPr/>
        </p:nvGrpSpPr>
        <p:grpSpPr>
          <a:xfrm>
            <a:off x="6227640" y="873000"/>
            <a:ext cx="2376720" cy="1390680"/>
            <a:chOff x="6227640" y="873000"/>
            <a:chExt cx="2376720" cy="1390680"/>
          </a:xfrm>
        </p:grpSpPr>
        <p:sp>
          <p:nvSpPr>
            <p:cNvPr id="318" name="Text Box 405"/>
            <p:cNvSpPr/>
            <p:nvPr/>
          </p:nvSpPr>
          <p:spPr>
            <a:xfrm>
              <a:off x="8064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406"/>
            <p:cNvSpPr/>
            <p:nvPr/>
          </p:nvSpPr>
          <p:spPr>
            <a:xfrm>
              <a:off x="741672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407"/>
            <p:cNvSpPr/>
            <p:nvPr/>
          </p:nvSpPr>
          <p:spPr>
            <a:xfrm>
              <a:off x="6840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408"/>
            <p:cNvSpPr/>
            <p:nvPr/>
          </p:nvSpPr>
          <p:spPr>
            <a:xfrm>
              <a:off x="622764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423"/>
            <p:cNvSpPr/>
            <p:nvPr/>
          </p:nvSpPr>
          <p:spPr>
            <a:xfrm>
              <a:off x="6443640" y="119700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657"/>
          <p:cNvGrpSpPr/>
          <p:nvPr/>
        </p:nvGrpSpPr>
        <p:grpSpPr>
          <a:xfrm>
            <a:off x="7451640" y="1881360"/>
            <a:ext cx="1115640" cy="1427040"/>
            <a:chOff x="7451640" y="1881360"/>
            <a:chExt cx="1115640" cy="1427040"/>
          </a:xfrm>
        </p:grpSpPr>
        <p:sp>
          <p:nvSpPr>
            <p:cNvPr id="324" name="Text Box 410"/>
            <p:cNvSpPr/>
            <p:nvPr/>
          </p:nvSpPr>
          <p:spPr>
            <a:xfrm>
              <a:off x="8027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415"/>
            <p:cNvSpPr/>
            <p:nvPr/>
          </p:nvSpPr>
          <p:spPr>
            <a:xfrm>
              <a:off x="7451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424"/>
            <p:cNvSpPr/>
            <p:nvPr/>
          </p:nvSpPr>
          <p:spPr>
            <a:xfrm>
              <a:off x="7738920" y="2241720"/>
              <a:ext cx="53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73"/>
          <p:cNvGrpSpPr/>
          <p:nvPr/>
        </p:nvGrpSpPr>
        <p:grpSpPr>
          <a:xfrm>
            <a:off x="5653080" y="5084640"/>
            <a:ext cx="2951280" cy="1371960"/>
            <a:chOff x="5653080" y="5084640"/>
            <a:chExt cx="2951280" cy="1371960"/>
          </a:xfrm>
        </p:grpSpPr>
        <p:sp>
          <p:nvSpPr>
            <p:cNvPr id="328" name="Text Box 416"/>
            <p:cNvSpPr/>
            <p:nvPr/>
          </p:nvSpPr>
          <p:spPr>
            <a:xfrm>
              <a:off x="8064360" y="5084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17"/>
            <p:cNvSpPr/>
            <p:nvPr/>
          </p:nvSpPr>
          <p:spPr>
            <a:xfrm>
              <a:off x="745344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18"/>
            <p:cNvSpPr/>
            <p:nvPr/>
          </p:nvSpPr>
          <p:spPr>
            <a:xfrm>
              <a:off x="6877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419"/>
            <p:cNvSpPr/>
            <p:nvPr/>
          </p:nvSpPr>
          <p:spPr>
            <a:xfrm>
              <a:off x="626436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20"/>
            <p:cNvSpPr/>
            <p:nvPr/>
          </p:nvSpPr>
          <p:spPr>
            <a:xfrm>
              <a:off x="5653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425"/>
          <p:cNvSpPr/>
          <p:nvPr/>
        </p:nvSpPr>
        <p:spPr>
          <a:xfrm>
            <a:off x="5904000" y="544500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26"/>
          <p:cNvSpPr/>
          <p:nvPr/>
        </p:nvSpPr>
        <p:spPr>
          <a:xfrm>
            <a:off x="5651640" y="166536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427"/>
          <p:cNvSpPr/>
          <p:nvPr/>
        </p:nvSpPr>
        <p:spPr>
          <a:xfrm flipV="1">
            <a:off x="6840360" y="1988280"/>
            <a:ext cx="1764000" cy="179640"/>
          </a:xfrm>
          <a:custGeom>
            <a:avLst/>
            <a:gdLst>
              <a:gd name="textAreaLeft" fmla="*/ 0 w 1764000"/>
              <a:gd name="textAreaRight" fmla="*/ 1764360 w 1764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rc 428"/>
          <p:cNvSpPr/>
          <p:nvPr/>
        </p:nvSpPr>
        <p:spPr>
          <a:xfrm flipV="1">
            <a:off x="6840360" y="1988280"/>
            <a:ext cx="1764000" cy="179640"/>
          </a:xfrm>
          <a:custGeom>
            <a:avLst/>
            <a:gdLst>
              <a:gd name="textAreaLeft" fmla="*/ 0 w 1764000"/>
              <a:gd name="textAreaRight" fmla="*/ 1764360 w 1764000"/>
              <a:gd name="textAreaTop" fmla="*/ -360 h 179640"/>
              <a:gd name="textAreaBottom" fmla="*/ 179640 h 17964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429"/>
          <p:cNvSpPr/>
          <p:nvPr/>
        </p:nvSpPr>
        <p:spPr>
          <a:xfrm flipV="1">
            <a:off x="8136000" y="2959920"/>
            <a:ext cx="503280" cy="181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8"/>
          <p:cNvSpPr/>
          <p:nvPr/>
        </p:nvSpPr>
        <p:spPr>
          <a:xfrm>
            <a:off x="6192720" y="321300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79"/>
          <p:cNvSpPr/>
          <p:nvPr/>
        </p:nvSpPr>
        <p:spPr>
          <a:xfrm>
            <a:off x="900000" y="1773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86"/>
          <p:cNvGrpSpPr/>
          <p:nvPr/>
        </p:nvGrpSpPr>
        <p:grpSpPr>
          <a:xfrm>
            <a:off x="1547640" y="909720"/>
            <a:ext cx="1728720" cy="1390680"/>
            <a:chOff x="1547640" y="909720"/>
            <a:chExt cx="1728720" cy="1390680"/>
          </a:xfrm>
        </p:grpSpPr>
        <p:sp>
          <p:nvSpPr>
            <p:cNvPr id="341" name="Text Box 482"/>
            <p:cNvSpPr/>
            <p:nvPr/>
          </p:nvSpPr>
          <p:spPr>
            <a:xfrm>
              <a:off x="273672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483"/>
            <p:cNvSpPr/>
            <p:nvPr/>
          </p:nvSpPr>
          <p:spPr>
            <a:xfrm>
              <a:off x="216036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484"/>
            <p:cNvSpPr/>
            <p:nvPr/>
          </p:nvSpPr>
          <p:spPr>
            <a:xfrm>
              <a:off x="154764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485"/>
            <p:cNvSpPr/>
            <p:nvPr/>
          </p:nvSpPr>
          <p:spPr>
            <a:xfrm>
              <a:off x="1763640" y="123372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10"/>
          <p:cNvGrpSpPr/>
          <p:nvPr/>
        </p:nvGrpSpPr>
        <p:grpSpPr>
          <a:xfrm>
            <a:off x="1547640" y="3033720"/>
            <a:ext cx="1692360" cy="1371960"/>
            <a:chOff x="1547640" y="3033720"/>
            <a:chExt cx="1692360" cy="1371960"/>
          </a:xfrm>
        </p:grpSpPr>
        <p:sp>
          <p:nvSpPr>
            <p:cNvPr id="346" name="Text Box 488"/>
            <p:cNvSpPr/>
            <p:nvPr/>
          </p:nvSpPr>
          <p:spPr>
            <a:xfrm>
              <a:off x="270036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489"/>
            <p:cNvSpPr/>
            <p:nvPr/>
          </p:nvSpPr>
          <p:spPr>
            <a:xfrm>
              <a:off x="216072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490"/>
            <p:cNvSpPr/>
            <p:nvPr/>
          </p:nvSpPr>
          <p:spPr>
            <a:xfrm>
              <a:off x="154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491"/>
          <p:cNvSpPr/>
          <p:nvPr/>
        </p:nvSpPr>
        <p:spPr>
          <a:xfrm>
            <a:off x="1727280" y="551664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rc 492"/>
          <p:cNvSpPr/>
          <p:nvPr/>
        </p:nvSpPr>
        <p:spPr>
          <a:xfrm flipV="1">
            <a:off x="2158920" y="202392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94"/>
          <p:cNvSpPr/>
          <p:nvPr/>
        </p:nvSpPr>
        <p:spPr>
          <a:xfrm>
            <a:off x="1368360" y="3141720"/>
            <a:ext cx="19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509"/>
          <p:cNvGrpSpPr/>
          <p:nvPr/>
        </p:nvGrpSpPr>
        <p:grpSpPr>
          <a:xfrm>
            <a:off x="2087640" y="1952640"/>
            <a:ext cx="1152360" cy="1419480"/>
            <a:chOff x="2087640" y="1952640"/>
            <a:chExt cx="1152360" cy="1419480"/>
          </a:xfrm>
        </p:grpSpPr>
        <p:sp>
          <p:nvSpPr>
            <p:cNvPr id="353" name="Text Box 481"/>
            <p:cNvSpPr/>
            <p:nvPr/>
          </p:nvSpPr>
          <p:spPr>
            <a:xfrm>
              <a:off x="2700360" y="20001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495"/>
            <p:cNvSpPr/>
            <p:nvPr/>
          </p:nvSpPr>
          <p:spPr>
            <a:xfrm>
              <a:off x="2087640" y="1952640"/>
              <a:ext cx="539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55"/>
          <p:cNvGrpSpPr/>
          <p:nvPr/>
        </p:nvGrpSpPr>
        <p:grpSpPr>
          <a:xfrm>
            <a:off x="971640" y="4076640"/>
            <a:ext cx="1692360" cy="1371960"/>
            <a:chOff x="971640" y="4076640"/>
            <a:chExt cx="1692360" cy="1371960"/>
          </a:xfrm>
        </p:grpSpPr>
        <p:sp>
          <p:nvSpPr>
            <p:cNvPr id="356" name="Text Box 512"/>
            <p:cNvSpPr/>
            <p:nvPr/>
          </p:nvSpPr>
          <p:spPr>
            <a:xfrm>
              <a:off x="2124000" y="4076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513"/>
            <p:cNvSpPr/>
            <p:nvPr/>
          </p:nvSpPr>
          <p:spPr>
            <a:xfrm>
              <a:off x="151128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14"/>
            <p:cNvSpPr/>
            <p:nvPr/>
          </p:nvSpPr>
          <p:spPr>
            <a:xfrm>
              <a:off x="97164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Line 543"/>
          <p:cNvSpPr/>
          <p:nvPr/>
        </p:nvSpPr>
        <p:spPr>
          <a:xfrm>
            <a:off x="863640" y="526572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656"/>
          <p:cNvGrpSpPr/>
          <p:nvPr/>
        </p:nvGrpSpPr>
        <p:grpSpPr>
          <a:xfrm>
            <a:off x="863640" y="5229360"/>
            <a:ext cx="2376360" cy="1371960"/>
            <a:chOff x="863640" y="5229360"/>
            <a:chExt cx="2376360" cy="1371960"/>
          </a:xfrm>
        </p:grpSpPr>
        <p:sp>
          <p:nvSpPr>
            <p:cNvPr id="361" name="Text Box 545"/>
            <p:cNvSpPr/>
            <p:nvPr/>
          </p:nvSpPr>
          <p:spPr>
            <a:xfrm>
              <a:off x="270036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546"/>
            <p:cNvSpPr/>
            <p:nvPr/>
          </p:nvSpPr>
          <p:spPr>
            <a:xfrm>
              <a:off x="2124000" y="522936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547"/>
            <p:cNvSpPr/>
            <p:nvPr/>
          </p:nvSpPr>
          <p:spPr>
            <a:xfrm>
              <a:off x="144000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548"/>
            <p:cNvSpPr/>
            <p:nvPr/>
          </p:nvSpPr>
          <p:spPr>
            <a:xfrm>
              <a:off x="86364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551"/>
          <p:cNvSpPr/>
          <p:nvPr/>
        </p:nvSpPr>
        <p:spPr>
          <a:xfrm>
            <a:off x="287280" y="375300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658"/>
          <p:cNvSpPr/>
          <p:nvPr/>
        </p:nvSpPr>
        <p:spPr>
          <a:xfrm flipV="1">
            <a:off x="8101080" y="2959920"/>
            <a:ext cx="503280" cy="181080"/>
          </a:xfrm>
          <a:custGeom>
            <a:avLst/>
            <a:gdLst>
              <a:gd name="textAreaLeft" fmla="*/ 0 w 503280"/>
              <a:gd name="textAreaRight" fmla="*/ 503640 w 50328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9"/>
          <p:cNvSpPr/>
          <p:nvPr/>
        </p:nvSpPr>
        <p:spPr>
          <a:xfrm>
            <a:off x="5435640" y="530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666"/>
          <p:cNvGrpSpPr/>
          <p:nvPr/>
        </p:nvGrpSpPr>
        <p:grpSpPr>
          <a:xfrm>
            <a:off x="6227640" y="3033720"/>
            <a:ext cx="2376720" cy="1371960"/>
            <a:chOff x="6227640" y="3033720"/>
            <a:chExt cx="2376720" cy="1371960"/>
          </a:xfrm>
        </p:grpSpPr>
        <p:sp>
          <p:nvSpPr>
            <p:cNvPr id="369" name="Text Box 661"/>
            <p:cNvSpPr/>
            <p:nvPr/>
          </p:nvSpPr>
          <p:spPr>
            <a:xfrm>
              <a:off x="8064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662"/>
            <p:cNvSpPr/>
            <p:nvPr/>
          </p:nvSpPr>
          <p:spPr>
            <a:xfrm>
              <a:off x="741672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663"/>
            <p:cNvSpPr/>
            <p:nvPr/>
          </p:nvSpPr>
          <p:spPr>
            <a:xfrm>
              <a:off x="6840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64"/>
            <p:cNvSpPr/>
            <p:nvPr/>
          </p:nvSpPr>
          <p:spPr>
            <a:xfrm>
              <a:off x="622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667"/>
          <p:cNvGrpSpPr/>
          <p:nvPr/>
        </p:nvGrpSpPr>
        <p:grpSpPr>
          <a:xfrm>
            <a:off x="5616720" y="4041720"/>
            <a:ext cx="2376000" cy="1371960"/>
            <a:chOff x="5616720" y="4041720"/>
            <a:chExt cx="2376000" cy="1371960"/>
          </a:xfrm>
        </p:grpSpPr>
        <p:sp>
          <p:nvSpPr>
            <p:cNvPr id="374" name="Text Box 668"/>
            <p:cNvSpPr/>
            <p:nvPr/>
          </p:nvSpPr>
          <p:spPr>
            <a:xfrm>
              <a:off x="7453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69"/>
            <p:cNvSpPr/>
            <p:nvPr/>
          </p:nvSpPr>
          <p:spPr>
            <a:xfrm>
              <a:off x="680544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670"/>
            <p:cNvSpPr/>
            <p:nvPr/>
          </p:nvSpPr>
          <p:spPr>
            <a:xfrm>
              <a:off x="6229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671"/>
            <p:cNvSpPr/>
            <p:nvPr/>
          </p:nvSpPr>
          <p:spPr>
            <a:xfrm>
              <a:off x="561672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672"/>
          <p:cNvSpPr/>
          <p:nvPr/>
        </p:nvSpPr>
        <p:spPr>
          <a:xfrm>
            <a:off x="5076720" y="3789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674"/>
          <p:cNvSpPr/>
          <p:nvPr/>
        </p:nvSpPr>
        <p:spPr>
          <a:xfrm flipV="1">
            <a:off x="2124000" y="630864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676"/>
          <p:cNvSpPr/>
          <p:nvPr/>
        </p:nvSpPr>
        <p:spPr>
          <a:xfrm flipV="1">
            <a:off x="2158920" y="2023920"/>
            <a:ext cx="1044720" cy="216000"/>
          </a:xfrm>
          <a:custGeom>
            <a:avLst/>
            <a:gdLst>
              <a:gd name="textAreaLeft" fmla="*/ 0 w 1044720"/>
              <a:gd name="textAreaRight" fmla="*/ 1045080 w 104472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2436">
                <a:moveTo>
                  <a:pt x="16" y="22435"/>
                </a:moveTo>
                <a:cubicBezTo>
                  <a:pt x="5" y="22157"/>
                  <a:pt x="0" y="2187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679"/>
          <p:cNvGrpSpPr/>
          <p:nvPr/>
        </p:nvGrpSpPr>
        <p:grpSpPr>
          <a:xfrm>
            <a:off x="6300720" y="6200280"/>
            <a:ext cx="2340000" cy="181080"/>
            <a:chOff x="6300720" y="6200280"/>
            <a:chExt cx="2340000" cy="181080"/>
          </a:xfrm>
        </p:grpSpPr>
        <p:sp>
          <p:nvSpPr>
            <p:cNvPr id="382" name="Arc 677"/>
            <p:cNvSpPr/>
            <p:nvPr/>
          </p:nvSpPr>
          <p:spPr>
            <a:xfrm flipV="1">
              <a:off x="6300720" y="6199920"/>
              <a:ext cx="503280" cy="18108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181080"/>
                <a:gd name="textAreaBottom" fmla="*/ 181080 h 181080"/>
              </a:gdLst>
              <a:ahLst/>
              <a:rect l="textAreaLeft" t="textAreaTop" r="textAreaRight" b="textAreaBottom"/>
              <a:pathLst>
                <a:path fill="none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Arc 678"/>
            <p:cNvSpPr/>
            <p:nvPr/>
          </p:nvSpPr>
          <p:spPr>
            <a:xfrm flipV="1">
              <a:off x="6877080" y="6199920"/>
              <a:ext cx="1763640" cy="1796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-360 h 179640"/>
                <a:gd name="textAreaBottom" fmla="*/ 179640 h 179640"/>
              </a:gdLst>
              <a:ahLst/>
              <a:rect l="textAreaLeft" t="textAreaTop" r="textAreaRight" b="textAreaBottom"/>
              <a:pathLst>
                <a:path fill="none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2436">
                  <a:moveTo>
                    <a:pt x="16" y="22435"/>
                  </a:moveTo>
                  <a:cubicBezTo>
                    <a:pt x="5" y="22157"/>
                    <a:pt x="0" y="21878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481"/>
          <p:cNvSpPr/>
          <p:nvPr/>
        </p:nvSpPr>
        <p:spPr>
          <a:xfrm>
            <a:off x="2214720" y="2000160"/>
            <a:ext cx="539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2085 C 0.10868 0.04819 0.15833 0.11747 0.17483 0.20621 C 0.19132 0.29495 0.17778 0.43721 0.15781 0.51112 C 0.13785 0.58503 0.08316 0.62952 0.05521 0.64991 C 0.02726 0.67029 0.00868 0.65222 -0.00972 0.63415 E">
                                      <p:cBhvr>
                                        <p:cTn id="7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8.34106E-008 C -0.02413 0.00602 -0.04826 0.01228 -0.07135 0.02618 C -0.09444 0.04008 -0.12031 0.06487 -0.13888 0.08341 C -0.15746 0.10195 -0.16649 0.1133 -0.18316 0.13693 C -0.19982 0.16057 -0.22517 0.19532 -0.23888 0.22544 C -0.2526 0.25556 -0.26041 0.28568 -0.26493 0.31719 C -0.26944 0.3487 -0.26892 0.38299 -0.26614 0.41427 C -0.26336 0.44555 -0.25729 0.47637 -0.24809 0.5044 C -0.23888 0.53244 -0.22343 0.56024 -0.21041 0.58248 C -0.19739 0.60473 -0.19218 0.62419 -0.17013 0.63786 C -0.14809 0.65153 -0.10642 0.66798 -0.07795 0.66404 C -0.04947 0.6601 -0.01545 0.62419 0.00105 0.61353 E">
                                      <p:cBhvr>
                                        <p:cTn id="164" dur="3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574 C -0.01858 0.01967 -0.03872 0.02361 -0.06719 0.02963 C -0.09566 0.03565 -0.13889 0.04236 -0.16979 0.05208 C -0.2007 0.0618 -0.22726 0.07153 -0.25295 0.08842 C -0.27865 0.10532 -0.30608 0.13541 -0.32431 0.1544 C -0.34254 0.17338 -0.34879 0.18055 -0.36268 0.20301 C -0.37656 0.22546 -0.39792 0.25787 -0.40816 0.28958 C -0.4184 0.32129 -0.42535 0.36157 -0.42379 0.39375 C -0.42222 0.42569 -0.41198 0.45926 -0.39844 0.48194 C -0.3849 0.50463 -0.36198 0.52083 -0.34254 0.53055 C -0.32309 0.54028 -0.30226 0.54143 -0.28212 0.54074 C -0.26198 0.54004 -0.23611 0.53773 -0.2217 0.52639 C -0.20729 0.51504 -0.20087 0.48379 -0.19531 0.47268 E">
                                      <p:cBhvr>
                                        <p:cTn id="174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3" presetSubtype="32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8:10:41Z</dcterms:created>
  <dc:creator>Татьяна Петровна</dc:creator>
  <dc:description/>
  <dc:language>en-US</dc:language>
  <cp:lastModifiedBy>User</cp:lastModifiedBy>
  <dcterms:modified xsi:type="dcterms:W3CDTF">2023-03-15T10:31:00Z</dcterms:modified>
  <cp:revision>59</cp:revision>
  <dc:subject/>
  <dc:title>Слайд 1</dc:title>
</cp:coreProperties>
</file>