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9938-BAC8-4975-A148-2C51782AAE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BB7-8998-4117-8F14-E9FC2F345A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429-5735-4B11-BF98-C517373A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89-70ED-486A-B3C2-3109738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DD2-8824-41C5-8523-67C953D7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42A-F992-4FC5-9BA9-70A2B559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5EB6-AE8E-4FAA-940F-FB80872A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865-79A1-4133-B86F-BB5E683D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4667-2A96-4AE3-A43C-4EA8288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18A-25C8-435A-AFD5-FFF3875D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F91-91C2-4A9E-8F57-D726DF49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D86B-DA28-427F-8F60-1D12D0C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7C39-4C4E-4881-B51C-AE6B410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C4A-3B70-4731-9E69-73E3ACE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9C9A-3A9C-4F6B-ABE1-3532082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F8A-E78F-46F9-9399-58CD939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F55-D1DF-4679-B62C-5EF1B701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878-DAD9-49EA-AD00-3368BE25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98ED-0E57-433D-A3FB-93CCE906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578-4345-43AE-84F7-A6E20C1F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E89-6E2F-49BD-879C-B9391FB5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A86-6441-4241-ABDF-D431739D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A9D-8945-4872-9A9F-DA96731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21C-1068-4B6F-8EC8-7D06CD1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646-1A27-48A0-9798-688E11BB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A59-A3BB-44A9-A9C3-D4B71AC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50E-1E64-4782-BFDF-54C7AD2AE4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D3FF-7EC5-4643-9C2D-3FCBAA0AB0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00013_"/>
          <p:cNvPicPr/>
          <p:nvPr/>
        </p:nvPicPr>
        <p:blipFill>
          <a:blip r:embed="rId1"/>
          <a:stretch/>
        </p:blipFill>
        <p:spPr>
          <a:xfrm>
            <a:off x="0" y="-609480"/>
            <a:ext cx="9829800" cy="6850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оохранительные орга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Функции су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уществляет правосуди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яет меры государственного принуждения к лицам, нарушающим установленный правопорядо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умпция невинов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Юридический принцип, согласно которому обвиняемый считается невиновным, пока его вина не будет доказана в установленном законом поряд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суд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457200" y="1676520"/>
            <a:ext cx="281952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ституционные суд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6324480" y="1676520"/>
            <a:ext cx="205740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рбитражные суд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3581280" y="1676520"/>
            <a:ext cx="205740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уды общей юрисдик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4" name="Прямая со стрелкой 7"/>
          <p:cNvCxnSpPr/>
          <p:nvPr/>
        </p:nvCxnSpPr>
        <p:spPr>
          <a:xfrm flipH="1">
            <a:off x="2057040" y="1066680"/>
            <a:ext cx="236304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95" name="Прямая со стрелкой 9"/>
          <p:cNvCxnSpPr>
            <a:endCxn id="193" idx="0"/>
          </p:cNvCxnSpPr>
          <p:nvPr/>
        </p:nvCxnSpPr>
        <p:spPr>
          <a:xfrm>
            <a:off x="4418640" y="1066680"/>
            <a:ext cx="1911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96" name="Прямая со стрелкой 11"/>
          <p:cNvCxnSpPr/>
          <p:nvPr/>
        </p:nvCxnSpPr>
        <p:spPr>
          <a:xfrm>
            <a:off x="4495680" y="1066680"/>
            <a:ext cx="28965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sp>
        <p:nvSpPr>
          <p:cNvPr id="197" name="Прямоугольник 12"/>
          <p:cNvSpPr/>
          <p:nvPr/>
        </p:nvSpPr>
        <p:spPr>
          <a:xfrm>
            <a:off x="685800" y="2971800"/>
            <a:ext cx="236232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онный суд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онные суды су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3429000" y="2971800"/>
            <a:ext cx="236232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овный суд Р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овные суды су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йонные (городские), областн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ров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енн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324480" y="3048120"/>
            <a:ext cx="228600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ий Арбитражный с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битражные суды окру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битражные суды о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ь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4400" y="1523880"/>
            <a:ext cx="2514600" cy="13716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76720" y="3048120"/>
            <a:ext cx="2590560" cy="14475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меня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91320" y="4572000"/>
            <a:ext cx="3352680" cy="14479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икосновен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3" descr="bd19981_"/>
          <p:cNvPicPr/>
          <p:nvPr/>
        </p:nvPicPr>
        <p:blipFill>
          <a:blip r:embed="rId1"/>
          <a:stretch/>
        </p:blipFill>
        <p:spPr>
          <a:xfrm>
            <a:off x="6553080" y="1447920"/>
            <a:ext cx="217188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 присяжных (12 человек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сматривает уголовные дела о тяжких и особо тяжких преступлен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</a:rPr>
              <a:t>Кто может быть присяжным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бой человек, за исключением священников, судей, работников правоохранительных органов, военнослужащих, возраст до 25 и старше 70 л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ругие функции су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ды дают санкцию (разрешение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арест подозреваемог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проведение обыска в его дом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прослушивание его телефонных разговор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без разрешения суда человек может быть задержан не более чем на 48 час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ировой судья рассматрив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головные дела о преступлениях (наказание не более 3 лет лишения свободы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 расторжении брака, если между супругами отсутствует спор о детя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 разделе совместно нажитого имуще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ировой судья рассматрив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, возникающие из трудовых отноше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б административных правонарушениях, отнесенных к компетенции судь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двокатур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ъединение юристов профессионалов (адвокатов) , главной функцией которого является оказание квалифицированной юридической помощи всем , кто в ней нуждае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двокат оказывает юридическую помощ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нсультаци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ставление жалоб, заявлен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ставительство в суд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ие в предварительном следствии и в судебном процесс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Правоохранительные органы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– специальные органы (государственные и негосударственные), создаваемые в целях охраны права, действующие на основании и в соответствии  с закон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Юридическая помощь адвока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304920" y="3048120"/>
            <a:ext cx="3124080" cy="17524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лат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исьменному договору с доверител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57600" y="2057040"/>
            <a:ext cx="5105520" cy="441972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txBody>
          <a:bodyPr anchor="ctr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есплатна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ие в уголовном судопроизводстве без догов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анам Великой Отечественной вой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ртвам политических репресс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ам, чей доход ниже прожиточного миним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вершеннолетни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ящимся в  учреждениях системы профил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1" name="Прямая со стрелкой 6"/>
          <p:cNvCxnSpPr>
            <a:stCxn id="218" idx="2"/>
            <a:endCxn id="219" idx="0"/>
          </p:cNvCxnSpPr>
          <p:nvPr/>
        </p:nvCxnSpPr>
        <p:spPr>
          <a:xfrm flipH="1">
            <a:off x="1866600" y="1420920"/>
            <a:ext cx="2705760" cy="1627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22" name="Прямая со стрелкой 8"/>
          <p:cNvCxnSpPr>
            <a:stCxn id="218" idx="2"/>
          </p:cNvCxnSpPr>
          <p:nvPr/>
        </p:nvCxnSpPr>
        <p:spPr>
          <a:xfrm>
            <a:off x="4570920" y="1420920"/>
            <a:ext cx="2439000" cy="1551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отари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Нотариа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система органов, на которые возложено удостоверение сделок,  оформление наследственных прав и совершение других действий, юридическое закрепление гражданских прав и предупреждение их возможного наруш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нотариу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ение сделок с недвижимостью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ение завеща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дение наследственных де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яет подлинность подписей, документ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имает документы на хра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то может стать нотариусом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имеющее юридическое образ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прошедшее стажировку у нотариуса сроком не менее 1 г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сдавшее квалификационный экзам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получившее разрешение на право совершения нотариальных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авоохранительные орган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1219320" y="1676520"/>
            <a:ext cx="3200400" cy="8380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4876920" y="1676520"/>
            <a:ext cx="3200400" cy="8380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государств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7"/>
          <p:cNvCxnSpPr>
            <a:stCxn id="163" idx="2"/>
          </p:cNvCxnSpPr>
          <p:nvPr/>
        </p:nvCxnSpPr>
        <p:spPr>
          <a:xfrm flipH="1">
            <a:off x="3504600" y="1420920"/>
            <a:ext cx="1067400" cy="2559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68" name="Прямая со стрелкой 9"/>
          <p:cNvCxnSpPr>
            <a:stCxn id="163" idx="2"/>
          </p:cNvCxnSpPr>
          <p:nvPr/>
        </p:nvCxnSpPr>
        <p:spPr>
          <a:xfrm>
            <a:off x="4570920" y="1420920"/>
            <a:ext cx="1600920" cy="2559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69" name="Прямая со стрелкой 11"/>
          <p:cNvCxnSpPr>
            <a:stCxn id="165" idx="2"/>
            <a:endCxn id="170" idx="0"/>
          </p:cNvCxnSpPr>
          <p:nvPr/>
        </p:nvCxnSpPr>
        <p:spPr>
          <a:xfrm flipH="1">
            <a:off x="2666520" y="2514240"/>
            <a:ext cx="153360" cy="61020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71" name="Прямая со стрелкой 13"/>
          <p:cNvCxnSpPr>
            <a:stCxn id="166" idx="2"/>
          </p:cNvCxnSpPr>
          <p:nvPr/>
        </p:nvCxnSpPr>
        <p:spPr>
          <a:xfrm flipH="1">
            <a:off x="6474600" y="2516040"/>
            <a:ext cx="39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sp>
        <p:nvSpPr>
          <p:cNvPr id="170" name="Скругленный прямоугольник 14"/>
          <p:cNvSpPr/>
          <p:nvPr/>
        </p:nvSpPr>
        <p:spPr>
          <a:xfrm>
            <a:off x="1066680" y="3124080"/>
            <a:ext cx="3200400" cy="28195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ку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и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С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ож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Скругленный прямоугольник 16"/>
          <p:cNvSpPr/>
          <p:nvPr/>
        </p:nvSpPr>
        <p:spPr>
          <a:xfrm>
            <a:off x="5181480" y="3124080"/>
            <a:ext cx="3200400" cy="28195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двок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отари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охранные служ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детективные аген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правоохранительных орган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рьба с правонарушени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щита правопо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сечение противоправной 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курату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сударственная система органов, осуществляющая надзор за исполнением действующих в стране закон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правления прокурорской деятель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исполнением законов органами государственной власти и их должностными лицам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соблюдением прав и свобод человека и граждан со стороны государственных органов и юридических лиц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органами полици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правления прокурорской деятель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ледование наиболее опасных преступлен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куроры участвуют в  рассмотрении дел суд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прокур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о беспрепятственно входить на территорию и в помещения организаций и проверять информацию, поступившую в прокуратур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о требовать предоставления необходимых документ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водить проверк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прокур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збуждать уголовные дел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 приносить протесты на незаконные акты должностных лиц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 выносить представление об устранении нарушений зако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1-29T19:32:22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