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574-9428-430A-9B4F-0828243D82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BFD9-4CE1-4A19-AF93-F80C037B4D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56D-2E5A-44D3-9074-A1E053E8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CA8-8D6D-4199-84FF-2C385A7E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AA7-459A-46BC-83F9-8635B51E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A35-9341-4986-BDAD-1C11AE28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2130-3729-4ECD-8940-A0270B44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4D89-81AE-47CE-B98D-9E1FC2CC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88B0-6150-4800-B80F-F7D311BE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C9C1-9A14-4FA9-B0BD-6AE5D124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D9CE-5D1C-4CEE-B06E-5110A097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378-B8F6-4F05-9A08-FCAAAC72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4995-C2CA-418D-A4C7-EE7D2EE4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078-1AB8-4297-B8B4-C778AA5F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95E4-B93C-4484-BEFF-AD17A8A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459-D359-48F6-9260-EF8DC0A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11FC-6633-4BCE-87C3-629DB71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0FF-3961-431F-92A5-743E55AF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FCA8-B1B4-4C09-9379-0D9CA362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D83-06C2-437E-9587-4ED4693E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DBB-2281-4E69-9027-3EB14F0A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BCA-5E2C-482C-9E04-791468CE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F4A-F973-4626-8042-0E0956A0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905B-8AE5-49C5-A282-687F2CC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A17-0920-4CCA-91EA-D09396FF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01C-507C-4021-85BD-EE466524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73A-8008-4342-8413-F77BE4F7A9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58B6-7DFE-408A-9792-23995F2BDE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00013_"/>
          <p:cNvPicPr/>
          <p:nvPr/>
        </p:nvPicPr>
        <p:blipFill>
          <a:blip r:embed="rId1"/>
          <a:stretch/>
        </p:blipFill>
        <p:spPr>
          <a:xfrm>
            <a:off x="0" y="-609480"/>
            <a:ext cx="9829800" cy="68500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оохранительные орга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Функции суда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уществляет правосудие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меняет меры государственного принуждения к лицам, нарушающим установленный правопорядок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езумпция невиновност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Юридический принцип, согласно которому обвиняемый считается невиновным, пока его вина не будет доказана в установленном законом поряд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ды суд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457200" y="1676520"/>
            <a:ext cx="2819520" cy="91440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Конституционные суд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6324480" y="1676520"/>
            <a:ext cx="2057400" cy="91440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Арбитражные суды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Прямоугольник 5"/>
          <p:cNvSpPr/>
          <p:nvPr/>
        </p:nvSpPr>
        <p:spPr>
          <a:xfrm>
            <a:off x="3581280" y="1676520"/>
            <a:ext cx="2057400" cy="91440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уды общей юрисдикц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94" name="Прямая со стрелкой 7"/>
          <p:cNvCxnSpPr/>
          <p:nvPr/>
        </p:nvCxnSpPr>
        <p:spPr>
          <a:xfrm flipH="1">
            <a:off x="2057040" y="1066680"/>
            <a:ext cx="236304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95" name="Прямая со стрелкой 9"/>
          <p:cNvCxnSpPr>
            <a:endCxn id="193" idx="0"/>
          </p:cNvCxnSpPr>
          <p:nvPr/>
        </p:nvCxnSpPr>
        <p:spPr>
          <a:xfrm>
            <a:off x="4418640" y="1066680"/>
            <a:ext cx="19116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96" name="Прямая со стрелкой 11"/>
          <p:cNvCxnSpPr/>
          <p:nvPr/>
        </p:nvCxnSpPr>
        <p:spPr>
          <a:xfrm>
            <a:off x="4495680" y="1066680"/>
            <a:ext cx="289656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sp>
        <p:nvSpPr>
          <p:cNvPr id="197" name="Прямоугольник 12"/>
          <p:cNvSpPr/>
          <p:nvPr/>
        </p:nvSpPr>
        <p:spPr>
          <a:xfrm>
            <a:off x="685800" y="2971800"/>
            <a:ext cx="2362320" cy="26668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онный суд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нституционные суды субъектов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3429000" y="2971800"/>
            <a:ext cx="2362320" cy="26668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овный суд РФ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рховные суды субъектов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йонные (городские), областн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ров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енные су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6324480" y="3048120"/>
            <a:ext cx="2286000" cy="26668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сший Арбитражный с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битражные суды округ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битражные суды объектов Р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ьи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4400" y="1523880"/>
            <a:ext cx="2514600" cy="137160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276720" y="3048120"/>
            <a:ext cx="2590560" cy="14475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меня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91320" y="4572000"/>
            <a:ext cx="3352680" cy="144792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рикосновен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13" descr="bd19981_"/>
          <p:cNvPicPr/>
          <p:nvPr/>
        </p:nvPicPr>
        <p:blipFill>
          <a:blip r:embed="rId1"/>
          <a:stretch/>
        </p:blipFill>
        <p:spPr>
          <a:xfrm>
            <a:off x="6553080" y="1447920"/>
            <a:ext cx="2171880" cy="2230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Суд присяжных (12 человек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сматривает уголовные дела о тяжких и особо тяжких преступления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ffcc66"/>
                </a:solidFill>
                <a:uFillTx/>
                <a:latin typeface="Tahoma"/>
              </a:rPr>
              <a:t>Кто может быть присяжным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юбой человек, за исключением священников, судей, работников правоохранительных органов, военнослужащих, возраст до 25 и старше 70 ле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ругие функции суд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уды дают санкцию (разрешение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на арест подозреваемого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на проведение обыска в его доме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на прослушивание его телефонных разговор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- без разрешения суда человек может быть задержан не более чем на 48 час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ировой судья рассматрив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головные дела о преступлениях (наказание не более 3 лет лишения свободы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 о расторжении брака, если между супругами отсутствует спор о детях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 о разделе совместно нажитого имуще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ировой судья рассматривает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, возникающие из трудовых отношен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ла об административных правонарушениях, отнесенных к компетенции судь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двокатура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ъединение юристов профессионалов (адвокатов) , главной функцией которого является оказание квалифицированной юридической помощи всем , кто в ней нуждае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Адвокат оказывает юридическую помощь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онсультации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ставление жалоб, заявлени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едставительство в суде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участие в предварительном следствии и в судебном процесс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Правоохранительные органы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– специальные органы (государственные и негосударственные), создаваемые в целях охраны права, действующие на основании и в соответствии  с законом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Юридическая помощь адвокат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Прямоугольник 3"/>
          <p:cNvSpPr/>
          <p:nvPr/>
        </p:nvSpPr>
        <p:spPr>
          <a:xfrm>
            <a:off x="304920" y="3048120"/>
            <a:ext cx="3124080" cy="17524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лат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 письменному договору с доверител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57600" y="2057040"/>
            <a:ext cx="5105520" cy="441972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txBody>
          <a:bodyPr anchor="ctr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Бесплатна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ие в уголовном судопроизводстве без догов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теранам Великой Отечественной войн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ртвам политических репресс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ажданам, чей доход ниже прожиточного миниму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совершеннолетним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ходящимся в  учреждениях системы профилакти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21" name="Прямая со стрелкой 6"/>
          <p:cNvCxnSpPr>
            <a:stCxn id="218" idx="2"/>
            <a:endCxn id="219" idx="0"/>
          </p:cNvCxnSpPr>
          <p:nvPr/>
        </p:nvCxnSpPr>
        <p:spPr>
          <a:xfrm flipH="1">
            <a:off x="1866600" y="1420920"/>
            <a:ext cx="2705760" cy="162792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222" name="Прямая со стрелкой 8"/>
          <p:cNvCxnSpPr>
            <a:stCxn id="218" idx="2"/>
          </p:cNvCxnSpPr>
          <p:nvPr/>
        </p:nvCxnSpPr>
        <p:spPr>
          <a:xfrm>
            <a:off x="4570920" y="1420920"/>
            <a:ext cx="2439000" cy="155160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отариат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Нотариат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– система органов, на которые возложено удостоверение сделок,  оформление наследственных прав и совершение других действий, юридическое закрепление гражданских прав и предупреждение их возможного наруш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лномочия нотариус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остоверение сделок с недвижимостью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остоверение завещаний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дение наследственных дел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остоверяет подлинность подписей, документ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имает документы на хранени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Кто может стать нотариусом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имеющее юридическое образова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прошедшее стажировку у нотариуса сроком не менее 1 год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сдавшее квалификационный экзам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о, получившее разрешение на право совершения нотариальных действ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авоохранительные органы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Прямоугольник 3"/>
          <p:cNvSpPr/>
          <p:nvPr/>
        </p:nvSpPr>
        <p:spPr>
          <a:xfrm>
            <a:off x="1219320" y="1676520"/>
            <a:ext cx="3200400" cy="8380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4876920" y="1676520"/>
            <a:ext cx="3200400" cy="838080"/>
          </a:xfrm>
          <a:prstGeom prst="rect">
            <a:avLst/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государстве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7"/>
          <p:cNvCxnSpPr>
            <a:stCxn id="163" idx="2"/>
          </p:cNvCxnSpPr>
          <p:nvPr/>
        </p:nvCxnSpPr>
        <p:spPr>
          <a:xfrm flipH="1">
            <a:off x="3504600" y="1420920"/>
            <a:ext cx="1067400" cy="2559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68" name="Прямая со стрелкой 9"/>
          <p:cNvCxnSpPr>
            <a:stCxn id="163" idx="2"/>
          </p:cNvCxnSpPr>
          <p:nvPr/>
        </p:nvCxnSpPr>
        <p:spPr>
          <a:xfrm>
            <a:off x="4570920" y="1420920"/>
            <a:ext cx="1600920" cy="2559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69" name="Прямая со стрелкой 11"/>
          <p:cNvCxnSpPr>
            <a:stCxn id="165" idx="2"/>
            <a:endCxn id="170" idx="0"/>
          </p:cNvCxnSpPr>
          <p:nvPr/>
        </p:nvCxnSpPr>
        <p:spPr>
          <a:xfrm flipH="1">
            <a:off x="2666520" y="2514240"/>
            <a:ext cx="153360" cy="61020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cxnSp>
        <p:nvCxnSpPr>
          <p:cNvPr id="171" name="Прямая со стрелкой 13"/>
          <p:cNvCxnSpPr>
            <a:stCxn id="166" idx="2"/>
          </p:cNvCxnSpPr>
          <p:nvPr/>
        </p:nvCxnSpPr>
        <p:spPr>
          <a:xfrm flipH="1">
            <a:off x="6474600" y="2516040"/>
            <a:ext cx="3960" cy="610560"/>
          </a:xfrm>
          <a:prstGeom prst="straightConnector1">
            <a:avLst/>
          </a:prstGeom>
          <a:ln w="9360">
            <a:solidFill>
              <a:srgbClr val="f9a300"/>
            </a:solidFill>
            <a:miter/>
            <a:tailEnd len="med" type="arrow" w="med"/>
          </a:ln>
        </p:spPr>
      </p:cxnSp>
      <p:sp>
        <p:nvSpPr>
          <p:cNvPr id="170" name="Скругленный прямоугольник 14"/>
          <p:cNvSpPr/>
          <p:nvPr/>
        </p:nvSpPr>
        <p:spPr>
          <a:xfrm>
            <a:off x="1066680" y="3124080"/>
            <a:ext cx="3200400" cy="28195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Проку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у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и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С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мож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Скругленный прямоугольник 16"/>
          <p:cNvSpPr/>
          <p:nvPr/>
        </p:nvSpPr>
        <p:spPr>
          <a:xfrm>
            <a:off x="5181480" y="3124080"/>
            <a:ext cx="3200400" cy="2819520"/>
          </a:xfrm>
          <a:prstGeom prst="roundRect">
            <a:avLst>
              <a:gd name="adj" fmla="val 16667"/>
            </a:avLst>
          </a:prstGeom>
          <a:solidFill>
            <a:srgbClr val="f8a500"/>
          </a:solidFill>
          <a:ln w="25560">
            <a:solidFill>
              <a:srgbClr val="b67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Адвок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Нотари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охранные служб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ные детективные агент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Задачи правоохранительных органов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орьба с правонарушени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щита правопоряд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сечение противоправной деятель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рокурату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осударственная система органов, осуществляющая надзор за исполнением действующих в стране закон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правления прокурорской деятельност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зор за исполнением законов органами государственной власти и их должностными лицам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зор за соблюдением прав и свобод человека и граждан со стороны государственных органов и юридических лиц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дзор за органами полици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правления прокурорской деятельност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ледование наиболее опасных преступлений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окуроры участвуют в  рассмотрении дел суда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лномочия прокуро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о беспрепятственно входить на территорию и в помещения организаций и проверять информацию, поступившую в прокуратур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во требовать предоставления необходимых документов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оводить проверки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лномочия прокурор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збуждать уголовные дела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 приносить протесты на незаконные акты должностных лиц;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 выносить представление об устранении нарушений закон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1-29T19:32:22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