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6A13-E28D-471D-BCAC-D59890711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BC6-BB4B-47C7-A638-DDEA535E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3E3-D1B1-4EB0-8526-9D1C8F57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90F-F415-4BD9-8D0C-C39C09B7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FC1-534F-4D8C-A28E-73D62475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E01-5578-4006-BB16-4BF350D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C6C-FE3D-4C2A-BCFE-D6B447B7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0DE-89D3-475E-A05C-171D5B81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51F-A95B-4A3D-A9D5-5A37D9D0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ED6-110E-448B-A61C-15DA24B5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C4B-3826-425A-94EF-115B54D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F6E-3023-4EDF-A595-CB50BCB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841A-F0B0-4D81-8DC4-E8B2A7C55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5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8.xml"/><Relationship Id="rId22" Type="http://schemas.openxmlformats.org/officeDocument/2006/relationships/slide" Target="slide4.xml"/><Relationship Id="rId23" Type="http://schemas.openxmlformats.org/officeDocument/2006/relationships/slide" Target="slide9.xml"/><Relationship Id="rId24" Type="http://schemas.openxmlformats.org/officeDocument/2006/relationships/slide" Target="slide14.xml"/><Relationship Id="rId25" Type="http://schemas.openxmlformats.org/officeDocument/2006/relationships/slide" Target="slide19.xml"/><Relationship Id="rId26" Type="http://schemas.openxmlformats.org/officeDocument/2006/relationships/slide" Target="slide24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" Target="slide13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468360" y="1281240"/>
            <a:ext cx="8391600" cy="34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12600">
                  <a:solidFill>
                    <a:srgbClr val="99cc00"/>
                  </a:solidFill>
                  <a:custDash>
                    <a:ds d="100000" sp="1000"/>
                  </a:custDash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есёлая математика</a:t>
            </a:r>
            <a:endParaRPr b="0" lang="en-US" sz="1800" spc="1" strike="noStrike">
              <a:ln cap="rnd" w="12600">
                <a:solidFill>
                  <a:srgbClr val="99cc00"/>
                </a:solidFill>
                <a:custDash>
                  <a:ds d="100000" sp="1000"/>
                </a:custDash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Picture 3" descr="122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24720" y="5373720"/>
            <a:ext cx="1152720" cy="1128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9640" y="57405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денёва Галина Алексеевна, учитель начальных классов МОУ лицея «МОК №2» г. Ворон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276720" y="119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своя и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7"/>
          <p:cNvSpPr/>
          <p:nvPr/>
        </p:nvSpPr>
        <p:spPr>
          <a:xfrm>
            <a:off x="291636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ем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0000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яс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Картинка 5 из 35567"/>
          <p:cNvPicPr/>
          <p:nvPr/>
        </p:nvPicPr>
        <p:blipFill>
          <a:blip r:embed="rId4"/>
          <a:srcRect l="0" t="23626" r="0" b="53692"/>
          <a:stretch/>
        </p:blipFill>
        <p:spPr>
          <a:xfrm>
            <a:off x="3132000" y="1413000"/>
            <a:ext cx="55454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7"/>
          <p:cNvSpPr/>
          <p:nvPr/>
        </p:nvSpPr>
        <p:spPr>
          <a:xfrm>
            <a:off x="2843280" y="4292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о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900000" y="3141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4284720" y="5516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ор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44500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Картинка 5 из 35567"/>
          <p:cNvPicPr/>
          <p:nvPr/>
        </p:nvPicPr>
        <p:blipFill>
          <a:blip r:embed="rId4"/>
          <a:srcRect l="25521" t="47253" r="22502" b="27250"/>
          <a:stretch/>
        </p:blipFill>
        <p:spPr>
          <a:xfrm>
            <a:off x="4067280" y="1700280"/>
            <a:ext cx="3960720" cy="19429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7"/>
          <p:cNvSpPr/>
          <p:nvPr/>
        </p:nvSpPr>
        <p:spPr>
          <a:xfrm>
            <a:off x="4572000" y="544500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ол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90000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сто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987640" y="429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Картинка 5 из 35567"/>
          <p:cNvPicPr/>
          <p:nvPr/>
        </p:nvPicPr>
        <p:blipFill>
          <a:blip r:embed="rId4"/>
          <a:srcRect l="11353" t="76567" r="11168" b="1710"/>
          <a:stretch/>
        </p:blipFill>
        <p:spPr>
          <a:xfrm>
            <a:off x="2916360" y="1341360"/>
            <a:ext cx="5903640" cy="1656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9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8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87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7"/>
          <p:cNvSpPr/>
          <p:nvPr/>
        </p:nvSpPr>
        <p:spPr>
          <a:xfrm>
            <a:off x="1116000" y="3141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4643280" y="5445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2987640" y="429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14"/>
          <p:cNvSpPr txBox="1"/>
          <p:nvPr/>
        </p:nvSpPr>
        <p:spPr>
          <a:xfrm>
            <a:off x="1116000" y="549360"/>
            <a:ext cx="6769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grpSp>
        <p:nvGrpSpPr>
          <p:cNvPr id="146" name="Group 19"/>
          <p:cNvGrpSpPr/>
          <p:nvPr/>
        </p:nvGrpSpPr>
        <p:grpSpPr>
          <a:xfrm>
            <a:off x="4643280" y="1628640"/>
            <a:ext cx="3168720" cy="1871640"/>
            <a:chOff x="4643280" y="1628640"/>
            <a:chExt cx="3168720" cy="1871640"/>
          </a:xfrm>
        </p:grpSpPr>
        <p:sp>
          <p:nvSpPr>
            <p:cNvPr id="147" name="WordArt 15"/>
            <p:cNvSpPr txBox="1"/>
            <p:nvPr/>
          </p:nvSpPr>
          <p:spPr>
            <a:xfrm>
              <a:off x="4643280" y="1773360"/>
              <a:ext cx="123840" cy="523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ff"/>
                  </a:solidFill>
                  <a:latin typeface="Arial"/>
                </a:rPr>
                <a:t>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  <a:ea typeface="Arial"/>
              </a:endParaRPr>
            </a:p>
          </p:txBody>
        </p:sp>
        <p:sp>
          <p:nvSpPr>
            <p:cNvPr id="148" name="WordArt 16"/>
            <p:cNvSpPr txBox="1"/>
            <p:nvPr/>
          </p:nvSpPr>
          <p:spPr>
            <a:xfrm>
              <a:off x="5076720" y="1700280"/>
              <a:ext cx="122400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ff"/>
                  </a:solidFill>
                  <a:latin typeface="Arial"/>
                </a:rPr>
                <a:t>100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latin typeface="Arial"/>
                <a:ea typeface="Arial"/>
              </a:endParaRPr>
            </a:p>
          </p:txBody>
        </p:sp>
        <p:sp>
          <p:nvSpPr>
            <p:cNvPr id="149" name="WordArt 17"/>
            <p:cNvSpPr txBox="1"/>
            <p:nvPr/>
          </p:nvSpPr>
          <p:spPr>
            <a:xfrm>
              <a:off x="6443640" y="1628640"/>
              <a:ext cx="1368360" cy="18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150" name="WordArt 18"/>
            <p:cNvSpPr txBox="1"/>
            <p:nvPr/>
          </p:nvSpPr>
          <p:spPr>
            <a:xfrm>
              <a:off x="6948360" y="2276640"/>
              <a:ext cx="2890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</p:spTree>
  </p:cSld>
  <p:timing>
    <p:tnLst>
      <p:par>
        <p:cTn id="397" dur="indefinite" restart="never" nodeType="tmRoot">
          <p:childTnLst>
            <p:seq>
              <p:cTn id="39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99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7"/>
          <p:cNvSpPr/>
          <p:nvPr/>
        </p:nvSpPr>
        <p:spPr>
          <a:xfrm>
            <a:off x="1116000" y="3141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4572000" y="5445000"/>
            <a:ext cx="284328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2987640" y="4292640"/>
            <a:ext cx="2879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pic>
        <p:nvPicPr>
          <p:cNvPr id="155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468360" y="126828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етыре гусёнка и двое утя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озере плавают, громко крич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 ну, посчитай поскорей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колько всего в воде малыш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29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ня прошёл 20 шагов, а Саша – 19 шагов.  Кто из них прошёл большее расстоя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059280" y="4292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82692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Са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68" nodeType="clickEffect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трёх братьев по 1 сестре. Сколько детей в семь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059280" y="4292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4643280" y="5445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2692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9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498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0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е 5 лет, а её брат на 4 года старше. Сколько лет брат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643280" y="5516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9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3186000" y="4221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97164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510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008000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ять человек обменялись рукопожатиями. Сколько было рукопожат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104292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3186000" y="422100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4716360" y="544500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8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ffff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адачки</a:t>
            </a:r>
            <a:endParaRPr b="0" lang="en-US" sz="1800" spc="1" strike="noStrike">
              <a:ln w="38160">
                <a:solidFill>
                  <a:srgbClr val="00ffff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49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7"/>
          <p:cNvSpPr/>
          <p:nvPr/>
        </p:nvSpPr>
        <p:spPr>
          <a:xfrm>
            <a:off x="3186000" y="4292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8"/>
          <p:cNvSpPr/>
          <p:nvPr/>
        </p:nvSpPr>
        <p:spPr>
          <a:xfrm>
            <a:off x="1116000" y="2997360"/>
            <a:ext cx="277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ш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4716360" y="544500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дес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8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190" name="AutoShape 24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3708360" y="1341360"/>
            <a:ext cx="511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 руке малышка Лена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юбит пальчики считать!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нее, на удивленье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ждый раз выходит ...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79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88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2">
            <a:hlinkClick r:id="rId1" action="ppaction://hlinksldjump"/>
          </p:cNvPr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0"/>
          <p:cNvSpPr/>
          <p:nvPr/>
        </p:nvSpPr>
        <p:spPr>
          <a:xfrm>
            <a:off x="755640" y="5370480"/>
            <a:ext cx="3117960" cy="11685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>
            <a:hlinkClick r:id="rId2" action="ppaction://hlinksldjump"/>
          </p:cNvPr>
          <p:cNvSpPr/>
          <p:nvPr/>
        </p:nvSpPr>
        <p:spPr>
          <a:xfrm>
            <a:off x="4788000" y="1125360"/>
            <a:ext cx="93636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>
            <a:hlinkClick r:id="rId3" action="ppaction://hlinksldjump"/>
          </p:cNvPr>
          <p:cNvSpPr/>
          <p:nvPr/>
        </p:nvSpPr>
        <p:spPr>
          <a:xfrm>
            <a:off x="572436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>
            <a:hlinkClick r:id="rId4" action="ppaction://hlinksldjump"/>
          </p:cNvPr>
          <p:cNvSpPr/>
          <p:nvPr/>
        </p:nvSpPr>
        <p:spPr>
          <a:xfrm>
            <a:off x="665964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rId5" action="ppaction://hlinksldjump"/>
          </p:cNvPr>
          <p:cNvSpPr/>
          <p:nvPr/>
        </p:nvSpPr>
        <p:spPr>
          <a:xfrm>
            <a:off x="7596360" y="1125360"/>
            <a:ext cx="100620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6" action="ppaction://hlinksldjump"/>
          </p:cNvPr>
          <p:cNvSpPr/>
          <p:nvPr/>
        </p:nvSpPr>
        <p:spPr>
          <a:xfrm>
            <a:off x="4788000" y="220500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>
            <a:hlinkClick r:id="rId7" action="ppaction://hlinksldjump"/>
          </p:cNvPr>
          <p:cNvSpPr/>
          <p:nvPr/>
        </p:nvSpPr>
        <p:spPr>
          <a:xfrm>
            <a:off x="5724360" y="2205000"/>
            <a:ext cx="93672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>
            <a:hlinkClick r:id="rId8" action="ppaction://hlinksldjump"/>
          </p:cNvPr>
          <p:cNvSpPr/>
          <p:nvPr/>
        </p:nvSpPr>
        <p:spPr>
          <a:xfrm>
            <a:off x="6662880" y="220500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7596360" y="220500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>
            <a:hlinkClick r:id="rId10" action="ppaction://hlinksldjump"/>
          </p:cNvPr>
          <p:cNvSpPr/>
          <p:nvPr/>
        </p:nvSpPr>
        <p:spPr>
          <a:xfrm>
            <a:off x="4788000" y="342900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>
            <a:hlinkClick r:id="rId11" action="ppaction://hlinksldjump"/>
          </p:cNvPr>
          <p:cNvSpPr/>
          <p:nvPr/>
        </p:nvSpPr>
        <p:spPr>
          <a:xfrm>
            <a:off x="5724360" y="3429000"/>
            <a:ext cx="93672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>
            <a:hlinkClick r:id="rId12" action="ppaction://hlinksldjump"/>
          </p:cNvPr>
          <p:cNvSpPr/>
          <p:nvPr/>
        </p:nvSpPr>
        <p:spPr>
          <a:xfrm>
            <a:off x="6662880" y="335592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8">
            <a:hlinkClick r:id="rId13" action="ppaction://hlinksldjump"/>
          </p:cNvPr>
          <p:cNvSpPr/>
          <p:nvPr/>
        </p:nvSpPr>
        <p:spPr>
          <a:xfrm>
            <a:off x="7596360" y="3429000"/>
            <a:ext cx="93636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>
            <a:hlinkClick r:id="rId14" action="ppaction://hlinksldjump"/>
          </p:cNvPr>
          <p:cNvSpPr/>
          <p:nvPr/>
        </p:nvSpPr>
        <p:spPr>
          <a:xfrm>
            <a:off x="4788000" y="443700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2">
            <a:hlinkClick r:id="rId15" action="ppaction://hlinksldjump"/>
          </p:cNvPr>
          <p:cNvSpPr/>
          <p:nvPr/>
        </p:nvSpPr>
        <p:spPr>
          <a:xfrm>
            <a:off x="572436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3">
            <a:hlinkClick r:id="rId16" action="ppaction://hlinksldjump"/>
          </p:cNvPr>
          <p:cNvSpPr/>
          <p:nvPr/>
        </p:nvSpPr>
        <p:spPr>
          <a:xfrm>
            <a:off x="665964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>
            <a:hlinkClick r:id="rId17" action="ppaction://hlinksldjump"/>
          </p:cNvPr>
          <p:cNvSpPr/>
          <p:nvPr/>
        </p:nvSpPr>
        <p:spPr>
          <a:xfrm>
            <a:off x="7596360" y="443700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1"/>
          <p:cNvSpPr/>
          <p:nvPr/>
        </p:nvSpPr>
        <p:spPr>
          <a:xfrm>
            <a:off x="757080" y="4292640"/>
            <a:ext cx="3117960" cy="116820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5">
            <a:hlinkClick r:id="rId18" action="ppaction://hlinksldjump"/>
          </p:cNvPr>
          <p:cNvSpPr/>
          <p:nvPr/>
        </p:nvSpPr>
        <p:spPr>
          <a:xfrm>
            <a:off x="4788000" y="5516640"/>
            <a:ext cx="93636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>
            <a:hlinkClick r:id="rId19" action="ppaction://hlinksldjump"/>
          </p:cNvPr>
          <p:cNvSpPr/>
          <p:nvPr/>
        </p:nvSpPr>
        <p:spPr>
          <a:xfrm>
            <a:off x="572436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>
            <a:hlinkClick r:id="rId20" action="ppaction://hlinksldjump"/>
          </p:cNvPr>
          <p:cNvSpPr/>
          <p:nvPr/>
        </p:nvSpPr>
        <p:spPr>
          <a:xfrm>
            <a:off x="665964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>
            <a:hlinkClick r:id="rId21" action="ppaction://hlinksldjump"/>
          </p:cNvPr>
          <p:cNvSpPr/>
          <p:nvPr/>
        </p:nvSpPr>
        <p:spPr>
          <a:xfrm>
            <a:off x="7596360" y="5516640"/>
            <a:ext cx="93636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0"/>
          <p:cNvSpPr/>
          <p:nvPr/>
        </p:nvSpPr>
        <p:spPr>
          <a:xfrm>
            <a:off x="757080" y="3213000"/>
            <a:ext cx="3117960" cy="116856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Задач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9"/>
          <p:cNvSpPr/>
          <p:nvPr/>
        </p:nvSpPr>
        <p:spPr>
          <a:xfrm>
            <a:off x="757080" y="2131920"/>
            <a:ext cx="3117960" cy="1168560"/>
          </a:xfrm>
          <a:prstGeom prst="cube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Реб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757080" y="1052640"/>
            <a:ext cx="3117960" cy="116820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Comic Sans MS"/>
              </a:rPr>
              <a:t>Прим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>
            <a:hlinkClick r:id="rId22" action="ppaction://hlinksldjump"/>
          </p:cNvPr>
          <p:cNvSpPr/>
          <p:nvPr/>
        </p:nvSpPr>
        <p:spPr>
          <a:xfrm>
            <a:off x="3851280" y="1125360"/>
            <a:ext cx="936720" cy="936720"/>
          </a:xfrm>
          <a:prstGeom prst="cube">
            <a:avLst>
              <a:gd name="adj" fmla="val 25000"/>
            </a:avLst>
          </a:prstGeom>
          <a:solidFill>
            <a:srgbClr val="cc99ff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rId23" action="ppaction://hlinksldjump"/>
          </p:cNvPr>
          <p:cNvSpPr/>
          <p:nvPr/>
        </p:nvSpPr>
        <p:spPr>
          <a:xfrm>
            <a:off x="3852720" y="2205000"/>
            <a:ext cx="93672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4">
            <a:hlinkClick r:id="rId24" action="ppaction://hlinksldjump"/>
          </p:cNvPr>
          <p:cNvSpPr/>
          <p:nvPr/>
        </p:nvSpPr>
        <p:spPr>
          <a:xfrm>
            <a:off x="3854520" y="3355920"/>
            <a:ext cx="936720" cy="93672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0">
            <a:hlinkClick r:id="rId25" action="ppaction://hlinksldjump"/>
          </p:cNvPr>
          <p:cNvSpPr/>
          <p:nvPr/>
        </p:nvSpPr>
        <p:spPr>
          <a:xfrm>
            <a:off x="3851280" y="4437000"/>
            <a:ext cx="93672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>
            <a:hlinkClick r:id="rId26" action="ppaction://hlinksldjump"/>
          </p:cNvPr>
          <p:cNvSpPr/>
          <p:nvPr/>
        </p:nvSpPr>
        <p:spPr>
          <a:xfrm>
            <a:off x="3851280" y="5516640"/>
            <a:ext cx="936720" cy="93672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7"/>
          <p:cNvSpPr/>
          <p:nvPr/>
        </p:nvSpPr>
        <p:spPr>
          <a:xfrm>
            <a:off x="4572000" y="544500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Дев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82692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/>
          <p:cNvSpPr/>
          <p:nvPr/>
        </p:nvSpPr>
        <p:spPr>
          <a:xfrm>
            <a:off x="3419640" y="4221000"/>
            <a:ext cx="2700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Д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4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3786840" y="1341360"/>
            <a:ext cx="505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т так циферка, взгляни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 нее и фокус есть -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ы её переверни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получишь цифру шесть!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61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7"/>
          <p:cNvSpPr/>
          <p:nvPr/>
        </p:nvSpPr>
        <p:spPr>
          <a:xfrm>
            <a:off x="1116000" y="2997360"/>
            <a:ext cx="277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Во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4572000" y="551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Ш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220920" y="422100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Дев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24"/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3354480" y="119700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- Сколько ты имеешь ножек? -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сьминога тихо спросим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от ответить нам не сможет,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 и так мы знаем - ..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28" dur="indefinite" restart="never" nodeType="tmRoot">
          <p:childTnLst>
            <p:seq>
              <p:cTn id="629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648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7"/>
          <p:cNvSpPr/>
          <p:nvPr/>
        </p:nvSpPr>
        <p:spPr>
          <a:xfrm>
            <a:off x="3186000" y="558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1800360" y="407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Букв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11280" y="285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Зв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4"/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284280" y="1413000"/>
            <a:ext cx="544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живают в трудной книжке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итроумные братишки.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есять их, но братья эти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читают все на свет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69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7"/>
          <p:cNvSpPr/>
          <p:nvPr/>
        </p:nvSpPr>
        <p:spPr>
          <a:xfrm>
            <a:off x="1800360" y="4365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ем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4356000" y="5516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Девя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611280" y="285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Восем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24"/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348000" y="1341720"/>
            <a:ext cx="56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 - цифра, меньше десяти.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Меня легко найти.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 если букве «я» прикажешь рядом встать, 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Я всё: отец, и ты, и дедушка, и мать…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загадки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08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олько углов у многоугольн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4572000" y="558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3186000" y="414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971640" y="285264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Четы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sp>
        <p:nvSpPr>
          <p:cNvPr id="226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2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8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29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мма длин всех сторо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84360" y="278136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2195640" y="407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Площад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457200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Объ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Картинка 2 из 5207"/>
          <p:cNvPicPr/>
          <p:nvPr/>
        </p:nvPicPr>
        <p:blipFill>
          <a:blip r:embed="rId2"/>
          <a:stretch/>
        </p:blipFill>
        <p:spPr>
          <a:xfrm>
            <a:off x="5076720" y="2708280"/>
            <a:ext cx="3648240" cy="2449440"/>
          </a:xfrm>
          <a:prstGeom prst="rect">
            <a:avLst/>
          </a:prstGeom>
          <a:ln w="0">
            <a:noFill/>
          </a:ln>
        </p:spPr>
      </p:pic>
      <p:sp>
        <p:nvSpPr>
          <p:cNvPr id="23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59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7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7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7"/>
          <p:cNvSpPr/>
          <p:nvPr/>
        </p:nvSpPr>
        <p:spPr>
          <a:xfrm>
            <a:off x="539640" y="1557360"/>
            <a:ext cx="3384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  <p:pic>
        <p:nvPicPr>
          <p:cNvPr id="239" name="Picture 12" descr="S_3"/>
          <p:cNvPicPr/>
          <p:nvPr/>
        </p:nvPicPr>
        <p:blipFill>
          <a:blip r:embed="rId2"/>
          <a:srcRect l="18100" t="7138" r="32377" b="23807"/>
          <a:stretch/>
        </p:blipFill>
        <p:spPr>
          <a:xfrm>
            <a:off x="3924360" y="1413000"/>
            <a:ext cx="3938400" cy="439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S_3"/>
          <p:cNvPicPr/>
          <p:nvPr/>
        </p:nvPicPr>
        <p:blipFill>
          <a:blip r:embed="rId3"/>
          <a:srcRect l="21263" t="31739" r="67514" b="58956"/>
          <a:stretch/>
        </p:blipFill>
        <p:spPr>
          <a:xfrm>
            <a:off x="826920" y="1773360"/>
            <a:ext cx="792360" cy="525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" descr="S_3"/>
          <p:cNvPicPr/>
          <p:nvPr/>
        </p:nvPicPr>
        <p:blipFill>
          <a:blip r:embed="rId4"/>
          <a:srcRect l="50796" t="30274" r="38580" b="57930"/>
          <a:stretch/>
        </p:blipFill>
        <p:spPr>
          <a:xfrm>
            <a:off x="3059280" y="1628640"/>
            <a:ext cx="792000" cy="703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1" descr="S_3"/>
          <p:cNvPicPr/>
          <p:nvPr/>
        </p:nvPicPr>
        <p:blipFill>
          <a:blip r:embed="rId5"/>
          <a:srcRect l="36614" t="30259" r="52163" b="57930"/>
          <a:stretch/>
        </p:blipFill>
        <p:spPr>
          <a:xfrm>
            <a:off x="2124000" y="1700280"/>
            <a:ext cx="720720" cy="60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82905E-006 C 0.00695 0.00625 0.01563 0.01295 0.02379 0.01504 C 0.03664 0.0266 0.05261 0.03169 0.06667 0.04048 C 0.07344 0.04465 0.08039 0.05089 0.08768 0.0532 C 0.09254 0.05783 0.09705 0.06061 0.10278 0.06199 C 0.11059 0.07009 0.12171 0.07541 0.13143 0.07726 C 0.14549 0.08813 0.16233 0.09207 0.17622 0.10386 C 0.19341 0.11844 0.21146 0.13185 0.22952 0.14458 C 0.23716 0.1499 0.24219 0.1566 0.25052 0.15984 C 0.25764 0.16609 0.26511 0.17072 0.2724 0.17627 C 0.28056 0.18251 0.27257 0.17858 0.279 0.18136 C 0.28316 0.18506 0.28785 0.18529 0.29236 0.18783 C 0.29636 0.19015 0.29966 0.19338 0.30382 0.19524 C 0.30539 0.19593 0.30695 0.19593 0.30851 0.19662 C 0.31042 0.19732 0.31233 0.19824 0.31424 0.19917 C 0.32049 0.20217 0.32483 0.20657 0.33143 0.20796 C 0.33646 0.21027 0.33993 0.21513 0.3448 0.21814 C 0.34671 0.21929 0.35921 0.22623 0.36285 0.22831 C 0.36875 0.23155 0.37414 0.23872 0.38004 0.24219 C 0.38438 0.24474 0.38646 0.24428 0.39046 0.24728 C 0.39618 0.25145 0.40018 0.25815 0.4066 0.26001 C 0.41094 0.26371 0.41493 0.2681 0.4198 0.27018 C 0.42223 0.27227 0.42414 0.27504 0.42674 0.27666 C 0.42848 0.27782 0.43247 0.27897 0.43247 0.27897 C 0.43594 0.28291 0.43941 0.28291 0.44289 0.28661 C 0.44931 0.29401 0.45625 0.30072 0.46476 0.30326 C 0.46997 0.30789 0.47657 0.3102 0.48264 0.31205 C 0.48837 0.31945 0.49792 0.32154 0.50573 0.32339 C 0.50886 0.32639 0.50764 0.32477 0.50955 0.32732 E">
                                      <p:cBhvr>
                                        <p:cTn id="786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88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55031E-006 L 0.2441 0.47212 E">
                                      <p:cBhvr>
                                        <p:cTn id="79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вание инструмента для чертежа окруж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7"/>
          <p:cNvSpPr/>
          <p:nvPr/>
        </p:nvSpPr>
        <p:spPr>
          <a:xfrm>
            <a:off x="4572000" y="5373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971640" y="278136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Линейка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2987640" y="400536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12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82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колько треугольников на чертеж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4356000" y="5373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468360" y="270828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2340000" y="393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кнопка"/>
          <p:cNvPicPr/>
          <p:nvPr/>
        </p:nvPicPr>
        <p:blipFill>
          <a:blip r:embed="rId1"/>
          <a:stretch/>
        </p:blipFill>
        <p:spPr>
          <a:xfrm>
            <a:off x="7380360" y="5299200"/>
            <a:ext cx="1423800" cy="15588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34"/>
          <p:cNvSpPr/>
          <p:nvPr/>
        </p:nvSpPr>
        <p:spPr>
          <a:xfrm>
            <a:off x="611280" y="5229360"/>
            <a:ext cx="936360" cy="936360"/>
          </a:xfrm>
          <a:prstGeom prst="cube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1" descr="img1"/>
          <p:cNvPicPr/>
          <p:nvPr/>
        </p:nvPicPr>
        <p:blipFill>
          <a:blip r:embed="rId2"/>
          <a:stretch/>
        </p:blipFill>
        <p:spPr>
          <a:xfrm>
            <a:off x="5364000" y="2637000"/>
            <a:ext cx="3191040" cy="1887480"/>
          </a:xfrm>
          <a:prstGeom prst="rect">
            <a:avLst/>
          </a:prstGeom>
          <a:ln w="0">
            <a:noFill/>
          </a:ln>
        </p:spPr>
      </p:pic>
      <p:sp>
        <p:nvSpPr>
          <p:cNvPr id="257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cc00"/>
                  </a:solidFill>
                  <a:miter/>
                </a:ln>
                <a:solidFill>
                  <a:srgbClr val="3399ff"/>
                </a:solidFill>
                <a:latin typeface="Arial"/>
              </a:rPr>
              <a:t>геометрия</a:t>
            </a:r>
            <a:endParaRPr b="0" lang="en-US" sz="1800" spc="1" strike="noStrike">
              <a:ln w="38160">
                <a:solidFill>
                  <a:srgbClr val="99cc00"/>
                </a:solidFill>
                <a:miter/>
              </a:ln>
              <a:solidFill>
                <a:srgbClr val="3399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31" dur="indefinite" restart="never" nodeType="tmRoot">
          <p:childTnLst>
            <p:seq>
              <p:cTn id="832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833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8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395280" y="1989000"/>
            <a:ext cx="8280360" cy="294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ЛОДЦЫ!!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91520" cy="115236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80 + 10 – 3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427640" y="5300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30508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68436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3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50 – 10 – 30 + 60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468360" y="2924280"/>
            <a:ext cx="295128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2484360" y="414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8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91520" cy="107928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7 – 4 + 2 + </a:t>
            </a:r>
            <a:r>
              <a:rPr b="1" lang="ru-RU" sz="4800" spc="-1" strike="noStrike">
                <a:solidFill>
                  <a:srgbClr val="333399"/>
                </a:solidFill>
                <a:latin typeface="Comic Sans MS"/>
              </a:rPr>
              <a:t>?</a:t>
            </a:r>
            <a:r>
              <a:rPr b="1" lang="ru-RU" sz="4800" spc="-1" strike="noStrike">
                <a:solidFill>
                  <a:srgbClr val="ff9900"/>
                </a:solidFill>
                <a:latin typeface="Comic Sans MS"/>
              </a:rPr>
              <a:t> = 10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255600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755640" y="2997360"/>
            <a:ext cx="277164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7200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97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642160" cy="107928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Сколько получится, если к сумме чисел 7 и 7 прибавить число 3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53964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2484360" y="414972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04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5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570800" cy="1224000"/>
          </a:xfrm>
          <a:prstGeom prst="rect">
            <a:avLst/>
          </a:prstGeom>
          <a:gradFill rotWithShape="0">
            <a:gsLst>
              <a:gs pos="0">
                <a:srgbClr val="8ce785"/>
              </a:gs>
              <a:gs pos="100000">
                <a:srgbClr val="416b3e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ff9900"/>
                </a:solidFill>
                <a:latin typeface="Comic Sans MS"/>
              </a:rPr>
              <a:t>Сумма двух чисел равна 20. Первое слагаемое 12. Чему равно второе слагаемо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572000" y="551664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1908000" y="4292640"/>
            <a:ext cx="277200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468360" y="2997360"/>
            <a:ext cx="270036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755640" y="5445000"/>
            <a:ext cx="682560" cy="719280"/>
          </a:xfrm>
          <a:prstGeom prst="cube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имеры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58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7"/>
          <p:cNvSpPr/>
          <p:nvPr/>
        </p:nvSpPr>
        <p:spPr>
          <a:xfrm>
            <a:off x="2916360" y="4149720"/>
            <a:ext cx="277164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ри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900000" y="2997360"/>
            <a:ext cx="277200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жу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427640" y="5373720"/>
            <a:ext cx="270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66"/>
              </a:gs>
              <a:gs pos="50000">
                <a:srgbClr val="ffffcc"/>
              </a:gs>
              <a:gs pos="100000">
                <a:srgbClr val="ccff66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omic Sans MS"/>
              </a:rPr>
              <a:t>сторо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4"/>
          <p:cNvSpPr txBox="1"/>
          <p:nvPr/>
        </p:nvSpPr>
        <p:spPr>
          <a:xfrm>
            <a:off x="1187280" y="476280"/>
            <a:ext cx="676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ребусы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116" name="Picture 7" descr="кноп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80360" y="5157720"/>
            <a:ext cx="1423800" cy="1559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>
            <a:hlinkClick r:id="rId3" action="ppaction://hlinksldjump"/>
          </p:cNvPr>
          <p:cNvSpPr/>
          <p:nvPr/>
        </p:nvSpPr>
        <p:spPr>
          <a:xfrm>
            <a:off x="611280" y="5300640"/>
            <a:ext cx="936360" cy="936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33"/>
              </a:gs>
              <a:gs pos="100000">
                <a:srgbClr val="ff33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Картинка 5 из 35567"/>
          <p:cNvPicPr/>
          <p:nvPr/>
        </p:nvPicPr>
        <p:blipFill>
          <a:blip r:embed="rId4"/>
          <a:srcRect l="0" t="2835" r="0" b="78859"/>
          <a:stretch/>
        </p:blipFill>
        <p:spPr>
          <a:xfrm>
            <a:off x="1042920" y="1413000"/>
            <a:ext cx="7620120" cy="13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18:42Z</dcterms:created>
  <dc:creator>Лариса</dc:creator>
  <dc:description/>
  <dc:language>en-US</dc:language>
  <cp:lastModifiedBy>Галина</cp:lastModifiedBy>
  <dcterms:modified xsi:type="dcterms:W3CDTF">2021-02-04T17:30:07Z</dcterms:modified>
  <cp:revision>55</cp:revision>
  <dc:subject/>
  <dc:title>Слайд 1</dc:title>
</cp:coreProperties>
</file>