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A19-CDCF-45D2-A47A-B9B7201B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EAB-1F23-4639-9257-C5EFE0A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98D-5575-4712-B7C7-52E1AE3B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FAA-D3FC-46BE-99D7-6DD74A0C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652-FEBE-48A0-A616-C36E6F5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A3-D3AD-4E33-9838-560E26F5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F2E-B29A-4CA8-9249-50F3210F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3C7-DC04-46A0-AB36-BB230007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7C3-C7DF-491A-A5AD-49893AD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042-5A2F-4FF5-A56E-4B10CF6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60D-3326-4C61-8714-FA01BF84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B5A-D632-4CF1-9C45-49E76F60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294-46E3-4262-AF12-7A4F1936D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4.xml"/><Relationship Id="rId23" Type="http://schemas.openxmlformats.org/officeDocument/2006/relationships/slide" Target="slide9.xml"/><Relationship Id="rId24" Type="http://schemas.openxmlformats.org/officeDocument/2006/relationships/slide" Target="slide14.xml"/><Relationship Id="rId25" Type="http://schemas.openxmlformats.org/officeDocument/2006/relationships/slide" Target="slide19.xml"/><Relationship Id="rId26" Type="http://schemas.openxmlformats.org/officeDocument/2006/relationships/slide" Target="slide24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1281240"/>
            <a:ext cx="8391600" cy="34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ёлая математика</a:t>
            </a:r>
            <a:endParaRPr b="0" lang="en-US" sz="1800" spc="1" strike="noStrike">
              <a:ln cap="rnd" w="1260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122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24720" y="5373720"/>
            <a:ext cx="1152720" cy="1128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9640" y="57405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денёва Галина Алексеевна, учитель начальных классов МОУ лицея «МОК №2» г. Ворон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7672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во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7"/>
          <p:cNvSpPr/>
          <p:nvPr/>
        </p:nvSpPr>
        <p:spPr>
          <a:xfrm>
            <a:off x="291636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0000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я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Картинка 5 из 35567"/>
          <p:cNvPicPr/>
          <p:nvPr/>
        </p:nvPicPr>
        <p:blipFill>
          <a:blip r:embed="rId4"/>
          <a:srcRect l="0" t="23626" r="0" b="53692"/>
          <a:stretch/>
        </p:blipFill>
        <p:spPr>
          <a:xfrm>
            <a:off x="3132000" y="1413000"/>
            <a:ext cx="55454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7"/>
          <p:cNvSpPr/>
          <p:nvPr/>
        </p:nvSpPr>
        <p:spPr>
          <a:xfrm>
            <a:off x="2843280" y="4292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900000" y="3141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284720" y="5516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ор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44500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Картинка 5 из 35567"/>
          <p:cNvPicPr/>
          <p:nvPr/>
        </p:nvPicPr>
        <p:blipFill>
          <a:blip r:embed="rId4"/>
          <a:srcRect l="25521" t="47253" r="22502" b="27250"/>
          <a:stretch/>
        </p:blipFill>
        <p:spPr>
          <a:xfrm>
            <a:off x="4067280" y="1700280"/>
            <a:ext cx="3960720" cy="1942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7"/>
          <p:cNvSpPr/>
          <p:nvPr/>
        </p:nvSpPr>
        <p:spPr>
          <a:xfrm>
            <a:off x="4572000" y="544500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ол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90000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987640" y="429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Картинка 5 из 35567"/>
          <p:cNvPicPr/>
          <p:nvPr/>
        </p:nvPicPr>
        <p:blipFill>
          <a:blip r:embed="rId4"/>
          <a:srcRect l="11353" t="76567" r="11168" b="1710"/>
          <a:stretch/>
        </p:blipFill>
        <p:spPr>
          <a:xfrm>
            <a:off x="2916360" y="1341360"/>
            <a:ext cx="5903640" cy="1656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7"/>
          <p:cNvSpPr/>
          <p:nvPr/>
        </p:nvSpPr>
        <p:spPr>
          <a:xfrm>
            <a:off x="1116000" y="3141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643280" y="5445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2987640" y="429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4"/>
          <p:cNvSpPr txBox="1"/>
          <p:nvPr/>
        </p:nvSpPr>
        <p:spPr>
          <a:xfrm>
            <a:off x="1116000" y="54936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grpSp>
        <p:nvGrpSpPr>
          <p:cNvPr id="146" name="Group 19"/>
          <p:cNvGrpSpPr/>
          <p:nvPr/>
        </p:nvGrpSpPr>
        <p:grpSpPr>
          <a:xfrm>
            <a:off x="4643280" y="1628640"/>
            <a:ext cx="3168720" cy="1871640"/>
            <a:chOff x="4643280" y="1628640"/>
            <a:chExt cx="3168720" cy="1871640"/>
          </a:xfrm>
        </p:grpSpPr>
        <p:sp>
          <p:nvSpPr>
            <p:cNvPr id="147" name="WordArt 15"/>
            <p:cNvSpPr txBox="1"/>
            <p:nvPr/>
          </p:nvSpPr>
          <p:spPr>
            <a:xfrm>
              <a:off x="4643280" y="1773360"/>
              <a:ext cx="1238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ff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  <a:ea typeface="Arial"/>
              </a:endParaRPr>
            </a:p>
          </p:txBody>
        </p:sp>
        <p:sp>
          <p:nvSpPr>
            <p:cNvPr id="148" name="WordArt 16"/>
            <p:cNvSpPr txBox="1"/>
            <p:nvPr/>
          </p:nvSpPr>
          <p:spPr>
            <a:xfrm>
              <a:off x="5076720" y="1700280"/>
              <a:ext cx="122400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ff"/>
                  </a:solidFill>
                  <a:latin typeface="Arial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17"/>
            <p:cNvSpPr txBox="1"/>
            <p:nvPr/>
          </p:nvSpPr>
          <p:spPr>
            <a:xfrm>
              <a:off x="6443640" y="1628640"/>
              <a:ext cx="1368360" cy="18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50" name="WordArt 18"/>
            <p:cNvSpPr txBox="1"/>
            <p:nvPr/>
          </p:nvSpPr>
          <p:spPr>
            <a:xfrm>
              <a:off x="6948360" y="2276640"/>
              <a:ext cx="2890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97" dur="indefinite" restart="never" nodeType="tmRoot">
          <p:childTnLst>
            <p:seq>
              <p:cTn id="39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7"/>
          <p:cNvSpPr/>
          <p:nvPr/>
        </p:nvSpPr>
        <p:spPr>
          <a:xfrm>
            <a:off x="1116000" y="3141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4572000" y="5445000"/>
            <a:ext cx="284328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987640" y="4292640"/>
            <a:ext cx="2879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155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68360" y="126828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тыре гусёнка и двое у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озере плавают, громко крич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ну, посчитай поскоре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колько всего в воде мал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ня прошёл 20 шагов, а Саша – 19 шагов.  Кто из них прошёл большее расстоя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059280" y="4292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82692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трёх братьев по 1 сестре. Сколько детей в сем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059280" y="4292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4643280" y="5445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2692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е 5 лет, а её брат на 4 года старше. Сколько лет бра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643280" y="5516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186000" y="4221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97164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человек обменялись рукопожатиями. Сколько было рукопожат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04292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3186000" y="4221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4716360" y="544500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7"/>
          <p:cNvSpPr/>
          <p:nvPr/>
        </p:nvSpPr>
        <p:spPr>
          <a:xfrm>
            <a:off x="3186000" y="4292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116000" y="2997360"/>
            <a:ext cx="277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ш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4716360" y="544500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дес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90" name="AutoShape 24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708360" y="134136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 руке малышка Лена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юбит пальчики считать!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нее, на удивленье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раз выходит ..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8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2">
            <a:hlinkClick r:id="rId1" action="ppaction://hlinksldjump"/>
          </p:cNvPr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0"/>
          <p:cNvSpPr/>
          <p:nvPr/>
        </p:nvSpPr>
        <p:spPr>
          <a:xfrm>
            <a:off x="755640" y="5370480"/>
            <a:ext cx="3117960" cy="1168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>
            <a:hlinkClick r:id="rId2" action="ppaction://hlinksldjump"/>
          </p:cNvPr>
          <p:cNvSpPr/>
          <p:nvPr/>
        </p:nvSpPr>
        <p:spPr>
          <a:xfrm>
            <a:off x="478800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>
            <a:hlinkClick r:id="rId3" action="ppaction://hlinksldjump"/>
          </p:cNvPr>
          <p:cNvSpPr/>
          <p:nvPr/>
        </p:nvSpPr>
        <p:spPr>
          <a:xfrm>
            <a:off x="572436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4" action="ppaction://hlinksldjump"/>
          </p:cNvPr>
          <p:cNvSpPr/>
          <p:nvPr/>
        </p:nvSpPr>
        <p:spPr>
          <a:xfrm>
            <a:off x="665964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5" action="ppaction://hlinksldjump"/>
          </p:cNvPr>
          <p:cNvSpPr/>
          <p:nvPr/>
        </p:nvSpPr>
        <p:spPr>
          <a:xfrm>
            <a:off x="7596360" y="1125360"/>
            <a:ext cx="100620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6" action="ppaction://hlinksldjump"/>
          </p:cNvPr>
          <p:cNvSpPr/>
          <p:nvPr/>
        </p:nvSpPr>
        <p:spPr>
          <a:xfrm>
            <a:off x="4788000" y="220500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>
            <a:hlinkClick r:id="rId7" action="ppaction://hlinksldjump"/>
          </p:cNvPr>
          <p:cNvSpPr/>
          <p:nvPr/>
        </p:nvSpPr>
        <p:spPr>
          <a:xfrm>
            <a:off x="5724360" y="2205000"/>
            <a:ext cx="93672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>
            <a:hlinkClick r:id="rId8" action="ppaction://hlinksldjump"/>
          </p:cNvPr>
          <p:cNvSpPr/>
          <p:nvPr/>
        </p:nvSpPr>
        <p:spPr>
          <a:xfrm>
            <a:off x="6662880" y="220500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7596360" y="220500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>
            <a:hlinkClick r:id="rId10" action="ppaction://hlinksldjump"/>
          </p:cNvPr>
          <p:cNvSpPr/>
          <p:nvPr/>
        </p:nvSpPr>
        <p:spPr>
          <a:xfrm>
            <a:off x="4788000" y="342900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>
            <a:hlinkClick r:id="rId11" action="ppaction://hlinksldjump"/>
          </p:cNvPr>
          <p:cNvSpPr/>
          <p:nvPr/>
        </p:nvSpPr>
        <p:spPr>
          <a:xfrm>
            <a:off x="5724360" y="3429000"/>
            <a:ext cx="93672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>
            <a:hlinkClick r:id="rId12" action="ppaction://hlinksldjump"/>
          </p:cNvPr>
          <p:cNvSpPr/>
          <p:nvPr/>
        </p:nvSpPr>
        <p:spPr>
          <a:xfrm>
            <a:off x="6662880" y="335592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>
            <a:hlinkClick r:id="rId13" action="ppaction://hlinksldjump"/>
          </p:cNvPr>
          <p:cNvSpPr/>
          <p:nvPr/>
        </p:nvSpPr>
        <p:spPr>
          <a:xfrm>
            <a:off x="7596360" y="342900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>
            <a:hlinkClick r:id="rId14" action="ppaction://hlinksldjump"/>
          </p:cNvPr>
          <p:cNvSpPr/>
          <p:nvPr/>
        </p:nvSpPr>
        <p:spPr>
          <a:xfrm>
            <a:off x="4788000" y="443700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2">
            <a:hlinkClick r:id="rId15" action="ppaction://hlinksldjump"/>
          </p:cNvPr>
          <p:cNvSpPr/>
          <p:nvPr/>
        </p:nvSpPr>
        <p:spPr>
          <a:xfrm>
            <a:off x="572436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3">
            <a:hlinkClick r:id="rId16" action="ppaction://hlinksldjump"/>
          </p:cNvPr>
          <p:cNvSpPr/>
          <p:nvPr/>
        </p:nvSpPr>
        <p:spPr>
          <a:xfrm>
            <a:off x="665964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>
            <a:hlinkClick r:id="rId17" action="ppaction://hlinksldjump"/>
          </p:cNvPr>
          <p:cNvSpPr/>
          <p:nvPr/>
        </p:nvSpPr>
        <p:spPr>
          <a:xfrm>
            <a:off x="7596360" y="443700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1"/>
          <p:cNvSpPr/>
          <p:nvPr/>
        </p:nvSpPr>
        <p:spPr>
          <a:xfrm>
            <a:off x="757080" y="4292640"/>
            <a:ext cx="3117960" cy="116820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>
            <a:hlinkClick r:id="rId18" action="ppaction://hlinksldjump"/>
          </p:cNvPr>
          <p:cNvSpPr/>
          <p:nvPr/>
        </p:nvSpPr>
        <p:spPr>
          <a:xfrm>
            <a:off x="4788000" y="5516640"/>
            <a:ext cx="93636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>
            <a:hlinkClick r:id="rId19" action="ppaction://hlinksldjump"/>
          </p:cNvPr>
          <p:cNvSpPr/>
          <p:nvPr/>
        </p:nvSpPr>
        <p:spPr>
          <a:xfrm>
            <a:off x="572436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>
            <a:hlinkClick r:id="rId20" action="ppaction://hlinksldjump"/>
          </p:cNvPr>
          <p:cNvSpPr/>
          <p:nvPr/>
        </p:nvSpPr>
        <p:spPr>
          <a:xfrm>
            <a:off x="665964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>
            <a:hlinkClick r:id="rId21" action="ppaction://hlinksldjump"/>
          </p:cNvPr>
          <p:cNvSpPr/>
          <p:nvPr/>
        </p:nvSpPr>
        <p:spPr>
          <a:xfrm>
            <a:off x="7596360" y="5516640"/>
            <a:ext cx="93636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0"/>
          <p:cNvSpPr/>
          <p:nvPr/>
        </p:nvSpPr>
        <p:spPr>
          <a:xfrm>
            <a:off x="757080" y="3213000"/>
            <a:ext cx="3117960" cy="1168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Зада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9"/>
          <p:cNvSpPr/>
          <p:nvPr/>
        </p:nvSpPr>
        <p:spPr>
          <a:xfrm>
            <a:off x="757080" y="2131920"/>
            <a:ext cx="3117960" cy="1168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757080" y="1052640"/>
            <a:ext cx="3117960" cy="11682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>
            <a:hlinkClick r:id="rId22" action="ppaction://hlinksldjump"/>
          </p:cNvPr>
          <p:cNvSpPr/>
          <p:nvPr/>
        </p:nvSpPr>
        <p:spPr>
          <a:xfrm>
            <a:off x="385128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rId23" action="ppaction://hlinksldjump"/>
          </p:cNvPr>
          <p:cNvSpPr/>
          <p:nvPr/>
        </p:nvSpPr>
        <p:spPr>
          <a:xfrm>
            <a:off x="3852720" y="2205000"/>
            <a:ext cx="93672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>
            <a:hlinkClick r:id="rId24" action="ppaction://hlinksldjump"/>
          </p:cNvPr>
          <p:cNvSpPr/>
          <p:nvPr/>
        </p:nvSpPr>
        <p:spPr>
          <a:xfrm>
            <a:off x="3854520" y="3355920"/>
            <a:ext cx="93672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>
            <a:hlinkClick r:id="rId25" action="ppaction://hlinksldjump"/>
          </p:cNvPr>
          <p:cNvSpPr/>
          <p:nvPr/>
        </p:nvSpPr>
        <p:spPr>
          <a:xfrm>
            <a:off x="385128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>
            <a:hlinkClick r:id="rId26" action="ppaction://hlinksldjump"/>
          </p:cNvPr>
          <p:cNvSpPr/>
          <p:nvPr/>
        </p:nvSpPr>
        <p:spPr>
          <a:xfrm>
            <a:off x="385128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7"/>
          <p:cNvSpPr/>
          <p:nvPr/>
        </p:nvSpPr>
        <p:spPr>
          <a:xfrm>
            <a:off x="4572000" y="544500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Дев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82692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3419640" y="4221000"/>
            <a:ext cx="270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4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3786840" y="1341360"/>
            <a:ext cx="505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т так циферка, взгляни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нее и фокус есть -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ы её переверни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получишь цифру шесть!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1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7"/>
          <p:cNvSpPr/>
          <p:nvPr/>
        </p:nvSpPr>
        <p:spPr>
          <a:xfrm>
            <a:off x="1116000" y="2997360"/>
            <a:ext cx="277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4572000" y="551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Ш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220920" y="422100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Дев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24"/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354480" y="119700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 Сколько ты имеешь ножек? -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ьминога тихо спросим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т ответить нам не сможет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 и так мы знаем - ..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"/>
          <p:cNvSpPr/>
          <p:nvPr/>
        </p:nvSpPr>
        <p:spPr>
          <a:xfrm>
            <a:off x="3186000" y="558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800360" y="407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Бук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11280" y="285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Зв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4"/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284280" y="1413000"/>
            <a:ext cx="544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живают в трудной книжке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итроумные братишки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есять их, но братья эти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читают все на свет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7"/>
          <p:cNvSpPr/>
          <p:nvPr/>
        </p:nvSpPr>
        <p:spPr>
          <a:xfrm>
            <a:off x="1800360" y="4365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4356000" y="5516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Девя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611280" y="285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Восем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24"/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348000" y="1341720"/>
            <a:ext cx="56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 - цифра, меньше десяти.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еня легко найти.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 если букве «я» прикажешь рядом встать,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 всё: отец, и ты, и дедушка, и мать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08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углов у много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4572000" y="558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3186000" y="414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971640" y="285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Четы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226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мма длин всех стор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84360" y="278136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2195640" y="407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57200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Объ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Картинка 2 из 5207"/>
          <p:cNvPicPr/>
          <p:nvPr/>
        </p:nvPicPr>
        <p:blipFill>
          <a:blip r:embed="rId2"/>
          <a:stretch/>
        </p:blipFill>
        <p:spPr>
          <a:xfrm>
            <a:off x="5076720" y="2708280"/>
            <a:ext cx="3648240" cy="2449440"/>
          </a:xfrm>
          <a:prstGeom prst="rect">
            <a:avLst/>
          </a:prstGeom>
          <a:ln w="0">
            <a:noFill/>
          </a:ln>
        </p:spPr>
      </p:pic>
      <p:sp>
        <p:nvSpPr>
          <p:cNvPr id="23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7"/>
          <p:cNvSpPr/>
          <p:nvPr/>
        </p:nvSpPr>
        <p:spPr>
          <a:xfrm>
            <a:off x="539640" y="1557360"/>
            <a:ext cx="33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pic>
        <p:nvPicPr>
          <p:cNvPr id="239" name="Picture 12" descr="S_3"/>
          <p:cNvPicPr/>
          <p:nvPr/>
        </p:nvPicPr>
        <p:blipFill>
          <a:blip r:embed="rId2"/>
          <a:srcRect l="18100" t="7138" r="32377" b="23807"/>
          <a:stretch/>
        </p:blipFill>
        <p:spPr>
          <a:xfrm>
            <a:off x="3924360" y="1413000"/>
            <a:ext cx="3938400" cy="439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S_3"/>
          <p:cNvPicPr/>
          <p:nvPr/>
        </p:nvPicPr>
        <p:blipFill>
          <a:blip r:embed="rId3"/>
          <a:srcRect l="21263" t="31739" r="67514" b="58956"/>
          <a:stretch/>
        </p:blipFill>
        <p:spPr>
          <a:xfrm>
            <a:off x="826920" y="1773360"/>
            <a:ext cx="792360" cy="525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S_3"/>
          <p:cNvPicPr/>
          <p:nvPr/>
        </p:nvPicPr>
        <p:blipFill>
          <a:blip r:embed="rId4"/>
          <a:srcRect l="50796" t="30274" r="38580" b="57930"/>
          <a:stretch/>
        </p:blipFill>
        <p:spPr>
          <a:xfrm>
            <a:off x="3059280" y="1628640"/>
            <a:ext cx="792000" cy="703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S_3"/>
          <p:cNvPicPr/>
          <p:nvPr/>
        </p:nvPicPr>
        <p:blipFill>
          <a:blip r:embed="rId5"/>
          <a:srcRect l="36614" t="30259" r="52163" b="57930"/>
          <a:stretch/>
        </p:blipFill>
        <p:spPr>
          <a:xfrm>
            <a:off x="2124000" y="1700280"/>
            <a:ext cx="720720" cy="60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2905E-006 C 0.00695 0.00625 0.01563 0.01295 0.02379 0.01504 C 0.03664 0.0266 0.05261 0.03169 0.06667 0.04048 C 0.07344 0.04465 0.08039 0.05089 0.08768 0.0532 C 0.09254 0.05783 0.09705 0.06061 0.10278 0.06199 C 0.11059 0.07009 0.12171 0.07541 0.13143 0.07726 C 0.14549 0.08813 0.16233 0.09207 0.17622 0.10386 C 0.19341 0.11844 0.21146 0.13185 0.22952 0.14458 C 0.23716 0.1499 0.24219 0.1566 0.25052 0.15984 C 0.25764 0.16609 0.26511 0.17072 0.2724 0.17627 C 0.28056 0.18251 0.27257 0.17858 0.279 0.18136 C 0.28316 0.18506 0.28785 0.18529 0.29236 0.18783 C 0.29636 0.19015 0.29966 0.19338 0.30382 0.19524 C 0.30539 0.19593 0.30695 0.19593 0.30851 0.19662 C 0.31042 0.19732 0.31233 0.19824 0.31424 0.19917 C 0.32049 0.20217 0.32483 0.20657 0.33143 0.20796 C 0.33646 0.21027 0.33993 0.21513 0.3448 0.21814 C 0.34671 0.21929 0.35921 0.22623 0.36285 0.22831 C 0.36875 0.23155 0.37414 0.23872 0.38004 0.24219 C 0.38438 0.24474 0.38646 0.24428 0.39046 0.24728 C 0.39618 0.25145 0.40018 0.25815 0.4066 0.26001 C 0.41094 0.26371 0.41493 0.2681 0.4198 0.27018 C 0.42223 0.27227 0.42414 0.27504 0.42674 0.27666 C 0.42848 0.27782 0.43247 0.27897 0.43247 0.27897 C 0.43594 0.28291 0.43941 0.28291 0.44289 0.28661 C 0.44931 0.29401 0.45625 0.30072 0.46476 0.30326 C 0.46997 0.30789 0.47657 0.3102 0.48264 0.31205 C 0.48837 0.31945 0.49792 0.32154 0.50573 0.32339 C 0.50886 0.32639 0.50764 0.32477 0.50955 0.32732 E">
                                      <p:cBhvr>
                                        <p:cTn id="78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88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55031E-006 L 0.2441 0.47212 E">
                                      <p:cBhvr>
                                        <p:cTn id="79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вание инструмента для чертежа окруж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4572000" y="5373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971640" y="278136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Линейка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987640" y="400536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2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олько треугольников на чертеж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4356000" y="5373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468360" y="270828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2340000" y="393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img1"/>
          <p:cNvPicPr/>
          <p:nvPr/>
        </p:nvPicPr>
        <p:blipFill>
          <a:blip r:embed="rId2"/>
          <a:stretch/>
        </p:blipFill>
        <p:spPr>
          <a:xfrm>
            <a:off x="5364000" y="2637000"/>
            <a:ext cx="3191040" cy="1887480"/>
          </a:xfrm>
          <a:prstGeom prst="rect">
            <a:avLst/>
          </a:prstGeom>
          <a:ln w="0">
            <a:noFill/>
          </a:ln>
        </p:spPr>
      </p:pic>
      <p:sp>
        <p:nvSpPr>
          <p:cNvPr id="257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395280" y="1989000"/>
            <a:ext cx="8280360" cy="29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91520" cy="115236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80 + 10 – 3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427640" y="5300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30508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68436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3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50 – 10 – 30 + 6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68360" y="2924280"/>
            <a:ext cx="29512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2484360" y="414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8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7 – 4 + 2 + </a:t>
            </a: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?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 = 10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55600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755640" y="2997360"/>
            <a:ext cx="277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7200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107928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Сколько получится, если к сумме чисел 7 и 7 прибавить число 3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3964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484360" y="414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570800" cy="122400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Сумма двух чисел равна 20. Первое слагаемое 12. Чему равно второе слагаемо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572000" y="551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908000" y="4292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6836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7"/>
          <p:cNvSpPr/>
          <p:nvPr/>
        </p:nvSpPr>
        <p:spPr>
          <a:xfrm>
            <a:off x="291636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90000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ж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ор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116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Картинка 5 из 35567"/>
          <p:cNvPicPr/>
          <p:nvPr/>
        </p:nvPicPr>
        <p:blipFill>
          <a:blip r:embed="rId4"/>
          <a:srcRect l="0" t="2835" r="0" b="78859"/>
          <a:stretch/>
        </p:blipFill>
        <p:spPr>
          <a:xfrm>
            <a:off x="1042920" y="1413000"/>
            <a:ext cx="762012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18:42Z</dcterms:created>
  <dc:creator>Лариса</dc:creator>
  <dc:description/>
  <dc:language>en-US</dc:language>
  <cp:lastModifiedBy>Галина</cp:lastModifiedBy>
  <dcterms:modified xsi:type="dcterms:W3CDTF">2021-02-04T17:30:07Z</dcterms:modified>
  <cp:revision>55</cp:revision>
  <dc:subject/>
  <dc:title>Слайд 1</dc:title>
</cp:coreProperties>
</file>