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307-AA0F-431F-8CC6-FEA7ACB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FFE-E3CC-4F60-8669-5342B62E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579-85D7-4942-8B45-9E18AF7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AB5-E402-440F-B963-459BF826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85F-8798-4778-B425-4790AB9A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521-BD35-4A52-8151-0D1FB64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A3D-997E-44BC-874F-078E0106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004-8A96-4A23-80CD-F3E24A09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21-584F-4477-8492-2194E73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314-C800-4AAE-BB5C-B309D50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879-A577-43D8-889A-45D4DF4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D1A-5191-4C62-8443-D152245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F99-8E34-4B74-B928-6B651A8C1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549360"/>
            <a:ext cx="5182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пим снегови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5589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ение и вычитание чисел первого деся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+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83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86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89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1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sp>
        <p:nvSpPr>
          <p:cNvPr id="199" name="Oval 22"/>
          <p:cNvSpPr/>
          <p:nvPr/>
        </p:nvSpPr>
        <p:spPr>
          <a:xfrm>
            <a:off x="212400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255600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5"/>
          <p:cNvSpPr/>
          <p:nvPr/>
        </p:nvSpPr>
        <p:spPr>
          <a:xfrm rot="10381800">
            <a:off x="2339280" y="3427200"/>
            <a:ext cx="431640" cy="28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288720"/>
              <a:gd name="textAreaBottom" fmla="*/ 10296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6" descr="кнопка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1.26735E-006 C 0.00243 -0.00925 0.01233 -0.01272 0.01927 -0.01457 C 0.02882 -0.02336 0.03577 -0.02405 0.04792 -0.02544 C 0.054 -0.02706 0.05972 -0.02937 0.0658 -0.03099 C 0.07726 -0.03007 0.08889 -0.03145 0.1 -0.02729 C 0.10156 -0.0266 0.10261 -0.02451 0.10417 -0.02359 C 0.11025 -0.01989 0.11702 -0.0155 0.12327 -0.01272 C 0.129 -0.00694 0.13577 -0.00301 0.14254 1.26735E-006 C 0.15035 0.01341 0.15834 0.01526 0.16858 0.02382 C 0.18733 0.03955 0.16528 0.02428 0.18091 0.03469 C 0.18611 0.04209 0.18941 0.04278 0.19601 0.04764 C 0.20903 0.05712 0.19445 0.04857 0.20556 0.05851 C 0.20816 0.06082 0.21129 0.06175 0.21372 0.06406 C 0.23681 0.08649 0.20851 0.06175 0.22466 0.08048 C 0.22917 0.0858 0.2349 0.08881 0.23976 0.0932 C 0.24653 0.10638 0.23889 0.09297 0.25764 0.11147 C 0.26424 0.11795 0.2717 0.1228 0.27813 0.12974 C 0.2941 0.14662 0.28629 0.142 0.3 0.14778 C 0.3092 0.1561 0.31806 0.16512 0.32743 0.17345 C 0.33056 0.17946 0.33768 0.18548 0.34254 0.18987 C 0.34775 0.19935 0.35139 0.20791 0.35625 0.21716 C 0.35712 0.22086 0.35781 0.22479 0.35903 0.22826 C 0.35972 0.23011 0.36094 0.23173 0.36163 0.23335 C 0.36372 0.24052 0.36406 0.24815 0.3658 0.25555 C 0.37101 0.32516 0.36459 0.26457 0.37396 0.31406 C 0.37622 0.32609 0.37709 0.33441 0.38368 0.3432 C 0.38577 0.35268 0.38993 0.358 0.39601 0.36332 C 0.40035 0.37211 0.40677 0.37766 0.41233 0.38506 C 0.41893 0.39385 0.42309 0.40333 0.4316 0.40888 C 0.43542 0.41674 0.44202 0.41975 0.44792 0.4253 C 0.46025 0.43686 0.47309 0.44611 0.48768 0.45074 C 0.50469 0.4623 0.52066 0.46993 0.53976 0.47271 C 0.55903 0.47919 0.5382 0.47664 0.57396 0.48173 C 0.59722 0.48127 0.62066 0.48242 0.64393 0.48011 C 0.64549 0.47988 0.65452 0.46554 0.65625 0.46369 C 0.66146 0.45791 0.66806 0.45328 0.67396 0.44889 C 0.68438 0.44126 0.69531 0.43501 0.70556 0.42715 C 0.70834 0.42507 0.71094 0.42206 0.71372 0.41975 C 0.71736 0.41674 0.72466 0.41073 0.72466 0.41073 C 0.73247 0.39524 0.74601 0.38437 0.75903 0.37789 C 0.78143 0.35338 0.75365 0.38159 0.77136 0.36864 C 0.77396 0.36679 0.7757 0.36355 0.77813 0.36147 C 0.78334 0.35685 0.78959 0.35338 0.79462 0.34852 C 0.804 0.33973 0.81163 0.32724 0.82188 0.31938 C 0.82934 0.3136 0.8382 0.31082 0.84531 0.30458 C 0.85295 0.29833 0.86042 0.29186 0.86858 0.28654 C 0.87222 0.27891 0.875 0.27567 0.88091 0.27197 C 0.8849 0.26642 0.8974 0.25231 0.90278 0.25 C 0.90591 0.24167 0.90556 0.24561 0.90556 0.23913 E">
                                      <p:cBhvr>
                                        <p:cTn id="63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2.83071E-006 C 0.01181 -0.01064 0.02518 -0.03215 0.03837 -0.03654 C 0.05486 -0.05157 0.04323 -0.0444 0.07674 -0.04024 C 0.08455 -0.03654 0.08351 -0.02798 0.09045 -0.02197 C 0.0941 -0.01503 0.09479 -0.01018 0.1 -0.00555 C 0.1033 0.00116 0.10521 0.00694 0.10955 0.01272 C 0.11233 0.02382 0.11597 0.03446 0.1191 0.04556 C 0.12153 0.05435 0.12205 0.06337 0.12604 0.071 C 0.1257 0.08626 0.13056 0.13182 0.12049 0.15495 C 0.11927 0.15772 0.11771 0.15981 0.11632 0.16235 C 0.11545 0.1642 0.11458 0.16605 0.11372 0.1679 C 0.1125 0.17091 0.11024 0.17784 0.10816 0.18062 C 0.10226 0.18848 0.09601 0.19773 0.08906 0.20421 C 0.08507 0.20791 0.0809 0.21161 0.07674 0.21531 C 0.07535 0.21647 0.07257 0.21901 0.07257 0.21901 C 0.06962 0.22479 0.06788 0.23173 0.06441 0.23705 C 0.05261 0.25555 0.04167 0.27775 0.03281 0.29926 C 0.02847 0.3099 0.02708 0.31799 0.02049 0.32655 C 0.01736 0.33696 0.01285 0.34274 0.00816 0.35222 C -0.0026 0.37373 0.00747 0.35777 0.00278 0.37026 C -0.00156 0.38205 -0.00503 0.39431 -0.01094 0.40495 C -0.01146 0.4068 -0.0118 0.40865 -0.01232 0.4105 C -0.01319 0.41304 -0.01441 0.41536 -0.0151 0.4179 C -0.01719 0.42484 -0.01736 0.43247 -0.01927 0.43964 C -0.0184 0.45051 -0.0184 0.46184 -0.01649 0.47248 C -0.01597 0.47549 -0.01354 0.4771 -0.01232 0.47988 C -0.00139 0.50532 0.01458 0.51642 0.0342 0.52729 C 0.05018 0.53631 0.04323 0.537 0.05747 0.53816 C 0.07795 0.53978 0.1191 0.54186 0.1191 0.54186 C 0.13594 0.54117 0.1533 0.54348 0.16979 0.53816 C 0.17205 0.53747 0.17865 0.53215 0.18073 0.53099 C 0.18472 0.52891 0.19306 0.52544 0.19306 0.52544 C 0.20018 0.51804 0.20556 0.51064 0.21372 0.50532 C 0.22031 0.49191 0.24219 0.47618 0.2533 0.46901 C 0.25417 0.46716 0.25452 0.46439 0.25608 0.46346 C 0.25764 0.4623 0.27448 0.45537 0.27813 0.45421 C 0.28351 0.44958 0.28958 0.44797 0.29583 0.44519 C 0.30139 0.43779 0.30695 0.43825 0.31372 0.43432 C 0.31563 0.43316 0.31719 0.43178 0.3191 0.43062 C 0.32448 0.42738 0.33004 0.42438 0.33559 0.42137 C 0.34809 0.4142 0.35816 0.39986 0.37118 0.39408 C 0.375 0.39015 0.39757 0.36679 0.39861 0.36494 C 0.40365 0.35615 0.40052 0.35846 0.40677 0.35569 C 0.4099 0.35153 0.4132 0.34713 0.41632 0.34297 C 0.41736 0.34158 0.4191 0.34204 0.42049 0.34112 C 0.42483 0.33834 0.42552 0.33534 0.43004 0.3321 C 0.44219 0.32308 0.4257 0.33881 0.43837 0.32655 C 0.44184 0.32331 0.44427 0.31869 0.44792 0.31568 C 0.45 0.31406 0.45261 0.31383 0.45469 0.31198 C 0.47014 0.29903 0.45729 0.3055 0.46702 0.30111 C 0.47066 0.29394 0.48143 0.287 0.48768 0.28284 C 0.49323 0.27521 0.49809 0.2729 0.50399 0.26642 C 0.50712 0.26318 0.51233 0.25532 0.51233 0.25532 C 0.51493 0.24514 0.51268 0.25139 0.52188 0.2389 C 0.52327 0.23705 0.52361 0.23404 0.52465 0.23173 C 0.52969 0.22155 0.53594 0.21115 0.54236 0.20259 C 0.54653 0.18895 0.55504 0.18108 0.56163 0.16975 C 0.5684 0.15819 0.57205 0.14362 0.58073 0.13506 C 0.58212 0.13205 0.58316 0.12858 0.5849 0.12581 C 0.58785 0.12118 0.59219 0.11818 0.59445 0.11309 C 0.59757 0.10615 0.60087 0.09968 0.60399 0.09297 C 0.60695 0.07817 0.60434 0.08788 0.61511 0.06568 C 0.62934 0.03631 0.6158 0.0555 0.62604 0.04186 C 0.63038 0.02798 0.63108 0.02544 0.63976 0.01642 C 0.64809 -0.00694 0.63542 0.02544 0.64792 0.0037 C 0.65035 -0.00069 0.65174 -0.00601 0.6533 -0.0111 C 0.65729 -0.02336 0.65833 -0.03746 0.66302 -0.04926 E">
                                      <p:cBhvr>
                                        <p:cTn id="63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+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207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9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210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213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15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sp>
        <p:nvSpPr>
          <p:cNvPr id="223" name="Oval 22"/>
          <p:cNvSpPr/>
          <p:nvPr/>
        </p:nvSpPr>
        <p:spPr>
          <a:xfrm>
            <a:off x="212400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255600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 rot="10381800">
            <a:off x="2339280" y="3427200"/>
            <a:ext cx="431640" cy="28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288720"/>
              <a:gd name="textAreaBottom" fmla="*/ 10296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4427640" y="4941720"/>
            <a:ext cx="4500360" cy="1150920"/>
            <a:chOff x="4427640" y="4941720"/>
            <a:chExt cx="4500360" cy="1150920"/>
          </a:xfrm>
        </p:grpSpPr>
        <p:sp>
          <p:nvSpPr>
            <p:cNvPr id="227" name="Oval 25"/>
            <p:cNvSpPr/>
            <p:nvPr/>
          </p:nvSpPr>
          <p:spPr>
            <a:xfrm>
              <a:off x="4427640" y="4941720"/>
              <a:ext cx="4500360" cy="11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26"/>
            <p:cNvSpPr txBox="1"/>
            <p:nvPr/>
          </p:nvSpPr>
          <p:spPr>
            <a:xfrm>
              <a:off x="5148000" y="5157360"/>
              <a:ext cx="3095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олодцы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3.66327E-006 C -0.0033 -0.01272 -0.0132 -0.01041 -0.02188 -0.01272 C -0.03108 -0.01156 -0.04011 -0.01064 -0.04931 -0.00902 C -0.06302 -0.00671 -0.07587 0.00301 -0.08907 0.0074 C -0.09271 0.01064 -0.09584 0.01341 -0.09861 0.01827 C -0.10504 0.03006 -0.09375 0.01804 -0.104 0.02752 C -0.10868 0.04302 -0.10521 0.034 -0.11632 0.05296 C -0.11875 0.05967 -0.12084 0.06637 -0.12327 0.07308 C -0.12743 0.10014 -0.13125 0.13113 -0.12327 0.15703 C -0.1217 0.16235 -0.11823 0.16651 -0.11632 0.1716 C -0.11268 0.19172 -0.11094 0.18825 -0.10261 0.20259 C -0.10052 0.20606 -0.09948 0.21045 -0.09723 0.21369 C -0.09532 0.2167 -0.09236 0.21832 -0.09028 0.22086 C -0.08646 0.22549 -0.08299 0.23057 -0.07934 0.2352 C -0.0724 0.24468 -0.06163 0.24907 -0.0533 0.25555 C -0.04514 0.26179 -0.03785 0.26711 -0.02865 0.27012 C -0.00538 0.28931 0.02083 0.29325 0.0467 0.30296 C 0.06527 0.3099 0.08402 0.31684 0.10277 0.32308 C 0.10746 0.3247 0.1118 0.32771 0.11649 0.32863 C 0.12517 0.33025 0.13385 0.32979 0.14253 0.33048 C 0.19514 0.34528 0.24913 0.33811 0.30277 0.3395 C 0.31475 0.34135 0.32639 0.34482 0.33837 0.3469 C 0.43611 0.34528 0.42604 0.35222 0.4809 0.33765 C 0.48819 0.33372 0.49566 0.33117 0.50277 0.32678 C 0.50989 0.32239 0.5158 0.31637 0.52326 0.31406 C 0.53802 0.30088 0.55972 0.29764 0.57673 0.29579 C 0.57934 0.29348 0.58264 0.29278 0.58507 0.29024 C 0.58628 0.28885 0.58646 0.28608 0.58767 0.28469 C 0.59062 0.28122 0.59409 0.27868 0.59739 0.27567 C 0.60208 0.27128 0.60677 0.2685 0.61093 0.26295 C 0.61337 0.25301 0.61753 0.24052 0.62326 0.23358 C 0.62812 0.22734 0.6342 0.22225 0.63837 0.21531 C 0.64166 0.20953 0.64462 0.20328 0.64791 0.19727 C 0.64843 0.19542 0.64826 0.19311 0.6493 0.19172 C 0.65069 0.18987 0.65312 0.18964 0.65486 0.18802 C 0.65989 0.18316 0.66284 0.17923 0.66857 0.1753 C 0.66944 0.17345 0.67135 0.16975 0.67135 0.16975 E">
                                      <p:cBhvr>
                                        <p:cTn id="69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83333E-006 2.77521E-007 C -0.0106 -0.00185 -0.02084 -0.00416 -0.03143 -0.00555 C -0.04202 -0.01573 -0.03143 -0.00717 -0.04515 -0.01272 C -0.05122 -0.01526 -0.05695 -0.0192 -0.06303 -0.02197 C -0.07744 -0.02683 -0.09202 -0.0303 -0.10678 -0.03284 C -0.12049 -0.04209 -0.13404 -0.04394 -0.14931 -0.04556 C -0.16112 -0.05042 -0.17292 -0.05088 -0.1849 -0.05481 C -0.21407 -0.05412 -0.24341 -0.05412 -0.27258 -0.05319 C -0.27518 -0.05319 -0.28473 -0.04556 -0.2849 -0.04556 C -0.30695 -0.03377 -0.32952 -0.02313 -0.3507 -0.00902 C -0.35452 -0.00208 -0.35956 0.00347 -0.36303 0.01087 C -0.37136 0.02891 -0.37744 0.04972 -0.38351 0.06915 C -0.38699 0.08094 -0.38751 0.09389 -0.39046 0.10569 C -0.39341 0.14107 -0.40018 0.18108 -0.38768 0.21346 C -0.38681 0.22017 -0.38647 0.2271 -0.3849 0.23358 C -0.38421 0.23659 -0.38195 0.23821 -0.38074 0.24098 C -0.38004 0.2426 -0.37987 0.24468 -0.37935 0.2463 C -0.37848 0.24884 -0.37779 0.25139 -0.37674 0.2537 C -0.36667 0.27636 -0.34723 0.30689 -0.32744 0.31383 C -0.32049 0.32007 -0.31963 0.32169 -0.31233 0.32493 C -0.30956 0.32609 -0.30417 0.32678 -0.3014 0.3284 C -0.28751 0.33626 -0.29011 0.34204 -0.27535 0.34482 C -0.26511 0.35291 -0.25556 0.35708 -0.24376 0.35939 C -0.22692 0.36702 -0.21876 0.36725 -0.19862 0.36864 C -0.16633 0.37488 -0.13369 0.36864 -0.1014 0.36309 C -0.09358 0.35962 -0.08716 0.35384 -0.07935 0.35037 C -0.06772 0.33765 -0.05626 0.32747 -0.04654 0.31198 C -0.04167 0.29302 -0.04983 0.32123 -0.04098 0.30296 C -0.03369 0.28793 -0.04914 0.30273 -0.03282 0.29024 C -0.029 0.28006 -0.02345 0.2692 -0.01633 0.26272 C -0.01077 0.25139 -0.01303 0.25301 -0.004 0.24098 C -0.00261 0.23913 -0.0014 0.23728 -5.83333E-006 0.23543 C 0.00138 0.23358 0.00416 0.22988 0.00416 0.22988 C 0.00642 0.22155 0.0059 0.22063 0.01371 0.21346 C 0.01822 0.2093 0.02742 0.20074 0.02742 0.20074 C 0.03176 0.19195 0.0401 0.18663 0.04652 0.18062 C 0.04965 0.17738 0.05624 0.17137 0.05624 0.17137 C 0.06058 0.15657 0.06978 0.14801 0.07812 0.13691 C 0.08072 0.13344 0.08107 0.12766 0.08367 0.12419 C 0.09912 0.10361 0.11388 0.07724 0.12603 0.05296 C 0.12864 0.03885 0.12603 0.04741 0.13836 0.03099 C 0.14478 0.02243 0.14999 0.00694 0.15485 -0.0037 C 0.15902 -0.01295 0.16024 -0.01064 0.16579 -0.02012 C 0.17221 -0.03099 0.1736 -0.04695 0.18228 -0.05481 C 0.19062 -0.07771 0.17899 -0.04903 0.18905 -0.06591 C 0.18992 -0.0673 0.18975 -0.06961 0.19044 -0.07123 C 0.19513 -0.08187 0.20138 -0.09228 0.20694 -0.10222 C 0.20954 -0.10685 0.2111 -0.11216 0.21371 -0.11679 C 0.21562 -0.12465 0.21666 -0.1302 0.22187 -0.13506 C 0.22274 -0.13807 0.2236 -0.14107 0.22465 -0.14408 C 0.22638 -0.14894 0.2302 -0.15865 0.2302 -0.15865 C 0.23315 -0.17484 0.24044 -0.18525 0.2493 -0.19704 C 0.25572 -0.2056 0.26041 -0.21785 0.26579 -0.22803 C 0.26857 -0.23335 0.27447 -0.23867 0.27812 -0.2426 C 0.27933 -0.24399 0.28107 -0.24491 0.28228 -0.2463 C 0.28367 -0.24792 0.28628 -0.25185 0.28628 -0.25185 E">
                                      <p:cBhvr>
                                        <p:cTn id="69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9-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44" name="Group 9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45" name="Picture 5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8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" name="Group 10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48" name="Picture 11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WordArt 12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51" name="Picture 14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5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3" name="Picture 16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кнопка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C -0.00573 -0.00764 -0.00608 -0.00718 -0.01059 0.00162 C -0.01216 0.0088 -0.01302 0.01597 -0.01719 0.02106 C -0.02084 0.0419 -0.02275 0.04074 -0.01979 0.07014 C -0.01893 0.07801 -0.00677 0.09282 -0.004 0.09653 C 0.00243 0.10509 0.00729 0.10787 0.0158 0.11227 C 0.03403 0.12153 0.00989 0.11018 0.025 0.11921 C 0.03559 0.12546 0.04774 0.12755 0.0592 0.12986 C 0.06441 0.12917 0.06979 0.1294 0.075 0.12801 C 0.07656 0.12755 0.0776 0.12546 0.07899 0.12454 C 0.0842 0.12106 0.09045 0.11991 0.096 0.11759 C 0.10173 0.11227 0.10798 0.1118 0.11441 0.1088 C 0.11892 0.10671 0.1276 0.10162 0.1276 0.10162 C 0.12899 0.1 0.12968 0.09676 0.13159 0.09653 C 0.14705 0.09444 0.17343 0.1037 0.18941 0.10694 C 0.19843 0.11273 0.19184 0.10949 0.20521 0.11227 C 0.21007 0.11319 0.21979 0.11574 0.21979 0.11574 C 0.2243 0.12222 0.22778 0.12569 0.2342 0.12801 C 0.24062 0.13356 0.24392 0.14005 0.24739 0.14907 C 0.24774 0.15324 0.24774 0.15741 0.24861 0.16134 C 0.24913 0.16343 0.25087 0.16458 0.25121 0.16667 C 0.25364 0.18125 0.25347 0.19444 0.25659 0.2088 C 0.25781 0.22315 0.26024 0.22708 0.26319 0.24028 C 0.26406 0.24444 0.26441 0.24884 0.2658 0.25255 C 0.26857 0.25949 0.27396 0.26574 0.2776 0.27199 C 0.28159 0.2787 0.28541 0.28634 0.29201 0.28935 C 0.29809 0.29213 0.30416 0.29468 0.31059 0.29653 C 0.3868 0.29514 0.38403 0.30255 0.42899 0.28426 C 0.446 0.28472 0.46319 0.28426 0.48021 0.28588 C 0.48212 0.28611 0.48368 0.28843 0.48559 0.28935 C 0.49028 0.2919 0.49548 0.29329 0.5 0.29653 C 0.50972 0.30393 0.51666 0.3125 0.5276 0.31759 C 0.53576 0.32801 0.52708 0.31805 0.5368 0.32616 C 0.53871 0.32778 0.54028 0.32963 0.54201 0.33148 C 0.5434 0.3331 0.54444 0.33542 0.546 0.3368 C 0.54722 0.33796 0.54878 0.33773 0.55 0.33866 C 0.55278 0.34074 0.55538 0.34305 0.55781 0.3456 C 0.56528 0.35347 0.57135 0.36018 0.58021 0.36481 C 0.58524 0.375 0.5901 0.37593 0.59739 0.38241 C 0.60503 0.38935 0.61007 0.39606 0.6184 0.40162 C 0.62257 0.40741 0.62968 0.41157 0.63559 0.41389 C 0.64236 0.42083 0.64809 0.42454 0.65659 0.42616 C 0.66458 0.43171 0.67291 0.43403 0.68159 0.4368 C 0.68871 0.44305 0.69184 0.44861 0.7 0.45093 C 0.70468 0.45671 0.70399 0.45856 0.70399 0.45255 E">
                                      <p:cBhvr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C -0.00052 -0.00278 -0.00052 -0.00579 -0.00139 -0.00857 C -0.00191 -0.01019 -0.00347 -0.01065 -0.004 -0.01227 C -0.00816 -0.02338 -0.00174 -0.01621 -0.00938 -0.02269 C -0.01372 -0.03033 -0.01893 -0.04028 -0.025 -0.0456 C -0.03073 -0.05046 -0.03698 -0.05556 -0.04219 -0.06134 C -0.04792 -0.06759 -0.05313 -0.07315 -0.05938 -0.07894 C -0.06476 -0.08403 -0.06875 -0.09167 -0.075 -0.09468 C -0.08663 -0.10926 -0.10452 -0.11273 -0.11979 -0.11574 C -0.13334 -0.11505 -0.14705 -0.11482 -0.16059 -0.11389 C -0.16962 -0.1132 -0.179 -0.1081 -0.1882 -0.10695 C -0.2 -0.09908 -0.21146 -0.09051 -0.2224 -0.08056 C -0.22795 -0.06898 -0.23889 -0.05394 -0.24219 -0.0419 C -0.24462 -0.0331 -0.24775 -0.02408 -0.25278 -0.01736 C -0.25834 0.00602 -0.26337 0.02986 -0.26719 0.0544 C -0.26667 0.06944 -0.26875 0.08981 -0.26198 0.1037 C -0.26025 0.11412 -0.25816 0.12454 -0.25 0.12824 C -0.24722 0.13958 -0.23872 0.13958 -0.2316 0.1456 C -0.22153 0.15416 -0.23629 0.14421 -0.21979 0.15278 C -0.2132 0.15625 -0.21511 0.15694 -0.20799 0.16157 C -0.20052 0.16643 -0.19115 0.16944 -0.18299 0.17199 C -0.16389 0.18472 -0.13594 0.18171 -0.11719 0.18264 C -0.10677 0.18588 -0.09775 0.1912 -0.08698 0.19305 C -0.07743 0.19722 -0.06788 0.20092 -0.05799 0.2037 C -0.04913 0.21134 -0.03959 0.21643 -0.03038 0.22291 C -0.01979 0.23055 -0.01077 0.23912 0.00121 0.24213 C 0.01024 0.24699 0.01823 0.25278 0.0276 0.25625 C 0.03281 0.26041 0.0375 0.26435 0.0434 0.26666 C 0.04791 0.27106 0.05104 0.27662 0.05642 0.27893 C 0.0684 0.28958 0.08159 0.29768 0.0934 0.30879 C 0.10416 0.31875 0.1125 0.32893 0.125 0.33518 C 0.13489 0.34629 0.13333 0.34861 0.146 0.35092 C 0.15885 0.36134 0.17187 0.37731 0.1868 0.38079 C 0.19496 0.38981 0.20295 0.39514 0.2118 0.40185 C 0.22257 0.40972 0.23125 0.42268 0.2434 0.42639 C 0.25659 0.43819 0.26979 0.44606 0.28541 0.45092 C 0.2868 0.45208 0.28819 0.45301 0.28941 0.4544 C 0.29045 0.45555 0.29201 0.4581 0.29201 0.4581 E">
                                      <p:cBhvr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+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58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61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64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6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кнопка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67362E-019 5.73543E-007 C 0.0033 0.01295 0.00035 0.00879 0.00695 0.01457 C 0.0099 0.0266 0.00608 0.01365 0.01233 0.02544 C 0.01701 0.03423 0.01528 0.03469 0.02344 0.03839 C 0.02865 0.0488 0.02274 0.03908 0.0316 0.04741 C 0.03316 0.04903 0.03403 0.05157 0.03576 0.05296 C 0.04184 0.05782 0.04931 0.06152 0.05625 0.06383 C 0.06788 0.07424 0.08108 0.07586 0.09462 0.0784 C 0.11076 0.0895 0.08403 0.07216 0.11111 0.08395 C 0.1132 0.08488 0.11441 0.08788 0.11649 0.08927 C 0.1191 0.09089 0.12465 0.09297 0.12465 0.09297 C 0.13941 0.1124 0.1316 0.10315 0.14809 0.12049 C 0.15104 0.12373 0.15052 0.1272 0.15208 0.13136 C 0.15642 0.14292 0.16024 0.15518 0.16302 0.1679 C 0.16424 0.18131 0.16597 0.1945 0.16719 0.20791 C 0.16771 0.21832 0.16771 0.22872 0.16858 0.2389 C 0.1691 0.24491 0.17066 0.25093 0.17136 0.25717 C 0.17292 0.27359 0.17066 0.28747 0.17951 0.29903 C 0.18299 0.32239 0.19375 0.33464 0.20556 0.35037 C 0.21476 0.36263 0.22431 0.37558 0.23698 0.38136 C 0.24601 0.39038 0.25781 0.39662 0.26858 0.40148 C 0.27795 0.4105 0.29011 0.41281 0.30139 0.41605 C 0.31007 0.41859 0.31875 0.42091 0.32743 0.42322 C 0.32969 0.42391 0.33438 0.42507 0.33438 0.42507 C 0.35347 0.42438 0.37274 0.42414 0.39184 0.42322 C 0.40521 0.42253 0.41771 0.41397 0.4316 0.41235 C 0.44288 0.40356 0.45087 0.4031 0.46042 0.39038 C 0.46181 0.3809 0.46389 0.37211 0.46997 0.36679 C 0.47552 0.35546 0.4691 0.36633 0.47813 0.35754 C 0.48021 0.35546 0.4816 0.35245 0.48368 0.35037 C 0.49479 0.33996 0.50886 0.3358 0.52205 0.33395 C 0.53108 0.33094 0.54184 0.33141 0.54948 0.3247 C 0.57778 0.32539 0.60625 0.32354 0.63438 0.32655 C 0.64358 0.32747 0.6592 0.34158 0.66858 0.34482 C 0.6717 0.3513 0.675 0.35661 0.67813 0.36309 C 0.68021 0.36748 0.6816 0.3735 0.68507 0.37581 C 0.68941 0.37882 0.69236 0.38044 0.69601 0.38506 C 0.70226 0.39315 0.69497 0.38853 0.70278 0.39223 C 0.70712 0.40079 0.71285 0.40379 0.71927 0.40865 C 0.72066 0.40981 0.72222 0.41096 0.72344 0.41235 C 0.72483 0.41397 0.7257 0.41651 0.72743 0.4179 C 0.73455 0.42345 0.74462 0.42322 0.75208 0.42877 C 0.75729 0.4327 0.76024 0.43733 0.7658 0.43964 C 0.76945 0.44126 0.77674 0.44334 0.77674 0.44334 C 0.78594 0.45328 0.79774 0.45999 0.80833 0.46716 C 0.82031 0.47525 0.80712 0.45583 0.82743 0.47618 C 0.83472 0.48358 0.84063 0.4852 0.84948 0.49075 C 0.85747 0.49584 0.86458 0.50116 0.87274 0.50532 C 0.87899 0.51179 0.88403 0.51434 0.89184 0.51642 C 0.89792 0.52174 0.90417 0.52798 0.91111 0.53076 C 0.91285 0.5333 0.91441 0.53631 0.91649 0.53816 C 0.91771 0.53932 0.91945 0.53885 0.92066 0.54001 C 0.92205 0.5414 0.92222 0.54371 0.92344 0.54556 C 0.92465 0.54718 0.92604 0.5481 0.92743 0.54926 C 0.9283 0.55111 0.92899 0.55296 0.93021 0.55458 C 0.93142 0.5562 0.93438 0.55828 0.93438 0.55828 E">
                                      <p:cBhvr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5.73543E-007 C -0.00713 -0.00717 -0.00747 -0.00994 -0.01633 -0.01272 C -0.02188 -0.01457 -0.03282 -0.01827 -0.03282 -0.01827 C -0.05174 -0.01596 -0.04862 -0.0148 -0.06303 -0.00532 C -0.06754 0.00301 -0.07605 0.00948 -0.07935 0.01827 C -0.08299 0.02821 -0.08525 0.03053 -0.09306 0.03469 C -0.09393 0.03654 -0.09445 0.03908 -0.09584 0.04024 C -0.10053 0.04463 -0.11199 0.05273 -0.11772 0.05481 C -0.12379 0.06013 -0.12987 0.06383 -0.13699 0.06568 C -0.14341 0.07007 -0.1474 0.07146 -0.1547 0.07308 C -0.2066 0.07216 -0.25244 0.07655 -0.3014 0.06568 C -0.31251 0.06059 -0.32327 0.06707 -0.33421 0.06753 C -0.36563 0.06869 -0.39723 0.06869 -0.42865 0.06938 C -0.44011 0.07539 -0.45296 0.07956 -0.46303 0.0895 C -0.4764 0.10291 -0.48595 0.12303 -0.49584 0.14061 C -0.49931 0.15402 -0.49428 0.13784 -0.5014 0.14963 C -0.50261 0.15171 -0.50313 0.15449 -0.504 0.15703 C -0.50591 0.16906 -0.50973 0.17831 -0.51233 0.18987 C -0.51303 0.19288 -0.5132 0.19588 -0.51372 0.19889 C -0.51442 0.20259 -0.51546 0.20629 -0.51633 0.20999 C -0.51893 0.24098 -0.52292 0.28168 -0.49862 0.29741 C -0.49185 0.31105 -0.47605 0.31522 -0.46442 0.31753 C -0.4547 0.32609 -0.44254 0.32932 -0.43143 0.33395 C -0.42518 0.33649 -0.42015 0.34089 -0.41372 0.3432 C -0.41077 0.34436 -0.40261 0.34621 -0.39862 0.34852 C -0.38647 0.35546 -0.37379 0.3617 -0.36164 0.36864 C -0.34983 0.37558 -0.34167 0.38228 -0.32865 0.38506 C -0.31077 0.40079 -0.30261 0.39963 -0.28213 0.40518 C -0.27067 0.40449 -0.25921 0.40541 -0.24792 0.40333 C -0.2422 0.4024 -0.23716 0.39709 -0.23143 0.39593 C -0.22744 0.39385 -0.22275 0.39385 -0.2191 0.39061 C -0.21772 0.38945 -0.21754 0.38645 -0.21633 0.38506 C -0.21147 0.37951 -0.20313 0.37488 -0.19723 0.37234 C -0.19011 0.36286 -0.179 0.35939 -0.1698 0.35407 C -0.15886 0.34783 -0.15018 0.33904 -0.13838 0.3358 C -0.1297 0.32817 -0.11685 0.32401 -0.10678 0.32123 C -0.09081 0.30643 -0.06529 0.31198 -0.04654 0.31036 C -0.00782 0.28446 -0.06563 0.30342 0.05624 0.30111 C 0.06596 0.2944 0.0769 0.2877 0.08767 0.28469 C 0.09808 0.27775 0.11041 0.27336 0.12187 0.27012 C 0.12985 0.2648 0.13801 0.25948 0.14652 0.25555 C 0.15451 0.24491 0.16336 0.24029 0.17395 0.23543 C 0.17586 0.23312 0.17742 0.23034 0.17951 0.22826 C 0.18107 0.22664 0.18333 0.22641 0.18489 0.22456 C 0.1861 0.22317 0.18662 0.22063 0.18767 0.21901 C 0.19392 0.20976 0.20034 0.20375 0.20694 0.19542 C 0.21076 0.18455 0.21718 0.17484 0.22465 0.1679 C 0.22951 0.15819 0.23767 0.15194 0.24253 0.14246 C 0.246 0.13598 0.2486 0.12882 0.25208 0.12234 C 0.25537 0.11633 0.26076 0.11355 0.2644 0.10777 C 0.27048 0.09806 0.27499 0.08696 0.28228 0.07863 E">
                                      <p:cBhvr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+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72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75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78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0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2"/>
          <p:cNvPicPr/>
          <p:nvPr/>
        </p:nvPicPr>
        <p:blipFill>
          <a:blip r:embed="rId7"/>
          <a:stretch/>
        </p:blipFill>
        <p:spPr>
          <a:xfrm>
            <a:off x="468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кнопка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5.73543E-007 C -0.00556 -0.00486 -0.00712 -0.00555 -0.01372 -0.0037 C -0.01927 0.00393 -0.02466 0.00393 -0.03143 0.0074 C -0.04219 0.01272 -0.05191 0.01827 -0.06302 0.02197 C -0.06858 0.02937 -0.07552 0.03215 -0.08212 0.03839 C -0.09028 0.04602 -0.09722 0.05782 -0.10677 0.06221 C -0.11302 0.07863 -0.10886 0.07401 -0.1165 0.08025 C -0.12136 0.09089 -0.12778 0.10291 -0.13143 0.11494 C -0.13525 0.12766 -0.13681 0.14339 -0.14236 0.15518 C -0.14306 0.16512 -0.14653 0.17438 -0.14653 0.18432 C -0.14653 0.26064 -0.15486 0.2988 -0.12188 0.35037 C -0.11493 0.38182 -0.09132 0.40657 -0.07118 0.42345 C -0.06129 0.43178 -0.05278 0.44149 -0.04115 0.44704 C -0.02222 0.45583 -0.00156 0.45351 0.01788 0.45999 C 0.04062 0.4593 0.06354 0.4593 0.08628 0.45814 C 0.09462 0.45768 0.10347 0.44912 0.11232 0.44704 C 0.12187 0.44218 0.13784 0.43871 0.14531 0.42877 C 0.15712 0.41304 0.17969 0.39431 0.19583 0.39061 C 0.19722 0.38945 0.19878 0.3883 0.2 0.38691 C 0.20191 0.3846 0.20347 0.38159 0.20555 0.37951 C 0.21493 0.37003 0.2283 0.35962 0.23975 0.35592 C 0.24757 0.34806 0.24305 0.35129 0.25347 0.34667 C 0.26337 0.33788 0.27187 0.33279 0.2835 0.33025 C 0.29236 0.3247 0.30034 0.32007 0.30955 0.31568 C 0.31319 0.31406 0.31684 0.31198 0.32048 0.31036 C 0.32326 0.30897 0.32882 0.30666 0.32882 0.30666 C 0.34219 0.29278 0.36059 0.28538 0.37673 0.27914 C 0.37951 0.27798 0.38212 0.2766 0.38489 0.27567 C 0.38715 0.27498 0.38958 0.27475 0.39184 0.27382 C 0.39462 0.2729 0.4 0.27012 0.4 0.27012 C 0.41232 0.25786 0.41944 0.25555 0.4342 0.2537 C 0.51284 0.23011 0.44236 0.25 0.65069 0.25 E">
                                      <p:cBhvr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6.93802E-007 C 0.01146 0.00509 0.01858 0.00301 0.03142 0.00185 C 0.03767 -0.00231 0.0441 -0.00624 0.05069 -0.00925 C 0.05955 -0.02058 0.07187 -0.02937 0.08351 -0.03469 C 0.08489 -0.03654 0.08594 -0.03908 0.08767 -0.04024 C 0.0901 -0.04209 0.09583 -0.04371 0.09583 -0.04371 C 0.10937 -0.05759 0.10295 -0.05157 0.1151 -0.06198 C 0.11667 -0.06337 0.11736 -0.0666 0.1191 -0.06753 C 0.12205 -0.06915 0.12552 -0.06869 0.12882 -0.06938 C 0.14983 -0.06869 0.17083 -0.06984 0.19184 -0.06753 C 0.19566 -0.06707 0.19792 -0.06082 0.20139 -0.05851 C 0.20989 -0.05296 0.21979 -0.04764 0.22882 -0.04371 C 0.23212 -0.0303 0.2375 -0.02243 0.24653 -0.01457 C 0.25069 -0.00671 0.25208 0.0037 0.25486 0.01272 C 0.25434 0.02729 0.25434 0.04209 0.25347 0.05666 C 0.25191 0.08303 0.22552 0.0969 0.20955 0.10407 C 0.20226 0.11332 0.19305 0.12165 0.18351 0.12581 C 0.18212 0.12766 0.18073 0.12928 0.17951 0.13136 C 0.17708 0.13552 0.17257 0.14408 0.17257 0.14408 C 0.17031 0.1531 0.16597 0.16027 0.16163 0.1679 C 0.16024 0.17345 0.15885 0.17877 0.15746 0.18432 C 0.14601 0.22965 0.15833 0.27498 0.17674 0.31013 C 0.18351 0.32308 0.18542 0.33256 0.19722 0.3358 C 0.21788 0.34968 0.2368 0.34389 0.26163 0.34482 C 0.31545 0.35523 0.37031 0.35615 0.42465 0.36124 C 0.51823 0.39292 0.61979 0.38298 0.7151 0.38506 C 0.73385 0.38876 0.75226 0.39154 0.77118 0.39408 C 0.77552 0.39986 0.77847 0.40587 0.78351 0.4105 C 0.78403 0.4142 0.78333 0.41859 0.78489 0.4216 C 0.78854 0.42877 0.79757 0.429 0.80139 0.43617 C 0.8066 0.44635 0.81545 0.45398 0.82326 0.45976 C 0.83941 0.47202 0.82448 0.4623 0.83698 0.47271 C 0.84236 0.4771 0.84809 0.4808 0.85347 0.48543 C 0.86458 0.49514 0.8559 0.49075 0.86441 0.49445 C 0.86701 0.50509 0.87205 0.51156 0.87951 0.51642 C 0.8809 0.51827 0.88194 0.52035 0.88351 0.52197 C 0.88472 0.52336 0.88646 0.52382 0.88767 0.52544 C 0.89757 0.53816 0.90746 0.55527 0.91649 0.56938 C 0.92135 0.57701 0.92847 0.58973 0.93559 0.59297 C 0.93646 0.59482 0.93767 0.59644 0.93837 0.59852 C 0.93906 0.60037 0.93889 0.60245 0.93976 0.60407 C 0.94601 0.61656 0.95312 0.6272 0.95885 0.64038 C 0.96128 0.6457 0.96371 0.65125 0.9658 0.6568 C 0.96753 0.66166 0.96684 0.66536 0.96979 0.66975 C 0.97222 0.67345 0.97552 0.6753 0.97812 0.67877 E">
                                      <p:cBhvr>
                                        <p:cTn id="20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4+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87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9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90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93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5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2"/>
          <p:cNvPicPr/>
          <p:nvPr/>
        </p:nvPicPr>
        <p:blipFill>
          <a:blip r:embed="rId7"/>
          <a:stretch/>
        </p:blipFill>
        <p:spPr>
          <a:xfrm>
            <a:off x="468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морковь"/>
          <p:cNvPicPr/>
          <p:nvPr/>
        </p:nvPicPr>
        <p:blipFill>
          <a:blip r:embed="rId8"/>
          <a:stretch/>
        </p:blipFill>
        <p:spPr>
          <a:xfrm>
            <a:off x="125892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нопка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2.77521E-007 C -0.00243 -0.00948 -0.00886 -0.01041 -0.01511 -0.01457 C -0.07205 -0.01272 -0.05573 -0.01827 -0.08368 -0.0074 C -0.09375 0.00162 -0.08854 -0.00093 -0.09861 0.00185 C -0.10295 0.00925 -0.10677 0.01434 -0.11233 0.02012 C -0.11528 0.03562 -0.12587 0.04625 -0.13299 0.05851 C -0.13889 0.06869 -0.14236 0.08025 -0.1507 0.08765 C -0.15608 0.10199 -0.1599 0.11656 -0.16441 0.13136 C -0.16545 0.14015 -0.16684 0.14847 -0.16858 0.15703 C -0.16997 0.16374 -0.17257 0.17692 -0.17257 0.17692 C -0.17222 0.18848 -0.17205 0.20005 -0.17136 0.21161 C -0.16979 0.23543 -0.14913 0.25069 -0.13698 0.26272 C -0.12049 0.27937 -0.14097 0.26596 -0.12066 0.27729 C -0.09705 0.30874 -0.0665 0.32262 -0.0342 0.3284 C -0.03004 0.32909 -0.02604 0.32932 -0.02188 0.33025 C -0.01129 0.33256 -0.000869999999999999 0.33511 0.00955 0.33765 C 0.01232 0.33834 0.01771 0.3395 0.01771 0.3395 C 0.02413 0.33881 0.03073 0.3395 0.03698 0.33765 C 0.03923 0.33696 0.04045 0.33372 0.04236 0.3321 C 0.04357 0.33117 0.04514 0.33117 0.04653 0.33025 C 0.04982 0.32817 0.05295 0.32562 0.05607 0.32308 C 0.0625 0.31776 0.06684 0.31337 0.07396 0.31013 C 0.08958 0.29024 0.06406 0.32146 0.08489 0.30111 C 0.09965 0.28677 0.08663 0.29232 0.09861 0.28839 C 0.10712 0.28145 0.11354 0.27151 0.12326 0.26827 C 0.13038 0.26203 0.13698 0.2537 0.14514 0.25 C 0.14913 0.24191 0.15156 0.24121 0.15885 0.23913 C 0.17014 0.2241 0.18854 0.21508 0.20399 0.20976 C 0.21302 0.2012 0.22344 0.20143 0.2342 0.19889 C 0.26666 0.19126 0.24271 0.19473 0.2684 0.19172 C 0.31545 0.179 0.37326 0.1605 0.4151 0.19519 C 0.42291 0.2086 0.43455 0.21693 0.44514 0.22618 C 0.45208 0.24006 0.44253 0.22317 0.45347 0.23543 C 0.45469 0.23682 0.45503 0.23913 0.45607 0.24098 C 0.46215 0.25208 0.46962 0.26619 0.47812 0.27382 C 0.47951 0.27613 0.48055 0.27891 0.48212 0.28099 C 0.48333 0.28261 0.48524 0.28307 0.48628 0.28469 C 0.49271 0.2944 0.4941 0.30527 0.50399 0.30828 C 0.51007 0.31637 0.5151 0.32655 0.52326 0.33025 C 0.53472 0.34551 0.52899 0.33996 0.53975 0.34852 C 0.5467 0.36147 0.54201 0.35407 0.55607 0.36864 C 0.55746 0.37003 0.55764 0.37257 0.55885 0.37419 C 0.56007 0.37581 0.56163 0.3765 0.56302 0.37766 C 0.5684 0.38853 0.56267 0.37812 0.57118 0.38876 C 0.58698 0.40842 0.5776 0.40148 0.58906 0.40865 C 0.59045 0.4105 0.59149 0.41281 0.59305 0.4142 C 0.59427 0.41536 0.59635 0.41443 0.59722 0.41605 C 0.60173 0.42368 0.59514 0.42299 0.60139 0.42877 C 0.60573 0.43293 0.61475 0.43918 0.62048 0.44149 C 0.63368 0.45537 0.62812 0.45143 0.63559 0.45629 E">
                                      <p:cBhvr>
                                        <p:cTn id="26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1.3876E-007 C -0.00052 0.00301 -0.00017 0.00648 -0.00139 0.00902 C -0.00226 0.01087 -0.00434 0.01133 -0.00556 0.01272 C -0.01806 0.02729 -0.03142 0.03816 -0.04792 0.04186 C -0.09757 0.03955 -0.07535 0.04186 -0.10278 0.03284 C -0.11597 0.02382 -0.09792 0.03515 -0.1191 0.02729 C -0.12205 0.02613 -0.12448 0.02336 -0.12743 0.02197 C -0.13194 0.01966 -0.13681 0.01896 -0.14115 0.01642 C -0.17292 -0.00254 -0.20677 -0.01457 -0.23976 -0.02914 C -0.25434 -0.02752 -0.25642 -0.02521 -0.26858 -0.02197 C -0.27604 -0.01688 -0.27934 -0.00833 -0.2849 1.3876E-007 C -0.28785 0.00439 -0.29132 0.00856 -0.29444 0.01272 C -0.29583 0.01457 -0.29618 0.01781 -0.29722 0.02012 C -0.30208 0.03053 -0.30833 0.03932 -0.31372 0.04926 C -0.31528 0.05204 -0.31753 0.05389 -0.3191 0.05666 C -0.32431 0.06591 -0.31944 0.06152 -0.32465 0.06938 C -0.32726 0.07331 -0.33281 0.08025 -0.33281 0.08025 C -0.33733 0.09806 -0.32865 0.06637 -0.34115 0.09482 C -0.34288 0.09852 -0.34253 0.10338 -0.34375 0.10754 C -0.34635 0.1161 -0.35052 0.12442 -0.35486 0.13136 C -0.35747 0.14223 -0.35747 0.14593 -0.36302 0.15333 C -0.3658 0.16813 -0.36215 0.15264 -0.36979 0.16975 C -0.37205 0.17484 -0.37309 0.18108 -0.37535 0.18617 C -0.38038 0.19773 -0.38733 0.20883 -0.39184 0.22086 C -0.39618 0.23289 -0.40017 0.24352 -0.40816 0.25185 C -0.41181 0.25971 -0.41319 0.26573 -0.41788 0.27197 C -0.41892 0.2803 -0.42135 0.28423 -0.42326 0.29186 C -0.42274 0.30712 -0.42309 0.32239 -0.42187 0.33765 C -0.42135 0.34459 -0.41667 0.34991 -0.41372 0.35592 C -0.40764 0.36795 -0.40104 0.37465 -0.39323 0.38506 C -0.38767 0.39246 -0.38681 0.39616 -0.37951 0.39963 C -0.37101 0.41096 -0.38073 0.39986 -0.36719 0.40865 C -0.36146 0.41235 -0.35764 0.42068 -0.35069 0.4216 C -0.33976 0.42299 -0.32882 0.42276 -0.31788 0.42322 C -0.27413 0.43478 -0.30816 0.42646 -0.19722 0.42322 C -0.19219 0.42299 -0.18611 0.41744 -0.1809 0.41605 C -0.16823 0.40472 -0.14497 0.40241 -0.13021 0.39963 C -0.10799 0.38483 -0.08108 0.38113 -0.05625 0.37766 C -0.05087 0.37303 -0.04566 0.37327 -0.03976 0.37049 C -0.03108 0.35893 -0.02257 0.35754 -0.01094 0.35592 C 0.00208 0.34713 -0.00399 0.34968 0.00677 0.34667 C 0.01806 0.33927 0.03021 0.33164 0.04253 0.3284 C 0.04931 0.32308 0.05538 0.32007 0.06302 0.31753 C 0.09913 0.31869 0.13507 0.31938 0.17118 0.32123 C 0.17882 0.32169 0.175 0.32424 0.18212 0.32655 C 0.1908 0.32932 0.20191 0.33071 0.21094 0.3321 C 0.21944 0.34066 0.23073 0.34251 0.24115 0.34482 C 0.24253 0.34551 0.24375 0.34598 0.24514 0.34667 C 0.2474 0.34783 0.24965 0.34921 0.25208 0.35037 C 0.25625 0.35222 0.26441 0.35592 0.26441 0.35592 C 0.26753 0.36008 0.26962 0.36725 0.27396 0.36864 C 0.28003 0.37072 0.27951 0.36795 0.27951 0.37234 E">
                                      <p:cBhvr>
                                        <p:cTn id="2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8" descr="пр рук"/>
          <p:cNvPicPr/>
          <p:nvPr/>
        </p:nvPicPr>
        <p:blipFill>
          <a:blip r:embed="rId1"/>
          <a:stretch/>
        </p:blipFill>
        <p:spPr>
          <a:xfrm>
            <a:off x="2843280" y="321300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7-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104" name="Picture 4" descr="снег"/>
            <p:cNvPicPr/>
            <p:nvPr/>
          </p:nvPicPr>
          <p:blipFill>
            <a:blip r:embed="rId2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107" name="Picture 7" descr="снег"/>
            <p:cNvPicPr/>
            <p:nvPr/>
          </p:nvPicPr>
          <p:blipFill>
            <a:blip r:embed="rId3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10" name="Picture 10" descr="снег"/>
            <p:cNvPicPr/>
            <p:nvPr/>
          </p:nvPicPr>
          <p:blipFill>
            <a:blip r:embed="rId4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2" name="Picture 12" descr="1"/>
          <p:cNvPicPr/>
          <p:nvPr/>
        </p:nvPicPr>
        <p:blipFill>
          <a:blip r:embed="rId5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сугроб"/>
          <p:cNvPicPr/>
          <p:nvPr/>
        </p:nvPicPr>
        <p:blipFill>
          <a:blip r:embed="rId6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2"/>
          <p:cNvPicPr/>
          <p:nvPr/>
        </p:nvPicPr>
        <p:blipFill>
          <a:blip r:embed="rId7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2"/>
          <p:cNvPicPr/>
          <p:nvPr/>
        </p:nvPicPr>
        <p:blipFill>
          <a:blip r:embed="rId8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морковь"/>
          <p:cNvPicPr/>
          <p:nvPr/>
        </p:nvPicPr>
        <p:blipFill>
          <a:blip r:embed="rId9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л рук"/>
          <p:cNvPicPr/>
          <p:nvPr/>
        </p:nvPicPr>
        <p:blipFill>
          <a:blip r:embed="rId10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кнопка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46945E-018 8.51064E-007 C -0.00469 -0.00185 -0.00903 -0.0037 -0.01372 -0.00532 C -0.0283 -0.00416 -0.03976 -0.00278 -0.05348 0.00185 C -0.06146 -0.00509 -0.0717 -0.00416 -0.08091 -0.00532 C -0.08872 -0.00809 -0.09618 -0.01087 -0.10417 -0.01272 C -0.10938 -0.00786 -0.11164 -0.0037 -0.11789 -0.00162 C -0.12726 0.00671 -0.12292 0.00416 -0.13021 0.0074 C -0.13646 0.01573 -0.14254 0.02382 -0.14931 0.03122 C -0.15105 0.03307 -0.15313 0.03446 -0.15486 0.03654 C -0.15625 0.03816 -0.15764 0.04394 -0.15886 0.04209 C -0.16025 0.04001 -0.15417 0.03585 -0.15608 0.03469 C -0.15816 0.0333 -0.15973 0.03839 -0.16164 0.04024 C -0.17743 0.03492 -0.18143 0.03931 -0.19723 0.04394 C -0.18611 0.04903 -0.19618 0.05805 -0.2 0.06406 C -0.20903 0.07771 -0.21164 0.08071 -0.22605 0.08395 C -0.23698 0.08996 -0.24566 0.09806 -0.25747 0.10037 C -0.26598 0.10708 -0.2724 0.10939 -0.28212 0.11147 C -0.28438 0.11193 -0.28681 0.11263 -0.28907 0.11332 C -0.29184 0.11425 -0.29723 0.11679 -0.29723 0.11679 C -0.29861 0.11795 -0.29983 0.1198 -0.30139 0.12049 C -0.30348 0.12165 -0.30608 0.12095 -0.30816 0.12234 C -0.3099 0.1235 -0.31077 0.1265 -0.31233 0.12789 C -0.31355 0.12905 -0.31511 0.12882 -0.3165 0.12974 C -0.32136 0.13298 -0.32344 0.1383 -0.32882 0.14061 C -0.33091 0.1494 -0.33247 0.15795 -0.33559 0.16605 C -0.33664 0.18386 -0.33594 0.18802 -0.34254 0.20074 C -0.34341 0.20814 -0.34289 0.21577 -0.34514 0.22271 C -0.34601 0.22525 -0.34931 0.22433 -0.3507 0.22641 C -0.35226 0.22895 -0.35261 0.23242 -0.35348 0.23543 C -0.34861 0.24491 -0.34931 0.25301 -0.34375 0.26295 C -0.3415 0.27243 -0.33941 0.28215 -0.33837 0.29209 C -0.33733 0.30134 -0.33785 0.31799 -0.3342 0.32678 C -0.33334 0.32909 -0.33125 0.33025 -0.33021 0.33233 C -0.32535 0.34251 -0.32639 0.34505 -0.32188 0.35222 C -0.3191 0.35684 -0.31702 0.358 -0.31511 0.36332 C -0.31181 0.37303 -0.30973 0.38113 -0.30556 0.39061 C -0.30226 0.38945 -0.29896 0.38853 -0.29584 0.38691 C -0.29427 0.38598 -0.29341 0.38367 -0.29184 0.38321 C -0.29045 0.38298 -0.28907 0.38437 -0.28768 0.38506 C -0.28507 0.39894 -0.27587 0.39639 -0.26719 0.40148 C -0.25278 0.40981 -0.23681 0.41489 -0.22188 0.4216 C -0.19931 0.43178 -0.21684 0.42738 -0.19861 0.43085 C -0.17743 0.44126 -0.15521 0.44912 -0.13282 0.45259 C -0.11424 0.46092 -0.12379 0.45791 -0.09861 0.46184 C -0.08681 0.46369 -0.06302 0.46716 -0.06302 0.46716 C -0.04219 0.46485 -0.05226 0.46577 -0.03837 0.45629 C -0.03403 0.4475 -0.03698 0.44241 -0.03021 0.43617 C -0.02414 0.42044 -0.01441 0.40009 -0.00139 0.39431 C 0.0085 0.38113 0.02222 0.3735 0.03142 0.35962 C 0.03368 0.35638 0.03437 0.35129 0.03698 0.34875 C 0.04201 0.34366 0.04774 0.33811 0.05208 0.33233 C 0.05468 0.32886 0.05625 0.32447 0.05885 0.32123 C 0.05989 0.31984 0.06163 0.3203 0.06302 0.31938 C 0.0684 0.31591 0.07343 0.31129 0.07812 0.30666 C 0.07552 0.32447 0.07691 0.31152 0.07257 0.30296 C 0.07343 0.29741 0.07639 0.29186 0.07534 0.28654 C 0.07465 0.28307 0.07361 0.2944 0.07118 0.29579 C 0.06823 0.29741 0.06475 0.29463 0.06163 0.29394 C 0.06354 0.2988 0.06753 0.31036 0.07118 0.31221 C 0.07274 0.3129 0.08889 0.30319 0.08906 0.30296 C 0.10225 0.30735 0.10069 0.30851 0.11649 0.30481 C 0.13507 0.30042 0.11145 0.30134 0.1302 0.29926 C 0.13836 0.29833 0.1467 0.2981 0.15486 0.29764 C 0.15711 0.29648 0.16684 0.2914 0.16718 0.29024 C 0.16788 0.28816 0.16527 0.28654 0.16441 0.28469 C 0.16527 0.28168 0.16805 0.27868 0.16718 0.27567 C 0.16666 0.27359 0.1618 0.27775 0.16302 0.27937 C 0.16441 0.28122 0.16666 0.27821 0.16857 0.27752 C 0.16892 0.27567 0.17083 0.27336 0.16979 0.27197 C 0.16875 0.27058 0.1658 0.27197 0.1658 0.27382 C 0.1658 0.27567 0.1684 0.27498 0.16979 0.27567 C 0.16892 0.27798 0.16614 0.28053 0.16718 0.28284 C 0.16823 0.28492 0.1717 0.2833 0.17257 0.28122 C 0.17291 0.2803 0.17014 0.26966 0.16979 0.26827 C 0.17569 0.26457 0.17534 0.26758 0.17534 0.26295 E">
                                      <p:cBhvr>
                                        <p:cTn id="3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8.51064E-007 C -0.00538 0.00023 -0.03698 0.00139 -0.04792 0.0037 C -0.05156 0.00439 -0.05521 0.00578 -0.05885 0.0074 C -0.06163 0.00856 -0.06701 0.0111 -0.06701 0.0111 C -0.07535 0.02174 -0.07552 0.01781 -0.08351 0.03284 C -0.08576 0.03723 -0.09028 0.04579 -0.09028 0.04579 C -0.09253 0.05712 -0.09062 0.05111 -0.09722 0.06406 C -0.09809 0.06591 -0.1 0.06938 -0.1 0.06938 C -0.10035 0.07192 -0.10052 0.07447 -0.10121 0.07678 C -0.10191 0.07886 -0.10399 0.08002 -0.10399 0.08233 C -0.10469 0.10684 -0.10417 0.1531 -0.08889 0.17345 C -0.0875 0.18224 -0.08628 0.18501 -0.08073 0.18987 C -0.07726 0.19681 -0.06996 0.20259 -0.06424 0.20629 C -0.05677 0.21647 -0.04583 0.22363 -0.03559 0.22826 C -0.02656 0.23751 -0.02066 0.23682 -0.01094 0.24283 C -0.00174 0.24838 0.0066 0.25647 0.01649 0.25925 C 0.03767 0.27336 0.05278 0.27729 0.07674 0.27937 C 0.10191 0.27868 0.12691 0.27868 0.15208 0.27752 C 0.16597 0.27683 0.17847 0.26804 0.19184 0.2648 C 0.19896 0.25532 0.19254 0.26156 0.20417 0.2574 C 0.21129 0.25486 0.21458 0.25 0.22205 0.24838 C 0.23594 0.2389 0.25191 0.23242 0.26719 0.22826 C 0.27379 0.22248 0.27222 0.22248 0.28368 0.22271 C 0.32986 0.22317 0.37587 0.22525 0.42205 0.22641 C 0.47761 0.23011 0.49392 0.22942 0.56719 0.22826 C 0.57691 0.22387 0.58576 0.21785 0.59601 0.21554 C 0.6 0.21346 0.60434 0.2123 0.60833 0.20999 C 0.61389 0.20675 0.61875 0.20143 0.62465 0.19912 C 0.6283 0.19565 0.63264 0.19218 0.63576 0.18802 E">
                                      <p:cBhvr>
                                        <p:cTn id="34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9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+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23" name="Picture 5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6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26" name="Picture 8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9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29" name="Picture 11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12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31" name="Picture 13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кнопка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2.77521E-007 C 0.0474 -0.00301 0.03264 -0.00324 0.09861 0.00162 C 0.10886 0.00231 0.11684 0.01226 0.12604 0.01642 C 0.1316 0.02359 0.13768 0.0303 0.14393 0.03631 C 0.15052 0.05042 0.16146 0.05967 0.17136 0.06915 C 0.17361 0.07933 0.18038 0.08303 0.1849 0.09112 C 0.19132 0.10268 0.19931 0.11193 0.20695 0.12211 C 0.20886 0.12465 0.21094 0.1265 0.21233 0.12951 C 0.21372 0.13252 0.21476 0.13599 0.2165 0.13853 C 0.22222 0.14709 0.23229 0.15541 0.23976 0.1605 C 0.24393 0.16883 0.24636 0.17137 0.25347 0.17507 C 0.2632 0.18571 0.27604 0.19311 0.28768 0.19889 C 0.29271 0.2012 0.2967 0.2049 0.30139 0.20791 C 0.30573 0.21069 0.31077 0.21092 0.31511 0.21346 C 0.32379 0.21832 0.31754 0.21647 0.32743 0.22063 C 0.33924 0.22572 0.35174 0.23034 0.36302 0.23705 C 0.37101 0.24191 0.37986 0.24607 0.38768 0.25162 C 0.39514 0.25717 0.39722 0.26226 0.40556 0.26457 C 0.4099 0.27035 0.41424 0.2722 0.41927 0.27729 C 0.42413 0.28747 0.43091 0.29278 0.43698 0.30088 C 0.45191 0.32077 0.46684 0.34158 0.4849 0.35754 C 0.49254 0.36425 0.50434 0.37812 0.51372 0.38136 C 0.51563 0.38321 0.51719 0.38529 0.51927 0.38668 C 0.52136 0.3883 0.52396 0.38853 0.52604 0.39038 C 0.52778 0.39177 0.52865 0.39454 0.53021 0.39593 C 0.54341 0.40819 0.54132 0.40587 0.55486 0.4105 C 0.56979 0.42068 0.58386 0.42946 0.6 0.43594 C 0.60538 0.43802 0.6165 0.43964 0.6165 0.43964 C 0.62518 0.44681 0.63281 0.44612 0.64254 0.45074 C 0.6467 0.45282 0.65052 0.45629 0.65486 0.45791 C 0.66597 0.4623 0.6632 0.45745 0.67136 0.46161 C 0.67552 0.46369 0.67934 0.46785 0.68368 0.46878 C 0.69306 0.47086 0.70278 0.46994 0.71233 0.47063 C 0.73438 0.46924 0.73681 0.4704 0.75209 0.46531 C 0.75729 0.46069 0.76268 0.4586 0.76858 0.45606 C 0.77309 0.45398 0.78229 0.45074 0.78229 0.45074 C 0.79167 0.44195 0.804 0.44149 0.81511 0.43964 C 0.81736 0.43848 0.81945 0.43686 0.82188 0.43594 C 0.82466 0.43501 0.82761 0.43548 0.83021 0.43409 C 0.83611 0.43108 0.83976 0.4253 0.84653 0.42322 C 0.86025 0.41883 0.86615 0.41813 0.87813 0.41605 C 0.88073 0.41374 0.88195 0.40842 0.8849 0.4068 C 0.90156 0.39801 0.93177 0.39755 0.94931 0.39593 C 0.95347 0.39477 0.95747 0.39292 0.96163 0.39223 C 0.96893 0.39107 0.98368 0.39038 0.98368 0.39038 E">
                                      <p:cBhvr>
                                        <p:cTn id="41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2.77521E-007 C -0.01597 -0.01411 0.000690000000000003 -0.00069 -0.04514 -0.00555 C -0.06615 -0.00786 -0.08958 -0.01781 -0.11094 -0.02197 C -0.12309 -0.02706 -0.13559 -0.02729 -0.14792 -0.03099 C -0.1566 -0.03353 -0.16511 -0.03631 -0.17396 -0.03839 C -0.19271 -0.03723 -0.21146 -0.03631 -0.23021 -0.03469 C -0.2408 -0.03377 -0.24809 -0.02266 -0.25886 -0.02012 C -0.2658 -0.01411 -0.27083 -0.00786 -0.27674 2.77521E-007 C -0.27813 0.00185 -0.2809 0.00555 -0.2809 0.00555 C -0.28403 0.01411 -0.28802 0.0229 -0.29184 0.03099 C -0.29392 0.03538 -0.29861 0.04371 -0.29861 0.04371 C -0.30017 0.04972 -0.30556 0.06013 -0.30556 0.06013 C -0.30886 0.07308 -0.31337 0.08626 -0.31788 0.09852 C -0.32188 0.10916 -0.32257 0.12211 -0.32604 0.13321 C -0.33195 0.17923 -0.33247 0.22595 -0.31649 0.26827 C -0.31441 0.28816 -0.31024 0.28747 -0.3 0.30111 C -0.28212 0.32493 -0.25677 0.34528 -0.2342 0.35939 C -0.22778 0.36841 -0.21736 0.37327 -0.20816 0.37581 C -0.20035 0.38228 -0.1934 0.38136 -0.1849 0.38506 C -0.17274 0.39061 -0.16389 0.39431 -0.1507 0.39593 C -0.13472 0.40125 -0.11528 0.40171 -0.09861 0.40333 C -0.075 0.40981 -0.08924 0.40657 -0.03837 0.40333 C -0.03299 0.4031 -0.02691 0.39616 -0.02188 0.39408 C -0.01979 0.39315 -0.01024 0.39107 -0.00816 0.39061 C 0.00382 0.3846 0.01458 0.38136 0.02743 0.37951 C 0.03316 0.37419 0.04028 0.37095 0.04653 0.36679 C 0.05625 0.36031 0.06319 0.34968 0.07396 0.34667 C 0.07535 0.34551 0.07656 0.34389 0.07812 0.34297 C 0.08021 0.34158 0.08281 0.34112 0.08489 0.3395 C 0.09375 0.33256 0.10243 0.32146 0.11094 0.31383 C 0.11354 0.31152 0.11528 0.30759 0.11771 0.30481 C 0.12621 0.29533 0.13524 0.28978 0.14375 0.28099 C 0.15746 0.26711 0.14635 0.27197 0.15746 0.26827 C 0.16441 0.25601 0.18646 0.23774 0.19722 0.22803 C 0.20208 0.22364 0.20434 0.21485 0.20955 0.21161 C 0.21146 0.21045 0.21319 0.2093 0.2151 0.20814 C 0.22361 0.18825 0.21354 0.20652 0.22604 0.19704 C 0.23837 0.18779 0.25191 0.16512 0.2658 0.1605 C 0.26858 0.15495 0.28299 0.13922 0.28767 0.13506 C 0.28854 0.13321 0.28941 0.13113 0.29045 0.12951 C 0.29167 0.12766 0.2934 0.12627 0.29444 0.12419 C 0.30625 0.10199 0.28906 0.13113 0.29861 0.10939 C 0.30382 0.09759 0.30278 0.11031 0.30278 0.09852 E">
                                      <p:cBhvr>
                                        <p:cTn id="41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+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42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45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48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0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кнопка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5.06938E-006 C -0.00851 0.0007 -0.01684 0.00092 -0.02535 0.00209 C -0.03246 0.00301 -0.03594 0.0118 -0.04097 0.01712 C -0.05035 0.02684 -0.05243 0.03054 -0.06059 0.0414 C -0.06371 0.05135 -0.06476 0.06129 -0.06771 0.07147 C -0.06649 0.11356 -0.075 0.16444 -0.05503 0.20098 C -0.05278 0.21647 -0.05503 0.20769 -0.04514 0.22526 C -0.03906 0.23613 -0.03403 0.24793 -0.02535 0.25533 C -0.02187 0.26157 -0.01753 0.26435 -0.01424 0.27036 C -0.00833 0.28077 -0.0033 0.28817 0.00417 0.29649 C 0.00816 0.30089 0.00955 0.30574 0.01406 0.30968 C 0.02448 0.32864 0.01181 0.30806 0.02379 0.32101 C 0.03438 0.33257 0.01597 0.32078 0.03368 0.33026 C 0.03958 0.33812 0.0467 0.34066 0.05347 0.34714 C 0.06406 0.35732 0.07413 0.36518 0.08733 0.36795 C 0.09288 0.3705 0.09879 0.37073 0.10417 0.3735 C 0.12726 0.38484 0.10938 0.38067 0.12813 0.38669 C 0.13698 0.38946 0.14601 0.39131 0.15486 0.39409 C 0.16719 0.40241 0.18108 0.39756 0.19427 0.40172 C 0.2 0.40357 0.20521 0.40773 0.21111 0.40912 C 0.24636 0.41675 0.2842 0.41536 0.31962 0.41675 C 0.35955 0.42323 0.39948 0.41421 0.43941 0.41097 C 0.44774 0.40727 0.45208 0.39779 0.46042 0.39409 C 0.46788 0.38692 0.47413 0.38576 0.48299 0.38276 C 0.49688 0.37813 0.52448 0.36934 0.53802 0.36032 C 0.54931 0.35292 0.55816 0.34043 0.56892 0.33211 C 0.57726 0.32563 0.58576 0.31939 0.59427 0.31338 C 0.59879 0.31014 0.6007 0.30621 0.60556 0.30412 C 0.60886 0.29973 0.61215 0.29534 0.61545 0.29094 C 0.61875 0.28655 0.62674 0.27961 0.62674 0.27961 C 0.63021 0.26597 0.65035 0.25024 0.66042 0.24585 C 0.66146 0.24469 0.66267 0.24353 0.66337 0.24215 C 0.66458 0.23983 0.66615 0.23474 0.66615 0.23474 E">
                                      <p:cBhvr>
                                        <p:cTn id="47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-4.07956E-006 C 0.00469 -0.0185 -0.00365 0.01596 0.00278 -0.03376 C 0.00416 -0.04486 0.0151 -0.04972 0.02118 -0.05434 C 0.02621 -0.05827 0.02969 -0.06406 0.03385 -0.06938 C 0.03785 -0.07469 0.05069 -0.08117 0.05642 -0.08256 C 0.0691 -0.09366 0.08212 -0.0969 0.09722 -0.09944 C 0.10746 -0.10291 0.11788 -0.10545 0.12812 -0.10892 C 0.2342 -0.10707 0.20382 -0.10661 0.26059 -0.10129 C 0.26701 -0.0999 0.27031 -0.0999 0.27604 -0.09574 C 0.27725 -0.09481 0.27778 -0.09273 0.27899 -0.09204 C 0.28403 -0.0895 0.29444 -0.08626 0.29444 -0.08626 C 0.30694 -0.07377 0.32222 -0.06753 0.33663 -0.06012 C 0.33958 -0.05851 0.34219 -0.05619 0.34514 -0.05434 C 0.34653 -0.05365 0.34791 -0.05319 0.3493 -0.05249 C 0.3625 -0.04024 0.35642 -0.04694 0.36771 -0.03191 C 0.37031 -0.02844 0.3743 -0.02728 0.37743 -0.02451 C 0.38194 -0.02058 0.37916 -0.02035 0.38316 -0.01503 C 0.38837 -0.00809 0.39357 -0.00231 0.39861 0.00556 C 0.40955 0.02267 0.41649 0.04117 0.42535 0.0599 C 0.42986 0.06939 0.43576 0.07725 0.4408 0.08627 C 0.4434 0.09806 0.44531 0.10477 0.45069 0.11448 C 0.45382 0.13113 0.4592 0.14617 0.46198 0.16328 C 0.46302 0.18571 0.46684 0.20583 0.46059 0.22711 C 0.4585 0.24908 0.45121 0.27082 0.44375 0.29071 C 0.44323 0.29325 0.44323 0.29603 0.44236 0.29834 C 0.44166 0.30042 0.43993 0.30158 0.43941 0.30389 C 0.43663 0.31615 0.43663 0.3284 0.43107 0.33951 C 0.42743 0.35454 0.42517 0.36772 0.41701 0.37905 C 0.41337 0.39617 0.41788 0.3779 0.41267 0.392 C 0.40868 0.40287 0.40816 0.41374 0.40278 0.42392 C 0.40225 0.42716 0.40225 0.43039 0.40139 0.4334 C 0.40087 0.43548 0.39878 0.43664 0.39861 0.43895 C 0.39757 0.45907 0.4026 0.47248 0.41406 0.48405 C 0.4191 0.49677 0.43594 0.51434 0.44653 0.51781 C 0.45225 0.52914 0.44687 0.52174 0.46337 0.52521 C 0.47187 0.52706 0.48021 0.53284 0.48871 0.53469 C 0.50503 0.53816 0.52153 0.53863 0.53802 0.54025 C 0.55538 0.5384 0.57274 0.53724 0.5901 0.53469 C 0.60173 0.53284 0.61875 0.52914 0.62812 0.51781 C 0.63611 0.5081 0.64062 0.49353 0.6493 0.4859 C 0.65538 0.47295 0.66111 0.46069 0.66771 0.44843 C 0.67118 0.44196 0.67899 0.4297 0.67899 0.4297 C 0.6809 0.42184 0.68212 0.41744 0.68732 0.41282 C 0.68993 0.39848 0.69809 0.39686 0.70573 0.3883 C 0.71458 0.37836 0.70729 0.38206 0.71701 0.37905 C 0.72378 0.36494 0.73611 0.35939 0.74653 0.35084 C 0.7559 0.34321 0.76649 0.33812 0.77604 0.33025 C 0.78177 0.32563 0.7868 0.3217 0.79305 0.31892 C 0.79844 0.3136 0.80347 0.30852 0.80989 0.30574 C 0.81944 0.2958 0.83055 0.28446 0.84236 0.28146 C 0.84809 0.27359 0.85521 0.27105 0.86198 0.26457 C 0.87257 0.25463 0.88229 0.24075 0.89444 0.23428 C 0.90156 0.2204 0.89184 0.23682 0.90278 0.22711 C 0.90764 0.22272 0.9059 0.21763 0.91406 0.21393 C 0.91962 0.20838 0.92257 0.2026 0.92812 0.19704 C 0.92916 0.19381 0.92969 0.19034 0.93107 0.18756 C 0.93246 0.18456 0.93524 0.18317 0.93663 0.18016 C 0.94166 0.16906 0.9335 0.17438 0.94236 0.17068 C 0.94687 0.15241 0.93923 0.18039 0.94791 0.15935 C 0.95538 0.14131 0.94653 0.15334 0.95364 0.14455 C 0.95712 0.12581 0.95173 0.15102 0.96198 0.12373 C 0.96354 0.11957 0.96441 0.11471 0.96632 0.11078 C 0.96701 0.10916 0.96823 0.10824 0.9691 0.10685 C 0.97014 0.105 0.971 0.10315 0.97187 0.1013 C 0.97413 0.09575 0.97448 0.09297 0.97743 0.08812 C 0.9783 0.08673 0.98038 0.08442 0.98038 0.08442 E">
                                      <p:cBhvr>
                                        <p:cTn id="48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-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62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65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68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кнопка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6 2.55319E-006 C -0.00261 -0.01064 0.00069 -0.00185 -0.00539 -0.0074 C -0.00695 -0.00879 -0.00799 -0.01133 -0.00956 -0.01295 C -0.0165 -0.01966 -0.02518 -0.02243 -0.03282 -0.02752 C -0.04393 -0.03492 -0.03039 -0.02821 -0.04098 -0.03307 C -0.05886 -0.03238 -0.07657 -0.03238 -0.09445 -0.03122 C -0.10331 -0.03076 -0.11858 -0.00994 -0.12466 -0.00185 C -0.12813 0.0074 -0.1323 0.0155 -0.13421 0.02544 C -0.13369 0.04186 -0.13438 0.05851 -0.13282 0.0747 C -0.13247 0.07817 -0.12449 0.08719 -0.12327 0.08927 C -0.1165 0.10083 -0.11164 0.11147 -0.10261 0.12026 C -0.09862 0.12882 -0.09289 0.13506 -0.08768 0.14223 C -0.08629 0.14431 -0.08594 0.14732 -0.0849 0.14963 C -0.08403 0.15148 -0.08334 0.15333 -0.08212 0.15495 C -0.07466 0.16489 -0.06581 0.17368 -0.05886 0.18409 C -0.05261 0.19357 -0.04619 0.20259 -0.03959 0.21138 C -0.03837 0.21323 -0.03681 0.21369 -0.0356 0.21508 C -0.03317 0.21809 -0.03074 0.22086 -0.02865 0.22433 C -0.02431 0.23104 -0.02032 0.23705 -0.01494 0.24237 C -0.00903 0.24838 -0.00192 0.25278 0.00416 0.25879 C 0.00676 0.26133 0.00833 0.2655 0.01093 0.26804 C 0.01753 0.27451 0.02742 0.2766 0.03437 0.28284 C 0.04288 0.29047 0.04999 0.29834 0.06041 0.30088 C 0.06614 0.31129 0.07378 0.31314 0.08229 0.31915 C 0.11388 0.34158 0.14687 0.36055 0.1809 0.37581 C 0.18906 0.37951 0.20104 0.38784 0.20833 0.39038 C 0.21649 0.39316 0.23298 0.39593 0.23298 0.39593 C 0.24548 0.40241 0.25399 0.40657 0.26718 0.40865 C 0.2868 0.41744 0.28923 0.41952 0.31232 0.42137 C 0.32899 0.42576 0.346 0.42576 0.36301 0.42692 C 0.38489 0.42623 0.40694 0.42669 0.42881 0.42507 C 0.4309 0.42484 0.43246 0.42229 0.43437 0.42137 C 0.44739 0.41559 0.46093 0.40749 0.47395 0.4031 C 0.48246 0.39223 0.47326 0.40217 0.48367 0.39593 C 0.48975 0.39223 0.49531 0.38668 0.50138 0.38298 C 0.50485 0.3809 0.51232 0.37766 0.51232 0.37766 C 0.52187 0.36494 0.51145 0.3772 0.52065 0.37026 C 0.52829 0.36448 0.53402 0.35569 0.54253 0.35199 C 0.54704 0.34621 0.55138 0.34413 0.55624 0.33927 C 0.55833 0.33719 0.55954 0.33395 0.56163 0.3321 C 0.56666 0.32724 0.57517 0.32724 0.5809 0.32285 C 0.58836 0.3173 0.59426 0.31059 0.60277 0.30828 C 0.61301 0.30134 0.62204 0.29302 0.63159 0.28446 C 0.63367 0.28261 0.63628 0.28238 0.63836 0.28099 C 0.64722 0.27521 0.65624 0.2685 0.66301 0.25879 C 0.66614 0.24676 0.66458 0.25139 0.66718 0.24422 E">
                                      <p:cBhvr>
                                        <p:cTn id="54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16281E-007 C -0.00955 -0.00809 -0.00521 -0.00578 -0.01233 -0.00902 C -0.01476 -0.01156 -0.02813 -0.0266 -0.03299 -0.02914 C -0.03559 -0.03053 -0.03854 -0.03006 -0.04115 -0.03099 C -0.05139 -0.03446 -0.0592 -0.04001 -0.06997 -0.04186 C -0.0809 -0.04926 -0.08906 -0.0518 -0.10139 -0.05481 C -0.11424 -0.06314 -0.12847 -0.06522 -0.14254 -0.06753 C -0.16337 -0.08187 -0.23229 -0.07123 -0.2342 -0.07123 C -0.24236 -0.06476 -0.24844 -0.05527 -0.25764 -0.05111 C -0.2632 -0.03908 -0.27361 -0.03492 -0.27952 -0.02359 C -0.28663 -0.00994 -0.28924 0.00671 -0.29601 0.02012 C -0.29809 0.0296 -0.29809 0.03561 -0.30278 0.04371 C -0.30365 0.04949 -0.30677 0.05458 -0.30695 0.06036 C -0.30799 0.12882 -0.31181 0.13784 -0.29045 0.18247 C -0.28195 0.20028 -0.2875 0.19334 -0.27813 0.20259 C -0.27518 0.21462 -0.27778 0.20698 -0.2658 0.22271 C -0.25608 0.23566 -0.24514 0.24907 -0.2316 0.2537 C -0.22535 0.26203 -0.21858 0.2611 -0.21094 0.26642 C -0.20087 0.27336 -0.1908 0.27891 -0.17952 0.28284 C -0.16962 0.29047 -0.15747 0.30065 -0.14653 0.30481 C -0.1309 0.31082 -0.13143 0.30574 -0.10417 0.31198 C -0.09861 0.31314 -0.0934 0.31707 -0.08768 0.31753 C -0.0691 0.31915 -0.05035 0.31869 -0.0316 0.31938 C -0.01979 0.31869 -0.00781 0.31915 0.00399 0.31753 C 0.00573 0.3173 0.0066 0.31475 0.00816 0.31383 C 0.01285 0.31082 0.0184 0.31036 0.02326 0.30851 C 0.02864 0.30412 0.03437 0.3018 0.03975 0.29741 C 0.05399 0.28561 0.03646 0.29787 0.05069 0.28839 C 0.05816 0.27798 0.05208 0.28561 0.0658 0.27382 C 0.06857 0.27151 0.07396 0.26642 0.07396 0.26642 C 0.07951 0.25532 0.08785 0.24861 0.09583 0.24098 C 0.10104 0.2271 0.09531 0.23959 0.10399 0.22803 C 0.10989 0.22017 0.11475 0.20883 0.12187 0.20259 C 0.12725 0.19218 0.12969 0.18617 0.13837 0.18247 C 0.13975 0.18062 0.14114 0.17877 0.14236 0.17692 C 0.14375 0.17461 0.14496 0.17206 0.14653 0.16975 C 0.14913 0.16605 0.15469 0.15888 0.15469 0.15888 C 0.15538 0.15611 0.15955 0.14015 0.16024 0.13853 C 0.16163 0.13622 0.16389 0.13483 0.1658 0.13321 C 0.17344 0.10661 0.16232 0.14015 0.17396 0.11864 C 0.17621 0.11448 0.17587 0.10823 0.17812 0.10407 C 0.1842 0.09274 0.19097 0.08279 0.19861 0.07308 C 0.20416 0.06591 0.20677 0.05666 0.21232 0.04926 C 0.21597 0.03492 0.22083 0.0229 0.22604 0.00925 C 0.22743 0.00578 0.22725 0.00162 0.22864 -0.00185 C 0.23194 -0.00948 0.23628 -0.01619 0.23975 -0.02359 C 0.24496 -0.03446 0.24357 -0.04926 0.2493 -0.06013 C 0.25035 -0.07192 0.25208 -0.08141 0.25347 -0.09297 C 0.25451 -0.11216 0.25677 -0.12928 0.26024 -0.14778 C 0.26076 -0.15079 0.26041 -0.15426 0.26163 -0.1568 C 0.26285 -0.15934 0.26545 -0.16004 0.26701 -0.16235 E">
                                      <p:cBhvr>
                                        <p:cTn id="54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6:47:26Z</dcterms:created>
  <dc:creator>vvv</dc:creator>
  <dc:description/>
  <dc:language>en-US</dc:language>
  <cp:lastModifiedBy>Mikhael</cp:lastModifiedBy>
  <dcterms:modified xsi:type="dcterms:W3CDTF">2014-11-25T20:00:01Z</dcterms:modified>
  <cp:revision>4</cp:revision>
  <dc:subject/>
  <dc:title>Слайд 1</dc:title>
</cp:coreProperties>
</file>