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88DA-C85C-4980-988D-33445C4A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2EA4-45AD-45F0-BE5A-887C05B2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00E0-AAD4-4E12-92F3-CC4E26D2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16B5-34A1-4659-ABE3-5470BDB8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C9E0-0D14-465C-B896-7ED8603D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5290-842D-40D3-926B-9D30F9DB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8045-3546-4ECF-9259-7ECD3EAB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F46C-4192-4389-87D5-E0A7C8FA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9C15-BCB3-4B74-B350-524640D8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C23D-C21E-4BB2-8536-414E3173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6051-83C6-448C-8185-6920D3DD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BE31-0A58-4E67-9FB4-CB4EAEA4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2766-B795-463F-9FFF-34CFF3BA8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63640" y="2565360"/>
            <a:ext cx="4969080" cy="16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ccff"/>
                </a:solidFill>
                <a:latin typeface="Arial"/>
              </a:rPr>
              <a:t>Винни - Пу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cc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ccff"/>
                </a:solidFill>
                <a:latin typeface="Arial"/>
              </a:rPr>
              <a:t>и его друзь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ccff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2484360" y="1413000"/>
            <a:ext cx="2970360" cy="1143000"/>
            <a:chOff x="2484360" y="1413000"/>
            <a:chExt cx="2970360" cy="1143000"/>
          </a:xfrm>
        </p:grpSpPr>
        <p:sp>
          <p:nvSpPr>
            <p:cNvPr id="187" name="Облако 19"/>
            <p:cNvSpPr/>
            <p:nvPr/>
          </p:nvSpPr>
          <p:spPr>
            <a:xfrm>
              <a:off x="2627280" y="1413000"/>
              <a:ext cx="2827440" cy="1143000"/>
            </a:xfrm>
            <a:custGeom>
              <a:avLst/>
              <a:gdLst>
                <a:gd name="textAreaLeft" fmla="*/ 389520 w 2827440"/>
                <a:gd name="textAreaRight" fmla="*/ 2236680 w 2827440"/>
                <a:gd name="textAreaTop" fmla="*/ 172440 h 1143000"/>
                <a:gd name="textAreaBottom" fmla="*/ 917640 h 11430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dce6f2"/>
            </a:solidFill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Прямоугольник 20" descr=""/>
            <p:cNvPicPr/>
            <p:nvPr/>
          </p:nvPicPr>
          <p:blipFill>
            <a:blip r:embed="rId2"/>
            <a:stretch/>
          </p:blipFill>
          <p:spPr>
            <a:xfrm>
              <a:off x="2484360" y="1413000"/>
              <a:ext cx="2957760" cy="90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Овальная выноска 41"/>
          <p:cNvSpPr/>
          <p:nvPr/>
        </p:nvSpPr>
        <p:spPr>
          <a:xfrm>
            <a:off x="4859280" y="2997360"/>
            <a:ext cx="1513080" cy="830160"/>
          </a:xfrm>
          <a:prstGeom prst="wedgeEllipseCallout">
            <a:avLst>
              <a:gd name="adj1" fmla="val 34787"/>
              <a:gd name="adj2" fmla="val 66444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Выноска-облако 16"/>
          <p:cNvSpPr/>
          <p:nvPr/>
        </p:nvSpPr>
        <p:spPr>
          <a:xfrm flipH="1">
            <a:off x="4931640" y="547560"/>
            <a:ext cx="3816360" cy="115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"/>
          <p:cNvPicPr/>
          <p:nvPr/>
        </p:nvPicPr>
        <p:blipFill>
          <a:blip r:embed="rId3"/>
          <a:stretch/>
        </p:blipFill>
        <p:spPr>
          <a:xfrm>
            <a:off x="5796000" y="3500280"/>
            <a:ext cx="2014560" cy="306864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22" descr=""/>
          <p:cNvPicPr/>
          <p:nvPr/>
        </p:nvPicPr>
        <p:blipFill>
          <a:blip r:embed="rId4"/>
          <a:stretch/>
        </p:blipFill>
        <p:spPr>
          <a:xfrm>
            <a:off x="5573880" y="693720"/>
            <a:ext cx="3352680" cy="1474920"/>
          </a:xfrm>
          <a:prstGeom prst="rect">
            <a:avLst/>
          </a:prstGeom>
          <a:ln w="0">
            <a:noFill/>
          </a:ln>
        </p:spPr>
      </p:pic>
      <p:sp>
        <p:nvSpPr>
          <p:cNvPr id="193" name="Выноска-облако 16"/>
          <p:cNvSpPr/>
          <p:nvPr/>
        </p:nvSpPr>
        <p:spPr>
          <a:xfrm flipH="1">
            <a:off x="5363280" y="476280"/>
            <a:ext cx="3816360" cy="1152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8" descr="C:\рабочий стол windows 7\0_43fc_932cd5d6_L.png"/>
          <p:cNvPicPr/>
          <p:nvPr/>
        </p:nvPicPr>
        <p:blipFill>
          <a:blip r:embed="rId5"/>
          <a:stretch/>
        </p:blipFill>
        <p:spPr>
          <a:xfrm>
            <a:off x="179280" y="1341360"/>
            <a:ext cx="1692360" cy="2670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6"/>
          <a:stretch/>
        </p:blipFill>
        <p:spPr>
          <a:xfrm>
            <a:off x="6673680" y="1628640"/>
            <a:ext cx="2470320" cy="3451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6559560" y="765000"/>
            <a:ext cx="1181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59-40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53200" y="3141720"/>
            <a:ext cx="51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98" name="Овальная выноска 41"/>
          <p:cNvSpPr/>
          <p:nvPr/>
        </p:nvSpPr>
        <p:spPr>
          <a:xfrm>
            <a:off x="2195640" y="3319560"/>
            <a:ext cx="1512720" cy="830160"/>
          </a:xfrm>
          <a:prstGeom prst="wedgeEllipseCallout">
            <a:avLst>
              <a:gd name="adj1" fmla="val -44333"/>
              <a:gd name="adj2" fmla="val 82888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690640" y="346392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200" name="Овальная выноска 41"/>
          <p:cNvSpPr/>
          <p:nvPr/>
        </p:nvSpPr>
        <p:spPr>
          <a:xfrm>
            <a:off x="1187280" y="620640"/>
            <a:ext cx="151308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619280" y="765000"/>
            <a:ext cx="514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2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179280" y="3860640"/>
            <a:ext cx="2903760" cy="2997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Картинка 28 из 10733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028000" y="5661000"/>
            <a:ext cx="844560" cy="8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7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0" dur="250" autoRev="1" fill="hold"/>
                                        <p:tgtEl>
                                          <p:spTgt spid="1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500"/>
                            </p:stCondLst>
                            <p:childTnLst>
                              <p:par>
                                <p:cTn id="49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3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0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3" dur="250" autoRev="1" fill="hold"/>
                                        <p:tgtEl>
                                          <p:spTgt spid="1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500"/>
                            </p:stCondLst>
                            <p:childTnLst>
                              <p:par>
                                <p:cTn id="51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3347E-006 L 0.2757 -0.35669 E">
                                      <p:cBhvr>
                                        <p:cTn id="524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2484360" y="1413000"/>
            <a:ext cx="2970360" cy="1143000"/>
            <a:chOff x="2484360" y="1413000"/>
            <a:chExt cx="2970360" cy="1143000"/>
          </a:xfrm>
        </p:grpSpPr>
        <p:sp>
          <p:nvSpPr>
            <p:cNvPr id="205" name="Облако 19"/>
            <p:cNvSpPr/>
            <p:nvPr/>
          </p:nvSpPr>
          <p:spPr>
            <a:xfrm>
              <a:off x="2627280" y="1413000"/>
              <a:ext cx="2827440" cy="1143000"/>
            </a:xfrm>
            <a:custGeom>
              <a:avLst/>
              <a:gdLst>
                <a:gd name="textAreaLeft" fmla="*/ 389520 w 2827440"/>
                <a:gd name="textAreaRight" fmla="*/ 2236680 w 2827440"/>
                <a:gd name="textAreaTop" fmla="*/ 172440 h 1143000"/>
                <a:gd name="textAreaBottom" fmla="*/ 917640 h 11430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dce6f2"/>
            </a:solidFill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Прямоугольник 20" descr=""/>
            <p:cNvPicPr/>
            <p:nvPr/>
          </p:nvPicPr>
          <p:blipFill>
            <a:blip r:embed="rId2"/>
            <a:stretch/>
          </p:blipFill>
          <p:spPr>
            <a:xfrm>
              <a:off x="2484360" y="1413000"/>
              <a:ext cx="2957760" cy="90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Овальная выноска 41"/>
          <p:cNvSpPr/>
          <p:nvPr/>
        </p:nvSpPr>
        <p:spPr>
          <a:xfrm>
            <a:off x="2268360" y="3645000"/>
            <a:ext cx="151308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Выноска-облако 16"/>
          <p:cNvSpPr/>
          <p:nvPr/>
        </p:nvSpPr>
        <p:spPr>
          <a:xfrm flipH="1">
            <a:off x="4931640" y="547560"/>
            <a:ext cx="3816360" cy="115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3"/>
          <a:stretch/>
        </p:blipFill>
        <p:spPr>
          <a:xfrm>
            <a:off x="5581800" y="3600360"/>
            <a:ext cx="2014560" cy="306864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22" descr=""/>
          <p:cNvPicPr/>
          <p:nvPr/>
        </p:nvPicPr>
        <p:blipFill>
          <a:blip r:embed="rId4"/>
          <a:stretch/>
        </p:blipFill>
        <p:spPr>
          <a:xfrm>
            <a:off x="5573880" y="693720"/>
            <a:ext cx="3352680" cy="1474920"/>
          </a:xfrm>
          <a:prstGeom prst="rect">
            <a:avLst/>
          </a:prstGeom>
          <a:ln w="0">
            <a:noFill/>
          </a:ln>
        </p:spPr>
      </p:pic>
      <p:sp>
        <p:nvSpPr>
          <p:cNvPr id="211" name="Выноска-облако 16"/>
          <p:cNvSpPr/>
          <p:nvPr/>
        </p:nvSpPr>
        <p:spPr>
          <a:xfrm flipH="1">
            <a:off x="5363280" y="476280"/>
            <a:ext cx="3816360" cy="1152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C:\рабочий стол windows 7\0_43fc_932cd5d6_L.png"/>
          <p:cNvPicPr/>
          <p:nvPr/>
        </p:nvPicPr>
        <p:blipFill>
          <a:blip r:embed="rId5"/>
          <a:stretch/>
        </p:blipFill>
        <p:spPr>
          <a:xfrm>
            <a:off x="179280" y="1341360"/>
            <a:ext cx="1692360" cy="2670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6"/>
          <a:stretch/>
        </p:blipFill>
        <p:spPr>
          <a:xfrm>
            <a:off x="6673680" y="1628640"/>
            <a:ext cx="2470320" cy="34513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6559560" y="765000"/>
            <a:ext cx="1181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80-16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771640" y="378936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6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216" name="Овальная выноска 41"/>
          <p:cNvSpPr/>
          <p:nvPr/>
        </p:nvSpPr>
        <p:spPr>
          <a:xfrm>
            <a:off x="4498920" y="3284640"/>
            <a:ext cx="1513080" cy="830160"/>
          </a:xfrm>
          <a:prstGeom prst="wedgeEllipseCallout">
            <a:avLst>
              <a:gd name="adj1" fmla="val 50523"/>
              <a:gd name="adj2" fmla="val 50000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994280" y="342900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5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218" name="Овальная выноска 41"/>
          <p:cNvSpPr/>
          <p:nvPr/>
        </p:nvSpPr>
        <p:spPr>
          <a:xfrm>
            <a:off x="1187280" y="620640"/>
            <a:ext cx="151308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619280" y="765000"/>
            <a:ext cx="514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7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7"/>
          <a:stretch/>
        </p:blipFill>
        <p:spPr>
          <a:xfrm>
            <a:off x="179280" y="3860640"/>
            <a:ext cx="2903760" cy="2997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Картинка 28 из 10733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028000" y="5661000"/>
            <a:ext cx="844560" cy="8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2" dur="indefinite" restart="never" nodeType="tmRoot">
          <p:childTnLst>
            <p:seq>
              <p:cTn id="533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534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1 -0.00694 L 0.55451 -0.43727 E">
                                      <p:cBhvr>
                                        <p:cTn id="537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5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1" dur="250" autoRev="1" fill="hold"/>
                                        <p:tgtEl>
                                          <p:spTgt spid="2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7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4" dur="250" autoRev="1" fill="hold"/>
                                        <p:tgtEl>
                                          <p:spTgt spid="2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6084720" y="1773360"/>
            <a:ext cx="2934000" cy="40989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843280" y="333360"/>
            <a:ext cx="3816360" cy="1943280"/>
          </a:xfrm>
          <a:prstGeom prst="wedgeEllipseCallout">
            <a:avLst>
              <a:gd name="adj1" fmla="val 62273"/>
              <a:gd name="adj2" fmla="val 747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419640" y="765000"/>
            <a:ext cx="2736720" cy="119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паси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а игр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25" name="Picture 8" descr="C:\рабочий стол windows 7\0_43fc_932cd5d6_L.png"/>
          <p:cNvPicPr/>
          <p:nvPr/>
        </p:nvPicPr>
        <p:blipFill>
          <a:blip r:embed="rId3"/>
          <a:stretch/>
        </p:blipFill>
        <p:spPr>
          <a:xfrm>
            <a:off x="179280" y="2133720"/>
            <a:ext cx="1692360" cy="2670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1332000" y="3645000"/>
            <a:ext cx="2903400" cy="2997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5"/>
          <a:stretch/>
        </p:blipFill>
        <p:spPr>
          <a:xfrm>
            <a:off x="4356000" y="2781360"/>
            <a:ext cx="201456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484360" y="1413000"/>
            <a:ext cx="2970360" cy="1143000"/>
            <a:chOff x="2484360" y="1413000"/>
            <a:chExt cx="2970360" cy="1143000"/>
          </a:xfrm>
        </p:grpSpPr>
        <p:sp>
          <p:nvSpPr>
            <p:cNvPr id="43" name="Облако 19"/>
            <p:cNvSpPr/>
            <p:nvPr/>
          </p:nvSpPr>
          <p:spPr>
            <a:xfrm>
              <a:off x="2627280" y="1413000"/>
              <a:ext cx="2827440" cy="1143000"/>
            </a:xfrm>
            <a:custGeom>
              <a:avLst/>
              <a:gdLst>
                <a:gd name="textAreaLeft" fmla="*/ 389520 w 2827440"/>
                <a:gd name="textAreaRight" fmla="*/ 2236680 w 2827440"/>
                <a:gd name="textAreaTop" fmla="*/ 172440 h 1143000"/>
                <a:gd name="textAreaBottom" fmla="*/ 917640 h 11430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dce6f2"/>
            </a:solidFill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Прямоугольник 20" descr=""/>
            <p:cNvPicPr/>
            <p:nvPr/>
          </p:nvPicPr>
          <p:blipFill>
            <a:blip r:embed="rId2"/>
            <a:stretch/>
          </p:blipFill>
          <p:spPr>
            <a:xfrm>
              <a:off x="2484360" y="1413000"/>
              <a:ext cx="2957760" cy="90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Овальная выноска 41"/>
          <p:cNvSpPr/>
          <p:nvPr/>
        </p:nvSpPr>
        <p:spPr>
          <a:xfrm>
            <a:off x="2268360" y="3645000"/>
            <a:ext cx="151308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Выноска-облако 16"/>
          <p:cNvSpPr/>
          <p:nvPr/>
        </p:nvSpPr>
        <p:spPr>
          <a:xfrm flipH="1">
            <a:off x="4931640" y="547560"/>
            <a:ext cx="3816360" cy="115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5581800" y="3600360"/>
            <a:ext cx="2014560" cy="306864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22" descr=""/>
          <p:cNvPicPr/>
          <p:nvPr/>
        </p:nvPicPr>
        <p:blipFill>
          <a:blip r:embed="rId4"/>
          <a:stretch/>
        </p:blipFill>
        <p:spPr>
          <a:xfrm>
            <a:off x="5573880" y="693720"/>
            <a:ext cx="3352680" cy="1474920"/>
          </a:xfrm>
          <a:prstGeom prst="rect">
            <a:avLst/>
          </a:prstGeom>
          <a:ln w="0">
            <a:noFill/>
          </a:ln>
        </p:spPr>
      </p:pic>
      <p:sp>
        <p:nvSpPr>
          <p:cNvPr id="49" name="Выноска-облако 16"/>
          <p:cNvSpPr/>
          <p:nvPr/>
        </p:nvSpPr>
        <p:spPr>
          <a:xfrm flipH="1">
            <a:off x="5363280" y="476280"/>
            <a:ext cx="3816360" cy="1152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:\рабочий стол windows 7\0_43fc_932cd5d6_L.png"/>
          <p:cNvPicPr/>
          <p:nvPr/>
        </p:nvPicPr>
        <p:blipFill>
          <a:blip r:embed="rId5"/>
          <a:stretch/>
        </p:blipFill>
        <p:spPr>
          <a:xfrm>
            <a:off x="179280" y="1341360"/>
            <a:ext cx="1692360" cy="2670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6"/>
          <a:stretch/>
        </p:blipFill>
        <p:spPr>
          <a:xfrm>
            <a:off x="6673680" y="1628640"/>
            <a:ext cx="2470320" cy="3451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6559560" y="765000"/>
            <a:ext cx="1181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83-65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771640" y="378936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54" name="Овальная выноска 41"/>
          <p:cNvSpPr/>
          <p:nvPr/>
        </p:nvSpPr>
        <p:spPr>
          <a:xfrm>
            <a:off x="4498920" y="3284640"/>
            <a:ext cx="1513080" cy="830160"/>
          </a:xfrm>
          <a:prstGeom prst="wedgeEllipseCallout">
            <a:avLst>
              <a:gd name="adj1" fmla="val 50523"/>
              <a:gd name="adj2" fmla="val 50000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994280" y="342900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56" name="Овальная выноска 41"/>
          <p:cNvSpPr/>
          <p:nvPr/>
        </p:nvSpPr>
        <p:spPr>
          <a:xfrm>
            <a:off x="1187280" y="620640"/>
            <a:ext cx="151308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19280" y="765000"/>
            <a:ext cx="514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2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179280" y="3860640"/>
            <a:ext cx="2903760" cy="2997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Картинка 28 из 10733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028000" y="5661000"/>
            <a:ext cx="844560" cy="8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1 -0.00694 L 0.55451 -0.43727 E">
                                      <p:cBhvr>
                                        <p:cTn id="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2484360" y="1413000"/>
            <a:ext cx="2970360" cy="1143000"/>
            <a:chOff x="2484360" y="1413000"/>
            <a:chExt cx="2970360" cy="1143000"/>
          </a:xfrm>
        </p:grpSpPr>
        <p:sp>
          <p:nvSpPr>
            <p:cNvPr id="61" name="Облако 19"/>
            <p:cNvSpPr/>
            <p:nvPr/>
          </p:nvSpPr>
          <p:spPr>
            <a:xfrm>
              <a:off x="2627280" y="1413000"/>
              <a:ext cx="2827440" cy="1143000"/>
            </a:xfrm>
            <a:custGeom>
              <a:avLst/>
              <a:gdLst>
                <a:gd name="textAreaLeft" fmla="*/ 389520 w 2827440"/>
                <a:gd name="textAreaRight" fmla="*/ 2236680 w 2827440"/>
                <a:gd name="textAreaTop" fmla="*/ 172440 h 1143000"/>
                <a:gd name="textAreaBottom" fmla="*/ 917640 h 11430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dce6f2"/>
            </a:solidFill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Прямоугольник 20" descr=""/>
            <p:cNvPicPr/>
            <p:nvPr/>
          </p:nvPicPr>
          <p:blipFill>
            <a:blip r:embed="rId2"/>
            <a:stretch/>
          </p:blipFill>
          <p:spPr>
            <a:xfrm>
              <a:off x="2484360" y="1413000"/>
              <a:ext cx="2957760" cy="90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Овальная выноска 41"/>
          <p:cNvSpPr/>
          <p:nvPr/>
        </p:nvSpPr>
        <p:spPr>
          <a:xfrm>
            <a:off x="1258920" y="727200"/>
            <a:ext cx="151272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Выноска-облако 16"/>
          <p:cNvSpPr/>
          <p:nvPr/>
        </p:nvSpPr>
        <p:spPr>
          <a:xfrm flipH="1">
            <a:off x="4931640" y="547560"/>
            <a:ext cx="3816360" cy="115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5581800" y="3600360"/>
            <a:ext cx="2014560" cy="306864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22" descr=""/>
          <p:cNvPicPr/>
          <p:nvPr/>
        </p:nvPicPr>
        <p:blipFill>
          <a:blip r:embed="rId4"/>
          <a:stretch/>
        </p:blipFill>
        <p:spPr>
          <a:xfrm>
            <a:off x="5573880" y="693720"/>
            <a:ext cx="3352680" cy="1474920"/>
          </a:xfrm>
          <a:prstGeom prst="rect">
            <a:avLst/>
          </a:prstGeom>
          <a:ln w="0">
            <a:noFill/>
          </a:ln>
        </p:spPr>
      </p:pic>
      <p:sp>
        <p:nvSpPr>
          <p:cNvPr id="67" name="Выноска-облако 16"/>
          <p:cNvSpPr/>
          <p:nvPr/>
        </p:nvSpPr>
        <p:spPr>
          <a:xfrm flipH="1">
            <a:off x="5363280" y="476280"/>
            <a:ext cx="3816360" cy="1152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C:\рабочий стол windows 7\0_43fc_932cd5d6_L.png"/>
          <p:cNvPicPr/>
          <p:nvPr/>
        </p:nvPicPr>
        <p:blipFill>
          <a:blip r:embed="rId5"/>
          <a:stretch/>
        </p:blipFill>
        <p:spPr>
          <a:xfrm>
            <a:off x="179280" y="1341360"/>
            <a:ext cx="1692360" cy="2670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6"/>
          <a:stretch/>
        </p:blipFill>
        <p:spPr>
          <a:xfrm>
            <a:off x="6673680" y="1628640"/>
            <a:ext cx="2470320" cy="3451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559560" y="765000"/>
            <a:ext cx="1181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83-65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62200" y="87156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72" name="Овальная выноска 41"/>
          <p:cNvSpPr/>
          <p:nvPr/>
        </p:nvSpPr>
        <p:spPr>
          <a:xfrm>
            <a:off x="4498920" y="3284640"/>
            <a:ext cx="1513080" cy="830160"/>
          </a:xfrm>
          <a:prstGeom prst="wedgeEllipseCallout">
            <a:avLst>
              <a:gd name="adj1" fmla="val 50523"/>
              <a:gd name="adj2" fmla="val 50000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994280" y="342900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74" name="Овальная выноска 41"/>
          <p:cNvSpPr/>
          <p:nvPr/>
        </p:nvSpPr>
        <p:spPr>
          <a:xfrm>
            <a:off x="2411280" y="3716280"/>
            <a:ext cx="151308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43280" y="3860640"/>
            <a:ext cx="514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2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179280" y="3860640"/>
            <a:ext cx="2903760" cy="2997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Картинка 28 из 10733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028000" y="5661000"/>
            <a:ext cx="844560" cy="8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8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25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59259E-006 L 0.66146 -0.01065 E">
                                      <p:cBhvr>
                                        <p:cTn id="11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2484360" y="1413000"/>
            <a:ext cx="2970360" cy="1143000"/>
            <a:chOff x="2484360" y="1413000"/>
            <a:chExt cx="2970360" cy="1143000"/>
          </a:xfrm>
        </p:grpSpPr>
        <p:sp>
          <p:nvSpPr>
            <p:cNvPr id="79" name="Облако 19"/>
            <p:cNvSpPr/>
            <p:nvPr/>
          </p:nvSpPr>
          <p:spPr>
            <a:xfrm>
              <a:off x="2627280" y="1413000"/>
              <a:ext cx="2827440" cy="1143000"/>
            </a:xfrm>
            <a:custGeom>
              <a:avLst/>
              <a:gdLst>
                <a:gd name="textAreaLeft" fmla="*/ 389520 w 2827440"/>
                <a:gd name="textAreaRight" fmla="*/ 2236680 w 2827440"/>
                <a:gd name="textAreaTop" fmla="*/ 172440 h 1143000"/>
                <a:gd name="textAreaBottom" fmla="*/ 917640 h 11430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dce6f2"/>
            </a:solidFill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Прямоугольник 20" descr=""/>
            <p:cNvPicPr/>
            <p:nvPr/>
          </p:nvPicPr>
          <p:blipFill>
            <a:blip r:embed="rId2"/>
            <a:stretch/>
          </p:blipFill>
          <p:spPr>
            <a:xfrm>
              <a:off x="2484360" y="1413000"/>
              <a:ext cx="2957760" cy="90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Овальная выноска 41"/>
          <p:cNvSpPr/>
          <p:nvPr/>
        </p:nvSpPr>
        <p:spPr>
          <a:xfrm>
            <a:off x="4859280" y="2997360"/>
            <a:ext cx="1513080" cy="830160"/>
          </a:xfrm>
          <a:prstGeom prst="wedgeEllipseCallout">
            <a:avLst>
              <a:gd name="adj1" fmla="val 34787"/>
              <a:gd name="adj2" fmla="val 66444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Выноска-облако 16"/>
          <p:cNvSpPr/>
          <p:nvPr/>
        </p:nvSpPr>
        <p:spPr>
          <a:xfrm flipH="1">
            <a:off x="4931640" y="547560"/>
            <a:ext cx="3816360" cy="115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5796000" y="3500280"/>
            <a:ext cx="2014560" cy="306864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22" descr=""/>
          <p:cNvPicPr/>
          <p:nvPr/>
        </p:nvPicPr>
        <p:blipFill>
          <a:blip r:embed="rId4"/>
          <a:stretch/>
        </p:blipFill>
        <p:spPr>
          <a:xfrm>
            <a:off x="5573880" y="693720"/>
            <a:ext cx="3352680" cy="1474920"/>
          </a:xfrm>
          <a:prstGeom prst="rect">
            <a:avLst/>
          </a:prstGeom>
          <a:ln w="0">
            <a:noFill/>
          </a:ln>
        </p:spPr>
      </p:pic>
      <p:sp>
        <p:nvSpPr>
          <p:cNvPr id="85" name="Выноска-облако 16"/>
          <p:cNvSpPr/>
          <p:nvPr/>
        </p:nvSpPr>
        <p:spPr>
          <a:xfrm flipH="1">
            <a:off x="5363280" y="476280"/>
            <a:ext cx="3816360" cy="1152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C:\рабочий стол windows 7\0_43fc_932cd5d6_L.png"/>
          <p:cNvPicPr/>
          <p:nvPr/>
        </p:nvPicPr>
        <p:blipFill>
          <a:blip r:embed="rId5"/>
          <a:stretch/>
        </p:blipFill>
        <p:spPr>
          <a:xfrm>
            <a:off x="179280" y="1341360"/>
            <a:ext cx="1692360" cy="2670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6"/>
          <a:stretch/>
        </p:blipFill>
        <p:spPr>
          <a:xfrm>
            <a:off x="6673680" y="1628640"/>
            <a:ext cx="2470320" cy="3451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6559560" y="765000"/>
            <a:ext cx="1181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52+39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53200" y="3141720"/>
            <a:ext cx="51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9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90" name="Овальная выноска 41"/>
          <p:cNvSpPr/>
          <p:nvPr/>
        </p:nvSpPr>
        <p:spPr>
          <a:xfrm>
            <a:off x="2195640" y="3319560"/>
            <a:ext cx="1512720" cy="830160"/>
          </a:xfrm>
          <a:prstGeom prst="wedgeEllipseCallout">
            <a:avLst>
              <a:gd name="adj1" fmla="val -44333"/>
              <a:gd name="adj2" fmla="val 82888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690640" y="346392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8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92" name="Овальная выноска 41"/>
          <p:cNvSpPr/>
          <p:nvPr/>
        </p:nvSpPr>
        <p:spPr>
          <a:xfrm>
            <a:off x="1187280" y="620640"/>
            <a:ext cx="151308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619280" y="765000"/>
            <a:ext cx="514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2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179280" y="3860640"/>
            <a:ext cx="2903760" cy="2997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Картинка 28 из 10733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028000" y="5661000"/>
            <a:ext cx="844560" cy="8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4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3347E-006 L 0.2757 -0.35669 E">
                                      <p:cBhvr>
                                        <p:cTn id="170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484360" y="1413000"/>
            <a:ext cx="2970360" cy="1143000"/>
            <a:chOff x="2484360" y="1413000"/>
            <a:chExt cx="2970360" cy="1143000"/>
          </a:xfrm>
        </p:grpSpPr>
        <p:sp>
          <p:nvSpPr>
            <p:cNvPr id="97" name="Облако 19"/>
            <p:cNvSpPr/>
            <p:nvPr/>
          </p:nvSpPr>
          <p:spPr>
            <a:xfrm>
              <a:off x="2627280" y="1413000"/>
              <a:ext cx="2827440" cy="1143000"/>
            </a:xfrm>
            <a:custGeom>
              <a:avLst/>
              <a:gdLst>
                <a:gd name="textAreaLeft" fmla="*/ 389520 w 2827440"/>
                <a:gd name="textAreaRight" fmla="*/ 2236680 w 2827440"/>
                <a:gd name="textAreaTop" fmla="*/ 172440 h 1143000"/>
                <a:gd name="textAreaBottom" fmla="*/ 917640 h 11430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dce6f2"/>
            </a:solidFill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Прямоугольник 20" descr=""/>
            <p:cNvPicPr/>
            <p:nvPr/>
          </p:nvPicPr>
          <p:blipFill>
            <a:blip r:embed="rId2"/>
            <a:stretch/>
          </p:blipFill>
          <p:spPr>
            <a:xfrm>
              <a:off x="2484360" y="1413000"/>
              <a:ext cx="2957760" cy="90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Овальная выноска 41"/>
          <p:cNvSpPr/>
          <p:nvPr/>
        </p:nvSpPr>
        <p:spPr>
          <a:xfrm>
            <a:off x="1258920" y="692280"/>
            <a:ext cx="151272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Выноска-облако 16"/>
          <p:cNvSpPr/>
          <p:nvPr/>
        </p:nvSpPr>
        <p:spPr>
          <a:xfrm flipH="1">
            <a:off x="4931640" y="547560"/>
            <a:ext cx="3816360" cy="115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5581800" y="3600360"/>
            <a:ext cx="2014560" cy="306864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22" descr=""/>
          <p:cNvPicPr/>
          <p:nvPr/>
        </p:nvPicPr>
        <p:blipFill>
          <a:blip r:embed="rId4"/>
          <a:stretch/>
        </p:blipFill>
        <p:spPr>
          <a:xfrm>
            <a:off x="5573880" y="693720"/>
            <a:ext cx="3352680" cy="1474920"/>
          </a:xfrm>
          <a:prstGeom prst="rect">
            <a:avLst/>
          </a:prstGeom>
          <a:ln w="0">
            <a:noFill/>
          </a:ln>
        </p:spPr>
      </p:pic>
      <p:sp>
        <p:nvSpPr>
          <p:cNvPr id="103" name="Выноска-облако 16"/>
          <p:cNvSpPr/>
          <p:nvPr/>
        </p:nvSpPr>
        <p:spPr>
          <a:xfrm flipH="1">
            <a:off x="5363280" y="476280"/>
            <a:ext cx="3816360" cy="1152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C:\рабочий стол windows 7\0_43fc_932cd5d6_L.png"/>
          <p:cNvPicPr/>
          <p:nvPr/>
        </p:nvPicPr>
        <p:blipFill>
          <a:blip r:embed="rId5"/>
          <a:stretch/>
        </p:blipFill>
        <p:spPr>
          <a:xfrm>
            <a:off x="179280" y="1341360"/>
            <a:ext cx="1692360" cy="2670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6"/>
          <a:stretch/>
        </p:blipFill>
        <p:spPr>
          <a:xfrm>
            <a:off x="6673680" y="1628640"/>
            <a:ext cx="2470320" cy="3451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6559560" y="765000"/>
            <a:ext cx="1181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76-28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62200" y="87156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4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08" name="Овальная выноска 41"/>
          <p:cNvSpPr/>
          <p:nvPr/>
        </p:nvSpPr>
        <p:spPr>
          <a:xfrm>
            <a:off x="4498920" y="3284640"/>
            <a:ext cx="1513080" cy="830160"/>
          </a:xfrm>
          <a:prstGeom prst="wedgeEllipseCallout">
            <a:avLst>
              <a:gd name="adj1" fmla="val 50523"/>
              <a:gd name="adj2" fmla="val 50000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994280" y="342900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5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10" name="Овальная выноска 41"/>
          <p:cNvSpPr/>
          <p:nvPr/>
        </p:nvSpPr>
        <p:spPr>
          <a:xfrm>
            <a:off x="2411280" y="3716280"/>
            <a:ext cx="151308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843280" y="3860640"/>
            <a:ext cx="514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5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179280" y="3860640"/>
            <a:ext cx="2903760" cy="2997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Картинка 28 из 10733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028000" y="5661000"/>
            <a:ext cx="844560" cy="8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8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59259E-006 L 0.66146 -0.01065 E">
                                      <p:cBhvr>
                                        <p:cTn id="229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2484360" y="1413000"/>
            <a:ext cx="2970360" cy="1143000"/>
            <a:chOff x="2484360" y="1413000"/>
            <a:chExt cx="2970360" cy="1143000"/>
          </a:xfrm>
        </p:grpSpPr>
        <p:sp>
          <p:nvSpPr>
            <p:cNvPr id="115" name="Облако 19"/>
            <p:cNvSpPr/>
            <p:nvPr/>
          </p:nvSpPr>
          <p:spPr>
            <a:xfrm>
              <a:off x="2627280" y="1413000"/>
              <a:ext cx="2827440" cy="1143000"/>
            </a:xfrm>
            <a:custGeom>
              <a:avLst/>
              <a:gdLst>
                <a:gd name="textAreaLeft" fmla="*/ 389520 w 2827440"/>
                <a:gd name="textAreaRight" fmla="*/ 2236680 w 2827440"/>
                <a:gd name="textAreaTop" fmla="*/ 172440 h 1143000"/>
                <a:gd name="textAreaBottom" fmla="*/ 917640 h 11430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dce6f2"/>
            </a:solidFill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Прямоугольник 20" descr=""/>
            <p:cNvPicPr/>
            <p:nvPr/>
          </p:nvPicPr>
          <p:blipFill>
            <a:blip r:embed="rId2"/>
            <a:stretch/>
          </p:blipFill>
          <p:spPr>
            <a:xfrm>
              <a:off x="2484360" y="1413000"/>
              <a:ext cx="2957760" cy="90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Овальная выноска 41"/>
          <p:cNvSpPr/>
          <p:nvPr/>
        </p:nvSpPr>
        <p:spPr>
          <a:xfrm>
            <a:off x="2268360" y="3645000"/>
            <a:ext cx="151308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Выноска-облако 16"/>
          <p:cNvSpPr/>
          <p:nvPr/>
        </p:nvSpPr>
        <p:spPr>
          <a:xfrm flipH="1">
            <a:off x="4931640" y="547560"/>
            <a:ext cx="3816360" cy="115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5581800" y="3600360"/>
            <a:ext cx="2014560" cy="306864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22" descr=""/>
          <p:cNvPicPr/>
          <p:nvPr/>
        </p:nvPicPr>
        <p:blipFill>
          <a:blip r:embed="rId4"/>
          <a:stretch/>
        </p:blipFill>
        <p:spPr>
          <a:xfrm>
            <a:off x="5573880" y="693720"/>
            <a:ext cx="3352680" cy="1474920"/>
          </a:xfrm>
          <a:prstGeom prst="rect">
            <a:avLst/>
          </a:prstGeom>
          <a:ln w="0">
            <a:noFill/>
          </a:ln>
        </p:spPr>
      </p:pic>
      <p:sp>
        <p:nvSpPr>
          <p:cNvPr id="121" name="Выноска-облако 16"/>
          <p:cNvSpPr/>
          <p:nvPr/>
        </p:nvSpPr>
        <p:spPr>
          <a:xfrm flipH="1">
            <a:off x="5363280" y="476280"/>
            <a:ext cx="3816360" cy="1152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C:\рабочий стол windows 7\0_43fc_932cd5d6_L.png"/>
          <p:cNvPicPr/>
          <p:nvPr/>
        </p:nvPicPr>
        <p:blipFill>
          <a:blip r:embed="rId5"/>
          <a:stretch/>
        </p:blipFill>
        <p:spPr>
          <a:xfrm>
            <a:off x="179280" y="1341360"/>
            <a:ext cx="1692360" cy="2670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6"/>
          <a:stretch/>
        </p:blipFill>
        <p:spPr>
          <a:xfrm>
            <a:off x="6673680" y="1628640"/>
            <a:ext cx="2470320" cy="3451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6559560" y="765000"/>
            <a:ext cx="1181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76-69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771640" y="378936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26" name="Овальная выноска 41"/>
          <p:cNvSpPr/>
          <p:nvPr/>
        </p:nvSpPr>
        <p:spPr>
          <a:xfrm>
            <a:off x="4498920" y="3284640"/>
            <a:ext cx="1513080" cy="830160"/>
          </a:xfrm>
          <a:prstGeom prst="wedgeEllipseCallout">
            <a:avLst>
              <a:gd name="adj1" fmla="val 50523"/>
              <a:gd name="adj2" fmla="val 50000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994280" y="342900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28" name="Овальная выноска 41"/>
          <p:cNvSpPr/>
          <p:nvPr/>
        </p:nvSpPr>
        <p:spPr>
          <a:xfrm>
            <a:off x="1187280" y="620640"/>
            <a:ext cx="151308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619280" y="765000"/>
            <a:ext cx="514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179280" y="3860640"/>
            <a:ext cx="2903760" cy="2997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Картинка 28 из 10733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028000" y="5661000"/>
            <a:ext cx="844560" cy="8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51 -0.00694 L 0.55451 -0.43727 E">
                                      <p:cBhvr>
                                        <p:cTn id="24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6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7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2484360" y="1413000"/>
            <a:ext cx="2970360" cy="1143000"/>
            <a:chOff x="2484360" y="1413000"/>
            <a:chExt cx="2970360" cy="1143000"/>
          </a:xfrm>
        </p:grpSpPr>
        <p:sp>
          <p:nvSpPr>
            <p:cNvPr id="133" name="Облако 19"/>
            <p:cNvSpPr/>
            <p:nvPr/>
          </p:nvSpPr>
          <p:spPr>
            <a:xfrm>
              <a:off x="2627280" y="1413000"/>
              <a:ext cx="2827440" cy="1143000"/>
            </a:xfrm>
            <a:custGeom>
              <a:avLst/>
              <a:gdLst>
                <a:gd name="textAreaLeft" fmla="*/ 389520 w 2827440"/>
                <a:gd name="textAreaRight" fmla="*/ 2236680 w 2827440"/>
                <a:gd name="textAreaTop" fmla="*/ 172440 h 1143000"/>
                <a:gd name="textAreaBottom" fmla="*/ 917640 h 11430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dce6f2"/>
            </a:solidFill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Прямоугольник 20" descr=""/>
            <p:cNvPicPr/>
            <p:nvPr/>
          </p:nvPicPr>
          <p:blipFill>
            <a:blip r:embed="rId2"/>
            <a:stretch/>
          </p:blipFill>
          <p:spPr>
            <a:xfrm>
              <a:off x="2484360" y="1413000"/>
              <a:ext cx="2957760" cy="90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Овальная выноска 41"/>
          <p:cNvSpPr/>
          <p:nvPr/>
        </p:nvSpPr>
        <p:spPr>
          <a:xfrm>
            <a:off x="1258920" y="727200"/>
            <a:ext cx="151272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Выноска-облако 16"/>
          <p:cNvSpPr/>
          <p:nvPr/>
        </p:nvSpPr>
        <p:spPr>
          <a:xfrm flipH="1">
            <a:off x="4931640" y="547560"/>
            <a:ext cx="3816360" cy="115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3"/>
          <a:stretch/>
        </p:blipFill>
        <p:spPr>
          <a:xfrm>
            <a:off x="5581800" y="3600360"/>
            <a:ext cx="2014560" cy="306864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22" descr=""/>
          <p:cNvPicPr/>
          <p:nvPr/>
        </p:nvPicPr>
        <p:blipFill>
          <a:blip r:embed="rId4"/>
          <a:stretch/>
        </p:blipFill>
        <p:spPr>
          <a:xfrm>
            <a:off x="5573880" y="693720"/>
            <a:ext cx="3352680" cy="1474920"/>
          </a:xfrm>
          <a:prstGeom prst="rect">
            <a:avLst/>
          </a:prstGeom>
          <a:ln w="0">
            <a:noFill/>
          </a:ln>
        </p:spPr>
      </p:pic>
      <p:sp>
        <p:nvSpPr>
          <p:cNvPr id="139" name="Выноска-облако 16"/>
          <p:cNvSpPr/>
          <p:nvPr/>
        </p:nvSpPr>
        <p:spPr>
          <a:xfrm flipH="1">
            <a:off x="5363280" y="476280"/>
            <a:ext cx="3816360" cy="1152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C:\рабочий стол windows 7\0_43fc_932cd5d6_L.png"/>
          <p:cNvPicPr/>
          <p:nvPr/>
        </p:nvPicPr>
        <p:blipFill>
          <a:blip r:embed="rId5"/>
          <a:stretch/>
        </p:blipFill>
        <p:spPr>
          <a:xfrm>
            <a:off x="179280" y="1341360"/>
            <a:ext cx="1692360" cy="2670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6"/>
          <a:stretch/>
        </p:blipFill>
        <p:spPr>
          <a:xfrm>
            <a:off x="6673680" y="1628640"/>
            <a:ext cx="2470320" cy="3451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6559560" y="765000"/>
            <a:ext cx="1181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83-65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762200" y="87156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44" name="Овальная выноска 41"/>
          <p:cNvSpPr/>
          <p:nvPr/>
        </p:nvSpPr>
        <p:spPr>
          <a:xfrm>
            <a:off x="4498920" y="3284640"/>
            <a:ext cx="1513080" cy="830160"/>
          </a:xfrm>
          <a:prstGeom prst="wedgeEllipseCallout">
            <a:avLst>
              <a:gd name="adj1" fmla="val 50523"/>
              <a:gd name="adj2" fmla="val 50000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994280" y="342900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46" name="Овальная выноска 41"/>
          <p:cNvSpPr/>
          <p:nvPr/>
        </p:nvSpPr>
        <p:spPr>
          <a:xfrm>
            <a:off x="2411280" y="3716280"/>
            <a:ext cx="151308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843280" y="3860640"/>
            <a:ext cx="514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2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179280" y="3860640"/>
            <a:ext cx="2903760" cy="2997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Картинка 28 из 10733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028000" y="5661000"/>
            <a:ext cx="844560" cy="8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0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2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25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59259E-006 L 0.66146 -0.01065 E">
                                      <p:cBhvr>
                                        <p:cTn id="347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2484360" y="1413000"/>
            <a:ext cx="2970360" cy="1143000"/>
            <a:chOff x="2484360" y="1413000"/>
            <a:chExt cx="2970360" cy="1143000"/>
          </a:xfrm>
        </p:grpSpPr>
        <p:sp>
          <p:nvSpPr>
            <p:cNvPr id="151" name="Облако 19"/>
            <p:cNvSpPr/>
            <p:nvPr/>
          </p:nvSpPr>
          <p:spPr>
            <a:xfrm>
              <a:off x="2627280" y="1413000"/>
              <a:ext cx="2827440" cy="1143000"/>
            </a:xfrm>
            <a:custGeom>
              <a:avLst/>
              <a:gdLst>
                <a:gd name="textAreaLeft" fmla="*/ 389520 w 2827440"/>
                <a:gd name="textAreaRight" fmla="*/ 2236680 w 2827440"/>
                <a:gd name="textAreaTop" fmla="*/ 172440 h 1143000"/>
                <a:gd name="textAreaBottom" fmla="*/ 917640 h 11430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dce6f2"/>
            </a:solidFill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Прямоугольник 20" descr=""/>
            <p:cNvPicPr/>
            <p:nvPr/>
          </p:nvPicPr>
          <p:blipFill>
            <a:blip r:embed="rId2"/>
            <a:stretch/>
          </p:blipFill>
          <p:spPr>
            <a:xfrm>
              <a:off x="2484360" y="1413000"/>
              <a:ext cx="2957760" cy="90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Овальная выноска 41"/>
          <p:cNvSpPr/>
          <p:nvPr/>
        </p:nvSpPr>
        <p:spPr>
          <a:xfrm>
            <a:off x="4859280" y="2997360"/>
            <a:ext cx="1513080" cy="830160"/>
          </a:xfrm>
          <a:prstGeom prst="wedgeEllipseCallout">
            <a:avLst>
              <a:gd name="adj1" fmla="val 34787"/>
              <a:gd name="adj2" fmla="val 66444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Выноска-облако 16"/>
          <p:cNvSpPr/>
          <p:nvPr/>
        </p:nvSpPr>
        <p:spPr>
          <a:xfrm flipH="1">
            <a:off x="4931640" y="547560"/>
            <a:ext cx="3816360" cy="115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5796000" y="3500280"/>
            <a:ext cx="2014560" cy="306864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22" descr=""/>
          <p:cNvPicPr/>
          <p:nvPr/>
        </p:nvPicPr>
        <p:blipFill>
          <a:blip r:embed="rId4"/>
          <a:stretch/>
        </p:blipFill>
        <p:spPr>
          <a:xfrm>
            <a:off x="5573880" y="693720"/>
            <a:ext cx="3352680" cy="1474920"/>
          </a:xfrm>
          <a:prstGeom prst="rect">
            <a:avLst/>
          </a:prstGeom>
          <a:ln w="0">
            <a:noFill/>
          </a:ln>
        </p:spPr>
      </p:pic>
      <p:sp>
        <p:nvSpPr>
          <p:cNvPr id="157" name="Выноска-облако 16"/>
          <p:cNvSpPr/>
          <p:nvPr/>
        </p:nvSpPr>
        <p:spPr>
          <a:xfrm flipH="1">
            <a:off x="5363280" y="476280"/>
            <a:ext cx="3816360" cy="1152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8" descr="C:\рабочий стол windows 7\0_43fc_932cd5d6_L.png"/>
          <p:cNvPicPr/>
          <p:nvPr/>
        </p:nvPicPr>
        <p:blipFill>
          <a:blip r:embed="rId5"/>
          <a:stretch/>
        </p:blipFill>
        <p:spPr>
          <a:xfrm>
            <a:off x="179280" y="1341360"/>
            <a:ext cx="1692360" cy="2670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6"/>
          <a:stretch/>
        </p:blipFill>
        <p:spPr>
          <a:xfrm>
            <a:off x="6673680" y="1628640"/>
            <a:ext cx="2470320" cy="3451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6559560" y="765000"/>
            <a:ext cx="1181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58+16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353200" y="3141720"/>
            <a:ext cx="514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7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62" name="Овальная выноска 41"/>
          <p:cNvSpPr/>
          <p:nvPr/>
        </p:nvSpPr>
        <p:spPr>
          <a:xfrm>
            <a:off x="2195640" y="3319560"/>
            <a:ext cx="1512720" cy="830160"/>
          </a:xfrm>
          <a:prstGeom prst="wedgeEllipseCallout">
            <a:avLst>
              <a:gd name="adj1" fmla="val -44333"/>
              <a:gd name="adj2" fmla="val 82888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690640" y="346392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8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64" name="Овальная выноска 41"/>
          <p:cNvSpPr/>
          <p:nvPr/>
        </p:nvSpPr>
        <p:spPr>
          <a:xfrm>
            <a:off x="1187280" y="620640"/>
            <a:ext cx="151308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619280" y="765000"/>
            <a:ext cx="514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7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179280" y="3860640"/>
            <a:ext cx="2903760" cy="2997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Картинка 28 из 10733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028000" y="5661000"/>
            <a:ext cx="844560" cy="8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5" dur="indefinite" restart="never" nodeType="tmRoot">
          <p:childTnLst>
            <p:seq>
              <p:cTn id="356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6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25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500"/>
                            </p:stCondLst>
                            <p:childTnLst>
                              <p:par>
                                <p:cTn id="37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8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25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3347E-006 L 0.2757 -0.35669 E">
                                      <p:cBhvr>
                                        <p:cTn id="406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2484360" y="1413000"/>
            <a:ext cx="2970360" cy="1143000"/>
            <a:chOff x="2484360" y="1413000"/>
            <a:chExt cx="2970360" cy="1143000"/>
          </a:xfrm>
        </p:grpSpPr>
        <p:sp>
          <p:nvSpPr>
            <p:cNvPr id="169" name="Облако 19"/>
            <p:cNvSpPr/>
            <p:nvPr/>
          </p:nvSpPr>
          <p:spPr>
            <a:xfrm>
              <a:off x="2627280" y="1413000"/>
              <a:ext cx="2827440" cy="1143000"/>
            </a:xfrm>
            <a:custGeom>
              <a:avLst/>
              <a:gdLst>
                <a:gd name="textAreaLeft" fmla="*/ 389520 w 2827440"/>
                <a:gd name="textAreaRight" fmla="*/ 2236680 w 2827440"/>
                <a:gd name="textAreaTop" fmla="*/ 172440 h 1143000"/>
                <a:gd name="textAreaBottom" fmla="*/ 917640 h 11430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dce6f2"/>
            </a:solidFill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Прямоугольник 20" descr=""/>
            <p:cNvPicPr/>
            <p:nvPr/>
          </p:nvPicPr>
          <p:blipFill>
            <a:blip r:embed="rId2"/>
            <a:stretch/>
          </p:blipFill>
          <p:spPr>
            <a:xfrm>
              <a:off x="2484360" y="1413000"/>
              <a:ext cx="2957760" cy="90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Овальная выноска 41"/>
          <p:cNvSpPr/>
          <p:nvPr/>
        </p:nvSpPr>
        <p:spPr>
          <a:xfrm>
            <a:off x="1258920" y="692280"/>
            <a:ext cx="151272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Выноска-облако 16"/>
          <p:cNvSpPr/>
          <p:nvPr/>
        </p:nvSpPr>
        <p:spPr>
          <a:xfrm flipH="1">
            <a:off x="4931640" y="547560"/>
            <a:ext cx="3816360" cy="115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3"/>
          <a:stretch/>
        </p:blipFill>
        <p:spPr>
          <a:xfrm>
            <a:off x="5581800" y="3600360"/>
            <a:ext cx="2014560" cy="3068640"/>
          </a:xfrm>
          <a:prstGeom prst="rect">
            <a:avLst/>
          </a:prstGeom>
          <a:ln w="0">
            <a:noFill/>
          </a:ln>
        </p:spPr>
      </p:pic>
      <p:pic>
        <p:nvPicPr>
          <p:cNvPr id="174" name="Прямоугольник 22" descr=""/>
          <p:cNvPicPr/>
          <p:nvPr/>
        </p:nvPicPr>
        <p:blipFill>
          <a:blip r:embed="rId4"/>
          <a:stretch/>
        </p:blipFill>
        <p:spPr>
          <a:xfrm>
            <a:off x="5573880" y="693720"/>
            <a:ext cx="3352680" cy="1474920"/>
          </a:xfrm>
          <a:prstGeom prst="rect">
            <a:avLst/>
          </a:prstGeom>
          <a:ln w="0">
            <a:noFill/>
          </a:ln>
        </p:spPr>
      </p:pic>
      <p:sp>
        <p:nvSpPr>
          <p:cNvPr id="175" name="Выноска-облако 16"/>
          <p:cNvSpPr/>
          <p:nvPr/>
        </p:nvSpPr>
        <p:spPr>
          <a:xfrm flipH="1">
            <a:off x="5363280" y="476280"/>
            <a:ext cx="3816360" cy="1152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C:\рабочий стол windows 7\0_43fc_932cd5d6_L.png"/>
          <p:cNvPicPr/>
          <p:nvPr/>
        </p:nvPicPr>
        <p:blipFill>
          <a:blip r:embed="rId5"/>
          <a:stretch/>
        </p:blipFill>
        <p:spPr>
          <a:xfrm>
            <a:off x="179280" y="1341360"/>
            <a:ext cx="1692360" cy="2670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6"/>
          <a:stretch/>
        </p:blipFill>
        <p:spPr>
          <a:xfrm>
            <a:off x="6673680" y="1628640"/>
            <a:ext cx="2470320" cy="34513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6559560" y="765000"/>
            <a:ext cx="1181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44+14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762200" y="87156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5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80" name="Овальная выноска 41"/>
          <p:cNvSpPr/>
          <p:nvPr/>
        </p:nvSpPr>
        <p:spPr>
          <a:xfrm>
            <a:off x="4498920" y="3284640"/>
            <a:ext cx="1513080" cy="830160"/>
          </a:xfrm>
          <a:prstGeom prst="wedgeEllipseCallout">
            <a:avLst>
              <a:gd name="adj1" fmla="val 50523"/>
              <a:gd name="adj2" fmla="val 50000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994280" y="342900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6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82" name="Овальная выноска 41"/>
          <p:cNvSpPr/>
          <p:nvPr/>
        </p:nvSpPr>
        <p:spPr>
          <a:xfrm>
            <a:off x="2411280" y="3716280"/>
            <a:ext cx="1513080" cy="830160"/>
          </a:xfrm>
          <a:prstGeom prst="wedgeEllipseCallout">
            <a:avLst>
              <a:gd name="adj1" fmla="val -25027"/>
              <a:gd name="adj2" fmla="val 59175"/>
            </a:avLst>
          </a:prstGeom>
          <a:solidFill>
            <a:srgbClr val="fde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843280" y="3860640"/>
            <a:ext cx="514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5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179280" y="3860640"/>
            <a:ext cx="2903760" cy="2997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Картинка 28 из 10733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028000" y="5661000"/>
            <a:ext cx="844560" cy="8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2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25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remove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remove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25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500"/>
                            </p:stCondLst>
                            <p:childTnLst>
                              <p:par>
                                <p:cTn id="45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59259E-006 L 0.66146 -0.01065 E">
                                      <p:cBhvr>
                                        <p:cTn id="465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8T14:44:34Z</dcterms:created>
  <dc:creator>Миха</dc:creator>
  <dc:description/>
  <dc:language>en-US</dc:language>
  <cp:lastModifiedBy>Миха</cp:lastModifiedBy>
  <dcterms:modified xsi:type="dcterms:W3CDTF">2011-12-18T17:25:09Z</dcterms:modified>
  <cp:revision>4</cp:revision>
  <dc:subject/>
  <dc:title>Слайд 1</dc:title>
</cp:coreProperties>
</file>