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753-C19A-4223-8953-5B89907E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8C6-C781-47BC-9C91-1236E2FD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B1E-C4C9-40B0-B1A1-6D9B7900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5B9-5925-44C8-93EC-8357C403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026-E1BD-41A5-A9AC-5449AB78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E89-9019-45B5-9583-7A35E1D1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8A8-B77D-4CEC-8D06-111F6DC0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AA7-8B2C-45E6-BCBE-652E3F94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78D-0F4E-46C5-A004-6616F63A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702-2C02-4266-8FC0-529D2557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1F3-DBAF-4480-8D45-7AA32A60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35A-ADDB-466B-A16B-7037BD5A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8415-847D-4D37-A86F-1CCC072E2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2565360"/>
            <a:ext cx="4969080" cy="16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Винни - Пу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и его друз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187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Овальная выноска 41"/>
          <p:cNvSpPr/>
          <p:nvPr/>
        </p:nvSpPr>
        <p:spPr>
          <a:xfrm>
            <a:off x="4859280" y="2997360"/>
            <a:ext cx="1513080" cy="830160"/>
          </a:xfrm>
          <a:prstGeom prst="wedgeEllipseCallout">
            <a:avLst>
              <a:gd name="adj1" fmla="val 34787"/>
              <a:gd name="adj2" fmla="val 66444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93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9-40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53200" y="314172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98" name="Овальная выноска 41"/>
          <p:cNvSpPr/>
          <p:nvPr/>
        </p:nvSpPr>
        <p:spPr>
          <a:xfrm>
            <a:off x="2195640" y="3319560"/>
            <a:ext cx="1512720" cy="830160"/>
          </a:xfrm>
          <a:prstGeom prst="wedgeEllipseCallout">
            <a:avLst>
              <a:gd name="adj1" fmla="val -44333"/>
              <a:gd name="adj2" fmla="val 82888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690640" y="34639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00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3347E-006 L 0.2757 -0.35669 E">
                                      <p:cBhvr>
                                        <p:cTn id="524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205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Овальная выноска 41"/>
          <p:cNvSpPr/>
          <p:nvPr/>
        </p:nvSpPr>
        <p:spPr>
          <a:xfrm>
            <a:off x="2268360" y="364500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211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0-16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771640" y="3789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6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16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18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-0.00694 L 0.55451 -0.43727 E">
                                      <p:cBhvr>
                                        <p:cTn id="537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7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934000" cy="4098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843280" y="333360"/>
            <a:ext cx="3816360" cy="1943280"/>
          </a:xfrm>
          <a:prstGeom prst="wedgeEllipseCallout">
            <a:avLst>
              <a:gd name="adj1" fmla="val 62273"/>
              <a:gd name="adj2" fmla="val 74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19640" y="765000"/>
            <a:ext cx="273672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 игр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25" name="Picture 8" descr="C:\рабочий стол windows 7\0_43fc_932cd5d6_L.png"/>
          <p:cNvPicPr/>
          <p:nvPr/>
        </p:nvPicPr>
        <p:blipFill>
          <a:blip r:embed="rId3"/>
          <a:stretch/>
        </p:blipFill>
        <p:spPr>
          <a:xfrm>
            <a:off x="179280" y="213372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332000" y="3645000"/>
            <a:ext cx="2903400" cy="2997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5"/>
          <a:stretch/>
        </p:blipFill>
        <p:spPr>
          <a:xfrm>
            <a:off x="4356000" y="2781360"/>
            <a:ext cx="201456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43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Овальная выноска 41"/>
          <p:cNvSpPr/>
          <p:nvPr/>
        </p:nvSpPr>
        <p:spPr>
          <a:xfrm>
            <a:off x="2268360" y="364500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49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3-65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1640" y="3789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54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56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-0.00694 L 0.55451 -0.43727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61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Овальная выноска 41"/>
          <p:cNvSpPr/>
          <p:nvPr/>
        </p:nvSpPr>
        <p:spPr>
          <a:xfrm>
            <a:off x="1258920" y="727200"/>
            <a:ext cx="151272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67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3-65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2200" y="8715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72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74" name="Овальная выноска 41"/>
          <p:cNvSpPr/>
          <p:nvPr/>
        </p:nvSpPr>
        <p:spPr>
          <a:xfrm>
            <a:off x="2411280" y="371628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43280" y="386064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66146 -0.01065 E">
                                      <p:cBhvr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79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Овальная выноска 41"/>
          <p:cNvSpPr/>
          <p:nvPr/>
        </p:nvSpPr>
        <p:spPr>
          <a:xfrm>
            <a:off x="4859280" y="2997360"/>
            <a:ext cx="1513080" cy="830160"/>
          </a:xfrm>
          <a:prstGeom prst="wedgeEllipseCallout">
            <a:avLst>
              <a:gd name="adj1" fmla="val 34787"/>
              <a:gd name="adj2" fmla="val 66444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85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2+39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53200" y="314172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9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90" name="Овальная выноска 41"/>
          <p:cNvSpPr/>
          <p:nvPr/>
        </p:nvSpPr>
        <p:spPr>
          <a:xfrm>
            <a:off x="2195640" y="3319560"/>
            <a:ext cx="1512720" cy="830160"/>
          </a:xfrm>
          <a:prstGeom prst="wedgeEllipseCallout">
            <a:avLst>
              <a:gd name="adj1" fmla="val -44333"/>
              <a:gd name="adj2" fmla="val 82888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690640" y="34639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92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3347E-006 L 0.2757 -0.35669 E">
                                      <p:cBhvr>
                                        <p:cTn id="17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97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Овальная выноска 41"/>
          <p:cNvSpPr/>
          <p:nvPr/>
        </p:nvSpPr>
        <p:spPr>
          <a:xfrm>
            <a:off x="1258920" y="692280"/>
            <a:ext cx="151272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03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6-28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62200" y="8715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08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10" name="Овальная выноска 41"/>
          <p:cNvSpPr/>
          <p:nvPr/>
        </p:nvSpPr>
        <p:spPr>
          <a:xfrm>
            <a:off x="2411280" y="371628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43280" y="386064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66146 -0.01065 E">
                                      <p:cBhvr>
                                        <p:cTn id="22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115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Овальная выноска 41"/>
          <p:cNvSpPr/>
          <p:nvPr/>
        </p:nvSpPr>
        <p:spPr>
          <a:xfrm>
            <a:off x="2268360" y="364500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21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6-69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71640" y="3789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26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28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-0.00694 L 0.55451 -0.43727 E">
                                      <p:cBhvr>
                                        <p:cTn id="24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133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Овальная выноска 41"/>
          <p:cNvSpPr/>
          <p:nvPr/>
        </p:nvSpPr>
        <p:spPr>
          <a:xfrm>
            <a:off x="1258920" y="727200"/>
            <a:ext cx="151272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39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3-65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62200" y="8715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44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46" name="Овальная выноска 41"/>
          <p:cNvSpPr/>
          <p:nvPr/>
        </p:nvSpPr>
        <p:spPr>
          <a:xfrm>
            <a:off x="2411280" y="371628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43280" y="386064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66146 -0.01065 E">
                                      <p:cBhvr>
                                        <p:cTn id="34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151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Овальная выноска 41"/>
          <p:cNvSpPr/>
          <p:nvPr/>
        </p:nvSpPr>
        <p:spPr>
          <a:xfrm>
            <a:off x="4859280" y="2997360"/>
            <a:ext cx="1513080" cy="830160"/>
          </a:xfrm>
          <a:prstGeom prst="wedgeEllipseCallout">
            <a:avLst>
              <a:gd name="adj1" fmla="val 34787"/>
              <a:gd name="adj2" fmla="val 66444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57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8+16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53200" y="314172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62" name="Овальная выноска 41"/>
          <p:cNvSpPr/>
          <p:nvPr/>
        </p:nvSpPr>
        <p:spPr>
          <a:xfrm>
            <a:off x="2195640" y="3319560"/>
            <a:ext cx="1512720" cy="830160"/>
          </a:xfrm>
          <a:prstGeom prst="wedgeEllipseCallout">
            <a:avLst>
              <a:gd name="adj1" fmla="val -44333"/>
              <a:gd name="adj2" fmla="val 82888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90640" y="34639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64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3347E-006 L 0.2757 -0.35669 E">
                                      <p:cBhvr>
                                        <p:cTn id="406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169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Овальная выноска 41"/>
          <p:cNvSpPr/>
          <p:nvPr/>
        </p:nvSpPr>
        <p:spPr>
          <a:xfrm>
            <a:off x="1258920" y="692280"/>
            <a:ext cx="151272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44+14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62200" y="8715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80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6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82" name="Овальная выноска 41"/>
          <p:cNvSpPr/>
          <p:nvPr/>
        </p:nvSpPr>
        <p:spPr>
          <a:xfrm>
            <a:off x="2411280" y="371628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843280" y="386064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66146 -0.01065 E">
                                      <p:cBhvr>
                                        <p:cTn id="46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14:44:34Z</dcterms:created>
  <dc:creator>Миха</dc:creator>
  <dc:description/>
  <dc:language>en-US</dc:language>
  <cp:lastModifiedBy>Миха</cp:lastModifiedBy>
  <dcterms:modified xsi:type="dcterms:W3CDTF">2011-12-18T17:25:09Z</dcterms:modified>
  <cp:revision>4</cp:revision>
  <dc:subject/>
  <dc:title>Слайд 1</dc:title>
</cp:coreProperties>
</file>