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B60-5B12-43D1-886D-79A0D95E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922-995E-4536-912F-3491847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3EF-B41A-473B-9727-A98E8C63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A99-FE56-4DEF-BD56-2785B645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763-C95A-4ED4-BD51-9C753743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712D-3CB4-4F2F-BA7D-3D7D036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CA1D-570C-4160-A249-2B4ED395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1252-1244-4BA0-88B9-786C7087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9C02-6045-4B2A-A1C4-431FCEB3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819F-9AC4-40F1-8F4C-63727871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E00F-BF44-4BCA-8D2F-80FB3CF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55C-F9F6-4C94-818C-3F5F1A6F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043C-A745-4061-90EA-DFBE285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76C-FD4B-4BAE-AF3D-02C05A22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DF5-2901-43FC-9F80-0BC52B42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3007-BD56-4629-BC21-5B2FF1AB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1D24-CB72-48F7-BD44-8E0E8194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4C87-98ED-48EC-92C3-92A0B61B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F1BA-8D7B-4DAE-97D2-1116E59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13D8-2E07-4225-BB2D-21BA80ED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0DB0-BCA6-49FF-B89E-2909792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622B-2C08-4C0B-8DFC-11A339F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9A2-3CD2-415D-B6FD-85B3AF1D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E8DB-E092-450E-A5BC-766D0C3C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FE9F-4933-4052-97B6-B79E89B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6A80-156D-4CC4-937E-EF58370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9AFE-A357-4E03-9271-92A3CB9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90FA-55EF-4A00-8A27-4716760D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89B6-AC5A-49FA-BBB9-3BE417A6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3B71-6EB0-434E-AB73-4B7364FE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0AA9-C2E8-4397-882D-A459F5BB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702C-B746-4D34-A49F-ED202A9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42CE-98B6-45DE-B620-0C1B618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15A-2868-4836-B162-71DC2AB9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4C5D-A25E-4A1F-BD0A-854564B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C6A6-A63E-4D7D-B2C1-FDAF35D7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9654-8BE7-4D8C-9853-BAD1219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2EE5-AB78-43F9-B263-A22F3A1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C64B-335C-4773-834E-D7D98B1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1A49-8771-432A-890F-B5900BD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6468-054B-43AC-87EB-D3966C09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2494-233B-4DF9-8818-B73B6C98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AD1A-419B-4ABD-B0D2-A5653791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695EB-ECD5-413E-8A2B-6A403564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4A8-482D-40B9-AC55-4318448A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B70E0-A708-4B0F-9ECD-A1D6B89F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9F61-461C-47F5-A995-4CF69594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05D14-DD45-40D2-9B83-9B1D788D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7B240-2F17-4C32-A8CC-F5AE2613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25D2A-3ADC-4B22-B6AA-C0BDE596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4B755-D6FA-4099-A99A-623E4ECA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9D3F2-107E-44AF-9772-8685C00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3D02A-7C09-4D3D-A2A0-6B479CB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013DE-984E-4E30-81B3-3032A872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12C25-7B46-45DC-8946-5EEEDFB6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F38-2AAF-4E8F-9F2E-6C2E61A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7A10-8E15-4459-BCC2-B81EF981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FBB84-2680-45B9-A8EB-E9426B74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EF54-F301-464B-9E46-2E2A9ADC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B334B-444C-4886-BF79-2F2A839D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FE103-2F19-4ED4-A539-A35DA162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BD5F-95CA-4041-B664-936AB3F2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DE139-8A84-401F-8366-CFC30EB5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4D62-772B-4023-8A7D-E46485E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62A88-DF8A-4CA0-9C48-1F4BB5C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6AB5F-DD40-4F99-BF21-8518F8F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DED-CD03-4E62-BAF8-C3E942C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BD17-555B-4AD2-BA2C-8A592DFD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32F3B-9C23-4D25-B7C1-8D7D7951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BBD6D-B001-41CC-844C-03511FBE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42F9-F27F-41E6-B19F-D014943B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EEED-54F0-4267-B8F3-02EBCAF4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38E1-2D3A-4612-806A-9D898B0B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00B2D-CF75-4C24-A917-B54F1446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692D-5D4B-4F17-9D73-5BF689EE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8783A-C103-4000-9BE7-F9202DD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E7E24-1881-4540-92A8-37168CA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51D-1094-46E9-AD3F-E138912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DC39-C43B-4694-B597-FCA6BB73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BB4D-BBA2-4C3B-BEAF-394EE480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48AAC-1651-4C85-9D3F-D611FC41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DB25-016D-420A-8000-9EFF152B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8E9F-C346-4AB9-A28C-E2E23BAB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5A6-F7BD-4B07-BF56-49AC98D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890B-C8D9-4248-A978-3983DA84FA3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3037-03C8-43D8-8A68-A2A2C3810D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AA3E-DD42-4350-ACF6-F5BF0CCF01F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038-2087-4526-9B17-5930DF6D93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553-E800-45D2-913D-CA2FB828A8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0E2-A4C8-4E2B-ADFF-0DDF16E0F4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2165-B9DE-48C2-80DB-FFDBE9227E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2920" y="4149360"/>
            <a:ext cx="7263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Метод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изучения семьи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C:\Users\User\Downloads\f76a101963c7f1285080584c085b0193thumb640x480.jpg"/>
          <p:cNvPicPr/>
          <p:nvPr/>
        </p:nvPicPr>
        <p:blipFill>
          <a:blip r:embed="rId1"/>
          <a:stretch/>
        </p:blipFill>
        <p:spPr>
          <a:xfrm>
            <a:off x="1763640" y="692280"/>
            <a:ext cx="6096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Метод наблюд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Учитель наблюдает за родителями во время посещения семьи, на классном собрании, в коллективных делах. Наблюдение за детьми может дать учителю дополнительный материал для характеристики семьи. Например, учитель заметил, что ученик сторонится детских коллективных дел, не ходит с ребятами на мероприятия, отказывается от общественных поручений. Такое поведение ученика насторожит учителя и заставит его познакомиться с семь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857160" y="0"/>
            <a:ext cx="8429760" cy="7143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Метод бесед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Этот метод помогает  учителю уточнить отдельные положения, выяснить обстоятельства, разъясняющие или обосновывающие поведение или поступок ребенка. Беседа помогает проникнуть вглубь явления, обнажить основу поступка, выяснить его мотив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ллективная беседа на классном собрании при решении педагогических задач помогает учителю выяснить мнение родителей по отдельным вопросам воспитани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Темы для проведения бесед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чало школьного обучения – важный этап в жизни ребенка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ние уважения и любви к родителям, родной земле и истории своего народа (по национальному воспитанию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ладший школьный возраст и его особеннос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Хочу и должен (по профилактике правонарушений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ак выявлять и развивать способности дете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здание атмосферы эмоциональной защищенности, тепла и любви в семь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гра и труд в жизни детей младшего школьного возраста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ние характера ребенка в семь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жим для младшего школьника как способ охраны здоровь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акон, семья, ребенок (нравственное и правовое воспитание детей в семье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тцы и дети (роль личного примера родителей в правовом воспитании младших школьников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овое в системе национального воспитани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спользование различных видов искусств в эстетическом воспитании детей в школ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емейные прогулки в природу, как важный фактор экологического и физического воспитания дете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хранение семейных традиций, семейных реликви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999720" y="0"/>
            <a:ext cx="8286840" cy="7143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Метод сочинение</a:t>
            </a:r>
            <a:r>
              <a:rPr b="0" lang="ru-RU" sz="20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чинения как метод изучения учитель применяет в тех случаях, когда желает получить подробные, неоднозначные ответы на отдельные вопросы. Например, на одном из классных собраний можно поговорить с родителями о том, как надо намечать перспективу в воспитании ребенка, подумать о его завтрашнем дне. Для этого можно попросить родителей написать сочинение на тему: </a:t>
            </a:r>
            <a:r>
              <a:rPr b="0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аким бы я хотела (хотел) видеть своего сына (дочь) к окончанию школы?» </a:t>
            </a: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Хороший сын (дочь), по-моему, это...?», «Как мы отдыхаем в выходные дни?», «Как провели лето?», «Наша любимая книга в семье?», «Как мы провели свободное время с детьми?»</a:t>
            </a: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и д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Users\Vladimir\Documents\img2ebde1f2e4c6c75a16ec4eaafe30497d.jpeg"/>
          <p:cNvPicPr/>
          <p:nvPr/>
        </p:nvPicPr>
        <p:blipFill>
          <a:blip r:embed="rId1"/>
          <a:stretch/>
        </p:blipFill>
        <p:spPr>
          <a:xfrm>
            <a:off x="3000240" y="3643200"/>
            <a:ext cx="6143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16000" y="189000"/>
            <a:ext cx="78184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й науке используют разнообразные методы изучения семьи как социального феномена и воспитательного института. К ним относят: социологические методы (беседы, тестирование, анкетирование, опросы). В процессе их проведения учителя встречаются со многими трудностями в изучении семьи, которые ограничивают получение достаточно объективных данных об особенностях домашнего воспита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 изучая семью, опыт семейного воспитания, должен преследовать, прежде всего, интересы ребенка. 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Users\User\Downloads\happy-family-with-cheap-health-insurance.jpg"/>
          <p:cNvPicPr/>
          <p:nvPr/>
        </p:nvPicPr>
        <p:blipFill>
          <a:blip r:embed="rId1"/>
          <a:stretch/>
        </p:blipFill>
        <p:spPr>
          <a:xfrm>
            <a:off x="2214720" y="3357720"/>
            <a:ext cx="51260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10920" y="234900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C:\Users\User\Downloads\4269318_6b53311b.gif"/>
          <p:cNvPicPr/>
          <p:nvPr/>
        </p:nvPicPr>
        <p:blipFill>
          <a:blip r:embed="rId1"/>
          <a:stretch/>
        </p:blipFill>
        <p:spPr>
          <a:xfrm>
            <a:off x="6224760" y="4365720"/>
            <a:ext cx="22287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0e04"/>
                </a:solidFill>
                <a:latin typeface="Monotype Corsiva"/>
              </a:rPr>
              <a:t>Каждая семья представляет явление особое, индивидуальное, и воспитательная работа в одной семье вовсе не должна быть точной копией такой же работы в другой. А.С.Макаренк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Users\Vladimir\Documents\seminar.jpg"/>
          <p:cNvPicPr/>
          <p:nvPr/>
        </p:nvPicPr>
        <p:blipFill>
          <a:blip r:embed="rId1"/>
          <a:stretch/>
        </p:blipFill>
        <p:spPr>
          <a:xfrm>
            <a:off x="2428920" y="2071800"/>
            <a:ext cx="565776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260280"/>
            <a:ext cx="7499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емья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организованную социальную группу, члены которой связаны общностью быта, взаимной моральной ответственностью и социальной необходимостью, которая обусловлена потребностью общества в физическом и духовном самовоспроизводств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5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C:\Users\User\Downloads\health_insurance_providers.jpg"/>
          <p:cNvPicPr/>
          <p:nvPr/>
        </p:nvPicPr>
        <p:blipFill>
          <a:blip r:embed="rId1"/>
          <a:stretch/>
        </p:blipFill>
        <p:spPr>
          <a:xfrm>
            <a:off x="1547640" y="3357720"/>
            <a:ext cx="6667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187280" y="189000"/>
            <a:ext cx="77472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Среди методов изучения семьи достаточно распространенными стали социологические методы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нкетирование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аблюдение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еседа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чинение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Метод анкетирования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(письменный опрос) позволяет собрать много данных, интересующих учителя. Этот метод отличается известной гибкостью по возможности получения и обработке полученного материала. Используются разные виды проведения анкетирования: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онтактное (сам учитель организует анкетирование и собирает опросные лист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очное (в основе - корреспондентские связи, анкеты с инструкциями рассылаются родителям, а потом возвращаются к учителю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Ф.И.О. учащегося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_________домашний  адрес 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.И.О. мамы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работы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без аббревиатуры, полностью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ость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бочий № телефона____________________Сотовый № телефона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разование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незаконченное среднее, среднее, средне-специальное, средне – техническое, высшее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________________________________________________________________________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.И.О. папы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работы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без аббревиатуры, полностью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ость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бочий № телефона_____________________Сотовый № телефона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разование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незаконченное среднее, среднее, средне-специальное, средне – техническое, высшее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________________________________________________________________________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Сведения о других членах семьи </a:t>
            </a:r>
            <a:r>
              <a:rPr b="1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братья, сёстры учащегося)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Ф.И.О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учёбы / работы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Ф.И.О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учёбы / работы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Ф.И.О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учёбы / работы__________________________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Социальный статус семьи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полная, неполная, многодетная, малообеспеченная, опекунская, работающие родители, родители – пенсионеры)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</a:t>
            </a:r>
            <a:r>
              <a:rPr b="1" lang="ru-RU" sz="14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нужное подчеркну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Материальное положение семьи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крайне низкое, ниже среднего, среднее, достаточно высокое, высокое)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</a:t>
            </a:r>
            <a:r>
              <a:rPr b="1" lang="ru-RU" sz="14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нужное подчеркну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Какие кружки посещает ребёнок?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8. Какие кружки планирует посещать ребёнок в 1 классе?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–опросник 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 Какими словами вы обычно встречаете ребёнка, вернувшегося из школы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"Что было сегодня на завтрак?"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"Что ты сегодня получил, какую отметку?"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"Что нового сегодня узнал? Чему научился?"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колько времени тратит школьник на приготовление домашних заданий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Не более 1 час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Не более 2 час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Может просидеть за уроками до позднего вечер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какой мере самостоятельно ребёнок выполняет домашние задания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Работает преимущественно сам, вы только проверяете работ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Задания по одним предметам выполняет самостоятельно, по другим — нуждается в дополнительной помощи с вашей стор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Вы делаете уроки вместе с ребёнком от начала до конц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Насколько хорошо ребёнок понимает ваши объяснения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Понимает быстро, вы легко можете объяснить ему любой материа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Понимает не всегда, иногда приходится тратить много времени и сил для объяснения очевидног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Практически никогда вас не понима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Лучше понимает объяснения других родственников (отца, бабушки и др.), чем ваш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ак вы думаете, почему ваш ребёнок ходит в школу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Ему нравится учиться, он любит думать, самостоятельно решать трудные задач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Ему интересно узнавать в школе ново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Любит получать хорошие отметк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Все ходят в школу, и он ходи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Боится, что будет наказан, если не пойдет в школ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Другой отв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–опросник  для родителей (продолжение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ак вы думаете, почему ваш ребёнок ходит в школу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Ему нравится учиться, он любит думать, самостоятельно решать трудные задач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Ему интересно узнавать в школе ново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Любит получать хорошие отметк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Все ходят в школу, и он ходи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Боится, что будет наказан, если не пойдет в школ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Другой отв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Как ваш ребёнок сообщает дома о полученной "двойке"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Говорит сам, по-деловому и откровенн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Рассказывает о "двойке", только если специально об этом спросить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Не говорит, прячет дневник, может стереть отметк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Рассказывает только бабушке (дедушке), но не ва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Он никогда "двоек" не получа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Есть ли у вашего ребёнка любимый школьный предмет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Есть, особенно любит математику; считает, что математика развивает у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Есть несколько в равной мере предпочитаемых предметов (среди них называет и математику, и русский язык, и чтение, и иностранный язык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Любимые предметы: музыка и ИЗО (или физкультура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Другой отв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C:\Users\Vladimir\Documents\1369875080_picture-13992.jpg"/>
          <p:cNvPicPr/>
          <p:nvPr/>
        </p:nvPicPr>
        <p:blipFill>
          <a:blip r:embed="rId1"/>
          <a:stretch/>
        </p:blipFill>
        <p:spPr>
          <a:xfrm>
            <a:off x="2857680" y="4286160"/>
            <a:ext cx="4357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- опросник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Стили воспитания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Когда ребенок вас не слушается, вы обычно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кричите на него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разговариваете, уговаривает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не реагируете на его оправдания, молчит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можете изби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даете подзатыльник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пытаетесь объяснить, что он не прав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ж) другое (что именно) 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Часто ли в стрессовом состоянии вы можете «разрядиться» на своем ребенке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да, часто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иногд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трудно сказа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никогд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другое (что именно)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Укажите причину, когда вам приходится кричать, угрожать, бить ребенка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стремление воспита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«разрядка» стрессовой ситуации, не зависящей от ребенк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ссора с супругой (супругом)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когда он чего-то требует, просит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когда огорчает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избиение ради избиения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ж) желание убедить его в своей точке зрения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) не могу объясни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) другое (что именно)_______________________________________________________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- опросник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Стили воспитания» (продолжение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Появлялось ли иногда у вас желание избить ребенка, выгнать его из дома, запереть в темной комнате (подчеркните)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д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нет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иногд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трудно сказа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другое (что именно)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акой вид наказания вы выбираете при тяжелых провинностях ребенка?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Когда вы сами были ребенком и не слушались родителей, они чаще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кричали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пытались убелить, уговори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молчал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били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пугали избиением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другое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Опишите ситуацию радости, праздника в доме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C:\Users\Vladimir\Documents\semja.jpg"/>
          <p:cNvPicPr/>
          <p:nvPr/>
        </p:nvPicPr>
        <p:blipFill>
          <a:blip r:embed="rId1"/>
          <a:stretch/>
        </p:blipFill>
        <p:spPr>
          <a:xfrm>
            <a:off x="1785960" y="4857840"/>
            <a:ext cx="5572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51:58Z</dcterms:created>
  <dc:creator>User</dc:creator>
  <dc:description/>
  <dc:language>en-US</dc:language>
  <cp:lastModifiedBy>Алсу</cp:lastModifiedBy>
  <dcterms:modified xsi:type="dcterms:W3CDTF">2023-11-13T17:00:11Z</dcterms:modified>
  <cp:revision>25</cp:revision>
  <dc:subject/>
  <dc:title>Методы  изучения  семьи</dc:title>
</cp:coreProperties>
</file>