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89F-44B2-4857-8059-F00DDD2E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C8E-8747-4EFE-AFF9-97FCDC6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CE3-701E-4687-A02B-79537665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A432-F1DF-4C0F-BDCE-4E651683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02F3-798D-4450-9650-C9B86E7D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40C1-0120-40ED-80A1-3C8C8E23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D7A7-BFA8-4596-8610-7530A819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39C3-F320-4B59-9087-B876D48F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258F-07F3-4409-ABDF-EC57736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6259-1E76-41D3-859E-28F3F34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B932-1315-4B24-8849-AD4A8AF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6BCA-FE4B-4751-8732-3B3D4D55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C033-EDE7-4DEE-9F08-260C2A3F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8233-0DE2-480B-9B84-E54B30C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2F8F-C234-409E-9A5F-6C8D7512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CA0A-2841-48F7-AAF0-D30081EA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DE86-157F-4873-A902-CBE18CDC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0855E-4B71-488F-84E9-4E4895E9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BE35-0F3A-4116-ACA8-27DABD3A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9C685-636A-4849-9E4B-AE2EB0D0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D375-B369-4D12-B06C-76F08E30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88AE6-38FB-4A8A-A5D0-3BD8B543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F9B-FB0C-4E69-99D1-8BFAE719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B489A-255C-4A33-AB5A-340182A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01C9B-89F7-447A-A5D6-A9899F62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0C09-8E14-441D-9A2B-60954FA1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40FFB-B04F-4D26-BCA6-280D024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10F7-C4DA-44D9-ACCB-48F0E9BE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DFA8-5FD7-403C-A8A3-4A185E3C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B6B9A-E677-4F00-8862-F15D0E74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B6FBD-E072-4017-A000-F09FF34F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C5E5-BF23-49AC-A408-337B956F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107D-39EA-49F7-BBE7-214E57C4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5C3-C49D-421F-9FEC-56BE4326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4214-4972-48A3-9976-1A1D78B7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A687-472B-400E-B999-9C9140A5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9ACD-4F76-4B64-A87C-453B4E1F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30C8-9EA8-4141-A180-810C5FF3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2AE5-968A-45DB-894B-6280F27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0F94-AEF0-41FF-BD4C-521935E9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1FB45-5223-42E5-8756-D1F5352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4FF03-3108-46CE-A113-EB6DDFFF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43EA-5D1E-4606-894F-1DBBFAB1F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C1636-79B7-4763-9033-E83AB9C7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2D2-96ED-46E4-B1E8-C7461E5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23C7F-9144-4294-B428-E42827D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CFF5-9BAE-49BA-8C17-4E0D7E8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2D69-C5F9-4CCA-9842-21D69752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F1086-F56B-4418-9909-56967B10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495B-B908-4D9A-8E4D-583C4EE5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02E5C-63DC-4258-AB0D-1CFC322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788F7-C17D-4998-B01B-1B64687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64C1-EC2B-463A-B91F-511C3CDA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2251-EA4A-44B5-92F4-77259FA7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914C-2127-47C7-AF22-3BF89FD7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7D7-3EB7-4C6A-8000-17496882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F817-41F0-4D0B-9FC7-59565217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A8C4-10FC-44DA-805D-6BD95262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B7CB2-C49B-4EBC-8A63-63B1167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E1E2A-2E37-4EA0-9983-349318A4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C97C6-2F0F-414F-99FD-60A67A4E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73D15-87E8-4C19-A9E7-9527DEA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85AE-DF46-4035-822E-5EDB3681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E9B0-E9A5-42B7-B194-1F9A76E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CE33-DB9E-4B44-B020-3F3F2E08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31631-5007-4F60-9883-D28AC0A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22B-D8E5-4F60-8D84-35CA17A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3FD7A-DDA2-46FD-91EC-BBC4891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EDE7C-8A39-4911-9E3B-3330D7B4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1C621-32E0-40B9-8DB4-96CD5237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674B6-B219-49F2-86AA-C047EA24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1A145-1920-4075-8520-FB444D5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B2F4-8AAE-4546-80A5-A3F323C5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023B2-CACB-4E97-954D-B92396CE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3931C-522A-4089-99CC-BF89797E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B02F-BF96-484C-812B-5FD68E1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A5A2E-6991-48F9-8D17-38A2A46E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419-9A30-48DD-99D2-FC2FE67F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8ADE1-C1C5-4552-A8FC-F88C837B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F347-1B52-4942-80A8-0525F09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25503-2BB0-4FF1-9281-CD5470A2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EB06E-A582-4C02-A005-FC6A85D3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98D47-0DD0-466D-A799-6DD0B4B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0AD-7DD4-4C6B-95DB-8CD806A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C498-8EE8-4158-9899-2D6AF1EFC94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F31D-A58C-4D73-9CC3-714521E3C90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1C08-0050-4BD6-B654-553E62BF9C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7C1-E5FB-4EB3-BFEB-10BAA5B091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27E-A9B0-4A23-90ED-15864B876BD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7FA2-3089-45D6-8BC6-1DE3D0C051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6CF4-E59A-4B1E-92A2-B21D3684F0F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2920" y="4149360"/>
            <a:ext cx="7263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Методы </a:t>
            </a:r>
            <a:br>
              <a:rPr sz="6600"/>
            </a:br>
            <a:r>
              <a:rPr b="1" i="1" lang="ru-RU" sz="6600" spc="-1" strike="noStrike">
                <a:solidFill>
                  <a:srgbClr val="572314"/>
                </a:solidFill>
                <a:latin typeface="Corbel"/>
              </a:rPr>
              <a:t>изучения семьи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C:\Users\User\Downloads\f76a101963c7f1285080584c085b0193thumb640x480.jpg"/>
          <p:cNvPicPr/>
          <p:nvPr/>
        </p:nvPicPr>
        <p:blipFill>
          <a:blip r:embed="rId1"/>
          <a:stretch/>
        </p:blipFill>
        <p:spPr>
          <a:xfrm>
            <a:off x="1763640" y="692280"/>
            <a:ext cx="60962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наблюд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e04"/>
                </a:solidFill>
                <a:latin typeface="Corbel"/>
              </a:rPr>
              <a:t>Учитель наблюдает за родителями во время посещения семьи, на классном собрании, в коллективных делах. Наблюдение за детьми может дать учителю дополнительный материал для характеристики семьи. Например, учитель заметил, что ученик сторонится детских коллективных дел, не ходит с ребятами на мероприятия, отказывается от общественных поручений. Такое поведение ученика насторожит учителя и заставит его познакомиться с семь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857160" y="0"/>
            <a:ext cx="8429760" cy="7143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беседа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Этот метод помогает  учителю уточнить отдельные положения, выяснить обстоятельства, разъясняющие или обосновывающие поведение или поступок ребенка. Беседа помогает проникнуть вглубь явления, обнажить основу поступка, выяснить его мотив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ллективная беседа на классном собрании при решении педагогических задач помогает учителю выяснить мнение родителей по отдельным вопросам воспита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Темы для проведения бесед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чало школьного обучения – важный этап в жизни ребенк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ние уважения и любви к родителям, родной земле и истории своего народа (по национальному воспитанию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ладший школьный возраст и его особенности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Хочу и должен (по профилактике правонарушений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ак выявлять и развивать способности дете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здание атмосферы эмоциональной защищенности, тепла и любви в семь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гра и труд в жизни детей младшего школьного возраста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ние характера ребенка в семь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ля младшего школьника как способ охраны здоровь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акон, семья, ребенок (нравственное и правовое воспитание детей в семье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тцы и дети (роль личного примера родителей в правовом воспитании младших школьников)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ое в системе национального воспитания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спользование различных видов искусств в эстетическом воспитании детей в школе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емейные прогулки в природу, как важный фактор экологического и физического воспитания дете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buClr>
                <a:srgbClr val="3891a7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хранение семейных традиций, семейных реликвий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99720" y="0"/>
            <a:ext cx="8286840" cy="7143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Метод сочинение</a:t>
            </a:r>
            <a:r>
              <a:rPr b="0" lang="ru-RU" sz="20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чинения как метод изучения учитель применяет в тех случаях, когда желает получить подробные, неоднозначные ответы на отдельные вопросы. Например, на одном из классных собраний можно поговорить с родителями о том, как надо намечать перспективу в воспитании ребенка, подумать о его завтрашнем дне. Для этого можно попросить родителей написать сочинение на тему: </a:t>
            </a:r>
            <a:r>
              <a:rPr b="0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аким бы я хотела (хотел) видеть своего сына (дочь) к окончанию школы?» 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ли </a:t>
            </a:r>
            <a:r>
              <a:rPr b="0" i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Хороший сын (дочь), по-моему, это...?», «Как мы отдыхаем в выходные дни?», «Как провели лето?», «Наша любимая книга в семье?», «Как мы провели свободное время с детьми?»</a:t>
            </a: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Picture 2" descr="C:\Users\Vladimir\Documents\img2ebde1f2e4c6c75a16ec4eaafe30497d.jpeg"/>
          <p:cNvPicPr/>
          <p:nvPr/>
        </p:nvPicPr>
        <p:blipFill>
          <a:blip r:embed="rId1"/>
          <a:stretch/>
        </p:blipFill>
        <p:spPr>
          <a:xfrm>
            <a:off x="3000240" y="3643200"/>
            <a:ext cx="61437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16000" y="189000"/>
            <a:ext cx="78184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временной науке используют разнообразные методы изучения семьи как социального феномена и воспитательного института. К ним относят: социологические методы (беседы, тестирование, анкетирование, опросы). В процессе их проведения учителя встречаются со многими трудностями в изучении семьи, которые ограничивают получение достаточно объективных данных об особенностях домашнего воспитани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, изучая семью, опыт семейного воспитания, должен преследовать, прежде всего, интересы ребенка. 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Users\User\Downloads\happy-family-with-cheap-health-insurance.jpg"/>
          <p:cNvPicPr/>
          <p:nvPr/>
        </p:nvPicPr>
        <p:blipFill>
          <a:blip r:embed="rId1"/>
          <a:stretch/>
        </p:blipFill>
        <p:spPr>
          <a:xfrm>
            <a:off x="2214720" y="3357720"/>
            <a:ext cx="51260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410920" y="234900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пасибо за внимание!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Picture 2" descr="C:\Users\User\Downloads\4269318_6b53311b.gif"/>
          <p:cNvPicPr/>
          <p:nvPr/>
        </p:nvPicPr>
        <p:blipFill>
          <a:blip r:embed="rId1"/>
          <a:stretch/>
        </p:blipFill>
        <p:spPr>
          <a:xfrm>
            <a:off x="6224760" y="4365720"/>
            <a:ext cx="22287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0e04"/>
                </a:solidFill>
                <a:latin typeface="Monotype Corsiva"/>
              </a:rPr>
              <a:t>Каждая семья представляет явление особое, индивидуальное, и воспитательная работа в одной семье вовсе не должна быть точной копией такой же работы в другой. А.С.Макаренко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C:\Users\Vladimir\Documents\seminar.jpg"/>
          <p:cNvPicPr/>
          <p:nvPr/>
        </p:nvPicPr>
        <p:blipFill>
          <a:blip r:embed="rId1"/>
          <a:stretch/>
        </p:blipFill>
        <p:spPr>
          <a:xfrm>
            <a:off x="2428920" y="2071800"/>
            <a:ext cx="565776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434960" y="260280"/>
            <a:ext cx="749952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емья </a:t>
            </a:r>
            <a:r>
              <a:rPr b="0" i="1" lang="ru-RU" sz="2800" spc="-1" strike="noStrike">
                <a:solidFill>
                  <a:srgbClr val="000000"/>
                </a:solidFill>
                <a:latin typeface="Corbel"/>
              </a:rPr>
              <a:t>представляет собой организованную социальную группу, члены которой связаны общностью быта, взаимной моральной ответственностью и социальной необходимостью, которая обусловлена потребностью общества в физическом и духовном самовоспроизводств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75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2" descr="C:\Users\User\Downloads\health_insurance_providers.jpg"/>
          <p:cNvPicPr/>
          <p:nvPr/>
        </p:nvPicPr>
        <p:blipFill>
          <a:blip r:embed="rId1"/>
          <a:stretch/>
        </p:blipFill>
        <p:spPr>
          <a:xfrm>
            <a:off x="1547640" y="3357720"/>
            <a:ext cx="66675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187280" y="189000"/>
            <a:ext cx="77472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orbel"/>
              </a:rPr>
              <a:t>Среди методов изучения семьи достаточно распространенными стали социологические методы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Анкетирование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Наблюдение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Бесед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Сочинение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Метод анкетирования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(письменный опрос) позволяет собрать много данных, интересующих учителя. Этот метод отличается известной гибкостью по возможности получения и обработке полученного материала. Используются разные виды проведения анкетирования: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контактное (сам учитель организует анкетирование и собирает опросные лист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очное (в основе - корреспондентские связи, анкеты с инструкциями рассылаются родителям, а потом возвращаются к учителю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Ф.И.О. учащегося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_________домашний  адрес 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.И.О. мамы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работы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ез аббревиатуры, полностью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ость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бочий № телефона____________________Сотовый № телефона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разование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незаконченное среднее, среднее, средне-специальное, средне – техническое, высшее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________________________________________________________________________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Сведения о родителях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.И.О. папы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работы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ез аббревиатуры, полностью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ость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бочий № телефона_____________________Сотовый № телефона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разование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незаконченное среднее, среднее, средне-специальное, средне – техническое, высшее)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________________________________________________________________________  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ведения о других членах семьи </a:t>
            </a:r>
            <a:r>
              <a:rPr b="1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братья, сёстры учащегося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Ф.И.О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ата рождения________________Место учёбы / работы__________________________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Социальный статус семьи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полная, неполная, многодетная, малообеспеченная, опекунская, работающие родители, родители – пенсионеры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</a:t>
            </a:r>
            <a:r>
              <a:rPr b="1" lang="ru-RU" sz="14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нужное подчеркну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Материальное положение семьи </a:t>
            </a:r>
            <a:r>
              <a:rPr b="0" i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(крайне низкое, ниже среднего, среднее, достаточно высокое, высокое)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</a:t>
            </a:r>
            <a:r>
              <a:rPr b="1" lang="ru-RU" sz="14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нужное подчеркнуть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Какие кружки посещает ребёнок?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Какие кружки планирует посещать ребёнок в 1 классе?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–опросник 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. Какими словами вы обычно встречаете ребёнка, вернувшегося из школы: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"Что было сегодня на завтрак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"Что ты сегодня получил, какую отметку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"Что нового сегодня узнал? Чему научился?"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колько времени тратит школьник на приготовление домашних заданий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Не более 1 час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Не более 2 час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Может просидеть за уроками до позднего вечер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какой мере самостоятельно ребёнок выполняет домашние задания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Работает преимущественно сам, вы только проверяете работ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Задания по одним предметам выполняет самостоятельно, по другим — нуждается в дополнительной помощи с вашей стор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Вы делаете уроки вместе с ребёнком от начала до конца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Насколько хорошо ребёнок понимает ваши объяснения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Понимает быстро, вы легко можете объяснить ему любой материа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Понимает не всегда, иногда приходится тратить много времени и сил для объяснения очевидног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Практически никогда вас не понима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Лучше понимает объяснения других родственников (отца, бабушки и др.), чем ваш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 вы думаете, почему ваш ребёнок ходит в школу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му нравится учиться, он любит думать, самостоятельно решать трудные задач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му интересно узнавать в школе ново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т получать хорошие отметк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Все ходят в школу, и он ходи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Боится, что будет наказан, если не пойдет в школ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–опросник  для родителей (продолжение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 вы думаете, почему ваш ребёнок ходит в школу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му нравится учиться, он любит думать, самостоятельно решать трудные задач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му интересно узнавать в школе новое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т получать хорошие отметк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Все ходят в школу, и он ходи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Боится, что будет наказан, если не пойдет в школ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Как ваш ребёнок сообщает дома о полученной "двойке"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Говорит сам, по-деловому и откровенно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Рассказывает о "двойке", только если специально об этом спросить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Не говорит, прячет дневник, может стереть отметку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Рассказывает только бабушке (дедушке), но не ва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Он никогда "двоек" не получал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Есть ли у вашего ребёнка любимый школьный предмет?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Есть, особенно любит математику; считает, что математика развивает ум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Есть несколько в равной мере предпочитаемых предметов (среди них называет и математику, и русский язык, и чтение, и иностранный язык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Любимые предметы: музыка и ИЗО (или физкультура)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Другой ответ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2" descr="C:\Users\Vladimir\Documents\1369875080_picture-13992.jpg"/>
          <p:cNvPicPr/>
          <p:nvPr/>
        </p:nvPicPr>
        <p:blipFill>
          <a:blip r:embed="rId1"/>
          <a:stretch/>
        </p:blipFill>
        <p:spPr>
          <a:xfrm>
            <a:off x="2857680" y="4286160"/>
            <a:ext cx="4357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- опросник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Стили воспитания»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огда ребенок вас не слушается, вы обычно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кричите на него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разговариваете, уговаривает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не реагируете на его оправдания, молчит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можете изб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аете подзатыльник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пытаетесь объяснить, что он не прав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ж) другое (что именно) 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Часто ли в стрессовом состоянии вы можете «разрядиться» на своем ребенке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да, часто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ин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трудно сказ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ник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ругое (что именно)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Укажите причину, когда вам приходится кричать, угрожать, бить ребе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стремление воспит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«разрядка» стрессовой ситуации, не зависящей от ребен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ссора с супругой (супругом)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когда он чего-то требует, проси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когда огорчае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избиение ради избиения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ж) желание убедить его в своей точке зрения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) не могу объясн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и) другое (что именно)_______________________________________________________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000080" y="0"/>
            <a:ext cx="8143920" cy="6858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нкета - опросник для родителей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Стили воспитания» (продолжение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Появлялось ли иногда у вас желание избить ребенка, выгнать его из дома, запереть в темной комнате (подчеркните)?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да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нет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иногд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трудно сказа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другое (что именно)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акой вид наказания вы выбираете при тяжелых провинностях ребенка?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Когда вы сами были ребенком и не слушались родителей, они чаще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а) кричали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) пытались убелить, уговорить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) молчали;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) били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) пугали избиением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е) другое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Опишите ситуацию радости, праздника в доме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_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C:\Users\Vladimir\Documents\semja.jpg"/>
          <p:cNvPicPr/>
          <p:nvPr/>
        </p:nvPicPr>
        <p:blipFill>
          <a:blip r:embed="rId1"/>
          <a:stretch/>
        </p:blipFill>
        <p:spPr>
          <a:xfrm>
            <a:off x="1785960" y="4857840"/>
            <a:ext cx="5572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6:51:58Z</dcterms:created>
  <dc:creator>User</dc:creator>
  <dc:description/>
  <dc:language>en-US</dc:language>
  <cp:lastModifiedBy>Алсу</cp:lastModifiedBy>
  <dcterms:modified xsi:type="dcterms:W3CDTF">2023-11-13T17:00:11Z</dcterms:modified>
  <cp:revision>25</cp:revision>
  <dc:subject/>
  <dc:title>Методы  изучения  семьи</dc:title>
</cp:coreProperties>
</file>