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912-6BDD-4685-9877-8A6CFC36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AB2-1D45-4331-86A4-D0859A6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2DE-858F-405B-A2AA-626D0149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F20-2568-485A-89BE-85A12529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724-FA54-40D4-9BE6-F7C9E896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A6A-D974-472F-B202-A88D24BA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07F-E224-46BB-A81D-0360C4E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F20-47BB-453A-A2B1-168BB4F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604-4598-4F36-BFF9-2861E72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160-35EC-47CF-8BD0-968A99E0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A48-9FF5-462B-8762-F4EC5D3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0F8-86E2-43AC-B1C0-A75AC90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AE57-B5FC-4D64-8AEE-80C9B215A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Предпосылки 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Петровских рефор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82880" y="5730480"/>
            <a:ext cx="3560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дготовил: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имонов К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читель истории МБОУ СОШ №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валификационная катег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орис Морозов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590 – 16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0653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43280" y="1052640"/>
            <a:ext cx="59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пытка проведения налоговой реформы по европейскому образцу – замена прямого налогообложени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свенными налог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В несколько раз были повышены цены на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о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которую простое население не могло купить.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48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Москве произоше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оляной бу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6527880" cy="38908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фанасий Ордин-Нащоки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05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117520" cy="2664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0360" y="1557360"/>
            <a:ext cx="6119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л государственную службу в армии, затем перешел на дипломатическую служ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6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писал союзный договор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урля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8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подписал перемирие со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ве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7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писа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ндрусовско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мирие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фанасий Ордин-Нащоки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05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11788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836640"/>
            <a:ext cx="612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5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ал основателем первого русского банка в Пскове («Земская изб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9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пытка создания военно-морского флота (единственный корабль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Орел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ыл уничтожен во время восстания Степана 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7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инят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Новоторговый устав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отменил льготы иностранцам и передал их русским купц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ановил почтовую связь между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осквой, Вильно и Р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6551640" cy="4375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rcRect l="1101" t="1334" r="22522" b="296"/>
          <a:stretch/>
        </p:blipFill>
        <p:spPr>
          <a:xfrm>
            <a:off x="2771640" y="620640"/>
            <a:ext cx="5718240" cy="604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7708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2940120"/>
            <a:ext cx="2841480" cy="110880"/>
          </a:xfrm>
          <a:custGeom>
            <a:avLst/>
            <a:gdLst/>
            <a:ahLst/>
            <a:rect l="l" t="t" r="r" b="b"/>
            <a:pathLst>
              <a:path w="1790" h="70">
                <a:moveTo>
                  <a:pt x="1790" y="9"/>
                </a:moveTo>
                <a:cubicBezTo>
                  <a:pt x="1651" y="19"/>
                  <a:pt x="1512" y="23"/>
                  <a:pt x="1374" y="36"/>
                </a:cubicBezTo>
                <a:cubicBezTo>
                  <a:pt x="955" y="18"/>
                  <a:pt x="527" y="70"/>
                  <a:pt x="115" y="0"/>
                </a:cubicBezTo>
                <a:cubicBezTo>
                  <a:pt x="89" y="3"/>
                  <a:pt x="62" y="5"/>
                  <a:pt x="36" y="9"/>
                </a:cubicBezTo>
                <a:cubicBezTo>
                  <a:pt x="24" y="11"/>
                  <a:pt x="0" y="18"/>
                  <a:pt x="0" y="1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1640" y="2017800"/>
            <a:ext cx="130320" cy="981000"/>
          </a:xfrm>
          <a:custGeom>
            <a:avLst/>
            <a:gdLst/>
            <a:ahLst/>
            <a:rect l="l" t="t" r="r" b="b"/>
            <a:pathLst>
              <a:path w="82" h="618">
                <a:moveTo>
                  <a:pt x="33" y="618"/>
                </a:moveTo>
                <a:cubicBezTo>
                  <a:pt x="7" y="546"/>
                  <a:pt x="0" y="361"/>
                  <a:pt x="67" y="296"/>
                </a:cubicBezTo>
                <a:cubicBezTo>
                  <a:pt x="72" y="247"/>
                  <a:pt x="82" y="208"/>
                  <a:pt x="67" y="161"/>
                </a:cubicBezTo>
                <a:cubicBezTo>
                  <a:pt x="59" y="138"/>
                  <a:pt x="28" y="108"/>
                  <a:pt x="24" y="84"/>
                </a:cubicBezTo>
                <a:cubicBezTo>
                  <a:pt x="20" y="56"/>
                  <a:pt x="24" y="28"/>
                  <a:pt x="24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3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4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6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7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7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101" t="1334" r="22522" b="296"/>
          <a:stretch/>
        </p:blipFill>
        <p:spPr>
          <a:xfrm>
            <a:off x="2771640" y="620640"/>
            <a:ext cx="5718240" cy="604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87708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51440" y="2940120"/>
            <a:ext cx="2841480" cy="110880"/>
          </a:xfrm>
          <a:custGeom>
            <a:avLst/>
            <a:gdLst/>
            <a:ahLst/>
            <a:rect l="l" t="t" r="r" b="b"/>
            <a:pathLst>
              <a:path w="1790" h="70">
                <a:moveTo>
                  <a:pt x="1790" y="9"/>
                </a:moveTo>
                <a:cubicBezTo>
                  <a:pt x="1651" y="19"/>
                  <a:pt x="1512" y="23"/>
                  <a:pt x="1374" y="36"/>
                </a:cubicBezTo>
                <a:cubicBezTo>
                  <a:pt x="955" y="18"/>
                  <a:pt x="527" y="70"/>
                  <a:pt x="115" y="0"/>
                </a:cubicBezTo>
                <a:cubicBezTo>
                  <a:pt x="89" y="3"/>
                  <a:pt x="62" y="5"/>
                  <a:pt x="36" y="9"/>
                </a:cubicBezTo>
                <a:cubicBezTo>
                  <a:pt x="24" y="11"/>
                  <a:pt x="0" y="18"/>
                  <a:pt x="0" y="1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1640" y="2017800"/>
            <a:ext cx="130320" cy="981000"/>
          </a:xfrm>
          <a:custGeom>
            <a:avLst/>
            <a:gdLst/>
            <a:ahLst/>
            <a:rect l="l" t="t" r="r" b="b"/>
            <a:pathLst>
              <a:path w="82" h="618">
                <a:moveTo>
                  <a:pt x="33" y="618"/>
                </a:moveTo>
                <a:cubicBezTo>
                  <a:pt x="7" y="546"/>
                  <a:pt x="0" y="361"/>
                  <a:pt x="67" y="296"/>
                </a:cubicBezTo>
                <a:cubicBezTo>
                  <a:pt x="72" y="247"/>
                  <a:pt x="82" y="208"/>
                  <a:pt x="67" y="161"/>
                </a:cubicBezTo>
                <a:cubicBezTo>
                  <a:pt x="59" y="138"/>
                  <a:pt x="28" y="108"/>
                  <a:pt x="24" y="84"/>
                </a:cubicBezTo>
                <a:cubicBezTo>
                  <a:pt x="20" y="56"/>
                  <a:pt x="24" y="28"/>
                  <a:pt x="24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силий Голицы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43 – 17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07936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24360" y="692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1197000"/>
            <a:ext cx="6192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87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Москве открыта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лавяно-греко-латинская акад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нена смертная казнь за возмутительные слова против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равление нравов подданных (польская одежда, танцы мазурка и полонез, иностранные язы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3171600" cy="46818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68360" y="522936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7301"/>
                </a:moveTo>
                <a:lnTo>
                  <a:pt x="10819" y="7301"/>
                </a:lnTo>
                <a:lnTo>
                  <a:pt x="11202" y="7667"/>
                </a:lnTo>
                <a:lnTo>
                  <a:pt x="20411" y="7667"/>
                </a:lnTo>
                <a:lnTo>
                  <a:pt x="20968" y="8224"/>
                </a:lnTo>
                <a:lnTo>
                  <a:pt x="20968" y="8772"/>
                </a:lnTo>
                <a:lnTo>
                  <a:pt x="22813" y="8772"/>
                </a:lnTo>
                <a:lnTo>
                  <a:pt x="23179" y="8224"/>
                </a:lnTo>
                <a:lnTo>
                  <a:pt x="23919" y="8224"/>
                </a:lnTo>
                <a:lnTo>
                  <a:pt x="23919" y="13376"/>
                </a:lnTo>
                <a:lnTo>
                  <a:pt x="23179" y="13376"/>
                </a:lnTo>
                <a:lnTo>
                  <a:pt x="22813" y="12828"/>
                </a:lnTo>
                <a:lnTo>
                  <a:pt x="20968" y="12828"/>
                </a:lnTo>
                <a:lnTo>
                  <a:pt x="20968" y="14107"/>
                </a:lnTo>
                <a:lnTo>
                  <a:pt x="11385" y="14107"/>
                </a:lnTo>
                <a:lnTo>
                  <a:pt x="11385" y="9877"/>
                </a:lnTo>
                <a:lnTo>
                  <a:pt x="11202" y="9877"/>
                </a:lnTo>
                <a:lnTo>
                  <a:pt x="10819" y="10243"/>
                </a:lnTo>
                <a:lnTo>
                  <a:pt x="9906" y="1024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ло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22936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7301"/>
                </a:moveTo>
                <a:lnTo>
                  <a:pt x="10858" y="7301"/>
                </a:lnTo>
                <a:lnTo>
                  <a:pt x="11241" y="7667"/>
                </a:lnTo>
                <a:lnTo>
                  <a:pt x="20449" y="7667"/>
                </a:lnTo>
                <a:lnTo>
                  <a:pt x="21006" y="8224"/>
                </a:lnTo>
                <a:lnTo>
                  <a:pt x="21006" y="8772"/>
                </a:lnTo>
                <a:lnTo>
                  <a:pt x="22852" y="8772"/>
                </a:lnTo>
                <a:lnTo>
                  <a:pt x="23217" y="8224"/>
                </a:lnTo>
                <a:lnTo>
                  <a:pt x="23957" y="8224"/>
                </a:lnTo>
                <a:lnTo>
                  <a:pt x="23957" y="13376"/>
                </a:lnTo>
                <a:lnTo>
                  <a:pt x="23217" y="13376"/>
                </a:lnTo>
                <a:lnTo>
                  <a:pt x="22852" y="12828"/>
                </a:lnTo>
                <a:lnTo>
                  <a:pt x="21006" y="12828"/>
                </a:lnTo>
                <a:lnTo>
                  <a:pt x="21006" y="14107"/>
                </a:lnTo>
                <a:lnTo>
                  <a:pt x="11424" y="14107"/>
                </a:lnTo>
                <a:lnTo>
                  <a:pt x="11424" y="9877"/>
                </a:lnTo>
                <a:lnTo>
                  <a:pt x="11241" y="9877"/>
                </a:lnTo>
                <a:lnTo>
                  <a:pt x="10858" y="10243"/>
                </a:lnTo>
                <a:lnTo>
                  <a:pt x="9944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зу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25360"/>
            <a:ext cx="8207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Предпосылк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это предварительное условие, начальный  пункт чего-нибуд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Экономические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341360"/>
            <a:ext cx="8353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ставание России от стран Европы и  угроза  потери самосто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ло складывания всероссийского рынка и уменьшение экономической разобщенности район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ход от ремесленно-цехового производства к мануфактурному с использованием элементов наемного труда и простейших мех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341360"/>
            <a:ext cx="83534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нденция к абсолютизации верховной власти (ликвидация деятельности Земских соборов как сословно-представительных органов), включение в царский титул слов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"самодержец"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еорганизация и совершенствование вооруженных с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острение классовой борьбы и неспособность власти справиться с крестьянскими восст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341360"/>
            <a:ext cx="8353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формление общегосударственного законодательства (Соборное Уложение 1649) с учетом европейских законод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ло консолидации различных групп феодалов (бояре, помещики) в единый класс –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ворянств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силение роли городских верхов – купечества и владельцев мануфа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34136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268280"/>
            <a:ext cx="856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явление национально-консервативного и западнического течений (влияние Европы, реформы Нико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силение влияния Европы на Ро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имеон Полоцкий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29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342880" cy="29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43280" y="549360"/>
            <a:ext cx="5976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амуил Петровск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ыходец из Белору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иево-Могилянскую акаде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6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игся в монахи, приняв им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им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л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Богоявленском монастыр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лоц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365720"/>
            <a:ext cx="828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л высокими нравственными  качест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нимался обучением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сал сти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л за объединение русского, белорусского и украинского народов под властью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7640" y="1125360"/>
            <a:ext cx="5761080" cy="4287960"/>
            <a:chOff x="2987640" y="1125360"/>
            <a:chExt cx="5761080" cy="42879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987640" y="1125360"/>
              <a:ext cx="5761080" cy="4287960"/>
            </a:xfrm>
            <a:prstGeom prst="rect">
              <a:avLst/>
            </a:prstGeom>
            <a:ln w="28440">
              <a:solidFill>
                <a:srgbClr val="cc0000"/>
              </a:solidFill>
              <a:miter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rcRect l="13088" t="33034" r="17517" b="16101"/>
            <a:stretch/>
          </p:blipFill>
          <p:spPr>
            <a:xfrm>
              <a:off x="2987640" y="1125360"/>
              <a:ext cx="1327320" cy="1440000"/>
            </a:xfrm>
            <a:prstGeom prst="rect">
              <a:avLst/>
            </a:prstGeom>
            <a:ln w="28440">
              <a:solidFill>
                <a:srgbClr val="cc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имеон Полоцкий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29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342880" cy="29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836640"/>
            <a:ext cx="590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4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приглашен в Москву и назначен учителем молодых служащих Приказа Тайных дел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иконоспасском монасты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л первым в России придворным поэтом, восхваляя царскую фамилию и самодерж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4398" r="0" b="0"/>
          <a:stretch/>
        </p:blipFill>
        <p:spPr>
          <a:xfrm>
            <a:off x="5940360" y="2421000"/>
            <a:ext cx="2952720" cy="424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5940360" y="2492280"/>
            <a:ext cx="2913120" cy="4368240"/>
            <a:chOff x="5940360" y="2492280"/>
            <a:chExt cx="2913120" cy="43682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5940360" y="2492280"/>
              <a:ext cx="2913120" cy="436572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sp>
          <p:nvSpPr>
            <p:cNvPr id="66" name=""/>
            <p:cNvSpPr/>
            <p:nvPr/>
          </p:nvSpPr>
          <p:spPr>
            <a:xfrm>
              <a:off x="6227640" y="6340320"/>
              <a:ext cx="2376720" cy="52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Благоприветствие царю Алексею Михайлович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12000" y="2421000"/>
            <a:ext cx="2903400" cy="4103640"/>
            <a:chOff x="6012000" y="2421000"/>
            <a:chExt cx="2903400" cy="4103640"/>
          </a:xfrm>
        </p:grpSpPr>
        <p:pic>
          <p:nvPicPr>
            <p:cNvPr id="68" name="" descr=""/>
            <p:cNvPicPr/>
            <p:nvPr/>
          </p:nvPicPr>
          <p:blipFill>
            <a:blip r:embed="rId4"/>
            <a:srcRect l="0" t="0" r="0" b="-16282"/>
            <a:stretch/>
          </p:blipFill>
          <p:spPr>
            <a:xfrm>
              <a:off x="6012000" y="2421000"/>
              <a:ext cx="2903400" cy="410364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sp>
          <p:nvSpPr>
            <p:cNvPr id="69" name=""/>
            <p:cNvSpPr/>
            <p:nvPr/>
          </p:nvSpPr>
          <p:spPr>
            <a:xfrm>
              <a:off x="6227640" y="5948640"/>
              <a:ext cx="25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честь рождения царевича Федо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24000" y="400536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 1667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о поручено воспитание и обучение царск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ервые в обучении царских детей использовались элементы западного образования (история, философия, иностранные языки). Двое из его воспитанников стали цар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012000" y="2421000"/>
            <a:ext cx="2832120" cy="424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pSp>
        <p:nvGrpSpPr>
          <p:cNvPr id="72" name=""/>
          <p:cNvGrpSpPr/>
          <p:nvPr/>
        </p:nvGrpSpPr>
        <p:grpSpPr>
          <a:xfrm>
            <a:off x="3708360" y="2852640"/>
            <a:ext cx="5210280" cy="3024360"/>
            <a:chOff x="3708360" y="2852640"/>
            <a:chExt cx="5210280" cy="3024360"/>
          </a:xfrm>
        </p:grpSpPr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3708360" y="2852640"/>
              <a:ext cx="2543400" cy="301968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6445440" y="2852640"/>
              <a:ext cx="2473200" cy="302436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819520" y="2114640"/>
            <a:ext cx="6145200" cy="460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орис Морозов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590 – 16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065320" cy="259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71640" y="836640"/>
            <a:ext cx="5977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 боярин, один из крупнейших землевладельцев своего времени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5 ты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репостных крестья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итатель царевича Алексея Михайл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45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ал руководить правительством и возглавил 5 при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814560" cy="44132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50920" y="4292640"/>
            <a:ext cx="8497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на высшие государственные должности не по знатности рода, а за за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арий Чист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купец из Ярославля)  - дъяк Посольского приказа. Его брат  - возглавил Монетный двор.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ндрей Виниус, Василий Шор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ветники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9:21:53Z</dcterms:created>
  <dc:creator>Константин</dc:creator>
  <dc:description/>
  <dc:language>en-US</dc:language>
  <cp:lastModifiedBy>Константин</cp:lastModifiedBy>
  <dcterms:modified xsi:type="dcterms:W3CDTF">2019-01-24T20:33:39Z</dcterms:modified>
  <cp:revision>25</cp:revision>
  <dc:subject/>
  <dc:title>Предпосылки  Петровских реформ</dc:title>
</cp:coreProperties>
</file>