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B9F-53F0-41A2-B6BB-E8825D66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093-3D17-41BA-8F3F-B262F3EA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1D0-FB03-421D-8EBA-F48157CD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519-A1CD-480A-B734-909BFDCF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ED6B-0607-404D-AB6D-75F96C01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81E-DEA8-4801-AD03-25122EC8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B09-9CCC-4B8D-A3E7-320ACEC7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DE5-B719-4564-BC73-5CEFB6F2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257-411A-4FB5-A760-EEF02DE6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CA1-2D8F-4660-9149-51B0C29F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332-4738-4735-8A23-D6D3801F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FD0-CF51-454A-A982-6A0E3484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05B0-D31C-4CD7-B2D2-CEBB9188C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Предпосылки </a:t>
            </a:r>
            <a:br>
              <a:rPr sz="6600"/>
            </a:b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Петровских рефор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82880" y="5730480"/>
            <a:ext cx="3560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одготовил: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Симонов К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читель истории МБОУ СОШ №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валификационная катег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11280" y="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Борис Морозов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590 – 16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2065320" cy="2592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843280" y="1052640"/>
            <a:ext cx="590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пытка проведения налоговой реформы по европейскому образцу – замена прямого налогообложения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косвенными налога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В несколько раз были повышены цены на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о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которую простое население не могло купить. В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48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Москве произошел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оляной бун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411280" y="2708280"/>
            <a:ext cx="6527880" cy="38908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фанасий Ордин-Нащокин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605 – 168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117520" cy="2664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00360" y="1557360"/>
            <a:ext cx="6119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ал государственную службу в армии, затем перешел на дипломатическую служ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56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дписал союзный договор 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Курлянд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58 г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подписал перемирие со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Шве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67 г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писал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ндрусовско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мирие 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Польш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фанасий Ордин-Нащокин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605 – 168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2117880" cy="2664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27280" y="836640"/>
            <a:ext cx="6120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55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тал основателем первого русского банка в Пскове («Земская изб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69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пытка создания военно-морского флота (единственный корабль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«Орел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был уничтожен во время восстания Степана Ра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67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ринят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«Новоторговый устав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отменил льготы иностранцам и передал их русским купца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тановил почтовую связь между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осквой, Вильно и Ри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11280" y="2060640"/>
            <a:ext cx="6551640" cy="437508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rcRect l="1101" t="1334" r="22522" b="296"/>
          <a:stretch/>
        </p:blipFill>
        <p:spPr>
          <a:xfrm>
            <a:off x="2771640" y="620640"/>
            <a:ext cx="5718240" cy="6048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687708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2924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19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51440" y="2940120"/>
            <a:ext cx="2841480" cy="110880"/>
          </a:xfrm>
          <a:custGeom>
            <a:avLst/>
            <a:gdLst/>
            <a:ahLst/>
            <a:rect l="l" t="t" r="r" b="b"/>
            <a:pathLst>
              <a:path w="1790" h="70">
                <a:moveTo>
                  <a:pt x="1790" y="9"/>
                </a:moveTo>
                <a:cubicBezTo>
                  <a:pt x="1651" y="19"/>
                  <a:pt x="1512" y="23"/>
                  <a:pt x="1374" y="36"/>
                </a:cubicBezTo>
                <a:cubicBezTo>
                  <a:pt x="955" y="18"/>
                  <a:pt x="527" y="70"/>
                  <a:pt x="115" y="0"/>
                </a:cubicBezTo>
                <a:cubicBezTo>
                  <a:pt x="89" y="3"/>
                  <a:pt x="62" y="5"/>
                  <a:pt x="36" y="9"/>
                </a:cubicBezTo>
                <a:cubicBezTo>
                  <a:pt x="24" y="11"/>
                  <a:pt x="0" y="18"/>
                  <a:pt x="0" y="1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41640" y="2017800"/>
            <a:ext cx="130320" cy="981000"/>
          </a:xfrm>
          <a:custGeom>
            <a:avLst/>
            <a:gdLst/>
            <a:ahLst/>
            <a:rect l="l" t="t" r="r" b="b"/>
            <a:pathLst>
              <a:path w="82" h="618">
                <a:moveTo>
                  <a:pt x="33" y="618"/>
                </a:moveTo>
                <a:cubicBezTo>
                  <a:pt x="7" y="546"/>
                  <a:pt x="0" y="361"/>
                  <a:pt x="67" y="296"/>
                </a:cubicBezTo>
                <a:cubicBezTo>
                  <a:pt x="72" y="247"/>
                  <a:pt x="82" y="208"/>
                  <a:pt x="67" y="161"/>
                </a:cubicBezTo>
                <a:cubicBezTo>
                  <a:pt x="59" y="138"/>
                  <a:pt x="28" y="108"/>
                  <a:pt x="24" y="84"/>
                </a:cubicBezTo>
                <a:cubicBezTo>
                  <a:pt x="20" y="56"/>
                  <a:pt x="24" y="28"/>
                  <a:pt x="24" y="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3" dur="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4" dur="500" autoRev="1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4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4" dur="5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35" dur="5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6" dur="5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6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7" dur="500" autoRev="1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7" dur="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8" dur="500" autoRev="1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1101" t="1334" r="22522" b="296"/>
          <a:stretch/>
        </p:blipFill>
        <p:spPr>
          <a:xfrm>
            <a:off x="2771640" y="620640"/>
            <a:ext cx="5718240" cy="6048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87708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4360" y="2924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24360" y="191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51440" y="2940120"/>
            <a:ext cx="2841480" cy="110880"/>
          </a:xfrm>
          <a:custGeom>
            <a:avLst/>
            <a:gdLst/>
            <a:ahLst/>
            <a:rect l="l" t="t" r="r" b="b"/>
            <a:pathLst>
              <a:path w="1790" h="70">
                <a:moveTo>
                  <a:pt x="1790" y="9"/>
                </a:moveTo>
                <a:cubicBezTo>
                  <a:pt x="1651" y="19"/>
                  <a:pt x="1512" y="23"/>
                  <a:pt x="1374" y="36"/>
                </a:cubicBezTo>
                <a:cubicBezTo>
                  <a:pt x="955" y="18"/>
                  <a:pt x="527" y="70"/>
                  <a:pt x="115" y="0"/>
                </a:cubicBezTo>
                <a:cubicBezTo>
                  <a:pt x="89" y="3"/>
                  <a:pt x="62" y="5"/>
                  <a:pt x="36" y="9"/>
                </a:cubicBezTo>
                <a:cubicBezTo>
                  <a:pt x="24" y="11"/>
                  <a:pt x="0" y="18"/>
                  <a:pt x="0" y="1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41640" y="2017800"/>
            <a:ext cx="130320" cy="981000"/>
          </a:xfrm>
          <a:custGeom>
            <a:avLst/>
            <a:gdLst/>
            <a:ahLst/>
            <a:rect l="l" t="t" r="r" b="b"/>
            <a:pathLst>
              <a:path w="82" h="618">
                <a:moveTo>
                  <a:pt x="33" y="618"/>
                </a:moveTo>
                <a:cubicBezTo>
                  <a:pt x="7" y="546"/>
                  <a:pt x="0" y="361"/>
                  <a:pt x="67" y="296"/>
                </a:cubicBezTo>
                <a:cubicBezTo>
                  <a:pt x="72" y="247"/>
                  <a:pt x="82" y="208"/>
                  <a:pt x="67" y="161"/>
                </a:cubicBezTo>
                <a:cubicBezTo>
                  <a:pt x="59" y="138"/>
                  <a:pt x="28" y="108"/>
                  <a:pt x="24" y="84"/>
                </a:cubicBezTo>
                <a:cubicBezTo>
                  <a:pt x="20" y="56"/>
                  <a:pt x="24" y="28"/>
                  <a:pt x="24" y="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Василий Голицын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643 – 17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2079360" cy="2592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24360" y="692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дел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27280" y="1197000"/>
            <a:ext cx="6192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87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Москве открыта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лавяно-греко-латинская акаде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менена смертная казнь за возмутительные слова против 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равление нравов подданных (польская одежда, танцы мазурка и полонез, иностранные язы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00720" y="1989000"/>
            <a:ext cx="3171600" cy="46818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468360" y="5229360"/>
            <a:ext cx="790560" cy="504720"/>
          </a:xfrm>
          <a:custGeom>
            <a:avLst/>
            <a:gdLst>
              <a:gd name="textAreaLeft" fmla="*/ 32400 w 790560"/>
              <a:gd name="textAreaRight" fmla="*/ 758160 w 7905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24" h="21600">
                <a:moveTo>
                  <a:pt x="0" y="0"/>
                </a:moveTo>
                <a:lnTo>
                  <a:pt x="33824" y="0"/>
                </a:lnTo>
                <a:lnTo>
                  <a:pt x="33824" y="21600"/>
                </a:lnTo>
                <a:lnTo>
                  <a:pt x="0" y="21600"/>
                </a:lnTo>
                <a:close/>
              </a:path>
              <a:path fill="lightenLess" w="33824" h="21600">
                <a:moveTo>
                  <a:pt x="0" y="0"/>
                </a:moveTo>
                <a:lnTo>
                  <a:pt x="33824" y="0"/>
                </a:lnTo>
                <a:lnTo>
                  <a:pt x="32424" y="1400"/>
                </a:lnTo>
                <a:lnTo>
                  <a:pt x="1400" y="1400"/>
                </a:lnTo>
                <a:close/>
              </a:path>
              <a:path fill="darken" w="33824" h="21600">
                <a:moveTo>
                  <a:pt x="33824" y="0"/>
                </a:moveTo>
                <a:lnTo>
                  <a:pt x="33824" y="21600"/>
                </a:lnTo>
                <a:lnTo>
                  <a:pt x="32424" y="20200"/>
                </a:lnTo>
                <a:lnTo>
                  <a:pt x="32424" y="1400"/>
                </a:lnTo>
                <a:close/>
              </a:path>
              <a:path fill="darkenLess" w="33824" h="21600">
                <a:moveTo>
                  <a:pt x="33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24" y="20200"/>
                </a:lnTo>
                <a:close/>
              </a:path>
              <a:path fill="lighten" w="33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24" h="21600">
                <a:moveTo>
                  <a:pt x="9906" y="7301"/>
                </a:moveTo>
                <a:lnTo>
                  <a:pt x="10819" y="7301"/>
                </a:lnTo>
                <a:lnTo>
                  <a:pt x="11202" y="7667"/>
                </a:lnTo>
                <a:lnTo>
                  <a:pt x="20411" y="7667"/>
                </a:lnTo>
                <a:lnTo>
                  <a:pt x="20968" y="8224"/>
                </a:lnTo>
                <a:lnTo>
                  <a:pt x="20968" y="8772"/>
                </a:lnTo>
                <a:lnTo>
                  <a:pt x="22813" y="8772"/>
                </a:lnTo>
                <a:lnTo>
                  <a:pt x="23179" y="8224"/>
                </a:lnTo>
                <a:lnTo>
                  <a:pt x="23919" y="8224"/>
                </a:lnTo>
                <a:lnTo>
                  <a:pt x="23919" y="13376"/>
                </a:lnTo>
                <a:lnTo>
                  <a:pt x="23179" y="13376"/>
                </a:lnTo>
                <a:lnTo>
                  <a:pt x="22813" y="12828"/>
                </a:lnTo>
                <a:lnTo>
                  <a:pt x="20968" y="12828"/>
                </a:lnTo>
                <a:lnTo>
                  <a:pt x="20968" y="14107"/>
                </a:lnTo>
                <a:lnTo>
                  <a:pt x="11385" y="14107"/>
                </a:lnTo>
                <a:lnTo>
                  <a:pt x="11385" y="9877"/>
                </a:lnTo>
                <a:lnTo>
                  <a:pt x="11202" y="9877"/>
                </a:lnTo>
                <a:lnTo>
                  <a:pt x="10819" y="10243"/>
                </a:lnTo>
                <a:lnTo>
                  <a:pt x="9906" y="1024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олон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522936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1" h="21600">
                <a:moveTo>
                  <a:pt x="9944" y="7301"/>
                </a:moveTo>
                <a:lnTo>
                  <a:pt x="10858" y="7301"/>
                </a:lnTo>
                <a:lnTo>
                  <a:pt x="11241" y="7667"/>
                </a:lnTo>
                <a:lnTo>
                  <a:pt x="20449" y="7667"/>
                </a:lnTo>
                <a:lnTo>
                  <a:pt x="21006" y="8224"/>
                </a:lnTo>
                <a:lnTo>
                  <a:pt x="21006" y="8772"/>
                </a:lnTo>
                <a:lnTo>
                  <a:pt x="22852" y="8772"/>
                </a:lnTo>
                <a:lnTo>
                  <a:pt x="23217" y="8224"/>
                </a:lnTo>
                <a:lnTo>
                  <a:pt x="23957" y="8224"/>
                </a:lnTo>
                <a:lnTo>
                  <a:pt x="23957" y="13376"/>
                </a:lnTo>
                <a:lnTo>
                  <a:pt x="23217" y="13376"/>
                </a:lnTo>
                <a:lnTo>
                  <a:pt x="22852" y="12828"/>
                </a:lnTo>
                <a:lnTo>
                  <a:pt x="21006" y="12828"/>
                </a:lnTo>
                <a:lnTo>
                  <a:pt x="21006" y="14107"/>
                </a:lnTo>
                <a:lnTo>
                  <a:pt x="11424" y="14107"/>
                </a:lnTo>
                <a:lnTo>
                  <a:pt x="11424" y="9877"/>
                </a:lnTo>
                <a:lnTo>
                  <a:pt x="11241" y="9877"/>
                </a:lnTo>
                <a:lnTo>
                  <a:pt x="10858" y="10243"/>
                </a:lnTo>
                <a:lnTo>
                  <a:pt x="9944" y="102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азур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125360"/>
            <a:ext cx="82072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Предпосылка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это предварительное условие, начальный  пункт чего-нибуд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Экономические предпосы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341360"/>
            <a:ext cx="83534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тставание России от стран Европы и  угроза  потери самосто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чало складывания всероссийского рынка и уменьшение экономической разобщенности районов 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ереход от ремесленно-цехового производства к мануфактурному с использованием элементов наемного труда и простейших механиз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26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Политические  предпосы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341360"/>
            <a:ext cx="835344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енденция к абсолютизации верховной власти (ликвидация деятельности Земских соборов как сословно-представительных органов), включение в царский титул слова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"самодержец"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Реорганизация и совершенствование вооруженных си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бострение классовой борьбы и неспособность власти справиться с крестьянскими восста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26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Политические  предпосы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341360"/>
            <a:ext cx="835344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формление общегосударственного законодательства (Соборное Уложение 1649) с учетом европейских законодатель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чало консолидации различных групп феодалов (бояре, помещики) в единый класс –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дворянств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Усиление роли городских верхов – купечества и владельцев мануфакту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260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Политические  предпосы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34136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268280"/>
            <a:ext cx="856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Появление национально-консервативного и западнического течений (влияние Европы, реформы Никон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Усиление влияния Европы на Росс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имеон Полоцкий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629 – 168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342880" cy="295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43280" y="549360"/>
            <a:ext cx="5976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амуил Петровск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ыходец из Белору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чил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Киево-Могилянскую академ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56 г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тригся в монахи, приняв имя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име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ил в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Богоявленском монастыр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Полоц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4365720"/>
            <a:ext cx="8280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ладал высокими нравственными  качеств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нимался обучением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исал стих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ступал за объединение русского, белорусского и украинского народов под властью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87640" y="1125360"/>
            <a:ext cx="5761080" cy="4287960"/>
            <a:chOff x="2987640" y="1125360"/>
            <a:chExt cx="5761080" cy="428796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2987640" y="1125360"/>
              <a:ext cx="5761080" cy="4287960"/>
            </a:xfrm>
            <a:prstGeom prst="rect">
              <a:avLst/>
            </a:prstGeom>
            <a:ln w="28440">
              <a:solidFill>
                <a:srgbClr val="cc0000"/>
              </a:solidFill>
              <a:miter/>
            </a:ln>
          </p:spPr>
        </p:pic>
        <p:pic>
          <p:nvPicPr>
            <p:cNvPr id="59" name="" descr=""/>
            <p:cNvPicPr/>
            <p:nvPr/>
          </p:nvPicPr>
          <p:blipFill>
            <a:blip r:embed="rId3"/>
            <a:srcRect l="13088" t="33034" r="17517" b="16101"/>
            <a:stretch/>
          </p:blipFill>
          <p:spPr>
            <a:xfrm>
              <a:off x="2987640" y="1125360"/>
              <a:ext cx="1327320" cy="1440000"/>
            </a:xfrm>
            <a:prstGeom prst="rect">
              <a:avLst/>
            </a:prstGeom>
            <a:ln w="28440">
              <a:solidFill>
                <a:srgbClr val="cc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1280" y="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имеон Полоцкий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629 – 168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342880" cy="295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43280" y="836640"/>
            <a:ext cx="5905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64 г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л приглашен в Москву и назначен учителем молодых служащих Приказа Тайных дел в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Заиконоспасском монасты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л первым в России придворным поэтом, восхваляя царскую фамилию и самодержа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4398" r="0" b="0"/>
          <a:stretch/>
        </p:blipFill>
        <p:spPr>
          <a:xfrm>
            <a:off x="5940360" y="2421000"/>
            <a:ext cx="2952720" cy="42480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grpSp>
        <p:nvGrpSpPr>
          <p:cNvPr id="64" name=""/>
          <p:cNvGrpSpPr/>
          <p:nvPr/>
        </p:nvGrpSpPr>
        <p:grpSpPr>
          <a:xfrm>
            <a:off x="5940360" y="2492280"/>
            <a:ext cx="2913120" cy="4368240"/>
            <a:chOff x="5940360" y="2492280"/>
            <a:chExt cx="2913120" cy="4368240"/>
          </a:xfrm>
        </p:grpSpPr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5940360" y="2492280"/>
              <a:ext cx="2913120" cy="4365720"/>
            </a:xfrm>
            <a:prstGeom prst="rect">
              <a:avLst/>
            </a:prstGeom>
            <a:ln w="38160">
              <a:solidFill>
                <a:srgbClr val="cc0000"/>
              </a:solidFill>
              <a:miter/>
            </a:ln>
          </p:spPr>
        </p:pic>
        <p:sp>
          <p:nvSpPr>
            <p:cNvPr id="66" name=""/>
            <p:cNvSpPr/>
            <p:nvPr/>
          </p:nvSpPr>
          <p:spPr>
            <a:xfrm>
              <a:off x="6227640" y="6340320"/>
              <a:ext cx="2376720" cy="52020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Благоприветствие царю Алексею Михайлович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012000" y="2421000"/>
            <a:ext cx="2903400" cy="4103640"/>
            <a:chOff x="6012000" y="2421000"/>
            <a:chExt cx="2903400" cy="4103640"/>
          </a:xfrm>
        </p:grpSpPr>
        <p:pic>
          <p:nvPicPr>
            <p:cNvPr id="68" name="" descr=""/>
            <p:cNvPicPr/>
            <p:nvPr/>
          </p:nvPicPr>
          <p:blipFill>
            <a:blip r:embed="rId4"/>
            <a:srcRect l="0" t="0" r="0" b="-16282"/>
            <a:stretch/>
          </p:blipFill>
          <p:spPr>
            <a:xfrm>
              <a:off x="6012000" y="2421000"/>
              <a:ext cx="2903400" cy="4103640"/>
            </a:xfrm>
            <a:prstGeom prst="rect">
              <a:avLst/>
            </a:prstGeom>
            <a:ln w="38160">
              <a:solidFill>
                <a:srgbClr val="cc0000"/>
              </a:solidFill>
              <a:miter/>
            </a:ln>
          </p:spPr>
        </p:pic>
        <p:sp>
          <p:nvSpPr>
            <p:cNvPr id="69" name=""/>
            <p:cNvSpPr/>
            <p:nvPr/>
          </p:nvSpPr>
          <p:spPr>
            <a:xfrm>
              <a:off x="6227640" y="5948640"/>
              <a:ext cx="25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В честь рождения царевича Федо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24000" y="4005360"/>
            <a:ext cx="8569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 1667 г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ло поручено воспитание и обучение царских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первые в обучении царских детей использовались элементы западного образования (история, философия, иностранные языки). Двое из его воспитанников стали царств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012000" y="2421000"/>
            <a:ext cx="2832120" cy="42480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grpSp>
        <p:nvGrpSpPr>
          <p:cNvPr id="72" name=""/>
          <p:cNvGrpSpPr/>
          <p:nvPr/>
        </p:nvGrpSpPr>
        <p:grpSpPr>
          <a:xfrm>
            <a:off x="3708360" y="2852640"/>
            <a:ext cx="5210280" cy="3024360"/>
            <a:chOff x="3708360" y="2852640"/>
            <a:chExt cx="5210280" cy="3024360"/>
          </a:xfrm>
        </p:grpSpPr>
        <p:pic>
          <p:nvPicPr>
            <p:cNvPr id="73" name="" descr=""/>
            <p:cNvPicPr/>
            <p:nvPr/>
          </p:nvPicPr>
          <p:blipFill>
            <a:blip r:embed="rId6"/>
            <a:stretch/>
          </p:blipFill>
          <p:spPr>
            <a:xfrm>
              <a:off x="3708360" y="2852640"/>
              <a:ext cx="2543400" cy="3019680"/>
            </a:xfrm>
            <a:prstGeom prst="rect">
              <a:avLst/>
            </a:prstGeom>
            <a:ln w="38160">
              <a:solidFill>
                <a:srgbClr val="cc0000"/>
              </a:solidFill>
              <a:miter/>
            </a:ln>
          </p:spPr>
        </p:pic>
        <p:pic>
          <p:nvPicPr>
            <p:cNvPr id="74" name="" descr=""/>
            <p:cNvPicPr/>
            <p:nvPr/>
          </p:nvPicPr>
          <p:blipFill>
            <a:blip r:embed="rId7"/>
            <a:stretch/>
          </p:blipFill>
          <p:spPr>
            <a:xfrm>
              <a:off x="6445440" y="2852640"/>
              <a:ext cx="2473200" cy="3024360"/>
            </a:xfrm>
            <a:prstGeom prst="rect">
              <a:avLst/>
            </a:prstGeom>
            <a:ln w="38160">
              <a:solidFill>
                <a:srgbClr val="cc0000"/>
              </a:solidFill>
              <a:miter/>
            </a:ln>
          </p:spPr>
        </p:pic>
      </p:grp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2819520" y="2114640"/>
            <a:ext cx="6145200" cy="460836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Борис Морозов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590 – 16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065320" cy="259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771640" y="836640"/>
            <a:ext cx="5977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ий боярин, один из крупнейших землевладельцев своего времени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5 тыс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крепостных крестья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питатель царевича Алексея Михайлови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645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стал руководить правительством и возглавил 5 приказ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3814560" cy="441324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250920" y="4292640"/>
            <a:ext cx="8497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ение на высшие государственные должности не по знатности рода, а за за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зарий Чист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купец из Ярославля)  - дъяк Посольского приказа. Его брат  - возглавил Монетный двор.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Андрей Виниус, Василий Шор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оветники Мороз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3T19:21:53Z</dcterms:created>
  <dc:creator>Константин</dc:creator>
  <dc:description/>
  <dc:language>en-US</dc:language>
  <cp:lastModifiedBy>Константин</cp:lastModifiedBy>
  <dcterms:modified xsi:type="dcterms:W3CDTF">2019-01-24T20:33:39Z</dcterms:modified>
  <cp:revision>25</cp:revision>
  <dc:subject/>
  <dc:title>Предпосылки  Петровских реформ</dc:title>
</cp:coreProperties>
</file>