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410-6FCC-4603-919C-4FDC49E5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7CA-2D12-4684-8BDA-727ED94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9A8-7C66-46F2-8CF7-D9FC09FD6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D63-7389-4CE1-9E3D-AB8C0B8D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C6F4-CC00-44F6-8C5E-317DD2DE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5327-1C00-4115-9FAA-0ABD7CB4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ADFC-8A78-42AC-B2C5-EC5B5B79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D4ED-CAE6-48BE-84FD-565EBAF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3E6B-681F-4E43-8932-B2AB57D1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F2B7-E832-43F8-A46F-B8BF42C0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5412-D827-46D7-A511-4D24340E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52F-0871-438E-A2AA-6FEC9B06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DB2D-CA94-44E0-A35E-12777F0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A4ED-D9D8-447C-8259-96113480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0403-DC3E-4B7B-BA62-06BBF5C0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6434-0980-4EA7-B241-C17969BF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1A6B-3204-4E64-82BC-19D7EAD9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26DD-83DA-4D76-BA9F-D127A4CB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99C-CEEC-401A-9619-D74F0E4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A01-8ACE-49B3-BB7F-901E5C35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08C-F943-482E-9080-DC3D6CD9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D8B-4748-4F22-99AE-4BF3814C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352-44E0-4E72-860C-A5565242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4AF1-7148-4236-B95B-3DBA9222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ACC0-53B4-4591-A0B4-10C729FEA01C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F1F3-ED1A-49DE-BA5E-C3225050D031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Kvarengi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Rastrelli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27432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773360"/>
            <a:ext cx="777528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Palatino Linotype"/>
              </a:rPr>
              <a:t>Русская живопись и архитектура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Palatino Linotype"/>
              </a:rPr>
              <a:t>XVIII</a:t>
            </a:r>
            <a:r>
              <a:rPr b="1" lang="ru-RU" sz="4800" spc="-1" strike="noStrike">
                <a:solidFill>
                  <a:srgbClr val="ff0000"/>
                </a:solidFill>
                <a:latin typeface="Palatino Linotype"/>
              </a:rPr>
              <a:t> в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013360"/>
            <a:ext cx="37911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Симонов К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МОУ «СОШ № 1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учитель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Palatino Linotype"/>
              </a:rPr>
              <a:t>I</a:t>
            </a: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 квалификационная кате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29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18080" y="0"/>
            <a:ext cx="452592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9280" y="231840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1749 — 1754 г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Андреевская церковь (г.Кие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63760" y="907200"/>
            <a:ext cx="68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49-1752 гг. Воронцовский дворец (г. Санкт-Петербург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332000" y="333360"/>
            <a:ext cx="6481800" cy="720720"/>
            <a:chOff x="1332000" y="333360"/>
            <a:chExt cx="6481800" cy="720720"/>
          </a:xfrm>
        </p:grpSpPr>
        <p:sp>
          <p:nvSpPr>
            <p:cNvPr id="139" name=""/>
            <p:cNvSpPr/>
            <p:nvPr/>
          </p:nvSpPr>
          <p:spPr>
            <a:xfrm>
              <a:off x="1332000" y="333360"/>
              <a:ext cx="6481800" cy="720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"/>
            <p:cNvSpPr/>
            <p:nvPr/>
          </p:nvSpPr>
          <p:spPr>
            <a:xfrm>
              <a:off x="1405080" y="406440"/>
              <a:ext cx="6337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ДВА СТИЛЯ  ОДНОГО  ВЕК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4360" y="1312920"/>
            <a:ext cx="7775280" cy="5545080"/>
            <a:chOff x="684360" y="1312920"/>
            <a:chExt cx="7775280" cy="5545080"/>
          </a:xfrm>
        </p:grpSpPr>
        <p:grpSp>
          <p:nvGrpSpPr>
            <p:cNvPr id="142" name=""/>
            <p:cNvGrpSpPr/>
            <p:nvPr/>
          </p:nvGrpSpPr>
          <p:grpSpPr>
            <a:xfrm>
              <a:off x="2793960" y="1312920"/>
              <a:ext cx="3349440" cy="772560"/>
              <a:chOff x="2793960" y="1312920"/>
              <a:chExt cx="3349440" cy="772560"/>
            </a:xfrm>
          </p:grpSpPr>
          <p:sp>
            <p:nvSpPr>
              <p:cNvPr id="143" name=""/>
              <p:cNvSpPr/>
              <p:nvPr/>
            </p:nvSpPr>
            <p:spPr>
              <a:xfrm>
                <a:off x="2793960" y="1312920"/>
                <a:ext cx="3334320" cy="763200"/>
              </a:xfrm>
              <a:prstGeom prst="roundRect">
                <a:avLst>
                  <a:gd name="adj" fmla="val 50000"/>
                </a:avLst>
              </a:prstGeom>
              <a:solidFill>
                <a:srgbClr val="ccffcc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3"/>
              <p:cNvSpPr/>
              <p:nvPr/>
            </p:nvSpPr>
            <p:spPr>
              <a:xfrm>
                <a:off x="2882880" y="1398960"/>
                <a:ext cx="326052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КЛАССИЦИЗМ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84360" y="2176560"/>
              <a:ext cx="7775280" cy="46814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Архитектурный стил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(от лат. </a:t>
              </a:r>
              <a:r>
                <a:rPr b="1" lang="ru-RU" sz="3600" spc="-1" strike="noStrike">
                  <a:solidFill>
                    <a:srgbClr val="3e3e5c"/>
                  </a:solidFill>
                  <a:latin typeface="Monotype Corsiva"/>
                </a:rPr>
                <a:t>образцовый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)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преобладавший в искусстве Европы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в </a:t>
              </a:r>
              <a:r>
                <a:rPr b="0" lang="en-US" sz="3600" spc="-1" strike="noStrike">
                  <a:solidFill>
                    <a:srgbClr val="ff0000"/>
                  </a:solidFill>
                  <a:latin typeface="Monotype Corsiva"/>
                </a:rPr>
                <a:t>XVIII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 –</a:t>
              </a:r>
              <a:r>
                <a:rPr b="0" lang="en-US" sz="3600" spc="-1" strike="noStrike">
                  <a:solidFill>
                    <a:srgbClr val="ff0000"/>
                  </a:solidFill>
                  <a:latin typeface="Monotype Corsiva"/>
                </a:rPr>
                <a:t> XIX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 вв.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строгость и простот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пропорциональность и симметри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четкость и сдержанност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4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569840" y="549360"/>
            <a:ext cx="4350240" cy="3528720"/>
            <a:chOff x="4569840" y="549360"/>
            <a:chExt cx="4350240" cy="3528720"/>
          </a:xfrm>
        </p:grpSpPr>
        <p:sp>
          <p:nvSpPr>
            <p:cNvPr id="150" name=""/>
            <p:cNvSpPr/>
            <p:nvPr/>
          </p:nvSpPr>
          <p:spPr>
            <a:xfrm>
              <a:off x="4569840" y="549360"/>
              <a:ext cx="3763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Джакомо Кваренг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(1744-1817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1" name="" descr="Kvarengi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781680" y="1630440"/>
              <a:ext cx="2138400" cy="24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468360" y="2708280"/>
            <a:ext cx="62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Изящный и благородный, но холодный и сухой стиль, не вполне пригодный для северных стра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Вкус и гармоничность пропор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55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900000" y="64904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780—1787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Английский   дворец в Петергофе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60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65560" y="90720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83-1785 гг. Академия наук (г. Санкт-Петербург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464120" y="907200"/>
            <a:ext cx="65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1792-1796 гг. Александровский дворец (Царское Село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70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28840" y="980280"/>
            <a:ext cx="80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806 г. Смольный институт благородных девиц (Санкт-Петербург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74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609800" y="627120"/>
            <a:ext cx="4332600" cy="3233520"/>
            <a:chOff x="4609800" y="627120"/>
            <a:chExt cx="4332600" cy="3233520"/>
          </a:xfrm>
        </p:grpSpPr>
        <p:sp>
          <p:nvSpPr>
            <p:cNvPr id="177" name=""/>
            <p:cNvSpPr/>
            <p:nvPr/>
          </p:nvSpPr>
          <p:spPr>
            <a:xfrm>
              <a:off x="4609800" y="627120"/>
              <a:ext cx="368892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Матвей КАЗАКО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(1738-1812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" descr="Matvkazakov.jpg"/>
            <p:cNvPicPr/>
            <p:nvPr/>
          </p:nvPicPr>
          <p:blipFill>
            <a:blip r:embed="rId2"/>
            <a:stretch/>
          </p:blipFill>
          <p:spPr>
            <a:xfrm>
              <a:off x="6877080" y="1557360"/>
              <a:ext cx="2065320" cy="23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" name=""/>
          <p:cNvSpPr/>
          <p:nvPr/>
        </p:nvSpPr>
        <p:spPr>
          <a:xfrm>
            <a:off x="826920" y="2349360"/>
            <a:ext cx="648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в Москве разработал типы городских жилых домов и общественных зданий, организующих большие городские простран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составил генеральный план строительства   Москв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организовал архитектурную шко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82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466640" y="907200"/>
            <a:ext cx="50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75 г.. Благородное собрание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42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Русская архитектура  </a:t>
            </a:r>
            <a:r>
              <a:rPr b="1" lang="en-US" sz="3600" spc="-1" strike="noStrike">
                <a:solidFill>
                  <a:srgbClr val="ff0000"/>
                </a:solidFill>
                <a:latin typeface="Palatino Linotype"/>
              </a:rPr>
              <a:t>XVIII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 в.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6920" y="1828440"/>
            <a:ext cx="7039080" cy="31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Петровские преобразования начала век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способствовали приближению русской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культуры к западной. Россия, вступив н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путь имперского величия, требовал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подтверждения, облеченного в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Palatino Linotype"/>
              </a:rPr>
              <a:t>архитектурную форму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8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403280" y="652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1776-1787 гг. – здание Сената в Кремле (Москв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92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493520" y="403920"/>
            <a:ext cx="39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82 г. здание мэрии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48760" y="907200"/>
            <a:ext cx="47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</a:rPr>
              <a:t>Большой дворец в Царицыно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02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32160" y="5733000"/>
            <a:ext cx="72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86 - 1793 гг. здание Университета на Моховой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0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44080" y="90720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e5c"/>
                </a:solidFill>
                <a:latin typeface="Times New Roman"/>
              </a:rPr>
              <a:t>1780 – 1788 гг.  дом Козицких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12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245600" y="6460200"/>
            <a:ext cx="658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1776 - 1780 гг. Петровский путевой дворец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17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571280" y="476280"/>
            <a:ext cx="4379040" cy="3139560"/>
            <a:chOff x="4571280" y="476280"/>
            <a:chExt cx="4379040" cy="3139560"/>
          </a:xfrm>
        </p:grpSpPr>
        <p:sp>
          <p:nvSpPr>
            <p:cNvPr id="220" name=""/>
            <p:cNvSpPr/>
            <p:nvPr/>
          </p:nvSpPr>
          <p:spPr>
            <a:xfrm>
              <a:off x="4571280" y="476280"/>
              <a:ext cx="3481560" cy="8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Василий Баженов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(1737-1799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" descr="Vasili Bazhenov.gif"/>
            <p:cNvPicPr/>
            <p:nvPr/>
          </p:nvPicPr>
          <p:blipFill>
            <a:blip r:embed="rId3"/>
            <a:stretch/>
          </p:blipFill>
          <p:spPr>
            <a:xfrm>
              <a:off x="7236000" y="1339560"/>
              <a:ext cx="171432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2836080" y="6307920"/>
            <a:ext cx="33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Дом Пашкова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2708280"/>
            <a:ext cx="46800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стремление органично вписывать архитектурные сооружения в городскую среду и окружающий ландшаф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784680" y="0"/>
            <a:ext cx="53593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26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10560" y="2059560"/>
            <a:ext cx="29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Владимирская церков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e5c"/>
                </a:solidFill>
                <a:latin typeface="Times New Roman"/>
              </a:rPr>
              <a:t>в Быково  (г. Москва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0" y="0"/>
            <a:ext cx="3349440" cy="772920"/>
            <a:chOff x="0" y="0"/>
            <a:chExt cx="3349440" cy="772920"/>
          </a:xfrm>
        </p:grpSpPr>
        <p:sp>
          <p:nvSpPr>
            <p:cNvPr id="231" name=""/>
            <p:cNvSpPr/>
            <p:nvPr/>
          </p:nvSpPr>
          <p:spPr>
            <a:xfrm>
              <a:off x="0" y="0"/>
              <a:ext cx="333432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3"/>
            <p:cNvSpPr/>
            <p:nvPr/>
          </p:nvSpPr>
          <p:spPr>
            <a:xfrm>
              <a:off x="88920" y="86040"/>
              <a:ext cx="326052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КЛАССИЦИЗМ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684360" y="6021360"/>
            <a:ext cx="6264000" cy="432000"/>
          </a:xfrm>
          <a:prstGeom prst="roundRect">
            <a:avLst>
              <a:gd name="adj" fmla="val 16667"/>
            </a:avLst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01 г. Михайловский замок  (г. Санкт-Петербур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620640"/>
            <a:ext cx="754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Русская архитектура  </a:t>
            </a:r>
            <a:r>
              <a:rPr b="1" lang="en-US" sz="3600" spc="-1" strike="noStrike">
                <a:solidFill>
                  <a:srgbClr val="ff0000"/>
                </a:solidFill>
                <a:latin typeface="Palatino Linotype"/>
              </a:rPr>
              <a:t>XVIII</a:t>
            </a:r>
            <a:r>
              <a:rPr b="1" lang="ru-RU" sz="3600" spc="-1" strike="noStrike">
                <a:solidFill>
                  <a:srgbClr val="ff0000"/>
                </a:solidFill>
                <a:latin typeface="Palatino Linotype"/>
              </a:rPr>
              <a:t>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1773360"/>
            <a:ext cx="664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3e5c"/>
                </a:solidFill>
                <a:latin typeface="Monotype Corsiva"/>
              </a:rPr>
              <a:t>На смену восточной системе строительства города (радиальные кольца с площадью в центре) пришла европейская – строить города по пла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4896000" cy="4896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3229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332000" y="404640"/>
            <a:ext cx="6481800" cy="720720"/>
            <a:chOff x="1332000" y="404640"/>
            <a:chExt cx="6481800" cy="720720"/>
          </a:xfrm>
        </p:grpSpPr>
        <p:sp>
          <p:nvSpPr>
            <p:cNvPr id="93" name=""/>
            <p:cNvSpPr/>
            <p:nvPr/>
          </p:nvSpPr>
          <p:spPr>
            <a:xfrm>
              <a:off x="1332000" y="404640"/>
              <a:ext cx="6481800" cy="720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3"/>
            <p:cNvSpPr/>
            <p:nvPr/>
          </p:nvSpPr>
          <p:spPr>
            <a:xfrm>
              <a:off x="1405080" y="477720"/>
              <a:ext cx="6337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ДВА СТИЛЯ  ОДНОГО  ВЕК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84360" y="1197000"/>
            <a:ext cx="7774920" cy="5545080"/>
            <a:chOff x="684360" y="1197000"/>
            <a:chExt cx="7774920" cy="5545080"/>
          </a:xfrm>
        </p:grpSpPr>
        <p:grpSp>
          <p:nvGrpSpPr>
            <p:cNvPr id="96" name=""/>
            <p:cNvGrpSpPr/>
            <p:nvPr/>
          </p:nvGrpSpPr>
          <p:grpSpPr>
            <a:xfrm>
              <a:off x="2646360" y="1197000"/>
              <a:ext cx="3130200" cy="772560"/>
              <a:chOff x="2646360" y="1197000"/>
              <a:chExt cx="3130200" cy="772560"/>
            </a:xfrm>
          </p:grpSpPr>
          <p:sp>
            <p:nvSpPr>
              <p:cNvPr id="97" name=""/>
              <p:cNvSpPr/>
              <p:nvPr/>
            </p:nvSpPr>
            <p:spPr>
              <a:xfrm>
                <a:off x="2646360" y="1197000"/>
                <a:ext cx="3115800" cy="763200"/>
              </a:xfrm>
              <a:prstGeom prst="roundRect">
                <a:avLst>
                  <a:gd name="adj" fmla="val 50000"/>
                </a:avLst>
              </a:prstGeom>
              <a:solidFill>
                <a:srgbClr val="ccffcc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3"/>
              <p:cNvSpPr/>
              <p:nvPr/>
            </p:nvSpPr>
            <p:spPr>
              <a:xfrm>
                <a:off x="2729520" y="1283040"/>
                <a:ext cx="304704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0000"/>
                    </a:solidFill>
                    <a:latin typeface="Monotype Corsiva"/>
                  </a:rPr>
                  <a:t>БАРОККО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684360" y="2060640"/>
              <a:ext cx="7774920" cy="46814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Архитектурный стил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(от лат. </a:t>
              </a:r>
              <a:r>
                <a:rPr b="1" lang="ru-RU" sz="3600" spc="-1" strike="noStrike">
                  <a:solidFill>
                    <a:srgbClr val="3e3e5c"/>
                  </a:solidFill>
                  <a:latin typeface="Monotype Corsiva"/>
                </a:rPr>
                <a:t>причудливый, вычурный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),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преобладавший в искусстве Европы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с конца </a:t>
              </a:r>
              <a:r>
                <a:rPr b="0" lang="en-US" sz="3600" spc="-1" strike="noStrike">
                  <a:solidFill>
                    <a:srgbClr val="ff0000"/>
                  </a:solidFill>
                  <a:latin typeface="Monotype Corsiva"/>
                </a:rPr>
                <a:t>XVI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 до середины </a:t>
              </a:r>
              <a:r>
                <a:rPr b="0" lang="en-US" sz="3600" spc="-1" strike="noStrike">
                  <a:solidFill>
                    <a:srgbClr val="ff0000"/>
                  </a:solidFill>
                  <a:latin typeface="Monotype Corsiva"/>
                </a:rPr>
                <a:t>XVIII</a:t>
              </a:r>
              <a:r>
                <a:rPr b="0" lang="ru-RU" sz="3600" spc="-1" strike="noStrike">
                  <a:solidFill>
                    <a:srgbClr val="ff0000"/>
                  </a:solidFill>
                  <a:latin typeface="Monotype Corsiva"/>
                </a:rPr>
                <a:t> век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контрастность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динамичность образов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величие и пышность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Monotype Corsiv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0000"/>
                  </a:solidFill>
                  <a:latin typeface="Monotype Corsiva"/>
                </a:rPr>
                <a:t>совмещение реальности и иллюзии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27552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02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211280" y="333000"/>
            <a:ext cx="4746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e5c"/>
                </a:solidFill>
                <a:latin typeface="Times New Roman"/>
              </a:rPr>
              <a:t>ЦЕРКОВЬ ПОКРОВА (в Филях)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5" name=""/>
          <p:cNvSpPr/>
          <p:nvPr/>
        </p:nvSpPr>
        <p:spPr>
          <a:xfrm>
            <a:off x="5292720" y="112536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Многоярус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Декора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e3e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Узорчат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22200" y="620640"/>
            <a:ext cx="5026680" cy="3960720"/>
            <a:chOff x="3922200" y="620640"/>
            <a:chExt cx="5026680" cy="3960720"/>
          </a:xfrm>
        </p:grpSpPr>
        <p:sp>
          <p:nvSpPr>
            <p:cNvPr id="110" name=""/>
            <p:cNvSpPr/>
            <p:nvPr/>
          </p:nvSpPr>
          <p:spPr>
            <a:xfrm>
              <a:off x="3922200" y="620640"/>
              <a:ext cx="4528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Растрелли Варфоломей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e3e5c"/>
                  </a:solidFill>
                  <a:latin typeface="Times New Roman"/>
                </a:rPr>
                <a:t>(1700-1771)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Rastrelli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588000" y="1773360"/>
              <a:ext cx="2360880" cy="28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611280" y="1916280"/>
            <a:ext cx="619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Грандиозный  пространственный разм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Четкость объёмов в сочетании с пластичностью масс и со скульптурным убран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Прихотливый орнамен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e3e5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3e3e5c"/>
                </a:solidFill>
                <a:latin typeface="Times New Roman"/>
              </a:rPr>
              <a:t>Соединение европейского стиля с русскими архитектурными традици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900000" y="646020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748 — 1754 Собор Смольного монастыря (г. Санкт-Петербур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20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40360" y="188280"/>
            <a:ext cx="43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Times New Roman"/>
              </a:rPr>
              <a:t>1752 — 1757 —Екатерининский  двор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e3e5c"/>
                </a:solidFill>
                <a:latin typeface="Times New Roman"/>
              </a:rPr>
              <a:t>в Царском Селе (г. Пушкин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22296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0" y="0"/>
            <a:ext cx="2985840" cy="772920"/>
            <a:chOff x="0" y="0"/>
            <a:chExt cx="2985840" cy="77292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2972160" cy="763560"/>
            </a:xfrm>
            <a:prstGeom prst="roundRect">
              <a:avLst>
                <a:gd name="adj" fmla="val 50000"/>
              </a:avLst>
            </a:prstGeom>
            <a:solidFill>
              <a:srgbClr val="ccffcc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"/>
            <p:cNvSpPr/>
            <p:nvPr/>
          </p:nvSpPr>
          <p:spPr>
            <a:xfrm>
              <a:off x="79200" y="86040"/>
              <a:ext cx="29066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Monotype Corsiva"/>
                </a:rPr>
                <a:t>БАРОККО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900000" y="64904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бранство Екатерининского  дворца в Царском Селе (г. Пушкин)</a:t>
            </a:r>
            <a:r>
              <a:rPr b="0" lang="ru-RU" sz="18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09:48:57Z</dcterms:created>
  <dc:creator>Константин</dc:creator>
  <dc:description/>
  <cp:keywords/>
  <dc:language>en-US</dc:language>
  <cp:lastModifiedBy>Константин</cp:lastModifiedBy>
  <dcterms:modified xsi:type="dcterms:W3CDTF">2011-12-18T16:28:34Z</dcterms:modified>
  <cp:revision>4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49</vt:lpwstr>
  </property>
</Properties>
</file>