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BEA-1DA0-4908-9D0E-11834511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FAE-3111-45BE-A6AA-81605F35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B66-3CD9-4A91-879C-283F7BE7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91A-D4AC-4334-BC5C-F2D6E686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E12F-E872-40F2-82A6-6BBB4538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7E10-92E5-4C83-989B-BABE210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13EC-51A2-4D5E-BD65-89C2251C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38A5-3689-4720-88D3-7212FA1C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901A-5BF8-44BB-8778-7702DA25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1010-55A3-429F-894A-510B1CF3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EF96-3822-4ED6-ABB5-2BCA04E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FEB-BD4B-4C7B-A5A6-AE85A825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7574-0AEA-437C-A197-219B9AC2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6FBD-4296-4963-9CEF-2060AF7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BF61-A7A7-4255-8D90-CB9C7CC8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D445-BB55-4810-961F-E8CE18A4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AB07-E575-4E31-8EF4-F56C05DA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2E6-5F7E-4316-81B5-23E855A0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451-9263-4A96-9D4E-95AFD84E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657-6B83-4D59-85BB-3CC7409E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25D-21C7-4E0A-8C4C-F047A27F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ACD-C0C5-4354-8403-01ED5169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1A7-C57E-4E00-A86E-11E4FE8E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D75-F7AD-4B96-B037-DD8890C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BE08-FF17-4F4B-B73C-2F914169FF15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226B-3852-4C05-8258-98509B0ABBB0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79551b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79551b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Kvarengi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Rastrelli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2743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773360"/>
            <a:ext cx="77752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alatino Linotype"/>
              </a:rPr>
              <a:t>Русская живопись и 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Palatino Linotype"/>
              </a:rPr>
              <a:t>XVIII</a:t>
            </a:r>
            <a:r>
              <a:rPr b="1" lang="ru-RU" sz="4800" spc="-1" strike="noStrike">
                <a:solidFill>
                  <a:srgbClr val="ff0000"/>
                </a:solidFill>
                <a:latin typeface="Palatino Linotype"/>
              </a:rPr>
              <a:t> в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013360"/>
            <a:ext cx="37911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Симонов К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МОУ «СОШ № 1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учитель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alatino Linotype"/>
              </a:rPr>
              <a:t>I</a:t>
            </a: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 квалификационная кате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18080" y="0"/>
            <a:ext cx="4525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231840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1749 — 1754 г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Андреевская церковь (г.Кие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63760" y="907200"/>
            <a:ext cx="68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49-1752 гг. Воронцовский дворец (г. Санкт-Петербург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332000" y="333360"/>
            <a:ext cx="6481800" cy="720720"/>
            <a:chOff x="1332000" y="333360"/>
            <a:chExt cx="6481800" cy="720720"/>
          </a:xfrm>
        </p:grpSpPr>
        <p:sp>
          <p:nvSpPr>
            <p:cNvPr id="139" name=""/>
            <p:cNvSpPr/>
            <p:nvPr/>
          </p:nvSpPr>
          <p:spPr>
            <a:xfrm>
              <a:off x="1332000" y="333360"/>
              <a:ext cx="6481800" cy="720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"/>
            <p:cNvSpPr/>
            <p:nvPr/>
          </p:nvSpPr>
          <p:spPr>
            <a:xfrm>
              <a:off x="1405080" y="406440"/>
              <a:ext cx="6337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ДВА СТИЛЯ  ОДНОГО  ВЕК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4360" y="1312920"/>
            <a:ext cx="7775280" cy="5545080"/>
            <a:chOff x="684360" y="1312920"/>
            <a:chExt cx="7775280" cy="5545080"/>
          </a:xfrm>
        </p:grpSpPr>
        <p:grpSp>
          <p:nvGrpSpPr>
            <p:cNvPr id="142" name=""/>
            <p:cNvGrpSpPr/>
            <p:nvPr/>
          </p:nvGrpSpPr>
          <p:grpSpPr>
            <a:xfrm>
              <a:off x="2793960" y="1312920"/>
              <a:ext cx="3349440" cy="772560"/>
              <a:chOff x="2793960" y="1312920"/>
              <a:chExt cx="3349440" cy="772560"/>
            </a:xfrm>
          </p:grpSpPr>
          <p:sp>
            <p:nvSpPr>
              <p:cNvPr id="143" name=""/>
              <p:cNvSpPr/>
              <p:nvPr/>
            </p:nvSpPr>
            <p:spPr>
              <a:xfrm>
                <a:off x="2793960" y="1312920"/>
                <a:ext cx="3334320" cy="763200"/>
              </a:xfrm>
              <a:prstGeom prst="roundRect">
                <a:avLst>
                  <a:gd name="adj" fmla="val 50000"/>
                </a:avLst>
              </a:prstGeom>
              <a:solidFill>
                <a:srgbClr val="ccffcc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3"/>
              <p:cNvSpPr/>
              <p:nvPr/>
            </p:nvSpPr>
            <p:spPr>
              <a:xfrm>
                <a:off x="2882880" y="1398960"/>
                <a:ext cx="326052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КЛАССИЦИЗМ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84360" y="2176560"/>
              <a:ext cx="7775280" cy="46814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Архитектурный стил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(от лат. </a:t>
              </a:r>
              <a:r>
                <a:rPr b="1" lang="ru-RU" sz="3600" spc="-1" strike="noStrike">
                  <a:solidFill>
                    <a:srgbClr val="3e3e5c"/>
                  </a:solidFill>
                  <a:latin typeface="Monotype Corsiva"/>
                </a:rPr>
                <a:t>образцовый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)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преобладавший в искусстве Европы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в </a:t>
              </a:r>
              <a:r>
                <a:rPr b="0" lang="en-US" sz="3600" spc="-1" strike="noStrike">
                  <a:solidFill>
                    <a:srgbClr val="ff0000"/>
                  </a:solidFill>
                  <a:latin typeface="Monotype Corsiva"/>
                </a:rPr>
                <a:t>XVIII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 –</a:t>
              </a:r>
              <a:r>
                <a:rPr b="0" lang="en-US" sz="3600" spc="-1" strike="noStrike">
                  <a:solidFill>
                    <a:srgbClr val="ff0000"/>
                  </a:solidFill>
                  <a:latin typeface="Monotype Corsiva"/>
                </a:rPr>
                <a:t> XIX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 вв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строгость и простот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пропорциональность и симметри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четкость и сдержанност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569840" y="549360"/>
            <a:ext cx="4350240" cy="3528720"/>
            <a:chOff x="4569840" y="549360"/>
            <a:chExt cx="4350240" cy="3528720"/>
          </a:xfrm>
        </p:grpSpPr>
        <p:sp>
          <p:nvSpPr>
            <p:cNvPr id="150" name=""/>
            <p:cNvSpPr/>
            <p:nvPr/>
          </p:nvSpPr>
          <p:spPr>
            <a:xfrm>
              <a:off x="4569840" y="549360"/>
              <a:ext cx="376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Джакомо Кваренг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(1744-1817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" descr="Kvarengi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781680" y="1630440"/>
              <a:ext cx="2138400" cy="24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468360" y="270828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Изящный и благородный, но холодный и сухой стиль, не вполне пригодный для северных стра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Вкус и гармоничность пропор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55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900000" y="64904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780—1787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Английский   дворец в Петергофе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60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65560" y="90720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83-1785 гг. Академия наук (г. Санкт-Петербург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65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464120" y="907200"/>
            <a:ext cx="65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1792-1796 гг. Александровский дворец (Царское Село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28840" y="980280"/>
            <a:ext cx="80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806 г. Смольный институт благородных девиц (Санкт-Петербург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609800" y="627120"/>
            <a:ext cx="4332600" cy="3233520"/>
            <a:chOff x="4609800" y="627120"/>
            <a:chExt cx="4332600" cy="3233520"/>
          </a:xfrm>
        </p:grpSpPr>
        <p:sp>
          <p:nvSpPr>
            <p:cNvPr id="177" name=""/>
            <p:cNvSpPr/>
            <p:nvPr/>
          </p:nvSpPr>
          <p:spPr>
            <a:xfrm>
              <a:off x="4609800" y="627120"/>
              <a:ext cx="368892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Матвей КАЗАКО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(1738-1812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" name="" descr="Matvkazakov.jpg"/>
            <p:cNvPicPr/>
            <p:nvPr/>
          </p:nvPicPr>
          <p:blipFill>
            <a:blip r:embed="rId2"/>
            <a:stretch/>
          </p:blipFill>
          <p:spPr>
            <a:xfrm>
              <a:off x="6877080" y="1557360"/>
              <a:ext cx="2065320" cy="23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826920" y="2349360"/>
            <a:ext cx="64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в Москве разработал типы городских жилых домов и общественных зданий, организующих большие городские простра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составил генеральный план строительства   Москв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организовал архитектурную шко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82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466640" y="907200"/>
            <a:ext cx="50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75 г.. Благородное собрание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4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Русская архитектура  </a:t>
            </a:r>
            <a:r>
              <a:rPr b="1" lang="en-US" sz="3600" spc="-1" strike="noStrike">
                <a:solidFill>
                  <a:srgbClr val="ff0000"/>
                </a:solidFill>
                <a:latin typeface="Palatino Linotype"/>
              </a:rPr>
              <a:t>XVIII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 в.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6920" y="1828440"/>
            <a:ext cx="7039080" cy="31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Петровские преобразования начала век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способствовали приближению русской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культуры к западной. Россия, вступив н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путь имперского величия, требовал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подтверждения, облеченного в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архитектурную форму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403280" y="652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1776-1787 гг. – здание Сената в Кремле (Москв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92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493520" y="40392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82 г. здание мэрии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48760" y="907200"/>
            <a:ext cx="47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</a:rPr>
              <a:t>Большой дворец в Царицыно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02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32160" y="5733000"/>
            <a:ext cx="72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86 - 1793 гг. здание Университета на Моховой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0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44080" y="90720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</a:rPr>
              <a:t>1780 – 1788 гг.  дом Козицких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245600" y="6460200"/>
            <a:ext cx="65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1776 - 1780 гг. Петровский путевой дворец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1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571280" y="476280"/>
            <a:ext cx="4379040" cy="3139560"/>
            <a:chOff x="4571280" y="476280"/>
            <a:chExt cx="4379040" cy="3139560"/>
          </a:xfrm>
        </p:grpSpPr>
        <p:sp>
          <p:nvSpPr>
            <p:cNvPr id="220" name=""/>
            <p:cNvSpPr/>
            <p:nvPr/>
          </p:nvSpPr>
          <p:spPr>
            <a:xfrm>
              <a:off x="4571280" y="476280"/>
              <a:ext cx="348156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Василий Бажено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(1737-1799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" descr="Vasili Bazhenov.gif"/>
            <p:cNvPicPr/>
            <p:nvPr/>
          </p:nvPicPr>
          <p:blipFill>
            <a:blip r:embed="rId3"/>
            <a:stretch/>
          </p:blipFill>
          <p:spPr>
            <a:xfrm>
              <a:off x="7236000" y="1339560"/>
              <a:ext cx="171432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/>
          <p:cNvSpPr/>
          <p:nvPr/>
        </p:nvSpPr>
        <p:spPr>
          <a:xfrm>
            <a:off x="2836080" y="630792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Дом Пашкова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708280"/>
            <a:ext cx="4680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стремление органично вписывать архитектурные сооружения в городскую среду и окружающий ландшаф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784680" y="0"/>
            <a:ext cx="5359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26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10560" y="2059560"/>
            <a:ext cx="29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Владимирская церков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в Быково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84360" y="6021360"/>
            <a:ext cx="6264000" cy="43200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01 г. Михайловский замок  (г. Санкт-Петербур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620640"/>
            <a:ext cx="754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Русская архитектура  </a:t>
            </a:r>
            <a:r>
              <a:rPr b="1" lang="en-US" sz="3600" spc="-1" strike="noStrike">
                <a:solidFill>
                  <a:srgbClr val="ff0000"/>
                </a:solidFill>
                <a:latin typeface="Palatino Linotype"/>
              </a:rPr>
              <a:t>XVIII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1773360"/>
            <a:ext cx="6649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e5c"/>
                </a:solidFill>
                <a:latin typeface="Monotype Corsiva"/>
              </a:rPr>
              <a:t>На смену восточной системе строительства города (радиальные кольца с площадью в центре) пришла европейская – строить города по пла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6000" cy="489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3229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332000" y="404640"/>
            <a:ext cx="6481800" cy="720720"/>
            <a:chOff x="1332000" y="404640"/>
            <a:chExt cx="6481800" cy="720720"/>
          </a:xfrm>
        </p:grpSpPr>
        <p:sp>
          <p:nvSpPr>
            <p:cNvPr id="93" name=""/>
            <p:cNvSpPr/>
            <p:nvPr/>
          </p:nvSpPr>
          <p:spPr>
            <a:xfrm>
              <a:off x="1332000" y="404640"/>
              <a:ext cx="6481800" cy="720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3"/>
            <p:cNvSpPr/>
            <p:nvPr/>
          </p:nvSpPr>
          <p:spPr>
            <a:xfrm>
              <a:off x="1405080" y="477720"/>
              <a:ext cx="6337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ДВА СТИЛЯ  ОДНОГО  ВЕК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84360" y="1197000"/>
            <a:ext cx="7774920" cy="5545080"/>
            <a:chOff x="684360" y="1197000"/>
            <a:chExt cx="7774920" cy="5545080"/>
          </a:xfrm>
        </p:grpSpPr>
        <p:grpSp>
          <p:nvGrpSpPr>
            <p:cNvPr id="96" name=""/>
            <p:cNvGrpSpPr/>
            <p:nvPr/>
          </p:nvGrpSpPr>
          <p:grpSpPr>
            <a:xfrm>
              <a:off x="2646360" y="1197000"/>
              <a:ext cx="3130200" cy="772560"/>
              <a:chOff x="2646360" y="1197000"/>
              <a:chExt cx="3130200" cy="772560"/>
            </a:xfrm>
          </p:grpSpPr>
          <p:sp>
            <p:nvSpPr>
              <p:cNvPr id="97" name=""/>
              <p:cNvSpPr/>
              <p:nvPr/>
            </p:nvSpPr>
            <p:spPr>
              <a:xfrm>
                <a:off x="2646360" y="1197000"/>
                <a:ext cx="3115800" cy="763200"/>
              </a:xfrm>
              <a:prstGeom prst="roundRect">
                <a:avLst>
                  <a:gd name="adj" fmla="val 50000"/>
                </a:avLst>
              </a:prstGeom>
              <a:solidFill>
                <a:srgbClr val="ccffcc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3"/>
              <p:cNvSpPr/>
              <p:nvPr/>
            </p:nvSpPr>
            <p:spPr>
              <a:xfrm>
                <a:off x="2729520" y="1283040"/>
                <a:ext cx="304704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БАРОККО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684360" y="2060640"/>
              <a:ext cx="7774920" cy="46814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Архитектурный стил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(от лат. </a:t>
              </a:r>
              <a:r>
                <a:rPr b="1" lang="ru-RU" sz="3600" spc="-1" strike="noStrike">
                  <a:solidFill>
                    <a:srgbClr val="3e3e5c"/>
                  </a:solidFill>
                  <a:latin typeface="Monotype Corsiva"/>
                </a:rPr>
                <a:t>причудливый, вычурный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)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преобладавший в искусстве Европы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с конца </a:t>
              </a:r>
              <a:r>
                <a:rPr b="0" lang="en-US" sz="3600" spc="-1" strike="noStrike">
                  <a:solidFill>
                    <a:srgbClr val="ff0000"/>
                  </a:solidFill>
                  <a:latin typeface="Monotype Corsiva"/>
                </a:rPr>
                <a:t>XVI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 до середины </a:t>
              </a:r>
              <a:r>
                <a:rPr b="0" lang="en-US" sz="3600" spc="-1" strike="noStrike">
                  <a:solidFill>
                    <a:srgbClr val="ff0000"/>
                  </a:solidFill>
                  <a:latin typeface="Monotype Corsiva"/>
                </a:rPr>
                <a:t>XVIII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 век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контрастность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динамичность образов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величие и пышност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совмещение реальности и иллюзи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2755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02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11280" y="333000"/>
            <a:ext cx="4746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ЦЕРКОВЬ ПОКРОВА (в Филях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112536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Многоярус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Декора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Узорча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22200" y="620640"/>
            <a:ext cx="5026680" cy="3960720"/>
            <a:chOff x="3922200" y="620640"/>
            <a:chExt cx="5026680" cy="3960720"/>
          </a:xfrm>
        </p:grpSpPr>
        <p:sp>
          <p:nvSpPr>
            <p:cNvPr id="110" name=""/>
            <p:cNvSpPr/>
            <p:nvPr/>
          </p:nvSpPr>
          <p:spPr>
            <a:xfrm>
              <a:off x="3922200" y="620640"/>
              <a:ext cx="4528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Растрелли Варфоломе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(1700-1771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" descr="Rastrelli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88000" y="1773360"/>
              <a:ext cx="2360880" cy="28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611280" y="1916280"/>
            <a:ext cx="619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Грандиозный  пространственный разм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Четкость объёмов в сочетании с пластичностью масс и со скульптурным убран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Прихотливый орнамен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Соединение европейского стиля с русскими архитектурными традиц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900000" y="646020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48 — 1754 Собор Смольного монастыря (г. Санкт-Петербур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188280"/>
            <a:ext cx="43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Times New Roman"/>
              </a:rPr>
              <a:t>1752 — 1757 —Екатерининский  д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Times New Roman"/>
              </a:rPr>
              <a:t>в Царском Селе (г. Пушкин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22296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00000" y="64904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бранство Екатерининского  дворца в Царском Селе (г. Пушкин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09:48:57Z</dcterms:created>
  <dc:creator>Константин</dc:creator>
  <dc:description/>
  <cp:keywords/>
  <dc:language>en-US</dc:language>
  <cp:lastModifiedBy>Константин</cp:lastModifiedBy>
  <dcterms:modified xsi:type="dcterms:W3CDTF">2011-12-18T16:28:34Z</dcterms:modified>
  <cp:revision>4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49</vt:lpwstr>
  </property>
</Properties>
</file>