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8AA-49DD-46DE-B0AB-B5B37DE7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4B3-D3E1-4E25-A2AF-3F1DC15A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C53-C8A5-41A6-8E9B-5716E63E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9DE0-A6AD-4383-8E7A-74C8CA16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547-4B6C-4D57-B825-FC2409F9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FD8-ECC7-4BBE-9CDA-BD39C091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C56-2FF0-41C4-9932-3190ADB6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285-EBD8-443C-844C-4823E3D8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6EB-6FB1-4E52-9652-1E0E0805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0C1-DF1A-4669-8950-893649D8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DB6-1DCD-48CF-9E9B-3A4239DE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E545-BC4E-4F6B-AD34-9AF4658A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0EC8-6775-479B-9843-F7F4D9F1B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циальные движения.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ппозиция реформам Петра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95600" y="5514480"/>
            <a:ext cx="38480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готови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монов К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истории МБОУ СОШ №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валификационная катего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сстание Кондратия Булавина 1707-170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1544"/>
          <p:cNvPicPr/>
          <p:nvPr/>
        </p:nvPicPr>
        <p:blipFill>
          <a:blip r:embed="rId1"/>
          <a:stretch/>
        </p:blipFill>
        <p:spPr>
          <a:xfrm>
            <a:off x="250920" y="981000"/>
            <a:ext cx="2109600" cy="230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6" name="Text Box 6"/>
          <p:cNvSpPr/>
          <p:nvPr/>
        </p:nvSpPr>
        <p:spPr>
          <a:xfrm>
            <a:off x="2771640" y="907920"/>
            <a:ext cx="59058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рещено добывать со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на работах при строительстве  флота и оборонительных сооружениях Аз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казачьего само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зыск беглых крестьян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GR_Moravov"/>
          <p:cNvPicPr/>
          <p:nvPr/>
        </p:nvPicPr>
        <p:blipFill>
          <a:blip r:embed="rId2"/>
          <a:stretch/>
        </p:blipFill>
        <p:spPr>
          <a:xfrm>
            <a:off x="2987640" y="2565360"/>
            <a:ext cx="5254560" cy="4105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98" name="Group 11"/>
          <p:cNvGrpSpPr/>
          <p:nvPr/>
        </p:nvGrpSpPr>
        <p:grpSpPr>
          <a:xfrm>
            <a:off x="2771640" y="3141720"/>
            <a:ext cx="5761080" cy="2687760"/>
            <a:chOff x="2771640" y="3141720"/>
            <a:chExt cx="5761080" cy="2687760"/>
          </a:xfrm>
        </p:grpSpPr>
        <p:pic>
          <p:nvPicPr>
            <p:cNvPr id="99" name="Picture 8" descr="Печатка_Війська_Донського_XVII_ст"/>
            <p:cNvPicPr/>
            <p:nvPr/>
          </p:nvPicPr>
          <p:blipFill>
            <a:blip r:embed="rId3"/>
            <a:stretch/>
          </p:blipFill>
          <p:spPr>
            <a:xfrm>
              <a:off x="2771640" y="3141720"/>
              <a:ext cx="2880000" cy="26701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100" name="Picture 9" descr="Печатка_Війська_Донського_1704_р"/>
            <p:cNvPicPr/>
            <p:nvPr/>
          </p:nvPicPr>
          <p:blipFill>
            <a:blip r:embed="rId4"/>
            <a:stretch/>
          </p:blipFill>
          <p:spPr>
            <a:xfrm>
              <a:off x="5796000" y="3141720"/>
              <a:ext cx="2736720" cy="26877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  <p:pic>
        <p:nvPicPr>
          <p:cNvPr id="101" name="Picture 10" descr="401207_2_i_001"/>
          <p:cNvPicPr/>
          <p:nvPr/>
        </p:nvPicPr>
        <p:blipFill>
          <a:blip r:embed="rId5"/>
          <a:stretch/>
        </p:blipFill>
        <p:spPr>
          <a:xfrm>
            <a:off x="3708360" y="3411360"/>
            <a:ext cx="3492720" cy="3446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сстание Кондратия Булавина 1707-170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1544"/>
          <p:cNvPicPr/>
          <p:nvPr/>
        </p:nvPicPr>
        <p:blipFill>
          <a:blip r:embed="rId1"/>
          <a:stretch/>
        </p:blipFill>
        <p:spPr>
          <a:xfrm>
            <a:off x="179280" y="620640"/>
            <a:ext cx="1648080" cy="18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4" name="Text Box 6"/>
          <p:cNvSpPr/>
          <p:nvPr/>
        </p:nvSpPr>
        <p:spPr>
          <a:xfrm>
            <a:off x="2268360" y="692280"/>
            <a:ext cx="6407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9 октября 17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яд Булавина уничтожил царский отряд полковника Ю.В.Долгорукова у реки Айд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75280861_large_napadenie_partizan"/>
          <p:cNvPicPr/>
          <p:nvPr/>
        </p:nvPicPr>
        <p:blipFill>
          <a:blip r:embed="rId2"/>
          <a:stretch/>
        </p:blipFill>
        <p:spPr>
          <a:xfrm>
            <a:off x="1258920" y="2637000"/>
            <a:ext cx="7632720" cy="4028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сстание Кондратия Булавина 1707-170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1544"/>
          <p:cNvPicPr/>
          <p:nvPr/>
        </p:nvPicPr>
        <p:blipFill>
          <a:blip r:embed="rId1"/>
          <a:stretch/>
        </p:blipFill>
        <p:spPr>
          <a:xfrm>
            <a:off x="179280" y="620640"/>
            <a:ext cx="1648080" cy="18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8" name="Text Box 6"/>
          <p:cNvSpPr/>
          <p:nvPr/>
        </p:nvSpPr>
        <p:spPr>
          <a:xfrm>
            <a:off x="2268360" y="549360"/>
            <a:ext cx="64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сковой атаман Максимов разбил войско Булавина, тот бежал в Запорожскую Сечь, набрался сил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 мая 1708 г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рнувшись на Дон был избран войсковым атам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4"/>
          <p:cNvGrpSpPr/>
          <p:nvPr/>
        </p:nvGrpSpPr>
        <p:grpSpPr>
          <a:xfrm>
            <a:off x="3995640" y="2492280"/>
            <a:ext cx="4283280" cy="4365720"/>
            <a:chOff x="3995640" y="2492280"/>
            <a:chExt cx="4283280" cy="4365720"/>
          </a:xfrm>
        </p:grpSpPr>
        <p:pic>
          <p:nvPicPr>
            <p:cNvPr id="110" name="Picture 7" descr="Российская-империя-в-первой-половине-19-в"/>
            <p:cNvPicPr/>
            <p:nvPr/>
          </p:nvPicPr>
          <p:blipFill>
            <a:blip r:embed="rId2"/>
            <a:srcRect l="0" t="11152" r="45934" b="4246"/>
            <a:stretch/>
          </p:blipFill>
          <p:spPr>
            <a:xfrm>
              <a:off x="3995640" y="2492280"/>
              <a:ext cx="4283280" cy="4365720"/>
            </a:xfrm>
            <a:prstGeom prst="rect">
              <a:avLst/>
            </a:prstGeom>
            <a:ln w="38160">
              <a:solidFill>
                <a:srgbClr val="ff3300"/>
              </a:solidFill>
              <a:miter/>
            </a:ln>
          </p:spPr>
        </p:pic>
        <p:sp>
          <p:nvSpPr>
            <p:cNvPr id="111" name="Line 8"/>
            <p:cNvSpPr/>
            <p:nvPr/>
          </p:nvSpPr>
          <p:spPr>
            <a:xfrm flipV="1">
              <a:off x="5364000" y="486864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V="1">
              <a:off x="5364000" y="5013360"/>
              <a:ext cx="72072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 flipH="1">
              <a:off x="5148000" y="5300640"/>
              <a:ext cx="21564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4788000" y="4508640"/>
              <a:ext cx="10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Изю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4427640" y="5300640"/>
              <a:ext cx="10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Аз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5796000" y="458136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Сарат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250920" y="256536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т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чень серьезно отнесся к восстанию казаков – был создан карательный отряд 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200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чел. во главе с В.В.Долгорук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6" descr="Dolgorukov_Vasily_Vladimirovich"/>
          <p:cNvPicPr/>
          <p:nvPr/>
        </p:nvPicPr>
        <p:blipFill>
          <a:blip r:embed="rId3"/>
          <a:stretch/>
        </p:blipFill>
        <p:spPr>
          <a:xfrm>
            <a:off x="1258920" y="4869000"/>
            <a:ext cx="1390680" cy="1726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сстание Кондратия Булавина 1707-170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1544"/>
          <p:cNvPicPr/>
          <p:nvPr/>
        </p:nvPicPr>
        <p:blipFill>
          <a:blip r:embed="rId1"/>
          <a:stretch/>
        </p:blipFill>
        <p:spPr>
          <a:xfrm>
            <a:off x="179280" y="620640"/>
            <a:ext cx="1648080" cy="18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1" name="Text Box 4"/>
          <p:cNvSpPr/>
          <p:nvPr/>
        </p:nvSpPr>
        <p:spPr>
          <a:xfrm>
            <a:off x="2268360" y="549360"/>
            <a:ext cx="6407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7 июля 17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лавин был убит в Черкасске в результате заговора знатных каз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DsdI96WX4AUYIDd"/>
          <p:cNvPicPr/>
          <p:nvPr/>
        </p:nvPicPr>
        <p:blipFill>
          <a:blip r:embed="rId2"/>
          <a:stretch/>
        </p:blipFill>
        <p:spPr>
          <a:xfrm>
            <a:off x="2771640" y="2133720"/>
            <a:ext cx="6121440" cy="4371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3" name="Picture 7" descr="Bulavin"/>
          <p:cNvPicPr/>
          <p:nvPr/>
        </p:nvPicPr>
        <p:blipFill>
          <a:blip r:embed="rId3"/>
          <a:stretch/>
        </p:blipFill>
        <p:spPr>
          <a:xfrm>
            <a:off x="2195640" y="1916280"/>
            <a:ext cx="3030480" cy="46735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4" name="Picture 8" descr="vosstanie-bulavina-1-1"/>
          <p:cNvPicPr/>
          <p:nvPr/>
        </p:nvPicPr>
        <p:blipFill>
          <a:blip r:embed="rId4"/>
          <a:stretch/>
        </p:blipFill>
        <p:spPr>
          <a:xfrm>
            <a:off x="2195640" y="836640"/>
            <a:ext cx="666720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5" name="Picture 9" descr="Рисунок1"/>
          <p:cNvPicPr/>
          <p:nvPr/>
        </p:nvPicPr>
        <p:blipFill>
          <a:blip r:embed="rId5"/>
          <a:stretch/>
        </p:blipFill>
        <p:spPr>
          <a:xfrm>
            <a:off x="179280" y="3213000"/>
            <a:ext cx="1913040" cy="2521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Башкирское восстание 1705-1711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s://staging.vsdn.ru/images/data/cat/intershop/N00104068002-2.jp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128" name="Полилиния 7"/>
          <p:cNvSpPr/>
          <p:nvPr/>
        </p:nvSpPr>
        <p:spPr>
          <a:xfrm>
            <a:off x="5078520" y="3168720"/>
            <a:ext cx="1268280" cy="931680"/>
          </a:xfrm>
          <a:custGeom>
            <a:avLst/>
            <a:gdLst/>
            <a:ahLst/>
            <a:rect l="l" t="t" r="r" b="b"/>
            <a:pathLst>
              <a:path w="1267691" h="932507">
                <a:moveTo>
                  <a:pt x="434566" y="914400"/>
                </a:moveTo>
                <a:cubicBezTo>
                  <a:pt x="451164" y="902329"/>
                  <a:pt x="421419" y="914054"/>
                  <a:pt x="488887" y="860079"/>
                </a:cubicBezTo>
                <a:cubicBezTo>
                  <a:pt x="497383" y="853282"/>
                  <a:pt x="496891" y="836960"/>
                  <a:pt x="506994" y="832919"/>
                </a:cubicBezTo>
                <a:cubicBezTo>
                  <a:pt x="529584" y="823883"/>
                  <a:pt x="555279" y="826883"/>
                  <a:pt x="579422" y="823865"/>
                </a:cubicBezTo>
                <a:cubicBezTo>
                  <a:pt x="585458" y="814812"/>
                  <a:pt x="588302" y="802472"/>
                  <a:pt x="597529" y="796705"/>
                </a:cubicBezTo>
                <a:cubicBezTo>
                  <a:pt x="613714" y="786589"/>
                  <a:pt x="633743" y="784634"/>
                  <a:pt x="651850" y="778598"/>
                </a:cubicBezTo>
                <a:cubicBezTo>
                  <a:pt x="660903" y="775580"/>
                  <a:pt x="671070" y="774837"/>
                  <a:pt x="679010" y="769544"/>
                </a:cubicBezTo>
                <a:lnTo>
                  <a:pt x="733331" y="733331"/>
                </a:lnTo>
                <a:lnTo>
                  <a:pt x="787652" y="751437"/>
                </a:lnTo>
                <a:cubicBezTo>
                  <a:pt x="796705" y="754455"/>
                  <a:pt x="805554" y="758177"/>
                  <a:pt x="814812" y="760491"/>
                </a:cubicBezTo>
                <a:cubicBezTo>
                  <a:pt x="826883" y="763509"/>
                  <a:pt x="839133" y="765885"/>
                  <a:pt x="851026" y="769544"/>
                </a:cubicBezTo>
                <a:cubicBezTo>
                  <a:pt x="878390" y="777964"/>
                  <a:pt x="932507" y="796705"/>
                  <a:pt x="932507" y="796705"/>
                </a:cubicBezTo>
                <a:cubicBezTo>
                  <a:pt x="959667" y="793687"/>
                  <a:pt x="987476" y="794279"/>
                  <a:pt x="1013988" y="787651"/>
                </a:cubicBezTo>
                <a:cubicBezTo>
                  <a:pt x="1024544" y="785012"/>
                  <a:pt x="1031702" y="774943"/>
                  <a:pt x="1041149" y="769544"/>
                </a:cubicBezTo>
                <a:cubicBezTo>
                  <a:pt x="1052867" y="762848"/>
                  <a:pt x="1065644" y="758133"/>
                  <a:pt x="1077362" y="751437"/>
                </a:cubicBezTo>
                <a:cubicBezTo>
                  <a:pt x="1126501" y="723358"/>
                  <a:pt x="1081889" y="740876"/>
                  <a:pt x="1131683" y="724277"/>
                </a:cubicBezTo>
                <a:cubicBezTo>
                  <a:pt x="1134701" y="715224"/>
                  <a:pt x="1136102" y="705459"/>
                  <a:pt x="1140737" y="697117"/>
                </a:cubicBezTo>
                <a:cubicBezTo>
                  <a:pt x="1151306" y="678094"/>
                  <a:pt x="1176951" y="642796"/>
                  <a:pt x="1176951" y="642796"/>
                </a:cubicBezTo>
                <a:lnTo>
                  <a:pt x="1204111" y="561315"/>
                </a:lnTo>
                <a:cubicBezTo>
                  <a:pt x="1207129" y="552261"/>
                  <a:pt x="1207870" y="542094"/>
                  <a:pt x="1213164" y="534154"/>
                </a:cubicBezTo>
                <a:lnTo>
                  <a:pt x="1231271" y="506994"/>
                </a:lnTo>
                <a:cubicBezTo>
                  <a:pt x="1234289" y="494923"/>
                  <a:pt x="1236750" y="482698"/>
                  <a:pt x="1240325" y="470780"/>
                </a:cubicBezTo>
                <a:cubicBezTo>
                  <a:pt x="1245810" y="452499"/>
                  <a:pt x="1258432" y="416459"/>
                  <a:pt x="1258432" y="416459"/>
                </a:cubicBezTo>
                <a:cubicBezTo>
                  <a:pt x="1269498" y="316862"/>
                  <a:pt x="1271994" y="343881"/>
                  <a:pt x="1258432" y="235390"/>
                </a:cubicBezTo>
                <a:cubicBezTo>
                  <a:pt x="1256523" y="220121"/>
                  <a:pt x="1254781" y="204531"/>
                  <a:pt x="1249378" y="190123"/>
                </a:cubicBezTo>
                <a:cubicBezTo>
                  <a:pt x="1245557" y="179935"/>
                  <a:pt x="1237307" y="172016"/>
                  <a:pt x="1231271" y="162962"/>
                </a:cubicBezTo>
                <a:cubicBezTo>
                  <a:pt x="1221779" y="134486"/>
                  <a:pt x="1224122" y="128018"/>
                  <a:pt x="1195057" y="108641"/>
                </a:cubicBezTo>
                <a:cubicBezTo>
                  <a:pt x="1187117" y="103347"/>
                  <a:pt x="1176950" y="102606"/>
                  <a:pt x="1167897" y="99588"/>
                </a:cubicBezTo>
                <a:lnTo>
                  <a:pt x="1113576" y="63374"/>
                </a:lnTo>
                <a:lnTo>
                  <a:pt x="1086416" y="45267"/>
                </a:lnTo>
                <a:cubicBezTo>
                  <a:pt x="1083398" y="36214"/>
                  <a:pt x="1085128" y="23654"/>
                  <a:pt x="1077362" y="18107"/>
                </a:cubicBezTo>
                <a:cubicBezTo>
                  <a:pt x="1061831" y="7013"/>
                  <a:pt x="1023042" y="0"/>
                  <a:pt x="1023042" y="0"/>
                </a:cubicBezTo>
                <a:cubicBezTo>
                  <a:pt x="941561" y="3018"/>
                  <a:pt x="859955" y="3629"/>
                  <a:pt x="778598" y="9053"/>
                </a:cubicBezTo>
                <a:cubicBezTo>
                  <a:pt x="769076" y="9688"/>
                  <a:pt x="760614" y="15485"/>
                  <a:pt x="751438" y="18107"/>
                </a:cubicBezTo>
                <a:cubicBezTo>
                  <a:pt x="739474" y="21525"/>
                  <a:pt x="727295" y="24142"/>
                  <a:pt x="715224" y="27160"/>
                </a:cubicBezTo>
                <a:lnTo>
                  <a:pt x="660903" y="63374"/>
                </a:lnTo>
                <a:cubicBezTo>
                  <a:pt x="651850" y="69410"/>
                  <a:pt x="643475" y="76615"/>
                  <a:pt x="633743" y="81481"/>
                </a:cubicBezTo>
                <a:cubicBezTo>
                  <a:pt x="621672" y="87517"/>
                  <a:pt x="609102" y="92644"/>
                  <a:pt x="597529" y="99588"/>
                </a:cubicBezTo>
                <a:cubicBezTo>
                  <a:pt x="578868" y="110784"/>
                  <a:pt x="560618" y="122745"/>
                  <a:pt x="543208" y="135802"/>
                </a:cubicBezTo>
                <a:cubicBezTo>
                  <a:pt x="531137" y="144855"/>
                  <a:pt x="520095" y="155476"/>
                  <a:pt x="506994" y="162962"/>
                </a:cubicBezTo>
                <a:cubicBezTo>
                  <a:pt x="498708" y="167697"/>
                  <a:pt x="488176" y="167381"/>
                  <a:pt x="479834" y="172016"/>
                </a:cubicBezTo>
                <a:cubicBezTo>
                  <a:pt x="386448" y="223898"/>
                  <a:pt x="459807" y="196799"/>
                  <a:pt x="398353" y="217283"/>
                </a:cubicBezTo>
                <a:cubicBezTo>
                  <a:pt x="382442" y="265013"/>
                  <a:pt x="399814" y="226393"/>
                  <a:pt x="362139" y="271604"/>
                </a:cubicBezTo>
                <a:cubicBezTo>
                  <a:pt x="355173" y="279963"/>
                  <a:pt x="350998" y="290405"/>
                  <a:pt x="344032" y="298764"/>
                </a:cubicBezTo>
                <a:cubicBezTo>
                  <a:pt x="327207" y="318954"/>
                  <a:pt x="283804" y="356824"/>
                  <a:pt x="262551" y="362138"/>
                </a:cubicBezTo>
                <a:cubicBezTo>
                  <a:pt x="242309" y="367199"/>
                  <a:pt x="185239" y="380484"/>
                  <a:pt x="172016" y="389299"/>
                </a:cubicBezTo>
                <a:lnTo>
                  <a:pt x="144856" y="407406"/>
                </a:lnTo>
                <a:cubicBezTo>
                  <a:pt x="132785" y="425513"/>
                  <a:pt x="115524" y="441082"/>
                  <a:pt x="108642" y="461727"/>
                </a:cubicBezTo>
                <a:cubicBezTo>
                  <a:pt x="105624" y="470780"/>
                  <a:pt x="105550" y="481435"/>
                  <a:pt x="99588" y="488887"/>
                </a:cubicBezTo>
                <a:cubicBezTo>
                  <a:pt x="92791" y="497383"/>
                  <a:pt x="81481" y="500958"/>
                  <a:pt x="72428" y="506994"/>
                </a:cubicBezTo>
                <a:lnTo>
                  <a:pt x="36214" y="561315"/>
                </a:lnTo>
                <a:lnTo>
                  <a:pt x="18107" y="588475"/>
                </a:lnTo>
                <a:cubicBezTo>
                  <a:pt x="15089" y="609600"/>
                  <a:pt x="13239" y="630924"/>
                  <a:pt x="9054" y="651849"/>
                </a:cubicBezTo>
                <a:cubicBezTo>
                  <a:pt x="7182" y="661207"/>
                  <a:pt x="0" y="669467"/>
                  <a:pt x="0" y="679010"/>
                </a:cubicBezTo>
                <a:cubicBezTo>
                  <a:pt x="0" y="727389"/>
                  <a:pt x="1509" y="776078"/>
                  <a:pt x="9054" y="823865"/>
                </a:cubicBezTo>
                <a:cubicBezTo>
                  <a:pt x="13010" y="848920"/>
                  <a:pt x="70547" y="885417"/>
                  <a:pt x="81481" y="887239"/>
                </a:cubicBezTo>
                <a:cubicBezTo>
                  <a:pt x="99588" y="890257"/>
                  <a:pt x="117882" y="892311"/>
                  <a:pt x="135802" y="896293"/>
                </a:cubicBezTo>
                <a:cubicBezTo>
                  <a:pt x="145118" y="898363"/>
                  <a:pt x="153477" y="904292"/>
                  <a:pt x="162962" y="905346"/>
                </a:cubicBezTo>
                <a:cubicBezTo>
                  <a:pt x="208052" y="910356"/>
                  <a:pt x="253497" y="911382"/>
                  <a:pt x="298764" y="914400"/>
                </a:cubicBezTo>
                <a:cubicBezTo>
                  <a:pt x="319889" y="917418"/>
                  <a:pt x="341214" y="919268"/>
                  <a:pt x="362139" y="923453"/>
                </a:cubicBezTo>
                <a:cubicBezTo>
                  <a:pt x="371497" y="925325"/>
                  <a:pt x="379756" y="932507"/>
                  <a:pt x="389299" y="932507"/>
                </a:cubicBezTo>
                <a:cubicBezTo>
                  <a:pt x="398842" y="932507"/>
                  <a:pt x="417968" y="926471"/>
                  <a:pt x="434566" y="914400"/>
                </a:cubicBezTo>
                <a:close/>
              </a:path>
            </a:pathLst>
          </a:custGeom>
          <a:solidFill>
            <a:srgbClr val="c00000">
              <a:alpha val="50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50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Башкирское восстание 1705-1711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760" y="579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ПР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3760" y="17384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1. Отбирали земли для поместий и строительства зав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3760" y="289080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2. Тяготы Северной вой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А) налоги и сбо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Б) рекрутские наб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3760" y="50277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3. Неуважение национальных и религиозных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Группа 3"/>
          <p:cNvGrpSpPr/>
          <p:nvPr/>
        </p:nvGrpSpPr>
        <p:grpSpPr>
          <a:xfrm>
            <a:off x="1689120" y="2227320"/>
            <a:ext cx="6122880" cy="4375080"/>
            <a:chOff x="1689120" y="2227320"/>
            <a:chExt cx="6122880" cy="4375080"/>
          </a:xfrm>
        </p:grpSpPr>
        <p:pic>
          <p:nvPicPr>
            <p:cNvPr id="135" name="Picture 2" descr="https://avatars.mds.yandex.net/get-zen_doc/1909279/pub_6048dffe013fe76fa325d416_6048e128013fe76fa3288c35/scale_1200"/>
            <p:cNvPicPr/>
            <p:nvPr/>
          </p:nvPicPr>
          <p:blipFill>
            <a:blip r:embed="rId1"/>
            <a:srcRect l="3731" t="2845" r="11694" b="44174"/>
            <a:stretch/>
          </p:blipFill>
          <p:spPr>
            <a:xfrm>
              <a:off x="1689120" y="2227320"/>
              <a:ext cx="6122880" cy="394884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  <p:sp>
          <p:nvSpPr>
            <p:cNvPr id="136" name="TextBox 5"/>
            <p:cNvSpPr/>
            <p:nvPr/>
          </p:nvSpPr>
          <p:spPr>
            <a:xfrm>
              <a:off x="1689120" y="6234120"/>
              <a:ext cx="612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 Black"/>
                </a:rPr>
                <a:t>Азиева мече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Башкирское восстание 1705-1711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324000" y="55548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вгуст 1704 г. в Уфу прибыли царские чиновники («прибыльщики» – собиратели налогов) А.Сергеев, А.Жихарев, М.Дорохов с командой солдат. На собрании местной знати и мусульманского духовенства в Азиевой мечети они объявили Ук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840" y="268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. Поставить для армии 20000 лошадей и 4000 вои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3480" y="3672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. Введение 72 новых налогов (в том числе на серые и карие глаза, на мечети и обряд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5840" y="4702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. Фиксировать заключение браков и смерть муллы имели право только в присутствии православного священ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0" y="602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4. Строить мечети по образцу православных хра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Башкирское восстание 1705-1711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Группа 5"/>
          <p:cNvGrpSpPr/>
          <p:nvPr/>
        </p:nvGrpSpPr>
        <p:grpSpPr>
          <a:xfrm>
            <a:off x="385920" y="609480"/>
            <a:ext cx="2089080" cy="2487960"/>
            <a:chOff x="385920" y="609480"/>
            <a:chExt cx="2089080" cy="2487960"/>
          </a:xfrm>
        </p:grpSpPr>
        <p:pic>
          <p:nvPicPr>
            <p:cNvPr id="145" name="Picture 2" descr="Petr Ivanovich Rychkov by Alexey Osipov.jpg"/>
            <p:cNvPicPr/>
            <p:nvPr/>
          </p:nvPicPr>
          <p:blipFill>
            <a:blip r:embed="rId1"/>
            <a:srcRect l="0" t="0" r="0" b="25377"/>
            <a:stretch/>
          </p:blipFill>
          <p:spPr>
            <a:xfrm>
              <a:off x="385920" y="609480"/>
              <a:ext cx="2001240" cy="21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4"/>
            <p:cNvSpPr/>
            <p:nvPr/>
          </p:nvSpPr>
          <p:spPr>
            <a:xfrm>
              <a:off x="385920" y="2729160"/>
              <a:ext cx="20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тр Рыч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Рисунок 6" descr="Вырезка экрана"/>
          <p:cNvPicPr/>
          <p:nvPr/>
        </p:nvPicPr>
        <p:blipFill>
          <a:blip r:embed="rId2"/>
          <a:stretch/>
        </p:blipFill>
        <p:spPr>
          <a:xfrm>
            <a:off x="179280" y="3129120"/>
            <a:ext cx="2502000" cy="341928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7"/>
          <p:cNvSpPr/>
          <p:nvPr/>
        </p:nvSpPr>
        <p:spPr>
          <a:xfrm>
            <a:off x="2987640" y="622440"/>
            <a:ext cx="590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«… неразлучными поступками бывшаго на Уфе Александра Сергеева, которой с них неумеренною строгостию требовал лошадей и выдачи беглых людей, в их жилищах укрывавшихся, и, как сказывают, несколько старшин башкирских на одном у себя обеде до смерти запоил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9"/>
          <p:cNvSpPr/>
          <p:nvPr/>
        </p:nvSpPr>
        <p:spPr>
          <a:xfrm>
            <a:off x="3000240" y="4606920"/>
            <a:ext cx="59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товарищи его оскорбляли национальные и религиозные чувства башкир, жгли бороды старейшинам и простым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Башкирское восстание 1705-1711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Группа 11"/>
          <p:cNvGrpSpPr/>
          <p:nvPr/>
        </p:nvGrpSpPr>
        <p:grpSpPr>
          <a:xfrm>
            <a:off x="395280" y="973080"/>
            <a:ext cx="3600360" cy="3517560"/>
            <a:chOff x="395280" y="973080"/>
            <a:chExt cx="3600360" cy="3517560"/>
          </a:xfrm>
        </p:grpSpPr>
        <p:sp>
          <p:nvSpPr>
            <p:cNvPr id="152" name="Прямоугольник 9"/>
            <p:cNvSpPr/>
            <p:nvPr/>
          </p:nvSpPr>
          <p:spPr>
            <a:xfrm>
              <a:off x="395280" y="4030920"/>
              <a:ext cx="3600360" cy="4597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Georgia"/>
                </a:rPr>
                <a:t>родовая зна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Группа 10"/>
            <p:cNvGrpSpPr/>
            <p:nvPr/>
          </p:nvGrpSpPr>
          <p:grpSpPr>
            <a:xfrm>
              <a:off x="894600" y="973080"/>
              <a:ext cx="2248920" cy="2690640"/>
              <a:chOff x="894600" y="973080"/>
              <a:chExt cx="2248920" cy="2690640"/>
            </a:xfrm>
          </p:grpSpPr>
          <p:pic>
            <p:nvPicPr>
              <p:cNvPr id="154" name="Рисунок 1" descr="Вырезка экрана"/>
              <p:cNvPicPr/>
              <p:nvPr/>
            </p:nvPicPr>
            <p:blipFill>
              <a:blip r:embed="rId1"/>
              <a:stretch/>
            </p:blipFill>
            <p:spPr>
              <a:xfrm>
                <a:off x="894600" y="973080"/>
                <a:ext cx="1303920" cy="26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Рисунок 8" descr="Вырезка экрана"/>
              <p:cNvPicPr/>
              <p:nvPr/>
            </p:nvPicPr>
            <p:blipFill>
              <a:blip r:embed="rId2"/>
              <a:stretch/>
            </p:blipFill>
            <p:spPr>
              <a:xfrm>
                <a:off x="1986840" y="984960"/>
                <a:ext cx="1156680" cy="2678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6" name="Группа 13"/>
          <p:cNvGrpSpPr/>
          <p:nvPr/>
        </p:nvGrpSpPr>
        <p:grpSpPr>
          <a:xfrm>
            <a:off x="5508720" y="1198440"/>
            <a:ext cx="3384360" cy="3686400"/>
            <a:chOff x="5508720" y="1198440"/>
            <a:chExt cx="3384360" cy="3686400"/>
          </a:xfrm>
        </p:grpSpPr>
        <p:pic>
          <p:nvPicPr>
            <p:cNvPr id="157" name="Рисунок 2" descr="Вырезка экрана"/>
            <p:cNvPicPr/>
            <p:nvPr/>
          </p:nvPicPr>
          <p:blipFill>
            <a:blip r:embed="rId3"/>
            <a:stretch/>
          </p:blipFill>
          <p:spPr>
            <a:xfrm flipH="1">
              <a:off x="6444360" y="1198440"/>
              <a:ext cx="1097640" cy="258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Прямоугольник 12"/>
            <p:cNvSpPr/>
            <p:nvPr/>
          </p:nvSpPr>
          <p:spPr>
            <a:xfrm>
              <a:off x="5508720" y="4059360"/>
              <a:ext cx="3384360" cy="8254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Georgia"/>
                </a:rPr>
                <a:t>мусульманск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Georgia"/>
                </a:rPr>
                <a:t>духове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4"/>
          <p:cNvSpPr/>
          <p:nvPr/>
        </p:nvSpPr>
        <p:spPr>
          <a:xfrm>
            <a:off x="179280" y="619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возглав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79280" y="51688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тправили посольства в Крымское ханство и Османскую империю с просьбой о помощи и выразили готовность перейти в их подда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ласть и  старообрядцы (раскольн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Вырезка экрана"/>
          <p:cNvPicPr/>
          <p:nvPr/>
        </p:nvPicPr>
        <p:blipFill>
          <a:blip r:embed="rId1"/>
          <a:stretch/>
        </p:blipFill>
        <p:spPr>
          <a:xfrm>
            <a:off x="1403280" y="681120"/>
            <a:ext cx="1656000" cy="2092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63" name="TextBox 5"/>
          <p:cNvSpPr/>
          <p:nvPr/>
        </p:nvSpPr>
        <p:spPr>
          <a:xfrm>
            <a:off x="196920" y="3006720"/>
            <a:ext cx="1873080" cy="398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крестья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2603520" y="3029040"/>
            <a:ext cx="1871640" cy="398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куп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17440" y="3638520"/>
            <a:ext cx="406872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преобразования Петра </a:t>
            </a: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 ведут к разрушению многовековых традиций русского на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217440" y="4956120"/>
            <a:ext cx="4068720" cy="1465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проповеди старообрядцев с отрицательной оценкой нововведений власти, часто становились причиной восстаний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s://catherineasquithgallery.com/uploads/posts/2021-02/1613666725_74-p-fon-dlya-prezentatsii-petr-1-79.jpg"/>
          <p:cNvPicPr/>
          <p:nvPr/>
        </p:nvPicPr>
        <p:blipFill>
          <a:blip r:embed="rId2"/>
          <a:srcRect l="0" t="0" r="50992" b="-175"/>
          <a:stretch/>
        </p:blipFill>
        <p:spPr>
          <a:xfrm>
            <a:off x="6089760" y="711360"/>
            <a:ext cx="1681200" cy="20620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sp>
        <p:nvSpPr>
          <p:cNvPr id="168" name="TextBox 10"/>
          <p:cNvSpPr/>
          <p:nvPr/>
        </p:nvSpPr>
        <p:spPr>
          <a:xfrm>
            <a:off x="4819680" y="3059280"/>
            <a:ext cx="4068720" cy="25628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</a:rPr>
              <a:t>власть относилась к раскольникам более терпимо чем в </a:t>
            </a:r>
            <a:r>
              <a:rPr b="1" lang="en-US" sz="1800" spc="-1" strike="noStrike">
                <a:solidFill>
                  <a:srgbClr val="c00000"/>
                </a:solidFill>
                <a:latin typeface="Arial Black"/>
              </a:rPr>
              <a:t>XVII </a:t>
            </a:r>
            <a:r>
              <a:rPr b="1" lang="ru-RU" sz="1800" spc="-1" strike="noStrike">
                <a:solidFill>
                  <a:srgbClr val="c00000"/>
                </a:solidFill>
                <a:latin typeface="Arial Black"/>
              </a:rPr>
              <a:t>ве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</a:rPr>
              <a:t>Разрешало жить общин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</a:rPr>
              <a:t>Осуществлять религиозные обря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</a:rPr>
              <a:t>Заниматься производством, промыслами и  ремеслами, торгов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540240" y="957240"/>
            <a:ext cx="204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79280" y="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95280" y="260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чины народных выступ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яжести Северной вой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ительные налоги и пови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гочисленные рекрутские наб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роительство городов и кана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хват земли и введение православия у народов Поволжья, Приуралья, Сиби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ведение европейских поряд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1258920" y="765000"/>
            <a:ext cx="662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50920" y="692280"/>
            <a:ext cx="8569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рещено занимать государственные дол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тили двойной нало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аки между старообрядцами считались недействительны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ежда должна отлича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3851280" y="2565360"/>
            <a:ext cx="4552920" cy="4032360"/>
            <a:chOff x="3851280" y="2565360"/>
            <a:chExt cx="4552920" cy="4032360"/>
          </a:xfrm>
        </p:grpSpPr>
        <p:pic>
          <p:nvPicPr>
            <p:cNvPr id="173" name="Picture 7" descr="15247_320"/>
            <p:cNvPicPr/>
            <p:nvPr/>
          </p:nvPicPr>
          <p:blipFill>
            <a:blip r:embed="rId1"/>
            <a:stretch/>
          </p:blipFill>
          <p:spPr>
            <a:xfrm>
              <a:off x="3851280" y="2565360"/>
              <a:ext cx="2090880" cy="40323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174" name="Text Box 8"/>
            <p:cNvSpPr/>
            <p:nvPr/>
          </p:nvSpPr>
          <p:spPr>
            <a:xfrm>
              <a:off x="5956200" y="3441600"/>
              <a:ext cx="244800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Е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ретик, раскольник, отступ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0"/>
          <p:cNvSpPr/>
          <p:nvPr/>
        </p:nvSpPr>
        <p:spPr>
          <a:xfrm>
            <a:off x="3132000" y="2565360"/>
            <a:ext cx="3600720" cy="581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орма про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 flipH="1">
            <a:off x="1692000" y="3213000"/>
            <a:ext cx="20876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324000" y="4869000"/>
            <a:ext cx="2952720" cy="581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ег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724360" y="4941720"/>
            <a:ext cx="3240360" cy="581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амосож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6012000" y="3213000"/>
            <a:ext cx="151272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5" descr="star-3"/>
          <p:cNvPicPr/>
          <p:nvPr/>
        </p:nvPicPr>
        <p:blipFill>
          <a:blip r:embed="rId2"/>
          <a:srcRect l="15041" t="7167" r="24481" b="0"/>
          <a:stretch/>
        </p:blipFill>
        <p:spPr>
          <a:xfrm>
            <a:off x="2454120" y="1881360"/>
            <a:ext cx="4105440" cy="4725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1" name="Picture 17" descr="https://avatars.mds.yandex.net/get-zen_doc/3845269/pub_603a6df882fc21754de30a39_603a6ee282fc21754de519e6/scale_1200"/>
          <p:cNvPicPr/>
          <p:nvPr/>
        </p:nvPicPr>
        <p:blipFill>
          <a:blip r:embed="rId3"/>
          <a:stretch/>
        </p:blipFill>
        <p:spPr>
          <a:xfrm>
            <a:off x="1050840" y="738360"/>
            <a:ext cx="6969240" cy="58212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82" name="Text Box 4"/>
          <p:cNvSpPr/>
          <p:nvPr/>
        </p:nvSpPr>
        <p:spPr>
          <a:xfrm>
            <a:off x="-90360" y="-15840"/>
            <a:ext cx="93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власть и  старообрядцы (раскольн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Российская-империя-в-первой-половине-19-в"/>
          <p:cNvPicPr/>
          <p:nvPr/>
        </p:nvPicPr>
        <p:blipFill>
          <a:blip r:embed="rId1"/>
          <a:stretch/>
        </p:blipFill>
        <p:spPr>
          <a:xfrm>
            <a:off x="179280" y="876240"/>
            <a:ext cx="8785440" cy="57214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47" name="Text Box 4"/>
          <p:cNvSpPr/>
          <p:nvPr/>
        </p:nvSpPr>
        <p:spPr>
          <a:xfrm>
            <a:off x="395280" y="260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страханское восстание 1705 – 1706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"/>
          <p:cNvGrpSpPr/>
          <p:nvPr/>
        </p:nvGrpSpPr>
        <p:grpSpPr>
          <a:xfrm>
            <a:off x="2411280" y="4941720"/>
            <a:ext cx="1657440" cy="398880"/>
            <a:chOff x="2411280" y="4941720"/>
            <a:chExt cx="1657440" cy="398880"/>
          </a:xfrm>
        </p:grpSpPr>
        <p:sp>
          <p:nvSpPr>
            <p:cNvPr id="49" name="Oval 12"/>
            <p:cNvSpPr/>
            <p:nvPr/>
          </p:nvSpPr>
          <p:spPr>
            <a:xfrm>
              <a:off x="2411280" y="5157720"/>
              <a:ext cx="1447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3"/>
            <p:cNvSpPr/>
            <p:nvPr/>
          </p:nvSpPr>
          <p:spPr>
            <a:xfrm>
              <a:off x="2411280" y="494172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Астраха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7" descr="Coenraad_Decker_Ville_Astracan"/>
          <p:cNvPicPr/>
          <p:nvPr/>
        </p:nvPicPr>
        <p:blipFill>
          <a:blip r:embed="rId2"/>
          <a:stretch/>
        </p:blipFill>
        <p:spPr>
          <a:xfrm>
            <a:off x="1116000" y="1844640"/>
            <a:ext cx="7201080" cy="41544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52" name="Text Box 15"/>
          <p:cNvSpPr/>
          <p:nvPr/>
        </p:nvSpPr>
        <p:spPr>
          <a:xfrm>
            <a:off x="1547640" y="2781360"/>
            <a:ext cx="64803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рупный торгово-промышленный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ентр царской администрации юга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арнизон насчитывал 3650 человек (солдаты, стрельцы, каза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ногонациональное 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Astrakhan_2010-09_0696"/>
          <p:cNvPicPr/>
          <p:nvPr/>
        </p:nvPicPr>
        <p:blipFill>
          <a:blip r:embed="rId3"/>
          <a:stretch/>
        </p:blipFill>
        <p:spPr>
          <a:xfrm>
            <a:off x="1042920" y="1341360"/>
            <a:ext cx="7345440" cy="48974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5280" y="260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страханское восстание 1705 – 1706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carstwowaniezhestokoegotowitcarstwowanieslaboe-2"/>
          <p:cNvPicPr/>
          <p:nvPr/>
        </p:nvPicPr>
        <p:blipFill>
          <a:blip r:embed="rId1"/>
          <a:stretch/>
        </p:blipFill>
        <p:spPr>
          <a:xfrm>
            <a:off x="0" y="836640"/>
            <a:ext cx="2060640" cy="287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519280" y="1700280"/>
            <a:ext cx="66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арский воевод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имофей Рж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бирал промыс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л взят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мерные налоги и с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arstwowaniezhestokoegotowitcarstwowanieslaboe-2"/>
          <p:cNvPicPr/>
          <p:nvPr/>
        </p:nvPicPr>
        <p:blipFill>
          <a:blip r:embed="rId1"/>
          <a:stretch/>
        </p:blipFill>
        <p:spPr>
          <a:xfrm>
            <a:off x="0" y="476280"/>
            <a:ext cx="2060640" cy="287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395280" y="260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страханское восстание 1705 – 1706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195640" y="83664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ето 17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8"/>
          <p:cNvGrpSpPr/>
          <p:nvPr/>
        </p:nvGrpSpPr>
        <p:grpSpPr>
          <a:xfrm>
            <a:off x="0" y="1773360"/>
            <a:ext cx="8747280" cy="4816440"/>
            <a:chOff x="0" y="1773360"/>
            <a:chExt cx="8747280" cy="4816440"/>
          </a:xfrm>
        </p:grpSpPr>
        <p:pic>
          <p:nvPicPr>
            <p:cNvPr id="61" name="Picture 6" descr="Фотка_1443405"/>
            <p:cNvPicPr/>
            <p:nvPr/>
          </p:nvPicPr>
          <p:blipFill>
            <a:blip r:embed="rId2"/>
            <a:stretch/>
          </p:blipFill>
          <p:spPr>
            <a:xfrm>
              <a:off x="2411280" y="1773360"/>
              <a:ext cx="6336000" cy="465300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62" name="Picture 7" descr="11-2"/>
            <p:cNvPicPr/>
            <p:nvPr/>
          </p:nvPicPr>
          <p:blipFill>
            <a:blip r:embed="rId3"/>
            <a:stretch/>
          </p:blipFill>
          <p:spPr>
            <a:xfrm>
              <a:off x="0" y="3141720"/>
              <a:ext cx="2857680" cy="344808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3" descr="131822803_643_lpFBmC8"/>
          <p:cNvPicPr/>
          <p:nvPr/>
        </p:nvPicPr>
        <p:blipFill>
          <a:blip r:embed="rId1"/>
          <a:stretch/>
        </p:blipFill>
        <p:spPr>
          <a:xfrm>
            <a:off x="1619280" y="2205000"/>
            <a:ext cx="7058160" cy="4413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4" name="Picture 2" descr="carstwowaniezhestokoegotowitcarstwowanieslaboe-2"/>
          <p:cNvPicPr/>
          <p:nvPr/>
        </p:nvPicPr>
        <p:blipFill>
          <a:blip r:embed="rId2"/>
          <a:stretch/>
        </p:blipFill>
        <p:spPr>
          <a:xfrm>
            <a:off x="0" y="476280"/>
            <a:ext cx="1546200" cy="2160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395280" y="260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страханское восстание 1705 – 1706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195640" y="83664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9 июля 17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411280" y="126828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хи о выдаче русских девушек за иностран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333555"/>
          <p:cNvPicPr/>
          <p:nvPr/>
        </p:nvPicPr>
        <p:blipFill>
          <a:blip r:embed="rId3"/>
          <a:stretch/>
        </p:blipFill>
        <p:spPr>
          <a:xfrm>
            <a:off x="2411280" y="2133720"/>
            <a:ext cx="4432320" cy="446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260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страханское восстание 1705 – 1706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95640" y="83664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0 июля 17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604748_astrazhan"/>
          <p:cNvPicPr/>
          <p:nvPr/>
        </p:nvPicPr>
        <p:blipFill>
          <a:blip r:embed="rId1"/>
          <a:stretch/>
        </p:blipFill>
        <p:spPr>
          <a:xfrm>
            <a:off x="2843280" y="1341360"/>
            <a:ext cx="5905440" cy="5313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72" name="Text Box 9"/>
          <p:cNvSpPr/>
          <p:nvPr/>
        </p:nvSpPr>
        <p:spPr>
          <a:xfrm>
            <a:off x="324000" y="1413000"/>
            <a:ext cx="216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част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ль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д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ож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ргов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179280" y="4581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знено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95280" y="260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страханское восстание 1705 – 1706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39640" y="90792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чен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 месяце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родом управляло выбранное восставшим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бр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Его возглавил богатый купец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Яков Нос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трелец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ван Шелудя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бурмистр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аврила Ганчик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Российская-империя-в-первой-половине-19-в"/>
          <p:cNvPicPr/>
          <p:nvPr/>
        </p:nvPicPr>
        <p:blipFill>
          <a:blip r:embed="rId1"/>
          <a:stretch/>
        </p:blipFill>
        <p:spPr>
          <a:xfrm>
            <a:off x="684360" y="1979640"/>
            <a:ext cx="7489800" cy="4878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grpSp>
        <p:nvGrpSpPr>
          <p:cNvPr id="77" name="Group 5"/>
          <p:cNvGrpSpPr/>
          <p:nvPr/>
        </p:nvGrpSpPr>
        <p:grpSpPr>
          <a:xfrm>
            <a:off x="1979280" y="5013000"/>
            <a:ext cx="1152720" cy="864000"/>
            <a:chOff x="1979280" y="5013000"/>
            <a:chExt cx="1152720" cy="864000"/>
          </a:xfrm>
        </p:grpSpPr>
        <p:sp>
          <p:nvSpPr>
            <p:cNvPr id="78" name="Line 6"/>
            <p:cNvSpPr/>
            <p:nvPr/>
          </p:nvSpPr>
          <p:spPr>
            <a:xfrm flipV="1">
              <a:off x="2627280" y="5013000"/>
              <a:ext cx="504720" cy="647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7"/>
            <p:cNvSpPr/>
            <p:nvPr/>
          </p:nvSpPr>
          <p:spPr>
            <a:xfrm flipH="1" flipV="1">
              <a:off x="2484000" y="5229000"/>
              <a:ext cx="142920" cy="431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8"/>
            <p:cNvSpPr/>
            <p:nvPr/>
          </p:nvSpPr>
          <p:spPr>
            <a:xfrm flipH="1">
              <a:off x="2268000" y="5661000"/>
              <a:ext cx="35892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9"/>
            <p:cNvSpPr/>
            <p:nvPr/>
          </p:nvSpPr>
          <p:spPr>
            <a:xfrm flipH="1" flipV="1">
              <a:off x="1979280" y="515772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0"/>
          <p:cNvGrpSpPr/>
          <p:nvPr/>
        </p:nvGrpSpPr>
        <p:grpSpPr>
          <a:xfrm>
            <a:off x="2124000" y="3716280"/>
            <a:ext cx="1584360" cy="1873440"/>
            <a:chOff x="2124000" y="3716280"/>
            <a:chExt cx="1584360" cy="1873440"/>
          </a:xfrm>
        </p:grpSpPr>
        <p:grpSp>
          <p:nvGrpSpPr>
            <p:cNvPr id="83" name="Group 11"/>
            <p:cNvGrpSpPr/>
            <p:nvPr/>
          </p:nvGrpSpPr>
          <p:grpSpPr>
            <a:xfrm>
              <a:off x="2124000" y="3716280"/>
              <a:ext cx="1584360" cy="433440"/>
              <a:chOff x="2124000" y="3716280"/>
              <a:chExt cx="1584360" cy="433440"/>
            </a:xfrm>
          </p:grpSpPr>
          <p:sp>
            <p:nvSpPr>
              <p:cNvPr id="84" name="Oval 12"/>
              <p:cNvSpPr/>
              <p:nvPr/>
            </p:nvSpPr>
            <p:spPr>
              <a:xfrm>
                <a:off x="2268360" y="4005360"/>
                <a:ext cx="142920" cy="144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13"/>
              <p:cNvSpPr/>
              <p:nvPr/>
            </p:nvSpPr>
            <p:spPr>
              <a:xfrm>
                <a:off x="2124000" y="3716280"/>
                <a:ext cx="1584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ff"/>
                    </a:solidFill>
                    <a:latin typeface="Arial"/>
                  </a:rPr>
                  <a:t>Москва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14"/>
            <p:cNvSpPr/>
            <p:nvPr/>
          </p:nvSpPr>
          <p:spPr>
            <a:xfrm>
              <a:off x="2340000" y="4149720"/>
              <a:ext cx="287280" cy="1440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15" descr="ШереметьевX_1"/>
          <p:cNvPicPr/>
          <p:nvPr/>
        </p:nvPicPr>
        <p:blipFill>
          <a:blip r:embed="rId2"/>
          <a:srcRect l="4822" t="5710" r="4822" b="4651"/>
          <a:stretch/>
        </p:blipFill>
        <p:spPr>
          <a:xfrm>
            <a:off x="3492360" y="2276640"/>
            <a:ext cx="1562400" cy="2160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8" name="Picture 16" descr="102478_900"/>
          <p:cNvPicPr/>
          <p:nvPr/>
        </p:nvPicPr>
        <p:blipFill>
          <a:blip r:embed="rId3"/>
          <a:stretch/>
        </p:blipFill>
        <p:spPr>
          <a:xfrm>
            <a:off x="4859280" y="3933720"/>
            <a:ext cx="4067280" cy="27115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95280" y="260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страханское восстание 1705 – 1706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9640" y="9079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знено боле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5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участников восс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2" descr="images"/>
          <p:cNvPicPr/>
          <p:nvPr/>
        </p:nvPicPr>
        <p:blipFill>
          <a:blip r:embed="rId1"/>
          <a:stretch/>
        </p:blipFill>
        <p:spPr>
          <a:xfrm>
            <a:off x="179280" y="1916280"/>
            <a:ext cx="2897280" cy="3311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2" name="Picture 24" descr="images"/>
          <p:cNvPicPr/>
          <p:nvPr/>
        </p:nvPicPr>
        <p:blipFill>
          <a:blip r:embed="rId2"/>
          <a:stretch/>
        </p:blipFill>
        <p:spPr>
          <a:xfrm>
            <a:off x="3276720" y="1916280"/>
            <a:ext cx="2525760" cy="3313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3" name="Picture 25" descr="091005_torture"/>
          <p:cNvPicPr/>
          <p:nvPr/>
        </p:nvPicPr>
        <p:blipFill>
          <a:blip r:embed="rId3"/>
          <a:srcRect l="6479" t="0" r="2808" b="0"/>
          <a:stretch/>
        </p:blipFill>
        <p:spPr>
          <a:xfrm>
            <a:off x="5940360" y="1916280"/>
            <a:ext cx="3024360" cy="3333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0T18:46:54Z</dcterms:created>
  <dc:creator>Константин</dc:creator>
  <dc:description/>
  <dc:language>en-US</dc:language>
  <cp:lastModifiedBy>Константин</cp:lastModifiedBy>
  <dcterms:modified xsi:type="dcterms:W3CDTF">2023-11-11T18:45:42Z</dcterms:modified>
  <cp:revision>39</cp:revision>
  <dc:subject/>
  <dc:title>Социальные движения.  Оппозиция реформам Петра I .</dc:title>
</cp:coreProperties>
</file>