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B886-3764-4E29-88F5-E25158B3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24B9-0F64-4592-8123-B585F82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19F-7C80-417B-9D44-2616AF08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E8DC-D253-4DC7-BDF7-EE0B7E99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34D6-855C-4620-887A-B26AB162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58B9-BF54-4212-A70D-F36B0B16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C899-6CEB-43DA-BF68-03BFE960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15E8-20F0-4B4F-81E8-EA02FC21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01CE-8E25-4D67-A3AB-31551C01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FBEB-87E9-4CAE-8544-BE4D5EA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2825-4459-4F3A-8257-2B673BC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ABC-84AF-43A1-9464-0F6CFC1E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417B-AD11-41CA-ADF5-75309700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34D2-0ABD-46E1-90DA-21C5389B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8DD5-9ED0-46B5-BE6A-EB476DE8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FCA7-0EB1-419E-B0C9-C6B97BE2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8123-6719-403C-85FC-B6E99361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77C-4000-4C97-B4C7-2BCA0870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684-7216-475E-947E-BF234D0E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555-8BD0-477E-93FB-268569A6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2221-5EAA-4D75-B718-900296DF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1F0-7487-463E-AD85-2606D744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F43-F59D-4A63-B9B1-3AD0396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18FF-3E86-4D86-9813-DC95812D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601C-13E2-4F1E-A372-4EE7121B85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8CFA-F533-432B-B655-7D3D36701B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43840" y="620640"/>
            <a:ext cx="56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Виктори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об освоении космос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38520" y="2421000"/>
            <a:ext cx="27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-4 клас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76600" y="335772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5040" y="1628640"/>
            <a:ext cx="8378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8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Сколько по времени длился этот полё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) С какой скоростью двигался кораб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«Восток» и на какой высо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51280" y="3984480"/>
            <a:ext cx="5108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31328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фразу, ставшую крылатой, сказал Ю.А. Гагарин перед стартом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356000" y="3268800"/>
            <a:ext cx="46278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5840" y="1844640"/>
            <a:ext cx="748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ой позывной был у Ю.А. Гагари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59280" y="3435480"/>
            <a:ext cx="60847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1680" y="1413000"/>
            <a:ext cx="765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работу выполнял Юрий Гагари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 время полёт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24360" y="3203640"/>
            <a:ext cx="52196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148428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м вёл запись Ю. А. Гагарин в бортовом журнал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780000" y="3297240"/>
            <a:ext cx="536400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138492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де состоялась посадка космонав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помощью специального катапультируемого кресл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11640" y="3798720"/>
            <a:ext cx="493236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800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ерез сколько минут с начала взлёта Ю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агарин вновь ступил на Землю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56520" y="3141720"/>
            <a:ext cx="2787480" cy="3716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268360" y="3645000"/>
            <a:ext cx="3883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8320" y="1577880"/>
            <a:ext cx="7477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 воп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Кто был дублёром Гагарина на зем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На каком корабле он впоследствии тож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етел в космо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Сколько по времени длился его полёт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76760" y="3979800"/>
            <a:ext cx="4467240" cy="2878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1392120"/>
            <a:ext cx="79362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Кто был первым человеком на Земл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ршившим выход в открытый космо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В каком год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Что больше всего его поразило в открыт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смос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59280" y="4164120"/>
            <a:ext cx="4284720" cy="2693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692360" y="4457880"/>
            <a:ext cx="30826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195920"/>
            <a:ext cx="88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неприятность случилос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 космонавтом во время выхода в открытый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40608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у планету окружает бескрайнее пространство, скрывающее в себе множество удивительных явлений. Не одно столетие люди разглядывали звёздное небо, пытаясь разгадать его тайны. Но лишь несколько десятилетий назад человеку удалось сделать первые шаги к познанию Космоса и стать не наблюдателем, а гостем, выйдя за пределы земной атмо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перь в этот день, 12 апреля, мы отмечаем День Космонавт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503000"/>
            <a:ext cx="8642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В каком году был выполнен первый в мире полёт в космос женщины-космонавт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Как её зва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932360" y="3579840"/>
            <a:ext cx="42116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400" y="1455840"/>
            <a:ext cx="7448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знаменитую фразу произнес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алентина Терешк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381560" y="3333600"/>
            <a:ext cx="47624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6480" y="1557360"/>
            <a:ext cx="850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олько лет исполнится в этом году со д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ого полёта человека в косм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-142200" y="1916280"/>
            <a:ext cx="973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nsolas"/>
              </a:rPr>
              <a:t>Спасибо за участие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8000" y="146844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240" indent="1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воп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1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) Кто в далёкие времена называл Мир (или Вселенную) Космосо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40" indent="1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) Что в буквальном переводе означает  это сло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932360" y="3699000"/>
            <a:ext cx="42116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680" y="1573560"/>
            <a:ext cx="75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вопр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называется Галактика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которой находится наша Солне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истема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360" y="3639960"/>
            <a:ext cx="56516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1959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Какая звезда ближайшая к Солнцу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Сколько космонавту пришлось бы лететь,  чтобы её достич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356000" y="3267000"/>
            <a:ext cx="4788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313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смонавты утверждают, что у космоса есть запах, какой он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19520" y="3463920"/>
            <a:ext cx="45244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280" y="1240200"/>
            <a:ext cx="736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С какого года отмечается Всемир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нь авиации и космонавти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Б) Чему он посвящё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24360" y="3595680"/>
            <a:ext cx="52196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80" y="1128600"/>
            <a:ext cx="936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вопро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Кто стал первым космонавтом плане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Благодаря какому конструктор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ганизатору работ по созданию ракетно-космическ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хники  стал возможен полёт в космо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38680" y="3720960"/>
            <a:ext cx="4405320" cy="3137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3286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268280"/>
            <a:ext cx="8497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вопро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С какого космодрома был осуществлё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ый полёт человека в космическо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странство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Как назывался космический корабл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Какая температура была в  кабине кораб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д старто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59280" y="4430880"/>
            <a:ext cx="42847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4T07:23:19Z</dcterms:created>
  <dc:creator>Мишаня</dc:creator>
  <dc:description/>
  <dc:language>en-US</dc:language>
  <cp:lastModifiedBy>Мишаня</cp:lastModifiedBy>
  <dcterms:modified xsi:type="dcterms:W3CDTF">2021-02-16T10:20:57Z</dcterms:modified>
  <cp:revision>6</cp:revision>
  <dc:subject/>
  <dc:title>Слайд 1</dc:title>
</cp:coreProperties>
</file>