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9CCD-2988-4716-9191-336F267E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19A3-5870-499E-A7E7-54ECEBE7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F26-4024-4D33-B68A-C0D75D54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CF0-B6EF-4719-AD78-601F2CCE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472B-4249-40C6-9EDB-5EA6C9D7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222F-ADE4-47CE-9EA2-A3D7B4C0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30EB-2AE5-44F9-A180-71D5355C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09F4-3DD7-456D-8074-806E5628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BA15-AD9C-4032-91CC-5D5DE747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23A7-891D-4994-9C52-44A2377C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6779-51E2-44C9-A2EF-C4EF9ACC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4C4-4715-4EE4-9C0F-13D39EB6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549A-0DC5-413F-A17B-07415A59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E113-BD5F-4B21-A324-0BBD49D3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4F74-912D-4894-ACCE-9CEE3B99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A8A0-CB77-4FB5-80F7-EA4954BE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7F1F-B7A8-43D5-9B02-4CE4C814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834-16F9-4C11-ACDD-A6F1E018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68B2-5F96-4CF7-90A2-34C86B52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F61-46CB-4382-9F03-75F8AC5E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E8C-A3A0-4723-9F57-E989E1F0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F40-F2B2-4A97-AAA0-4DC94A98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13E8-4FB3-4572-9F7E-AF708DC5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355-B78C-4FD7-B728-73637C74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3896-6D75-4685-BF66-5A9EA8BDE2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38F9-8C1F-450B-8C8C-38E8803342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43840" y="620640"/>
            <a:ext cx="562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Викторин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об освоении космос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38520" y="2421000"/>
            <a:ext cx="27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-4 клас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476600" y="3357720"/>
            <a:ext cx="46674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5040" y="1628640"/>
            <a:ext cx="8378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 вопро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) Сколько по времени длился этот полё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) С какой скоростью двигался кораб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Восток» и на какой высо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51280" y="3984480"/>
            <a:ext cx="5108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31328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ую фразу, ставшую крылатой, сказал Ю.А. Гагарин перед стартом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356000" y="3268800"/>
            <a:ext cx="46278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5840" y="1844640"/>
            <a:ext cx="748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й позывной был у Ю.А. Гагари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59280" y="3435480"/>
            <a:ext cx="608472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1680" y="1413000"/>
            <a:ext cx="765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ую работу выполнял Юрий Гагари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 время полёт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24360" y="3203640"/>
            <a:ext cx="521964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1484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м вёл запись Ю. А. Гагарин в бортовом журнал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780000" y="3297240"/>
            <a:ext cx="53640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138492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де состоялась посадка космонав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помощью специального катапультируемого крес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211640" y="3798720"/>
            <a:ext cx="493236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18008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 в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рез сколько минут с начала взлёта Ю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агарин вновь ступил на Землю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56520" y="3141720"/>
            <a:ext cx="2787480" cy="3716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268360" y="3645000"/>
            <a:ext cx="38833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8320" y="1577880"/>
            <a:ext cx="7477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 вопро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Кто был дублёром Гагарина на земл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На каком корабле он впоследствии тож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етел в космос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Сколько по времени длился его полёт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76760" y="3979800"/>
            <a:ext cx="4467240" cy="2878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7040" y="1392120"/>
            <a:ext cx="79362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Кто был первым человеком на Земл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ершившим выход в открытый космос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В каком год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Что больше всего его поразило в открыт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смос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859280" y="4164120"/>
            <a:ext cx="4284720" cy="2693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692360" y="4457880"/>
            <a:ext cx="30826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19592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неприятность случилос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космонавтом во время выхода в открытый космо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56000" y="3267000"/>
            <a:ext cx="47880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40608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шу планету окружает бескрайнее пространство, скрывающее в себе множество удивительных явлений. Не одно столетие люди разглядывали звёздное небо, пытаясь разгадать его тайны. Но лишь несколько десятилетий назад человеку удалось сделать первые шаги к познанию Космоса и стать не наблюдателем, а гостем, выйдя за пределы земной атмосф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перь в этот день, 12 апреля, мы отмечаем День Космонавт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503000"/>
            <a:ext cx="86421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В каком году был выполнен первый в мире полёт в космос женщины-космонав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Как её зва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932360" y="3579840"/>
            <a:ext cx="421164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400" y="1455840"/>
            <a:ext cx="744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ую знаменитую фразу произне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алентина Терешк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381560" y="3333600"/>
            <a:ext cx="47624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6480" y="1557360"/>
            <a:ext cx="850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лько лет исполнится в этом году со дн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вого полёта человека в космо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0" y="342756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142200" y="1916280"/>
            <a:ext cx="973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nsolas"/>
              </a:rPr>
              <a:t>Спасибо за участие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000" y="1468440"/>
            <a:ext cx="88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240" indent="1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вопро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1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) Кто в далёкие времена называл Мир (или Вселенную) Космосом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1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) Что в буквальном переводе означает  это слов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932360" y="3699000"/>
            <a:ext cx="42116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680" y="1573560"/>
            <a:ext cx="750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в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называется Галактика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оторой находится наша Солнечн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стема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360" y="3639960"/>
            <a:ext cx="565164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19592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) Какая звезда ближайшая к Солнцу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) Сколько космонавту пришлось бы лететь,  чтобы её достич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356000" y="3267000"/>
            <a:ext cx="47880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3132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смонавты утверждают, что у космоса есть запах, какой он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19520" y="3463920"/>
            <a:ext cx="45244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7280" y="1240200"/>
            <a:ext cx="736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) С какого года отмечается Всемир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нь авиации и космонавти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) Чему он посвящё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24360" y="3595680"/>
            <a:ext cx="52196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80" y="1128600"/>
            <a:ext cx="936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вопро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Кто стал первым космонавтом планет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Благодаря какому конструктор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рганизатору работ по созданию ракетно-космическ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хники  стал возможен полёт в космос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38680" y="3720960"/>
            <a:ext cx="4405320" cy="3137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3286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268280"/>
            <a:ext cx="84978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С какого космодрома был осуществлё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вый полёт человека в космическ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странств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Как назывался космический корабл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Какая температура была в  кабине кораб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ед старт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59280" y="4430880"/>
            <a:ext cx="428472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14T07:23:19Z</dcterms:created>
  <dc:creator>Мишаня</dc:creator>
  <dc:description/>
  <dc:language>en-US</dc:language>
  <cp:lastModifiedBy>Мишаня</cp:lastModifiedBy>
  <dcterms:modified xsi:type="dcterms:W3CDTF">2021-02-16T10:20:57Z</dcterms:modified>
  <cp:revision>6</cp:revision>
  <dc:subject/>
  <dc:title>Слайд 1</dc:title>
</cp:coreProperties>
</file>