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F9ED-25CC-4DF7-A562-60C4C2C3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A17A-1781-4BAA-8582-C8BDCA0A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54A0-91A8-4BEB-A147-E88F99C7E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4F00-17DD-4604-ADC7-0D1FD768C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BB7B-23AF-4B8A-8B4D-DDE45CF4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DD64-A318-4234-8608-8BEC056B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C77E-B9A5-41D3-B24E-0D3255E8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C529-01AF-4543-9586-5AA22AEC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C0EF-6C3F-4397-B98E-2336BEB5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6F6F-B8C1-439F-A2B0-CEA12ABF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67CF-BE0F-4935-AACC-B4DAD54A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225D-7BCF-4166-B368-8DB61E4F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1C2E-BA3D-4C60-8745-68F2EDB57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тча о добром Самарянин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3933360"/>
            <a:ext cx="8064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Притч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  иносказательный рассказ с  нравоучени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Самаряни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житель самарянской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Доброта и милосердие христианин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вы думаете, кем был избитый для Самарянина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дствен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уг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ком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се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знаком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ими качествами обладал Самарянин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внодуш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илосерд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стр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ад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ром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му принес пользу поступок Самарянин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традавш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маряни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ладельцу гости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илосерд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3885840"/>
            <a:ext cx="777528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Милосерд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сердоболие, сочувствие, любовь на деле, готовность делать добро всяко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Милосердны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добрый, милующий, жалеющ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Милостын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помощь другому человеку из жалости к н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8:58:28Z</dcterms:created>
  <dc:creator>TMD User</dc:creator>
  <dc:description/>
  <dc:language>en-US</dc:language>
  <cp:lastModifiedBy>HP</cp:lastModifiedBy>
  <dcterms:modified xsi:type="dcterms:W3CDTF">2013-10-16T17:18:21Z</dcterms:modified>
  <cp:revision>8</cp:revision>
  <dc:subject/>
  <dc:title>Притча о добром Самарянине.</dc:title>
</cp:coreProperties>
</file>