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5FFA-6DD3-4C44-8EE2-C271D5C26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E751-5BA9-47CB-AB3A-0F8E58141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8126-CC11-4D86-AD4B-B5584BF02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DA18-BAFD-4727-B6D7-6870141FE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CDBA-53B1-4293-90D5-6EAD53514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43DE-21F6-4461-80E1-08D05E7B9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B54E-3D42-42D0-9B4A-F53CEDDAA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EBE0-CB91-4C48-A0EF-B87DC1B8E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FD3B-B10C-48D8-BEBA-039B3573E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F5EF-1F3B-4883-A115-FA2AC87E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2207-A237-4E7D-B4D1-12C31A79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DB0B-3CAF-4F82-AB96-6C06EB32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EF0CA-64EB-4AD4-96D8-90F96CDE4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тча о добром Самарянин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000" y="3933360"/>
            <a:ext cx="8064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Притч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  иносказательный рассказ с  нравоучение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Самаряни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житель самарянской зем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Доброта и милосердие христианин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 вы думаете, кем был избитый для Самарянина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одственни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руг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наком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се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знакомц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кими качествами обладал Самарянин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внодуш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илосерд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стр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бр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жад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кром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ому принес пользу поступок Самарянин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страдавш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амаряни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ладельцу гостин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илосерд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3885840"/>
            <a:ext cx="7775280" cy="24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Милосерд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сердоболие, сочувствие, любовь на деле, готовность делать добро всяком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Милосердны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добрый, милующий, жалеющ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Милостын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помощь другому человеку из жалости к н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6T18:58:28Z</dcterms:created>
  <dc:creator>TMD User</dc:creator>
  <dc:description/>
  <dc:language>en-US</dc:language>
  <cp:lastModifiedBy>HP</cp:lastModifiedBy>
  <dcterms:modified xsi:type="dcterms:W3CDTF">2013-10-16T17:18:21Z</dcterms:modified>
  <cp:revision>8</cp:revision>
  <dc:subject/>
  <dc:title>Притча о добром Самарянине.</dc:title>
</cp:coreProperties>
</file>