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226-C412-4095-911D-6ECCA2F3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DF4-D26A-4192-90CF-02B271AC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795F-3F7E-4D6D-8FB2-EB184E32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CA0-4763-45FA-ADE5-196B2710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E63B-AB97-4D6C-8B9B-284368C5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59A2-3006-4C2F-8ACA-992252BE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D77F-E61E-47F0-B5AE-D64B80C3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3352-EDB2-497A-AEE8-1FB74B02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37A7-28E4-4AD2-A8FE-665B07E8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07E2-B443-448E-A045-8BAAC243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E740-4FF9-44AC-9D27-9A32A816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8E6A-7F80-4A67-A33D-7F956FEA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DEEC-9BC2-48B0-BAFA-11C532C0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CE10-E5EF-4434-B677-322F3BCA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371A-2FDB-4AA1-8B4B-42D36B2F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D94D-E3B6-4A40-ADF6-FC5E0F21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A144-F635-4A8D-AF7D-EC9AC46E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029-8C15-4674-AAB4-98D3FBCD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356-57C0-4B2A-9694-B6CD914B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091-8DD0-4C65-8D26-53B6D239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B8E-1E6D-428B-984C-4CFCE053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46C-7D85-4979-9EB5-DC9F7B5A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D3D-FCE8-4059-8E3F-9D41A791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EE6F-2543-4A3F-8CC1-0DFE592C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25D0-10AA-4B53-A606-6AC1F05EBC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0118-733E-4C88-A9BA-ADBF270E37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79520" y="1411920"/>
            <a:ext cx="4094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ДОБР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РАССУД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УМ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ЖИЗНЕРАДОС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БОЕВЫЕ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АК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6360" y="443700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 ком мы можем так сказ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1120" y="4869000"/>
            <a:ext cx="81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гут ли эти качества быть присущи одному челове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9800" y="5373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9800" y="5445000"/>
            <a:ext cx="50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е слово здесь зашифрова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57560" y="307800"/>
            <a:ext cx="249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ДРУЖ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Знак вопроса PNG, вопрос PNG"/>
          <p:cNvPicPr/>
          <p:nvPr/>
        </p:nvPicPr>
        <p:blipFill>
          <a:blip r:embed="rId1"/>
          <a:stretch/>
        </p:blipFill>
        <p:spPr>
          <a:xfrm>
            <a:off x="7093080" y="1557360"/>
            <a:ext cx="14824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486880" y="263628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Чувства, которые я испытываю в школ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8160" y="314100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Чувства, которые я испытываю дом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28000" y="3644280"/>
            <a:ext cx="60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Чувства, которые я испытываю со своими друзьям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7800" y="1627200"/>
            <a:ext cx="260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в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ди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м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вож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зразли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Знак вопроса PNG, вопрос PNG"/>
          <p:cNvPicPr/>
          <p:nvPr/>
        </p:nvPicPr>
        <p:blipFill>
          <a:blip r:embed="rId1"/>
          <a:stretch/>
        </p:blipFill>
        <p:spPr>
          <a:xfrm>
            <a:off x="7164360" y="1484280"/>
            <a:ext cx="1482840" cy="1976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11680" y="404640"/>
            <a:ext cx="64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чувства ты испытыва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8920" y="5176800"/>
            <a:ext cx="76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человек испытывает в разных ситуациях по отношению к други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9640" y="1717560"/>
            <a:ext cx="80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способность ценить и почитать другого человека, его слова и поступки, даже если мы не разделяем и не одобряем его действи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Знак вопроса PNG, вопрос PNG"/>
          <p:cNvPicPr/>
          <p:nvPr/>
        </p:nvPicPr>
        <p:blipFill>
          <a:blip r:embed="rId1"/>
          <a:stretch/>
        </p:blipFill>
        <p:spPr>
          <a:xfrm>
            <a:off x="1042920" y="189000"/>
            <a:ext cx="1060560" cy="1412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04560" y="1206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2000" y="404640"/>
            <a:ext cx="335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ВА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572640"/>
            <a:ext cx="792144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ажать — это принять человека таким, какой он есть, не пытаясь его изменит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760" y="4868640"/>
            <a:ext cx="7957440" cy="97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Людей нужно уважать просто потом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что все мы люди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177012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ружба – это великая ценность, подарок судьбы. Дружба помогает нам учиться, работать, жить. Она делает нас лучше, добрее, сильне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ез друзей человеку просто не прож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меть друга – великое бла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9240" y="324648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Р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Сочинение на тему &quot;Дружба&quot; | Сочинение и анализ произведений, биографии,  образ героев"/>
          <p:cNvPicPr/>
          <p:nvPr/>
        </p:nvPicPr>
        <p:blipFill>
          <a:blip r:embed="rId1"/>
          <a:stretch/>
        </p:blipFill>
        <p:spPr>
          <a:xfrm>
            <a:off x="6281640" y="4255920"/>
            <a:ext cx="2862360" cy="2602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132360" y="404640"/>
            <a:ext cx="254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РУЖ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85840" y="259200"/>
            <a:ext cx="58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ак выбрать друга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89648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Миши Андреева было два друга: Олег и Денис. Они подружились еще в первом классе. У них было много общего: все трое собирали модели автомобилей, втроем бегали на тренировки в бассейн, втроем болели за «Спартак». Но в седьмом классе их дружба дала трещину, и Мишка понял, что приде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бирать, с кем дружить: с Олегом или с Денис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Олегом было всегда весело, легко и интересно. Родители давали ему деньги на карманные расходы.  У Олега были новые современные гаджеты. Одним словом, Олег был крутым пацаном, и Миша старался подражать ему во вс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у а с Денисом они встречались теперь редко. Он продолжал ходить на плавание и говорил теперь только о своих спортивных результатах. В голове у него было полно всяких планов и целей. Но что самое противное — постоянно критиковал Мишу: за прогулы, за то, что бросил спорт, что не умеет выбирать дру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т Миша и подумал, что действительно пришла пора выбирать: Олег или Дени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4160" y="6307560"/>
            <a:ext cx="89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ак вы думаете, какого друга должен выбрать себе Миша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Знак вопроса PNG, вопрос PNG"/>
          <p:cNvPicPr/>
          <p:nvPr/>
        </p:nvPicPr>
        <p:blipFill>
          <a:blip r:embed="rId1"/>
          <a:stretch/>
        </p:blipFill>
        <p:spPr>
          <a:xfrm>
            <a:off x="7986600" y="0"/>
            <a:ext cx="11574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342520" y="403920"/>
            <a:ext cx="40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Друг - это тот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5120" y="1752840"/>
            <a:ext cx="77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можно ли назвать этих трех мальчиков друзь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вы, по-вашему,  признаки настоящей дружб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Красивые картинки про дружбу (45 фото) • Прикольные картинки и позитив"/>
          <p:cNvPicPr/>
          <p:nvPr/>
        </p:nvPicPr>
        <p:blipFill>
          <a:blip r:embed="rId1"/>
          <a:stretch/>
        </p:blipFill>
        <p:spPr>
          <a:xfrm>
            <a:off x="2050920" y="2997360"/>
            <a:ext cx="4622760" cy="3074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Знак вопроса PNG, вопрос PNG"/>
          <p:cNvPicPr/>
          <p:nvPr/>
        </p:nvPicPr>
        <p:blipFill>
          <a:blip r:embed="rId2"/>
          <a:stretch/>
        </p:blipFill>
        <p:spPr>
          <a:xfrm>
            <a:off x="7020000" y="3716280"/>
            <a:ext cx="14824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293440" y="134064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Владимир Иванович Да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320" y="403920"/>
            <a:ext cx="72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ружба – бескорыстная стойкая приязнь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77300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ервое место знаменитый ученый и писатель ставит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бескорысти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ы дружишь с человеком не для того, чтобы он тебе что-нибудь хорошее сделал, не потому, что это выгодно. Ты дружишь с человеком потому, что он близок тебе. Близки его интересы, его взгляды, его внутренний ми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141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учается, что ради дружбы необходимо поступиться своими личными интересами. И если дружба для тебя действительно ценна, ты делаешь это, не задумывая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воря о дружбе, нельзя не сказать и о таком важном понятии, как порядочность. Порядочность лежит в основе многих человеческих поступков. Заступиться за младшего, которого обижают, уступить место в автобусе, прийти на помощь старому человеку – все это проявления порядочности. Лишь у порядочного человека могут быть настоящие, верные, надежные друзья. Друзья на всю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4320" y="54720"/>
            <a:ext cx="811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ружба - это не только великий дар, но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ликий тру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411560"/>
            <a:ext cx="81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многих русских пословицах содержаться мудрые наставления о том, как сохранить дружбу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3280" y="335772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т друга — ищи,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9080" y="335772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ешь — бере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386064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а иметь -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64720" y="386064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жал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4160" y="436572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 позн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60000" y="4365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6160" y="4797360"/>
            <a:ext cx="24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а на день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4360" y="479736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куп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2200" y="5300640"/>
            <a:ext cx="51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то друга в беде покидает, тот 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8720" y="530064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еду попада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720" y="249228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ние 1. Допиши послов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1423080"/>
            <a:ext cx="73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читайте проблемные ситуации,   подберите к ним одну из пословиц, которая подскажет, как вести себя в этой ситуации, и опишите свои 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ᐈ Картинки вопрос ответ фотографии, картинки вопрос ответ | скачать на  Depositphotos®"/>
          <p:cNvPicPr/>
          <p:nvPr/>
        </p:nvPicPr>
        <p:blipFill>
          <a:blip r:embed="rId1"/>
          <a:stretch/>
        </p:blipFill>
        <p:spPr>
          <a:xfrm>
            <a:off x="4859280" y="3263760"/>
            <a:ext cx="35560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4040" y="297720"/>
            <a:ext cx="75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накомый, приятель, товарищ, дру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148284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человеке, с которым вы просто здороваетесь во дворе, вы можете сказать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240048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человеке, с которым время от времени обсуждаете детали матча, фильм, какие-то события, вы скажит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880" y="3427560"/>
            <a:ext cx="82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 однокласснике, с которым за 4 года съели пуд со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ажете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3120" y="4291200"/>
            <a:ext cx="827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человеке, которому доверяете свои тайны, с котор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лите радости и печали, скажете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Знак вопроса PNG, вопрос PNG"/>
          <p:cNvPicPr/>
          <p:nvPr/>
        </p:nvPicPr>
        <p:blipFill>
          <a:blip r:embed="rId1"/>
          <a:stretch/>
        </p:blipFill>
        <p:spPr>
          <a:xfrm>
            <a:off x="7093080" y="4881600"/>
            <a:ext cx="14824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9640" y="197496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ступай с другими людьми так, как ты хотел бы, чтобы они поступали по отношению к теб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Знак вопроса PNG, вопрос PNG"/>
          <p:cNvPicPr/>
          <p:nvPr/>
        </p:nvPicPr>
        <p:blipFill>
          <a:blip r:embed="rId1"/>
          <a:stretch/>
        </p:blipFill>
        <p:spPr>
          <a:xfrm>
            <a:off x="7093080" y="4881600"/>
            <a:ext cx="1482480" cy="1976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99520" y="179280"/>
            <a:ext cx="75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вы понимаете данное выра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7T08:32:26Z</dcterms:created>
  <dc:creator>Мишаня</dc:creator>
  <dc:description/>
  <dc:language>en-US</dc:language>
  <cp:lastModifiedBy>Мишаня</cp:lastModifiedBy>
  <dcterms:modified xsi:type="dcterms:W3CDTF">2020-11-07T10:40:49Z</dcterms:modified>
  <cp:revision>2</cp:revision>
  <dc:subject/>
  <dc:title>Слайд 1</dc:title>
</cp:coreProperties>
</file>