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50C5-BE8A-4AD1-8574-EDC6EF43A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FDB-59C9-437D-93BA-BEB59D3F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C62-9C80-4363-9C8B-F8BCC28B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787-FC87-4913-834F-1FE21820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24B-5719-43B2-9663-ED206D34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B0D1-A562-4FC7-9BBA-EF0A993A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D0B4-C42F-48E3-A057-C290EF16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943-BCBD-4206-8DFB-8D36907C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78B8-FACD-4590-85D5-36B03B4E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C4C3-78BA-4EE8-89EB-C3AA5BBF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CD38-0790-4B1C-9998-CF765E1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282-37C0-48C1-87A8-95E18AE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C338-55EA-49C5-A204-A9E057BD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52B3-F5A6-4B26-9264-46AA2ACD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BED4-35A7-4A6F-814D-CB566C17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033B-562A-44AC-B829-65D99D0F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92B7-7D91-4E00-B709-31B0D2A1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1AA-35C0-4910-A3F2-7C0FECD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A287-8DB0-4EC0-A5FD-C58BEE7B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95A-E040-4FE0-89EE-143E2D2B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22C-7360-41FA-A008-882B88A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82A-F94D-44C6-BA35-687452F2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A1D-C925-43BE-9892-7BEA76D2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B0A-3DE0-490B-8C5C-6842CC25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7CEE-761D-454F-A51D-68DC3056DC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5DD-BE06-421A-A01D-D1525F442F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79520" y="1411920"/>
            <a:ext cx="409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ДОБ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РАССУД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У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ЖИЗНЕРАД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БОЕВЫЕ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АК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6360" y="443700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ком мы можем так 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120" y="4869000"/>
            <a:ext cx="81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гут ли эти качества быть присущи одному челове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9800" y="5373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9800" y="544500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е слово здесь зашифров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57560" y="307800"/>
            <a:ext cx="249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Р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155736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486880" y="263628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в школ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8160" y="314100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дом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28000" y="364428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Чувства, которые я испытываю со своими друзьям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7800" y="1627200"/>
            <a:ext cx="26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в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и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м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вож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разли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164360" y="1484280"/>
            <a:ext cx="1482840" cy="1976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11680" y="404640"/>
            <a:ext cx="64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чувства ты испытыва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8920" y="5176800"/>
            <a:ext cx="76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человек испытывает в разных ситуациях по отношению к други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717560"/>
            <a:ext cx="80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способность ценить и почитать другого человека, его слова и поступки, даже если мы не разделяем и не одобряем его действия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1042920" y="189000"/>
            <a:ext cx="1060560" cy="1412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04560" y="120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2000" y="404640"/>
            <a:ext cx="335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ВА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572640"/>
            <a:ext cx="7921440" cy="7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важать — это принять человека таким, какой он есть, не пытаясь его измени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760" y="4868640"/>
            <a:ext cx="7957440" cy="9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Людей нужно уважать просто потом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что все мы люди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360" y="177012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ружба – это великая ценность, подарок судьбы. Дружба помогает нам учиться, работать, жить. Она делает нас лучше, добрее, сильне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з друзей человеку просто не прож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меть друга – великое бла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240" y="32464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Сочинение на тему &quot;Дружба&quot; | Сочинение и анализ произведений, биографии,  образ героев"/>
          <p:cNvPicPr/>
          <p:nvPr/>
        </p:nvPicPr>
        <p:blipFill>
          <a:blip r:embed="rId1"/>
          <a:stretch/>
        </p:blipFill>
        <p:spPr>
          <a:xfrm>
            <a:off x="6281640" y="4255920"/>
            <a:ext cx="2862360" cy="2602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132360" y="404640"/>
            <a:ext cx="254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РУЖ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85840" y="259200"/>
            <a:ext cx="58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к выбрать друг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896480"/>
            <a:ext cx="828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Миши Андреева было два друга: Олег и Денис. Они подружились еще в первом классе. У них было много общего: все трое собирали модели автомобилей, втроем бегали на тренировки в бассейн, втроем болели за «Спартак». Но в седьмом классе их дружба дала трещину, и Мишка понял, что прид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ирать, с кем дружить: с Олегом или с Денис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Олегом было всегда весело, легко и интересно. Родители давали ему деньги на карманные расходы.  У Олега были новые современные гаджеты. Одним словом, Олег был крутым пацаном, и Миша старался подражать ему во вс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у а с Денисом они встречались теперь редко. Он продолжал ходить на плавание и говорил теперь только о своих спортивных результатах. В голове у него было полно всяких планов и целей. Но что самое противное — постоянно критиковал Мишу: за прогулы, за то, что бросил спорт, что не умеет выбирать друз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т Миша и подумал, что действительно пришла пора выбирать: Олег или Дени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4160" y="630756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ак вы думаете, какого друга должен выбрать себе Миша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986600" y="0"/>
            <a:ext cx="11574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42520" y="403920"/>
            <a:ext cx="40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руг - это тот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5120" y="1752840"/>
            <a:ext cx="77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можно ли назвать этих трех мальчиков друзь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вы, по-вашему,  признаки настоящей дружб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Красивые картинки про дружбу (45 фото) • Прикольные картинки и позитив"/>
          <p:cNvPicPr/>
          <p:nvPr/>
        </p:nvPicPr>
        <p:blipFill>
          <a:blip r:embed="rId1"/>
          <a:stretch/>
        </p:blipFill>
        <p:spPr>
          <a:xfrm>
            <a:off x="2050920" y="2997360"/>
            <a:ext cx="4622760" cy="307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Знак вопроса PNG, вопрос PNG"/>
          <p:cNvPicPr/>
          <p:nvPr/>
        </p:nvPicPr>
        <p:blipFill>
          <a:blip r:embed="rId2"/>
          <a:stretch/>
        </p:blipFill>
        <p:spPr>
          <a:xfrm>
            <a:off x="7020000" y="371628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293440" y="134064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ладимир Иванович Да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320" y="403920"/>
            <a:ext cx="72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ружба – бескорыстная стойкая приязнь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773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ервое место знаменитый ученый и писатель ставит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бескорыст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ы дружишь с человеком не для того, чтобы он тебе что-нибудь хорошее сделал, не потому, что это выгодно. Ты дружишь с человеком потому, что он близок тебе. Близки его интересы, его взгляды, его внутренний ми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14136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учается, что ради дружбы необходимо поступиться своими личными интересами. И если дружба для тебя действительно ценна, ты делаешь это, не задумывая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воря о дружбе, нельзя не сказать и о таком важном понятии, как порядочность. Порядочность лежит в основе многих человеческих поступков. Заступиться за младшего, которого обижают, уступить место в автобусе, прийти на помощь старому человеку – все это проявления порядочности. Лишь у порядочного человека могут быть настоящие, верные, надежные друзья. Друзья на всю жи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4320" y="54720"/>
            <a:ext cx="811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ружба - это не только великий дар, но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ликий тру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411560"/>
            <a:ext cx="81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многих русских пословицах содержаться мудрые наставления о том, как сохранить дружб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3280" y="3357720"/>
            <a:ext cx="298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друга — ищи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9080" y="33577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ешь — бере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86064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 иметь -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4720" y="386064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жал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4160" y="436572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 позн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60000" y="4365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6160" y="479736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а на день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4360" y="479736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2200" y="5300640"/>
            <a:ext cx="51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то друга в беде покидает, тот 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68720" y="53006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еду попад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720" y="2492280"/>
            <a:ext cx="34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ние 1. Допиши послови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14230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ие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йте проблемные ситуации,   подберите к ним одну из пословиц, которая подскажет, как вести себя в этой ситуации, и опишите свои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ᐈ Картинки вопрос ответ фотографии, картинки вопрос ответ | скачать на  Depositphotos®"/>
          <p:cNvPicPr/>
          <p:nvPr/>
        </p:nvPicPr>
        <p:blipFill>
          <a:blip r:embed="rId1"/>
          <a:stretch/>
        </p:blipFill>
        <p:spPr>
          <a:xfrm>
            <a:off x="4859280" y="3263760"/>
            <a:ext cx="35560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64040" y="297720"/>
            <a:ext cx="75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накомый, приятель, товарищ, дру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48284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с которым вы просто здороваетесь во дворе, вы можете сказ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4004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с которым время от времени обсуждаете детали матча, фильм, какие-то события, вы скажит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880" y="342756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днокласснике, с которым за 4 года съели пуд со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ажет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3120" y="4291200"/>
            <a:ext cx="82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человеке, которому доверяете свои тайны, с котор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лите радости и печали, скажете.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4881600"/>
            <a:ext cx="14824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97496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упай с другими людьми так, как ты хотел бы, чтобы они поступали по отношению к теб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Знак вопроса PNG, вопрос PNG"/>
          <p:cNvPicPr/>
          <p:nvPr/>
        </p:nvPicPr>
        <p:blipFill>
          <a:blip r:embed="rId1"/>
          <a:stretch/>
        </p:blipFill>
        <p:spPr>
          <a:xfrm>
            <a:off x="7093080" y="4881600"/>
            <a:ext cx="1482480" cy="1976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99520" y="179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вы понимаете данное выраж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7T08:32:26Z</dcterms:created>
  <dc:creator>Мишаня</dc:creator>
  <dc:description/>
  <dc:language>en-US</dc:language>
  <cp:lastModifiedBy>Мишаня</cp:lastModifiedBy>
  <dcterms:modified xsi:type="dcterms:W3CDTF">2020-11-07T10:40:49Z</dcterms:modified>
  <cp:revision>2</cp:revision>
  <dc:subject/>
  <dc:title>Слайд 1</dc:title>
</cp:coreProperties>
</file>