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BE8-E3C3-4A3D-A33C-F7780D54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A92-5CE0-4AB7-A5D2-5CDB015B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C24-02EA-435B-9875-7704E8F5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BBA-12A2-4C96-99AC-9AD86DBA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BE8-86A9-4670-A979-67F74964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B82-F1C6-45E4-9FDE-9BA92B5E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595-59EB-4A27-B0DC-8A3B6ACF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AF0-A512-4A9D-B89D-42C0053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479-3715-451A-8DD0-271E1B64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659-7E01-476A-8D20-944F29F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A67-393C-4F9F-937A-58D1766A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40F-A6A6-4480-8258-37711E5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AB61-48B8-4315-9DC6-F0C9F47E0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964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Гражданская война в США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861 – 1865 гг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0720"/>
            <a:ext cx="4356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онов К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стории МБОУ 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65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Талантливые полководцы: Роберт Ли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 Улисс Грант 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55640" y="1844640"/>
            <a:ext cx="3457080" cy="4681080"/>
            <a:chOff x="755640" y="1844640"/>
            <a:chExt cx="3457080" cy="46810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55640" y="1844640"/>
              <a:ext cx="3457080" cy="46810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3099960" y="1844640"/>
              <a:ext cx="1104120" cy="16574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5508720" y="1844640"/>
            <a:ext cx="3141720" cy="4681440"/>
            <a:chOff x="5508720" y="1844640"/>
            <a:chExt cx="3141720" cy="468144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508720" y="1844640"/>
              <a:ext cx="3117600" cy="468000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rcRect l="3302" t="12794" r="6620" b="4006"/>
            <a:stretch/>
          </p:blipFill>
          <p:spPr>
            <a:xfrm>
              <a:off x="7524720" y="4941720"/>
              <a:ext cx="1125720" cy="158436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</p:grp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708360" y="3860640"/>
            <a:ext cx="2484360" cy="140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765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Затяжной характер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484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Юг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е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1628640"/>
            <a:ext cx="0" cy="453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1628640"/>
            <a:ext cx="0" cy="4537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2484360" cy="140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292428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селение 9 млн. (3,6 раб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306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селение 22 млн.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407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военизировано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01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мандный состав 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005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мощн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01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80% финан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765000"/>
            <a:ext cx="8569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Боевые действия велись на 2-х фронт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долина реки Миссисипи;       - побережье Атлан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116000" y="2133720"/>
            <a:ext cx="7056360" cy="4565520"/>
            <a:chOff x="1116000" y="2133720"/>
            <a:chExt cx="7056360" cy="4565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rcRect l="0" t="0" r="0" b="16507"/>
            <a:stretch/>
          </p:blipFill>
          <p:spPr>
            <a:xfrm>
              <a:off x="1116000" y="2133720"/>
              <a:ext cx="7056360" cy="456552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  <p:sp>
          <p:nvSpPr>
            <p:cNvPr id="108" name=""/>
            <p:cNvSpPr/>
            <p:nvPr/>
          </p:nvSpPr>
          <p:spPr>
            <a:xfrm>
              <a:off x="4643280" y="4869000"/>
              <a:ext cx="1273320" cy="1039680"/>
            </a:xfrm>
            <a:custGeom>
              <a:avLst/>
              <a:gdLst/>
              <a:ahLst/>
              <a:rect l="l" t="t" r="r" b="b"/>
              <a:pathLst>
                <a:path w="802" h="655">
                  <a:moveTo>
                    <a:pt x="694" y="171"/>
                  </a:moveTo>
                  <a:cubicBezTo>
                    <a:pt x="667" y="144"/>
                    <a:pt x="644" y="132"/>
                    <a:pt x="609" y="120"/>
                  </a:cubicBezTo>
                  <a:cubicBezTo>
                    <a:pt x="601" y="109"/>
                    <a:pt x="595" y="96"/>
                    <a:pt x="584" y="87"/>
                  </a:cubicBezTo>
                  <a:cubicBezTo>
                    <a:pt x="567" y="73"/>
                    <a:pt x="489" y="59"/>
                    <a:pt x="465" y="53"/>
                  </a:cubicBezTo>
                  <a:cubicBezTo>
                    <a:pt x="422" y="24"/>
                    <a:pt x="372" y="25"/>
                    <a:pt x="321" y="19"/>
                  </a:cubicBezTo>
                  <a:cubicBezTo>
                    <a:pt x="269" y="0"/>
                    <a:pt x="213" y="12"/>
                    <a:pt x="161" y="27"/>
                  </a:cubicBezTo>
                  <a:cubicBezTo>
                    <a:pt x="133" y="35"/>
                    <a:pt x="84" y="70"/>
                    <a:pt x="84" y="70"/>
                  </a:cubicBezTo>
                  <a:cubicBezTo>
                    <a:pt x="63" y="112"/>
                    <a:pt x="40" y="147"/>
                    <a:pt x="8" y="180"/>
                  </a:cubicBezTo>
                  <a:cubicBezTo>
                    <a:pt x="5" y="188"/>
                    <a:pt x="0" y="196"/>
                    <a:pt x="0" y="205"/>
                  </a:cubicBezTo>
                  <a:cubicBezTo>
                    <a:pt x="0" y="295"/>
                    <a:pt x="1" y="386"/>
                    <a:pt x="8" y="476"/>
                  </a:cubicBezTo>
                  <a:cubicBezTo>
                    <a:pt x="14" y="551"/>
                    <a:pt x="76" y="545"/>
                    <a:pt x="127" y="578"/>
                  </a:cubicBezTo>
                  <a:cubicBezTo>
                    <a:pt x="130" y="586"/>
                    <a:pt x="128" y="598"/>
                    <a:pt x="135" y="603"/>
                  </a:cubicBezTo>
                  <a:cubicBezTo>
                    <a:pt x="183" y="637"/>
                    <a:pt x="306" y="634"/>
                    <a:pt x="347" y="637"/>
                  </a:cubicBezTo>
                  <a:cubicBezTo>
                    <a:pt x="410" y="654"/>
                    <a:pt x="400" y="655"/>
                    <a:pt x="499" y="637"/>
                  </a:cubicBezTo>
                  <a:cubicBezTo>
                    <a:pt x="518" y="634"/>
                    <a:pt x="532" y="618"/>
                    <a:pt x="550" y="612"/>
                  </a:cubicBezTo>
                  <a:cubicBezTo>
                    <a:pt x="581" y="592"/>
                    <a:pt x="568" y="597"/>
                    <a:pt x="601" y="586"/>
                  </a:cubicBezTo>
                  <a:cubicBezTo>
                    <a:pt x="618" y="580"/>
                    <a:pt x="652" y="569"/>
                    <a:pt x="652" y="569"/>
                  </a:cubicBezTo>
                  <a:cubicBezTo>
                    <a:pt x="673" y="538"/>
                    <a:pt x="693" y="530"/>
                    <a:pt x="728" y="519"/>
                  </a:cubicBezTo>
                  <a:cubicBezTo>
                    <a:pt x="754" y="479"/>
                    <a:pt x="754" y="458"/>
                    <a:pt x="762" y="408"/>
                  </a:cubicBezTo>
                  <a:cubicBezTo>
                    <a:pt x="767" y="377"/>
                    <a:pt x="779" y="315"/>
                    <a:pt x="779" y="315"/>
                  </a:cubicBezTo>
                  <a:cubicBezTo>
                    <a:pt x="772" y="213"/>
                    <a:pt x="802" y="151"/>
                    <a:pt x="694" y="171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522800">
              <a:off x="6659280" y="4292640"/>
              <a:ext cx="576360" cy="1012680"/>
            </a:xfrm>
            <a:custGeom>
              <a:avLst/>
              <a:gdLst/>
              <a:ahLst/>
              <a:rect l="l" t="t" r="r" b="b"/>
              <a:pathLst>
                <a:path w="346" h="331">
                  <a:moveTo>
                    <a:pt x="295" y="27"/>
                  </a:moveTo>
                  <a:cubicBezTo>
                    <a:pt x="210" y="21"/>
                    <a:pt x="108" y="0"/>
                    <a:pt x="32" y="52"/>
                  </a:cubicBezTo>
                  <a:cubicBezTo>
                    <a:pt x="9" y="122"/>
                    <a:pt x="0" y="126"/>
                    <a:pt x="24" y="221"/>
                  </a:cubicBezTo>
                  <a:cubicBezTo>
                    <a:pt x="27" y="234"/>
                    <a:pt x="65" y="242"/>
                    <a:pt x="74" y="247"/>
                  </a:cubicBezTo>
                  <a:cubicBezTo>
                    <a:pt x="105" y="263"/>
                    <a:pt x="118" y="281"/>
                    <a:pt x="151" y="298"/>
                  </a:cubicBezTo>
                  <a:cubicBezTo>
                    <a:pt x="160" y="303"/>
                    <a:pt x="167" y="311"/>
                    <a:pt x="176" y="315"/>
                  </a:cubicBezTo>
                  <a:cubicBezTo>
                    <a:pt x="192" y="322"/>
                    <a:pt x="227" y="331"/>
                    <a:pt x="227" y="331"/>
                  </a:cubicBezTo>
                  <a:cubicBezTo>
                    <a:pt x="340" y="319"/>
                    <a:pt x="322" y="329"/>
                    <a:pt x="345" y="230"/>
                  </a:cubicBezTo>
                  <a:cubicBezTo>
                    <a:pt x="342" y="190"/>
                    <a:pt x="346" y="150"/>
                    <a:pt x="337" y="111"/>
                  </a:cubicBezTo>
                  <a:cubicBezTo>
                    <a:pt x="334" y="100"/>
                    <a:pt x="319" y="96"/>
                    <a:pt x="312" y="86"/>
                  </a:cubicBezTo>
                  <a:cubicBezTo>
                    <a:pt x="306" y="77"/>
                    <a:pt x="297" y="35"/>
                    <a:pt x="295" y="27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97400" y="6068880"/>
              <a:ext cx="1238400" cy="385920"/>
            </a:xfrm>
            <a:custGeom>
              <a:avLst/>
              <a:gdLst/>
              <a:ahLst/>
              <a:rect l="l" t="t" r="r" b="b"/>
              <a:pathLst>
                <a:path w="780" h="243">
                  <a:moveTo>
                    <a:pt x="0" y="243"/>
                  </a:moveTo>
                  <a:cubicBezTo>
                    <a:pt x="48" y="230"/>
                    <a:pt x="81" y="199"/>
                    <a:pt x="127" y="184"/>
                  </a:cubicBezTo>
                  <a:cubicBezTo>
                    <a:pt x="181" y="149"/>
                    <a:pt x="220" y="142"/>
                    <a:pt x="280" y="124"/>
                  </a:cubicBezTo>
                  <a:cubicBezTo>
                    <a:pt x="351" y="102"/>
                    <a:pt x="420" y="82"/>
                    <a:pt x="492" y="65"/>
                  </a:cubicBezTo>
                  <a:cubicBezTo>
                    <a:pt x="588" y="0"/>
                    <a:pt x="637" y="23"/>
                    <a:pt x="780" y="2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2600" y="4653000"/>
              <a:ext cx="673200" cy="995400"/>
            </a:xfrm>
            <a:custGeom>
              <a:avLst/>
              <a:gdLst/>
              <a:ahLst/>
              <a:rect l="l" t="t" r="r" b="b"/>
              <a:pathLst>
                <a:path w="424" h="627">
                  <a:moveTo>
                    <a:pt x="424" y="0"/>
                  </a:moveTo>
                  <a:cubicBezTo>
                    <a:pt x="403" y="31"/>
                    <a:pt x="402" y="62"/>
                    <a:pt x="381" y="93"/>
                  </a:cubicBezTo>
                  <a:cubicBezTo>
                    <a:pt x="367" y="137"/>
                    <a:pt x="347" y="170"/>
                    <a:pt x="314" y="203"/>
                  </a:cubicBezTo>
                  <a:cubicBezTo>
                    <a:pt x="297" y="255"/>
                    <a:pt x="277" y="292"/>
                    <a:pt x="237" y="330"/>
                  </a:cubicBezTo>
                  <a:cubicBezTo>
                    <a:pt x="227" y="363"/>
                    <a:pt x="205" y="369"/>
                    <a:pt x="186" y="398"/>
                  </a:cubicBezTo>
                  <a:cubicBezTo>
                    <a:pt x="175" y="433"/>
                    <a:pt x="157" y="445"/>
                    <a:pt x="136" y="474"/>
                  </a:cubicBezTo>
                  <a:cubicBezTo>
                    <a:pt x="97" y="528"/>
                    <a:pt x="144" y="492"/>
                    <a:pt x="93" y="525"/>
                  </a:cubicBezTo>
                  <a:cubicBezTo>
                    <a:pt x="87" y="539"/>
                    <a:pt x="86" y="555"/>
                    <a:pt x="76" y="567"/>
                  </a:cubicBezTo>
                  <a:cubicBezTo>
                    <a:pt x="64" y="582"/>
                    <a:pt x="39" y="580"/>
                    <a:pt x="26" y="593"/>
                  </a:cubicBezTo>
                  <a:cubicBezTo>
                    <a:pt x="16" y="603"/>
                    <a:pt x="0" y="627"/>
                    <a:pt x="0" y="6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484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Новые воо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8000" y="-27000"/>
            <a:ext cx="1871640" cy="105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743280" cy="306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16" name=""/>
          <p:cNvGrpSpPr/>
          <p:nvPr/>
        </p:nvGrpSpPr>
        <p:grpSpPr>
          <a:xfrm>
            <a:off x="4500720" y="1557360"/>
            <a:ext cx="3600360" cy="4989600"/>
            <a:chOff x="4500720" y="1557360"/>
            <a:chExt cx="3600360" cy="498960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500720" y="4437000"/>
              <a:ext cx="36003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518560" y="3539520"/>
              <a:ext cx="4989600" cy="102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148360" y="2060640"/>
            <a:ext cx="3751200" cy="163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03280" y="260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Новые воо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-27000"/>
            <a:ext cx="18716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826920" y="1844640"/>
            <a:ext cx="7345440" cy="4734000"/>
            <a:chOff x="826920" y="1844640"/>
            <a:chExt cx="7345440" cy="47340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826920" y="1844640"/>
              <a:ext cx="7345440" cy="4734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2195640" y="1844640"/>
              <a:ext cx="50403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Бой «Монитора» против «Виргини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63640" y="260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Что изменило ход в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197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Закон о конфискации имущества мятеж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8000" y="-27000"/>
            <a:ext cx="1871640" cy="1058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2276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Из армии удалили сторонников Конфедерации и шпио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429000"/>
            <a:ext cx="8569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 мая 1862 г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«Закон о гомстедах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любой гражданин США с 10 доллар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через 5 лет участок земли в 160 акров собственность гражда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5661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января 1863 г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тмена раб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42320" y="0"/>
            <a:ext cx="2101680" cy="157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285264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крупномасштабное вооружённое противостояние между организованными группами граждан одного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6720" y="1496880"/>
            <a:ext cx="733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Гражданская вой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405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0920" y="26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Причины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628640"/>
            <a:ext cx="864072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Экономическ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личные модели экономики страны (аграрный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промышленны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личия в отношения рынка рабочей силы (рабство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наемный работник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моженная политика в интересах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высокие пошлины на импорт английских товаров и ограничения на вывоз хлопка – недовольство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40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0920" y="26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Причины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628640"/>
            <a:ext cx="86407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литическ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прос о распространении рабства на новые штаты (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Миссурийский компромисс 1820 г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меньшение влияния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на политическое развитие С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брание президентом США в 1861 г.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Авраама Линколь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тавленника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16720" y="981000"/>
            <a:ext cx="2238480" cy="2924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40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0920" y="26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Причины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628640"/>
            <a:ext cx="864072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опрос о рабств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ство н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основа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уждение рабства  как социального зла на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781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Февраль 1861 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6450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штатов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Юг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объявили о выходе из состава США и образовании КШ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онфедерации Штатов Америк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52947" b="40048"/>
          <a:stretch/>
        </p:blipFill>
        <p:spPr>
          <a:xfrm>
            <a:off x="468360" y="189000"/>
            <a:ext cx="2427120" cy="2063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564000" y="1052640"/>
            <a:ext cx="2028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ичмон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335640" y="189000"/>
            <a:ext cx="2808360" cy="2600280"/>
            <a:chOff x="6335640" y="189000"/>
            <a:chExt cx="2808360" cy="260028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6732720" y="189000"/>
              <a:ext cx="1906560" cy="220500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63" name=""/>
            <p:cNvSpPr/>
            <p:nvPr/>
          </p:nvSpPr>
          <p:spPr>
            <a:xfrm>
              <a:off x="6335640" y="2421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жефферсон Дэв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6507"/>
          <a:stretch/>
        </p:blipFill>
        <p:spPr>
          <a:xfrm>
            <a:off x="250920" y="476280"/>
            <a:ext cx="8713800" cy="5638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7740720" y="3284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1280" y="3357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Ричмо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6507"/>
          <a:stretch/>
        </p:blipFill>
        <p:spPr>
          <a:xfrm>
            <a:off x="250920" y="981000"/>
            <a:ext cx="8713800" cy="5639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451640" y="4797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494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т-Сам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189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 апреля 1861 г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начало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76500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Вмешательство в войну европейских государств: - Франция/Великобритания поддерживали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 Россия 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16507"/>
          <a:stretch/>
        </p:blipFill>
        <p:spPr>
          <a:xfrm>
            <a:off x="1116000" y="2133720"/>
            <a:ext cx="7056360" cy="4565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403280" y="4221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86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ан-Францис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1640" y="580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867280" y="5877000"/>
            <a:ext cx="397080" cy="39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76720" y="6093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овый Орл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116000" y="4508640"/>
            <a:ext cx="396720" cy="39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476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8T18:34:39Z</dcterms:created>
  <dc:creator>Константин</dc:creator>
  <dc:description/>
  <dc:language>en-US</dc:language>
  <cp:lastModifiedBy>Константин</cp:lastModifiedBy>
  <dcterms:modified xsi:type="dcterms:W3CDTF">2018-12-18T22:41:15Z</dcterms:modified>
  <cp:revision>13</cp:revision>
  <dc:subject/>
  <dc:title>Слайд 1</dc:title>
</cp:coreProperties>
</file>