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0C6-A690-44E3-812B-A563C426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D9F-016A-4207-B7EA-B9178BD5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9C1-34EA-4E25-A10B-EB9CFF44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8E1-B921-43B5-B873-A67039ED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F9A-2099-433C-862C-0D149EA2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6F7-E8AD-45A8-A94F-343E4909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69B-2BAA-4729-92C3-EE58D4B0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626-AD2E-46F5-B645-71A146FA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C12-4035-49E6-9CAC-FFE12ED9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EA7-C8BA-4DF3-9D17-7F37516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F07-CFFE-4BB2-846A-22CD020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B3C-D009-48C0-8BA2-4073385C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C481-EDE7-4FB4-B17A-E02A9F606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0;&#1083;&#1075;&#1077;&#1073;&#1088;&#1072;" TargetMode="External"/><Relationship Id="rId3" Type="http://schemas.openxmlformats.org/officeDocument/2006/relationships/hyperlink" Target="http://ru.wikipedia.org/wiki/&#1058;&#1077;&#1086;&#1088;&#1080;&#1103;_&#1095;&#1080;&#1089;&#1077;&#1083;" TargetMode="External"/><Relationship Id="rId4" Type="http://schemas.openxmlformats.org/officeDocument/2006/relationships/hyperlink" Target="http://ru.wikipedia.org/wiki/&#1060;&#1072;&#1081;&#1083;:Ostrogradski.jpeg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asily_petrov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Moritz_Hermann_von_Jacobi_1856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ru.wikipedia.org/wiki/&#1060;&#1072;&#1081;&#1083;:Electric_motor_Jacobi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hilling_telegraph.png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Zinin01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nosov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60;&#1072;&#1081;&#1083;:&#1041;&#1091;&#1083;&#1072;&#1090;&#1085;&#1099;&#1081;&#1050;&#1083;&#1080;&#1085;&#1086;&#1082;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attlefield_wounds_300px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2;&#1083;&#1072;&#1082;&#1090;&#1080;&#1082;&#1072;" TargetMode="External"/><Relationship Id="rId2" Type="http://schemas.openxmlformats.org/officeDocument/2006/relationships/hyperlink" Target="http://ru.wikipedia.org/wiki/&#1052;&#1077;&#1088;&#1080;&#1076;&#1080;&#1072;&#1085;" TargetMode="External"/><Relationship Id="rId3" Type="http://schemas.openxmlformats.org/officeDocument/2006/relationships/hyperlink" Target="http://ru.wikipedia.org/wiki/&#1060;&#1072;&#1081;&#1083;:Struve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ru.wikipedia.org/wiki/&#1060;&#1072;&#1081;&#1083;:Pulkovo_observatory_2004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33360"/>
            <a:ext cx="80024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a50021"/>
                </a:solidFill>
                <a:uFillTx/>
                <a:latin typeface="Arial"/>
              </a:rPr>
              <a:t>Русская </a:t>
            </a:r>
            <a:br>
              <a:rPr sz="6000"/>
            </a:br>
            <a:r>
              <a:rPr b="1" i="1" lang="ru-RU" sz="6000" spc="-1" strike="noStrike" u="sng">
                <a:solidFill>
                  <a:srgbClr val="a50021"/>
                </a:solidFill>
                <a:uFillTx/>
                <a:latin typeface="Arial"/>
              </a:rPr>
              <a:t>культура </a:t>
            </a:r>
            <a:br>
              <a:rPr sz="6000"/>
            </a:br>
            <a:r>
              <a:rPr b="1" i="1" lang="ru-RU" sz="6000" spc="-1" strike="noStrike" u="sng">
                <a:solidFill>
                  <a:srgbClr val="a50021"/>
                </a:solidFill>
                <a:uFillTx/>
                <a:latin typeface="Arial"/>
              </a:rPr>
              <a:t>в первой половине </a:t>
            </a:r>
            <a:r>
              <a:rPr b="1" i="1" lang="en-US" sz="6000" spc="-1" strike="noStrike" u="sng">
                <a:solidFill>
                  <a:srgbClr val="a50021"/>
                </a:solidFill>
                <a:uFillTx/>
                <a:latin typeface="Arial"/>
              </a:rPr>
              <a:t>XIX </a:t>
            </a:r>
            <a:r>
              <a:rPr b="1" i="1" lang="ru-RU" sz="6000" spc="-1" strike="noStrike" u="sng">
                <a:solidFill>
                  <a:srgbClr val="a50021"/>
                </a:solidFill>
                <a:uFillTx/>
                <a:latin typeface="Arial"/>
              </a:rPr>
              <a:t>ве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a50021"/>
                </a:solidFill>
                <a:uFillTx/>
                <a:latin typeface="Arial"/>
              </a:rPr>
              <a:t>(наука и путешествия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522936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157720"/>
            <a:ext cx="403236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остав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истории и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имонов К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2600">
            <a:solidFill>
              <a:srgbClr val="cc0000"/>
            </a:solidFill>
            <a:custDash>
              <a:ds d="100000" sp="1000"/>
            </a:custDash>
            <a:miter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Русские путешестве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179280" y="5950080"/>
            <a:ext cx="828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Ф.Ф. Беллинсгаузен и М.П. Лазаре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19-1821 гг. вторая кругосветная экспедиция. Открыли Антарктиду и многочисленные ост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78080" y="1360440"/>
            <a:ext cx="1851120" cy="2997360"/>
          </a:xfrm>
          <a:custGeom>
            <a:avLst/>
            <a:gdLst/>
            <a:ahLst/>
            <a:rect l="l" t="t" r="r" b="b"/>
            <a:pathLst>
              <a:path w="1166" h="1888">
                <a:moveTo>
                  <a:pt x="1166" y="0"/>
                </a:moveTo>
                <a:cubicBezTo>
                  <a:pt x="1127" y="20"/>
                  <a:pt x="1146" y="12"/>
                  <a:pt x="1097" y="28"/>
                </a:cubicBezTo>
                <a:cubicBezTo>
                  <a:pt x="1083" y="32"/>
                  <a:pt x="1056" y="41"/>
                  <a:pt x="1056" y="41"/>
                </a:cubicBezTo>
                <a:cubicBezTo>
                  <a:pt x="1038" y="81"/>
                  <a:pt x="995" y="110"/>
                  <a:pt x="953" y="124"/>
                </a:cubicBezTo>
                <a:cubicBezTo>
                  <a:pt x="938" y="114"/>
                  <a:pt x="927" y="99"/>
                  <a:pt x="912" y="89"/>
                </a:cubicBezTo>
                <a:cubicBezTo>
                  <a:pt x="887" y="72"/>
                  <a:pt x="852" y="62"/>
                  <a:pt x="823" y="55"/>
                </a:cubicBezTo>
                <a:cubicBezTo>
                  <a:pt x="807" y="102"/>
                  <a:pt x="829" y="52"/>
                  <a:pt x="796" y="89"/>
                </a:cubicBezTo>
                <a:cubicBezTo>
                  <a:pt x="785" y="101"/>
                  <a:pt x="768" y="130"/>
                  <a:pt x="768" y="130"/>
                </a:cubicBezTo>
                <a:cubicBezTo>
                  <a:pt x="759" y="168"/>
                  <a:pt x="763" y="174"/>
                  <a:pt x="727" y="192"/>
                </a:cubicBezTo>
                <a:cubicBezTo>
                  <a:pt x="706" y="214"/>
                  <a:pt x="707" y="231"/>
                  <a:pt x="679" y="240"/>
                </a:cubicBezTo>
                <a:cubicBezTo>
                  <a:pt x="657" y="256"/>
                  <a:pt x="634" y="255"/>
                  <a:pt x="611" y="268"/>
                </a:cubicBezTo>
                <a:cubicBezTo>
                  <a:pt x="596" y="276"/>
                  <a:pt x="569" y="295"/>
                  <a:pt x="569" y="295"/>
                </a:cubicBezTo>
                <a:cubicBezTo>
                  <a:pt x="562" y="304"/>
                  <a:pt x="557" y="314"/>
                  <a:pt x="549" y="322"/>
                </a:cubicBezTo>
                <a:cubicBezTo>
                  <a:pt x="537" y="333"/>
                  <a:pt x="508" y="350"/>
                  <a:pt x="508" y="350"/>
                </a:cubicBezTo>
                <a:cubicBezTo>
                  <a:pt x="494" y="391"/>
                  <a:pt x="469" y="424"/>
                  <a:pt x="446" y="460"/>
                </a:cubicBezTo>
                <a:cubicBezTo>
                  <a:pt x="442" y="467"/>
                  <a:pt x="431" y="468"/>
                  <a:pt x="425" y="473"/>
                </a:cubicBezTo>
                <a:cubicBezTo>
                  <a:pt x="409" y="486"/>
                  <a:pt x="403" y="497"/>
                  <a:pt x="391" y="514"/>
                </a:cubicBezTo>
                <a:cubicBezTo>
                  <a:pt x="368" y="582"/>
                  <a:pt x="406" y="480"/>
                  <a:pt x="364" y="556"/>
                </a:cubicBezTo>
                <a:cubicBezTo>
                  <a:pt x="357" y="569"/>
                  <a:pt x="357" y="584"/>
                  <a:pt x="350" y="597"/>
                </a:cubicBezTo>
                <a:cubicBezTo>
                  <a:pt x="345" y="606"/>
                  <a:pt x="341" y="615"/>
                  <a:pt x="336" y="624"/>
                </a:cubicBezTo>
                <a:cubicBezTo>
                  <a:pt x="324" y="646"/>
                  <a:pt x="295" y="686"/>
                  <a:pt x="295" y="686"/>
                </a:cubicBezTo>
                <a:cubicBezTo>
                  <a:pt x="278" y="753"/>
                  <a:pt x="280" y="826"/>
                  <a:pt x="302" y="892"/>
                </a:cubicBezTo>
                <a:cubicBezTo>
                  <a:pt x="317" y="1052"/>
                  <a:pt x="304" y="993"/>
                  <a:pt x="323" y="1070"/>
                </a:cubicBezTo>
                <a:cubicBezTo>
                  <a:pt x="317" y="1181"/>
                  <a:pt x="324" y="1313"/>
                  <a:pt x="288" y="1420"/>
                </a:cubicBezTo>
                <a:cubicBezTo>
                  <a:pt x="283" y="1508"/>
                  <a:pt x="288" y="1714"/>
                  <a:pt x="199" y="1769"/>
                </a:cubicBezTo>
                <a:cubicBezTo>
                  <a:pt x="191" y="1792"/>
                  <a:pt x="165" y="1833"/>
                  <a:pt x="144" y="1845"/>
                </a:cubicBezTo>
                <a:cubicBezTo>
                  <a:pt x="135" y="1850"/>
                  <a:pt x="126" y="1854"/>
                  <a:pt x="117" y="1858"/>
                </a:cubicBezTo>
                <a:cubicBezTo>
                  <a:pt x="104" y="1863"/>
                  <a:pt x="76" y="1872"/>
                  <a:pt x="76" y="1872"/>
                </a:cubicBezTo>
                <a:cubicBezTo>
                  <a:pt x="0" y="1864"/>
                  <a:pt x="7" y="1888"/>
                  <a:pt x="7" y="1845"/>
                </a:cubicBezTo>
              </a:path>
            </a:pathLst>
          </a:custGeom>
          <a:noFill/>
          <a:ln cap="rnd" w="57240">
            <a:solidFill>
              <a:srgbClr val="0000ff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46400" y="4332240"/>
            <a:ext cx="4989600" cy="1654200"/>
          </a:xfrm>
          <a:custGeom>
            <a:avLst/>
            <a:gdLst/>
            <a:ahLst/>
            <a:rect l="l" t="t" r="r" b="b"/>
            <a:pathLst>
              <a:path w="3143" h="1042">
                <a:moveTo>
                  <a:pt x="0" y="0"/>
                </a:moveTo>
                <a:cubicBezTo>
                  <a:pt x="2" y="50"/>
                  <a:pt x="3" y="101"/>
                  <a:pt x="7" y="151"/>
                </a:cubicBezTo>
                <a:cubicBezTo>
                  <a:pt x="9" y="182"/>
                  <a:pt x="28" y="216"/>
                  <a:pt x="34" y="247"/>
                </a:cubicBezTo>
                <a:cubicBezTo>
                  <a:pt x="36" y="295"/>
                  <a:pt x="39" y="343"/>
                  <a:pt x="41" y="391"/>
                </a:cubicBezTo>
                <a:cubicBezTo>
                  <a:pt x="47" y="525"/>
                  <a:pt x="25" y="549"/>
                  <a:pt x="89" y="631"/>
                </a:cubicBezTo>
                <a:cubicBezTo>
                  <a:pt x="106" y="682"/>
                  <a:pt x="82" y="624"/>
                  <a:pt x="116" y="665"/>
                </a:cubicBezTo>
                <a:cubicBezTo>
                  <a:pt x="123" y="673"/>
                  <a:pt x="123" y="685"/>
                  <a:pt x="130" y="693"/>
                </a:cubicBezTo>
                <a:cubicBezTo>
                  <a:pt x="142" y="707"/>
                  <a:pt x="174" y="728"/>
                  <a:pt x="192" y="734"/>
                </a:cubicBezTo>
                <a:cubicBezTo>
                  <a:pt x="218" y="752"/>
                  <a:pt x="247" y="759"/>
                  <a:pt x="274" y="775"/>
                </a:cubicBezTo>
                <a:cubicBezTo>
                  <a:pt x="305" y="793"/>
                  <a:pt x="334" y="822"/>
                  <a:pt x="363" y="844"/>
                </a:cubicBezTo>
                <a:cubicBezTo>
                  <a:pt x="384" y="904"/>
                  <a:pt x="423" y="936"/>
                  <a:pt x="473" y="974"/>
                </a:cubicBezTo>
                <a:cubicBezTo>
                  <a:pt x="501" y="995"/>
                  <a:pt x="505" y="1023"/>
                  <a:pt x="535" y="1042"/>
                </a:cubicBezTo>
                <a:cubicBezTo>
                  <a:pt x="582" y="1027"/>
                  <a:pt x="580" y="1019"/>
                  <a:pt x="617" y="994"/>
                </a:cubicBezTo>
                <a:cubicBezTo>
                  <a:pt x="636" y="967"/>
                  <a:pt x="654" y="961"/>
                  <a:pt x="685" y="953"/>
                </a:cubicBezTo>
                <a:cubicBezTo>
                  <a:pt x="753" y="962"/>
                  <a:pt x="818" y="979"/>
                  <a:pt x="884" y="994"/>
                </a:cubicBezTo>
                <a:cubicBezTo>
                  <a:pt x="920" y="986"/>
                  <a:pt x="952" y="998"/>
                  <a:pt x="987" y="988"/>
                </a:cubicBezTo>
                <a:cubicBezTo>
                  <a:pt x="1026" y="962"/>
                  <a:pt x="1022" y="907"/>
                  <a:pt x="1076" y="898"/>
                </a:cubicBezTo>
                <a:cubicBezTo>
                  <a:pt x="1105" y="893"/>
                  <a:pt x="1135" y="894"/>
                  <a:pt x="1165" y="892"/>
                </a:cubicBezTo>
                <a:cubicBezTo>
                  <a:pt x="1191" y="886"/>
                  <a:pt x="1215" y="877"/>
                  <a:pt x="1241" y="871"/>
                </a:cubicBezTo>
                <a:cubicBezTo>
                  <a:pt x="1273" y="879"/>
                  <a:pt x="1305" y="889"/>
                  <a:pt x="1337" y="898"/>
                </a:cubicBezTo>
                <a:cubicBezTo>
                  <a:pt x="1355" y="934"/>
                  <a:pt x="1358" y="960"/>
                  <a:pt x="1399" y="974"/>
                </a:cubicBezTo>
                <a:cubicBezTo>
                  <a:pt x="1424" y="965"/>
                  <a:pt x="1438" y="947"/>
                  <a:pt x="1460" y="933"/>
                </a:cubicBezTo>
                <a:cubicBezTo>
                  <a:pt x="1479" y="857"/>
                  <a:pt x="1585" y="874"/>
                  <a:pt x="1645" y="871"/>
                </a:cubicBezTo>
                <a:cubicBezTo>
                  <a:pt x="1660" y="866"/>
                  <a:pt x="1672" y="853"/>
                  <a:pt x="1687" y="850"/>
                </a:cubicBezTo>
                <a:cubicBezTo>
                  <a:pt x="1764" y="837"/>
                  <a:pt x="1854" y="836"/>
                  <a:pt x="1933" y="830"/>
                </a:cubicBezTo>
                <a:cubicBezTo>
                  <a:pt x="1965" y="814"/>
                  <a:pt x="1967" y="796"/>
                  <a:pt x="1995" y="782"/>
                </a:cubicBezTo>
                <a:cubicBezTo>
                  <a:pt x="2018" y="770"/>
                  <a:pt x="2042" y="762"/>
                  <a:pt x="2064" y="748"/>
                </a:cubicBezTo>
                <a:cubicBezTo>
                  <a:pt x="2081" y="720"/>
                  <a:pt x="2093" y="714"/>
                  <a:pt x="2125" y="706"/>
                </a:cubicBezTo>
                <a:cubicBezTo>
                  <a:pt x="2219" y="646"/>
                  <a:pt x="2173" y="666"/>
                  <a:pt x="2331" y="658"/>
                </a:cubicBezTo>
                <a:cubicBezTo>
                  <a:pt x="2376" y="645"/>
                  <a:pt x="2411" y="613"/>
                  <a:pt x="2455" y="604"/>
                </a:cubicBezTo>
                <a:cubicBezTo>
                  <a:pt x="2533" y="564"/>
                  <a:pt x="2584" y="580"/>
                  <a:pt x="2688" y="576"/>
                </a:cubicBezTo>
                <a:cubicBezTo>
                  <a:pt x="2813" y="581"/>
                  <a:pt x="2944" y="604"/>
                  <a:pt x="3058" y="549"/>
                </a:cubicBezTo>
                <a:cubicBezTo>
                  <a:pt x="3066" y="524"/>
                  <a:pt x="3083" y="505"/>
                  <a:pt x="3092" y="480"/>
                </a:cubicBezTo>
                <a:cubicBezTo>
                  <a:pt x="3102" y="451"/>
                  <a:pt x="3111" y="409"/>
                  <a:pt x="3127" y="384"/>
                </a:cubicBezTo>
                <a:cubicBezTo>
                  <a:pt x="3131" y="377"/>
                  <a:pt x="3139" y="372"/>
                  <a:pt x="3140" y="364"/>
                </a:cubicBezTo>
                <a:cubicBezTo>
                  <a:pt x="3143" y="346"/>
                  <a:pt x="3140" y="327"/>
                  <a:pt x="3140" y="309"/>
                </a:cubicBezTo>
              </a:path>
            </a:pathLst>
          </a:custGeom>
          <a:noFill/>
          <a:ln cap="rnd" w="57240">
            <a:solidFill>
              <a:srgbClr val="0000ff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91360" y="3740040"/>
            <a:ext cx="1019160" cy="1986120"/>
          </a:xfrm>
          <a:custGeom>
            <a:avLst/>
            <a:gdLst/>
            <a:ahLst/>
            <a:rect l="l" t="t" r="r" b="b"/>
            <a:pathLst>
              <a:path w="642" h="1251">
                <a:moveTo>
                  <a:pt x="18" y="675"/>
                </a:moveTo>
                <a:cubicBezTo>
                  <a:pt x="32" y="666"/>
                  <a:pt x="51" y="661"/>
                  <a:pt x="60" y="647"/>
                </a:cubicBezTo>
                <a:cubicBezTo>
                  <a:pt x="81" y="615"/>
                  <a:pt x="88" y="588"/>
                  <a:pt x="121" y="565"/>
                </a:cubicBezTo>
                <a:cubicBezTo>
                  <a:pt x="126" y="558"/>
                  <a:pt x="129" y="550"/>
                  <a:pt x="135" y="545"/>
                </a:cubicBezTo>
                <a:cubicBezTo>
                  <a:pt x="143" y="539"/>
                  <a:pt x="155" y="538"/>
                  <a:pt x="162" y="531"/>
                </a:cubicBezTo>
                <a:cubicBezTo>
                  <a:pt x="202" y="490"/>
                  <a:pt x="150" y="510"/>
                  <a:pt x="197" y="497"/>
                </a:cubicBezTo>
                <a:cubicBezTo>
                  <a:pt x="199" y="490"/>
                  <a:pt x="199" y="482"/>
                  <a:pt x="204" y="476"/>
                </a:cubicBezTo>
                <a:cubicBezTo>
                  <a:pt x="209" y="470"/>
                  <a:pt x="220" y="469"/>
                  <a:pt x="224" y="462"/>
                </a:cubicBezTo>
                <a:cubicBezTo>
                  <a:pt x="232" y="450"/>
                  <a:pt x="238" y="421"/>
                  <a:pt x="238" y="421"/>
                </a:cubicBezTo>
                <a:cubicBezTo>
                  <a:pt x="243" y="332"/>
                  <a:pt x="246" y="287"/>
                  <a:pt x="272" y="209"/>
                </a:cubicBezTo>
                <a:cubicBezTo>
                  <a:pt x="273" y="205"/>
                  <a:pt x="279" y="163"/>
                  <a:pt x="286" y="154"/>
                </a:cubicBezTo>
                <a:cubicBezTo>
                  <a:pt x="298" y="139"/>
                  <a:pt x="309" y="119"/>
                  <a:pt x="327" y="113"/>
                </a:cubicBezTo>
                <a:cubicBezTo>
                  <a:pt x="341" y="108"/>
                  <a:pt x="368" y="99"/>
                  <a:pt x="368" y="99"/>
                </a:cubicBezTo>
                <a:cubicBezTo>
                  <a:pt x="396" y="57"/>
                  <a:pt x="448" y="38"/>
                  <a:pt x="485" y="3"/>
                </a:cubicBezTo>
                <a:cubicBezTo>
                  <a:pt x="527" y="8"/>
                  <a:pt x="566" y="0"/>
                  <a:pt x="581" y="44"/>
                </a:cubicBezTo>
                <a:cubicBezTo>
                  <a:pt x="586" y="241"/>
                  <a:pt x="595" y="411"/>
                  <a:pt x="601" y="606"/>
                </a:cubicBezTo>
                <a:cubicBezTo>
                  <a:pt x="598" y="664"/>
                  <a:pt x="616" y="748"/>
                  <a:pt x="560" y="785"/>
                </a:cubicBezTo>
                <a:cubicBezTo>
                  <a:pt x="532" y="825"/>
                  <a:pt x="516" y="811"/>
                  <a:pt x="464" y="805"/>
                </a:cubicBezTo>
                <a:cubicBezTo>
                  <a:pt x="442" y="763"/>
                  <a:pt x="425" y="762"/>
                  <a:pt x="382" y="743"/>
                </a:cubicBezTo>
                <a:cubicBezTo>
                  <a:pt x="355" y="731"/>
                  <a:pt x="336" y="716"/>
                  <a:pt x="306" y="709"/>
                </a:cubicBezTo>
                <a:cubicBezTo>
                  <a:pt x="49" y="722"/>
                  <a:pt x="239" y="707"/>
                  <a:pt x="114" y="743"/>
                </a:cubicBezTo>
                <a:cubicBezTo>
                  <a:pt x="90" y="760"/>
                  <a:pt x="77" y="760"/>
                  <a:pt x="60" y="785"/>
                </a:cubicBezTo>
                <a:cubicBezTo>
                  <a:pt x="51" y="799"/>
                  <a:pt x="41" y="812"/>
                  <a:pt x="32" y="826"/>
                </a:cubicBezTo>
                <a:cubicBezTo>
                  <a:pt x="27" y="833"/>
                  <a:pt x="18" y="846"/>
                  <a:pt x="18" y="846"/>
                </a:cubicBezTo>
                <a:cubicBezTo>
                  <a:pt x="0" y="992"/>
                  <a:pt x="0" y="937"/>
                  <a:pt x="18" y="1121"/>
                </a:cubicBezTo>
                <a:cubicBezTo>
                  <a:pt x="22" y="1156"/>
                  <a:pt x="47" y="1214"/>
                  <a:pt x="80" y="1230"/>
                </a:cubicBezTo>
                <a:cubicBezTo>
                  <a:pt x="122" y="1251"/>
                  <a:pt x="182" y="1248"/>
                  <a:pt x="224" y="1251"/>
                </a:cubicBezTo>
                <a:cubicBezTo>
                  <a:pt x="312" y="1244"/>
                  <a:pt x="301" y="1246"/>
                  <a:pt x="361" y="1217"/>
                </a:cubicBezTo>
                <a:cubicBezTo>
                  <a:pt x="385" y="1193"/>
                  <a:pt x="397" y="1190"/>
                  <a:pt x="430" y="1182"/>
                </a:cubicBezTo>
                <a:cubicBezTo>
                  <a:pt x="443" y="1183"/>
                  <a:pt x="642" y="1216"/>
                  <a:pt x="642" y="1169"/>
                </a:cubicBezTo>
              </a:path>
            </a:pathLst>
          </a:custGeom>
          <a:noFill/>
          <a:ln cap="rnd" w="57240">
            <a:solidFill>
              <a:srgbClr val="0000ff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33880" y="1338120"/>
            <a:ext cx="1676160" cy="2994120"/>
          </a:xfrm>
          <a:custGeom>
            <a:avLst/>
            <a:gdLst/>
            <a:ahLst/>
            <a:rect l="l" t="t" r="r" b="b"/>
            <a:pathLst>
              <a:path w="1056" h="1886">
                <a:moveTo>
                  <a:pt x="0" y="1886"/>
                </a:moveTo>
                <a:cubicBezTo>
                  <a:pt x="28" y="1842"/>
                  <a:pt x="23" y="1810"/>
                  <a:pt x="75" y="1783"/>
                </a:cubicBezTo>
                <a:cubicBezTo>
                  <a:pt x="105" y="1739"/>
                  <a:pt x="141" y="1683"/>
                  <a:pt x="178" y="1646"/>
                </a:cubicBezTo>
                <a:cubicBezTo>
                  <a:pt x="186" y="1579"/>
                  <a:pt x="193" y="1577"/>
                  <a:pt x="212" y="1523"/>
                </a:cubicBezTo>
                <a:cubicBezTo>
                  <a:pt x="228" y="1413"/>
                  <a:pt x="223" y="1334"/>
                  <a:pt x="219" y="1214"/>
                </a:cubicBezTo>
                <a:cubicBezTo>
                  <a:pt x="216" y="1105"/>
                  <a:pt x="225" y="960"/>
                  <a:pt x="198" y="844"/>
                </a:cubicBezTo>
                <a:cubicBezTo>
                  <a:pt x="178" y="761"/>
                  <a:pt x="130" y="687"/>
                  <a:pt x="109" y="604"/>
                </a:cubicBezTo>
                <a:cubicBezTo>
                  <a:pt x="111" y="588"/>
                  <a:pt x="107" y="570"/>
                  <a:pt x="116" y="556"/>
                </a:cubicBezTo>
                <a:cubicBezTo>
                  <a:pt x="121" y="548"/>
                  <a:pt x="135" y="552"/>
                  <a:pt x="144" y="549"/>
                </a:cubicBezTo>
                <a:cubicBezTo>
                  <a:pt x="158" y="545"/>
                  <a:pt x="171" y="536"/>
                  <a:pt x="185" y="535"/>
                </a:cubicBezTo>
                <a:cubicBezTo>
                  <a:pt x="345" y="526"/>
                  <a:pt x="272" y="531"/>
                  <a:pt x="404" y="522"/>
                </a:cubicBezTo>
                <a:cubicBezTo>
                  <a:pt x="420" y="517"/>
                  <a:pt x="445" y="523"/>
                  <a:pt x="452" y="508"/>
                </a:cubicBezTo>
                <a:cubicBezTo>
                  <a:pt x="471" y="464"/>
                  <a:pt x="436" y="412"/>
                  <a:pt x="425" y="371"/>
                </a:cubicBezTo>
                <a:cubicBezTo>
                  <a:pt x="439" y="316"/>
                  <a:pt x="476" y="315"/>
                  <a:pt x="521" y="295"/>
                </a:cubicBezTo>
                <a:cubicBezTo>
                  <a:pt x="572" y="272"/>
                  <a:pt x="619" y="245"/>
                  <a:pt x="672" y="227"/>
                </a:cubicBezTo>
                <a:cubicBezTo>
                  <a:pt x="694" y="212"/>
                  <a:pt x="717" y="208"/>
                  <a:pt x="733" y="186"/>
                </a:cubicBezTo>
                <a:cubicBezTo>
                  <a:pt x="752" y="159"/>
                  <a:pt x="770" y="124"/>
                  <a:pt x="788" y="96"/>
                </a:cubicBezTo>
                <a:cubicBezTo>
                  <a:pt x="797" y="82"/>
                  <a:pt x="816" y="78"/>
                  <a:pt x="829" y="69"/>
                </a:cubicBezTo>
                <a:cubicBezTo>
                  <a:pt x="878" y="94"/>
                  <a:pt x="844" y="96"/>
                  <a:pt x="884" y="124"/>
                </a:cubicBezTo>
                <a:cubicBezTo>
                  <a:pt x="905" y="122"/>
                  <a:pt x="926" y="124"/>
                  <a:pt x="946" y="117"/>
                </a:cubicBezTo>
                <a:cubicBezTo>
                  <a:pt x="969" y="108"/>
                  <a:pt x="953" y="89"/>
                  <a:pt x="966" y="76"/>
                </a:cubicBezTo>
                <a:cubicBezTo>
                  <a:pt x="973" y="69"/>
                  <a:pt x="985" y="68"/>
                  <a:pt x="994" y="62"/>
                </a:cubicBezTo>
                <a:cubicBezTo>
                  <a:pt x="1050" y="22"/>
                  <a:pt x="978" y="64"/>
                  <a:pt x="1028" y="14"/>
                </a:cubicBezTo>
                <a:cubicBezTo>
                  <a:pt x="1035" y="7"/>
                  <a:pt x="1049" y="7"/>
                  <a:pt x="1056" y="0"/>
                </a:cubicBezTo>
              </a:path>
            </a:pathLst>
          </a:custGeom>
          <a:noFill/>
          <a:ln cap="rnd" w="5724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0" y="4386240"/>
            <a:ext cx="3233880" cy="1731960"/>
          </a:xfrm>
          <a:custGeom>
            <a:avLst/>
            <a:gdLst/>
            <a:ahLst/>
            <a:rect l="l" t="t" r="r" b="b"/>
            <a:pathLst>
              <a:path w="2037" h="1091">
                <a:moveTo>
                  <a:pt x="0" y="1043"/>
                </a:moveTo>
                <a:cubicBezTo>
                  <a:pt x="52" y="1017"/>
                  <a:pt x="32" y="1013"/>
                  <a:pt x="96" y="1022"/>
                </a:cubicBezTo>
                <a:cubicBezTo>
                  <a:pt x="146" y="1055"/>
                  <a:pt x="122" y="1046"/>
                  <a:pt x="165" y="1056"/>
                </a:cubicBezTo>
                <a:cubicBezTo>
                  <a:pt x="212" y="1088"/>
                  <a:pt x="190" y="1079"/>
                  <a:pt x="227" y="1091"/>
                </a:cubicBezTo>
                <a:cubicBezTo>
                  <a:pt x="357" y="1084"/>
                  <a:pt x="487" y="1075"/>
                  <a:pt x="618" y="1070"/>
                </a:cubicBezTo>
                <a:cubicBezTo>
                  <a:pt x="633" y="1055"/>
                  <a:pt x="651" y="1044"/>
                  <a:pt x="666" y="1029"/>
                </a:cubicBezTo>
                <a:cubicBezTo>
                  <a:pt x="685" y="1009"/>
                  <a:pt x="686" y="986"/>
                  <a:pt x="714" y="974"/>
                </a:cubicBezTo>
                <a:cubicBezTo>
                  <a:pt x="729" y="967"/>
                  <a:pt x="770" y="963"/>
                  <a:pt x="782" y="960"/>
                </a:cubicBezTo>
                <a:cubicBezTo>
                  <a:pt x="798" y="956"/>
                  <a:pt x="830" y="947"/>
                  <a:pt x="830" y="947"/>
                </a:cubicBezTo>
                <a:cubicBezTo>
                  <a:pt x="908" y="952"/>
                  <a:pt x="941" y="955"/>
                  <a:pt x="1008" y="967"/>
                </a:cubicBezTo>
                <a:cubicBezTo>
                  <a:pt x="1038" y="973"/>
                  <a:pt x="1098" y="988"/>
                  <a:pt x="1098" y="988"/>
                </a:cubicBezTo>
                <a:cubicBezTo>
                  <a:pt x="1240" y="972"/>
                  <a:pt x="1251" y="960"/>
                  <a:pt x="1406" y="954"/>
                </a:cubicBezTo>
                <a:cubicBezTo>
                  <a:pt x="1436" y="934"/>
                  <a:pt x="1474" y="921"/>
                  <a:pt x="1509" y="912"/>
                </a:cubicBezTo>
                <a:cubicBezTo>
                  <a:pt x="1550" y="873"/>
                  <a:pt x="1578" y="878"/>
                  <a:pt x="1626" y="858"/>
                </a:cubicBezTo>
                <a:cubicBezTo>
                  <a:pt x="1658" y="845"/>
                  <a:pt x="1681" y="820"/>
                  <a:pt x="1715" y="810"/>
                </a:cubicBezTo>
                <a:cubicBezTo>
                  <a:pt x="1749" y="774"/>
                  <a:pt x="1775" y="769"/>
                  <a:pt x="1824" y="762"/>
                </a:cubicBezTo>
                <a:cubicBezTo>
                  <a:pt x="1842" y="727"/>
                  <a:pt x="1867" y="701"/>
                  <a:pt x="1900" y="679"/>
                </a:cubicBezTo>
                <a:cubicBezTo>
                  <a:pt x="1923" y="646"/>
                  <a:pt x="1918" y="620"/>
                  <a:pt x="1948" y="590"/>
                </a:cubicBezTo>
                <a:cubicBezTo>
                  <a:pt x="1959" y="548"/>
                  <a:pt x="1969" y="505"/>
                  <a:pt x="1989" y="467"/>
                </a:cubicBezTo>
                <a:cubicBezTo>
                  <a:pt x="1990" y="454"/>
                  <a:pt x="1992" y="405"/>
                  <a:pt x="2003" y="384"/>
                </a:cubicBezTo>
                <a:cubicBezTo>
                  <a:pt x="2011" y="370"/>
                  <a:pt x="2030" y="343"/>
                  <a:pt x="2030" y="343"/>
                </a:cubicBezTo>
                <a:cubicBezTo>
                  <a:pt x="2032" y="327"/>
                  <a:pt x="2037" y="311"/>
                  <a:pt x="2037" y="295"/>
                </a:cubicBezTo>
                <a:cubicBezTo>
                  <a:pt x="2037" y="240"/>
                  <a:pt x="2018" y="311"/>
                  <a:pt x="2037" y="254"/>
                </a:cubicBezTo>
                <a:cubicBezTo>
                  <a:pt x="2035" y="197"/>
                  <a:pt x="2035" y="140"/>
                  <a:pt x="2030" y="83"/>
                </a:cubicBezTo>
                <a:cubicBezTo>
                  <a:pt x="2028" y="64"/>
                  <a:pt x="2024" y="45"/>
                  <a:pt x="2016" y="28"/>
                </a:cubicBezTo>
                <a:cubicBezTo>
                  <a:pt x="2012" y="19"/>
                  <a:pt x="2003" y="0"/>
                  <a:pt x="2003" y="0"/>
                </a:cubicBezTo>
              </a:path>
            </a:pathLst>
          </a:custGeom>
          <a:noFill/>
          <a:ln cap="rnd" w="57240">
            <a:solidFill>
              <a:srgbClr val="0000ff"/>
            </a:solidFill>
            <a:custDash>
              <a:ds d="100000" sp="1000"/>
            </a:custDash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2600">
            <a:solidFill>
              <a:srgbClr val="cc0000"/>
            </a:solidFill>
            <a:custDash>
              <a:ds d="100000" sp="1000"/>
            </a:custDash>
            <a:miter/>
          </a:ln>
        </p:spPr>
      </p:pic>
      <p:sp>
        <p:nvSpPr>
          <p:cNvPr id="113" name="Rectangle 2"/>
          <p:cNvSpPr/>
          <p:nvPr/>
        </p:nvSpPr>
        <p:spPr>
          <a:xfrm>
            <a:off x="468360" y="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Русские путешестве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179280" y="5950080"/>
            <a:ext cx="828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Ф.П.Лит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1826-1829 гг. кругосветная экспедиция. Исследовал Северный  Ледовитый океан, берега Камчатки и Южной Америки. Основал Русское географическ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1351080"/>
            <a:ext cx="1828800" cy="2958840"/>
          </a:xfrm>
          <a:custGeom>
            <a:avLst/>
            <a:gdLst/>
            <a:ahLst/>
            <a:rect l="l" t="t" r="r" b="b"/>
            <a:pathLst>
              <a:path w="1152" h="1864">
                <a:moveTo>
                  <a:pt x="1152" y="6"/>
                </a:moveTo>
                <a:cubicBezTo>
                  <a:pt x="1067" y="12"/>
                  <a:pt x="1062" y="0"/>
                  <a:pt x="1015" y="47"/>
                </a:cubicBezTo>
                <a:cubicBezTo>
                  <a:pt x="1006" y="74"/>
                  <a:pt x="994" y="88"/>
                  <a:pt x="974" y="109"/>
                </a:cubicBezTo>
                <a:cubicBezTo>
                  <a:pt x="898" y="97"/>
                  <a:pt x="888" y="106"/>
                  <a:pt x="843" y="61"/>
                </a:cubicBezTo>
                <a:cubicBezTo>
                  <a:pt x="809" y="75"/>
                  <a:pt x="775" y="72"/>
                  <a:pt x="754" y="102"/>
                </a:cubicBezTo>
                <a:cubicBezTo>
                  <a:pt x="748" y="144"/>
                  <a:pt x="737" y="186"/>
                  <a:pt x="699" y="212"/>
                </a:cubicBezTo>
                <a:cubicBezTo>
                  <a:pt x="685" y="222"/>
                  <a:pt x="666" y="224"/>
                  <a:pt x="651" y="232"/>
                </a:cubicBezTo>
                <a:cubicBezTo>
                  <a:pt x="609" y="255"/>
                  <a:pt x="653" y="239"/>
                  <a:pt x="610" y="253"/>
                </a:cubicBezTo>
                <a:cubicBezTo>
                  <a:pt x="596" y="267"/>
                  <a:pt x="583" y="280"/>
                  <a:pt x="569" y="294"/>
                </a:cubicBezTo>
                <a:cubicBezTo>
                  <a:pt x="555" y="308"/>
                  <a:pt x="528" y="335"/>
                  <a:pt x="528" y="335"/>
                </a:cubicBezTo>
                <a:cubicBezTo>
                  <a:pt x="510" y="390"/>
                  <a:pt x="537" y="327"/>
                  <a:pt x="501" y="363"/>
                </a:cubicBezTo>
                <a:cubicBezTo>
                  <a:pt x="496" y="368"/>
                  <a:pt x="498" y="378"/>
                  <a:pt x="494" y="383"/>
                </a:cubicBezTo>
                <a:cubicBezTo>
                  <a:pt x="489" y="389"/>
                  <a:pt x="479" y="392"/>
                  <a:pt x="473" y="397"/>
                </a:cubicBezTo>
                <a:cubicBezTo>
                  <a:pt x="466" y="403"/>
                  <a:pt x="459" y="410"/>
                  <a:pt x="453" y="418"/>
                </a:cubicBezTo>
                <a:cubicBezTo>
                  <a:pt x="424" y="455"/>
                  <a:pt x="411" y="502"/>
                  <a:pt x="377" y="534"/>
                </a:cubicBezTo>
                <a:cubicBezTo>
                  <a:pt x="368" y="562"/>
                  <a:pt x="353" y="592"/>
                  <a:pt x="336" y="616"/>
                </a:cubicBezTo>
                <a:cubicBezTo>
                  <a:pt x="323" y="655"/>
                  <a:pt x="294" y="696"/>
                  <a:pt x="254" y="706"/>
                </a:cubicBezTo>
                <a:cubicBezTo>
                  <a:pt x="232" y="727"/>
                  <a:pt x="232" y="745"/>
                  <a:pt x="213" y="767"/>
                </a:cubicBezTo>
                <a:cubicBezTo>
                  <a:pt x="207" y="775"/>
                  <a:pt x="199" y="781"/>
                  <a:pt x="192" y="788"/>
                </a:cubicBezTo>
                <a:cubicBezTo>
                  <a:pt x="184" y="797"/>
                  <a:pt x="178" y="806"/>
                  <a:pt x="171" y="815"/>
                </a:cubicBezTo>
                <a:cubicBezTo>
                  <a:pt x="166" y="846"/>
                  <a:pt x="161" y="874"/>
                  <a:pt x="151" y="904"/>
                </a:cubicBezTo>
                <a:cubicBezTo>
                  <a:pt x="153" y="978"/>
                  <a:pt x="149" y="1173"/>
                  <a:pt x="178" y="1261"/>
                </a:cubicBezTo>
                <a:cubicBezTo>
                  <a:pt x="183" y="1392"/>
                  <a:pt x="224" y="1591"/>
                  <a:pt x="137" y="1707"/>
                </a:cubicBezTo>
                <a:cubicBezTo>
                  <a:pt x="125" y="1752"/>
                  <a:pt x="104" y="1782"/>
                  <a:pt x="75" y="1816"/>
                </a:cubicBezTo>
                <a:cubicBezTo>
                  <a:pt x="68" y="1825"/>
                  <a:pt x="64" y="1836"/>
                  <a:pt x="55" y="1844"/>
                </a:cubicBezTo>
                <a:cubicBezTo>
                  <a:pt x="47" y="1851"/>
                  <a:pt x="37" y="1854"/>
                  <a:pt x="27" y="1858"/>
                </a:cubicBezTo>
                <a:cubicBezTo>
                  <a:pt x="18" y="1861"/>
                  <a:pt x="0" y="1864"/>
                  <a:pt x="0" y="1864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354560"/>
            <a:ext cx="708120" cy="1187280"/>
          </a:xfrm>
          <a:custGeom>
            <a:avLst/>
            <a:gdLst/>
            <a:ahLst/>
            <a:rect l="l" t="t" r="r" b="b"/>
            <a:pathLst>
              <a:path w="446" h="748">
                <a:moveTo>
                  <a:pt x="446" y="0"/>
                </a:moveTo>
                <a:cubicBezTo>
                  <a:pt x="402" y="85"/>
                  <a:pt x="428" y="167"/>
                  <a:pt x="370" y="254"/>
                </a:cubicBezTo>
                <a:cubicBezTo>
                  <a:pt x="361" y="290"/>
                  <a:pt x="346" y="322"/>
                  <a:pt x="315" y="343"/>
                </a:cubicBezTo>
                <a:cubicBezTo>
                  <a:pt x="300" y="375"/>
                  <a:pt x="285" y="398"/>
                  <a:pt x="274" y="432"/>
                </a:cubicBezTo>
                <a:cubicBezTo>
                  <a:pt x="257" y="487"/>
                  <a:pt x="252" y="534"/>
                  <a:pt x="219" y="583"/>
                </a:cubicBezTo>
                <a:cubicBezTo>
                  <a:pt x="217" y="590"/>
                  <a:pt x="216" y="597"/>
                  <a:pt x="213" y="603"/>
                </a:cubicBezTo>
                <a:cubicBezTo>
                  <a:pt x="209" y="611"/>
                  <a:pt x="202" y="616"/>
                  <a:pt x="199" y="624"/>
                </a:cubicBezTo>
                <a:cubicBezTo>
                  <a:pt x="199" y="624"/>
                  <a:pt x="190" y="685"/>
                  <a:pt x="185" y="692"/>
                </a:cubicBezTo>
                <a:cubicBezTo>
                  <a:pt x="162" y="725"/>
                  <a:pt x="151" y="730"/>
                  <a:pt x="123" y="747"/>
                </a:cubicBezTo>
                <a:cubicBezTo>
                  <a:pt x="71" y="741"/>
                  <a:pt x="54" y="748"/>
                  <a:pt x="21" y="713"/>
                </a:cubicBezTo>
                <a:cubicBezTo>
                  <a:pt x="19" y="706"/>
                  <a:pt x="17" y="699"/>
                  <a:pt x="14" y="692"/>
                </a:cubicBezTo>
                <a:cubicBezTo>
                  <a:pt x="10" y="685"/>
                  <a:pt x="0" y="672"/>
                  <a:pt x="0" y="672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79800" y="4300560"/>
            <a:ext cx="345960" cy="1120680"/>
          </a:xfrm>
          <a:custGeom>
            <a:avLst/>
            <a:gdLst/>
            <a:ahLst/>
            <a:rect l="l" t="t" r="r" b="b"/>
            <a:pathLst>
              <a:path w="218" h="706">
                <a:moveTo>
                  <a:pt x="218" y="706"/>
                </a:moveTo>
                <a:cubicBezTo>
                  <a:pt x="109" y="696"/>
                  <a:pt x="164" y="705"/>
                  <a:pt x="94" y="651"/>
                </a:cubicBezTo>
                <a:cubicBezTo>
                  <a:pt x="74" y="619"/>
                  <a:pt x="47" y="598"/>
                  <a:pt x="33" y="562"/>
                </a:cubicBezTo>
                <a:cubicBezTo>
                  <a:pt x="28" y="549"/>
                  <a:pt x="24" y="535"/>
                  <a:pt x="19" y="521"/>
                </a:cubicBezTo>
                <a:cubicBezTo>
                  <a:pt x="17" y="514"/>
                  <a:pt x="12" y="500"/>
                  <a:pt x="12" y="500"/>
                </a:cubicBezTo>
                <a:cubicBezTo>
                  <a:pt x="14" y="482"/>
                  <a:pt x="19" y="463"/>
                  <a:pt x="19" y="445"/>
                </a:cubicBezTo>
                <a:cubicBezTo>
                  <a:pt x="19" y="390"/>
                  <a:pt x="0" y="461"/>
                  <a:pt x="19" y="404"/>
                </a:cubicBezTo>
                <a:cubicBezTo>
                  <a:pt x="21" y="388"/>
                  <a:pt x="21" y="371"/>
                  <a:pt x="26" y="356"/>
                </a:cubicBezTo>
                <a:cubicBezTo>
                  <a:pt x="39" y="314"/>
                  <a:pt x="47" y="358"/>
                  <a:pt x="33" y="315"/>
                </a:cubicBezTo>
                <a:cubicBezTo>
                  <a:pt x="39" y="296"/>
                  <a:pt x="42" y="285"/>
                  <a:pt x="53" y="267"/>
                </a:cubicBezTo>
                <a:cubicBezTo>
                  <a:pt x="62" y="253"/>
                  <a:pt x="81" y="226"/>
                  <a:pt x="81" y="226"/>
                </a:cubicBezTo>
                <a:cubicBezTo>
                  <a:pt x="89" y="193"/>
                  <a:pt x="94" y="176"/>
                  <a:pt x="122" y="157"/>
                </a:cubicBezTo>
                <a:cubicBezTo>
                  <a:pt x="135" y="119"/>
                  <a:pt x="155" y="81"/>
                  <a:pt x="177" y="48"/>
                </a:cubicBezTo>
                <a:cubicBezTo>
                  <a:pt x="187" y="33"/>
                  <a:pt x="191" y="11"/>
                  <a:pt x="204" y="0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1480" y="1436760"/>
            <a:ext cx="1731960" cy="2863800"/>
          </a:xfrm>
          <a:custGeom>
            <a:avLst/>
            <a:gdLst/>
            <a:ahLst/>
            <a:rect l="l" t="t" r="r" b="b"/>
            <a:pathLst>
              <a:path w="1091" h="1804">
                <a:moveTo>
                  <a:pt x="1091" y="1804"/>
                </a:moveTo>
                <a:cubicBezTo>
                  <a:pt x="1021" y="1790"/>
                  <a:pt x="1050" y="1762"/>
                  <a:pt x="995" y="1735"/>
                </a:cubicBezTo>
                <a:cubicBezTo>
                  <a:pt x="979" y="1688"/>
                  <a:pt x="935" y="1669"/>
                  <a:pt x="892" y="1653"/>
                </a:cubicBezTo>
                <a:cubicBezTo>
                  <a:pt x="885" y="1646"/>
                  <a:pt x="877" y="1640"/>
                  <a:pt x="872" y="1632"/>
                </a:cubicBezTo>
                <a:cubicBezTo>
                  <a:pt x="868" y="1626"/>
                  <a:pt x="870" y="1617"/>
                  <a:pt x="865" y="1612"/>
                </a:cubicBezTo>
                <a:cubicBezTo>
                  <a:pt x="821" y="1568"/>
                  <a:pt x="755" y="1535"/>
                  <a:pt x="700" y="1509"/>
                </a:cubicBezTo>
                <a:cubicBezTo>
                  <a:pt x="683" y="1481"/>
                  <a:pt x="665" y="1483"/>
                  <a:pt x="639" y="1461"/>
                </a:cubicBezTo>
                <a:cubicBezTo>
                  <a:pt x="591" y="1420"/>
                  <a:pt x="644" y="1457"/>
                  <a:pt x="597" y="1426"/>
                </a:cubicBezTo>
                <a:cubicBezTo>
                  <a:pt x="590" y="1417"/>
                  <a:pt x="585" y="1407"/>
                  <a:pt x="577" y="1399"/>
                </a:cubicBezTo>
                <a:cubicBezTo>
                  <a:pt x="571" y="1393"/>
                  <a:pt x="561" y="1391"/>
                  <a:pt x="556" y="1385"/>
                </a:cubicBezTo>
                <a:cubicBezTo>
                  <a:pt x="552" y="1380"/>
                  <a:pt x="552" y="1372"/>
                  <a:pt x="549" y="1365"/>
                </a:cubicBezTo>
                <a:cubicBezTo>
                  <a:pt x="545" y="1356"/>
                  <a:pt x="543" y="1345"/>
                  <a:pt x="536" y="1337"/>
                </a:cubicBezTo>
                <a:cubicBezTo>
                  <a:pt x="531" y="1331"/>
                  <a:pt x="521" y="1329"/>
                  <a:pt x="515" y="1324"/>
                </a:cubicBezTo>
                <a:cubicBezTo>
                  <a:pt x="500" y="1311"/>
                  <a:pt x="474" y="1282"/>
                  <a:pt x="474" y="1282"/>
                </a:cubicBezTo>
                <a:cubicBezTo>
                  <a:pt x="459" y="1240"/>
                  <a:pt x="402" y="1197"/>
                  <a:pt x="364" y="1173"/>
                </a:cubicBezTo>
                <a:cubicBezTo>
                  <a:pt x="345" y="1133"/>
                  <a:pt x="341" y="1144"/>
                  <a:pt x="303" y="1125"/>
                </a:cubicBezTo>
                <a:cubicBezTo>
                  <a:pt x="276" y="1085"/>
                  <a:pt x="209" y="1037"/>
                  <a:pt x="165" y="1015"/>
                </a:cubicBezTo>
                <a:cubicBezTo>
                  <a:pt x="147" y="985"/>
                  <a:pt x="123" y="962"/>
                  <a:pt x="104" y="933"/>
                </a:cubicBezTo>
                <a:cubicBezTo>
                  <a:pt x="88" y="868"/>
                  <a:pt x="103" y="891"/>
                  <a:pt x="69" y="857"/>
                </a:cubicBezTo>
                <a:cubicBezTo>
                  <a:pt x="56" y="815"/>
                  <a:pt x="32" y="778"/>
                  <a:pt x="21" y="734"/>
                </a:cubicBezTo>
                <a:cubicBezTo>
                  <a:pt x="28" y="640"/>
                  <a:pt x="9" y="544"/>
                  <a:pt x="28" y="453"/>
                </a:cubicBezTo>
                <a:cubicBezTo>
                  <a:pt x="0" y="369"/>
                  <a:pt x="20" y="277"/>
                  <a:pt x="35" y="192"/>
                </a:cubicBezTo>
                <a:cubicBezTo>
                  <a:pt x="17" y="140"/>
                  <a:pt x="35" y="205"/>
                  <a:pt x="35" y="151"/>
                </a:cubicBezTo>
                <a:cubicBezTo>
                  <a:pt x="35" y="126"/>
                  <a:pt x="25" y="101"/>
                  <a:pt x="21" y="76"/>
                </a:cubicBezTo>
                <a:cubicBezTo>
                  <a:pt x="30" y="50"/>
                  <a:pt x="44" y="25"/>
                  <a:pt x="56" y="0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" y="1436760"/>
            <a:ext cx="826920" cy="463320"/>
          </a:xfrm>
          <a:custGeom>
            <a:avLst/>
            <a:gdLst/>
            <a:ahLst/>
            <a:rect l="l" t="t" r="r" b="b"/>
            <a:pathLst>
              <a:path w="521" h="292">
                <a:moveTo>
                  <a:pt x="521" y="0"/>
                </a:moveTo>
                <a:cubicBezTo>
                  <a:pt x="504" y="9"/>
                  <a:pt x="481" y="9"/>
                  <a:pt x="466" y="21"/>
                </a:cubicBezTo>
                <a:cubicBezTo>
                  <a:pt x="458" y="27"/>
                  <a:pt x="457" y="39"/>
                  <a:pt x="452" y="48"/>
                </a:cubicBezTo>
                <a:cubicBezTo>
                  <a:pt x="428" y="91"/>
                  <a:pt x="408" y="132"/>
                  <a:pt x="391" y="178"/>
                </a:cubicBezTo>
                <a:cubicBezTo>
                  <a:pt x="388" y="187"/>
                  <a:pt x="390" y="199"/>
                  <a:pt x="384" y="206"/>
                </a:cubicBezTo>
                <a:cubicBezTo>
                  <a:pt x="373" y="219"/>
                  <a:pt x="332" y="234"/>
                  <a:pt x="315" y="240"/>
                </a:cubicBezTo>
                <a:cubicBezTo>
                  <a:pt x="284" y="262"/>
                  <a:pt x="250" y="245"/>
                  <a:pt x="212" y="240"/>
                </a:cubicBezTo>
                <a:cubicBezTo>
                  <a:pt x="183" y="220"/>
                  <a:pt x="144" y="208"/>
                  <a:pt x="110" y="199"/>
                </a:cubicBezTo>
                <a:cubicBezTo>
                  <a:pt x="98" y="201"/>
                  <a:pt x="84" y="199"/>
                  <a:pt x="75" y="206"/>
                </a:cubicBezTo>
                <a:cubicBezTo>
                  <a:pt x="62" y="216"/>
                  <a:pt x="61" y="237"/>
                  <a:pt x="48" y="247"/>
                </a:cubicBezTo>
                <a:cubicBezTo>
                  <a:pt x="39" y="254"/>
                  <a:pt x="29" y="261"/>
                  <a:pt x="20" y="268"/>
                </a:cubicBezTo>
                <a:cubicBezTo>
                  <a:pt x="13" y="292"/>
                  <a:pt x="21" y="288"/>
                  <a:pt x="0" y="288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78680" y="1487520"/>
            <a:ext cx="1154160" cy="1438200"/>
          </a:xfrm>
          <a:custGeom>
            <a:avLst/>
            <a:gdLst/>
            <a:ahLst/>
            <a:rect l="l" t="t" r="r" b="b"/>
            <a:pathLst>
              <a:path w="727" h="906">
                <a:moveTo>
                  <a:pt x="727" y="2"/>
                </a:moveTo>
                <a:cubicBezTo>
                  <a:pt x="706" y="4"/>
                  <a:pt x="685" y="5"/>
                  <a:pt x="665" y="9"/>
                </a:cubicBezTo>
                <a:cubicBezTo>
                  <a:pt x="651" y="12"/>
                  <a:pt x="624" y="23"/>
                  <a:pt x="624" y="23"/>
                </a:cubicBezTo>
                <a:cubicBezTo>
                  <a:pt x="528" y="12"/>
                  <a:pt x="445" y="0"/>
                  <a:pt x="350" y="9"/>
                </a:cubicBezTo>
                <a:cubicBezTo>
                  <a:pt x="303" y="41"/>
                  <a:pt x="325" y="32"/>
                  <a:pt x="288" y="44"/>
                </a:cubicBezTo>
                <a:cubicBezTo>
                  <a:pt x="279" y="69"/>
                  <a:pt x="262" y="83"/>
                  <a:pt x="247" y="105"/>
                </a:cubicBezTo>
                <a:cubicBezTo>
                  <a:pt x="238" y="140"/>
                  <a:pt x="221" y="145"/>
                  <a:pt x="199" y="174"/>
                </a:cubicBezTo>
                <a:cubicBezTo>
                  <a:pt x="172" y="167"/>
                  <a:pt x="150" y="155"/>
                  <a:pt x="124" y="146"/>
                </a:cubicBezTo>
                <a:cubicBezTo>
                  <a:pt x="115" y="183"/>
                  <a:pt x="105" y="218"/>
                  <a:pt x="96" y="256"/>
                </a:cubicBezTo>
                <a:cubicBezTo>
                  <a:pt x="108" y="322"/>
                  <a:pt x="123" y="391"/>
                  <a:pt x="144" y="455"/>
                </a:cubicBezTo>
                <a:cubicBezTo>
                  <a:pt x="143" y="491"/>
                  <a:pt x="203" y="816"/>
                  <a:pt x="62" y="853"/>
                </a:cubicBezTo>
                <a:cubicBezTo>
                  <a:pt x="56" y="859"/>
                  <a:pt x="0" y="906"/>
                  <a:pt x="0" y="887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88320" y="2797200"/>
            <a:ext cx="958680" cy="903240"/>
          </a:xfrm>
          <a:custGeom>
            <a:avLst/>
            <a:gdLst/>
            <a:ahLst/>
            <a:rect l="l" t="t" r="r" b="b"/>
            <a:pathLst>
              <a:path w="604" h="569">
                <a:moveTo>
                  <a:pt x="604" y="76"/>
                </a:moveTo>
                <a:cubicBezTo>
                  <a:pt x="565" y="74"/>
                  <a:pt x="526" y="73"/>
                  <a:pt x="487" y="69"/>
                </a:cubicBezTo>
                <a:cubicBezTo>
                  <a:pt x="464" y="67"/>
                  <a:pt x="442" y="47"/>
                  <a:pt x="419" y="41"/>
                </a:cubicBezTo>
                <a:cubicBezTo>
                  <a:pt x="368" y="9"/>
                  <a:pt x="305" y="10"/>
                  <a:pt x="247" y="0"/>
                </a:cubicBezTo>
                <a:cubicBezTo>
                  <a:pt x="236" y="2"/>
                  <a:pt x="223" y="1"/>
                  <a:pt x="213" y="7"/>
                </a:cubicBezTo>
                <a:cubicBezTo>
                  <a:pt x="201" y="14"/>
                  <a:pt x="197" y="37"/>
                  <a:pt x="192" y="48"/>
                </a:cubicBezTo>
                <a:cubicBezTo>
                  <a:pt x="177" y="83"/>
                  <a:pt x="157" y="111"/>
                  <a:pt x="131" y="137"/>
                </a:cubicBezTo>
                <a:cubicBezTo>
                  <a:pt x="121" y="168"/>
                  <a:pt x="94" y="191"/>
                  <a:pt x="76" y="220"/>
                </a:cubicBezTo>
                <a:cubicBezTo>
                  <a:pt x="74" y="229"/>
                  <a:pt x="73" y="239"/>
                  <a:pt x="69" y="247"/>
                </a:cubicBezTo>
                <a:cubicBezTo>
                  <a:pt x="61" y="262"/>
                  <a:pt x="41" y="288"/>
                  <a:pt x="41" y="288"/>
                </a:cubicBezTo>
                <a:cubicBezTo>
                  <a:pt x="31" y="377"/>
                  <a:pt x="42" y="468"/>
                  <a:pt x="28" y="556"/>
                </a:cubicBezTo>
                <a:cubicBezTo>
                  <a:pt x="26" y="566"/>
                  <a:pt x="0" y="569"/>
                  <a:pt x="0" y="569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8280" y="3722760"/>
            <a:ext cx="2210040" cy="1023840"/>
          </a:xfrm>
          <a:custGeom>
            <a:avLst/>
            <a:gdLst/>
            <a:ahLst/>
            <a:rect l="l" t="t" r="r" b="b"/>
            <a:pathLst>
              <a:path w="1392" h="645">
                <a:moveTo>
                  <a:pt x="1392" y="0"/>
                </a:moveTo>
                <a:cubicBezTo>
                  <a:pt x="1364" y="19"/>
                  <a:pt x="1335" y="27"/>
                  <a:pt x="1303" y="34"/>
                </a:cubicBezTo>
                <a:cubicBezTo>
                  <a:pt x="1296" y="39"/>
                  <a:pt x="1289" y="42"/>
                  <a:pt x="1283" y="48"/>
                </a:cubicBezTo>
                <a:cubicBezTo>
                  <a:pt x="1277" y="54"/>
                  <a:pt x="1276" y="64"/>
                  <a:pt x="1269" y="69"/>
                </a:cubicBezTo>
                <a:cubicBezTo>
                  <a:pt x="1260" y="76"/>
                  <a:pt x="1233" y="85"/>
                  <a:pt x="1221" y="89"/>
                </a:cubicBezTo>
                <a:cubicBezTo>
                  <a:pt x="1188" y="113"/>
                  <a:pt x="1158" y="133"/>
                  <a:pt x="1132" y="165"/>
                </a:cubicBezTo>
                <a:cubicBezTo>
                  <a:pt x="1113" y="188"/>
                  <a:pt x="1104" y="213"/>
                  <a:pt x="1091" y="240"/>
                </a:cubicBezTo>
                <a:cubicBezTo>
                  <a:pt x="1088" y="245"/>
                  <a:pt x="1037" y="282"/>
                  <a:pt x="1029" y="288"/>
                </a:cubicBezTo>
                <a:cubicBezTo>
                  <a:pt x="1011" y="314"/>
                  <a:pt x="983" y="326"/>
                  <a:pt x="953" y="336"/>
                </a:cubicBezTo>
                <a:cubicBezTo>
                  <a:pt x="904" y="369"/>
                  <a:pt x="873" y="384"/>
                  <a:pt x="816" y="398"/>
                </a:cubicBezTo>
                <a:cubicBezTo>
                  <a:pt x="787" y="427"/>
                  <a:pt x="752" y="448"/>
                  <a:pt x="720" y="473"/>
                </a:cubicBezTo>
                <a:cubicBezTo>
                  <a:pt x="707" y="483"/>
                  <a:pt x="679" y="501"/>
                  <a:pt x="679" y="501"/>
                </a:cubicBezTo>
                <a:cubicBezTo>
                  <a:pt x="657" y="532"/>
                  <a:pt x="618" y="530"/>
                  <a:pt x="583" y="542"/>
                </a:cubicBezTo>
                <a:cubicBezTo>
                  <a:pt x="496" y="603"/>
                  <a:pt x="388" y="627"/>
                  <a:pt x="281" y="645"/>
                </a:cubicBezTo>
                <a:cubicBezTo>
                  <a:pt x="219" y="643"/>
                  <a:pt x="157" y="644"/>
                  <a:pt x="96" y="638"/>
                </a:cubicBezTo>
                <a:cubicBezTo>
                  <a:pt x="61" y="635"/>
                  <a:pt x="51" y="617"/>
                  <a:pt x="0" y="617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2000" y="1905120"/>
            <a:ext cx="1365120" cy="2808000"/>
          </a:xfrm>
          <a:custGeom>
            <a:avLst/>
            <a:gdLst/>
            <a:ahLst/>
            <a:rect l="l" t="t" r="r" b="b"/>
            <a:pathLst>
              <a:path w="860" h="1769">
                <a:moveTo>
                  <a:pt x="860" y="1769"/>
                </a:moveTo>
                <a:cubicBezTo>
                  <a:pt x="831" y="1749"/>
                  <a:pt x="841" y="1733"/>
                  <a:pt x="819" y="1707"/>
                </a:cubicBezTo>
                <a:cubicBezTo>
                  <a:pt x="812" y="1698"/>
                  <a:pt x="800" y="1695"/>
                  <a:pt x="792" y="1687"/>
                </a:cubicBezTo>
                <a:cubicBezTo>
                  <a:pt x="770" y="1665"/>
                  <a:pt x="766" y="1632"/>
                  <a:pt x="744" y="1611"/>
                </a:cubicBezTo>
                <a:cubicBezTo>
                  <a:pt x="738" y="1605"/>
                  <a:pt x="729" y="1603"/>
                  <a:pt x="723" y="1598"/>
                </a:cubicBezTo>
                <a:cubicBezTo>
                  <a:pt x="716" y="1592"/>
                  <a:pt x="710" y="1584"/>
                  <a:pt x="703" y="1577"/>
                </a:cubicBezTo>
                <a:cubicBezTo>
                  <a:pt x="692" y="1545"/>
                  <a:pt x="657" y="1523"/>
                  <a:pt x="627" y="1509"/>
                </a:cubicBezTo>
                <a:cubicBezTo>
                  <a:pt x="620" y="1502"/>
                  <a:pt x="614" y="1494"/>
                  <a:pt x="607" y="1488"/>
                </a:cubicBezTo>
                <a:cubicBezTo>
                  <a:pt x="598" y="1480"/>
                  <a:pt x="587" y="1475"/>
                  <a:pt x="579" y="1467"/>
                </a:cubicBezTo>
                <a:cubicBezTo>
                  <a:pt x="555" y="1443"/>
                  <a:pt x="572" y="1434"/>
                  <a:pt x="538" y="1413"/>
                </a:cubicBezTo>
                <a:cubicBezTo>
                  <a:pt x="533" y="1406"/>
                  <a:pt x="530" y="1398"/>
                  <a:pt x="524" y="1392"/>
                </a:cubicBezTo>
                <a:cubicBezTo>
                  <a:pt x="518" y="1386"/>
                  <a:pt x="508" y="1385"/>
                  <a:pt x="504" y="1378"/>
                </a:cubicBezTo>
                <a:cubicBezTo>
                  <a:pt x="496" y="1366"/>
                  <a:pt x="498" y="1349"/>
                  <a:pt x="490" y="1337"/>
                </a:cubicBezTo>
                <a:cubicBezTo>
                  <a:pt x="464" y="1300"/>
                  <a:pt x="460" y="1257"/>
                  <a:pt x="435" y="1221"/>
                </a:cubicBezTo>
                <a:cubicBezTo>
                  <a:pt x="419" y="1174"/>
                  <a:pt x="375" y="1133"/>
                  <a:pt x="339" y="1097"/>
                </a:cubicBezTo>
                <a:cubicBezTo>
                  <a:pt x="324" y="1041"/>
                  <a:pt x="344" y="1097"/>
                  <a:pt x="312" y="1049"/>
                </a:cubicBezTo>
                <a:cubicBezTo>
                  <a:pt x="296" y="1025"/>
                  <a:pt x="296" y="1012"/>
                  <a:pt x="271" y="994"/>
                </a:cubicBezTo>
                <a:cubicBezTo>
                  <a:pt x="266" y="987"/>
                  <a:pt x="261" y="981"/>
                  <a:pt x="257" y="974"/>
                </a:cubicBezTo>
                <a:cubicBezTo>
                  <a:pt x="254" y="967"/>
                  <a:pt x="254" y="959"/>
                  <a:pt x="250" y="953"/>
                </a:cubicBezTo>
                <a:cubicBezTo>
                  <a:pt x="228" y="919"/>
                  <a:pt x="199" y="890"/>
                  <a:pt x="175" y="857"/>
                </a:cubicBezTo>
                <a:cubicBezTo>
                  <a:pt x="173" y="848"/>
                  <a:pt x="172" y="839"/>
                  <a:pt x="168" y="830"/>
                </a:cubicBezTo>
                <a:cubicBezTo>
                  <a:pt x="165" y="822"/>
                  <a:pt x="157" y="817"/>
                  <a:pt x="154" y="809"/>
                </a:cubicBezTo>
                <a:cubicBezTo>
                  <a:pt x="143" y="781"/>
                  <a:pt x="140" y="761"/>
                  <a:pt x="127" y="734"/>
                </a:cubicBezTo>
                <a:cubicBezTo>
                  <a:pt x="109" y="698"/>
                  <a:pt x="115" y="667"/>
                  <a:pt x="86" y="638"/>
                </a:cubicBezTo>
                <a:cubicBezTo>
                  <a:pt x="70" y="591"/>
                  <a:pt x="86" y="642"/>
                  <a:pt x="72" y="555"/>
                </a:cubicBezTo>
                <a:cubicBezTo>
                  <a:pt x="66" y="516"/>
                  <a:pt x="35" y="454"/>
                  <a:pt x="17" y="418"/>
                </a:cubicBezTo>
                <a:cubicBezTo>
                  <a:pt x="0" y="303"/>
                  <a:pt x="1" y="86"/>
                  <a:pt x="147" y="48"/>
                </a:cubicBezTo>
                <a:cubicBezTo>
                  <a:pt x="174" y="21"/>
                  <a:pt x="203" y="20"/>
                  <a:pt x="223" y="0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45080" y="1338120"/>
            <a:ext cx="1149120" cy="567000"/>
          </a:xfrm>
          <a:custGeom>
            <a:avLst/>
            <a:gdLst/>
            <a:ahLst/>
            <a:rect l="l" t="t" r="r" b="b"/>
            <a:pathLst>
              <a:path w="724" h="357">
                <a:moveTo>
                  <a:pt x="0" y="357"/>
                </a:moveTo>
                <a:cubicBezTo>
                  <a:pt x="45" y="310"/>
                  <a:pt x="117" y="305"/>
                  <a:pt x="178" y="295"/>
                </a:cubicBezTo>
                <a:cubicBezTo>
                  <a:pt x="185" y="291"/>
                  <a:pt x="191" y="285"/>
                  <a:pt x="199" y="282"/>
                </a:cubicBezTo>
                <a:cubicBezTo>
                  <a:pt x="212" y="276"/>
                  <a:pt x="240" y="268"/>
                  <a:pt x="240" y="268"/>
                </a:cubicBezTo>
                <a:cubicBezTo>
                  <a:pt x="270" y="247"/>
                  <a:pt x="340" y="204"/>
                  <a:pt x="377" y="192"/>
                </a:cubicBezTo>
                <a:cubicBezTo>
                  <a:pt x="401" y="157"/>
                  <a:pt x="407" y="130"/>
                  <a:pt x="446" y="110"/>
                </a:cubicBezTo>
                <a:cubicBezTo>
                  <a:pt x="462" y="60"/>
                  <a:pt x="445" y="66"/>
                  <a:pt x="487" y="76"/>
                </a:cubicBezTo>
                <a:cubicBezTo>
                  <a:pt x="510" y="88"/>
                  <a:pt x="532" y="106"/>
                  <a:pt x="555" y="117"/>
                </a:cubicBezTo>
                <a:cubicBezTo>
                  <a:pt x="568" y="123"/>
                  <a:pt x="596" y="131"/>
                  <a:pt x="596" y="131"/>
                </a:cubicBezTo>
                <a:cubicBezTo>
                  <a:pt x="605" y="129"/>
                  <a:pt x="617" y="130"/>
                  <a:pt x="624" y="124"/>
                </a:cubicBezTo>
                <a:cubicBezTo>
                  <a:pt x="636" y="113"/>
                  <a:pt x="642" y="97"/>
                  <a:pt x="651" y="83"/>
                </a:cubicBezTo>
                <a:cubicBezTo>
                  <a:pt x="652" y="82"/>
                  <a:pt x="677" y="43"/>
                  <a:pt x="679" y="42"/>
                </a:cubicBezTo>
                <a:cubicBezTo>
                  <a:pt x="724" y="11"/>
                  <a:pt x="720" y="31"/>
                  <a:pt x="720" y="0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2" descr="Русские экспедиции"/>
          <p:cNvPicPr/>
          <p:nvPr/>
        </p:nvPicPr>
        <p:blipFill>
          <a:blip r:embed="rId1"/>
          <a:stretch/>
        </p:blipFill>
        <p:spPr>
          <a:xfrm>
            <a:off x="34920" y="-27000"/>
            <a:ext cx="9074160" cy="6912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539640" y="-2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Русские путешестве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6757920" y="1052640"/>
            <a:ext cx="1843200" cy="2374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2205000"/>
            <a:ext cx="60483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2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Н.И.Лобачевск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строил новую неевклидову  геометрическ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58136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М.В.Остроградск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водил исследования в области математической физики, аналитической и небесной механики. Вклад в 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алгебр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теорию чисел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Математи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Ostrogradski.jp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8320" y="3789360"/>
            <a:ext cx="2014560" cy="24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Vasily petr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50240" y="1197000"/>
            <a:ext cx="1736640" cy="2160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Физи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205000"/>
            <a:ext cx="6048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.В.Петр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сследовал электрическую дугу и электрический разряд в разреженном газе и показал возможность их использования для освещения и плавки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149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.С.Якоб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сследования в области электрохимии. Открыл метод гальванопластики. Изобрел первый в мире электромо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Moritz Hermann von Jacobi 185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3573360"/>
            <a:ext cx="1758960" cy="208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16000" y="5589720"/>
            <a:ext cx="1362240" cy="1038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916360" y="5876280"/>
            <a:ext cx="576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50021"/>
                </a:solidFill>
                <a:latin typeface="Arial"/>
              </a:rPr>
              <a:t>«такой прибор будет не больше, чем забавной игрушкой для обогащения физических кабинетов, его нельзя будет применять в большом масштабе с какой-нибудь экономической выгодой..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Физи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205000"/>
            <a:ext cx="6048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П.Л.Шиллин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 1832 г. построил и испытал первую линию электромагнитного телеграфа. Разработчик метода электрического подрыва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76640"/>
            <a:ext cx="2808360" cy="2640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659640" y="2060640"/>
            <a:ext cx="2063520" cy="277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3" name="" descr="Телеграф П. Л. Шиллинга (1832)"/>
          <p:cNvPicPr/>
          <p:nvPr/>
        </p:nvPicPr>
        <p:blipFill>
          <a:blip r:embed="rId4"/>
          <a:stretch/>
        </p:blipFill>
        <p:spPr>
          <a:xfrm>
            <a:off x="3276720" y="3716280"/>
            <a:ext cx="32414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Хим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349360"/>
            <a:ext cx="60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Н.Н. Зи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азработал технологию синтеза ани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Zinin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773360"/>
            <a:ext cx="2390760" cy="316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8" name="Picture 5" descr="J0205403"/>
          <p:cNvPicPr/>
          <p:nvPr/>
        </p:nvPicPr>
        <p:blipFill>
          <a:blip r:embed="rId3"/>
          <a:stretch/>
        </p:blipFill>
        <p:spPr>
          <a:xfrm>
            <a:off x="2484360" y="3429000"/>
            <a:ext cx="23050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Металлург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349360"/>
            <a:ext cx="604836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П.П.Анос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г. Златоуст) раскрыл тайну древнего булата. Создал стальные клинки, высочайшей прочности и остроты. Заложил основы металлургии легированных стал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Портр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557360"/>
            <a:ext cx="2308320" cy="331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4821600">
            <a:off x="2749680" y="2658240"/>
            <a:ext cx="13384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Медици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349360"/>
            <a:ext cx="6048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Н.И.Пирог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сновоположник военно-полевой хирургии. Впервые применил наркоз. Использовал для лечения переломов неподвижную гипсов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762360"/>
            <a:ext cx="2095560" cy="309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3"/>
          <a:stretch/>
        </p:blipFill>
        <p:spPr>
          <a:xfrm>
            <a:off x="6653160" y="1628640"/>
            <a:ext cx="2170080" cy="288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981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Астроном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773360"/>
            <a:ext cx="604836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.Я.Струв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ткрытия в области астроном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ьное сгущение звёзд к центральным частям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Галак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дусное измерение дуги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меридиан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материалы для определения формы и размеров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л постоянную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аберрации све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вое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83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успешное измерение расстояния до звез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ва каталога двойных звёз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443640" y="1341360"/>
            <a:ext cx="2449440" cy="2952720"/>
            <a:chOff x="6443640" y="1341360"/>
            <a:chExt cx="2449440" cy="2952720"/>
          </a:xfrm>
        </p:grpSpPr>
        <p:sp>
          <p:nvSpPr>
            <p:cNvPr id="83" name=""/>
            <p:cNvSpPr/>
            <p:nvPr/>
          </p:nvSpPr>
          <p:spPr>
            <a:xfrm>
              <a:off x="6443640" y="1341360"/>
              <a:ext cx="2449440" cy="2952720"/>
            </a:xfrm>
            <a:prstGeom prst="rect">
              <a:avLst/>
            </a:prstGeom>
            <a:solidFill>
              <a:srgbClr val="fffff7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20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516720" y="1412640"/>
              <a:ext cx="2324160" cy="28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" descr="Главный корпус Пулковской обсерватори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1640" y="4336920"/>
            <a:ext cx="3889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cap="rnd" w="12600">
            <a:solidFill>
              <a:srgbClr val="cc0000"/>
            </a:solidFill>
            <a:custDash>
              <a:ds d="100000" sp="1000"/>
            </a:custDash>
            <a:miter/>
          </a:ln>
        </p:spPr>
      </p:pic>
      <p:sp>
        <p:nvSpPr>
          <p:cNvPr id="89" name=""/>
          <p:cNvSpPr/>
          <p:nvPr/>
        </p:nvSpPr>
        <p:spPr>
          <a:xfrm>
            <a:off x="0" y="2781360"/>
            <a:ext cx="3203640" cy="2906640"/>
          </a:xfrm>
          <a:custGeom>
            <a:avLst/>
            <a:gdLst/>
            <a:ahLst/>
            <a:rect l="l" t="t" r="r" b="b"/>
            <a:pathLst>
              <a:path w="2017" h="1589">
                <a:moveTo>
                  <a:pt x="2016" y="830"/>
                </a:moveTo>
                <a:cubicBezTo>
                  <a:pt x="1996" y="888"/>
                  <a:pt x="2017" y="996"/>
                  <a:pt x="1970" y="1039"/>
                </a:cubicBezTo>
                <a:cubicBezTo>
                  <a:pt x="1961" y="1070"/>
                  <a:pt x="1961" y="1104"/>
                  <a:pt x="1942" y="1129"/>
                </a:cubicBezTo>
                <a:cubicBezTo>
                  <a:pt x="1936" y="1148"/>
                  <a:pt x="1933" y="1160"/>
                  <a:pt x="1920" y="1175"/>
                </a:cubicBezTo>
                <a:cubicBezTo>
                  <a:pt x="1905" y="1218"/>
                  <a:pt x="1902" y="1262"/>
                  <a:pt x="1891" y="1305"/>
                </a:cubicBezTo>
                <a:cubicBezTo>
                  <a:pt x="1889" y="1313"/>
                  <a:pt x="1883" y="1319"/>
                  <a:pt x="1880" y="1327"/>
                </a:cubicBezTo>
                <a:cubicBezTo>
                  <a:pt x="1877" y="1334"/>
                  <a:pt x="1876" y="1342"/>
                  <a:pt x="1874" y="1350"/>
                </a:cubicBezTo>
                <a:cubicBezTo>
                  <a:pt x="1868" y="1377"/>
                  <a:pt x="1867" y="1399"/>
                  <a:pt x="1852" y="1423"/>
                </a:cubicBezTo>
                <a:cubicBezTo>
                  <a:pt x="1845" y="1450"/>
                  <a:pt x="1841" y="1464"/>
                  <a:pt x="1818" y="1480"/>
                </a:cubicBezTo>
                <a:cubicBezTo>
                  <a:pt x="1799" y="1533"/>
                  <a:pt x="1765" y="1540"/>
                  <a:pt x="1716" y="1553"/>
                </a:cubicBezTo>
                <a:cubicBezTo>
                  <a:pt x="1695" y="1574"/>
                  <a:pt x="1678" y="1580"/>
                  <a:pt x="1649" y="1570"/>
                </a:cubicBezTo>
                <a:cubicBezTo>
                  <a:pt x="1595" y="1589"/>
                  <a:pt x="1535" y="1580"/>
                  <a:pt x="1479" y="1576"/>
                </a:cubicBezTo>
                <a:cubicBezTo>
                  <a:pt x="1429" y="1558"/>
                  <a:pt x="1454" y="1556"/>
                  <a:pt x="1411" y="1536"/>
                </a:cubicBezTo>
                <a:cubicBezTo>
                  <a:pt x="1395" y="1511"/>
                  <a:pt x="1371" y="1499"/>
                  <a:pt x="1349" y="1480"/>
                </a:cubicBezTo>
                <a:cubicBezTo>
                  <a:pt x="1296" y="1433"/>
                  <a:pt x="1342" y="1465"/>
                  <a:pt x="1304" y="1440"/>
                </a:cubicBezTo>
                <a:cubicBezTo>
                  <a:pt x="1300" y="1432"/>
                  <a:pt x="1298" y="1424"/>
                  <a:pt x="1293" y="1417"/>
                </a:cubicBezTo>
                <a:cubicBezTo>
                  <a:pt x="1289" y="1412"/>
                  <a:pt x="1280" y="1412"/>
                  <a:pt x="1276" y="1406"/>
                </a:cubicBezTo>
                <a:cubicBezTo>
                  <a:pt x="1268" y="1394"/>
                  <a:pt x="1267" y="1379"/>
                  <a:pt x="1259" y="1367"/>
                </a:cubicBezTo>
                <a:cubicBezTo>
                  <a:pt x="1252" y="1340"/>
                  <a:pt x="1251" y="1330"/>
                  <a:pt x="1231" y="1310"/>
                </a:cubicBezTo>
                <a:cubicBezTo>
                  <a:pt x="1218" y="1261"/>
                  <a:pt x="1211" y="1217"/>
                  <a:pt x="1174" y="1180"/>
                </a:cubicBezTo>
                <a:cubicBezTo>
                  <a:pt x="1166" y="1151"/>
                  <a:pt x="1147" y="1134"/>
                  <a:pt x="1123" y="1118"/>
                </a:cubicBezTo>
                <a:cubicBezTo>
                  <a:pt x="1111" y="1099"/>
                  <a:pt x="1096" y="1089"/>
                  <a:pt x="1090" y="1067"/>
                </a:cubicBezTo>
                <a:cubicBezTo>
                  <a:pt x="1082" y="1007"/>
                  <a:pt x="1059" y="975"/>
                  <a:pt x="1016" y="932"/>
                </a:cubicBezTo>
                <a:cubicBezTo>
                  <a:pt x="1003" y="896"/>
                  <a:pt x="959" y="799"/>
                  <a:pt x="931" y="774"/>
                </a:cubicBezTo>
                <a:cubicBezTo>
                  <a:pt x="921" y="740"/>
                  <a:pt x="901" y="704"/>
                  <a:pt x="869" y="689"/>
                </a:cubicBezTo>
                <a:cubicBezTo>
                  <a:pt x="859" y="656"/>
                  <a:pt x="830" y="630"/>
                  <a:pt x="807" y="604"/>
                </a:cubicBezTo>
                <a:cubicBezTo>
                  <a:pt x="797" y="570"/>
                  <a:pt x="781" y="539"/>
                  <a:pt x="756" y="514"/>
                </a:cubicBezTo>
                <a:cubicBezTo>
                  <a:pt x="750" y="494"/>
                  <a:pt x="742" y="489"/>
                  <a:pt x="728" y="474"/>
                </a:cubicBezTo>
                <a:cubicBezTo>
                  <a:pt x="719" y="448"/>
                  <a:pt x="674" y="379"/>
                  <a:pt x="649" y="361"/>
                </a:cubicBezTo>
                <a:cubicBezTo>
                  <a:pt x="622" y="307"/>
                  <a:pt x="656" y="361"/>
                  <a:pt x="621" y="333"/>
                </a:cubicBezTo>
                <a:cubicBezTo>
                  <a:pt x="587" y="305"/>
                  <a:pt x="634" y="323"/>
                  <a:pt x="593" y="311"/>
                </a:cubicBezTo>
                <a:cubicBezTo>
                  <a:pt x="589" y="307"/>
                  <a:pt x="586" y="302"/>
                  <a:pt x="581" y="299"/>
                </a:cubicBezTo>
                <a:cubicBezTo>
                  <a:pt x="576" y="296"/>
                  <a:pt x="569" y="298"/>
                  <a:pt x="564" y="294"/>
                </a:cubicBezTo>
                <a:cubicBezTo>
                  <a:pt x="536" y="273"/>
                  <a:pt x="520" y="249"/>
                  <a:pt x="485" y="237"/>
                </a:cubicBezTo>
                <a:cubicBezTo>
                  <a:pt x="465" y="206"/>
                  <a:pt x="428" y="198"/>
                  <a:pt x="395" y="186"/>
                </a:cubicBezTo>
                <a:cubicBezTo>
                  <a:pt x="382" y="182"/>
                  <a:pt x="372" y="171"/>
                  <a:pt x="361" y="164"/>
                </a:cubicBezTo>
                <a:cubicBezTo>
                  <a:pt x="354" y="160"/>
                  <a:pt x="334" y="156"/>
                  <a:pt x="327" y="153"/>
                </a:cubicBezTo>
                <a:cubicBezTo>
                  <a:pt x="258" y="123"/>
                  <a:pt x="338" y="157"/>
                  <a:pt x="293" y="130"/>
                </a:cubicBezTo>
                <a:cubicBezTo>
                  <a:pt x="261" y="111"/>
                  <a:pt x="220" y="104"/>
                  <a:pt x="186" y="90"/>
                </a:cubicBezTo>
                <a:cubicBezTo>
                  <a:pt x="146" y="74"/>
                  <a:pt x="125" y="49"/>
                  <a:pt x="84" y="40"/>
                </a:cubicBezTo>
                <a:cubicBezTo>
                  <a:pt x="60" y="26"/>
                  <a:pt x="29" y="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2080" y="1370160"/>
            <a:ext cx="1808280" cy="2958840"/>
          </a:xfrm>
          <a:custGeom>
            <a:avLst/>
            <a:gdLst/>
            <a:ahLst/>
            <a:rect l="l" t="t" r="r" b="b"/>
            <a:pathLst>
              <a:path w="1139" h="1864">
                <a:moveTo>
                  <a:pt x="1139" y="1"/>
                </a:moveTo>
                <a:cubicBezTo>
                  <a:pt x="1130" y="3"/>
                  <a:pt x="1121" y="8"/>
                  <a:pt x="1112" y="8"/>
                </a:cubicBezTo>
                <a:cubicBezTo>
                  <a:pt x="1105" y="8"/>
                  <a:pt x="1099" y="0"/>
                  <a:pt x="1092" y="1"/>
                </a:cubicBezTo>
                <a:cubicBezTo>
                  <a:pt x="1086" y="2"/>
                  <a:pt x="1083" y="11"/>
                  <a:pt x="1078" y="14"/>
                </a:cubicBezTo>
                <a:cubicBezTo>
                  <a:pt x="1071" y="18"/>
                  <a:pt x="1038" y="26"/>
                  <a:pt x="1032" y="28"/>
                </a:cubicBezTo>
                <a:cubicBezTo>
                  <a:pt x="1000" y="58"/>
                  <a:pt x="1038" y="19"/>
                  <a:pt x="1005" y="68"/>
                </a:cubicBezTo>
                <a:cubicBezTo>
                  <a:pt x="990" y="90"/>
                  <a:pt x="963" y="103"/>
                  <a:pt x="944" y="122"/>
                </a:cubicBezTo>
                <a:cubicBezTo>
                  <a:pt x="929" y="120"/>
                  <a:pt x="913" y="120"/>
                  <a:pt x="898" y="115"/>
                </a:cubicBezTo>
                <a:cubicBezTo>
                  <a:pt x="873" y="106"/>
                  <a:pt x="892" y="96"/>
                  <a:pt x="877" y="81"/>
                </a:cubicBezTo>
                <a:cubicBezTo>
                  <a:pt x="870" y="74"/>
                  <a:pt x="859" y="73"/>
                  <a:pt x="851" y="68"/>
                </a:cubicBezTo>
                <a:cubicBezTo>
                  <a:pt x="826" y="52"/>
                  <a:pt x="829" y="42"/>
                  <a:pt x="797" y="34"/>
                </a:cubicBezTo>
                <a:cubicBezTo>
                  <a:pt x="757" y="62"/>
                  <a:pt x="764" y="69"/>
                  <a:pt x="770" y="122"/>
                </a:cubicBezTo>
                <a:cubicBezTo>
                  <a:pt x="759" y="159"/>
                  <a:pt x="737" y="153"/>
                  <a:pt x="710" y="175"/>
                </a:cubicBezTo>
                <a:cubicBezTo>
                  <a:pt x="681" y="199"/>
                  <a:pt x="672" y="220"/>
                  <a:pt x="636" y="229"/>
                </a:cubicBezTo>
                <a:cubicBezTo>
                  <a:pt x="606" y="248"/>
                  <a:pt x="574" y="241"/>
                  <a:pt x="543" y="256"/>
                </a:cubicBezTo>
                <a:cubicBezTo>
                  <a:pt x="518" y="268"/>
                  <a:pt x="502" y="291"/>
                  <a:pt x="482" y="309"/>
                </a:cubicBezTo>
                <a:cubicBezTo>
                  <a:pt x="468" y="337"/>
                  <a:pt x="456" y="342"/>
                  <a:pt x="435" y="363"/>
                </a:cubicBezTo>
                <a:cubicBezTo>
                  <a:pt x="424" y="399"/>
                  <a:pt x="434" y="400"/>
                  <a:pt x="395" y="410"/>
                </a:cubicBezTo>
                <a:cubicBezTo>
                  <a:pt x="386" y="440"/>
                  <a:pt x="352" y="488"/>
                  <a:pt x="328" y="510"/>
                </a:cubicBezTo>
                <a:cubicBezTo>
                  <a:pt x="315" y="555"/>
                  <a:pt x="293" y="591"/>
                  <a:pt x="281" y="637"/>
                </a:cubicBezTo>
                <a:cubicBezTo>
                  <a:pt x="276" y="657"/>
                  <a:pt x="268" y="698"/>
                  <a:pt x="268" y="698"/>
                </a:cubicBezTo>
                <a:cubicBezTo>
                  <a:pt x="270" y="803"/>
                  <a:pt x="252" y="1014"/>
                  <a:pt x="295" y="1140"/>
                </a:cubicBezTo>
                <a:cubicBezTo>
                  <a:pt x="295" y="1169"/>
                  <a:pt x="381" y="1655"/>
                  <a:pt x="201" y="1742"/>
                </a:cubicBezTo>
                <a:cubicBezTo>
                  <a:pt x="171" y="1774"/>
                  <a:pt x="209" y="1738"/>
                  <a:pt x="161" y="1762"/>
                </a:cubicBezTo>
                <a:cubicBezTo>
                  <a:pt x="144" y="1770"/>
                  <a:pt x="130" y="1793"/>
                  <a:pt x="114" y="1803"/>
                </a:cubicBezTo>
                <a:cubicBezTo>
                  <a:pt x="82" y="1822"/>
                  <a:pt x="69" y="1826"/>
                  <a:pt x="40" y="1836"/>
                </a:cubicBezTo>
                <a:cubicBezTo>
                  <a:pt x="22" y="1864"/>
                  <a:pt x="35" y="1856"/>
                  <a:pt x="0" y="1856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68360" y="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Русские путешестве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539640" y="515772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Н.Ф. Крузенштерн, Ю. Ф. Лисянски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803-1806 гг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вая кругосветная экспеди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зучены и сделаны съёмки островов Тихого океана, побережья Китая и острова Сахалин, полуострова Камча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8280" y="1633680"/>
            <a:ext cx="609840" cy="1174680"/>
          </a:xfrm>
          <a:custGeom>
            <a:avLst/>
            <a:gdLst/>
            <a:ahLst/>
            <a:rect l="l" t="t" r="r" b="b"/>
            <a:pathLst>
              <a:path w="384" h="740">
                <a:moveTo>
                  <a:pt x="0" y="740"/>
                </a:moveTo>
                <a:cubicBezTo>
                  <a:pt x="16" y="680"/>
                  <a:pt x="7" y="707"/>
                  <a:pt x="27" y="658"/>
                </a:cubicBezTo>
                <a:cubicBezTo>
                  <a:pt x="37" y="599"/>
                  <a:pt x="68" y="468"/>
                  <a:pt x="103" y="418"/>
                </a:cubicBezTo>
                <a:cubicBezTo>
                  <a:pt x="110" y="335"/>
                  <a:pt x="90" y="247"/>
                  <a:pt x="130" y="171"/>
                </a:cubicBezTo>
                <a:cubicBezTo>
                  <a:pt x="137" y="129"/>
                  <a:pt x="142" y="111"/>
                  <a:pt x="178" y="89"/>
                </a:cubicBezTo>
                <a:cubicBezTo>
                  <a:pt x="207" y="46"/>
                  <a:pt x="271" y="28"/>
                  <a:pt x="315" y="0"/>
                </a:cubicBezTo>
                <a:cubicBezTo>
                  <a:pt x="338" y="3"/>
                  <a:pt x="367" y="3"/>
                  <a:pt x="384" y="20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87680"/>
            <a:ext cx="903240" cy="1060200"/>
          </a:xfrm>
          <a:custGeom>
            <a:avLst/>
            <a:gdLst/>
            <a:ahLst/>
            <a:rect l="l" t="t" r="r" b="b"/>
            <a:pathLst>
              <a:path w="569" h="668">
                <a:moveTo>
                  <a:pt x="466" y="0"/>
                </a:moveTo>
                <a:cubicBezTo>
                  <a:pt x="508" y="28"/>
                  <a:pt x="552" y="82"/>
                  <a:pt x="569" y="130"/>
                </a:cubicBezTo>
                <a:cubicBezTo>
                  <a:pt x="564" y="171"/>
                  <a:pt x="560" y="213"/>
                  <a:pt x="555" y="254"/>
                </a:cubicBezTo>
                <a:cubicBezTo>
                  <a:pt x="553" y="270"/>
                  <a:pt x="529" y="300"/>
                  <a:pt x="521" y="315"/>
                </a:cubicBezTo>
                <a:cubicBezTo>
                  <a:pt x="491" y="370"/>
                  <a:pt x="467" y="438"/>
                  <a:pt x="418" y="480"/>
                </a:cubicBezTo>
                <a:cubicBezTo>
                  <a:pt x="396" y="499"/>
                  <a:pt x="367" y="517"/>
                  <a:pt x="343" y="535"/>
                </a:cubicBezTo>
                <a:cubicBezTo>
                  <a:pt x="332" y="566"/>
                  <a:pt x="299" y="587"/>
                  <a:pt x="267" y="596"/>
                </a:cubicBezTo>
                <a:cubicBezTo>
                  <a:pt x="242" y="637"/>
                  <a:pt x="203" y="638"/>
                  <a:pt x="158" y="644"/>
                </a:cubicBezTo>
                <a:cubicBezTo>
                  <a:pt x="110" y="668"/>
                  <a:pt x="0" y="665"/>
                  <a:pt x="0" y="665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38960" y="1752480"/>
            <a:ext cx="893880" cy="1470240"/>
          </a:xfrm>
          <a:custGeom>
            <a:avLst/>
            <a:gdLst/>
            <a:ahLst/>
            <a:rect l="l" t="t" r="r" b="b"/>
            <a:pathLst>
              <a:path w="563" h="926">
                <a:moveTo>
                  <a:pt x="563" y="926"/>
                </a:moveTo>
                <a:cubicBezTo>
                  <a:pt x="544" y="899"/>
                  <a:pt x="528" y="882"/>
                  <a:pt x="501" y="864"/>
                </a:cubicBezTo>
                <a:cubicBezTo>
                  <a:pt x="482" y="838"/>
                  <a:pt x="479" y="819"/>
                  <a:pt x="453" y="802"/>
                </a:cubicBezTo>
                <a:cubicBezTo>
                  <a:pt x="441" y="786"/>
                  <a:pt x="433" y="768"/>
                  <a:pt x="419" y="754"/>
                </a:cubicBezTo>
                <a:cubicBezTo>
                  <a:pt x="392" y="727"/>
                  <a:pt x="393" y="743"/>
                  <a:pt x="371" y="713"/>
                </a:cubicBezTo>
                <a:cubicBezTo>
                  <a:pt x="340" y="671"/>
                  <a:pt x="378" y="697"/>
                  <a:pt x="330" y="672"/>
                </a:cubicBezTo>
                <a:cubicBezTo>
                  <a:pt x="320" y="641"/>
                  <a:pt x="295" y="635"/>
                  <a:pt x="275" y="610"/>
                </a:cubicBezTo>
                <a:cubicBezTo>
                  <a:pt x="271" y="605"/>
                  <a:pt x="238" y="557"/>
                  <a:pt x="227" y="542"/>
                </a:cubicBezTo>
                <a:cubicBezTo>
                  <a:pt x="216" y="526"/>
                  <a:pt x="198" y="516"/>
                  <a:pt x="186" y="501"/>
                </a:cubicBezTo>
                <a:cubicBezTo>
                  <a:pt x="177" y="463"/>
                  <a:pt x="153" y="428"/>
                  <a:pt x="138" y="391"/>
                </a:cubicBezTo>
                <a:cubicBezTo>
                  <a:pt x="130" y="372"/>
                  <a:pt x="120" y="354"/>
                  <a:pt x="111" y="336"/>
                </a:cubicBezTo>
                <a:cubicBezTo>
                  <a:pt x="106" y="327"/>
                  <a:pt x="97" y="309"/>
                  <a:pt x="97" y="309"/>
                </a:cubicBezTo>
                <a:cubicBezTo>
                  <a:pt x="84" y="257"/>
                  <a:pt x="75" y="221"/>
                  <a:pt x="42" y="178"/>
                </a:cubicBezTo>
                <a:cubicBezTo>
                  <a:pt x="40" y="169"/>
                  <a:pt x="39" y="159"/>
                  <a:pt x="35" y="151"/>
                </a:cubicBezTo>
                <a:cubicBezTo>
                  <a:pt x="30" y="141"/>
                  <a:pt x="19" y="134"/>
                  <a:pt x="15" y="123"/>
                </a:cubicBezTo>
                <a:cubicBezTo>
                  <a:pt x="8" y="106"/>
                  <a:pt x="1" y="69"/>
                  <a:pt x="1" y="69"/>
                </a:cubicBezTo>
                <a:cubicBezTo>
                  <a:pt x="9" y="9"/>
                  <a:pt x="0" y="31"/>
                  <a:pt x="15" y="0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1741320"/>
            <a:ext cx="696960" cy="730440"/>
          </a:xfrm>
          <a:custGeom>
            <a:avLst/>
            <a:gdLst/>
            <a:ahLst/>
            <a:rect l="l" t="t" r="r" b="b"/>
            <a:pathLst>
              <a:path w="439" h="460">
                <a:moveTo>
                  <a:pt x="439" y="0"/>
                </a:moveTo>
                <a:cubicBezTo>
                  <a:pt x="401" y="50"/>
                  <a:pt x="404" y="29"/>
                  <a:pt x="370" y="96"/>
                </a:cubicBezTo>
                <a:cubicBezTo>
                  <a:pt x="337" y="161"/>
                  <a:pt x="358" y="54"/>
                  <a:pt x="322" y="158"/>
                </a:cubicBezTo>
                <a:cubicBezTo>
                  <a:pt x="312" y="187"/>
                  <a:pt x="306" y="214"/>
                  <a:pt x="288" y="240"/>
                </a:cubicBezTo>
                <a:cubicBezTo>
                  <a:pt x="281" y="269"/>
                  <a:pt x="270" y="291"/>
                  <a:pt x="254" y="316"/>
                </a:cubicBezTo>
                <a:cubicBezTo>
                  <a:pt x="246" y="356"/>
                  <a:pt x="232" y="382"/>
                  <a:pt x="199" y="405"/>
                </a:cubicBezTo>
                <a:cubicBezTo>
                  <a:pt x="191" y="428"/>
                  <a:pt x="174" y="435"/>
                  <a:pt x="151" y="446"/>
                </a:cubicBezTo>
                <a:cubicBezTo>
                  <a:pt x="138" y="452"/>
                  <a:pt x="110" y="460"/>
                  <a:pt x="110" y="460"/>
                </a:cubicBezTo>
                <a:cubicBezTo>
                  <a:pt x="94" y="458"/>
                  <a:pt x="77" y="458"/>
                  <a:pt x="62" y="453"/>
                </a:cubicBezTo>
                <a:cubicBezTo>
                  <a:pt x="39" y="446"/>
                  <a:pt x="23" y="422"/>
                  <a:pt x="0" y="412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77280" y="1501920"/>
            <a:ext cx="554040" cy="871560"/>
          </a:xfrm>
          <a:custGeom>
            <a:avLst/>
            <a:gdLst/>
            <a:ahLst/>
            <a:rect l="l" t="t" r="r" b="b"/>
            <a:pathLst>
              <a:path w="349" h="549">
                <a:moveTo>
                  <a:pt x="0" y="549"/>
                </a:moveTo>
                <a:cubicBezTo>
                  <a:pt x="10" y="501"/>
                  <a:pt x="12" y="468"/>
                  <a:pt x="48" y="432"/>
                </a:cubicBezTo>
                <a:cubicBezTo>
                  <a:pt x="56" y="404"/>
                  <a:pt x="72" y="407"/>
                  <a:pt x="96" y="391"/>
                </a:cubicBezTo>
                <a:cubicBezTo>
                  <a:pt x="104" y="363"/>
                  <a:pt x="120" y="333"/>
                  <a:pt x="137" y="309"/>
                </a:cubicBezTo>
                <a:cubicBezTo>
                  <a:pt x="150" y="270"/>
                  <a:pt x="135" y="305"/>
                  <a:pt x="164" y="268"/>
                </a:cubicBezTo>
                <a:cubicBezTo>
                  <a:pt x="174" y="255"/>
                  <a:pt x="192" y="227"/>
                  <a:pt x="192" y="227"/>
                </a:cubicBezTo>
                <a:cubicBezTo>
                  <a:pt x="194" y="202"/>
                  <a:pt x="195" y="176"/>
                  <a:pt x="198" y="151"/>
                </a:cubicBezTo>
                <a:cubicBezTo>
                  <a:pt x="199" y="144"/>
                  <a:pt x="204" y="138"/>
                  <a:pt x="205" y="131"/>
                </a:cubicBezTo>
                <a:cubicBezTo>
                  <a:pt x="214" y="58"/>
                  <a:pt x="197" y="23"/>
                  <a:pt x="267" y="0"/>
                </a:cubicBezTo>
                <a:cubicBezTo>
                  <a:pt x="340" y="7"/>
                  <a:pt x="313" y="7"/>
                  <a:pt x="349" y="7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88320" y="1554120"/>
            <a:ext cx="1187280" cy="2190960"/>
          </a:xfrm>
          <a:custGeom>
            <a:avLst/>
            <a:gdLst/>
            <a:ahLst/>
            <a:rect l="l" t="t" r="r" b="b"/>
            <a:pathLst>
              <a:path w="748" h="1380">
                <a:moveTo>
                  <a:pt x="748" y="8"/>
                </a:moveTo>
                <a:cubicBezTo>
                  <a:pt x="709" y="126"/>
                  <a:pt x="748" y="0"/>
                  <a:pt x="748" y="331"/>
                </a:cubicBezTo>
                <a:cubicBezTo>
                  <a:pt x="748" y="394"/>
                  <a:pt x="721" y="445"/>
                  <a:pt x="686" y="495"/>
                </a:cubicBezTo>
                <a:cubicBezTo>
                  <a:pt x="678" y="526"/>
                  <a:pt x="662" y="549"/>
                  <a:pt x="652" y="578"/>
                </a:cubicBezTo>
                <a:cubicBezTo>
                  <a:pt x="634" y="631"/>
                  <a:pt x="615" y="682"/>
                  <a:pt x="597" y="735"/>
                </a:cubicBezTo>
                <a:cubicBezTo>
                  <a:pt x="591" y="785"/>
                  <a:pt x="596" y="810"/>
                  <a:pt x="556" y="838"/>
                </a:cubicBezTo>
                <a:cubicBezTo>
                  <a:pt x="192" y="828"/>
                  <a:pt x="394" y="855"/>
                  <a:pt x="227" y="797"/>
                </a:cubicBezTo>
                <a:cubicBezTo>
                  <a:pt x="202" y="814"/>
                  <a:pt x="201" y="828"/>
                  <a:pt x="185" y="852"/>
                </a:cubicBezTo>
                <a:cubicBezTo>
                  <a:pt x="176" y="893"/>
                  <a:pt x="159" y="925"/>
                  <a:pt x="131" y="955"/>
                </a:cubicBezTo>
                <a:cubicBezTo>
                  <a:pt x="122" y="980"/>
                  <a:pt x="107" y="1000"/>
                  <a:pt x="96" y="1023"/>
                </a:cubicBezTo>
                <a:cubicBezTo>
                  <a:pt x="79" y="1057"/>
                  <a:pt x="80" y="1078"/>
                  <a:pt x="48" y="1099"/>
                </a:cubicBezTo>
                <a:cubicBezTo>
                  <a:pt x="27" y="1160"/>
                  <a:pt x="49" y="1238"/>
                  <a:pt x="69" y="1298"/>
                </a:cubicBezTo>
                <a:cubicBezTo>
                  <a:pt x="60" y="1340"/>
                  <a:pt x="39" y="1360"/>
                  <a:pt x="0" y="1380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2689200"/>
            <a:ext cx="3809880" cy="2122560"/>
          </a:xfrm>
          <a:custGeom>
            <a:avLst/>
            <a:gdLst/>
            <a:ahLst/>
            <a:rect l="l" t="t" r="r" b="b"/>
            <a:pathLst>
              <a:path w="2400" h="1337">
                <a:moveTo>
                  <a:pt x="2400" y="644"/>
                </a:moveTo>
                <a:cubicBezTo>
                  <a:pt x="2359" y="685"/>
                  <a:pt x="2341" y="716"/>
                  <a:pt x="2283" y="733"/>
                </a:cubicBezTo>
                <a:cubicBezTo>
                  <a:pt x="2234" y="766"/>
                  <a:pt x="2258" y="757"/>
                  <a:pt x="2215" y="768"/>
                </a:cubicBezTo>
                <a:cubicBezTo>
                  <a:pt x="2190" y="783"/>
                  <a:pt x="2175" y="795"/>
                  <a:pt x="2146" y="802"/>
                </a:cubicBezTo>
                <a:cubicBezTo>
                  <a:pt x="2101" y="850"/>
                  <a:pt x="2154" y="802"/>
                  <a:pt x="2098" y="829"/>
                </a:cubicBezTo>
                <a:cubicBezTo>
                  <a:pt x="2068" y="844"/>
                  <a:pt x="2042" y="882"/>
                  <a:pt x="2009" y="891"/>
                </a:cubicBezTo>
                <a:cubicBezTo>
                  <a:pt x="2000" y="893"/>
                  <a:pt x="1991" y="894"/>
                  <a:pt x="1982" y="898"/>
                </a:cubicBezTo>
                <a:cubicBezTo>
                  <a:pt x="1975" y="901"/>
                  <a:pt x="1916" y="931"/>
                  <a:pt x="1899" y="939"/>
                </a:cubicBezTo>
                <a:cubicBezTo>
                  <a:pt x="1886" y="945"/>
                  <a:pt x="1858" y="953"/>
                  <a:pt x="1858" y="953"/>
                </a:cubicBezTo>
                <a:cubicBezTo>
                  <a:pt x="1835" y="976"/>
                  <a:pt x="1819" y="974"/>
                  <a:pt x="1790" y="987"/>
                </a:cubicBezTo>
                <a:cubicBezTo>
                  <a:pt x="1761" y="1000"/>
                  <a:pt x="1745" y="1014"/>
                  <a:pt x="1714" y="1021"/>
                </a:cubicBezTo>
                <a:cubicBezTo>
                  <a:pt x="1685" y="1042"/>
                  <a:pt x="1650" y="1045"/>
                  <a:pt x="1618" y="1063"/>
                </a:cubicBezTo>
                <a:cubicBezTo>
                  <a:pt x="1591" y="1078"/>
                  <a:pt x="1582" y="1096"/>
                  <a:pt x="1550" y="1104"/>
                </a:cubicBezTo>
                <a:cubicBezTo>
                  <a:pt x="1543" y="1108"/>
                  <a:pt x="1534" y="1111"/>
                  <a:pt x="1529" y="1117"/>
                </a:cubicBezTo>
                <a:cubicBezTo>
                  <a:pt x="1524" y="1123"/>
                  <a:pt x="1527" y="1133"/>
                  <a:pt x="1522" y="1138"/>
                </a:cubicBezTo>
                <a:cubicBezTo>
                  <a:pt x="1517" y="1143"/>
                  <a:pt x="1508" y="1142"/>
                  <a:pt x="1502" y="1145"/>
                </a:cubicBezTo>
                <a:cubicBezTo>
                  <a:pt x="1472" y="1162"/>
                  <a:pt x="1450" y="1190"/>
                  <a:pt x="1419" y="1200"/>
                </a:cubicBezTo>
                <a:cubicBezTo>
                  <a:pt x="1391" y="1228"/>
                  <a:pt x="1381" y="1217"/>
                  <a:pt x="1351" y="1234"/>
                </a:cubicBezTo>
                <a:cubicBezTo>
                  <a:pt x="1315" y="1254"/>
                  <a:pt x="1296" y="1271"/>
                  <a:pt x="1255" y="1282"/>
                </a:cubicBezTo>
                <a:cubicBezTo>
                  <a:pt x="1241" y="1291"/>
                  <a:pt x="1228" y="1300"/>
                  <a:pt x="1214" y="1309"/>
                </a:cubicBezTo>
                <a:cubicBezTo>
                  <a:pt x="1204" y="1316"/>
                  <a:pt x="1191" y="1313"/>
                  <a:pt x="1179" y="1316"/>
                </a:cubicBezTo>
                <a:cubicBezTo>
                  <a:pt x="1158" y="1321"/>
                  <a:pt x="1157" y="1324"/>
                  <a:pt x="1138" y="1337"/>
                </a:cubicBezTo>
                <a:cubicBezTo>
                  <a:pt x="1106" y="1335"/>
                  <a:pt x="1074" y="1334"/>
                  <a:pt x="1042" y="1330"/>
                </a:cubicBezTo>
                <a:cubicBezTo>
                  <a:pt x="1023" y="1327"/>
                  <a:pt x="987" y="1316"/>
                  <a:pt x="987" y="1316"/>
                </a:cubicBezTo>
                <a:cubicBezTo>
                  <a:pt x="963" y="1300"/>
                  <a:pt x="912" y="1275"/>
                  <a:pt x="912" y="1275"/>
                </a:cubicBezTo>
                <a:cubicBezTo>
                  <a:pt x="895" y="1251"/>
                  <a:pt x="881" y="1250"/>
                  <a:pt x="857" y="1234"/>
                </a:cubicBezTo>
                <a:cubicBezTo>
                  <a:pt x="850" y="1225"/>
                  <a:pt x="846" y="1214"/>
                  <a:pt x="837" y="1207"/>
                </a:cubicBezTo>
                <a:cubicBezTo>
                  <a:pt x="831" y="1202"/>
                  <a:pt x="821" y="1205"/>
                  <a:pt x="816" y="1200"/>
                </a:cubicBezTo>
                <a:cubicBezTo>
                  <a:pt x="762" y="1146"/>
                  <a:pt x="845" y="1193"/>
                  <a:pt x="775" y="1159"/>
                </a:cubicBezTo>
                <a:cubicBezTo>
                  <a:pt x="770" y="1152"/>
                  <a:pt x="767" y="1144"/>
                  <a:pt x="761" y="1138"/>
                </a:cubicBezTo>
                <a:cubicBezTo>
                  <a:pt x="753" y="1130"/>
                  <a:pt x="741" y="1126"/>
                  <a:pt x="734" y="1117"/>
                </a:cubicBezTo>
                <a:cubicBezTo>
                  <a:pt x="694" y="1069"/>
                  <a:pt x="769" y="1125"/>
                  <a:pt x="706" y="1083"/>
                </a:cubicBezTo>
                <a:cubicBezTo>
                  <a:pt x="702" y="1074"/>
                  <a:pt x="698" y="1065"/>
                  <a:pt x="693" y="1056"/>
                </a:cubicBezTo>
                <a:cubicBezTo>
                  <a:pt x="684" y="1042"/>
                  <a:pt x="672" y="1030"/>
                  <a:pt x="665" y="1015"/>
                </a:cubicBezTo>
                <a:cubicBezTo>
                  <a:pt x="647" y="979"/>
                  <a:pt x="640" y="947"/>
                  <a:pt x="610" y="919"/>
                </a:cubicBezTo>
                <a:cubicBezTo>
                  <a:pt x="594" y="871"/>
                  <a:pt x="569" y="824"/>
                  <a:pt x="542" y="781"/>
                </a:cubicBezTo>
                <a:cubicBezTo>
                  <a:pt x="526" y="718"/>
                  <a:pt x="491" y="667"/>
                  <a:pt x="459" y="610"/>
                </a:cubicBezTo>
                <a:cubicBezTo>
                  <a:pt x="442" y="580"/>
                  <a:pt x="444" y="559"/>
                  <a:pt x="418" y="535"/>
                </a:cubicBezTo>
                <a:cubicBezTo>
                  <a:pt x="398" y="474"/>
                  <a:pt x="362" y="428"/>
                  <a:pt x="322" y="377"/>
                </a:cubicBezTo>
                <a:cubicBezTo>
                  <a:pt x="310" y="340"/>
                  <a:pt x="270" y="272"/>
                  <a:pt x="233" y="260"/>
                </a:cubicBezTo>
                <a:cubicBezTo>
                  <a:pt x="217" y="249"/>
                  <a:pt x="201" y="237"/>
                  <a:pt x="185" y="226"/>
                </a:cubicBezTo>
                <a:cubicBezTo>
                  <a:pt x="178" y="221"/>
                  <a:pt x="165" y="212"/>
                  <a:pt x="165" y="212"/>
                </a:cubicBezTo>
                <a:cubicBezTo>
                  <a:pt x="136" y="171"/>
                  <a:pt x="170" y="212"/>
                  <a:pt x="123" y="178"/>
                </a:cubicBezTo>
                <a:cubicBezTo>
                  <a:pt x="94" y="157"/>
                  <a:pt x="98" y="142"/>
                  <a:pt x="62" y="123"/>
                </a:cubicBezTo>
                <a:cubicBezTo>
                  <a:pt x="50" y="89"/>
                  <a:pt x="0" y="32"/>
                  <a:pt x="0" y="0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3240" y="1306440"/>
            <a:ext cx="1114560" cy="1382760"/>
          </a:xfrm>
          <a:custGeom>
            <a:avLst/>
            <a:gdLst/>
            <a:ahLst/>
            <a:rect l="l" t="t" r="r" b="b"/>
            <a:pathLst>
              <a:path w="702" h="871">
                <a:moveTo>
                  <a:pt x="0" y="871"/>
                </a:moveTo>
                <a:cubicBezTo>
                  <a:pt x="36" y="818"/>
                  <a:pt x="23" y="846"/>
                  <a:pt x="42" y="788"/>
                </a:cubicBezTo>
                <a:cubicBezTo>
                  <a:pt x="53" y="755"/>
                  <a:pt x="46" y="717"/>
                  <a:pt x="62" y="686"/>
                </a:cubicBezTo>
                <a:cubicBezTo>
                  <a:pt x="70" y="671"/>
                  <a:pt x="83" y="659"/>
                  <a:pt x="90" y="644"/>
                </a:cubicBezTo>
                <a:cubicBezTo>
                  <a:pt x="94" y="635"/>
                  <a:pt x="96" y="624"/>
                  <a:pt x="103" y="617"/>
                </a:cubicBezTo>
                <a:cubicBezTo>
                  <a:pt x="115" y="605"/>
                  <a:pt x="144" y="590"/>
                  <a:pt x="144" y="590"/>
                </a:cubicBezTo>
                <a:cubicBezTo>
                  <a:pt x="154" y="575"/>
                  <a:pt x="170" y="564"/>
                  <a:pt x="179" y="548"/>
                </a:cubicBezTo>
                <a:cubicBezTo>
                  <a:pt x="184" y="540"/>
                  <a:pt x="182" y="530"/>
                  <a:pt x="186" y="521"/>
                </a:cubicBezTo>
                <a:cubicBezTo>
                  <a:pt x="196" y="497"/>
                  <a:pt x="213" y="480"/>
                  <a:pt x="234" y="466"/>
                </a:cubicBezTo>
                <a:cubicBezTo>
                  <a:pt x="250" y="433"/>
                  <a:pt x="272" y="410"/>
                  <a:pt x="288" y="377"/>
                </a:cubicBezTo>
                <a:cubicBezTo>
                  <a:pt x="298" y="355"/>
                  <a:pt x="299" y="330"/>
                  <a:pt x="309" y="308"/>
                </a:cubicBezTo>
                <a:cubicBezTo>
                  <a:pt x="330" y="263"/>
                  <a:pt x="350" y="212"/>
                  <a:pt x="378" y="171"/>
                </a:cubicBezTo>
                <a:cubicBezTo>
                  <a:pt x="396" y="112"/>
                  <a:pt x="369" y="195"/>
                  <a:pt x="398" y="130"/>
                </a:cubicBezTo>
                <a:cubicBezTo>
                  <a:pt x="404" y="117"/>
                  <a:pt x="407" y="103"/>
                  <a:pt x="412" y="89"/>
                </a:cubicBezTo>
                <a:cubicBezTo>
                  <a:pt x="426" y="47"/>
                  <a:pt x="506" y="19"/>
                  <a:pt x="542" y="0"/>
                </a:cubicBezTo>
                <a:cubicBezTo>
                  <a:pt x="589" y="5"/>
                  <a:pt x="616" y="11"/>
                  <a:pt x="659" y="20"/>
                </a:cubicBezTo>
                <a:cubicBezTo>
                  <a:pt x="663" y="27"/>
                  <a:pt x="665" y="36"/>
                  <a:pt x="672" y="41"/>
                </a:cubicBezTo>
                <a:cubicBezTo>
                  <a:pt x="702" y="62"/>
                  <a:pt x="700" y="35"/>
                  <a:pt x="700" y="55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65720" y="1338120"/>
            <a:ext cx="554040" cy="196920"/>
          </a:xfrm>
          <a:custGeom>
            <a:avLst/>
            <a:gdLst/>
            <a:ahLst/>
            <a:rect l="l" t="t" r="r" b="b"/>
            <a:pathLst>
              <a:path w="349" h="124">
                <a:moveTo>
                  <a:pt x="0" y="28"/>
                </a:moveTo>
                <a:cubicBezTo>
                  <a:pt x="29" y="36"/>
                  <a:pt x="42" y="50"/>
                  <a:pt x="68" y="62"/>
                </a:cubicBezTo>
                <a:cubicBezTo>
                  <a:pt x="81" y="68"/>
                  <a:pt x="109" y="76"/>
                  <a:pt x="109" y="76"/>
                </a:cubicBezTo>
                <a:cubicBezTo>
                  <a:pt x="128" y="67"/>
                  <a:pt x="143" y="51"/>
                  <a:pt x="164" y="69"/>
                </a:cubicBezTo>
                <a:cubicBezTo>
                  <a:pt x="170" y="74"/>
                  <a:pt x="167" y="84"/>
                  <a:pt x="171" y="90"/>
                </a:cubicBezTo>
                <a:cubicBezTo>
                  <a:pt x="184" y="109"/>
                  <a:pt x="200" y="114"/>
                  <a:pt x="219" y="124"/>
                </a:cubicBezTo>
                <a:cubicBezTo>
                  <a:pt x="269" y="112"/>
                  <a:pt x="240" y="100"/>
                  <a:pt x="288" y="76"/>
                </a:cubicBezTo>
                <a:cubicBezTo>
                  <a:pt x="290" y="69"/>
                  <a:pt x="290" y="61"/>
                  <a:pt x="295" y="55"/>
                </a:cubicBezTo>
                <a:cubicBezTo>
                  <a:pt x="300" y="49"/>
                  <a:pt x="311" y="49"/>
                  <a:pt x="315" y="42"/>
                </a:cubicBezTo>
                <a:cubicBezTo>
                  <a:pt x="327" y="23"/>
                  <a:pt x="316" y="0"/>
                  <a:pt x="349" y="0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1:32:20Z</dcterms:created>
  <dc:creator>Костя</dc:creator>
  <dc:description/>
  <dc:language>en-US</dc:language>
  <cp:lastModifiedBy>Костя</cp:lastModifiedBy>
  <dcterms:modified xsi:type="dcterms:W3CDTF">2011-03-01T17:49:50Z</dcterms:modified>
  <cp:revision>33</cp:revision>
  <dc:subject/>
  <dc:title>Слайд 1</dc:title>
</cp:coreProperties>
</file>