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668-98BD-491A-B40D-8B64BF90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4202-48AC-4455-8234-3F5126C3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8CC7-D08D-4F17-8A61-CB2E06CE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54A2-B65C-431D-9F20-0BB0E81B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A43-B371-4972-8776-9C2CFC4A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C68C-FCAB-45C4-85F9-055B0F0D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8BA-BEB2-4C39-B85F-72FF7A87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BF3-8800-4658-A338-1D6A2533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8AD1-7D23-4EE2-9F23-51F288D4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7A6B-D645-4E9C-9207-5C762131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D320-6083-4058-83C1-B035DDCC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505-2F8E-4F14-B3B3-B16C1B98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4B83-A906-4F0E-98E6-7F83CD54D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commons.wikimedia.org/wiki/File:Ivan_Pavlov_nobel.jpg%3Fuselang=ru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commons.wikimedia.org/wiki/File:Mechnikov_II.jpg%3Fuselang=ru" TargetMode="External"/><Relationship Id="rId3" Type="http://schemas.openxmlformats.org/officeDocument/2006/relationships/image" Target="../media/image5.jpeg"/><Relationship Id="rId4" Type="http://schemas.openxmlformats.org/officeDocument/2006/relationships/hyperlink" Target="file://commons.wikimedia.org/wiki/File:Lactobacillus_bulgaricus.jpeg%3Fuselang=ru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commons.wikimedia.org/wiki/File:Michurin_1936.jpg%3Fuselang=ru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commons.wikimedia.org/wiki/File:Vernadsky.jpg%3Fuselang=ru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042920" y="692280"/>
            <a:ext cx="7772400" cy="431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Серебряный век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русской культуры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(1900 - 1916 гг.)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5229360"/>
            <a:ext cx="4898880" cy="14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готов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монов К.В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валификационная катег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6836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14120" y="983880"/>
            <a:ext cx="449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нстантин Эдуард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иолковск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067280" y="2781360"/>
            <a:ext cx="4236840" cy="3855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1" name="" descr="250"/>
          <p:cNvPicPr/>
          <p:nvPr/>
        </p:nvPicPr>
        <p:blipFill>
          <a:blip r:embed="rId3"/>
          <a:stretch/>
        </p:blipFill>
        <p:spPr>
          <a:xfrm>
            <a:off x="179280" y="404640"/>
            <a:ext cx="3382920" cy="388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250920" y="479736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ория реактивных двигателей и возможность полета в косм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6836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49600" y="907200"/>
            <a:ext cx="558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лександр Степанович Поп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Александр Степанович Попов"/>
          <p:cNvPicPr/>
          <p:nvPr/>
        </p:nvPicPr>
        <p:blipFill>
          <a:blip r:embed="rId2"/>
          <a:stretch/>
        </p:blipFill>
        <p:spPr>
          <a:xfrm>
            <a:off x="324000" y="333360"/>
            <a:ext cx="3084480" cy="3960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3780360" y="198792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иоприёмник (7 мая 189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82520" y="263592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иотелегра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995640" y="3933720"/>
            <a:ext cx="4105440" cy="2770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1116000" y="4508640"/>
            <a:ext cx="2171880" cy="2104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484280"/>
            <a:ext cx="7288200" cy="11912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азрушение традиционных ценностей и представлений людей, вследствие натиска материального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2924280"/>
            <a:ext cx="7272360" cy="8254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Нарушение гармонии между человеком и прир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3933720"/>
            <a:ext cx="7272360" cy="8254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Стандартизация всех сторон человеческого бы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4941720"/>
            <a:ext cx="7201080" cy="8254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Растерянность в обществе, чувство надвигающейся катастроф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997600"/>
            <a:ext cx="7129440" cy="8254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Процессы переосмысления проблем челове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ричины взлета куль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Система 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981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роцесс модернизации страны, развития промышленности требовал от государства повышения грамотности населения, образовательного уровня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997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Ежегодное увеличение расходов на образование. К 1914 г. расходы на образование в России выросли в 5 раз и составили 43 коп. на 1 человека (в Германии и в Великобритании 4 рубля на 1 человека, в США - 7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084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 переписи 1897 г. в России ¾ населения неграмотны. К 1915 г. 68% новобранцев умеют читать и пис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Система 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981000"/>
            <a:ext cx="4176720" cy="576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Black"/>
              </a:rPr>
              <a:t>Начальн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557360"/>
            <a:ext cx="2844720" cy="863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Церковно-приход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(43 ты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32000" y="1557360"/>
            <a:ext cx="3456000" cy="863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Земское начальное училищ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(28,2 ты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88000" y="1557360"/>
            <a:ext cx="2952720" cy="863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Начальная школа 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(6 млн.учени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27640" y="2421000"/>
            <a:ext cx="0" cy="6476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3068640"/>
            <a:ext cx="417672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Средня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3645000"/>
            <a:ext cx="284472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Гимн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72360" y="3645000"/>
            <a:ext cx="302400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Реальное училищ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27640" y="450864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3645000"/>
            <a:ext cx="3024000" cy="86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Коммерческое училищ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Black"/>
              </a:rPr>
              <a:t>(250 шт. - 65 ты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84360" y="5157720"/>
            <a:ext cx="4176720" cy="863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Высшая шко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(100 шт. – 130 тыс.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6021360"/>
            <a:ext cx="2736720" cy="5763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Женские курсы (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6021360"/>
            <a:ext cx="2736720" cy="5763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Технические ВУ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27640" y="6021360"/>
            <a:ext cx="2737080" cy="5763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Университ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Ivan Pavlov nobe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549360"/>
            <a:ext cx="2544840" cy="36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4003200" y="805680"/>
            <a:ext cx="43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ван Петрович Павл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1413000"/>
            <a:ext cx="511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создатель науки о </a:t>
            </a: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высшей нервной деятельности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и представлений о процессах регуляции пищеварения; основатель крупнейшей российской физиологическо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67280" y="307548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Нобелевская премия по физиологии и медицине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1904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492360" y="3933720"/>
            <a:ext cx="4753080" cy="2741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6836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01760" y="805680"/>
            <a:ext cx="42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лья Ильич Мечник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Mechnikov II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765000"/>
            <a:ext cx="3156120" cy="3600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4211640" y="4011840"/>
            <a:ext cx="41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Нобелевская премия по физиологии и медицине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1908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0560" y="1330560"/>
            <a:ext cx="511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Природа инфекционных заболеваний, их предупреждение и лечение. Изучение туберкулеза и воспалительных процессов. Создатель теории иммунитета и геронтологии. Организовал первую в России бактериологическую стан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Lactobacillus delbrueckii subsp. bulgaricu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68360" y="4581360"/>
            <a:ext cx="3384720" cy="2276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9216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836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5920"/>
            <a:ext cx="56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ван Владимирович Мичури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Michurin 193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76280"/>
            <a:ext cx="3068640" cy="3960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3635280" y="1483200"/>
            <a:ext cx="511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Труды по гибридизации растений. Доказал возможность управлять развитием раст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11640" y="2492280"/>
            <a:ext cx="5832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чурин вывел свыше 150 новых гибридных сортов, среди которых были: яблонь — 45 сортов, груш — 20, вишен — 13, слив (среди них три сорта ренклодов)— 15, черешен — 6, крыжовника — 1, земляники — 1, актинидии — 5, рябины — 3, грецкого ореха — 3, абрикосов — 9, миндаля — 2, айвы — 2, винограда — 8, смородины — 6, малины — 4, ежевики — 4, шелковицы (тутовое дерево) — 2, ореха (фундук) — 1, томатов — 1, лилии — 1, белой акации —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50920" y="5543640"/>
            <a:ext cx="1222200" cy="1314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619280" y="5635800"/>
            <a:ext cx="1440000" cy="1222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3203640" y="5634000"/>
            <a:ext cx="1439640" cy="1224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4859280" y="5686560"/>
            <a:ext cx="1511280" cy="1171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6732720" y="5715000"/>
            <a:ext cx="108108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8028000" y="5715000"/>
            <a:ext cx="1116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835920"/>
            <a:ext cx="60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димир Иванович Вернадск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Vernadsky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620640"/>
            <a:ext cx="2719440" cy="3672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3635280" y="1699200"/>
            <a:ext cx="511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Энциклопедические труды, послужившие основой появления новых научных направлений в геохимии, биохимии, радиоло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72280"/>
            <a:ext cx="51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Учение о биосфере и ноосфере – основы современной эк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715920" y="1196280"/>
            <a:ext cx="55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иколай Егорович Жуковск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Николай Егорович Жуковский.jpg"/>
          <p:cNvPicPr/>
          <p:nvPr/>
        </p:nvPicPr>
        <p:blipFill>
          <a:blip r:embed="rId2"/>
          <a:stretch/>
        </p:blipFill>
        <p:spPr>
          <a:xfrm>
            <a:off x="179280" y="620640"/>
            <a:ext cx="3421080" cy="446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4211640" y="2205000"/>
            <a:ext cx="432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оретические основы воздухоплавания и самолетостроения (аэро-динамика, закон, опреде-ляющий подъёмную силу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рыла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хревая теория воздушного вин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8:42:20Z</dcterms:created>
  <dc:creator>Константин</dc:creator>
  <dc:description/>
  <dc:language>en-US</dc:language>
  <cp:lastModifiedBy>Константин</cp:lastModifiedBy>
  <dcterms:modified xsi:type="dcterms:W3CDTF">2012-11-21T21:52:36Z</dcterms:modified>
  <cp:revision>32</cp:revision>
  <dc:subject/>
  <dc:title>Слайд 1</dc:title>
</cp:coreProperties>
</file>