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415-F39D-40F6-B1AF-A8C6B8DC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578-4D55-4244-917D-A2065738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39C-F0C3-4F49-997C-840CEDEF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D64-DD7E-40C0-9A47-E5A8CA04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FBC-F0DE-4BBC-B8A3-9E7F43C3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95C-4009-4427-A8E2-09216526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969-11A6-4A45-BBAF-9AEFB652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F18-455A-4721-A037-2D45D24A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9D2-FF31-4653-BAAC-00EA7151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2AD-F26D-4C11-AF1C-16F45C13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CCE-CAB3-4D7C-8D39-DC3162BF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070-B9FC-4821-8366-E5C37B64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A790-D6AE-425A-83CD-C66D47668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commons.wikimedia.org/wiki/File:Ivan_Pavlov_nobel.jpg%3Fuselang=ru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commons.wikimedia.org/wiki/File:Mechnikov_II.jpg%3Fuselang=ru" TargetMode="External"/><Relationship Id="rId3" Type="http://schemas.openxmlformats.org/officeDocument/2006/relationships/image" Target="../media/image5.jpeg"/><Relationship Id="rId4" Type="http://schemas.openxmlformats.org/officeDocument/2006/relationships/hyperlink" Target="file://commons.wikimedia.org/wiki/File:Lactobacillus_bulgaricus.jpeg%3Fuselang=ru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commons.wikimedia.org/wiki/File:Michurin_1936.jpg%3Fuselang=ru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commons.wikimedia.org/wiki/File:Vernadsky.jpg%3Fuselang=ru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042920" y="692280"/>
            <a:ext cx="7772400" cy="43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Серебряный век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усской культуры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(1900 - 1916 гг.)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5229360"/>
            <a:ext cx="489888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готов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монов К.В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14120" y="983880"/>
            <a:ext cx="449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стантин Эдуар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иолков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67280" y="2781360"/>
            <a:ext cx="4236840" cy="3855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1" name="" descr="250"/>
          <p:cNvPicPr/>
          <p:nvPr/>
        </p:nvPicPr>
        <p:blipFill>
          <a:blip r:embed="rId3"/>
          <a:stretch/>
        </p:blipFill>
        <p:spPr>
          <a:xfrm>
            <a:off x="179280" y="404640"/>
            <a:ext cx="3382920" cy="388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250920" y="479736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ия реактивных двигателей и возможность полета в к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9600" y="907200"/>
            <a:ext cx="55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ександр Степанович Поп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Александр Степанович Попов"/>
          <p:cNvPicPr/>
          <p:nvPr/>
        </p:nvPicPr>
        <p:blipFill>
          <a:blip r:embed="rId2"/>
          <a:stretch/>
        </p:blipFill>
        <p:spPr>
          <a:xfrm>
            <a:off x="324000" y="333360"/>
            <a:ext cx="3084480" cy="3960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3780360" y="19879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оприёмник (7 мая 18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2520" y="263592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отелегра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995640" y="3933720"/>
            <a:ext cx="4105440" cy="277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116000" y="4508640"/>
            <a:ext cx="2171880" cy="2104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484280"/>
            <a:ext cx="7288200" cy="119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рушение традиционных ценностей и представлений людей, вследствие натиска материаль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924280"/>
            <a:ext cx="727236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Нарушение гармонии между человеком и прир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3933720"/>
            <a:ext cx="727236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Стандартизация всех сторон человеческого 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4941720"/>
            <a:ext cx="720108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Растерянность в обществе, чувство надвигающейся катастро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997600"/>
            <a:ext cx="712944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Процессы переосмысления проблем 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чины взлета куль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истема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81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цесс модернизации страны, развития промышленности требовал от государства повышения грамотности населения, образовательного уровня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жегодное увеличение расходов на образование. К 1914 г. расходы на образование в России выросли в 5 раз и составили 43 коп. на 1 человека (в Германии и в Великобритании 4 рубля на 1 человека, в США - 7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84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 переписи 1897 г. в России ¾ населения неграмотны. К 1915 г. 68% новобранцев умеют читать и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истема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981000"/>
            <a:ext cx="417672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557360"/>
            <a:ext cx="2844720" cy="863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Церковно-прих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(43 ты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1557360"/>
            <a:ext cx="3456000" cy="863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Земское начальное учил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(28,2 ты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88000" y="1557360"/>
            <a:ext cx="2952720" cy="863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Начальная школа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(6 млн.уче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2421000"/>
            <a:ext cx="0" cy="647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3068640"/>
            <a:ext cx="417672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Средня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3645000"/>
            <a:ext cx="28447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3645000"/>
            <a:ext cx="302400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Реальное учил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645000"/>
            <a:ext cx="302400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Коммерческое учил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(250 шт. - 65 ты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5157720"/>
            <a:ext cx="4176720" cy="863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Высшая шк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100 шт. – 130 тыс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021360"/>
            <a:ext cx="2736720" cy="576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Женские курсы (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6021360"/>
            <a:ext cx="2736720" cy="576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ехнические ВУ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6021360"/>
            <a:ext cx="2737080" cy="576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Университ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Ivan Pavlov nobe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254484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4003200" y="805680"/>
            <a:ext cx="43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ван Петрович Пав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1413000"/>
            <a:ext cx="51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оздатель науки о </a:t>
            </a: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высшей нервной деятельности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и представлений о процессах регуляции пищеварения; основатель крупнейшей российской физиологическ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307548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Нобелевская премия по физиологии и медицине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1904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492360" y="3933720"/>
            <a:ext cx="4753080" cy="2741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01760" y="805680"/>
            <a:ext cx="42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лья Ильич Мечник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Mechnikov II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765000"/>
            <a:ext cx="3156120" cy="3600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4211640" y="401184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Нобелевская премия по физиологии и медицине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1908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0560" y="1330560"/>
            <a:ext cx="511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рирода инфекционных заболеваний, их предупреждение и лечение. Изучение туберкулеза и воспалительных процессов. Создатель теории иммунитета и геронтологии. Организовал первую в России бактериологическую стан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Lactobacillus delbrueckii subsp. bulgaricu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581360"/>
            <a:ext cx="3384720" cy="2276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9216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5920"/>
            <a:ext cx="56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ван Владимирович Мичури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Michurin 193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76280"/>
            <a:ext cx="3068640" cy="3960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3635280" y="1483200"/>
            <a:ext cx="51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руды по гибридизации растений. Доказал возможность управлять развитием раст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11640" y="2492280"/>
            <a:ext cx="5832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чурин вывел свыше 150 новых гибридных сортов, среди которых были: яблонь — 45 сортов, груш — 20, вишен — 13, слив (среди них три сорта ренклодов)— 15, черешен — 6, крыжовника — 1, земляники — 1, актинидии — 5, рябины — 3, грецкого ореха — 3, абрикосов — 9, миндаля — 2, айвы — 2, винограда — 8, смородины — 6, малины — 4, ежевики — 4, шелковицы (тутовое дерево) — 2, ореха (фундук) — 1, томатов — 1, лилии — 1, белой акации —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0920" y="5543640"/>
            <a:ext cx="1222200" cy="131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619280" y="5635800"/>
            <a:ext cx="1440000" cy="1222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203640" y="563400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4859280" y="5686560"/>
            <a:ext cx="1511280" cy="117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6732720" y="5715000"/>
            <a:ext cx="108108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8028000" y="5715000"/>
            <a:ext cx="111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835920"/>
            <a:ext cx="60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димир Иванович Вернад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Vernadsk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620640"/>
            <a:ext cx="2719440" cy="3672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635280" y="169920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Энциклопедические труды, послужившие основой появления новых научных направлений в геохимии, биохимии, радиоло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72280"/>
            <a:ext cx="51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Учение о биосфере и ноосфере – основы современной эк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15920" y="1196280"/>
            <a:ext cx="55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колай Егорович Жуков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Николай Егорович Жуковский.jpg"/>
          <p:cNvPicPr/>
          <p:nvPr/>
        </p:nvPicPr>
        <p:blipFill>
          <a:blip r:embed="rId2"/>
          <a:stretch/>
        </p:blipFill>
        <p:spPr>
          <a:xfrm>
            <a:off x="179280" y="620640"/>
            <a:ext cx="3421080" cy="446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4211640" y="2205000"/>
            <a:ext cx="432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тические основы воздухоплавания и самолетостроения (аэро-динамика, закон, опреде-ляющий подъёмную силу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ыл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хревая теория воздушного ви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8:42:20Z</dcterms:created>
  <dc:creator>Константин</dc:creator>
  <dc:description/>
  <dc:language>en-US</dc:language>
  <cp:lastModifiedBy>Константин</cp:lastModifiedBy>
  <dcterms:modified xsi:type="dcterms:W3CDTF">2012-11-21T21:52:36Z</dcterms:modified>
  <cp:revision>32</cp:revision>
  <dc:subject/>
  <dc:title>Слайд 1</dc:title>
</cp:coreProperties>
</file>