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9.png" ContentType="image/png"/>
  <Override PartName="/ppt/media/image32.png" ContentType="image/png"/>
  <Override PartName="/ppt/media/image39.jpeg" ContentType="image/jpeg"/>
  <Override PartName="/ppt/media/image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1.png" ContentType="image/png"/>
  <Override PartName="/ppt/media/image43.png" ContentType="image/png"/>
  <Override PartName="/ppt/media/image34.png" ContentType="image/png"/>
  <Override PartName="/ppt/media/image12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81A9-C157-498D-AF24-319D2E2AF9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6F8F-F347-4276-8925-0C7540BECE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CC71-A6DE-475F-94D5-2CCDEF1DCB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FD17-2C0A-4E39-AD75-23CDE30E02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4DF7-CDE9-47A6-B38E-327069D5A4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705E-5DDB-46CC-AA32-9537411D68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B07B-86C9-455D-B433-380ED87AB7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1471-4258-4228-9723-D7CA1A198F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23DE-2AB7-4A4C-8003-9A3425EC8A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B7DC-6F3B-49F9-A8E1-F499FDBB5C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501C-E92B-462B-A681-EF103F5719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8410-858C-4CBB-8956-8E9458F16D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EA24-99C8-4A34-9C66-2F8EB4EA35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202A-79AA-41B7-88A4-18EE7A3C48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237E-1373-4781-AC3D-F604431ABD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3DD-DB2E-4AEA-8215-05E89B40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DBF-3EF5-4728-B4DF-5A9D0D8A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066-DDA8-4CB0-B45A-505BA824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8B4-6D11-459F-BC58-EDC16F52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A7C-287B-4127-B11C-21B2CB15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37B-BEC2-4B99-AD4A-8C17E0EA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2E39-A432-4E9B-B49B-1C9B3690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1AD-2AB8-474F-86F2-DB077594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205-2F83-4A45-928D-6B1C98D0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25E-E5EB-434E-A4B5-7B27DE8B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32A-86CD-44BF-AF2C-283FC4FC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A1D-67D5-466F-90F8-70084E89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69CB-EA68-4356-9289-9D5B344B79F3}" type="slidenum">
              <a:rPr b="1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5.png"/><Relationship Id="rId3" Type="http://schemas.openxmlformats.org/officeDocument/2006/relationships/image" Target="../media/image34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9.png"/><Relationship Id="rId9" Type="http://schemas.openxmlformats.org/officeDocument/2006/relationships/image" Target="../media/image21.png"/><Relationship Id="rId10" Type="http://schemas.openxmlformats.org/officeDocument/2006/relationships/image" Target="../media/image30.png"/><Relationship Id="rId11" Type="http://schemas.openxmlformats.org/officeDocument/2006/relationships/image" Target="../media/image28.png"/><Relationship Id="rId12" Type="http://schemas.openxmlformats.org/officeDocument/2006/relationships/image" Target="../media/image27.png"/><Relationship Id="rId13" Type="http://schemas.openxmlformats.org/officeDocument/2006/relationships/image" Target="../media/image31.png"/><Relationship Id="rId14" Type="http://schemas.openxmlformats.org/officeDocument/2006/relationships/image" Target="../media/image24.png"/><Relationship Id="rId15" Type="http://schemas.openxmlformats.org/officeDocument/2006/relationships/image" Target="../media/image26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обложка2"/>
          <p:cNvPicPr/>
          <p:nvPr/>
        </p:nvPicPr>
        <p:blipFill>
          <a:blip r:embed="rId1"/>
          <a:stretch/>
        </p:blipFill>
        <p:spPr>
          <a:xfrm>
            <a:off x="324000" y="2492280"/>
            <a:ext cx="3014640" cy="4105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995640" y="2565360"/>
            <a:ext cx="46436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121f"/>
                </a:solidFill>
                <a:latin typeface="Verdana"/>
              </a:rPr>
              <a:t>«Дети – герои 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121f"/>
                </a:solidFill>
                <a:latin typeface="Verdana"/>
              </a:rPr>
              <a:t>Великой Отечественной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121f"/>
                </a:solidFill>
                <a:latin typeface="Verdana"/>
              </a:rPr>
              <a:t>Войны»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лег Кошевой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ерой Советского Союз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3429000" y="2681280"/>
            <a:ext cx="5715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121f"/>
                </a:solidFill>
                <a:latin typeface="Calibri"/>
              </a:rPr>
              <a:t>Великие дети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rcRect l="0" t="0" r="7143" b="3008"/>
          <a:stretch/>
        </p:blipFill>
        <p:spPr>
          <a:xfrm>
            <a:off x="457200" y="1600200"/>
            <a:ext cx="1882800" cy="23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-8640" y="4173480"/>
            <a:ext cx="3530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ванес Кохликян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 орденом Ленина, 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вумя орденами Красного Знамени, 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деном Отечественной войны 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степени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rcRect l="0" t="0" r="5499" b="3205"/>
          <a:stretch/>
        </p:blipFill>
        <p:spPr>
          <a:xfrm>
            <a:off x="3564000" y="1700280"/>
            <a:ext cx="1800000" cy="2305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3495240" y="4194000"/>
            <a:ext cx="20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ркадий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манин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 орденом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ой Звезды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rcRect l="0" t="0" r="9278" b="4367"/>
          <a:stretch/>
        </p:blipFill>
        <p:spPr>
          <a:xfrm>
            <a:off x="6372360" y="1773360"/>
            <a:ext cx="1728720" cy="2232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9"/>
          <p:cNvSpPr/>
          <p:nvPr/>
        </p:nvSpPr>
        <p:spPr>
          <a:xfrm>
            <a:off x="6446160" y="429264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ша Колеснико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603400" y="4606920"/>
            <a:ext cx="342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 годы войны получил два ордена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пять медале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183240" y="2349360"/>
            <a:ext cx="2119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дя Богданова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а орденом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евого Красного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мени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rcRect l="0" t="0" r="9297" b="6255"/>
          <a:stretch/>
        </p:blipFill>
        <p:spPr>
          <a:xfrm>
            <a:off x="2627280" y="189000"/>
            <a:ext cx="1728720" cy="22762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628360" y="2637000"/>
            <a:ext cx="171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ша Гаврило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2"/>
          <a:srcRect l="0" t="0" r="5499" b="4384"/>
          <a:stretch/>
        </p:blipFill>
        <p:spPr>
          <a:xfrm>
            <a:off x="4788000" y="260280"/>
            <a:ext cx="1800000" cy="2276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4789800" y="2708280"/>
            <a:ext cx="19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юся Герасименко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3"/>
          <a:srcRect l="0" t="0" r="9316" b="2438"/>
          <a:stretch/>
        </p:blipFill>
        <p:spPr>
          <a:xfrm>
            <a:off x="6877080" y="0"/>
            <a:ext cx="1727280" cy="2276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"/>
          <p:cNvSpPr/>
          <p:nvPr/>
        </p:nvSpPr>
        <p:spPr>
          <a:xfrm>
            <a:off x="6737400" y="2276640"/>
            <a:ext cx="2163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да Вашкевич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а медалью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Партизану ВО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степени»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4"/>
          <a:srcRect l="0" t="0" r="5499" b="3235"/>
          <a:stretch/>
        </p:blipFill>
        <p:spPr>
          <a:xfrm>
            <a:off x="324000" y="3429000"/>
            <a:ext cx="1800000" cy="2303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82440" y="5850000"/>
            <a:ext cx="207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ля  Зенкина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а орденом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ой Звезды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01" name="Picture 13" descr=""/>
          <p:cNvPicPr/>
          <p:nvPr/>
        </p:nvPicPr>
        <p:blipFill>
          <a:blip r:embed="rId5"/>
          <a:srcRect l="0" t="0" r="5499" b="4367"/>
          <a:stretch/>
        </p:blipFill>
        <p:spPr>
          <a:xfrm>
            <a:off x="2556000" y="3357720"/>
            <a:ext cx="1800000" cy="2232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4"/>
          <p:cNvSpPr/>
          <p:nvPr/>
        </p:nvSpPr>
        <p:spPr>
          <a:xfrm>
            <a:off x="2703240" y="6093000"/>
            <a:ext cx="158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стя Кравчук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6"/>
          <a:srcRect l="0" t="0" r="5518" b="4367"/>
          <a:stretch/>
        </p:blipFill>
        <p:spPr>
          <a:xfrm>
            <a:off x="4716360" y="3357720"/>
            <a:ext cx="1800360" cy="2232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6"/>
          <p:cNvSpPr/>
          <p:nvPr/>
        </p:nvSpPr>
        <p:spPr>
          <a:xfrm>
            <a:off x="4596120" y="5850000"/>
            <a:ext cx="183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ря Царико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ерой Советского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юза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7"/>
          <a:srcRect l="0" t="0" r="9297" b="6289"/>
          <a:stretch/>
        </p:blipFill>
        <p:spPr>
          <a:xfrm>
            <a:off x="6948360" y="3357720"/>
            <a:ext cx="1727280" cy="223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8"/>
          <p:cNvSpPr/>
          <p:nvPr/>
        </p:nvSpPr>
        <p:spPr>
          <a:xfrm>
            <a:off x="6951960" y="5805360"/>
            <a:ext cx="184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ша Кондратье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07" name="Picture 20" descr=""/>
          <p:cNvPicPr/>
          <p:nvPr/>
        </p:nvPicPr>
        <p:blipFill>
          <a:blip r:embed="rId8"/>
          <a:srcRect l="0" t="0" r="11678" b="7226"/>
          <a:stretch/>
        </p:blipFill>
        <p:spPr>
          <a:xfrm>
            <a:off x="395280" y="18900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rcRect l="0" t="0" r="8692" b="2933"/>
          <a:stretch/>
        </p:blipFill>
        <p:spPr>
          <a:xfrm>
            <a:off x="250920" y="189000"/>
            <a:ext cx="1657080" cy="2376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83600" y="2708280"/>
            <a:ext cx="201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оря Кулешин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 орденом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асной Звезды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rcRect l="0" t="0" r="5537" b="3250"/>
          <a:stretch/>
        </p:blipFill>
        <p:spPr>
          <a:xfrm>
            <a:off x="2700360" y="189000"/>
            <a:ext cx="1800360" cy="2303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2774880" y="2708280"/>
            <a:ext cx="174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ся Пинкензон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3"/>
          <a:srcRect l="0" t="0" r="3610" b="4351"/>
          <a:stretch/>
        </p:blipFill>
        <p:spPr>
          <a:xfrm>
            <a:off x="4859280" y="333360"/>
            <a:ext cx="3673440" cy="2232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5219640" y="2708280"/>
            <a:ext cx="14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ура Кобер       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7237440" y="27082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тя Хоменко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5012640" y="3068640"/>
            <a:ext cx="384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граждены Орденами Отечественной 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йны 1 степени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4"/>
          <a:srcRect l="0" t="0" r="5499" b="3250"/>
          <a:stretch/>
        </p:blipFill>
        <p:spPr>
          <a:xfrm>
            <a:off x="1979640" y="357336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"/>
          <p:cNvPicPr/>
          <p:nvPr/>
        </p:nvPicPr>
        <p:blipFill>
          <a:blip r:embed="rId5"/>
          <a:srcRect l="0" t="0" r="9316" b="6274"/>
          <a:stretch/>
        </p:blipFill>
        <p:spPr>
          <a:xfrm>
            <a:off x="4500720" y="357336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3"/>
          <p:cNvSpPr/>
          <p:nvPr/>
        </p:nvSpPr>
        <p:spPr>
          <a:xfrm>
            <a:off x="2127600" y="609300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льберт Купша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718880" y="6021360"/>
            <a:ext cx="151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ркс Кротов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ионер-герой</a:t>
            </a:r>
            <a:endParaRPr b="1" lang="en-US" sz="16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с босыми по снегу води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допрос и пытку из тюрьмы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 равно враги не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этой би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беди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Ы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922320" cy="115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 rot="220800">
            <a:off x="1042560" y="188640"/>
            <a:ext cx="922320" cy="115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3"/>
          <a:stretch/>
        </p:blipFill>
        <p:spPr>
          <a:xfrm>
            <a:off x="1835280" y="189000"/>
            <a:ext cx="1720800" cy="1054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>
            <a:off x="3419640" y="260280"/>
            <a:ext cx="925200" cy="1157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5"/>
          <a:stretch/>
        </p:blipFill>
        <p:spPr>
          <a:xfrm>
            <a:off x="4211640" y="189000"/>
            <a:ext cx="799920" cy="107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6"/>
          <a:stretch/>
        </p:blipFill>
        <p:spPr>
          <a:xfrm>
            <a:off x="4932360" y="333360"/>
            <a:ext cx="1023840" cy="1254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"/>
          <p:cNvPicPr/>
          <p:nvPr/>
        </p:nvPicPr>
        <p:blipFill>
          <a:blip r:embed="rId7"/>
          <a:stretch/>
        </p:blipFill>
        <p:spPr>
          <a:xfrm>
            <a:off x="5867280" y="189000"/>
            <a:ext cx="982800" cy="1228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"/>
          <p:cNvPicPr/>
          <p:nvPr/>
        </p:nvPicPr>
        <p:blipFill>
          <a:blip r:embed="rId8"/>
          <a:stretch/>
        </p:blipFill>
        <p:spPr>
          <a:xfrm>
            <a:off x="6948360" y="189000"/>
            <a:ext cx="1082880" cy="1325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"/>
          <p:cNvPicPr/>
          <p:nvPr/>
        </p:nvPicPr>
        <p:blipFill>
          <a:blip r:embed="rId9"/>
          <a:stretch/>
        </p:blipFill>
        <p:spPr>
          <a:xfrm>
            <a:off x="7956720" y="404640"/>
            <a:ext cx="971280" cy="11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10"/>
          <a:stretch/>
        </p:blipFill>
        <p:spPr>
          <a:xfrm>
            <a:off x="250920" y="4797360"/>
            <a:ext cx="1098360" cy="1373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"/>
          <p:cNvPicPr/>
          <p:nvPr/>
        </p:nvPicPr>
        <p:blipFill>
          <a:blip r:embed="rId11"/>
          <a:stretch/>
        </p:blipFill>
        <p:spPr>
          <a:xfrm>
            <a:off x="1476360" y="4797360"/>
            <a:ext cx="1141560" cy="1398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"/>
          <p:cNvPicPr/>
          <p:nvPr/>
        </p:nvPicPr>
        <p:blipFill>
          <a:blip r:embed="rId12"/>
          <a:stretch/>
        </p:blipFill>
        <p:spPr>
          <a:xfrm>
            <a:off x="2771640" y="4797360"/>
            <a:ext cx="1152720" cy="144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"/>
          <p:cNvPicPr/>
          <p:nvPr/>
        </p:nvPicPr>
        <p:blipFill>
          <a:blip r:embed="rId13"/>
          <a:stretch/>
        </p:blipFill>
        <p:spPr>
          <a:xfrm>
            <a:off x="3995640" y="4797360"/>
            <a:ext cx="1054080" cy="1395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"/>
          <p:cNvPicPr/>
          <p:nvPr/>
        </p:nvPicPr>
        <p:blipFill>
          <a:blip r:embed="rId14"/>
          <a:stretch/>
        </p:blipFill>
        <p:spPr>
          <a:xfrm>
            <a:off x="5219640" y="4869000"/>
            <a:ext cx="1073160" cy="1368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"/>
          <p:cNvPicPr/>
          <p:nvPr/>
        </p:nvPicPr>
        <p:blipFill>
          <a:blip r:embed="rId15"/>
          <a:stretch/>
        </p:blipFill>
        <p:spPr>
          <a:xfrm>
            <a:off x="6372360" y="4869000"/>
            <a:ext cx="1106280" cy="1353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"/>
          <p:cNvPicPr/>
          <p:nvPr/>
        </p:nvPicPr>
        <p:blipFill>
          <a:blip r:embed="rId16"/>
          <a:stretch/>
        </p:blipFill>
        <p:spPr>
          <a:xfrm>
            <a:off x="7667640" y="4941720"/>
            <a:ext cx="1120680" cy="14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дети  и война12"/>
          <p:cNvPicPr/>
          <p:nvPr/>
        </p:nvPicPr>
        <p:blipFill>
          <a:blip r:embed="rId1"/>
          <a:stretch/>
        </p:blipFill>
        <p:spPr>
          <a:xfrm>
            <a:off x="3419640" y="3357720"/>
            <a:ext cx="2016000" cy="1519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дети и война10"/>
          <p:cNvPicPr/>
          <p:nvPr/>
        </p:nvPicPr>
        <p:blipFill>
          <a:blip r:embed="rId2"/>
          <a:stretch/>
        </p:blipFill>
        <p:spPr>
          <a:xfrm>
            <a:off x="0" y="2421000"/>
            <a:ext cx="2376360" cy="156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дети и война2"/>
          <p:cNvPicPr/>
          <p:nvPr/>
        </p:nvPicPr>
        <p:blipFill>
          <a:blip r:embed="rId3"/>
          <a:stretch/>
        </p:blipFill>
        <p:spPr>
          <a:xfrm>
            <a:off x="3851280" y="5084640"/>
            <a:ext cx="138420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дети и война 8"/>
          <p:cNvPicPr/>
          <p:nvPr/>
        </p:nvPicPr>
        <p:blipFill>
          <a:blip r:embed="rId4"/>
          <a:stretch/>
        </p:blipFill>
        <p:spPr>
          <a:xfrm>
            <a:off x="0" y="4797360"/>
            <a:ext cx="3024360" cy="185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дети и война"/>
          <p:cNvPicPr/>
          <p:nvPr/>
        </p:nvPicPr>
        <p:blipFill>
          <a:blip r:embed="rId5"/>
          <a:stretch/>
        </p:blipFill>
        <p:spPr>
          <a:xfrm>
            <a:off x="7164360" y="2205000"/>
            <a:ext cx="1641600" cy="2276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дети и война 15"/>
          <p:cNvPicPr/>
          <p:nvPr/>
        </p:nvPicPr>
        <p:blipFill>
          <a:blip r:embed="rId6"/>
          <a:stretch/>
        </p:blipFill>
        <p:spPr>
          <a:xfrm>
            <a:off x="6443640" y="4797360"/>
            <a:ext cx="2376360" cy="1854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2166840" y="274680"/>
            <a:ext cx="47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ные безусые герои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ными останутся навек,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д вашим вдруг ожившим строем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ы стоим, не поднимая век.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 и гнев сейчас тому причиной,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лагодарность вечная вам всем,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ленькие, стойкие мужчины,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вочки, достойные поэм.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44" name="Военные-песни----Хотят-ли-русские-войны-(mp3-sait.info).mp3" descr=""/>
          <p:cNvPicPr/>
          <p:nvPr/>
        </p:nvPicPr>
        <p:blipFill>
          <a:blip r:embed="rId7"/>
          <a:stretch/>
        </p:blipFill>
        <p:spPr>
          <a:xfrm>
            <a:off x="179280" y="6059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21420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28760" y="18572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Verdana"/>
              </a:rPr>
              <a:t>Со школьног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Verdana"/>
              </a:rPr>
              <a:t>порога       шагнувш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Verdana"/>
              </a:rPr>
              <a:t>в войн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лара михеенко"/>
          <p:cNvPicPr/>
          <p:nvPr/>
        </p:nvPicPr>
        <p:blipFill>
          <a:blip r:embed="rId3"/>
          <a:stretch/>
        </p:blipFill>
        <p:spPr>
          <a:xfrm>
            <a:off x="2700360" y="189000"/>
            <a:ext cx="1366920" cy="1565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марат"/>
          <p:cNvPicPr/>
          <p:nvPr/>
        </p:nvPicPr>
        <p:blipFill>
          <a:blip r:embed="rId4"/>
          <a:stretch/>
        </p:blipFill>
        <p:spPr>
          <a:xfrm>
            <a:off x="4284720" y="189000"/>
            <a:ext cx="158256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зина портнова"/>
          <p:cNvPicPr/>
          <p:nvPr/>
        </p:nvPicPr>
        <p:blipFill>
          <a:blip r:embed="rId5"/>
          <a:stretch/>
        </p:blipFill>
        <p:spPr>
          <a:xfrm>
            <a:off x="6012000" y="189000"/>
            <a:ext cx="1293840" cy="1538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витя коробков 1"/>
          <p:cNvPicPr/>
          <p:nvPr/>
        </p:nvPicPr>
        <p:blipFill>
          <a:blip r:embed="rId6"/>
          <a:stretch/>
        </p:blipFill>
        <p:spPr>
          <a:xfrm>
            <a:off x="7596360" y="189000"/>
            <a:ext cx="117468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1476360" y="333360"/>
            <a:ext cx="66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Вступая в бой,  святой и правый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 отцам поравнялись  дети 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Геройством, доблестью  и славой...</a:t>
            </a: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59" name="Picture 2" descr="http://www.hramznameniya.ru/images/gallery/379/7457.jpg"/>
          <p:cNvPicPr/>
          <p:nvPr/>
        </p:nvPicPr>
        <p:blipFill>
          <a:blip r:embed="rId1"/>
          <a:stretch/>
        </p:blipFill>
        <p:spPr>
          <a:xfrm>
            <a:off x="0" y="2133720"/>
            <a:ext cx="254016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pioneri.my1.ru/_nw/0/43068.jpg"/>
          <p:cNvPicPr/>
          <p:nvPr/>
        </p:nvPicPr>
        <p:blipFill>
          <a:blip r:embed="rId2"/>
          <a:stretch/>
        </p:blipFill>
        <p:spPr>
          <a:xfrm>
            <a:off x="6462720" y="2637000"/>
            <a:ext cx="2502000" cy="2592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2575080" y="2685960"/>
            <a:ext cx="392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Их повзрослевшее детство было наполнено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такими испытаниями, что, 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придумай их даже очень талантливый писатель,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в это трудно было бы поверить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Но это было. Было в истории большой нашей страны, 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было в судьбах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ее маленьких ребят - обыкновенных мальчишек 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121f"/>
                </a:solidFill>
                <a:latin typeface="Verdana"/>
              </a:rPr>
              <a:t>и девчонок.</a:t>
            </a:r>
            <a:endParaRPr b="1" lang="en-US" sz="18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28800" y="692280"/>
            <a:ext cx="4614840" cy="14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121f"/>
                </a:solidFill>
                <a:latin typeface="Calibri"/>
              </a:rPr>
              <a:t>Голико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348360" cy="4292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5292720" y="2637000"/>
            <a:ext cx="364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Герой Советского Союза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6225840" y="0"/>
            <a:ext cx="251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121f"/>
                </a:solidFill>
                <a:latin typeface="Times New Roman"/>
              </a:rPr>
              <a:t>Леня</a:t>
            </a:r>
            <a:r>
              <a:rPr b="0" lang="ru-RU" sz="72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1" lang="en-US" sz="72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зина портнова"/>
          <p:cNvPicPr/>
          <p:nvPr/>
        </p:nvPicPr>
        <p:blipFill>
          <a:blip r:embed="rId1"/>
          <a:stretch/>
        </p:blipFill>
        <p:spPr>
          <a:xfrm>
            <a:off x="324000" y="476280"/>
            <a:ext cx="4846320" cy="5759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438880" y="272880"/>
            <a:ext cx="2885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121f"/>
                </a:solidFill>
                <a:latin typeface="Times New Roman"/>
              </a:rPr>
              <a:t>Зина</a:t>
            </a: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8121f"/>
                </a:solidFill>
                <a:latin typeface="Times New Roman"/>
              </a:rPr>
              <a:t>Портнова</a:t>
            </a: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508000" y="3213000"/>
            <a:ext cx="307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Герой 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ветского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Союза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марат"/>
          <p:cNvPicPr/>
          <p:nvPr/>
        </p:nvPicPr>
        <p:blipFill>
          <a:blip r:embed="rId1"/>
          <a:srcRect l="7464" t="8957" r="7464" b="8957"/>
          <a:stretch/>
        </p:blipFill>
        <p:spPr>
          <a:xfrm>
            <a:off x="395280" y="765000"/>
            <a:ext cx="477684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5214960" y="1009800"/>
            <a:ext cx="3929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121f"/>
                </a:solidFill>
                <a:latin typeface="Times New Roman"/>
              </a:rPr>
              <a:t>Марат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8121f"/>
                </a:solidFill>
                <a:latin typeface="Times New Roman"/>
              </a:rPr>
              <a:t>Казей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Герой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Советского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Союза 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662120" y="1671480"/>
            <a:ext cx="5819760" cy="438156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308680" y="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8121f"/>
                </a:solidFill>
                <a:latin typeface="Times New Roman"/>
              </a:rPr>
              <a:t>Валя Котик</a:t>
            </a:r>
            <a:endParaRPr b="1" lang="en-US" sz="72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85160" y="907920"/>
            <a:ext cx="750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Times New Roman"/>
              </a:rPr>
              <a:t>Герой Советского Союза</a:t>
            </a:r>
            <a:endParaRPr b="1" lang="en-US" sz="5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121f"/>
                </a:solidFill>
                <a:latin typeface="Verdana"/>
                <a:ea typeface="Verdana"/>
              </a:rPr>
              <a:t>Витя Черевички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80000" y="1052280"/>
            <a:ext cx="4906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45472b"/>
              </a:solidFill>
              <a:latin typeface="Verdana"/>
            </a:endParaRPr>
          </a:p>
        </p:txBody>
      </p:sp>
      <p:pic>
        <p:nvPicPr>
          <p:cNvPr id="76" name="Picture 8" descr="D:\Документы\дети-герои\fuzVBJ.jpg"/>
          <p:cNvPicPr/>
          <p:nvPr/>
        </p:nvPicPr>
        <p:blipFill>
          <a:blip r:embed="rId1"/>
          <a:stretch/>
        </p:blipFill>
        <p:spPr>
          <a:xfrm>
            <a:off x="2916360" y="1413000"/>
            <a:ext cx="31334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D:\Документы\дети-герои\636_1216005862_big.jpg"/>
          <p:cNvPicPr/>
          <p:nvPr/>
        </p:nvPicPr>
        <p:blipFill>
          <a:blip r:embed="rId1"/>
          <a:srcRect l="12719" t="0" r="12719" b="0"/>
          <a:stretch/>
        </p:blipFill>
        <p:spPr>
          <a:xfrm>
            <a:off x="108000" y="115920"/>
            <a:ext cx="2962080" cy="2735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708000" y="333000"/>
            <a:ext cx="49071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5472b"/>
                </a:solidFill>
                <a:latin typeface="Verdana"/>
              </a:rPr>
              <a:t>Фотография убитого Вити Черевичкина с голубем в руке</a:t>
            </a:r>
            <a:r>
              <a:rPr b="1" lang="ru-RU" sz="2000" spc="-1" strike="noStrike" baseline="30000">
                <a:solidFill>
                  <a:srgbClr val="45472b"/>
                </a:solidFill>
                <a:latin typeface="Verdana"/>
              </a:rPr>
              <a:t>,</a:t>
            </a:r>
            <a:r>
              <a:rPr b="1" lang="ru-RU" sz="2000" spc="-1" strike="noStrike">
                <a:solidFill>
                  <a:srgbClr val="45472b"/>
                </a:solidFill>
                <a:latin typeface="Verdana"/>
              </a:rPr>
              <a:t> сделанная советским фотокорреспондентом М.В. Альпертом, фигурировала на Нюрнбеогском процессе в числе фотодокументов, изобличающих нацизм  в совершении  преступлений против человеч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D:\Документы\дети-герои\cherevichkin01.jpg"/>
          <p:cNvPicPr/>
          <p:nvPr/>
        </p:nvPicPr>
        <p:blipFill>
          <a:blip r:embed="rId2"/>
          <a:stretch/>
        </p:blipFill>
        <p:spPr>
          <a:xfrm>
            <a:off x="5148360" y="4365720"/>
            <a:ext cx="3259080" cy="2201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D:\Документы\дети-герои\park-cherevichkina01.jpg"/>
          <p:cNvPicPr/>
          <p:nvPr/>
        </p:nvPicPr>
        <p:blipFill>
          <a:blip r:embed="rId3"/>
          <a:stretch/>
        </p:blipFill>
        <p:spPr>
          <a:xfrm>
            <a:off x="539640" y="2617920"/>
            <a:ext cx="3168720" cy="4225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a</dc:creator>
  <dc:description/>
  <dc:language>en-US</dc:language>
  <cp:lastModifiedBy>Teacher</cp:lastModifiedBy>
  <dcterms:modified xsi:type="dcterms:W3CDTF">2020-03-20T05:27:22Z</dcterms:modified>
  <cp:revision>238</cp:revision>
  <dc:subject/>
  <dc:title>дети-герои</dc:title>
</cp:coreProperties>
</file>