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0E4D8-7A46-423B-8223-D96EB9074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7C004-C146-4CE3-BB57-D6A4B60CF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174ED-A8E6-4E44-A49F-420BAD26A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5ED6E-65F3-4012-A8FA-1777FCEA3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F96C4-E017-4399-ABC3-36780E459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CD78A-1A38-4D58-BD7A-1637B4040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14164-7190-4DBD-8B22-8E1F4EA8D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CD4E9-4B46-4176-AC2E-266339E62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F31CC-75D8-43EE-8843-B2B411242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C2A77-A931-4F8B-BC7E-622E93E44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7C4FA-37E1-456A-BCA1-5F8F26412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3CA23-A06F-4126-8062-A6DACFDCA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Georg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FE64E-EF0A-47CB-A83A-34E69C5068E9}" type="slidenum">
              <a:rPr b="0" lang="ru-RU" sz="1400" spc="-1" strike="noStrike">
                <a:solidFill>
                  <a:srgbClr val="000000"/>
                </a:solidFill>
                <a:latin typeface="Georgi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/commons.wikimedia.org/wiki/File:Theseus_Castellani_Louvre_E850.jpg%3Fuselang=ru" TargetMode="Externa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9079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Georgia"/>
              </a:rPr>
              <a:t>Древнейшая Греция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76720" y="5157720"/>
            <a:ext cx="3632400" cy="119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Georgia"/>
              </a:rPr>
              <a:t>Подготовил: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Georgia"/>
              </a:rPr>
              <a:t>Симонов К.В.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Georgia"/>
              </a:rPr>
              <a:t>учитель  истории МКОУ СОШ № 11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Georgia"/>
              </a:rPr>
              <a:t>I </a:t>
            </a:r>
            <a:r>
              <a:rPr b="1" lang="ru-RU" sz="1400" spc="-1" strike="noStrike">
                <a:solidFill>
                  <a:srgbClr val="0000ff"/>
                </a:solidFill>
                <a:latin typeface="Georgia"/>
              </a:rPr>
              <a:t>квалификационная категория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900000" y="1916280"/>
            <a:ext cx="748836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Georgia"/>
              </a:rPr>
              <a:t>Цивилизация </a:t>
            </a:r>
            <a:endParaRPr b="0" lang="en-US" sz="48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Georgia"/>
              </a:rPr>
              <a:t>на острове Крит</a:t>
            </a:r>
            <a:endParaRPr b="0" lang="en-US" sz="4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7" descr="Рисунок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5" name="Group 11"/>
          <p:cNvGrpSpPr/>
          <p:nvPr/>
        </p:nvGrpSpPr>
        <p:grpSpPr>
          <a:xfrm>
            <a:off x="1835280" y="2133720"/>
            <a:ext cx="6265800" cy="2209680"/>
            <a:chOff x="1835280" y="2133720"/>
            <a:chExt cx="6265800" cy="2209680"/>
          </a:xfrm>
        </p:grpSpPr>
        <p:sp>
          <p:nvSpPr>
            <p:cNvPr id="46" name="Freeform 9"/>
            <p:cNvSpPr/>
            <p:nvPr/>
          </p:nvSpPr>
          <p:spPr>
            <a:xfrm>
              <a:off x="1835280" y="3789360"/>
              <a:ext cx="679320" cy="554040"/>
            </a:xfrm>
            <a:custGeom>
              <a:avLst/>
              <a:gdLst/>
              <a:ahLst/>
              <a:rect l="l" t="t" r="r" b="b"/>
              <a:pathLst>
                <a:path w="428" h="349">
                  <a:moveTo>
                    <a:pt x="346" y="330"/>
                  </a:moveTo>
                  <a:cubicBezTo>
                    <a:pt x="428" y="248"/>
                    <a:pt x="392" y="150"/>
                    <a:pt x="346" y="56"/>
                  </a:cubicBezTo>
                  <a:cubicBezTo>
                    <a:pt x="328" y="19"/>
                    <a:pt x="232" y="9"/>
                    <a:pt x="232" y="9"/>
                  </a:cubicBezTo>
                  <a:cubicBezTo>
                    <a:pt x="138" y="18"/>
                    <a:pt x="155" y="0"/>
                    <a:pt x="100" y="47"/>
                  </a:cubicBezTo>
                  <a:cubicBezTo>
                    <a:pt x="90" y="56"/>
                    <a:pt x="80" y="65"/>
                    <a:pt x="72" y="75"/>
                  </a:cubicBezTo>
                  <a:cubicBezTo>
                    <a:pt x="58" y="93"/>
                    <a:pt x="34" y="132"/>
                    <a:pt x="34" y="132"/>
                  </a:cubicBezTo>
                  <a:cubicBezTo>
                    <a:pt x="28" y="158"/>
                    <a:pt x="9" y="181"/>
                    <a:pt x="6" y="207"/>
                  </a:cubicBezTo>
                  <a:cubicBezTo>
                    <a:pt x="0" y="253"/>
                    <a:pt x="56" y="310"/>
                    <a:pt x="91" y="330"/>
                  </a:cubicBezTo>
                  <a:cubicBezTo>
                    <a:pt x="116" y="344"/>
                    <a:pt x="148" y="343"/>
                    <a:pt x="176" y="349"/>
                  </a:cubicBezTo>
                  <a:cubicBezTo>
                    <a:pt x="229" y="346"/>
                    <a:pt x="283" y="344"/>
                    <a:pt x="336" y="339"/>
                  </a:cubicBezTo>
                  <a:cubicBezTo>
                    <a:pt x="346" y="338"/>
                    <a:pt x="357" y="337"/>
                    <a:pt x="364" y="330"/>
                  </a:cubicBezTo>
                  <a:cubicBezTo>
                    <a:pt x="368" y="326"/>
                    <a:pt x="352" y="330"/>
                    <a:pt x="346" y="330"/>
                  </a:cubicBezTo>
                  <a:close/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47" name="AutoShape 10"/>
            <p:cNvSpPr/>
            <p:nvPr/>
          </p:nvSpPr>
          <p:spPr>
            <a:xfrm>
              <a:off x="2195640" y="2133720"/>
              <a:ext cx="5905440" cy="1584360"/>
            </a:xfrm>
            <a:prstGeom prst="cloudCallout">
              <a:avLst>
                <a:gd name="adj1" fmla="val -43750"/>
                <a:gd name="adj2" fmla="val 70000"/>
              </a:avLst>
            </a:prstGeom>
            <a:solidFill>
              <a:srgbClr val="bbe0e3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Georgia"/>
                </a:rPr>
                <a:t>Греческий мир</a:t>
              </a:r>
              <a:endParaRPr b="0" lang="en-US" sz="24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mapgrec_from_%5bgrechistory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grpSp>
        <p:nvGrpSpPr>
          <p:cNvPr id="49" name="Group 6"/>
          <p:cNvGrpSpPr/>
          <p:nvPr/>
        </p:nvGrpSpPr>
        <p:grpSpPr>
          <a:xfrm>
            <a:off x="1919160" y="3357720"/>
            <a:ext cx="5892840" cy="1784160"/>
            <a:chOff x="1919160" y="3357720"/>
            <a:chExt cx="5892840" cy="1784160"/>
          </a:xfrm>
        </p:grpSpPr>
        <p:sp>
          <p:nvSpPr>
            <p:cNvPr id="50" name="Freeform 4"/>
            <p:cNvSpPr/>
            <p:nvPr/>
          </p:nvSpPr>
          <p:spPr>
            <a:xfrm>
              <a:off x="1919160" y="3357720"/>
              <a:ext cx="2462400" cy="1784160"/>
            </a:xfrm>
            <a:custGeom>
              <a:avLst/>
              <a:gdLst/>
              <a:ahLst/>
              <a:rect l="l" t="t" r="r" b="b"/>
              <a:pathLst>
                <a:path w="1551" h="1124">
                  <a:moveTo>
                    <a:pt x="1010" y="57"/>
                  </a:moveTo>
                  <a:cubicBezTo>
                    <a:pt x="912" y="61"/>
                    <a:pt x="783" y="75"/>
                    <a:pt x="680" y="57"/>
                  </a:cubicBezTo>
                  <a:cubicBezTo>
                    <a:pt x="666" y="55"/>
                    <a:pt x="655" y="43"/>
                    <a:pt x="642" y="38"/>
                  </a:cubicBezTo>
                  <a:cubicBezTo>
                    <a:pt x="599" y="22"/>
                    <a:pt x="553" y="15"/>
                    <a:pt x="510" y="0"/>
                  </a:cubicBezTo>
                  <a:cubicBezTo>
                    <a:pt x="444" y="3"/>
                    <a:pt x="377" y="3"/>
                    <a:pt x="311" y="10"/>
                  </a:cubicBezTo>
                  <a:cubicBezTo>
                    <a:pt x="303" y="11"/>
                    <a:pt x="244" y="32"/>
                    <a:pt x="226" y="38"/>
                  </a:cubicBezTo>
                  <a:cubicBezTo>
                    <a:pt x="217" y="41"/>
                    <a:pt x="198" y="47"/>
                    <a:pt x="198" y="47"/>
                  </a:cubicBezTo>
                  <a:cubicBezTo>
                    <a:pt x="168" y="78"/>
                    <a:pt x="131" y="99"/>
                    <a:pt x="104" y="132"/>
                  </a:cubicBezTo>
                  <a:cubicBezTo>
                    <a:pt x="74" y="168"/>
                    <a:pt x="88" y="180"/>
                    <a:pt x="47" y="208"/>
                  </a:cubicBezTo>
                  <a:cubicBezTo>
                    <a:pt x="37" y="248"/>
                    <a:pt x="23" y="278"/>
                    <a:pt x="0" y="312"/>
                  </a:cubicBezTo>
                  <a:cubicBezTo>
                    <a:pt x="3" y="369"/>
                    <a:pt x="4" y="426"/>
                    <a:pt x="9" y="482"/>
                  </a:cubicBezTo>
                  <a:cubicBezTo>
                    <a:pt x="14" y="530"/>
                    <a:pt x="36" y="585"/>
                    <a:pt x="47" y="633"/>
                  </a:cubicBezTo>
                  <a:cubicBezTo>
                    <a:pt x="54" y="666"/>
                    <a:pt x="60" y="721"/>
                    <a:pt x="85" y="746"/>
                  </a:cubicBezTo>
                  <a:cubicBezTo>
                    <a:pt x="101" y="762"/>
                    <a:pt x="122" y="771"/>
                    <a:pt x="141" y="784"/>
                  </a:cubicBezTo>
                  <a:cubicBezTo>
                    <a:pt x="243" y="853"/>
                    <a:pt x="107" y="772"/>
                    <a:pt x="189" y="841"/>
                  </a:cubicBezTo>
                  <a:cubicBezTo>
                    <a:pt x="215" y="862"/>
                    <a:pt x="307" y="915"/>
                    <a:pt x="340" y="926"/>
                  </a:cubicBezTo>
                  <a:cubicBezTo>
                    <a:pt x="356" y="938"/>
                    <a:pt x="369" y="955"/>
                    <a:pt x="387" y="963"/>
                  </a:cubicBezTo>
                  <a:cubicBezTo>
                    <a:pt x="419" y="976"/>
                    <a:pt x="502" y="986"/>
                    <a:pt x="538" y="992"/>
                  </a:cubicBezTo>
                  <a:cubicBezTo>
                    <a:pt x="615" y="1030"/>
                    <a:pt x="690" y="1051"/>
                    <a:pt x="774" y="1067"/>
                  </a:cubicBezTo>
                  <a:cubicBezTo>
                    <a:pt x="887" y="1124"/>
                    <a:pt x="1019" y="1083"/>
                    <a:pt x="1142" y="1105"/>
                  </a:cubicBezTo>
                  <a:cubicBezTo>
                    <a:pt x="1208" y="1098"/>
                    <a:pt x="1278" y="1097"/>
                    <a:pt x="1341" y="1077"/>
                  </a:cubicBezTo>
                  <a:cubicBezTo>
                    <a:pt x="1391" y="1043"/>
                    <a:pt x="1450" y="1026"/>
                    <a:pt x="1501" y="992"/>
                  </a:cubicBezTo>
                  <a:cubicBezTo>
                    <a:pt x="1521" y="961"/>
                    <a:pt x="1527" y="932"/>
                    <a:pt x="1539" y="897"/>
                  </a:cubicBezTo>
                  <a:cubicBezTo>
                    <a:pt x="1536" y="869"/>
                    <a:pt x="1530" y="841"/>
                    <a:pt x="1529" y="812"/>
                  </a:cubicBezTo>
                  <a:cubicBezTo>
                    <a:pt x="1520" y="602"/>
                    <a:pt x="1551" y="458"/>
                    <a:pt x="1463" y="283"/>
                  </a:cubicBezTo>
                  <a:cubicBezTo>
                    <a:pt x="1441" y="239"/>
                    <a:pt x="1427" y="195"/>
                    <a:pt x="1378" y="180"/>
                  </a:cubicBezTo>
                  <a:cubicBezTo>
                    <a:pt x="1303" y="129"/>
                    <a:pt x="1190" y="111"/>
                    <a:pt x="1104" y="104"/>
                  </a:cubicBezTo>
                  <a:cubicBezTo>
                    <a:pt x="1035" y="82"/>
                    <a:pt x="1117" y="115"/>
                    <a:pt x="1057" y="66"/>
                  </a:cubicBezTo>
                  <a:cubicBezTo>
                    <a:pt x="1049" y="60"/>
                    <a:pt x="1038" y="60"/>
                    <a:pt x="1029" y="57"/>
                  </a:cubicBezTo>
                  <a:cubicBezTo>
                    <a:pt x="1020" y="54"/>
                    <a:pt x="1011" y="47"/>
                    <a:pt x="1001" y="47"/>
                  </a:cubicBezTo>
                  <a:cubicBezTo>
                    <a:pt x="997" y="47"/>
                    <a:pt x="1007" y="54"/>
                    <a:pt x="1010" y="57"/>
                  </a:cubicBezTo>
                  <a:close/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51" name="AutoShape 5"/>
            <p:cNvSpPr/>
            <p:nvPr/>
          </p:nvSpPr>
          <p:spPr>
            <a:xfrm>
              <a:off x="5219640" y="4149720"/>
              <a:ext cx="2592360" cy="698400"/>
            </a:xfrm>
            <a:prstGeom prst="wedgeRectCallout">
              <a:avLst>
                <a:gd name="adj1" fmla="val -77518"/>
                <a:gd name="adj2" fmla="val 54143"/>
              </a:avLst>
            </a:prstGeom>
            <a:solidFill>
              <a:srgbClr val="bbe0e3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0000"/>
                  </a:solidFill>
                  <a:latin typeface="Georgia"/>
                </a:rPr>
                <a:t>п-ов Пелопоннес </a:t>
              </a:r>
              <a:endParaRPr b="0" lang="en-US" sz="20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1393920" y="2492280"/>
            <a:ext cx="7354800" cy="1569960"/>
            <a:chOff x="1393920" y="2492280"/>
            <a:chExt cx="7354800" cy="1569960"/>
          </a:xfrm>
        </p:grpSpPr>
        <p:sp>
          <p:nvSpPr>
            <p:cNvPr id="53" name="Freeform 7"/>
            <p:cNvSpPr/>
            <p:nvPr/>
          </p:nvSpPr>
          <p:spPr>
            <a:xfrm>
              <a:off x="1393920" y="2630520"/>
              <a:ext cx="4721040" cy="1431720"/>
            </a:xfrm>
            <a:custGeom>
              <a:avLst/>
              <a:gdLst/>
              <a:ahLst/>
              <a:rect l="l" t="t" r="r" b="b"/>
              <a:pathLst>
                <a:path w="2974" h="902">
                  <a:moveTo>
                    <a:pt x="1369" y="52"/>
                  </a:moveTo>
                  <a:cubicBezTo>
                    <a:pt x="1202" y="74"/>
                    <a:pt x="858" y="44"/>
                    <a:pt x="784" y="43"/>
                  </a:cubicBezTo>
                  <a:cubicBezTo>
                    <a:pt x="621" y="0"/>
                    <a:pt x="429" y="68"/>
                    <a:pt x="265" y="99"/>
                  </a:cubicBezTo>
                  <a:cubicBezTo>
                    <a:pt x="237" y="127"/>
                    <a:pt x="218" y="144"/>
                    <a:pt x="180" y="156"/>
                  </a:cubicBezTo>
                  <a:cubicBezTo>
                    <a:pt x="170" y="162"/>
                    <a:pt x="162" y="171"/>
                    <a:pt x="151" y="175"/>
                  </a:cubicBezTo>
                  <a:cubicBezTo>
                    <a:pt x="136" y="181"/>
                    <a:pt x="118" y="177"/>
                    <a:pt x="104" y="184"/>
                  </a:cubicBezTo>
                  <a:cubicBezTo>
                    <a:pt x="92" y="190"/>
                    <a:pt x="87" y="206"/>
                    <a:pt x="76" y="213"/>
                  </a:cubicBezTo>
                  <a:cubicBezTo>
                    <a:pt x="68" y="219"/>
                    <a:pt x="57" y="219"/>
                    <a:pt x="47" y="222"/>
                  </a:cubicBezTo>
                  <a:cubicBezTo>
                    <a:pt x="29" y="258"/>
                    <a:pt x="23" y="293"/>
                    <a:pt x="0" y="326"/>
                  </a:cubicBezTo>
                  <a:cubicBezTo>
                    <a:pt x="29" y="406"/>
                    <a:pt x="3" y="548"/>
                    <a:pt x="38" y="609"/>
                  </a:cubicBezTo>
                  <a:cubicBezTo>
                    <a:pt x="40" y="613"/>
                    <a:pt x="121" y="643"/>
                    <a:pt x="132" y="647"/>
                  </a:cubicBezTo>
                  <a:cubicBezTo>
                    <a:pt x="201" y="602"/>
                    <a:pt x="117" y="652"/>
                    <a:pt x="265" y="609"/>
                  </a:cubicBezTo>
                  <a:cubicBezTo>
                    <a:pt x="301" y="599"/>
                    <a:pt x="314" y="547"/>
                    <a:pt x="350" y="534"/>
                  </a:cubicBezTo>
                  <a:cubicBezTo>
                    <a:pt x="390" y="520"/>
                    <a:pt x="368" y="526"/>
                    <a:pt x="416" y="515"/>
                  </a:cubicBezTo>
                  <a:cubicBezTo>
                    <a:pt x="470" y="478"/>
                    <a:pt x="541" y="476"/>
                    <a:pt x="604" y="458"/>
                  </a:cubicBezTo>
                  <a:cubicBezTo>
                    <a:pt x="638" y="448"/>
                    <a:pt x="708" y="430"/>
                    <a:pt x="708" y="430"/>
                  </a:cubicBezTo>
                  <a:cubicBezTo>
                    <a:pt x="785" y="391"/>
                    <a:pt x="883" y="413"/>
                    <a:pt x="963" y="439"/>
                  </a:cubicBezTo>
                  <a:cubicBezTo>
                    <a:pt x="1018" y="475"/>
                    <a:pt x="1088" y="482"/>
                    <a:pt x="1152" y="496"/>
                  </a:cubicBezTo>
                  <a:cubicBezTo>
                    <a:pt x="1207" y="485"/>
                    <a:pt x="1260" y="476"/>
                    <a:pt x="1313" y="458"/>
                  </a:cubicBezTo>
                  <a:cubicBezTo>
                    <a:pt x="1339" y="465"/>
                    <a:pt x="1362" y="479"/>
                    <a:pt x="1388" y="486"/>
                  </a:cubicBezTo>
                  <a:cubicBezTo>
                    <a:pt x="1405" y="490"/>
                    <a:pt x="1486" y="498"/>
                    <a:pt x="1520" y="515"/>
                  </a:cubicBezTo>
                  <a:cubicBezTo>
                    <a:pt x="1581" y="546"/>
                    <a:pt x="1632" y="569"/>
                    <a:pt x="1700" y="581"/>
                  </a:cubicBezTo>
                  <a:cubicBezTo>
                    <a:pt x="1735" y="616"/>
                    <a:pt x="1751" y="620"/>
                    <a:pt x="1794" y="638"/>
                  </a:cubicBezTo>
                  <a:cubicBezTo>
                    <a:pt x="1926" y="692"/>
                    <a:pt x="1822" y="662"/>
                    <a:pt x="1908" y="685"/>
                  </a:cubicBezTo>
                  <a:cubicBezTo>
                    <a:pt x="1917" y="691"/>
                    <a:pt x="1926" y="699"/>
                    <a:pt x="1936" y="704"/>
                  </a:cubicBezTo>
                  <a:cubicBezTo>
                    <a:pt x="1954" y="712"/>
                    <a:pt x="1993" y="723"/>
                    <a:pt x="1993" y="723"/>
                  </a:cubicBezTo>
                  <a:cubicBezTo>
                    <a:pt x="1999" y="735"/>
                    <a:pt x="2001" y="750"/>
                    <a:pt x="2011" y="760"/>
                  </a:cubicBezTo>
                  <a:cubicBezTo>
                    <a:pt x="2021" y="770"/>
                    <a:pt x="2037" y="771"/>
                    <a:pt x="2049" y="779"/>
                  </a:cubicBezTo>
                  <a:cubicBezTo>
                    <a:pt x="2090" y="805"/>
                    <a:pt x="2106" y="824"/>
                    <a:pt x="2153" y="836"/>
                  </a:cubicBezTo>
                  <a:cubicBezTo>
                    <a:pt x="2207" y="873"/>
                    <a:pt x="2262" y="882"/>
                    <a:pt x="2323" y="902"/>
                  </a:cubicBezTo>
                  <a:cubicBezTo>
                    <a:pt x="2534" y="894"/>
                    <a:pt x="2680" y="880"/>
                    <a:pt x="2899" y="874"/>
                  </a:cubicBezTo>
                  <a:cubicBezTo>
                    <a:pt x="2918" y="861"/>
                    <a:pt x="2957" y="859"/>
                    <a:pt x="2956" y="836"/>
                  </a:cubicBezTo>
                  <a:cubicBezTo>
                    <a:pt x="2949" y="727"/>
                    <a:pt x="2974" y="682"/>
                    <a:pt x="2908" y="619"/>
                  </a:cubicBezTo>
                  <a:cubicBezTo>
                    <a:pt x="2857" y="510"/>
                    <a:pt x="2925" y="638"/>
                    <a:pt x="2861" y="562"/>
                  </a:cubicBezTo>
                  <a:cubicBezTo>
                    <a:pt x="2805" y="496"/>
                    <a:pt x="2884" y="546"/>
                    <a:pt x="2805" y="505"/>
                  </a:cubicBezTo>
                  <a:cubicBezTo>
                    <a:pt x="2761" y="440"/>
                    <a:pt x="2814" y="506"/>
                    <a:pt x="2757" y="468"/>
                  </a:cubicBezTo>
                  <a:cubicBezTo>
                    <a:pt x="2716" y="441"/>
                    <a:pt x="2693" y="399"/>
                    <a:pt x="2644" y="383"/>
                  </a:cubicBezTo>
                  <a:cubicBezTo>
                    <a:pt x="2625" y="364"/>
                    <a:pt x="2602" y="349"/>
                    <a:pt x="2587" y="326"/>
                  </a:cubicBezTo>
                  <a:cubicBezTo>
                    <a:pt x="2581" y="317"/>
                    <a:pt x="2578" y="304"/>
                    <a:pt x="2569" y="298"/>
                  </a:cubicBezTo>
                  <a:cubicBezTo>
                    <a:pt x="2556" y="290"/>
                    <a:pt x="2495" y="274"/>
                    <a:pt x="2474" y="269"/>
                  </a:cubicBezTo>
                  <a:cubicBezTo>
                    <a:pt x="2439" y="243"/>
                    <a:pt x="2416" y="241"/>
                    <a:pt x="2380" y="222"/>
                  </a:cubicBezTo>
                  <a:cubicBezTo>
                    <a:pt x="2336" y="200"/>
                    <a:pt x="2290" y="158"/>
                    <a:pt x="2238" y="156"/>
                  </a:cubicBezTo>
                  <a:cubicBezTo>
                    <a:pt x="2156" y="153"/>
                    <a:pt x="2075" y="150"/>
                    <a:pt x="1993" y="147"/>
                  </a:cubicBezTo>
                  <a:cubicBezTo>
                    <a:pt x="1937" y="119"/>
                    <a:pt x="1870" y="59"/>
                    <a:pt x="1804" y="52"/>
                  </a:cubicBezTo>
                  <a:cubicBezTo>
                    <a:pt x="1757" y="47"/>
                    <a:pt x="1709" y="46"/>
                    <a:pt x="1662" y="43"/>
                  </a:cubicBezTo>
                  <a:cubicBezTo>
                    <a:pt x="1567" y="18"/>
                    <a:pt x="1466" y="52"/>
                    <a:pt x="1369" y="52"/>
                  </a:cubicBezTo>
                  <a:close/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54" name="AutoShape 8"/>
            <p:cNvSpPr/>
            <p:nvPr/>
          </p:nvSpPr>
          <p:spPr>
            <a:xfrm>
              <a:off x="5364000" y="2492280"/>
              <a:ext cx="3384720" cy="576360"/>
            </a:xfrm>
            <a:prstGeom prst="wedgeRectCallout">
              <a:avLst>
                <a:gd name="adj1" fmla="val -43518"/>
                <a:gd name="adj2" fmla="val 70000"/>
              </a:avLst>
            </a:prstGeom>
            <a:solidFill>
              <a:srgbClr val="bbe0e3"/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ff"/>
                  </a:solidFill>
                  <a:latin typeface="Georgia"/>
                </a:rPr>
                <a:t>Средняя Греция</a:t>
              </a:r>
              <a:endParaRPr b="0" lang="en-US" sz="20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grpSp>
        <p:nvGrpSpPr>
          <p:cNvPr id="55" name="Group 12"/>
          <p:cNvGrpSpPr/>
          <p:nvPr/>
        </p:nvGrpSpPr>
        <p:grpSpPr>
          <a:xfrm>
            <a:off x="1619280" y="1341360"/>
            <a:ext cx="4968720" cy="1460520"/>
            <a:chOff x="1619280" y="1341360"/>
            <a:chExt cx="4968720" cy="1460520"/>
          </a:xfrm>
        </p:grpSpPr>
        <p:sp>
          <p:nvSpPr>
            <p:cNvPr id="56" name="Freeform 10"/>
            <p:cNvSpPr/>
            <p:nvPr/>
          </p:nvSpPr>
          <p:spPr>
            <a:xfrm>
              <a:off x="1619280" y="1484280"/>
              <a:ext cx="2676600" cy="1317600"/>
            </a:xfrm>
            <a:custGeom>
              <a:avLst/>
              <a:gdLst/>
              <a:ahLst/>
              <a:rect l="l" t="t" r="r" b="b"/>
              <a:pathLst>
                <a:path w="1686" h="830">
                  <a:moveTo>
                    <a:pt x="1652" y="632"/>
                  </a:moveTo>
                  <a:cubicBezTo>
                    <a:pt x="1640" y="596"/>
                    <a:pt x="1615" y="580"/>
                    <a:pt x="1596" y="547"/>
                  </a:cubicBezTo>
                  <a:cubicBezTo>
                    <a:pt x="1578" y="514"/>
                    <a:pt x="1561" y="475"/>
                    <a:pt x="1539" y="444"/>
                  </a:cubicBezTo>
                  <a:cubicBezTo>
                    <a:pt x="1531" y="433"/>
                    <a:pt x="1519" y="426"/>
                    <a:pt x="1511" y="415"/>
                  </a:cubicBezTo>
                  <a:cubicBezTo>
                    <a:pt x="1475" y="365"/>
                    <a:pt x="1514" y="386"/>
                    <a:pt x="1463" y="368"/>
                  </a:cubicBezTo>
                  <a:cubicBezTo>
                    <a:pt x="1457" y="359"/>
                    <a:pt x="1453" y="348"/>
                    <a:pt x="1445" y="340"/>
                  </a:cubicBezTo>
                  <a:cubicBezTo>
                    <a:pt x="1437" y="332"/>
                    <a:pt x="1423" y="330"/>
                    <a:pt x="1416" y="321"/>
                  </a:cubicBezTo>
                  <a:cubicBezTo>
                    <a:pt x="1354" y="247"/>
                    <a:pt x="1439" y="312"/>
                    <a:pt x="1369" y="264"/>
                  </a:cubicBezTo>
                  <a:cubicBezTo>
                    <a:pt x="1338" y="219"/>
                    <a:pt x="1289" y="149"/>
                    <a:pt x="1237" y="132"/>
                  </a:cubicBezTo>
                  <a:cubicBezTo>
                    <a:pt x="1185" y="80"/>
                    <a:pt x="1139" y="23"/>
                    <a:pt x="1067" y="0"/>
                  </a:cubicBezTo>
                  <a:cubicBezTo>
                    <a:pt x="938" y="5"/>
                    <a:pt x="851" y="1"/>
                    <a:pt x="736" y="28"/>
                  </a:cubicBezTo>
                  <a:cubicBezTo>
                    <a:pt x="727" y="25"/>
                    <a:pt x="718" y="18"/>
                    <a:pt x="708" y="19"/>
                  </a:cubicBezTo>
                  <a:cubicBezTo>
                    <a:pt x="688" y="21"/>
                    <a:pt x="671" y="34"/>
                    <a:pt x="651" y="38"/>
                  </a:cubicBezTo>
                  <a:cubicBezTo>
                    <a:pt x="585" y="51"/>
                    <a:pt x="620" y="45"/>
                    <a:pt x="547" y="56"/>
                  </a:cubicBezTo>
                  <a:cubicBezTo>
                    <a:pt x="504" y="42"/>
                    <a:pt x="487" y="47"/>
                    <a:pt x="462" y="85"/>
                  </a:cubicBezTo>
                  <a:cubicBezTo>
                    <a:pt x="443" y="205"/>
                    <a:pt x="385" y="227"/>
                    <a:pt x="321" y="321"/>
                  </a:cubicBezTo>
                  <a:cubicBezTo>
                    <a:pt x="318" y="334"/>
                    <a:pt x="319" y="349"/>
                    <a:pt x="311" y="359"/>
                  </a:cubicBezTo>
                  <a:cubicBezTo>
                    <a:pt x="302" y="370"/>
                    <a:pt x="285" y="370"/>
                    <a:pt x="274" y="378"/>
                  </a:cubicBezTo>
                  <a:cubicBezTo>
                    <a:pt x="246" y="398"/>
                    <a:pt x="220" y="437"/>
                    <a:pt x="198" y="463"/>
                  </a:cubicBezTo>
                  <a:cubicBezTo>
                    <a:pt x="173" y="493"/>
                    <a:pt x="182" y="493"/>
                    <a:pt x="160" y="529"/>
                  </a:cubicBezTo>
                  <a:cubicBezTo>
                    <a:pt x="142" y="560"/>
                    <a:pt x="98" y="606"/>
                    <a:pt x="85" y="642"/>
                  </a:cubicBezTo>
                  <a:cubicBezTo>
                    <a:pt x="82" y="651"/>
                    <a:pt x="82" y="663"/>
                    <a:pt x="75" y="670"/>
                  </a:cubicBezTo>
                  <a:cubicBezTo>
                    <a:pt x="65" y="680"/>
                    <a:pt x="50" y="683"/>
                    <a:pt x="38" y="689"/>
                  </a:cubicBezTo>
                  <a:cubicBezTo>
                    <a:pt x="26" y="724"/>
                    <a:pt x="9" y="748"/>
                    <a:pt x="0" y="784"/>
                  </a:cubicBezTo>
                  <a:cubicBezTo>
                    <a:pt x="71" y="830"/>
                    <a:pt x="110" y="799"/>
                    <a:pt x="189" y="784"/>
                  </a:cubicBezTo>
                  <a:cubicBezTo>
                    <a:pt x="332" y="711"/>
                    <a:pt x="523" y="731"/>
                    <a:pt x="670" y="727"/>
                  </a:cubicBezTo>
                  <a:cubicBezTo>
                    <a:pt x="733" y="736"/>
                    <a:pt x="797" y="740"/>
                    <a:pt x="859" y="755"/>
                  </a:cubicBezTo>
                  <a:cubicBezTo>
                    <a:pt x="983" y="715"/>
                    <a:pt x="1573" y="721"/>
                    <a:pt x="1671" y="717"/>
                  </a:cubicBezTo>
                  <a:cubicBezTo>
                    <a:pt x="1686" y="674"/>
                    <a:pt x="1672" y="670"/>
                    <a:pt x="1652" y="632"/>
                  </a:cubicBezTo>
                  <a:close/>
                </a:path>
              </a:pathLst>
            </a:custGeom>
            <a:noFill/>
            <a:ln w="507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57" name="AutoShape 11"/>
            <p:cNvSpPr/>
            <p:nvPr/>
          </p:nvSpPr>
          <p:spPr>
            <a:xfrm>
              <a:off x="3780000" y="1341360"/>
              <a:ext cx="2808000" cy="503280"/>
            </a:xfrm>
            <a:prstGeom prst="wedgeRectCallout">
              <a:avLst>
                <a:gd name="adj1" fmla="val -43726"/>
                <a:gd name="adj2" fmla="val 81546"/>
              </a:avLst>
            </a:prstGeom>
            <a:solidFill>
              <a:srgbClr val="bbe0e3"/>
            </a:solidFill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cc00cc"/>
                  </a:solidFill>
                  <a:latin typeface="Georgia"/>
                </a:rPr>
                <a:t>Северная Греция</a:t>
              </a:r>
              <a:endParaRPr b="0" lang="en-US" sz="20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grpSp>
        <p:nvGrpSpPr>
          <p:cNvPr id="58" name="Group 15"/>
          <p:cNvGrpSpPr/>
          <p:nvPr/>
        </p:nvGrpSpPr>
        <p:grpSpPr>
          <a:xfrm>
            <a:off x="1619280" y="5224320"/>
            <a:ext cx="5891040" cy="1230480"/>
            <a:chOff x="1619280" y="5224320"/>
            <a:chExt cx="5891040" cy="1230480"/>
          </a:xfrm>
        </p:grpSpPr>
        <p:sp>
          <p:nvSpPr>
            <p:cNvPr id="59" name="Freeform 13"/>
            <p:cNvSpPr/>
            <p:nvPr/>
          </p:nvSpPr>
          <p:spPr>
            <a:xfrm>
              <a:off x="3747960" y="5224320"/>
              <a:ext cx="3762360" cy="1030320"/>
            </a:xfrm>
            <a:custGeom>
              <a:avLst/>
              <a:gdLst/>
              <a:ahLst/>
              <a:rect l="l" t="t" r="r" b="b"/>
              <a:pathLst>
                <a:path w="2370" h="649">
                  <a:moveTo>
                    <a:pt x="0" y="231"/>
                  </a:moveTo>
                  <a:cubicBezTo>
                    <a:pt x="37" y="224"/>
                    <a:pt x="68" y="214"/>
                    <a:pt x="104" y="203"/>
                  </a:cubicBezTo>
                  <a:cubicBezTo>
                    <a:pt x="137" y="180"/>
                    <a:pt x="173" y="177"/>
                    <a:pt x="207" y="156"/>
                  </a:cubicBezTo>
                  <a:cubicBezTo>
                    <a:pt x="221" y="148"/>
                    <a:pt x="231" y="134"/>
                    <a:pt x="245" y="127"/>
                  </a:cubicBezTo>
                  <a:cubicBezTo>
                    <a:pt x="263" y="118"/>
                    <a:pt x="283" y="114"/>
                    <a:pt x="302" y="108"/>
                  </a:cubicBezTo>
                  <a:cubicBezTo>
                    <a:pt x="311" y="105"/>
                    <a:pt x="330" y="99"/>
                    <a:pt x="330" y="99"/>
                  </a:cubicBezTo>
                  <a:cubicBezTo>
                    <a:pt x="696" y="141"/>
                    <a:pt x="550" y="148"/>
                    <a:pt x="765" y="127"/>
                  </a:cubicBezTo>
                  <a:cubicBezTo>
                    <a:pt x="962" y="79"/>
                    <a:pt x="1130" y="94"/>
                    <a:pt x="1350" y="89"/>
                  </a:cubicBezTo>
                  <a:cubicBezTo>
                    <a:pt x="1390" y="80"/>
                    <a:pt x="1423" y="61"/>
                    <a:pt x="1463" y="52"/>
                  </a:cubicBezTo>
                  <a:cubicBezTo>
                    <a:pt x="1476" y="46"/>
                    <a:pt x="1490" y="41"/>
                    <a:pt x="1501" y="33"/>
                  </a:cubicBezTo>
                  <a:cubicBezTo>
                    <a:pt x="1512" y="25"/>
                    <a:pt x="1516" y="7"/>
                    <a:pt x="1529" y="4"/>
                  </a:cubicBezTo>
                  <a:cubicBezTo>
                    <a:pt x="1551" y="0"/>
                    <a:pt x="1573" y="10"/>
                    <a:pt x="1595" y="14"/>
                  </a:cubicBezTo>
                  <a:cubicBezTo>
                    <a:pt x="1712" y="35"/>
                    <a:pt x="1500" y="10"/>
                    <a:pt x="1737" y="33"/>
                  </a:cubicBezTo>
                  <a:cubicBezTo>
                    <a:pt x="1762" y="41"/>
                    <a:pt x="1789" y="43"/>
                    <a:pt x="1813" y="52"/>
                  </a:cubicBezTo>
                  <a:cubicBezTo>
                    <a:pt x="1824" y="56"/>
                    <a:pt x="1830" y="68"/>
                    <a:pt x="1841" y="71"/>
                  </a:cubicBezTo>
                  <a:cubicBezTo>
                    <a:pt x="1945" y="99"/>
                    <a:pt x="2064" y="89"/>
                    <a:pt x="2171" y="99"/>
                  </a:cubicBezTo>
                  <a:cubicBezTo>
                    <a:pt x="2193" y="106"/>
                    <a:pt x="2218" y="106"/>
                    <a:pt x="2238" y="118"/>
                  </a:cubicBezTo>
                  <a:cubicBezTo>
                    <a:pt x="2263" y="132"/>
                    <a:pt x="2281" y="157"/>
                    <a:pt x="2304" y="174"/>
                  </a:cubicBezTo>
                  <a:cubicBezTo>
                    <a:pt x="2306" y="182"/>
                    <a:pt x="2319" y="224"/>
                    <a:pt x="2323" y="231"/>
                  </a:cubicBezTo>
                  <a:cubicBezTo>
                    <a:pt x="2334" y="251"/>
                    <a:pt x="2360" y="288"/>
                    <a:pt x="2360" y="288"/>
                  </a:cubicBezTo>
                  <a:cubicBezTo>
                    <a:pt x="2363" y="301"/>
                    <a:pt x="2370" y="313"/>
                    <a:pt x="2370" y="326"/>
                  </a:cubicBezTo>
                  <a:cubicBezTo>
                    <a:pt x="2370" y="373"/>
                    <a:pt x="2365" y="420"/>
                    <a:pt x="2360" y="467"/>
                  </a:cubicBezTo>
                  <a:cubicBezTo>
                    <a:pt x="2344" y="606"/>
                    <a:pt x="2098" y="595"/>
                    <a:pt x="2020" y="599"/>
                  </a:cubicBezTo>
                  <a:cubicBezTo>
                    <a:pt x="1880" y="649"/>
                    <a:pt x="1504" y="635"/>
                    <a:pt x="1435" y="637"/>
                  </a:cubicBezTo>
                  <a:cubicBezTo>
                    <a:pt x="1161" y="634"/>
                    <a:pt x="887" y="637"/>
                    <a:pt x="613" y="628"/>
                  </a:cubicBezTo>
                  <a:cubicBezTo>
                    <a:pt x="575" y="627"/>
                    <a:pt x="410" y="565"/>
                    <a:pt x="377" y="552"/>
                  </a:cubicBezTo>
                  <a:cubicBezTo>
                    <a:pt x="351" y="541"/>
                    <a:pt x="302" y="514"/>
                    <a:pt x="302" y="514"/>
                  </a:cubicBezTo>
                  <a:cubicBezTo>
                    <a:pt x="285" y="465"/>
                    <a:pt x="300" y="491"/>
                    <a:pt x="236" y="448"/>
                  </a:cubicBezTo>
                  <a:cubicBezTo>
                    <a:pt x="226" y="442"/>
                    <a:pt x="207" y="429"/>
                    <a:pt x="207" y="429"/>
                  </a:cubicBezTo>
                  <a:cubicBezTo>
                    <a:pt x="175" y="387"/>
                    <a:pt x="143" y="351"/>
                    <a:pt x="113" y="307"/>
                  </a:cubicBezTo>
                  <a:cubicBezTo>
                    <a:pt x="68" y="240"/>
                    <a:pt x="0" y="302"/>
                    <a:pt x="0" y="231"/>
                  </a:cubicBezTo>
                  <a:close/>
                </a:path>
              </a:pathLst>
            </a:custGeom>
            <a:noFill/>
            <a:ln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60" name="AutoShape 14"/>
            <p:cNvSpPr/>
            <p:nvPr/>
          </p:nvSpPr>
          <p:spPr>
            <a:xfrm rot="10800000">
              <a:off x="1619280" y="5950080"/>
              <a:ext cx="2519280" cy="504720"/>
            </a:xfrm>
            <a:prstGeom prst="wedgeRectCallout">
              <a:avLst>
                <a:gd name="adj1" fmla="val -41055"/>
                <a:gd name="adj2" fmla="val 72638"/>
              </a:avLst>
            </a:prstGeom>
            <a:solidFill>
              <a:srgbClr val="bbe0e3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Georgia"/>
                </a:rPr>
                <a:t>о. Крит</a:t>
              </a:r>
              <a:endParaRPr b="0" lang="en-US" sz="20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4" descr="mapgrec_from_%5bgrechistory"/>
          <p:cNvPicPr/>
          <p:nvPr/>
        </p:nvPicPr>
        <p:blipFill>
          <a:blip r:embed="rId1">
            <a:lum contrast="24000"/>
          </a:blip>
          <a:srcRect l="45278" t="69955" r="16927" b="0"/>
          <a:stretch/>
        </p:blipFill>
        <p:spPr>
          <a:xfrm>
            <a:off x="179280" y="1197000"/>
            <a:ext cx="8785440" cy="545148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Georgia"/>
              </a:rPr>
              <a:t>Остров Крит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Georgia"/>
              </a:rPr>
              <a:t>Артур Джон Эванс</a:t>
            </a:r>
            <a:r>
              <a:rPr b="0" lang="ru-RU" sz="44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55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Georgia"/>
              </a:rPr>
              <a:t>Предприниматель и археолог-любитель. Хранитель музея в Оксфорде (Великобритания)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Georgia"/>
              </a:rPr>
              <a:t>В </a:t>
            </a:r>
            <a:r>
              <a:rPr b="1" lang="ru-RU" sz="2000" spc="-1" strike="noStrike">
                <a:solidFill>
                  <a:srgbClr val="ff0000"/>
                </a:solidFill>
                <a:latin typeface="Georgia"/>
              </a:rPr>
              <a:t>1894</a:t>
            </a:r>
            <a:r>
              <a:rPr b="1" lang="ru-RU" sz="2000" spc="-1" strike="noStrike">
                <a:solidFill>
                  <a:srgbClr val="0000ff"/>
                </a:solidFill>
                <a:latin typeface="Georgia"/>
              </a:rPr>
              <a:t> г. организовал раскопки Кносского дворца на острове Крит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Georgia"/>
              </a:rPr>
              <a:t>Сделал попытки расшифровать критскую письменность (неудачно)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Georgia"/>
              </a:rPr>
              <a:t>В </a:t>
            </a:r>
            <a:r>
              <a:rPr b="1" lang="ru-RU" sz="2000" spc="-1" strike="noStrike">
                <a:solidFill>
                  <a:srgbClr val="ff0000"/>
                </a:solidFill>
                <a:latin typeface="Georgia"/>
              </a:rPr>
              <a:t>1911</a:t>
            </a:r>
            <a:r>
              <a:rPr b="1" lang="ru-RU" sz="2000" spc="-1" strike="noStrike">
                <a:solidFill>
                  <a:srgbClr val="0000ff"/>
                </a:solidFill>
                <a:latin typeface="Georgia"/>
              </a:rPr>
              <a:t> г. за заслуги перед исторической наукой  произведен в рыцари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5" name="Picture 5" descr="evans_1"/>
          <p:cNvPicPr/>
          <p:nvPr/>
        </p:nvPicPr>
        <p:blipFill>
          <a:blip r:embed="rId1"/>
          <a:stretch/>
        </p:blipFill>
        <p:spPr>
          <a:xfrm>
            <a:off x="6156360" y="2133720"/>
            <a:ext cx="2571840" cy="283824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-44640" y="33480"/>
            <a:ext cx="414972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Georgia"/>
              </a:rPr>
              <a:t>Кносский дворец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67" name="Группа 3"/>
          <p:cNvGrpSpPr/>
          <p:nvPr/>
        </p:nvGrpSpPr>
        <p:grpSpPr>
          <a:xfrm>
            <a:off x="4427640" y="189000"/>
            <a:ext cx="4465440" cy="3345120"/>
            <a:chOff x="4427640" y="189000"/>
            <a:chExt cx="4465440" cy="3345120"/>
          </a:xfrm>
        </p:grpSpPr>
        <p:sp>
          <p:nvSpPr>
            <p:cNvPr id="68" name="TextBox 2"/>
            <p:cNvSpPr/>
            <p:nvPr/>
          </p:nvSpPr>
          <p:spPr>
            <a:xfrm>
              <a:off x="4964760" y="3165840"/>
              <a:ext cx="339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Georgia"/>
                </a:rPr>
                <a:t>Ванная комната</a:t>
              </a: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pic>
          <p:nvPicPr>
            <p:cNvPr id="69" name="Picture 4" descr="https://upload.wikimedia.org/wikipedia/commons/thumb/5/5d/The_palace_of_Minos_-_a_comparative_account_of_the_successive_stages_of_the_early_Cretan_civilization_as_illustrated_by_the_discoveries_at_Knossos_%281921%29_%2814793440113%29.jpg/800px-thumbnail.jpg"/>
            <p:cNvPicPr/>
            <p:nvPr/>
          </p:nvPicPr>
          <p:blipFill>
            <a:blip r:embed="rId1"/>
            <a:srcRect l="0" t="0" r="0" b="8359"/>
            <a:stretch/>
          </p:blipFill>
          <p:spPr>
            <a:xfrm>
              <a:off x="4427640" y="189000"/>
              <a:ext cx="4465440" cy="2971440"/>
            </a:xfrm>
            <a:prstGeom prst="rect">
              <a:avLst/>
            </a:prstGeom>
            <a:ln w="38160">
              <a:solidFill>
                <a:srgbClr val="ff0000"/>
              </a:solidFill>
              <a:miter/>
            </a:ln>
          </p:spPr>
        </p:pic>
      </p:grpSp>
      <p:grpSp>
        <p:nvGrpSpPr>
          <p:cNvPr id="70" name="Группа 5"/>
          <p:cNvGrpSpPr/>
          <p:nvPr/>
        </p:nvGrpSpPr>
        <p:grpSpPr>
          <a:xfrm>
            <a:off x="250920" y="3305160"/>
            <a:ext cx="4641840" cy="3630600"/>
            <a:chOff x="250920" y="3305160"/>
            <a:chExt cx="4641840" cy="3630600"/>
          </a:xfrm>
        </p:grpSpPr>
        <p:pic>
          <p:nvPicPr>
            <p:cNvPr id="71" name="Picture 6" descr="https://upload.wikimedia.org/wikipedia/commons/thumb/9/94/Evans_Fresco_Drawing_E4_Watercolour_resized_white_balanced.png/800px-Evans_Fresco_Drawing_E4_Watercolour_resized_white_balanced.png"/>
            <p:cNvPicPr/>
            <p:nvPr/>
          </p:nvPicPr>
          <p:blipFill>
            <a:blip r:embed="rId2"/>
            <a:stretch/>
          </p:blipFill>
          <p:spPr>
            <a:xfrm>
              <a:off x="250920" y="3305160"/>
              <a:ext cx="4641840" cy="3262320"/>
            </a:xfrm>
            <a:prstGeom prst="rect">
              <a:avLst/>
            </a:prstGeom>
            <a:ln w="38160">
              <a:solidFill>
                <a:srgbClr val="ff0000"/>
              </a:solidFill>
              <a:miter/>
            </a:ln>
          </p:spPr>
        </p:pic>
        <p:sp>
          <p:nvSpPr>
            <p:cNvPr id="72" name="Прямоугольник 4"/>
            <p:cNvSpPr/>
            <p:nvPr/>
          </p:nvSpPr>
          <p:spPr>
            <a:xfrm>
              <a:off x="1253880" y="6567480"/>
              <a:ext cx="233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«Мегарон царицы»</a:t>
              </a: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pic>
        <p:nvPicPr>
          <p:cNvPr id="73" name="Picture 8" descr="https://upload.wikimedia.org/wikipedia/commons/thumb/3/32/Campstool_fresco_2.jpg/800px-Campstool_fresco_2.jpg"/>
          <p:cNvPicPr/>
          <p:nvPr/>
        </p:nvPicPr>
        <p:blipFill>
          <a:blip r:embed="rId3"/>
          <a:stretch/>
        </p:blipFill>
        <p:spPr>
          <a:xfrm>
            <a:off x="5435640" y="3860640"/>
            <a:ext cx="3195720" cy="233712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74" name="Picture 10" descr="https://upload.wikimedia.org/wikipedia/commons/f/f0/Palazzo_Minosse7.jpg"/>
          <p:cNvPicPr/>
          <p:nvPr/>
        </p:nvPicPr>
        <p:blipFill>
          <a:blip r:embed="rId4"/>
          <a:stretch/>
        </p:blipFill>
        <p:spPr>
          <a:xfrm>
            <a:off x="476280" y="654120"/>
            <a:ext cx="3629160" cy="238284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44640" y="33480"/>
            <a:ext cx="414972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Georgia"/>
              </a:rPr>
              <a:t>Кносский дворец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76" name="Группа 7"/>
          <p:cNvGrpSpPr/>
          <p:nvPr/>
        </p:nvGrpSpPr>
        <p:grpSpPr>
          <a:xfrm>
            <a:off x="468360" y="765000"/>
            <a:ext cx="8169120" cy="5482440"/>
            <a:chOff x="468360" y="765000"/>
            <a:chExt cx="8169120" cy="5482440"/>
          </a:xfrm>
        </p:grpSpPr>
        <p:pic>
          <p:nvPicPr>
            <p:cNvPr id="77" name="Picture 2" descr="https://upload.wikimedia.org/wikipedia/commons/thumb/a/ae/Bull_leaping_minoan_fresco_archmus_Heraklion.jpg/1024px-Bull_leaping_minoan_fresco_archmus_Heraklion.jpg"/>
            <p:cNvPicPr/>
            <p:nvPr/>
          </p:nvPicPr>
          <p:blipFill>
            <a:blip r:embed="rId1"/>
            <a:stretch/>
          </p:blipFill>
          <p:spPr>
            <a:xfrm>
              <a:off x="468360" y="765000"/>
              <a:ext cx="8169120" cy="501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Прямоугольник 1"/>
            <p:cNvSpPr/>
            <p:nvPr/>
          </p:nvSpPr>
          <p:spPr>
            <a:xfrm>
              <a:off x="1332360" y="5848560"/>
              <a:ext cx="684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0000"/>
                  </a:solidFill>
                  <a:latin typeface="Arial"/>
                </a:rPr>
                <a:t>Тавромахия. </a:t>
              </a:r>
              <a:r>
                <a:rPr b="1" lang="ru-RU" sz="2000" spc="-1" strike="noStrike">
                  <a:solidFill>
                    <a:srgbClr val="202122"/>
                  </a:solidFill>
                  <a:latin typeface="Arial"/>
                </a:rPr>
                <a:t>Фреска, воссозданная Эвансом</a:t>
              </a:r>
              <a:endParaRPr b="0" lang="en-US" sz="20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13" descr="gj2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Georgia"/>
              </a:rPr>
              <a:t>Легенда о Миносе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82" name="Picture 9" descr="Zeus2"/>
          <p:cNvPicPr/>
          <p:nvPr/>
        </p:nvPicPr>
        <p:blipFill>
          <a:blip r:embed="rId2"/>
          <a:stretch/>
        </p:blipFill>
        <p:spPr>
          <a:xfrm>
            <a:off x="2411280" y="1052640"/>
            <a:ext cx="4492800" cy="561636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  <p:sp>
        <p:nvSpPr>
          <p:cNvPr id="83" name="Line 14"/>
          <p:cNvSpPr/>
          <p:nvPr/>
        </p:nvSpPr>
        <p:spPr>
          <a:xfrm flipH="1">
            <a:off x="1763280" y="1844640"/>
            <a:ext cx="1295640" cy="15130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Line 15"/>
          <p:cNvSpPr/>
          <p:nvPr/>
        </p:nvSpPr>
        <p:spPr>
          <a:xfrm>
            <a:off x="6154560" y="1844640"/>
            <a:ext cx="1730520" cy="1728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Line 16"/>
          <p:cNvSpPr/>
          <p:nvPr/>
        </p:nvSpPr>
        <p:spPr>
          <a:xfrm>
            <a:off x="4427640" y="1916280"/>
            <a:ext cx="1440" cy="1944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86" name="Group 21"/>
          <p:cNvGrpSpPr/>
          <p:nvPr/>
        </p:nvGrpSpPr>
        <p:grpSpPr>
          <a:xfrm>
            <a:off x="395280" y="3716280"/>
            <a:ext cx="2016000" cy="2025720"/>
            <a:chOff x="395280" y="3716280"/>
            <a:chExt cx="2016000" cy="2025720"/>
          </a:xfrm>
        </p:grpSpPr>
        <p:pic>
          <p:nvPicPr>
            <p:cNvPr id="87" name="Picture 19" descr="ukbase_1_1575693288_11052"/>
            <p:cNvPicPr/>
            <p:nvPr/>
          </p:nvPicPr>
          <p:blipFill>
            <a:blip r:embed="rId3"/>
            <a:stretch/>
          </p:blipFill>
          <p:spPr>
            <a:xfrm>
              <a:off x="611280" y="3716280"/>
              <a:ext cx="1628640" cy="1600200"/>
            </a:xfrm>
            <a:prstGeom prst="rect">
              <a:avLst/>
            </a:prstGeom>
            <a:ln w="38160">
              <a:solidFill>
                <a:srgbClr val="ff0000"/>
              </a:solidFill>
              <a:miter/>
            </a:ln>
          </p:spPr>
        </p:pic>
        <p:sp>
          <p:nvSpPr>
            <p:cNvPr id="88" name="Text Box 20"/>
            <p:cNvSpPr/>
            <p:nvPr/>
          </p:nvSpPr>
          <p:spPr>
            <a:xfrm>
              <a:off x="395280" y="5373720"/>
              <a:ext cx="201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Georgia"/>
                </a:rPr>
                <a:t>Минос</a:t>
              </a: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sp>
        <p:nvSpPr>
          <p:cNvPr id="89" name="Text Box 22"/>
          <p:cNvSpPr/>
          <p:nvPr/>
        </p:nvSpPr>
        <p:spPr>
          <a:xfrm>
            <a:off x="3564000" y="4365720"/>
            <a:ext cx="187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Georgia"/>
              </a:rPr>
              <a:t>Сарпедон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Text Box 26"/>
          <p:cNvSpPr/>
          <p:nvPr/>
        </p:nvSpPr>
        <p:spPr>
          <a:xfrm>
            <a:off x="7093080" y="436572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Georgia"/>
              </a:rPr>
              <a:t>Радаменф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7" dur="5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9" dur="5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5" descr="250px-Theseus_Castellani_Louvre_E85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1192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Georgia"/>
              </a:rPr>
              <a:t>Миф о Тесее и Минотавре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AutoShape 6"/>
          <p:cNvSpPr/>
          <p:nvPr/>
        </p:nvSpPr>
        <p:spPr>
          <a:xfrm>
            <a:off x="755640" y="5950080"/>
            <a:ext cx="936720" cy="647640"/>
          </a:xfrm>
          <a:custGeom>
            <a:avLst/>
            <a:gdLst>
              <a:gd name="textAreaLeft" fmla="*/ 41760 w 936720"/>
              <a:gd name="textAreaRight" fmla="*/ 894960 w 936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31236" h="21600">
                <a:moveTo>
                  <a:pt x="0" y="0"/>
                </a:moveTo>
                <a:lnTo>
                  <a:pt x="31236" y="0"/>
                </a:lnTo>
                <a:lnTo>
                  <a:pt x="31236" y="21600"/>
                </a:lnTo>
                <a:lnTo>
                  <a:pt x="0" y="21600"/>
                </a:lnTo>
                <a:close/>
              </a:path>
              <a:path fill="lightenLess" w="31236" h="21600">
                <a:moveTo>
                  <a:pt x="0" y="0"/>
                </a:moveTo>
                <a:lnTo>
                  <a:pt x="31236" y="0"/>
                </a:lnTo>
                <a:lnTo>
                  <a:pt x="29836" y="1400"/>
                </a:lnTo>
                <a:lnTo>
                  <a:pt x="1400" y="1400"/>
                </a:lnTo>
                <a:close/>
              </a:path>
              <a:path fill="darken" w="31236" h="21600">
                <a:moveTo>
                  <a:pt x="31236" y="0"/>
                </a:moveTo>
                <a:lnTo>
                  <a:pt x="31236" y="21600"/>
                </a:lnTo>
                <a:lnTo>
                  <a:pt x="29836" y="20200"/>
                </a:lnTo>
                <a:lnTo>
                  <a:pt x="29836" y="1400"/>
                </a:lnTo>
                <a:close/>
              </a:path>
              <a:path fill="darkenLess" w="31236" h="21600">
                <a:moveTo>
                  <a:pt x="312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36" y="20200"/>
                </a:lnTo>
                <a:close/>
              </a:path>
              <a:path fill="lighten" w="312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36" h="21600">
                <a:moveTo>
                  <a:pt x="8612" y="7301"/>
                </a:moveTo>
                <a:lnTo>
                  <a:pt x="9525" y="7301"/>
                </a:lnTo>
                <a:lnTo>
                  <a:pt x="9908" y="7667"/>
                </a:lnTo>
                <a:lnTo>
                  <a:pt x="19117" y="7667"/>
                </a:lnTo>
                <a:lnTo>
                  <a:pt x="19674" y="8224"/>
                </a:lnTo>
                <a:lnTo>
                  <a:pt x="19674" y="8772"/>
                </a:lnTo>
                <a:lnTo>
                  <a:pt x="21519" y="8772"/>
                </a:lnTo>
                <a:lnTo>
                  <a:pt x="21885" y="8224"/>
                </a:lnTo>
                <a:lnTo>
                  <a:pt x="22624" y="8224"/>
                </a:lnTo>
                <a:lnTo>
                  <a:pt x="22624" y="13376"/>
                </a:lnTo>
                <a:lnTo>
                  <a:pt x="21885" y="13376"/>
                </a:lnTo>
                <a:lnTo>
                  <a:pt x="21519" y="12828"/>
                </a:lnTo>
                <a:lnTo>
                  <a:pt x="19674" y="12828"/>
                </a:lnTo>
                <a:lnTo>
                  <a:pt x="19674" y="14107"/>
                </a:lnTo>
                <a:lnTo>
                  <a:pt x="10091" y="14107"/>
                </a:lnTo>
                <a:lnTo>
                  <a:pt x="10091" y="9877"/>
                </a:lnTo>
                <a:lnTo>
                  <a:pt x="9908" y="9877"/>
                </a:lnTo>
                <a:lnTo>
                  <a:pt x="9525" y="10243"/>
                </a:lnTo>
                <a:lnTo>
                  <a:pt x="8612" y="10243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12T17:34:09Z</dcterms:created>
  <dc:creator>Константин</dc:creator>
  <dc:description/>
  <dc:language>en-US</dc:language>
  <cp:lastModifiedBy>1</cp:lastModifiedBy>
  <dcterms:modified xsi:type="dcterms:W3CDTF">2020-12-27T20:20:54Z</dcterms:modified>
  <cp:revision>21</cp:revision>
  <dc:subject/>
  <dc:title>Древнейшая Греция. </dc:title>
</cp:coreProperties>
</file>