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4BB-EE42-4CCC-A2A7-1D9DEE32E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927-EC1E-47F2-886C-AAABDFE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4CC-333F-4545-BD5F-47C3F234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3F0-7138-43E4-941B-4CCCBA22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C04-36B0-483D-BE78-ED6E7976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DFA-FCCF-4DF8-9F56-A08DD33B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063-17B0-4E20-A30E-08277E16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BCA-FEA8-42E4-9FC9-7E6902B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9FD-9AC9-4A44-B0A6-AA813D6E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789-1C6B-4E1C-BA1E-C784694F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2119-309F-4289-9FCF-D8B7D44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0C6-7BB7-445D-B367-93988032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2C47-3C11-4D1B-9298-0C6F33150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2/Pankratiasten_in_fight_copy_of_greek_statue_3_century_bC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1.jpe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4/42/Pankratiasten_in_fight_copy_of_greek_statue_3_century_bC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127" t="0" r="3846" b="0"/>
          <a:stretch/>
        </p:blipFill>
        <p:spPr>
          <a:xfrm>
            <a:off x="0" y="907920"/>
            <a:ext cx="7921800" cy="513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История Олимпиа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63600" y="5105520"/>
            <a:ext cx="4280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дгото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КОУ СОШ №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имонов К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1491" r="26772" b="10858"/>
          <a:stretch/>
        </p:blipFill>
        <p:spPr>
          <a:xfrm>
            <a:off x="8028000" y="0"/>
            <a:ext cx="1116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ентатл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206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анкратион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рукопашный бой, в котором соединялись удары руками и ногами и борцовая техника. Удушение было разрешено, запрещены укусы и выдавливание глаз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Pankratiasten in fight copy of greek statue 3 century b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989000"/>
            <a:ext cx="6035760" cy="441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Конные бе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62064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квадриги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4 лошади запряженные в колесницу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гонки колесни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2 лошад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ка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2803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40000" y="1700280"/>
            <a:ext cx="4537080" cy="34606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победителей на Олимпийских играх были такие известные ученые и мыслители, как Демосфен, Демокрит, Аристотель, Сократ, Гиппокр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ководец Александр Македонский состязался в беге и пришел к финишу вместе с победителем Олимпи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84360" y="692280"/>
            <a:ext cx="432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Знаменитые участник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Олимпиад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 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8"/>
          <a:srcRect l="0" t="0" r="0" b="27359"/>
          <a:stretch/>
        </p:blipFill>
        <p:spPr>
          <a:xfrm>
            <a:off x="324000" y="4076640"/>
            <a:ext cx="1715760" cy="1685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250920" y="59421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9"/>
          <a:srcRect l="8693" t="0" r="8744" b="45711"/>
          <a:stretch/>
        </p:blipFill>
        <p:spPr>
          <a:xfrm>
            <a:off x="324000" y="376200"/>
            <a:ext cx="161928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50920" y="2276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лександр Македонский</a:t>
            </a: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093080" y="4005360"/>
            <a:ext cx="1677960" cy="2087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7093080" y="6210360"/>
            <a:ext cx="1768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е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88120" y="2276640"/>
            <a:ext cx="19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Филосо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ократ</a:t>
            </a: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7596360" y="447840"/>
            <a:ext cx="1158840" cy="1841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чники сети 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ru.wikipedia.org/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s://www.googl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www.olympic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olimpiada.ucoz.ro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http://travel.gerodot.ru/greece/den-tretij-olimpiy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10120" y="1125360"/>
            <a:ext cx="3029040" cy="316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981000"/>
            <a:ext cx="47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греческие города-государства, а также в греческие колонии, отправлялись специальные послы. Они приглашали всех желающих принять участие в Олимпийских игра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708280"/>
            <a:ext cx="47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ремя Олимпиад заключалось священное перемирие (экехерия) между всеми воюющими греческими государствами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400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Священное перемир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50864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икто не имел права вступить на территорию Олимпии с оружием. Нарушителя ждал суровый штраф – 27 килограммов чистого серебра!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 страшнее разорительного штрафа, как считали греки, было проклятие, которое боги насылали на нарушителя олимпийского перемирия. Строгому наказанию подвергался и человек, оскорбивший путника, идущего на олимпийский праздник... А еще страшнее наказание – отлучение от Игр на одну или две Олимпиады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89000"/>
          <a:ext cx="876240" cy="17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00"/>
                    <a:ext cx="876240" cy="1714320"/>
                  </a:xfrm>
                  <a:prstGeom prst="rect">
                    <a:avLst/>
                  </a:prstGeom>
                  <a:ln w="76320">
                    <a:solidFill>
                      <a:srgbClr val="6633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47640" y="18900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Отбор к соревн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античных Олимпийских играх соревновались и были зрителями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только мужчины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(в состязаниях могли участвовать все свободны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гре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бедные и богатые, знатные и незнат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2349360"/>
            <a:ext cx="381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а г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до соревнований  желающие участвовать в них начинали тренировки. Затем они проходили испытания, на которых на Олимпийски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бирались самые достойные атл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464000" cy="317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076720" y="4653000"/>
            <a:ext cx="38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За месяц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до открытия игр атлеты прибывали в Южную Грецию и там, поблизости от Олимпии, продолжали тренир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60280"/>
            <a:ext cx="69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Порядок проведения Олимпи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аздник происходил в первое полнолуние после летнего солнцестояния (15 июля по 15 августа), то есть в период после жатвы и перед уборкой виногр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спринтеры"/>
          <p:cNvPicPr/>
          <p:nvPr/>
        </p:nvPicPr>
        <p:blipFill>
          <a:blip r:embed="rId1"/>
          <a:stretch/>
        </p:blipFill>
        <p:spPr>
          <a:xfrm>
            <a:off x="1763640" y="2276640"/>
            <a:ext cx="4896000" cy="215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32000" y="5084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аздник в Олимпии длился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пять дне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47640" y="18900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День Пер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981000"/>
            <a:ext cx="8569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 первой половине дн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атлеты и их тренеры отправлялись в «булевтерион», или совет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лланодиков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судей) в Олимпии и перед олимпийскими судьями произносили Олимпийскую клятв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«Я честно и упорно готовился и буду честно соревноваться со своими соперниками!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 примерно так она звучал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тем атлеты шествовали в священную оливковую рощу, где они обращались к богам Зевсу, Гермесу, Аполлону и молились за побе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2251080" cy="324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6084720" y="3213000"/>
            <a:ext cx="3059280" cy="2520720"/>
            <a:chOff x="6084720" y="3213000"/>
            <a:chExt cx="3059280" cy="2520720"/>
          </a:xfrm>
        </p:grpSpPr>
        <p:graphicFrame>
          <p:nvGraphicFramePr>
            <p:cNvPr id="65" name=""/>
            <p:cNvGraphicFramePr/>
            <p:nvPr/>
          </p:nvGraphicFramePr>
          <p:xfrm>
            <a:off x="6139800" y="3480120"/>
            <a:ext cx="2959200" cy="2074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139800" y="3480120"/>
                      <a:ext cx="2959200" cy="2074680"/>
                    </a:xfrm>
                    <a:prstGeom prst="rect">
                      <a:avLst/>
                    </a:prstGeom>
                    <a:ln w="76320">
                      <a:solidFill>
                        <a:srgbClr val="320000"/>
                      </a:solidFill>
                      <a:miter/>
                    </a:ln>
                  </p:spPr>
                </p:pic>
              </p:oleObj>
            </a:graphicData>
          </a:graphic>
        </p:graphicFrame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6084720" y="3213000"/>
              <a:ext cx="3059280" cy="19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084720" y="5537520"/>
              <a:ext cx="3059280" cy="196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771640" y="3284640"/>
            <a:ext cx="3097440" cy="2411280"/>
          </a:xfrm>
          <a:prstGeom prst="rect">
            <a:avLst/>
          </a:prstGeom>
          <a:ln w="76320">
            <a:solidFill>
              <a:srgbClr val="32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771640" y="595008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Во второй половине дн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начинался праздник искусств,  соревнования и выступления поэтов, музыкантов, драматур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62064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диум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ег на дистанцию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бег с одного конца стадиона до другого на дистанцию в одну олимпийскую стадию (192 м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еличайшим бегуном античности считался Леонид с Родоса, одержавший во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I в. до н. э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12 поб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4 Олимпиа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91628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иало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двойной бег) - бег на две стадии (384 м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49228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Дилохос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долгий бег) - бе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 7 до 24 стадий (1344 – 4608 м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306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Бег с оружие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бег в шлеме, поножах и со щитом на две стадии. Им завершались Олимпиа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8360" y="3429000"/>
            <a:ext cx="8316720" cy="3235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451640" y="1557360"/>
            <a:ext cx="16923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диноб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62064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Борьб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Правилами запрещались удары, но толчки разрешались. Разделялась на две основные позиции: в стойке (необходимо трижды бросить противника на землю) и на земле, вернее, мягком грунте, посыпанном песком (продолжалась до тех пор пока кто-то из спортсменов не сдавался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6048360" cy="3722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диноб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6206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анкратион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рукопашный бой, в котором соединялись удары руками и ногами и борцовая техника. Удушение было разрешено, запрещены укусы и выдавливание глаз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File:Pankratiasten in fight copy of greek statue 3 century b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989000"/>
            <a:ext cx="6035760" cy="441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1700"/>
            </a:gs>
            <a:gs pos="100000">
              <a:srgbClr val="cc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0"/>
            <a:ext cx="59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Единоб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62064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ключает - бег на стадий, метание диска, метание копья,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рыжок в длину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борьб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ыжковая техника отличалась своеобразием: атлет использовал гантели в руках для увеличения дальности прыж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000606"/>
          <p:cNvPicPr/>
          <p:nvPr/>
        </p:nvPicPr>
        <p:blipFill>
          <a:blip r:embed="rId1"/>
          <a:stretch/>
        </p:blipFill>
        <p:spPr>
          <a:xfrm>
            <a:off x="826920" y="1700280"/>
            <a:ext cx="1973520" cy="2827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7" name="Picture 6" descr="000728"/>
          <p:cNvPicPr/>
          <p:nvPr/>
        </p:nvPicPr>
        <p:blipFill>
          <a:blip r:embed="rId2"/>
          <a:stretch/>
        </p:blipFill>
        <p:spPr>
          <a:xfrm>
            <a:off x="3564000" y="1700280"/>
            <a:ext cx="1960560" cy="2808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8" name="Picture 10" descr="19_05"/>
          <p:cNvPicPr/>
          <p:nvPr/>
        </p:nvPicPr>
        <p:blipFill>
          <a:blip r:embed="rId3"/>
          <a:stretch/>
        </p:blipFill>
        <p:spPr>
          <a:xfrm>
            <a:off x="6227640" y="1700280"/>
            <a:ext cx="1940040" cy="2819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700360" y="4653000"/>
            <a:ext cx="1427040" cy="2014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788000" y="4724280"/>
            <a:ext cx="1896840" cy="17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16:47:48Z</dcterms:created>
  <dc:creator>Костя</dc:creator>
  <dc:description/>
  <dc:language>en-US</dc:language>
  <cp:lastModifiedBy>Костя</cp:lastModifiedBy>
  <dcterms:modified xsi:type="dcterms:W3CDTF">2014-05-28T22:43:50Z</dcterms:modified>
  <cp:revision>93</cp:revision>
  <dc:subject/>
  <dc:title>Слайд 1</dc:title>
</cp:coreProperties>
</file>