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105-93AD-4762-B1EF-612C56D5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18D-B967-4517-8725-DBAAC923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BFF-02A9-4BCA-8C4C-B7FE0AEF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9D3-173B-4F32-9398-6490E5D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606-E395-48F8-B37A-8BF7CEB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D28-FD8E-4416-94DC-2331FB6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95E-50BE-4B7B-A13F-7CA4302B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74E-7F66-48FC-894E-0DD20239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63C-EE42-49F9-A359-F10D29F6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7EB-FBAB-4E13-8B86-88157ED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89E-25D0-407A-8CD0-9D79621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8E0-F932-4419-8F8E-3204C0A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FC6-98B0-4B1C-9863-D268D66A1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2/Pankratiasten_in_fight_copy_of_greek_statue_3_century_bC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2/Pankratiasten_in_fight_copy_of_greek_statue_3_century_bC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127" t="0" r="3846" b="0"/>
          <a:stretch/>
        </p:blipFill>
        <p:spPr>
          <a:xfrm>
            <a:off x="0" y="907920"/>
            <a:ext cx="7921800" cy="51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История Олимпиа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63600" y="5105520"/>
            <a:ext cx="4280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гото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КОУ СО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имонов К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1491" r="26772" b="10858"/>
          <a:stretch/>
        </p:blipFill>
        <p:spPr>
          <a:xfrm>
            <a:off x="8028000" y="0"/>
            <a:ext cx="111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ентатл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206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анкратио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рукопашный бой, в котором соединялись удары руками и ногами и борцовая техника. Удушение было разрешено, запрещены укусы и выдавливание глаз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Pankratiasten in fight copy of greek statue 3 century b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989000"/>
            <a:ext cx="6035760" cy="441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нные б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2064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вадриги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4 лошади запряженные в колесниц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онки колесни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2 лошад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к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280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40000" y="1700280"/>
            <a:ext cx="4537080" cy="34606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победителей на Олимпийских играх были такие известные ученые и мыслители, как Демосфен, Демокрит, Аристотель, Сократ, Гиппокр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ководец Александр Македонский состязался в беге и пришел к финишу вместе с победителем Олимпи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84360" y="692280"/>
            <a:ext cx="432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наменитые участник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Олимпиад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rcRect l="0" t="0" r="0" b="27359"/>
          <a:stretch/>
        </p:blipFill>
        <p:spPr>
          <a:xfrm>
            <a:off x="324000" y="4076640"/>
            <a:ext cx="1715760" cy="1685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50920" y="59421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rcRect l="8693" t="0" r="8744" b="45711"/>
          <a:stretch/>
        </p:blipFill>
        <p:spPr>
          <a:xfrm>
            <a:off x="324000" y="376200"/>
            <a:ext cx="161928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50920" y="2276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ександр Македонский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093080" y="4005360"/>
            <a:ext cx="1677960" cy="2087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7093080" y="6210360"/>
            <a:ext cx="1768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е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88120" y="2276640"/>
            <a:ext cx="19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Филосо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7596360" y="447840"/>
            <a:ext cx="1158840" cy="1841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 сети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ru.wikipedia.org/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s://www.googl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www.olympic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olimpiada.ucoz.r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travel.gerodot.ru/greece/den-tretij-olimpiy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10120" y="1125360"/>
            <a:ext cx="3029040" cy="316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98100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греческие города-государства, а также в греческие колонии, отправлялись специальные послы. Они приглашали всех желающих принять участие в Олимпийских игра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8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ремя Олимпиад заключалось священное перемирие (экехерия) между всеми воюющими греческими государств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вященное переми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50864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то не имел права вступить на территорию Олимпии с оружием. Нарушителя ждал суровый штраф – 27 килограммов чистого серебра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 страшнее разорительного штрафа, как считали греки, было проклятие, которое боги насылали на нарушителя олимпийского перемирия. Строгому наказанию подвергался и человек, оскорбивший путника, идущего на олимпийский праздник... А еще страшнее наказание – отлучение от Игр на одну или две Олимпиад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89000"/>
          <a:ext cx="87624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876240" cy="1714320"/>
                  </a:xfrm>
                  <a:prstGeom prst="rect">
                    <a:avLst/>
                  </a:prstGeom>
                  <a:ln w="7632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7640" y="18900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тбор к соревн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античных Олимпийских играх соревновались и были зрителям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олько мужчин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(в состязаниях могли участвовать все свободны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ре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бедные и богатые, знатные и незна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349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 г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до соревнований  желающие участвовать в них начинали тренировки. Затем они проходили испытания, на которых на Олимпийск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бирались самые достойные атл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464000" cy="317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076720" y="465300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 меся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до открытия игр атлеты прибывали в Южную Грецию и там, поблизости от Олимпии, продолжали тренир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6028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рядок проведения Олимпи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здник происходил в первое полнолуние после летнего солнцестояния (15 июля по 15 августа), то есть в период после жатвы и перед уборкой виногр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спринтеры"/>
          <p:cNvPicPr/>
          <p:nvPr/>
        </p:nvPicPr>
        <p:blipFill>
          <a:blip r:embed="rId1"/>
          <a:stretch/>
        </p:blipFill>
        <p:spPr>
          <a:xfrm>
            <a:off x="1763640" y="2276640"/>
            <a:ext cx="4896000" cy="215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32000" y="5084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здник в Олимпии длился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ять дн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47640" y="18900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ень Пер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981000"/>
            <a:ext cx="856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 первой половине дн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атлеты и их тренеры отправлялись в «булевтерион», или совет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лланод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судей) в Олимпии и перед олимпийскими судьями произносили Олимпийскую клятв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«Я честно и упорно готовился и буду честно соревноваться со своими соперниками!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примерно так она звучал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тем атлеты шествовали в священную оливковую рощу, где они обращались к богам Зевсу, Гермесу, Аполлону и молились за побе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2251080" cy="324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6084720" y="3213000"/>
            <a:ext cx="3059280" cy="2520720"/>
            <a:chOff x="6084720" y="3213000"/>
            <a:chExt cx="3059280" cy="2520720"/>
          </a:xfrm>
        </p:grpSpPr>
        <p:graphicFrame>
          <p:nvGraphicFramePr>
            <p:cNvPr id="65" name=""/>
            <p:cNvGraphicFramePr/>
            <p:nvPr/>
          </p:nvGraphicFramePr>
          <p:xfrm>
            <a:off x="6139800" y="3480120"/>
            <a:ext cx="2959200" cy="2074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39800" y="3480120"/>
                      <a:ext cx="2959200" cy="2074680"/>
                    </a:xfrm>
                    <a:prstGeom prst="rect">
                      <a:avLst/>
                    </a:prstGeom>
                    <a:ln w="76320">
                      <a:solidFill>
                        <a:srgbClr val="32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6084720" y="3213000"/>
              <a:ext cx="305928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084720" y="5537520"/>
              <a:ext cx="3059280" cy="19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771640" y="3284640"/>
            <a:ext cx="3097440" cy="2411280"/>
          </a:xfrm>
          <a:prstGeom prst="rect">
            <a:avLst/>
          </a:prstGeom>
          <a:ln w="76320">
            <a:solidFill>
              <a:srgbClr val="32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771640" y="59500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о второй половине дн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начинался праздник искусств,  соревнования и выступления поэтов, музыкантов, драматур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620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диу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ег на дистанцию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бег с одного конца стадиона до другого на дистанцию в одну олимпийскую стадию (192 м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личайшим бегуном античности считался Леонид с Родоса, одержавший во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I в. до н. э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2 поб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4 Олимпиа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16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иало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двойной бег) - бег на две стадии (384 м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492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илохо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долгий бег) - бе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 7 до 24 стадий (1344 – 4608 м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06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Бег с оружие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бег в шлеме, поножах и со щитом на две стадии. Им завершались 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8316720" cy="323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1640" y="1557360"/>
            <a:ext cx="1692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диноб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62064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Борьб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Правилами запрещались удары, но толчки разрешались. Разделялась на две основные позиции: в стойке (необходимо трижды бросить противника на землю) и на земле, вернее, мягком грунте, посыпанном песком (продолжалась до тех пор пока кто-то из спортсменов не сдавался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6048360" cy="3722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диноб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6206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анкратио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рукопашный бой, в котором соединялись удары руками и ногами и борцовая техника. Удушение было разрешено, запрещены укусы и выдавливание глаз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File:Pankratiasten in fight copy of greek statue 3 century b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989000"/>
            <a:ext cx="6035760" cy="441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диноб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206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ключает - бег на стадий, метание диска, метание копья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ыжок в длин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борьб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ыжковая техника отличалась своеобразием: атлет использовал гантели в руках для увеличения дальности прыж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000606"/>
          <p:cNvPicPr/>
          <p:nvPr/>
        </p:nvPicPr>
        <p:blipFill>
          <a:blip r:embed="rId1"/>
          <a:stretch/>
        </p:blipFill>
        <p:spPr>
          <a:xfrm>
            <a:off x="826920" y="1700280"/>
            <a:ext cx="1973520" cy="282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Picture 6" descr="000728"/>
          <p:cNvPicPr/>
          <p:nvPr/>
        </p:nvPicPr>
        <p:blipFill>
          <a:blip r:embed="rId2"/>
          <a:stretch/>
        </p:blipFill>
        <p:spPr>
          <a:xfrm>
            <a:off x="3564000" y="1700280"/>
            <a:ext cx="1960560" cy="280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8" name="Picture 10" descr="19_05"/>
          <p:cNvPicPr/>
          <p:nvPr/>
        </p:nvPicPr>
        <p:blipFill>
          <a:blip r:embed="rId3"/>
          <a:stretch/>
        </p:blipFill>
        <p:spPr>
          <a:xfrm>
            <a:off x="6227640" y="1700280"/>
            <a:ext cx="1940040" cy="2819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700360" y="4653000"/>
            <a:ext cx="1427040" cy="201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88000" y="4724280"/>
            <a:ext cx="1896840" cy="17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16:47:48Z</dcterms:created>
  <dc:creator>Костя</dc:creator>
  <dc:description/>
  <dc:language>en-US</dc:language>
  <cp:lastModifiedBy>Костя</cp:lastModifiedBy>
  <dcterms:modified xsi:type="dcterms:W3CDTF">2014-05-28T22:43:50Z</dcterms:modified>
  <cp:revision>93</cp:revision>
  <dc:subject/>
  <dc:title>Слайд 1</dc:title>
</cp:coreProperties>
</file>