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455A-EAEB-469A-96E5-1FEBEE90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2854-9345-458A-AA23-0F4E2730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AE7A-2ED9-4F61-A5EA-098C8E97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9046-3709-49DF-A889-8353E14F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7FA-1E85-44EE-BCF1-DE15C41B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3A17-F166-440E-9B1C-28F3C121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46AD-1476-41CD-8FDD-56CF3EB6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891-5F1E-4AE1-882B-A0FE6244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BD16-56C2-46F4-ADF1-4C82814B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7B4C-5F41-4811-AC13-FC446D6D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0076-103D-4350-8572-FC8CFA50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C110-FCFC-4B35-B667-8D4CB7DF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E646-D640-4768-BE2C-AB23C45EEF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271794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1125000"/>
            <a:ext cx="784692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 Black"/>
              </a:rPr>
              <a:t>Древние люди на территории Росс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719600" y="5514480"/>
            <a:ext cx="442440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 Black"/>
              </a:rPr>
              <a:t>Подготови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 Black"/>
              </a:rPr>
              <a:t>Симонов К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 Black"/>
              </a:rPr>
              <a:t>учитель истории МБОУ СОШ №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Black"/>
              </a:rPr>
              <a:t>I </a:t>
            </a:r>
            <a:r>
              <a:rPr b="1" lang="ru-RU" sz="1600" spc="-1" strike="noStrike">
                <a:solidFill>
                  <a:srgbClr val="0000ff"/>
                </a:solidFill>
                <a:latin typeface="Arial Black"/>
              </a:rPr>
              <a:t>квалификационная катего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Стоянки  древних людей на территории реки Чусов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390600" y="6438960"/>
            <a:ext cx="81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мень Дождевой. В 1988 г. сенсационная нахо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Группа 6"/>
          <p:cNvGrpSpPr/>
          <p:nvPr/>
        </p:nvGrpSpPr>
        <p:grpSpPr>
          <a:xfrm>
            <a:off x="390600" y="692280"/>
            <a:ext cx="8424720" cy="5616360"/>
            <a:chOff x="390600" y="692280"/>
            <a:chExt cx="8424720" cy="5616360"/>
          </a:xfrm>
        </p:grpSpPr>
        <p:pic>
          <p:nvPicPr>
            <p:cNvPr id="110" name="Picture 2" descr="https://nashural.ru/assets/uploads/5912227_xlarge-1068x712.jpg"/>
            <p:cNvPicPr/>
            <p:nvPr/>
          </p:nvPicPr>
          <p:blipFill>
            <a:blip r:embed="rId1"/>
            <a:stretch/>
          </p:blipFill>
          <p:spPr>
            <a:xfrm>
              <a:off x="390600" y="692280"/>
              <a:ext cx="8424720" cy="561636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111" name="TextBox 5"/>
            <p:cNvSpPr/>
            <p:nvPr/>
          </p:nvSpPr>
          <p:spPr>
            <a:xfrm>
              <a:off x="5435280" y="692280"/>
              <a:ext cx="338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0 км. от Первоуральс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2" name="Прямая со стрелкой 8"/>
          <p:cNvCxnSpPr/>
          <p:nvPr/>
        </p:nvCxnSpPr>
        <p:spPr>
          <a:xfrm flipH="1">
            <a:off x="3923640" y="1915920"/>
            <a:ext cx="1943640" cy="937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13" name="Группа 11"/>
          <p:cNvGrpSpPr/>
          <p:nvPr/>
        </p:nvGrpSpPr>
        <p:grpSpPr>
          <a:xfrm>
            <a:off x="539640" y="1238400"/>
            <a:ext cx="2989440" cy="4484520"/>
            <a:chOff x="539640" y="1238400"/>
            <a:chExt cx="2989440" cy="4484520"/>
          </a:xfrm>
        </p:grpSpPr>
        <p:pic>
          <p:nvPicPr>
            <p:cNvPr id="114" name="Picture 4" descr="http://rekachusovaya.ru/images/putevoditel/dozdevoi-3.jpg"/>
            <p:cNvPicPr/>
            <p:nvPr/>
          </p:nvPicPr>
          <p:blipFill>
            <a:blip r:embed="rId2"/>
            <a:stretch/>
          </p:blipFill>
          <p:spPr>
            <a:xfrm>
              <a:off x="539640" y="1238400"/>
              <a:ext cx="2989440" cy="448452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115" name="TextBox 10"/>
            <p:cNvSpPr/>
            <p:nvPr/>
          </p:nvSpPr>
          <p:spPr>
            <a:xfrm>
              <a:off x="755640" y="123840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ещера 5 метр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Стоянки  древних людей на территории реки Чусов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Пещера Шамана. Автор: Дмитрий Латышев"/>
          <p:cNvPicPr/>
          <p:nvPr/>
        </p:nvPicPr>
        <p:blipFill>
          <a:blip r:embed="rId1"/>
          <a:stretch/>
        </p:blipFill>
        <p:spPr>
          <a:xfrm>
            <a:off x="142920" y="901800"/>
            <a:ext cx="3567240" cy="4752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18" name="TextBox 1"/>
          <p:cNvSpPr/>
          <p:nvPr/>
        </p:nvSpPr>
        <p:spPr>
          <a:xfrm>
            <a:off x="3851280" y="1413000"/>
            <a:ext cx="5041800" cy="32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У входа в пещеру были обнаружено захоронение женщины в вытянутом положении на спине, обильно посыпанное охрой. В могилу были положены два отщепа, скребок и фрагмент керамики… Одежда женщины была богато расшита ... Всего её костюм украшали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73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просверленных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клыка выдры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просверленных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зуба северного оленя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зуб медведя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2 резца лося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. Возраст женщины… 35-40 л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3851280" y="5300640"/>
            <a:ext cx="5041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но более удивительная находка ждала в глубине пещеры…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Стоянки  древних людей на территории реки Чусов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96840" y="4226040"/>
            <a:ext cx="601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 было погребение мужчины 40-45 лет. Отличная сохранность погребения удивила археологов. Мужчина лежал на спине в скорченном положении. Его сопровождал богатый погребальный инвентарь. Более богатого погребения каменного века уральским археологам еще никогда не удавалось найт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http://urbibl.ru/Stat/Arheologiya/images/pogreben_chusovoi_1.jpg"/>
          <p:cNvPicPr/>
          <p:nvPr/>
        </p:nvPicPr>
        <p:blipFill>
          <a:blip r:embed="rId1"/>
          <a:stretch/>
        </p:blipFill>
        <p:spPr>
          <a:xfrm>
            <a:off x="216000" y="835200"/>
            <a:ext cx="4680000" cy="3125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23" name="TextBox 2"/>
          <p:cNvSpPr/>
          <p:nvPr/>
        </p:nvSpPr>
        <p:spPr>
          <a:xfrm>
            <a:off x="6372360" y="4289400"/>
            <a:ext cx="25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раст захоро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6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Пиля – шаман эвенков. Автор: Фото из экспедиции И.М. Суслова 1926-27 гг."/>
          <p:cNvPicPr/>
          <p:nvPr/>
        </p:nvPicPr>
        <p:blipFill>
          <a:blip r:embed="rId2"/>
          <a:stretch/>
        </p:blipFill>
        <p:spPr>
          <a:xfrm>
            <a:off x="6110280" y="776160"/>
            <a:ext cx="2279520" cy="31845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800px-Russian_Federation_(orthographic_projection)_-_only_Crimea_disputed"/>
          <p:cNvPicPr/>
          <p:nvPr/>
        </p:nvPicPr>
        <p:blipFill>
          <a:blip r:embed="rId1"/>
          <a:stretch/>
        </p:blipFill>
        <p:spPr>
          <a:xfrm>
            <a:off x="111600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468360" y="26028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внейшие люди начали заселять территорию России  пример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 млн. ле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з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9"/>
          <p:cNvSpPr/>
          <p:nvPr/>
        </p:nvSpPr>
        <p:spPr>
          <a:xfrm>
            <a:off x="3276720" y="4005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3059280" y="3789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2"/>
          <p:cNvGrpSpPr/>
          <p:nvPr/>
        </p:nvGrpSpPr>
        <p:grpSpPr>
          <a:xfrm>
            <a:off x="5148360" y="4437000"/>
            <a:ext cx="3995640" cy="2421000"/>
            <a:chOff x="5148360" y="4437000"/>
            <a:chExt cx="3995640" cy="2421000"/>
          </a:xfrm>
        </p:grpSpPr>
        <p:pic>
          <p:nvPicPr>
            <p:cNvPr id="49" name="Picture 7" descr="img2"/>
            <p:cNvPicPr/>
            <p:nvPr/>
          </p:nvPicPr>
          <p:blipFill>
            <a:blip r:embed="rId2"/>
            <a:srcRect l="0" t="21669" r="19300" b="13787"/>
            <a:stretch/>
          </p:blipFill>
          <p:spPr>
            <a:xfrm>
              <a:off x="5184720" y="4483080"/>
              <a:ext cx="3959280" cy="237492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50" name="Text Box 11"/>
            <p:cNvSpPr/>
            <p:nvPr/>
          </p:nvSpPr>
          <p:spPr>
            <a:xfrm>
              <a:off x="5148360" y="4437000"/>
              <a:ext cx="39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агестан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14"/>
          <p:cNvGrpSpPr/>
          <p:nvPr/>
        </p:nvGrpSpPr>
        <p:grpSpPr>
          <a:xfrm>
            <a:off x="0" y="4437000"/>
            <a:ext cx="3348000" cy="2421000"/>
            <a:chOff x="0" y="4437000"/>
            <a:chExt cx="3348000" cy="2421000"/>
          </a:xfrm>
        </p:grpSpPr>
        <p:pic>
          <p:nvPicPr>
            <p:cNvPr id="52" name="Picture 8" descr="krasnodar-m"/>
            <p:cNvPicPr/>
            <p:nvPr/>
          </p:nvPicPr>
          <p:blipFill>
            <a:blip r:embed="rId3"/>
            <a:srcRect l="0" t="0" r="0" b="6629"/>
            <a:stretch/>
          </p:blipFill>
          <p:spPr>
            <a:xfrm>
              <a:off x="0" y="4508640"/>
              <a:ext cx="3348000" cy="234936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53" name="Text Box 13"/>
            <p:cNvSpPr/>
            <p:nvPr/>
          </p:nvSpPr>
          <p:spPr>
            <a:xfrm>
              <a:off x="0" y="4437000"/>
              <a:ext cx="33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Таманский п-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79280" y="33336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сваивающее хозяйств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вид деятельности людей, когда добывают то, что создано приро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2"/>
          <p:cNvGrpSpPr/>
          <p:nvPr/>
        </p:nvGrpSpPr>
        <p:grpSpPr>
          <a:xfrm>
            <a:off x="250920" y="2565360"/>
            <a:ext cx="4033800" cy="3370320"/>
            <a:chOff x="250920" y="2565360"/>
            <a:chExt cx="4033800" cy="3370320"/>
          </a:xfrm>
        </p:grpSpPr>
        <p:sp>
          <p:nvSpPr>
            <p:cNvPr id="56" name="Text Box 5"/>
            <p:cNvSpPr/>
            <p:nvPr/>
          </p:nvSpPr>
          <p:spPr>
            <a:xfrm>
              <a:off x="971640" y="2565360"/>
              <a:ext cx="27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охот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Картинки по запросу охота и собирательство древнего человека"/>
            <p:cNvPicPr/>
            <p:nvPr/>
          </p:nvPicPr>
          <p:blipFill>
            <a:blip r:embed="rId1"/>
            <a:stretch/>
          </p:blipFill>
          <p:spPr>
            <a:xfrm>
              <a:off x="250920" y="3095640"/>
              <a:ext cx="4033800" cy="284004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</p:grpSp>
      <p:grpSp>
        <p:nvGrpSpPr>
          <p:cNvPr id="58" name="Group 13"/>
          <p:cNvGrpSpPr/>
          <p:nvPr/>
        </p:nvGrpSpPr>
        <p:grpSpPr>
          <a:xfrm>
            <a:off x="4572000" y="2492280"/>
            <a:ext cx="4294080" cy="3432240"/>
            <a:chOff x="4572000" y="2492280"/>
            <a:chExt cx="4294080" cy="3432240"/>
          </a:xfrm>
        </p:grpSpPr>
        <p:sp>
          <p:nvSpPr>
            <p:cNvPr id="59" name="Text Box 6"/>
            <p:cNvSpPr/>
            <p:nvPr/>
          </p:nvSpPr>
          <p:spPr>
            <a:xfrm>
              <a:off x="5148360" y="2492280"/>
              <a:ext cx="30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обиратель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11" descr="drevneyshie-ludi"/>
            <p:cNvPicPr/>
            <p:nvPr/>
          </p:nvPicPr>
          <p:blipFill>
            <a:blip r:embed="rId2"/>
            <a:stretch/>
          </p:blipFill>
          <p:spPr>
            <a:xfrm>
              <a:off x="4572000" y="3068640"/>
              <a:ext cx="4294080" cy="285588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8"/>
          <p:cNvGrpSpPr/>
          <p:nvPr/>
        </p:nvGrpSpPr>
        <p:grpSpPr>
          <a:xfrm>
            <a:off x="250920" y="620640"/>
            <a:ext cx="8497800" cy="4451400"/>
            <a:chOff x="250920" y="620640"/>
            <a:chExt cx="8497800" cy="4451400"/>
          </a:xfrm>
        </p:grpSpPr>
        <p:pic>
          <p:nvPicPr>
            <p:cNvPr id="62" name="Picture 5" descr="Похожее изображение"/>
            <p:cNvPicPr/>
            <p:nvPr/>
          </p:nvPicPr>
          <p:blipFill>
            <a:blip r:embed="rId1"/>
            <a:stretch/>
          </p:blipFill>
          <p:spPr>
            <a:xfrm>
              <a:off x="1619280" y="1052640"/>
              <a:ext cx="5715000" cy="401940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63" name="Text Box 7"/>
            <p:cNvSpPr/>
            <p:nvPr/>
          </p:nvSpPr>
          <p:spPr>
            <a:xfrm>
              <a:off x="250920" y="620640"/>
              <a:ext cx="849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Люди пользовались огнем, но не умели его еще добыват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2"/>
          <p:cNvGrpSpPr/>
          <p:nvPr/>
        </p:nvGrpSpPr>
        <p:grpSpPr>
          <a:xfrm>
            <a:off x="1547640" y="189000"/>
            <a:ext cx="5761080" cy="4457520"/>
            <a:chOff x="1547640" y="189000"/>
            <a:chExt cx="5761080" cy="4457520"/>
          </a:xfrm>
        </p:grpSpPr>
        <p:pic>
          <p:nvPicPr>
            <p:cNvPr id="65" name="Picture 4" descr="images"/>
            <p:cNvPicPr/>
            <p:nvPr/>
          </p:nvPicPr>
          <p:blipFill>
            <a:blip r:embed="rId1"/>
            <a:stretch/>
          </p:blipFill>
          <p:spPr>
            <a:xfrm>
              <a:off x="1619280" y="620640"/>
              <a:ext cx="5688000" cy="402588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66" name="Text Box 5"/>
            <p:cNvSpPr/>
            <p:nvPr/>
          </p:nvSpPr>
          <p:spPr>
            <a:xfrm>
              <a:off x="1547640" y="189000"/>
              <a:ext cx="57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рудия труда из кам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AutoShape 8"/>
          <p:cNvSpPr/>
          <p:nvPr/>
        </p:nvSpPr>
        <p:spPr>
          <a:xfrm>
            <a:off x="2771640" y="4797360"/>
            <a:ext cx="331308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Каменный 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324000" y="5877000"/>
            <a:ext cx="244764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палеол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3203640" y="5877000"/>
            <a:ext cx="244800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мезол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1"/>
          <p:cNvSpPr/>
          <p:nvPr/>
        </p:nvSpPr>
        <p:spPr>
          <a:xfrm>
            <a:off x="6084720" y="5877000"/>
            <a:ext cx="244800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неол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3"/>
          <p:cNvSpPr/>
          <p:nvPr/>
        </p:nvSpPr>
        <p:spPr>
          <a:xfrm flipH="1">
            <a:off x="1692000" y="5373720"/>
            <a:ext cx="266364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4356000" y="537372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4356000" y="5373720"/>
            <a:ext cx="266400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0" y="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Стоянки  древних людей на территории Росси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rcRect l="15742" t="20466" r="12500" b="12586"/>
          <a:stretch/>
        </p:blipFill>
        <p:spPr>
          <a:xfrm>
            <a:off x="179280" y="1628640"/>
            <a:ext cx="8748720" cy="4897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76" name="Oval 8"/>
          <p:cNvSpPr/>
          <p:nvPr/>
        </p:nvSpPr>
        <p:spPr>
          <a:xfrm>
            <a:off x="1042920" y="400536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971640" y="3860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стён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179280" y="6206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ядом с городом Воронеж около 60 стоянок человека. Датируются временем палеолита (35-45 тыс. л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24"/>
          <p:cNvPicPr/>
          <p:nvPr/>
        </p:nvPicPr>
        <p:blipFill>
          <a:blip r:embed="rId2"/>
          <a:stretch/>
        </p:blipFill>
        <p:spPr>
          <a:xfrm>
            <a:off x="2627280" y="2565360"/>
            <a:ext cx="6095880" cy="3429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0" name="Picture 12" descr="46974542"/>
          <p:cNvPicPr/>
          <p:nvPr/>
        </p:nvPicPr>
        <p:blipFill>
          <a:blip r:embed="rId3"/>
          <a:stretch/>
        </p:blipFill>
        <p:spPr>
          <a:xfrm>
            <a:off x="2556000" y="1844640"/>
            <a:ext cx="6280200" cy="4175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1" name="Picture 13" descr="vxen7s4dvvw"/>
          <p:cNvPicPr/>
          <p:nvPr/>
        </p:nvPicPr>
        <p:blipFill>
          <a:blip r:embed="rId4"/>
          <a:stretch/>
        </p:blipFill>
        <p:spPr>
          <a:xfrm>
            <a:off x="2124000" y="1916280"/>
            <a:ext cx="6778800" cy="4066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2" name="Picture 14" descr="CBlfGwkW8AAX9Vt"/>
          <p:cNvPicPr/>
          <p:nvPr/>
        </p:nvPicPr>
        <p:blipFill>
          <a:blip r:embed="rId5"/>
          <a:stretch/>
        </p:blipFill>
        <p:spPr>
          <a:xfrm>
            <a:off x="2627280" y="1916280"/>
            <a:ext cx="5977080" cy="4130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3" name="Picture 15" descr="stoyanka-kostyonki-zhemchuzhina-russkogo-paleolita-3"/>
          <p:cNvPicPr/>
          <p:nvPr/>
        </p:nvPicPr>
        <p:blipFill>
          <a:blip r:embed="rId6"/>
          <a:stretch/>
        </p:blipFill>
        <p:spPr>
          <a:xfrm>
            <a:off x="2771640" y="1781280"/>
            <a:ext cx="5185080" cy="4302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4" name="Picture 16" descr="k14-2"/>
          <p:cNvPicPr/>
          <p:nvPr/>
        </p:nvPicPr>
        <p:blipFill>
          <a:blip r:embed="rId7"/>
          <a:stretch/>
        </p:blipFill>
        <p:spPr>
          <a:xfrm>
            <a:off x="3924360" y="2133720"/>
            <a:ext cx="4457520" cy="33433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0" y="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Стоянки  древних людей на территории Росси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rcRect l="15742" t="20466" r="12500" b="12586"/>
          <a:stretch/>
        </p:blipFill>
        <p:spPr>
          <a:xfrm>
            <a:off x="179280" y="1628640"/>
            <a:ext cx="8748720" cy="4897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87" name="Oval 6"/>
          <p:cNvSpPr/>
          <p:nvPr/>
        </p:nvSpPr>
        <p:spPr>
          <a:xfrm>
            <a:off x="1692360" y="3716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692360" y="3573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нги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0" y="26028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ядом с городом Владимир. Возраст стоянки 25 тыс. л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сновное занятие охота (мамонт, волк, бизон, олень, росомах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2"/>
          <a:srcRect l="35234" t="32293" r="7475" b="45076"/>
          <a:stretch/>
        </p:blipFill>
        <p:spPr>
          <a:xfrm>
            <a:off x="1835280" y="1773360"/>
            <a:ext cx="6984720" cy="1655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1" name="Picture 10" descr=""/>
          <p:cNvPicPr/>
          <p:nvPr/>
        </p:nvPicPr>
        <p:blipFill>
          <a:blip r:embed="rId3"/>
          <a:srcRect l="35234" t="54949" r="7475" b="21440"/>
          <a:stretch/>
        </p:blipFill>
        <p:spPr>
          <a:xfrm>
            <a:off x="1835280" y="4005360"/>
            <a:ext cx="6984720" cy="1727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2" name="Text Box 11"/>
          <p:cNvSpPr/>
          <p:nvPr/>
        </p:nvSpPr>
        <p:spPr>
          <a:xfrm>
            <a:off x="1763640" y="57340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хоронение в центре жилища, рядом с очагом, голова к голове – связано с культом плодород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"/>
          <p:cNvPicPr/>
          <p:nvPr/>
        </p:nvPicPr>
        <p:blipFill>
          <a:blip r:embed="rId4"/>
          <a:srcRect l="13971" t="32293" r="71265" b="45076"/>
          <a:stretch/>
        </p:blipFill>
        <p:spPr>
          <a:xfrm>
            <a:off x="179280" y="1844640"/>
            <a:ext cx="1511280" cy="1390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4" name="Picture 13" descr=""/>
          <p:cNvPicPr/>
          <p:nvPr/>
        </p:nvPicPr>
        <p:blipFill>
          <a:blip r:embed="rId5"/>
          <a:srcRect l="11520" t="58084" r="66319" b="19649"/>
          <a:stretch/>
        </p:blipFill>
        <p:spPr>
          <a:xfrm>
            <a:off x="324000" y="4869000"/>
            <a:ext cx="2268360" cy="1368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5" name="Picture 14" descr="9680337_900"/>
          <p:cNvPicPr/>
          <p:nvPr/>
        </p:nvPicPr>
        <p:blipFill>
          <a:blip r:embed="rId6"/>
          <a:srcRect l="48495" t="0" r="0" b="4643"/>
          <a:stretch/>
        </p:blipFill>
        <p:spPr>
          <a:xfrm>
            <a:off x="6227640" y="981000"/>
            <a:ext cx="2186280" cy="57103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0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0" y="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Стоянки  древних людей на территории Росси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rcRect l="15742" t="20466" r="12500" b="12586"/>
          <a:stretch/>
        </p:blipFill>
        <p:spPr>
          <a:xfrm>
            <a:off x="179280" y="1628640"/>
            <a:ext cx="8748720" cy="4897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8" name="Oval 8"/>
          <p:cNvSpPr/>
          <p:nvPr/>
        </p:nvSpPr>
        <p:spPr>
          <a:xfrm>
            <a:off x="2195640" y="4869000"/>
            <a:ext cx="21564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55640" y="50133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пова пещ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179280" y="6206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жный Урал (Башкирия). Датируются временем палеолита (36-25 тыс. л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images (1)"/>
          <p:cNvPicPr/>
          <p:nvPr/>
        </p:nvPicPr>
        <p:blipFill>
          <a:blip r:embed="rId2"/>
          <a:stretch/>
        </p:blipFill>
        <p:spPr>
          <a:xfrm>
            <a:off x="2987640" y="1773360"/>
            <a:ext cx="5688000" cy="4260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2" name="Picture 12" descr="kapova-peschera-04"/>
          <p:cNvPicPr/>
          <p:nvPr/>
        </p:nvPicPr>
        <p:blipFill>
          <a:blip r:embed="rId3"/>
          <a:stretch/>
        </p:blipFill>
        <p:spPr>
          <a:xfrm>
            <a:off x="2268360" y="1844640"/>
            <a:ext cx="6553440" cy="4249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3" name="Picture 13" descr="risunki-kapovoj-peshhery"/>
          <p:cNvPicPr/>
          <p:nvPr/>
        </p:nvPicPr>
        <p:blipFill>
          <a:blip r:embed="rId4"/>
          <a:stretch/>
        </p:blipFill>
        <p:spPr>
          <a:xfrm>
            <a:off x="2556000" y="1773360"/>
            <a:ext cx="6048360" cy="4314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0" y="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Стоянки  древних людей на территории Росси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rcRect l="15742" t="20466" r="12500" b="12586"/>
          <a:stretch/>
        </p:blipFill>
        <p:spPr>
          <a:xfrm>
            <a:off x="179280" y="1628640"/>
            <a:ext cx="8748720" cy="4897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06" name="Freeform 9"/>
          <p:cNvSpPr/>
          <p:nvPr/>
        </p:nvSpPr>
        <p:spPr>
          <a:xfrm>
            <a:off x="2200320" y="4600440"/>
            <a:ext cx="149040" cy="266760"/>
          </a:xfrm>
          <a:custGeom>
            <a:avLst/>
            <a:gdLst/>
            <a:ahLst/>
            <a:rect l="l" t="t" r="r" b="b"/>
            <a:pathLst>
              <a:path w="94" h="168">
                <a:moveTo>
                  <a:pt x="94" y="0"/>
                </a:moveTo>
                <a:cubicBezTo>
                  <a:pt x="85" y="26"/>
                  <a:pt x="87" y="54"/>
                  <a:pt x="76" y="79"/>
                </a:cubicBezTo>
                <a:cubicBezTo>
                  <a:pt x="68" y="97"/>
                  <a:pt x="38" y="114"/>
                  <a:pt x="23" y="124"/>
                </a:cubicBezTo>
                <a:cubicBezTo>
                  <a:pt x="1" y="156"/>
                  <a:pt x="0" y="141"/>
                  <a:pt x="14" y="16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8T18:59:45Z</dcterms:created>
  <dc:creator>Константин</dc:creator>
  <dc:description/>
  <dc:language>en-US</dc:language>
  <cp:lastModifiedBy>1</cp:lastModifiedBy>
  <dcterms:modified xsi:type="dcterms:W3CDTF">2020-12-27T21:30:17Z</dcterms:modified>
  <cp:revision>25</cp:revision>
  <dc:subject/>
  <dc:title>Древние люди на территории России</dc:title>
</cp:coreProperties>
</file>