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21.jpeg" ContentType="image/jpeg"/>
  <Override PartName="/ppt/media/chimes.wav" ContentType="audio/x-wav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0.png" ContentType="image/png"/>
  <Override PartName="/ppt/media/hammer.wav" ContentType="audio/x-wav"/>
  <Override PartName="/ppt/media/image2.jpeg" ContentType="image/jpeg"/>
  <Override PartName="/ppt/media/image36.jpeg" ContentType="image/jpeg"/>
  <Override PartName="/ppt/media/image18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6.jpeg" ContentType="image/jpeg"/>
  <Override PartName="/ppt/media/image33.jpeg" ContentType="image/jpeg"/>
  <Override PartName="/ppt/media/image27.png" ContentType="image/png"/>
  <Override PartName="/ppt/media/image28.jpeg" ContentType="image/jpeg"/>
  <Override PartName="/ppt/media/image34.jpeg" ContentType="image/jpeg"/>
  <Override PartName="/ppt/media/image29.jpeg" ContentType="image/jpeg"/>
  <Override PartName="/ppt/media/image35.jpeg" ContentType="image/jpeg"/>
  <Override PartName="/ppt/media/image13.wmf" ContentType="image/x-wmf"/>
  <Override PartName="/ppt/media/image6.wmf" ContentType="image/x-wmf"/>
  <Override PartName="/ppt/media/image24.jpeg" ContentType="image/jpeg"/>
  <Override PartName="/ppt/media/voltage.wav" ContentType="audio/x-wav"/>
  <Override PartName="/ppt/media/image3.jpeg" ContentType="image/jpeg"/>
  <Override PartName="/ppt/media/image14.png" ContentType="image/png"/>
  <Override PartName="/ppt/media/image5.jpeg" ContentType="image/jpeg"/>
  <Override PartName="/ppt/media/image11.wmf" ContentType="image/x-wmf"/>
  <Override PartName="/ppt/media/image23.jpeg" ContentType="image/jpeg"/>
  <Override PartName="/ppt/media/coin.wav" ContentType="audio/x-wav"/>
  <Override PartName="/ppt/media/image8.png" ContentType="image/png"/>
  <Override PartName="/ppt/media/image30.jpeg" ContentType="image/jpeg"/>
  <Override PartName="/ppt/media/image7.wmf" ContentType="image/x-wmf"/>
  <Override PartName="/ppt/media/image9.wmf" ContentType="image/x-wmf"/>
  <Override PartName="/ppt/media/wind.wav" ContentType="audio/x-wav"/>
  <Override PartName="/ppt/media/image16.png" ContentType="image/png"/>
  <Override PartName="/ppt/media/image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D68-66A1-4BF5-B140-2E989B67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902-E706-407C-8AA4-BF497E34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EA6-7CB3-41AB-82CD-6C8A86ED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613-A683-4790-B600-21E50C5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6C4-2DD6-491D-B053-8B1A916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DC4-7D2F-4A46-A878-67D645A5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384-E25B-4263-92AD-9215E67F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8EA-236B-4181-9B88-C86445E8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6C2-D12C-4FBD-8814-4AD71D4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468-DB27-412C-9186-CDC7A7D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69D-E6E5-4F4F-A256-997989E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756-0CCE-4826-B4BE-BCCBB75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9BC-3658-4F48-BFB8-E8D29807E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voltag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1342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даптация первоклассника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192720" cy="646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Адаптация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L00545_"/>
          <p:cNvPicPr/>
          <p:nvPr/>
        </p:nvPicPr>
        <p:blipFill>
          <a:blip r:embed="rId1"/>
          <a:stretch/>
        </p:blipFill>
        <p:spPr>
          <a:xfrm>
            <a:off x="2268360" y="3573360"/>
            <a:ext cx="496908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овременного первоклассни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спортного и физиологического развития. Сегодня нет ни одного класса, где был бы ровный контингент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и более свободное независимое поведение. Завышен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 словам и поступкам взрослых. Нет веры во всё сказанное ими. Авторитет – не то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 более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 большинстве своём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оллективные «дворовые» игры. Их заменили телевизоры, компьютеры. И как следствие - дети приходят в школу не обладая навыками общения со сверстниками, плохо понимают, как себя вести, какие существуют нормы поведения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ш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0089036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415"/>
          <p:cNvPicPr/>
          <p:nvPr/>
        </p:nvPicPr>
        <p:blipFill>
          <a:blip r:embed="rId2"/>
          <a:stretch/>
        </p:blipFill>
        <p:spPr>
          <a:xfrm>
            <a:off x="3132000" y="4797360"/>
            <a:ext cx="273528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89000"/>
            <a:ext cx="86868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</a:t>
            </a:r>
            <a:r>
              <a:rPr b="0" lang="ru-RU" sz="2600" spc="-1" strike="noStrike" u="sng">
                <a:solidFill>
                  <a:srgbClr val="7030a0"/>
                </a:solidFill>
                <a:uFillTx/>
                <a:latin typeface="Bookman Old Style"/>
              </a:rPr>
              <a:t>бесполезны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33300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1.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облемы здоровья связанные с изменением статуса ребёнка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йте режим дня. Укладывайте спать в 21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равильной посадкой во время выполнения домашних задан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е позвоночника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лноценного питания. Витаминизирован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ёнка, максимальное развитие двигательной активности (кружки, спортивные се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2.</a:t>
              </a:r>
              <a:br>
                <a:rPr sz="2500"/>
              </a:b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Важные  у с л о в и я  психологической комфортности в жизни первоклассника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по отношению к ребенку со стороны всех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самооценки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даптации к школе (чем ниже самооценка, тем больше трудностей у ребенка в школ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к школе, прожитому школьному д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ребятами по классу и возможность их общения после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третьих лиц (бабушек, дедушек, сверстник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темперамента в период адаптации к школьному обуч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контроля за его учебной деятель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 ребенка не только за учебные успехи, но и моральное стимулирование его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амоконтроля и самооценки, самодостато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-6480" y="182520"/>
            <a:ext cx="9156960" cy="1152720"/>
            <a:chOff x="-6480" y="182520"/>
            <a:chExt cx="9156960" cy="115272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182520"/>
              <a:ext cx="91569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0" y="1890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авила предложенные известным педагогом и психологом 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Симоном Соловейчиком:</a:t>
              </a:r>
              <a:r>
                <a:rPr b="1" lang="ru-RU" sz="3600" spc="-1" strike="noStrike">
                  <a:solidFill>
                    <a:srgbClr val="f2f2f2"/>
                  </a:solidFill>
                  <a:latin typeface="Cambri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571760"/>
            <a:ext cx="6553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тнимай чужого, но и свое не отда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просили – дай, пытаются отнять – старайся защит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ерись без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Зовут играть – иди, не зовут – спроси разрешения играть вместе, это не сты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грай честно, не подводи своих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разни никого, не канючь, не выпрашивай ничего. Два раза ни у кого ничего не пр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з-за отметок не плачь, будь гордым. С учителем из-за отметок не спорь и на учителя за отметки не обижайся. Старайся все делать вовремя и думай о хороших результатах, они обязательно у тебя бу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ябедничай и не наговаривай ни на 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Старайся быть аккура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чаще говори: давай дружить, давай играть, давай вместе пойде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 о м н и: ты не лучше всех, ты не хуже всех! Ты – неповторимый для самого себя, родителей, учителей, друз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963800" cy="35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881920" cy="10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174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аптация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836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тественное состояние человека, проявляющееся в приспособлении (привыкании) к новым условиям жизни, новой деятельности, новым социальным контактам, новым социальным ро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137741.jpg"/>
          <p:cNvPicPr/>
          <p:nvPr/>
        </p:nvPicPr>
        <p:blipFill>
          <a:blip r:embed="rId1"/>
          <a:stretch/>
        </p:blipFill>
        <p:spPr>
          <a:xfrm>
            <a:off x="4788000" y="1268280"/>
            <a:ext cx="40510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чемуч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Школьник, не задающий вопросов, - это повод для родительской трев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Любознательность создаёт учёных». Надо учить задавать вопросы, прежде всего самому себе, использовать словари и т.п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емья должны формировать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льт интелл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 создании домашней библиотеки, в интересных беседах, спорах. Объяснить ребёнку, что бесполезных знаний нет: всякое знание приносит пользу, только одно – сегодня, другое – завтра. Нужно всё начинать делать вместе с ребён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туацию размыш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нализировать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работу. Не указывать на совершённую ошибку в работе, а направлять его внимание на поиск её. Необходим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уация успех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а удовлетворяет потребность ребёнка в самоуважении и повышении престижа. Всегда можно найти какие-то успехи ребёнка, сравнивая его предыдущие успехи, отмечая его продвижение вперёд. Но нельзя сравнивать их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носить их на личность самого ребён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 как личность всегда хороший и желанный для своих родителей. Нельзя сказать: «Ты всегда неаккуратный», а нужно: «Вот эта часть работы сделана не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аще ставить себя на место своего ребёнка и вспоминать себя в его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динаково не правы как те родители, которые предоставляют первоклашке полную самостоятельность, так и те, которые</a:t>
            </a:r>
            <a:br>
              <a:rPr sz="1800"/>
            </a:b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станавливают тотальный контроль за всей его деятельностью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Уроки задают тебе, ты их и делай», - заявляет усталая мама, приходя с работы поздним вечером. Услышав подобную фразу, ребенок ощущает ваше глубокое равнодушие к своим нужд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у, что нам сегодня задано?» - спрашивает бабушка, распаковывая портфель и листая страницы учебника. В такой ситуации первоклашка скоро придет к выводу, что учеба больше нужна взрослым, и они сами все сделают, нечего даже напряг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вариант – сидеть рядом с ребенком, наблюдать за его работой, быть готовым помочь, но не вмешиваться без его просьбы. После выполнения задания спокойно спросите ребенка, доволен ли он своей работой, что получилось хорошо, а что – не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роки нужно садиться через час-полтора после возвращения из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гда ребенок уже слегка отдохнул, но еще не успел перевозбудиться от домашних игр и развлечен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жду выполнением уроков следует делать перерыв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15-20 минут занятий – 5 минут отдых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дуйте устные и письменные зад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чинайте приготовление уроков с самых трудоемких или тех, что даются ученику тяжелее остальны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чень важно приучить ребенка к самоконтрол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осле выполнения задания попросите сына или дочь проверить написанное. Если он сам нашел и исправил ошибку – обязательно похвалите! Лишь когда самопроверка войдет в привычку, можно прекратить напоминать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ребенка не должны вас раздражать, они должны удивля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те ребенку почувствовать вашу уверенность в его успехе. Не ругайте за ошибки, не восклицайте: «Мы столько раз писали это слово, а ты опять пишешь неправильно!» Лучше удивитесь: «Ой! Как же это получилось?»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оставьте вопрос так: «Что сегодня было хорошего? Что было самое интересное?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Ты сегодня так быстро и хорошо все сделал!» Радуйтесь его успехам и новым знаниям: «Неужели ты уже знаешь, как решать такие сложные задачи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юч к успеху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ние трудностей ребенка и спокойная родительская уверенность в его возможностя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такой поддержкой ребенок будет чувствовать себя в безопасности и легче справится с любыми сложностя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 шепните ребенку на ушко: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f6f1"/>
                </a:solidFill>
                <a:latin typeface="Georgia"/>
              </a:rPr>
              <a:t>Необходимость укрепления психики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его мышления и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йтрализация страхов и негативных пережи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День-семьи"/>
          <p:cNvPicPr/>
          <p:nvPr/>
        </p:nvPicPr>
        <p:blipFill>
          <a:blip r:embed="rId1"/>
          <a:stretch/>
        </p:blipFill>
        <p:spPr>
          <a:xfrm>
            <a:off x="5580000" y="981000"/>
            <a:ext cx="3168720" cy="26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95"/>
          <p:cNvPicPr/>
          <p:nvPr/>
        </p:nvPicPr>
        <p:blipFill>
          <a:blip r:embed="rId2"/>
          <a:stretch/>
        </p:blipFill>
        <p:spPr>
          <a:xfrm>
            <a:off x="1332000" y="436572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ola02"/>
          <p:cNvPicPr/>
          <p:nvPr/>
        </p:nvPicPr>
        <p:blipFill>
          <a:blip r:embed="rId3"/>
          <a:stretch/>
        </p:blipFill>
        <p:spPr>
          <a:xfrm>
            <a:off x="6084720" y="422100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lcogolizm"/>
          <p:cNvPicPr/>
          <p:nvPr/>
        </p:nvPicPr>
        <p:blipFill>
          <a:blip r:embed="rId4"/>
          <a:stretch/>
        </p:blipFill>
        <p:spPr>
          <a:xfrm>
            <a:off x="4140360" y="4292640"/>
            <a:ext cx="16459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уместна тревог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первоначально непосредственный интерес к школе, заня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ется, когда не надо делать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от времени хочет остаться дома, пропусти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ыражает недовольство учителем или опасения по его по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е отсутствие интереса к учё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т уроки только «из-под пал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елание ходить в школу и вообще учиться выражается постоянно и открыто в формах активного протеста, либо симптомами болезней (кашель, насморк, рвота, понос), которые кончаются сразу после того, как разрешат остаться дома, либо, что гораздо реже, простой симуляцией этих симпто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 и безынициативность, когда дело касается школы и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окоиться нужно тог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огда нежелание учиться явля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ы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ает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тношение ребёнка к шко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адаптаци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ысокие адаптационные результаты при адекватных условиях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избыточный уровень; высокие результаты адаптации, достигнутые благодаря значительному психическому и моральному напряжению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обусловлен недостаточной требовательностью к себ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задаптаци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плохое эмоциональное самочувствие; невротические реакции (неумение приспосабливаться к школьной жизн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ола – это не страш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сть и неуверенность перед школой возникает у большинства детей младшего школьного возраста, многие не хотят идти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учше чем родители уладить эту проблему никто не с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ом поднимите ребёнка пораньше, чтобы неторопливо, спокойно собраться в школу. Помните: спешка усиливает трев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райтесь накормить ребёнка его любимым блюдом. Вкусная, съеденная с удовольствием пища подним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, в которую вы нарядили ребёнка, должна нравиться не только вам, но и ему самому, при этом она должна быть максимально удобной, чтобы он не чувствовал себя в ней неловко. Когда человек себе нравится, он чувствует себя уве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ребёнок приходит с хорошими отметками, хвалите его. А в конце четверти устройте с ним праздник. Играйте с ним дома в «Школу», пусть он побудит учителем, и вы сможете увидеть его отношение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айте возникшие трудности совместно с учителем, и не умалчивайте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сть школа для вашего ребёнка будет дверью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а тоже не 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ритетная цель современной школы – личностно-ориентированное об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построения такого обуч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все психические процессы, которые обеспечат полноценное образ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Развить коммуникативную деятельность, умение общаться и сотрудничать с другими люд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учебную деятельность. Научить ребёнка уч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уметь принимать учебную задач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находить способы её реш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отбирать нужные сре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контролировать свои шаг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самому оценивать полученные результ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юсы даёт такое обучени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у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а, воли, чувств, формирование потребности учиться; радость от свободного умственного труда, творчества и общения; самостоятельность, уверенность, ответственность; стремление к сотрудничест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ю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згляда на образование ученика; технологию развития личности учащихся, их познавательных и созидательных способностей; расширение возможностей для твор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ренность в успешном будущем своего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навыками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организационных навыков ( 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87280" y="51577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ок должен «научиться уч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н делать то, что ему не всегда хоч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ен контролировать своё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_"/>
          <p:cNvPicPr/>
          <p:nvPr/>
        </p:nvPicPr>
        <p:blipFill>
          <a:blip r:embed="rId1"/>
          <a:stretch/>
        </p:blipFill>
        <p:spPr>
          <a:xfrm>
            <a:off x="6516720" y="4724280"/>
            <a:ext cx="2255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b81db69fee3010142fa7d693aa37006b.jpg"/>
          <p:cNvPicPr/>
          <p:nvPr/>
        </p:nvPicPr>
        <p:blipFill>
          <a:blip r:embed="rId1"/>
          <a:stretch/>
        </p:blipFill>
        <p:spPr>
          <a:xfrm>
            <a:off x="6300720" y="450864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адаптационного пер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360"/>
            <a:ext cx="79930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ть психолого – педагогические условия, обеспечивающие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благоприятное те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даптации первоклассников к школьному обу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3" descr="1252933915_1252300422-shutterstock_104901313.jpg"/>
          <p:cNvPicPr/>
          <p:nvPr/>
        </p:nvPicPr>
        <p:blipFill>
          <a:blip r:embed="rId1"/>
          <a:srcRect l="14612" t="-1992" r="0" b="0"/>
          <a:stretch/>
        </p:blipFill>
        <p:spPr>
          <a:xfrm>
            <a:off x="6659640" y="4149720"/>
            <a:ext cx="2054160" cy="21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сснику в уч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800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пласти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84935"/>
              <a:gd name="adj2" fmla="val 48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нож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24000" y="476280"/>
            <a:ext cx="2519280" cy="2087640"/>
          </a:xfrm>
          <a:prstGeom prst="cloudCallout">
            <a:avLst>
              <a:gd name="adj1" fmla="val 35379"/>
              <a:gd name="adj2" fmla="val -151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бумагой. Складывание (оригами). Плетение. Апплик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5" name="Picture 6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9" name="Picture 10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плодотворной работы и успешной уч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чало обучения в школе – один из наиболее сложных и ответственных моментов, как в социально-психологическом, так и в физиологическом пл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кола требует от ребёнка максимальной мобилизации интеллектуальных и физическ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60644604_deti"/>
          <p:cNvPicPr/>
          <p:nvPr/>
        </p:nvPicPr>
        <p:blipFill>
          <a:blip r:embed="rId1"/>
          <a:stretch/>
        </p:blipFill>
        <p:spPr>
          <a:xfrm>
            <a:off x="6443640" y="404640"/>
            <a:ext cx="237024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B66E1E8-C3DD-4FA1-B59B-3200A6BB7049_mw800_mh600_s"/>
          <p:cNvPicPr/>
          <p:nvPr/>
        </p:nvPicPr>
        <p:blipFill>
          <a:blip r:embed="rId2"/>
          <a:stretch/>
        </p:blipFill>
        <p:spPr>
          <a:xfrm>
            <a:off x="5148360" y="4005360"/>
            <a:ext cx="367164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уется самооценка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приспособления к требованиям школы, существует у 1-классников. У одних он длиться 1 месяц, у других 1 четверть, у 3-их растягивается на 1-ый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: учимся составлять рас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04000" y="1859040"/>
            <a:ext cx="327636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79280" y="1488960"/>
            <a:ext cx="568800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84720" y="1211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03f5"/>
                </a:solidFill>
                <a:latin typeface="Arial"/>
              </a:rPr>
              <a:t>Образец:</a:t>
            </a: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326280" y="4365720"/>
            <a:ext cx="22064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5075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ошиб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ошибка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Хорош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 1 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Нужно  быть вниматель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324000" y="836640"/>
            <a:ext cx="1285560" cy="11430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95280" y="2133720"/>
            <a:ext cx="128592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68360" y="3645000"/>
            <a:ext cx="122400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ласс: учимся оценивать свое эмо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390672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6443640" cy="3246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 flipV="1">
            <a:off x="1979280" y="5778360"/>
            <a:ext cx="647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1979640" y="4194000"/>
            <a:ext cx="720720" cy="432000"/>
          </a:xfrm>
          <a:prstGeom prst="line">
            <a:avLst/>
          </a:prstGeom>
          <a:ln w="5724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689360" y="836640"/>
            <a:ext cx="44546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семей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ые особенности ли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benok-uchitsya"/>
          <p:cNvPicPr/>
          <p:nvPr/>
        </p:nvPicPr>
        <p:blipFill>
          <a:blip r:embed="rId1"/>
          <a:stretch/>
        </p:blipFill>
        <p:spPr>
          <a:xfrm>
            <a:off x="5940360" y="4724280"/>
            <a:ext cx="27370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2:21:49Z</dcterms:created>
  <dc:creator>viki</dc:creator>
  <dc:description/>
  <dc:language>en-US</dc:language>
  <cp:lastModifiedBy>User</cp:lastModifiedBy>
  <dcterms:modified xsi:type="dcterms:W3CDTF">2015-09-05T07:17:43Z</dcterms:modified>
  <cp:revision>10</cp:revision>
  <dc:subject/>
  <dc:title>Адаптация первоклассника в школе</dc:title>
</cp:coreProperties>
</file>