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cashreg.wav" ContentType="audio/x-wav"/>
  <Override PartName="/ppt/media/image21.jpeg" ContentType="image/jpeg"/>
  <Override PartName="/ppt/media/chimes.wav" ContentType="audio/x-wav"/>
  <Override PartName="/ppt/media/image19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20.png" ContentType="image/png"/>
  <Override PartName="/ppt/media/hammer.wav" ContentType="audio/x-wav"/>
  <Override PartName="/ppt/media/image2.jpeg" ContentType="image/jpeg"/>
  <Override PartName="/ppt/media/image36.jpeg" ContentType="image/jpeg"/>
  <Override PartName="/ppt/media/image18.png" ContentType="image/pn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6.jpeg" ContentType="image/jpeg"/>
  <Override PartName="/ppt/media/image33.jpeg" ContentType="image/jpeg"/>
  <Override PartName="/ppt/media/image27.png" ContentType="image/png"/>
  <Override PartName="/ppt/media/image28.jpeg" ContentType="image/jpeg"/>
  <Override PartName="/ppt/media/image34.jpeg" ContentType="image/jpeg"/>
  <Override PartName="/ppt/media/image29.jpeg" ContentType="image/jpeg"/>
  <Override PartName="/ppt/media/image35.jpeg" ContentType="image/jpeg"/>
  <Override PartName="/ppt/media/image13.wmf" ContentType="image/x-wmf"/>
  <Override PartName="/ppt/media/image6.wmf" ContentType="image/x-wmf"/>
  <Override PartName="/ppt/media/image24.jpeg" ContentType="image/jpeg"/>
  <Override PartName="/ppt/media/voltage.wav" ContentType="audio/x-wav"/>
  <Override PartName="/ppt/media/image3.jpeg" ContentType="image/jpeg"/>
  <Override PartName="/ppt/media/image14.png" ContentType="image/png"/>
  <Override PartName="/ppt/media/image5.jpeg" ContentType="image/jpeg"/>
  <Override PartName="/ppt/media/image11.wmf" ContentType="image/x-wmf"/>
  <Override PartName="/ppt/media/image23.jpeg" ContentType="image/jpeg"/>
  <Override PartName="/ppt/media/coin.wav" ContentType="audio/x-wav"/>
  <Override PartName="/ppt/media/image8.png" ContentType="image/png"/>
  <Override PartName="/ppt/media/image30.jpeg" ContentType="image/jpeg"/>
  <Override PartName="/ppt/media/image7.wmf" ContentType="image/x-wmf"/>
  <Override PartName="/ppt/media/image9.wmf" ContentType="image/x-wmf"/>
  <Override PartName="/ppt/media/wind.wav" ContentType="audio/x-wav"/>
  <Override PartName="/ppt/media/image16.png" ContentType="image/png"/>
  <Override PartName="/ppt/media/image1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F37-6254-4D59-B2C6-ECB78DB7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2145-F15D-4800-BBA4-E822C03C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2DC4-D3BE-42C3-A1B5-75A2DDB3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2EA-8DB9-4D26-8D31-11CBB705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D67-FDAC-43EB-89EF-8965A3F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F3F-2137-4340-B7AA-CF0DD553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507-252B-4F88-A9DB-CA05052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6CA-B3F6-4409-ACFF-0D1D11CE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119-A5AB-4B50-9A10-D634BF37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E36-D995-475F-A60B-00B7E02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E97-795E-4C44-990D-4C2C780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CE2-E36E-45B9-91F0-BB17C681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109-31F2-419B-9D36-6E8702A49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voltage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hammer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813420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даптация первоклассника в шко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2852280"/>
            <a:ext cx="6192720" cy="6462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Arial"/>
              </a:rPr>
              <a:t>Адаптация. Ч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BL00545_"/>
          <p:cNvPicPr/>
          <p:nvPr/>
        </p:nvPicPr>
        <p:blipFill>
          <a:blip r:embed="rId1"/>
          <a:stretch/>
        </p:blipFill>
        <p:spPr>
          <a:xfrm>
            <a:off x="2268360" y="3573360"/>
            <a:ext cx="4969080" cy="27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diamond(out)" transition="out">
                                      <p:cBhvr additive="repl">
                                        <p:cTn id="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современного первоклассник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ьшие различ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аспортного и физиологического развития. Сегодня нет ни одного класса, где был бы ровный контингент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детей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ширная информирова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льнее ощущение своего «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и более свободное независимое поведение. Завышен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ровень самооце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верчиво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к словам и поступкам взрослых. Нет веры во всё сказанное ими. Авторитет – не то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современных детей более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лабое здоров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 большинстве своём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стали игра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в коллективные «дворовые» игры. Их заменили телевизоры, компьютеры. И как следствие - дети приходят в школу не обладая навыками общения со сверстниками, плохо понимают, как себя вести, какие существуют нормы поведения в обще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ш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j0089036"/>
          <p:cNvPicPr/>
          <p:nvPr/>
        </p:nvPicPr>
        <p:blipFill>
          <a:blip r:embed="rId1"/>
          <a:stretch/>
        </p:blipFill>
        <p:spPr>
          <a:xfrm>
            <a:off x="1692360" y="1700280"/>
            <a:ext cx="5543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9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1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1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«Как прожи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 </a:t>
            </a:r>
            <a:r>
              <a:rPr b="0" lang="ru-RU" sz="6000" spc="-1" strike="noStrike">
                <a:solidFill>
                  <a:srgbClr val="a2068f"/>
                </a:solidFill>
                <a:latin typeface="Bookman Old Style"/>
              </a:rPr>
              <a:t>хотя бы один день без нервотрёп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415"/>
          <p:cNvPicPr/>
          <p:nvPr/>
        </p:nvPicPr>
        <p:blipFill>
          <a:blip r:embed="rId2"/>
          <a:stretch/>
        </p:blipFill>
        <p:spPr>
          <a:xfrm>
            <a:off x="3132000" y="4797360"/>
            <a:ext cx="2735280" cy="1809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Будите ребенка спокойно, улыбайтесь е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торопитесь. Умение рассчитать время – Ваша задача. Помните, что ребенок не виноват в том, что Вы опаздывает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Забудьте фразу: «Что ты сегодня получил(а)?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стречая ребенка из школы, не засыпайте его вопросами, дайте ему отдохнуть, расслабиться, вспомните, как Вы чувствуете себя после рабочего д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Если Вы видите, что ребенок чем-то огорчен, не пытайте его, пусть успокоится и тогда расскажет все 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189000"/>
            <a:ext cx="8686800" cy="58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После школы не торопитесь садиться за уроки. Ребенку необходимо отдохнуть 2 часа. И помните – занятия поздним вечером – </a:t>
            </a:r>
            <a:r>
              <a:rPr b="0" lang="ru-RU" sz="2600" spc="-1" strike="noStrike" u="sng">
                <a:solidFill>
                  <a:srgbClr val="7030a0"/>
                </a:solidFill>
                <a:uFillTx/>
                <a:latin typeface="Bookman Old Style"/>
              </a:rPr>
              <a:t>бесполезны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Не заставляйте делать все задания сразу: 20 минут занятий – 10 минут переры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о время приготовления домашнего задания не сидите «над душой». Дайте ребенку работать самому. Если ему понадобится Ваша помощь – наберитесь терпения: спокойный тон и поддержка необходи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Bookman Old Style"/>
              </a:rPr>
              <a:t>В общении с ребенком старайтесь избегать условий: «Если ты это сделаешь, то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04920" y="333000"/>
            <a:ext cx="8686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 течение дня найдите хотя бы 40 минут и полностью посвятите их ребе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Выбирайте единую тактику общения с ребенком всех в семье. Все разногласия решайте без н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Будьте внимательны к жалобам ребенка на головную боль, усталость, плохое самочувствие. Чаще всего это объективные показатели </a:t>
            </a:r>
            <a:r>
              <a:rPr b="0" lang="ru-RU" sz="2800" spc="-1" strike="noStrike">
                <a:solidFill>
                  <a:srgbClr val="ff0000"/>
                </a:solidFill>
                <a:latin typeface="Bookman Old Style"/>
              </a:rPr>
              <a:t>пере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Bookman Old Style"/>
              </a:rPr>
              <a:t>Успокойте ребенка перед сном, снимите напряжение, накопившееся за д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5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1.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облемы здоровья связанные с изменением статуса ребёнка: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айте режим дня. Укладывайте спать в 21.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правильной посадкой во время выполнения домашних заданий, соблюдение светового реж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близорукости, искривление позвоночника тренировка мелких мышц кистей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полноценного питания. Витаминизированное пит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та родителей о закаливании ребёнка, максимальное развитие двигательной активности (кружки, спортивные сек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самостоятельности и ответственности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2"/>
          <p:cNvGrpSpPr/>
          <p:nvPr/>
        </p:nvGrpSpPr>
        <p:grpSpPr>
          <a:xfrm>
            <a:off x="0" y="212760"/>
            <a:ext cx="9144000" cy="1146240"/>
            <a:chOff x="0" y="212760"/>
            <a:chExt cx="9144000" cy="1146240"/>
          </a:xfrm>
        </p:grpSpPr>
        <p:pic>
          <p:nvPicPr>
            <p:cNvPr id="89" name="Rectangle 2" descr=""/>
            <p:cNvPicPr/>
            <p:nvPr/>
          </p:nvPicPr>
          <p:blipFill>
            <a:blip r:embed="rId1"/>
            <a:stretch/>
          </p:blipFill>
          <p:spPr>
            <a:xfrm>
              <a:off x="0" y="212760"/>
              <a:ext cx="914400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2142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Памятка для родителей №2.</a:t>
              </a:r>
              <a:br>
                <a:rPr sz="2500"/>
              </a:br>
              <a:r>
                <a:rPr b="1" lang="ru-RU" sz="2500" spc="-1" strike="noStrike">
                  <a:solidFill>
                    <a:srgbClr val="000000"/>
                  </a:solidFill>
                  <a:latin typeface="Cambria"/>
                </a:rPr>
                <a:t>Важные  у с л о в и я  психологической комфортности в жизни первоклассника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ние благоприятного психологического климата по отношению к ребенку со стороны всех членов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оль самооценки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адаптации к школе (чем ниже самооценка, тем больше трудностей у ребенка в школ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тереса к школе, прожитому школьному дн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е знакомство с ребятами по классу и возможность их общения после шк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пустимость физических мер воздействия, запугивания, критики в адрес ребенка, особенно в присутствии третьих лиц (бабушек, дедушек, сверстников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лючение таких мер наказания, как лишение удовольствий, физические и психические наказ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темперамента в период адаптации к школьному обуч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 ребенку самостоятельности в учебной работе и организация контроля за его учебной деятельност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ение ребенка не только за учебные успехи, но и моральное стимулирование его дост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самоконтроля и самооценки, самодостаточност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-6480" y="182520"/>
            <a:ext cx="9156960" cy="1152720"/>
            <a:chOff x="-6480" y="182520"/>
            <a:chExt cx="9156960" cy="115272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-6480" y="182520"/>
              <a:ext cx="915696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4"/>
            <p:cNvSpPr/>
            <p:nvPr/>
          </p:nvSpPr>
          <p:spPr>
            <a:xfrm>
              <a:off x="0" y="18900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Правила предложенные известным педагогом и психологом </a:t>
              </a:r>
              <a:br>
                <a:rPr sz="2900"/>
              </a:br>
              <a:r>
                <a:rPr b="1" lang="ru-RU" sz="2900" spc="-1" strike="noStrike">
                  <a:solidFill>
                    <a:srgbClr val="000000"/>
                  </a:solidFill>
                  <a:latin typeface="Cambria"/>
                </a:rPr>
                <a:t>Симоном Соловейчиком:</a:t>
              </a:r>
              <a:r>
                <a:rPr b="1" lang="ru-RU" sz="3600" spc="-1" strike="noStrike">
                  <a:solidFill>
                    <a:srgbClr val="f2f2f2"/>
                  </a:solidFill>
                  <a:latin typeface="Cambri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571760"/>
            <a:ext cx="6553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отнимай чужого, но и свое не отдав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просили – дай, пытаются отнять – старайся защит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ерись без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Зовут играть – иди, не зовут – спроси разрешения играть вместе, это не сты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грай честно, не подводи своих товари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дразни никого, не канючь, не выпрашивай ничего. Два раза ни у кого ничего не пр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Из-за отметок не плачь, будь гордым. С учителем из-за отметок не спорь и на учителя за отметки не обижайся. Старайся все делать вовремя и думай о хороших результатах, они обязательно у тебя буд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Не ябедничай и не наговаривай ни на 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Старайся быть аккура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очаще говори: давай дружить, давай играть, давай вместе пойдем до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* П о м н и: ты не лучше всех, ты не хуже всех! Ты – неповторимый для самого себя, родителей, учителей, друз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948360" y="2060640"/>
            <a:ext cx="1963800" cy="35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255600" y="450720"/>
            <a:ext cx="8881920" cy="1060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61748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сячу раз говорили тебе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Сколько раз надо повто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 о чем ты только думаеш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Неужели так трудно запомнить!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Ты становишься невыносимы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Отстань, мне некогд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Иди, сам подумай (или читай еще раз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Почему Лена (Вася, Петя и т.д.) такая умница, а ты  - нет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даптация-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836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стественное состояние человека, проявляющееся в приспособлении (привыкании) к новым условиям жизни, новой деятельности, новым социальным контактам, новым социальным роля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137741.jpg"/>
          <p:cNvPicPr/>
          <p:nvPr/>
        </p:nvPicPr>
        <p:blipFill>
          <a:blip r:embed="rId1"/>
          <a:stretch/>
        </p:blipFill>
        <p:spPr>
          <a:xfrm>
            <a:off x="4788000" y="1268280"/>
            <a:ext cx="40510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320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ы у меня умниц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здорово, молодец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Как хорошо у тебя получилось, научи мен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пасибо т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Если бы ты не помог (помогла), мне бы одной не справи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еты родителя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87138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раться, чтобы ребёнок дольше оставался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почемучкой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Школьник, не задающий вопросов, - это повод для родительской трево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Любознательность создаёт учёных». Надо учить задавать вопросы, прежде всего самому себе, использовать словари и т.п. Родители должны провоцировать задавание вопросов и ни в коем случае не отмахиваться от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емья должны формировать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ульт интелл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 создании домашней библиотеки, в интересных беседах, спорах. Объяснить ребёнку, что бесполезных знаний нет: всякое знание приносит пользу, только одно – сегодня, другое – завтра. Нужно всё начинать делать вместе с ребён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ставить ребёнка в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итуацию размыш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мение размышлять сформирует у него представление о последствиях каждого действия. Задача взрослого не столько в том, чтобы отвечать на вопрос ребёнка, сколько в том, чтобы побудить его думать, предлагать, выбирать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но научить ребёнка 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нализировать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ю работу. Не указывать на совершённую ошибку в работе, а направлять его внимание на поиск её. Необходим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вивать внимание и память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приятно действует на него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туация успех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а удовлетворяет потребность ребёнка в самоуважении и повышении престижа. Всегда можно найти какие-то успехи ребёнка, сравнивая его предыдущие успехи, отмечая его продвижение вперёд. Но нельзя сравнивать их с другими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ценивая результаты деятельности ребёнка,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переносить их на личность самого ребёнка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н как личность всегда хороший и желанный для своих родителей. Нельзя сказать: «Ты всегда неаккуратный», а нужно: «Вот эта часть работы сделана неаккуратно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чаще ставить себя на место своего ребёнка и вспоминать себя в его возрас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1565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Одинаково не правы как те родители, которые предоставляют первоклашке полную самостоятельность, так и те, которые</a:t>
            </a:r>
            <a:br>
              <a:rPr sz="1800"/>
            </a:b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устанавливают тотальный контроль за всей его деятельностью</a:t>
            </a:r>
            <a:r>
              <a:rPr b="1" lang="ru-RU" sz="2800" spc="-1" strike="noStrike">
                <a:solidFill>
                  <a:srgbClr val="0066cc"/>
                </a:solidFill>
                <a:latin typeface="Arial"/>
              </a:rPr>
              <a:t>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Уроки задают тебе, ты их и делай», - заявляет усталая мама, приходя с работы поздним вечером. Услышав подобную фразу, ребенок ощущает ваше глубокое равнодушие к своим нужд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Ну, что нам сегодня задано?» - спрашивает бабушка, распаковывая портфель и листая страницы учебника. В такой ситуации первоклашка скоро придет к выводу, что учеба больше нужна взрослым, и они сами все сделают, нечего даже напряга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чший вариант – сидеть рядом с ребенком, наблюдать за его работой, быть готовым помочь, но не вмешиваться без его просьбы. После выполнения задания спокойно спросите ребенка, доволен ли он своей работой, что получилось хорошо, а что – не оч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уроки нужно садиться через час-полтора после возвращения из школ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гда ребенок уже слегка отдохнул, но еще не успел перевозбудиться от домашних игр и развлечен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жду выполнением уроков следует делать перерыв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15-20 минут занятий – 5 минут отдыха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дуйте устные и письменные задания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Начинайте приготовление уроков с самых трудоемких или тех, что даются ученику тяжелее остальных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чень важно приучить ребенка к самоконтролю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После выполнения задания попросите сына или дочь проверить написанное. Если он сам нашел и исправил ошибку – обязательно похвалите! Лишь когда самопроверка войдет в привычку, можно прекратить напоминать. 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ребенка не должны вас раздражать, они должны удивлять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йте ребенку почувствовать вашу уверенность в его успехе. Не ругайте за ошибки, не восклицайте: «Мы столько раз писали это слово, а ты опять пишешь неправильно!» Лучше удивитесь: «Ой! Как же это получилось?»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стречая ребенка из школы, постарайтесь усилить в нем положительные впечатления и не акцентировать внимание на негативны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оставьте вопрос так: «Что сегодня было хорошего? Что было самое интересное?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 выполнения уроков похвалите реб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«Ты сегодня так быстро и хорошо все сделал!» Радуйтесь его успехам и новым знаниям: «Неужели ты уже знаешь, как решать такие сложные задачи?»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люч к успеху –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нимание трудностей ребенка и спокойная родительская уверенность в его возможностя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С такой поддержкой ребенок будет чувствовать себя в безопасности и легче справится с любыми сложностя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сном шепните ребенку на ушко: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так счастлива, что ты у меня есть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ef6f1"/>
                </a:solidFill>
                <a:latin typeface="Georgia"/>
              </a:rPr>
              <a:t>Необходимость укрепления психики ребё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тие его мышления и эмоционально-волев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Нейтрализация страхов и негативных пережи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День-семьи"/>
          <p:cNvPicPr/>
          <p:nvPr/>
        </p:nvPicPr>
        <p:blipFill>
          <a:blip r:embed="rId1"/>
          <a:stretch/>
        </p:blipFill>
        <p:spPr>
          <a:xfrm>
            <a:off x="5580000" y="981000"/>
            <a:ext cx="3168720" cy="26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95"/>
          <p:cNvPicPr/>
          <p:nvPr/>
        </p:nvPicPr>
        <p:blipFill>
          <a:blip r:embed="rId2"/>
          <a:stretch/>
        </p:blipFill>
        <p:spPr>
          <a:xfrm>
            <a:off x="1332000" y="4365720"/>
            <a:ext cx="2449440" cy="20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skola02"/>
          <p:cNvPicPr/>
          <p:nvPr/>
        </p:nvPicPr>
        <p:blipFill>
          <a:blip r:embed="rId3"/>
          <a:stretch/>
        </p:blipFill>
        <p:spPr>
          <a:xfrm>
            <a:off x="6084720" y="422100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alcogolizm"/>
          <p:cNvPicPr/>
          <p:nvPr/>
        </p:nvPicPr>
        <p:blipFill>
          <a:blip r:embed="rId4"/>
          <a:stretch/>
        </p:blipFill>
        <p:spPr>
          <a:xfrm>
            <a:off x="4140360" y="4292640"/>
            <a:ext cx="164592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гда уместна тревог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первоначально непосредственный интерес к школе, занят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ет время от времени ныть, что учиться надоело (особенно в конце недели и четверти), но активно интересуется всем оста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дуется, когда не надо делать 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я от времени хочет остаться дома, пропустить ур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огда выражает недовольство учителем или опасения по его по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асн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ое отсутствие интереса к учёб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лает уроки только «из-под пал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желание ходить в школу и вообще учиться выражается постоянно и открыто в формах активного протеста, либо симптомами болезней (кашель, насморк, рвота, понос), которые кончаются сразу после того, как разрешат остаться дома, либо, что гораздо реже, простой симуляцией этих симптом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чень не любит или боится учителя, испытывает по отношению к нему страх, бессилие или агресс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чего не интересно, безразличен ко всему, даже играм, если они требуют хоть какого-то напря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ялость и безынициативность, когда дело касается школы и у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еспокоиться нужно тог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когда нежелание учиться явля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ойчивы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ет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тивно,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ажает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отношение ребёнка к школ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вни адаптации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тималь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высокие адаптационные результаты при адекватных условиях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избыточный уровень; высокие результаты адаптации, достигнутые благодаря значительному психическому и моральному напряжению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обусловлен недостаточной требовательностью к себе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задаптационны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– плохое эмоциональное самочувствие; невротические реакции (неумение приспосабливаться к школьной жизн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ола – это не страшно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бость и неуверенность перед школой возникает у большинства детей младшего школьного возраста, многие не хотят идти в школ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лучше чем родители уладить эту проблему никто не смож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ром поднимите ребёнка пораньше, чтобы неторопливо, спокойно собраться в школу. Помните: спешка усиливает тревож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арайтесь накормить ребёнка его любимым блюдом. Вкусная, съеденная с удовольствием пища поднимает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ежда, в которую вы нарядили ребёнка, должна нравиться не только вам, но и ему самому, при этом она должна быть максимально удобной, чтобы он не чувствовал себя в ней неловко. Когда человек себе нравится, он чувствует себя уверенн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ребёнок приходит с хорошими отметками, хвалите его. А в конце четверти устройте с ним праздник. Играйте с ним дома в «Школу», пусть он побудит учителем, и вы сможете увидеть его отношение к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айте возникшие трудности совместно с учителем, и не умалчивайте пробле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сть школа для вашего ребёнка будет дверью в сказку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а тоже не 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ритетная цель современной школы – личностно-ориентированное обу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построения такого обучени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все психические процессы, которые обеспечат полноценное образов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Развить коммуникативную деятельность, умение общаться и сотрудничать с другими людь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§ Сформировать учебную деятельность. Научить ребёнка учить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уметь принимать учебную задачу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находить способы её реш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отбирать нужные средств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контролировать свои шаг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самому оценивать полученные результа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люсы даёт такое обучение?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у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ма, воли, чувств, формирование потребности учиться; радость от свободного умственного труда, творчества и общения; самостоятельность, уверенность, ответственность; стремление к сотрудничест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ю: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згляда на образование ученика; технологию развития личности учащихся, их познавательных и созидательных способностей; расширение возможностей для творчеств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я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ренность в успешном будущем своего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владение навыками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е организационных навыков ( внешняя и внутренняя готовность к уроку, порядок на столе, в портфеле, в тетради, контроль за наличием школьных принадлежност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слушать, действовать по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мыслительных процессов: анализ, синтез,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логически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психических процессов: памяти, внимания,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шко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87280" y="51577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ёнок должен «научиться учить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язан делать то, что ему не всегда хоч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ен контролировать своё 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_"/>
          <p:cNvPicPr/>
          <p:nvPr/>
        </p:nvPicPr>
        <p:blipFill>
          <a:blip r:embed="rId1"/>
          <a:stretch/>
        </p:blipFill>
        <p:spPr>
          <a:xfrm>
            <a:off x="6516720" y="4724280"/>
            <a:ext cx="2255760" cy="16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b81db69fee3010142fa7d693aa37006b.jpg"/>
          <p:cNvPicPr/>
          <p:nvPr/>
        </p:nvPicPr>
        <p:blipFill>
          <a:blip r:embed="rId1"/>
          <a:stretch/>
        </p:blipFill>
        <p:spPr>
          <a:xfrm>
            <a:off x="6300720" y="450864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адаптационного пери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3640" y="1125360"/>
            <a:ext cx="7993080" cy="52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ть психолого – педагогические условия, обеспечивающие </a:t>
            </a:r>
            <a:r>
              <a:rPr b="0" lang="ru-RU" sz="4000" spc="-1" strike="noStrike">
                <a:solidFill>
                  <a:srgbClr val="3333ff"/>
                </a:solidFill>
                <a:latin typeface="Arial"/>
              </a:rPr>
              <a:t>благоприятное теч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даптации первоклассников к школьному обуч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214280"/>
            <a:ext cx="86868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Желаю удач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в воспитан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Bookman Old Style"/>
              </a:rPr>
              <a:t>дете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одержимое 3" descr="1252933915_1252300422-shutterstock_104901313.jpg"/>
          <p:cNvPicPr/>
          <p:nvPr/>
        </p:nvPicPr>
        <p:blipFill>
          <a:blip r:embed="rId1"/>
          <a:srcRect l="14612" t="-1992" r="0" b="0"/>
          <a:stretch/>
        </p:blipFill>
        <p:spPr>
          <a:xfrm>
            <a:off x="6659640" y="4149720"/>
            <a:ext cx="2054160" cy="215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помочь первокласснику в учеб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готовка руки к пись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сьмо - сложных координационный навык, требующий слаженной работы мышц кисти, всей руки, правильной координации движений всего т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к письму - один из самых сложных этапов подготовки ребенка к систематическому обуч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дошкольного возраста слабо развиты мелкие мышцы руки, несовершенна координация движений, не закончено окостенение запястий и фаланг пальц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этому в дошкольном возрасте важна именно подготовка к письму, а не обучение ему. Важно развить механизмы, необходимые для овладения письмом, создать условия для накопления ребенком двигательного и практического опыта, развития навыков ручной уме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5708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a800"/>
                </a:solidFill>
                <a:latin typeface="Arial"/>
              </a:rPr>
              <a:t>Средства развития мелкой мото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95280" y="3716280"/>
            <a:ext cx="2521080" cy="1379520"/>
          </a:xfrm>
          <a:prstGeom prst="cloudCallout">
            <a:avLst>
              <a:gd name="adj1" fmla="val -6865"/>
              <a:gd name="adj2" fmla="val 10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льчиков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4356000" y="115920"/>
            <a:ext cx="2376720" cy="2374920"/>
          </a:xfrm>
          <a:prstGeom prst="cloudCallout">
            <a:avLst>
              <a:gd name="adj1" fmla="val -29157"/>
              <a:gd name="adj2" fmla="val 209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рупой, бусинками, пуговицами, камеш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6372360" y="5013360"/>
            <a:ext cx="2447640" cy="1595520"/>
          </a:xfrm>
          <a:prstGeom prst="cloudCallout">
            <a:avLst>
              <a:gd name="adj1" fmla="val 36185"/>
              <a:gd name="adj2" fmla="val -241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пластили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900000" y="5084640"/>
            <a:ext cx="2808360" cy="1584360"/>
          </a:xfrm>
          <a:prstGeom prst="cloudCallout">
            <a:avLst>
              <a:gd name="adj1" fmla="val 84935"/>
              <a:gd name="adj2" fmla="val 4869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гры с конструкторами и мозаи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6659640" y="3645000"/>
            <a:ext cx="2087640" cy="1224000"/>
          </a:xfrm>
          <a:prstGeom prst="cloudCallout">
            <a:avLst>
              <a:gd name="adj1" fmla="val -21560"/>
              <a:gd name="adj2" fmla="val 284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резание ножн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348000" y="4076640"/>
            <a:ext cx="2879640" cy="936720"/>
          </a:xfrm>
          <a:prstGeom prst="cloudCallout">
            <a:avLst>
              <a:gd name="adj1" fmla="val 34620"/>
              <a:gd name="adj2" fmla="val 54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исование и раскраш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324000" y="476280"/>
            <a:ext cx="2519280" cy="2087640"/>
          </a:xfrm>
          <a:prstGeom prst="cloudCallout">
            <a:avLst>
              <a:gd name="adj1" fmla="val 35379"/>
              <a:gd name="adj2" fmla="val -1517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Работа с бумагой. Складывание (оригами). Плетение. Апплик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3924360" y="5157720"/>
            <a:ext cx="2376360" cy="1440000"/>
          </a:xfrm>
          <a:prstGeom prst="cloudCallout">
            <a:avLst>
              <a:gd name="adj1" fmla="val 30893"/>
              <a:gd name="adj2" fmla="val -470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гры с веревочкой, шнур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6516720" y="1484280"/>
            <a:ext cx="2376360" cy="1473120"/>
          </a:xfrm>
          <a:prstGeom prst="cloudCallout">
            <a:avLst>
              <a:gd name="adj1" fmla="val -37976"/>
              <a:gd name="adj2" fmla="val -16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рафические упражнения. Штрихов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3"/>
          <p:cNvSpPr/>
          <p:nvPr/>
        </p:nvSpPr>
        <p:spPr>
          <a:xfrm>
            <a:off x="2268360" y="1484280"/>
            <a:ext cx="1944720" cy="1440000"/>
          </a:xfrm>
          <a:prstGeom prst="cloudCallout">
            <a:avLst>
              <a:gd name="adj1" fmla="val -13430"/>
              <a:gd name="adj2" fmla="val 357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ссаж кистей рук и паль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лезные книг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53388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6195"/>
          <p:cNvPicPr/>
          <p:nvPr/>
        </p:nvPicPr>
        <p:blipFill>
          <a:blip r:embed="rId1"/>
          <a:stretch/>
        </p:blipFill>
        <p:spPr>
          <a:xfrm>
            <a:off x="324000" y="3860640"/>
            <a:ext cx="1657080" cy="223236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655640" cy="216072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5" name="Picture 6" descr="i"/>
          <p:cNvPicPr/>
          <p:nvPr/>
        </p:nvPicPr>
        <p:blipFill>
          <a:blip r:embed="rId3"/>
          <a:stretch/>
        </p:blipFill>
        <p:spPr>
          <a:xfrm>
            <a:off x="250920" y="1341360"/>
            <a:ext cx="1655640" cy="230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NCA0LL1W6CAAH2IWTCANKZ11FCAA5QOWLCA4ID73ICAR0030FCABI083BCAZA92DOCAV4N5J0CA54LK0ACAWQDREXCADJE3PVCABAY41OCA384XKCCA4NY2U1CA7GDMRACA79TQSPCA7QWVBXCAM4D726"/>
          <p:cNvPicPr/>
          <p:nvPr/>
        </p:nvPicPr>
        <p:blipFill>
          <a:blip r:embed="rId4"/>
          <a:stretch/>
        </p:blipFill>
        <p:spPr>
          <a:xfrm>
            <a:off x="2050920" y="1341360"/>
            <a:ext cx="1656000" cy="230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UMCAXGTPCZCA1CGYX7CADJDBSOCA6G9W6CCA72AEJGCAY1QE3XCAB0EWX8CAU20QKWCAH3SVEXCA25A2CXCAKSPI9PCAZMESO4CAOSQ0ZUCA4NQCLRCAN6MSERCA2E761TCARNJD2QCAA2OJ10CAJMV23B"/>
          <p:cNvPicPr/>
          <p:nvPr/>
        </p:nvPicPr>
        <p:blipFill>
          <a:blip r:embed="rId5"/>
          <a:stretch/>
        </p:blipFill>
        <p:spPr>
          <a:xfrm>
            <a:off x="3851280" y="1341360"/>
            <a:ext cx="1800360" cy="22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6"/>
          <a:stretch/>
        </p:blipFill>
        <p:spPr>
          <a:xfrm>
            <a:off x="5940360" y="3860640"/>
            <a:ext cx="1513080" cy="2233800"/>
          </a:xfrm>
          <a:prstGeom prst="rect">
            <a:avLst/>
          </a:prstGeom>
          <a:ln w="9360">
            <a:solidFill>
              <a:srgbClr val="8dc6ff"/>
            </a:solidFill>
            <a:miter/>
          </a:ln>
        </p:spPr>
      </p:pic>
      <p:pic>
        <p:nvPicPr>
          <p:cNvPr id="149" name="Picture 10" descr="UGCABZAVEBCAJDW6OBCAX5J9AWCAS0HS3KCAAXLC6PCAYXF35YCA42H02ICA1CGCEUCAV9LW9MCA2P1S69CA75Y15OCA6I8CWNCAZL97DBCAAP0FIDCAZVQ704CAWH7WLZCA48KQO2CAGOF460CACAOVT3"/>
          <p:cNvPicPr/>
          <p:nvPr/>
        </p:nvPicPr>
        <p:blipFill>
          <a:blip r:embed="rId7"/>
          <a:stretch/>
        </p:blipFill>
        <p:spPr>
          <a:xfrm>
            <a:off x="3924360" y="3860640"/>
            <a:ext cx="1727280" cy="223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2HCADB7ZHKCAUL4YRACAWCKG7BCAG7PUVYCAHUI8JACAD6S287CABSVMSCCADX3JKBCAZM6XV6CAUMP7SLCAZPMPDLCADKVSM3CA634FJUCAELL370CAKYL8U1CAOGJ98JCA56DSLFCAW95N76CAVI4ZCU"/>
          <p:cNvPicPr/>
          <p:nvPr/>
        </p:nvPicPr>
        <p:blipFill>
          <a:blip r:embed="rId8"/>
          <a:stretch/>
        </p:blipFill>
        <p:spPr>
          <a:xfrm>
            <a:off x="7596360" y="1341360"/>
            <a:ext cx="1322280" cy="2158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JECAW6E0UOCAV2P7ACCALLL55LCA1XXBF2CA6ZKC3TCAYLW9GRCADC79I0CA53LVX5CAQYD6Q4CAHGDF38CA3XEHK1CAOZRZGLCAI28MC0CAE5K927CA080Z04CA5VXVCFCARM0453CAIH7YISCAWADUKL"/>
          <p:cNvPicPr/>
          <p:nvPr/>
        </p:nvPicPr>
        <p:blipFill>
          <a:blip r:embed="rId9"/>
          <a:stretch/>
        </p:blipFill>
        <p:spPr>
          <a:xfrm>
            <a:off x="2268360" y="3860640"/>
            <a:ext cx="1440000" cy="216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SRCAP7UTVXCAL0EMI6CAII21COCAXWWE6RCANLZ5TUCAIBD2IXCA3EK5CCCAFFV1GTCAHT0BXVCA0VN2KNCAUWCPO9CANYN9KPCAKAMSFWCAVJ5K0XCAHVT3B6CACSHHK3CA24ACG9CA6T5JBDCAZ1IN0I"/>
          <p:cNvPicPr/>
          <p:nvPr/>
        </p:nvPicPr>
        <p:blipFill>
          <a:blip r:embed="rId10"/>
          <a:stretch/>
        </p:blipFill>
        <p:spPr>
          <a:xfrm>
            <a:off x="7596360" y="3789360"/>
            <a:ext cx="1296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ю плодотворной работы и успешной учеб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7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ачало обучения в школе – один из наиболее сложных и ответственных моментов, как в социально-психологическом, так и в физиологическом пл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Школа требует от ребёнка максимальной мобилизации интеллектуальных и физических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60644604_deti"/>
          <p:cNvPicPr/>
          <p:nvPr/>
        </p:nvPicPr>
        <p:blipFill>
          <a:blip r:embed="rId1"/>
          <a:stretch/>
        </p:blipFill>
        <p:spPr>
          <a:xfrm>
            <a:off x="6443640" y="404640"/>
            <a:ext cx="2370240" cy="295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AB66E1E8-C3DD-4FA1-B59B-3200A6BB7049_mw800_mh600_s"/>
          <p:cNvPicPr/>
          <p:nvPr/>
        </p:nvPicPr>
        <p:blipFill>
          <a:blip r:embed="rId2"/>
          <a:stretch/>
        </p:blipFill>
        <p:spPr>
          <a:xfrm>
            <a:off x="5148360" y="4005360"/>
            <a:ext cx="367164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ируется самооценка личност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классник уже понимает, что оценка его поступков определяется прежде всего тем, как его поступки выглядят в глазах окруж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возбудимы, легко отвлекаются, т.к. лобные доли больших полушарий не сформированы, они сформируются к 13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ую роль в жизни школьника играет учитель, который выступает как центр его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приспособления к требованиям школы, существует у 1-классников. У одних он длиться 1 месяц, у других 1 четверть, у 3-их растягивается на 1-ый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класс: учимся составлять рас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904000" y="1859040"/>
            <a:ext cx="3276360" cy="250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79280" y="1488960"/>
            <a:ext cx="5688000" cy="52214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6084720" y="12114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b03f5"/>
                </a:solidFill>
                <a:latin typeface="Arial"/>
              </a:rPr>
              <a:t>Образец:</a:t>
            </a:r>
            <a:r>
              <a:rPr b="1" lang="ru-RU" sz="2800" spc="-1" strike="noStrike">
                <a:solidFill>
                  <a:srgbClr val="2b03f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6326280" y="4365720"/>
            <a:ext cx="220644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 свою работу на урок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000"/>
            <a:ext cx="85075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 ошиб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Молодец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ошибка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Хорош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е  1 ошиб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fa"/>
                </a:solidFill>
                <a:latin typeface="Arial"/>
              </a:rPr>
              <a:t>Нужно  быть вниматель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"/>
          <p:cNvSpPr/>
          <p:nvPr/>
        </p:nvSpPr>
        <p:spPr>
          <a:xfrm>
            <a:off x="324000" y="836640"/>
            <a:ext cx="1285560" cy="114300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4"/>
          <p:cNvSpPr/>
          <p:nvPr/>
        </p:nvSpPr>
        <p:spPr>
          <a:xfrm>
            <a:off x="395280" y="2133720"/>
            <a:ext cx="128592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468360" y="3645000"/>
            <a:ext cx="1224000" cy="1071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7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 класс: учимся оценивать свое эмоционально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3906720"/>
            <a:ext cx="2340000" cy="225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6443640" cy="3246480"/>
          </a:xfrm>
          <a:prstGeom prst="rect">
            <a:avLst/>
          </a:prstGeom>
          <a:ln w="0">
            <a:noFill/>
          </a:ln>
        </p:spPr>
      </p:pic>
      <p:sp>
        <p:nvSpPr>
          <p:cNvPr id="68" name="Line 5"/>
          <p:cNvSpPr/>
          <p:nvPr/>
        </p:nvSpPr>
        <p:spPr>
          <a:xfrm flipH="1" flipV="1">
            <a:off x="1979280" y="5778360"/>
            <a:ext cx="647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 flipH="1">
            <a:off x="1979640" y="4194000"/>
            <a:ext cx="720720" cy="432000"/>
          </a:xfrm>
          <a:prstGeom prst="line">
            <a:avLst/>
          </a:prstGeom>
          <a:ln w="57240">
            <a:solidFill>
              <a:srgbClr val="2994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4689360" y="836640"/>
            <a:ext cx="44546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чины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дезадапт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о-бытовые условия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утрисемейные отно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ые особенности ли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rebenok-uchitsya"/>
          <p:cNvPicPr/>
          <p:nvPr/>
        </p:nvPicPr>
        <p:blipFill>
          <a:blip r:embed="rId1"/>
          <a:stretch/>
        </p:blipFill>
        <p:spPr>
          <a:xfrm>
            <a:off x="5940360" y="4724280"/>
            <a:ext cx="273708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a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2:21:49Z</dcterms:created>
  <dc:creator>viki</dc:creator>
  <dc:description/>
  <dc:language>en-US</dc:language>
  <cp:lastModifiedBy>User</cp:lastModifiedBy>
  <dcterms:modified xsi:type="dcterms:W3CDTF">2015-09-05T07:17:43Z</dcterms:modified>
  <cp:revision>10</cp:revision>
  <dc:subject/>
  <dc:title>Адаптация первоклассника в школе</dc:title>
</cp:coreProperties>
</file>