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jpeg" ContentType="image/jpeg"/>
  <Override PartName="/ppt/media/image35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1.png" ContentType="image/png"/>
  <Override PartName="/ppt/media/image6.png" ContentType="image/png"/>
  <Override PartName="/ppt/media/image21.jpeg" ContentType="image/jpeg"/>
  <Override PartName="/ppt/media/image29.png" ContentType="image/png"/>
  <Override PartName="/ppt/media/image11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CEA5-A78B-4E79-AEEF-B7A416EF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243A-D60D-48DD-AE1A-76DA9B58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6760-5D4C-40F8-A272-4A16158B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EF62-7CDE-4ECF-97E1-3907B2F9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A4AF-23B0-4383-A243-08571F11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1B6E-DDEE-4D18-B17B-BFD11E0D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0EC0-31A7-434D-9926-7FEE6752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ECB0-BD40-40FC-991F-68D7919B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5A94-DE91-48A5-BB88-45F0E713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8EB6-5340-454D-B0E5-6BE41F93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13C6-5F93-4CAC-A527-F3F4EED5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9A1C-74E7-4CBB-BD8A-B8A65181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1962-24A9-4BDF-B5CA-A3E1DB78786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image" Target="../media/image21.jpe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«Бабоч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5429160"/>
            <a:ext cx="6400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ки из осенних листь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1558766769_1.jpeg"/>
          <p:cNvPicPr/>
          <p:nvPr/>
        </p:nvPicPr>
        <p:blipFill>
          <a:blip r:embed="rId2"/>
          <a:stretch/>
        </p:blipFill>
        <p:spPr>
          <a:xfrm>
            <a:off x="1285920" y="1643040"/>
            <a:ext cx="6715080" cy="378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0" descr="http://i63.beon.ru/87/75/997587/98/92253898/24546a9b0e49.png"/>
          <p:cNvPicPr/>
          <p:nvPr/>
        </p:nvPicPr>
        <p:blipFill>
          <a:blip r:embed="rId2"/>
          <a:stretch/>
        </p:blipFill>
        <p:spPr>
          <a:xfrm rot="20623800">
            <a:off x="2865240" y="1401840"/>
            <a:ext cx="1311120" cy="30448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0" descr="http://i63.beon.ru/87/75/997587/98/92253898/24546a9b0e49.png"/>
          <p:cNvPicPr/>
          <p:nvPr/>
        </p:nvPicPr>
        <p:blipFill>
          <a:blip r:embed="rId3"/>
          <a:stretch/>
        </p:blipFill>
        <p:spPr>
          <a:xfrm flipH="1" rot="436200">
            <a:off x="4109400" y="1500120"/>
            <a:ext cx="1571400" cy="30438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9"/>
          <p:cNvSpPr/>
          <p:nvPr/>
        </p:nvSpPr>
        <p:spPr>
          <a:xfrm>
            <a:off x="468360" y="5500800"/>
            <a:ext cx="8209080" cy="5814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 это будут ус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2050920" y="76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дготовка дета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0" descr="http://i63.beon.ru/87/75/997587/98/92253898/24546a9b0e49.png"/>
          <p:cNvPicPr/>
          <p:nvPr/>
        </p:nvPicPr>
        <p:blipFill>
          <a:blip r:embed="rId2"/>
          <a:stretch/>
        </p:blipFill>
        <p:spPr>
          <a:xfrm rot="20623800">
            <a:off x="3186000" y="1265400"/>
            <a:ext cx="1309680" cy="30430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0" descr="http://i63.beon.ru/87/75/997587/98/92253898/24546a9b0e49.png"/>
          <p:cNvPicPr/>
          <p:nvPr/>
        </p:nvPicPr>
        <p:blipFill>
          <a:blip r:embed="rId3"/>
          <a:stretch/>
        </p:blipFill>
        <p:spPr>
          <a:xfrm flipH="1" rot="435600">
            <a:off x="4180680" y="1139760"/>
            <a:ext cx="1573200" cy="3043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img-fotki.yandex.ru/get/5001/981986.9e/0_92596_a51951d4_orig"/>
          <p:cNvPicPr/>
          <p:nvPr/>
        </p:nvPicPr>
        <p:blipFill>
          <a:blip r:embed="rId4"/>
          <a:stretch/>
        </p:blipFill>
        <p:spPr>
          <a:xfrm>
            <a:off x="3924360" y="3789360"/>
            <a:ext cx="503280" cy="719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img-fotki.yandex.ru/get/5001/981986.9e/0_92596_a51951d4_orig"/>
          <p:cNvPicPr/>
          <p:nvPr/>
        </p:nvPicPr>
        <p:blipFill>
          <a:blip r:embed="rId5"/>
          <a:stretch/>
        </p:blipFill>
        <p:spPr>
          <a:xfrm>
            <a:off x="4572000" y="3786120"/>
            <a:ext cx="504720" cy="7192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15"/>
          <p:cNvSpPr/>
          <p:nvPr/>
        </p:nvSpPr>
        <p:spPr>
          <a:xfrm>
            <a:off x="468360" y="5516640"/>
            <a:ext cx="8209080" cy="5814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ля глазок подберем сем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2050920" y="76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дготовка дета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4"/>
          <p:cNvSpPr/>
          <p:nvPr/>
        </p:nvSpPr>
        <p:spPr>
          <a:xfrm>
            <a:off x="2050920" y="76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бо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10" descr="http://i63.beon.ru/87/75/997587/98/92253898/24546a9b0e49.png"/>
          <p:cNvPicPr/>
          <p:nvPr/>
        </p:nvPicPr>
        <p:blipFill>
          <a:blip r:embed="rId2"/>
          <a:stretch/>
        </p:blipFill>
        <p:spPr>
          <a:xfrm>
            <a:off x="4143240" y="2571840"/>
            <a:ext cx="287640" cy="21844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0" descr="http://i63.beon.ru/87/75/997587/98/92253898/24546a9b0e49.png"/>
          <p:cNvPicPr/>
          <p:nvPr/>
        </p:nvPicPr>
        <p:blipFill>
          <a:blip r:embed="rId3"/>
          <a:stretch/>
        </p:blipFill>
        <p:spPr>
          <a:xfrm rot="20623800">
            <a:off x="3673440" y="1468080"/>
            <a:ext cx="596880" cy="1386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5" descr="http://i63.beon.ru/87/75/997587/98/92253898/24546a9b0e49.png"/>
          <p:cNvPicPr/>
          <p:nvPr/>
        </p:nvPicPr>
        <p:blipFill>
          <a:blip r:embed="rId4"/>
          <a:stretch/>
        </p:blipFill>
        <p:spPr>
          <a:xfrm flipH="1" rot="436200">
            <a:off x="4212360" y="1590480"/>
            <a:ext cx="625680" cy="12110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2" descr="http://i63.beon.ru/87/75/997587/98/92253898/24546a9b0e49.png"/>
          <p:cNvPicPr/>
          <p:nvPr/>
        </p:nvPicPr>
        <p:blipFill>
          <a:blip r:embed="rId5"/>
          <a:stretch/>
        </p:blipFill>
        <p:spPr>
          <a:xfrm>
            <a:off x="2916360" y="2349360"/>
            <a:ext cx="1141200" cy="11080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2" descr="http://i63.beon.ru/87/75/997587/98/92253898/24546a9b0e49.png"/>
          <p:cNvPicPr/>
          <p:nvPr/>
        </p:nvPicPr>
        <p:blipFill>
          <a:blip r:embed="rId6"/>
          <a:stretch/>
        </p:blipFill>
        <p:spPr>
          <a:xfrm>
            <a:off x="4500720" y="2349360"/>
            <a:ext cx="1298520" cy="11080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0" descr="http://img-fotki.yandex.ru/get/9360/102699435.978/0_ac9aa_ebf55800_XL.png"/>
          <p:cNvPicPr/>
          <p:nvPr/>
        </p:nvPicPr>
        <p:blipFill>
          <a:blip r:embed="rId7"/>
          <a:stretch/>
        </p:blipFill>
        <p:spPr>
          <a:xfrm flipH="1" rot="1645800">
            <a:off x="3114000" y="3093840"/>
            <a:ext cx="801720" cy="16254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0" descr="http://img-fotki.yandex.ru/get/9360/102699435.978/0_ac9aa_ebf55800_XL.png"/>
          <p:cNvPicPr/>
          <p:nvPr/>
        </p:nvPicPr>
        <p:blipFill>
          <a:blip r:embed="rId8"/>
          <a:stretch/>
        </p:blipFill>
        <p:spPr>
          <a:xfrm rot="19044000">
            <a:off x="4750920" y="2939760"/>
            <a:ext cx="939960" cy="17492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0" descr="http://img-fotki.yandex.ru/get/9360/102699435.978/0_ac9aa_ebf55800_XL.png"/>
          <p:cNvPicPr/>
          <p:nvPr/>
        </p:nvPicPr>
        <p:blipFill>
          <a:blip r:embed="rId9"/>
          <a:stretch/>
        </p:blipFill>
        <p:spPr>
          <a:xfrm rot="19044000">
            <a:off x="4903920" y="3092400"/>
            <a:ext cx="939600" cy="17496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0" descr="http://img-fotki.yandex.ru/get/9360/102699435.978/0_ac9aa_ebf55800_XL.png"/>
          <p:cNvPicPr/>
          <p:nvPr/>
        </p:nvPicPr>
        <p:blipFill>
          <a:blip r:embed="rId10"/>
          <a:stretch/>
        </p:blipFill>
        <p:spPr>
          <a:xfrm rot="19044000">
            <a:off x="5056200" y="3244680"/>
            <a:ext cx="939960" cy="17496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24"/>
          <p:cNvSpPr/>
          <p:nvPr/>
        </p:nvSpPr>
        <p:spPr>
          <a:xfrm>
            <a:off x="500040" y="5143680"/>
            <a:ext cx="8209080" cy="10688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зложим на фоне все листья, чтобы получилась бабоч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9"/>
          <p:cNvSpPr/>
          <p:nvPr/>
        </p:nvSpPr>
        <p:spPr>
          <a:xfrm>
            <a:off x="1428840" y="357120"/>
            <a:ext cx="67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от какие работы вы можете сделать ещё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3" descr="IMG-20231113-WA0012.jpg"/>
          <p:cNvPicPr/>
          <p:nvPr/>
        </p:nvPicPr>
        <p:blipFill>
          <a:blip r:embed="rId2"/>
          <a:stretch/>
        </p:blipFill>
        <p:spPr>
          <a:xfrm>
            <a:off x="1143000" y="1714680"/>
            <a:ext cx="7072200" cy="45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мпози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13880" y="1857240"/>
            <a:ext cx="7858440" cy="47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Рисунок 5" descr="1686011641_gagaru-club-p-kompozitsiya-iz-osennikh-listev-vkontakte-2.jpg"/>
          <p:cNvPicPr/>
          <p:nvPr/>
        </p:nvPicPr>
        <p:blipFill>
          <a:blip r:embed="rId2"/>
          <a:stretch/>
        </p:blipFill>
        <p:spPr>
          <a:xfrm>
            <a:off x="500040" y="1357200"/>
            <a:ext cx="2643120" cy="27147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6" descr="1686011649_gagaru-club-p-kompozitsiya-iz-osennikh-listev-vkontakte-11.jpg"/>
          <p:cNvPicPr/>
          <p:nvPr/>
        </p:nvPicPr>
        <p:blipFill>
          <a:blip r:embed="rId3"/>
          <a:stretch/>
        </p:blipFill>
        <p:spPr>
          <a:xfrm>
            <a:off x="5643720" y="1357200"/>
            <a:ext cx="2928960" cy="27147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7" descr="1686011666_gagaru-club-p-kompozitsiya-iz-osennikh-listev-vkontakte-26.jpg"/>
          <p:cNvPicPr/>
          <p:nvPr/>
        </p:nvPicPr>
        <p:blipFill>
          <a:blip r:embed="rId4"/>
          <a:stretch/>
        </p:blipFill>
        <p:spPr>
          <a:xfrm>
            <a:off x="2286000" y="4214880"/>
            <a:ext cx="48578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Скругленный прямоугольник 4">
            <a:hlinkClick r:id="rId2" action="ppaction://hlinksldjump"/>
          </p:cNvPr>
          <p:cNvSpPr/>
          <p:nvPr/>
        </p:nvSpPr>
        <p:spPr>
          <a:xfrm>
            <a:off x="2571840" y="4929120"/>
            <a:ext cx="3504960" cy="68580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Georgia"/>
              </a:rPr>
              <a:t>Баб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img-fotki.yandex.ru/get/5811/90468072.20e/0_666cc_d9b3c971_XL"/>
          <p:cNvPicPr/>
          <p:nvPr/>
        </p:nvPicPr>
        <p:blipFill>
          <a:blip r:embed="rId3"/>
          <a:stretch/>
        </p:blipFill>
        <p:spPr>
          <a:xfrm>
            <a:off x="2286000" y="1214280"/>
            <a:ext cx="42228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Скругленный прямоугольник 3"/>
          <p:cNvSpPr/>
          <p:nvPr/>
        </p:nvSpPr>
        <p:spPr>
          <a:xfrm>
            <a:off x="395280" y="404640"/>
            <a:ext cx="8280360" cy="120204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2050920" y="76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ссмотрим бабоч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img-fotki.yandex.ru/get/5811/90468072.20e/0_666cc_d9b3c971_XL"/>
          <p:cNvPicPr/>
          <p:nvPr/>
        </p:nvPicPr>
        <p:blipFill>
          <a:blip r:embed="rId2"/>
          <a:stretch/>
        </p:blipFill>
        <p:spPr>
          <a:xfrm>
            <a:off x="2519280" y="1700280"/>
            <a:ext cx="4105440" cy="29811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6"/>
          <p:cNvSpPr/>
          <p:nvPr/>
        </p:nvSpPr>
        <p:spPr>
          <a:xfrm>
            <a:off x="468360" y="4724280"/>
            <a:ext cx="820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У бабочки две пары крылышек. В паре крылышки очень похо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Тельце узкое и длинное. Усики тонк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Глаза небольш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Скругленный прямоугольник 3"/>
          <p:cNvSpPr/>
          <p:nvPr/>
        </p:nvSpPr>
        <p:spPr>
          <a:xfrm>
            <a:off x="395280" y="404640"/>
            <a:ext cx="8280360" cy="120204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395280" y="765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 теперь рассмотрим листь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7" descr="http://img-fotki.yandex.ru/get/6712/167562796.34/0_b898c_e1c3e70c_XL.png"/>
          <p:cNvPicPr/>
          <p:nvPr/>
        </p:nvPicPr>
        <p:blipFill>
          <a:blip r:embed="rId2"/>
          <a:stretch/>
        </p:blipFill>
        <p:spPr>
          <a:xfrm rot="3884400">
            <a:off x="1013040" y="1433880"/>
            <a:ext cx="1868760" cy="28702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8" descr="http://img-fotki.yandex.ru/get/9360/102699435.978/0_ac9aa_ebf55800_XL.png"/>
          <p:cNvPicPr/>
          <p:nvPr/>
        </p:nvPicPr>
        <p:blipFill>
          <a:blip r:embed="rId3"/>
          <a:stretch/>
        </p:blipFill>
        <p:spPr>
          <a:xfrm rot="13774200">
            <a:off x="3373920" y="1892520"/>
            <a:ext cx="1665000" cy="29210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9" descr="http://img-fotki.yandex.ru/get/9360/102699435.978/0_ac9aa_ebf55800_XL.png"/>
          <p:cNvPicPr/>
          <p:nvPr/>
        </p:nvPicPr>
        <p:blipFill>
          <a:blip r:embed="rId4"/>
          <a:stretch/>
        </p:blipFill>
        <p:spPr>
          <a:xfrm rot="18784800">
            <a:off x="5884200" y="1595880"/>
            <a:ext cx="1179360" cy="29210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0" descr="http://img-fotki.yandex.ru/get/9360/102699435.978/0_ac9aa_ebf55800_XL.png"/>
          <p:cNvPicPr/>
          <p:nvPr/>
        </p:nvPicPr>
        <p:blipFill>
          <a:blip r:embed="rId5"/>
          <a:stretch/>
        </p:blipFill>
        <p:spPr>
          <a:xfrm rot="19044000">
            <a:off x="1698480" y="3409560"/>
            <a:ext cx="1568520" cy="29210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1" descr="http://img-fotki.yandex.ru/get/9360/102699435.978/0_ac9aa_ebf55800_XL.png"/>
          <p:cNvPicPr/>
          <p:nvPr/>
        </p:nvPicPr>
        <p:blipFill>
          <a:blip r:embed="rId6"/>
          <a:stretch/>
        </p:blipFill>
        <p:spPr>
          <a:xfrm rot="3984000">
            <a:off x="4228560" y="3889080"/>
            <a:ext cx="1697040" cy="17766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2" descr="http://i63.beon.ru/87/75/997587/98/92253898/24546a9b0e49.png"/>
          <p:cNvPicPr/>
          <p:nvPr/>
        </p:nvPicPr>
        <p:blipFill>
          <a:blip r:embed="rId7"/>
          <a:stretch/>
        </p:blipFill>
        <p:spPr>
          <a:xfrm>
            <a:off x="6156360" y="4149720"/>
            <a:ext cx="1882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Скругленный прямоугольник 3"/>
          <p:cNvSpPr/>
          <p:nvPr/>
        </p:nvSpPr>
        <p:spPr>
          <a:xfrm>
            <a:off x="395280" y="404640"/>
            <a:ext cx="8280360" cy="120204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"/>
          <p:cNvSpPr/>
          <p:nvPr/>
        </p:nvSpPr>
        <p:spPr>
          <a:xfrm>
            <a:off x="611280" y="7650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ля бабочки нам понадобят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0" descr="http://i63.beon.ru/87/75/997587/98/92253898/24546a9b0e49.png"/>
          <p:cNvPicPr/>
          <p:nvPr/>
        </p:nvPicPr>
        <p:blipFill>
          <a:blip r:embed="rId2"/>
          <a:stretch/>
        </p:blipFill>
        <p:spPr>
          <a:xfrm>
            <a:off x="2627280" y="1700280"/>
            <a:ext cx="188604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0" descr="http://i63.beon.ru/87/75/997587/98/92253898/24546a9b0e49.png"/>
          <p:cNvPicPr/>
          <p:nvPr/>
        </p:nvPicPr>
        <p:blipFill>
          <a:blip r:embed="rId3"/>
          <a:stretch/>
        </p:blipFill>
        <p:spPr>
          <a:xfrm>
            <a:off x="4859280" y="1773360"/>
            <a:ext cx="206712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http://img-fotki.yandex.ru/get/9360/102699435.978/0_ac9aa_ebf55800_XL.png"/>
          <p:cNvPicPr/>
          <p:nvPr/>
        </p:nvPicPr>
        <p:blipFill>
          <a:blip r:embed="rId4"/>
          <a:stretch/>
        </p:blipFill>
        <p:spPr>
          <a:xfrm rot="19507200">
            <a:off x="5092560" y="2782440"/>
            <a:ext cx="1341720" cy="24955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http://img-fotki.yandex.ru/get/9360/102699435.978/0_ac9aa_ebf55800_XL.png"/>
          <p:cNvPicPr/>
          <p:nvPr/>
        </p:nvPicPr>
        <p:blipFill>
          <a:blip r:embed="rId5"/>
          <a:stretch/>
        </p:blipFill>
        <p:spPr>
          <a:xfrm flipH="1" rot="2353200">
            <a:off x="3035160" y="2709720"/>
            <a:ext cx="1330560" cy="244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357120" y="5500800"/>
            <a:ext cx="8209080" cy="581400"/>
          </a:xfrm>
          <a:prstGeom prst="rect">
            <a:avLst/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арные листья для крыл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9"/>
          <p:cNvSpPr/>
          <p:nvPr/>
        </p:nvSpPr>
        <p:spPr>
          <a:xfrm>
            <a:off x="357120" y="5500800"/>
            <a:ext cx="8209080" cy="581400"/>
          </a:xfrm>
          <a:prstGeom prst="rect">
            <a:avLst/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ругие листья для тельца, семена для г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http://img-fotki.yandex.ru/get/6604/66124276.a9/0_7a07d_129fa121_S.png"/>
          <p:cNvPicPr/>
          <p:nvPr/>
        </p:nvPicPr>
        <p:blipFill>
          <a:blip r:embed="rId6"/>
          <a:stretch/>
        </p:blipFill>
        <p:spPr>
          <a:xfrm>
            <a:off x="1835280" y="3068640"/>
            <a:ext cx="2341440" cy="1108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http://stranamasterov.ru/img4/i2015/09/17/365089_semena_arbuza_31-08-15_n-1212--500_0.jpg"/>
          <p:cNvPicPr/>
          <p:nvPr/>
        </p:nvPicPr>
        <p:blipFill>
          <a:blip r:embed="rId7"/>
          <a:stretch/>
        </p:blipFill>
        <p:spPr>
          <a:xfrm>
            <a:off x="4284720" y="2708280"/>
            <a:ext cx="1366920" cy="1584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http://piramidka.net/wp-content/uploads/2013/09/iva.png"/>
          <p:cNvPicPr/>
          <p:nvPr/>
        </p:nvPicPr>
        <p:blipFill>
          <a:blip r:embed="rId8"/>
          <a:stretch/>
        </p:blipFill>
        <p:spPr>
          <a:xfrm>
            <a:off x="5867280" y="1844640"/>
            <a:ext cx="1119240" cy="287964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3"/>
          <p:cNvSpPr/>
          <p:nvPr/>
        </p:nvSpPr>
        <p:spPr>
          <a:xfrm>
            <a:off x="357120" y="5500800"/>
            <a:ext cx="8209080" cy="581400"/>
          </a:xfrm>
          <a:prstGeom prst="rect">
            <a:avLst/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тебельки для ус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2" descr="stock-vector-vector-scissors-with-cut-lines-54277450.jpg"/>
          <p:cNvPicPr/>
          <p:nvPr/>
        </p:nvPicPr>
        <p:blipFill>
          <a:blip r:embed="rId9"/>
          <a:srcRect l="0" t="54989" r="50026" b="10103"/>
          <a:stretch/>
        </p:blipFill>
        <p:spPr>
          <a:xfrm rot="16845000">
            <a:off x="2727360" y="4398120"/>
            <a:ext cx="909720" cy="6620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0" descr="http://i63.beon.ru/87/75/997587/98/92253898/24546a9b0e49.png"/>
          <p:cNvPicPr/>
          <p:nvPr/>
        </p:nvPicPr>
        <p:blipFill>
          <a:blip r:embed="rId10"/>
          <a:stretch/>
        </p:blipFill>
        <p:spPr>
          <a:xfrm rot="11376600">
            <a:off x="2673360" y="1552320"/>
            <a:ext cx="2021040" cy="41702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0" descr="http://i63.beon.ru/87/75/997587/98/92253898/24546a9b0e49.png"/>
          <p:cNvPicPr/>
          <p:nvPr/>
        </p:nvPicPr>
        <p:blipFill>
          <a:blip r:embed="rId11"/>
          <a:stretch/>
        </p:blipFill>
        <p:spPr>
          <a:xfrm flipH="1" rot="1498200">
            <a:off x="6117480" y="1723680"/>
            <a:ext cx="747720" cy="13478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0" descr="http://i63.beon.ru/87/75/997587/98/92253898/24546a9b0e49.png"/>
          <p:cNvPicPr/>
          <p:nvPr/>
        </p:nvPicPr>
        <p:blipFill>
          <a:blip r:embed="rId12"/>
          <a:stretch/>
        </p:blipFill>
        <p:spPr>
          <a:xfrm rot="20048400">
            <a:off x="5413320" y="1687320"/>
            <a:ext cx="579600" cy="13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4"/>
          <p:cNvSpPr/>
          <p:nvPr/>
        </p:nvSpPr>
        <p:spPr>
          <a:xfrm>
            <a:off x="2050920" y="76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дготовка дета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4" descr="http://img-fotki.yandex.ru/get/9360/102699435.978/0_ac9aa_ebf55800_XL.png"/>
          <p:cNvPicPr/>
          <p:nvPr/>
        </p:nvPicPr>
        <p:blipFill>
          <a:blip r:embed="rId2"/>
          <a:stretch/>
        </p:blipFill>
        <p:spPr>
          <a:xfrm>
            <a:off x="1692360" y="1916280"/>
            <a:ext cx="2998800" cy="36003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http://img-fotki.yandex.ru/get/9360/102699435.978/0_ac9aa_ebf55800_XL.png"/>
          <p:cNvPicPr/>
          <p:nvPr/>
        </p:nvPicPr>
        <p:blipFill>
          <a:blip r:embed="rId3"/>
          <a:stretch/>
        </p:blipFill>
        <p:spPr>
          <a:xfrm>
            <a:off x="4284720" y="1916280"/>
            <a:ext cx="3255840" cy="360036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24"/>
          <p:cNvSpPr/>
          <p:nvPr/>
        </p:nvSpPr>
        <p:spPr>
          <a:xfrm>
            <a:off x="428760" y="5214960"/>
            <a:ext cx="8208720" cy="10688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ыберем два самых красивых одинаковых листа для верхних крылыш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0" descr="http://i63.beon.ru/87/75/997587/98/92253898/24546a9b0e49.png"/>
          <p:cNvPicPr/>
          <p:nvPr/>
        </p:nvPicPr>
        <p:blipFill>
          <a:blip r:embed="rId2"/>
          <a:stretch/>
        </p:blipFill>
        <p:spPr>
          <a:xfrm rot="2768400">
            <a:off x="1977120" y="1551600"/>
            <a:ext cx="1693800" cy="22413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0" descr="http://i63.beon.ru/87/75/997587/98/92253898/24546a9b0e49.png"/>
          <p:cNvPicPr/>
          <p:nvPr/>
        </p:nvPicPr>
        <p:blipFill>
          <a:blip r:embed="rId3"/>
          <a:stretch/>
        </p:blipFill>
        <p:spPr>
          <a:xfrm flipH="1" rot="18573600">
            <a:off x="4847760" y="1519920"/>
            <a:ext cx="1665360" cy="224136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0"/>
          <p:cNvSpPr/>
          <p:nvPr/>
        </p:nvSpPr>
        <p:spPr>
          <a:xfrm>
            <a:off x="468360" y="5373720"/>
            <a:ext cx="8209080" cy="5814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ля нижних крылышек листья помен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2050920" y="76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дготовка дета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piramidka.net/wp-content/uploads/2013/09/iva.png"/>
          <p:cNvPicPr/>
          <p:nvPr/>
        </p:nvPicPr>
        <p:blipFill>
          <a:blip r:embed="rId2"/>
          <a:stretch/>
        </p:blipFill>
        <p:spPr>
          <a:xfrm>
            <a:off x="3000240" y="1928880"/>
            <a:ext cx="1101960" cy="3240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0" descr="http://i63.beon.ru/87/75/997587/98/92253898/24546a9b0e49.png"/>
          <p:cNvPicPr/>
          <p:nvPr/>
        </p:nvPicPr>
        <p:blipFill>
          <a:blip r:embed="rId3"/>
          <a:stretch/>
        </p:blipFill>
        <p:spPr>
          <a:xfrm>
            <a:off x="5357880" y="2143080"/>
            <a:ext cx="647640" cy="304812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6"/>
          <p:cNvSpPr/>
          <p:nvPr/>
        </p:nvSpPr>
        <p:spPr>
          <a:xfrm>
            <a:off x="468360" y="5500800"/>
            <a:ext cx="8209080" cy="5814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ля тельца подойдет длинный узкий ли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2050920" y="76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дготовка дета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10:55:10Z</dcterms:created>
  <dc:creator>DNS</dc:creator>
  <dc:description/>
  <dc:language>en-US</dc:language>
  <cp:lastModifiedBy>User</cp:lastModifiedBy>
  <dcterms:modified xsi:type="dcterms:W3CDTF">2023-11-13T16:31:07Z</dcterms:modified>
  <cp:revision>67</cp:revision>
  <dc:subject/>
  <dc:title>Закружилась листва золотая</dc:title>
</cp:coreProperties>
</file>