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3FF-C184-4FB0-969A-D38C56CA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AD2-8379-46B4-BB32-08D91B19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62B-DFB8-4AE0-AE26-F0C85307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432-5404-4939-8288-4F48C7B5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4CAA-55FD-4794-831F-25D73F3C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DB2D-3AAD-4D56-8D71-2CEFDA5A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CF85-988B-4A9A-ABFE-05CC72A3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1287-7312-42E4-8B17-16285E1A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E917-02A8-48D2-BCD6-35E828B5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EFBE-A131-4A49-9450-AB248B2A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FCAB-261F-4879-81DE-40923868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11B0-B425-4095-9258-977B2598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8767-A1EE-4F1F-A497-034E0AFF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95F8-2AE8-4BDD-8450-968BF417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FB23-3FC7-4342-8CD9-CD5609A8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F0CE-8698-4FCA-B387-3A5BE446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4026-38CE-488C-B5F2-B1C1C2C8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A7E7-9EED-48FE-B6F6-DD1D24B7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17E9-46EF-40F5-959D-507BD0B0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6CE-7B74-4BAC-8FC0-25A492A9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3D2-8AAF-4AB2-B4D2-D87D653E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1D9F-01DF-4EED-8602-1415F904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089-F3F2-48B8-BD94-F51B7A56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7BD-6770-4FBE-BA90-E3B55BD6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8F06-4B18-4D28-8D80-C2AE173F5A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7564-F554-4319-8EC8-F03473F53D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4.png"/><Relationship Id="rId5" Type="http://schemas.openxmlformats.org/officeDocument/2006/relationships/slide" Target="slide6.xml"/><Relationship Id="rId6" Type="http://schemas.openxmlformats.org/officeDocument/2006/relationships/image" Target="../media/image5.png"/><Relationship Id="rId7" Type="http://schemas.openxmlformats.org/officeDocument/2006/relationships/slide" Target="slide7.xml"/><Relationship Id="rId8" Type="http://schemas.openxmlformats.org/officeDocument/2006/relationships/image" Target="../media/image6.png"/><Relationship Id="rId9" Type="http://schemas.openxmlformats.org/officeDocument/2006/relationships/slide" Target="slide8.xml"/><Relationship Id="rId10" Type="http://schemas.openxmlformats.org/officeDocument/2006/relationships/image" Target="../media/image7.png"/><Relationship Id="rId11" Type="http://schemas.openxmlformats.org/officeDocument/2006/relationships/slide" Target="slide9.xml"/><Relationship Id="rId12" Type="http://schemas.openxmlformats.org/officeDocument/2006/relationships/image" Target="../media/image8.png"/><Relationship Id="rId13" Type="http://schemas.openxmlformats.org/officeDocument/2006/relationships/slide" Target="slide10.xml"/><Relationship Id="rId14" Type="http://schemas.openxmlformats.org/officeDocument/2006/relationships/image" Target="../media/image9.png"/><Relationship Id="rId15" Type="http://schemas.openxmlformats.org/officeDocument/2006/relationships/slide" Target="slide11.xml"/><Relationship Id="rId16" Type="http://schemas.openxmlformats.org/officeDocument/2006/relationships/image" Target="../media/image10.png"/><Relationship Id="rId17" Type="http://schemas.openxmlformats.org/officeDocument/2006/relationships/slide" Target="slide12.xml"/><Relationship Id="rId18" Type="http://schemas.openxmlformats.org/officeDocument/2006/relationships/image" Target="../media/image11.png"/><Relationship Id="rId19" Type="http://schemas.openxmlformats.org/officeDocument/2006/relationships/slide" Target="slide13.xml"/><Relationship Id="rId20" Type="http://schemas.openxmlformats.org/officeDocument/2006/relationships/image" Target="../media/image12.png"/><Relationship Id="rId21" Type="http://schemas.openxmlformats.org/officeDocument/2006/relationships/slide" Target="slide14.xml"/><Relationship Id="rId22" Type="http://schemas.openxmlformats.org/officeDocument/2006/relationships/image" Target="../media/image13.png"/><Relationship Id="rId23" Type="http://schemas.openxmlformats.org/officeDocument/2006/relationships/slide" Target="slide15.xml"/><Relationship Id="rId24" Type="http://schemas.openxmlformats.org/officeDocument/2006/relationships/image" Target="../media/image14.png"/><Relationship Id="rId25" Type="http://schemas.openxmlformats.org/officeDocument/2006/relationships/slide" Target="slide16.xml"/><Relationship Id="rId26" Type="http://schemas.openxmlformats.org/officeDocument/2006/relationships/image" Target="../media/image15.png"/><Relationship Id="rId27" Type="http://schemas.openxmlformats.org/officeDocument/2006/relationships/slide" Target="slide17.xml"/><Relationship Id="rId28" Type="http://schemas.openxmlformats.org/officeDocument/2006/relationships/image" Target="../media/image16.png"/><Relationship Id="rId29" Type="http://schemas.openxmlformats.org/officeDocument/2006/relationships/slide" Target="slide18.xml"/><Relationship Id="rId30" Type="http://schemas.openxmlformats.org/officeDocument/2006/relationships/image" Target="../media/image17.png"/><Relationship Id="rId31" Type="http://schemas.openxmlformats.org/officeDocument/2006/relationships/slide" Target="slide19.xml"/><Relationship Id="rId32" Type="http://schemas.openxmlformats.org/officeDocument/2006/relationships/image" Target="../media/image18.png"/><Relationship Id="rId33" Type="http://schemas.openxmlformats.org/officeDocument/2006/relationships/slide" Target="slide20.xml"/><Relationship Id="rId34" Type="http://schemas.openxmlformats.org/officeDocument/2006/relationships/image" Target="../media/image19.png"/><Relationship Id="rId35" Type="http://schemas.openxmlformats.org/officeDocument/2006/relationships/slide" Target="slide21.xml"/><Relationship Id="rId36" Type="http://schemas.openxmlformats.org/officeDocument/2006/relationships/image" Target="../media/image20.png"/><Relationship Id="rId37" Type="http://schemas.openxmlformats.org/officeDocument/2006/relationships/slide" Target="slide22.xml"/><Relationship Id="rId38" Type="http://schemas.openxmlformats.org/officeDocument/2006/relationships/image" Target="../media/image21.png"/><Relationship Id="rId39" Type="http://schemas.openxmlformats.org/officeDocument/2006/relationships/slide" Target="slide23.xml"/><Relationship Id="rId40" Type="http://schemas.openxmlformats.org/officeDocument/2006/relationships/image" Target="../media/image22.png"/><Relationship Id="rId41" Type="http://schemas.openxmlformats.org/officeDocument/2006/relationships/slide" Target="slide24.xml"/><Relationship Id="rId42" Type="http://schemas.openxmlformats.org/officeDocument/2006/relationships/image" Target="../media/image23.png"/><Relationship Id="rId43" Type="http://schemas.openxmlformats.org/officeDocument/2006/relationships/slide" Target="slide25.xml"/><Relationship Id="rId44" Type="http://schemas.openxmlformats.org/officeDocument/2006/relationships/image" Target="../media/image24.png"/><Relationship Id="rId45" Type="http://schemas.openxmlformats.org/officeDocument/2006/relationships/slide" Target="slide26.xml"/><Relationship Id="rId46" Type="http://schemas.openxmlformats.org/officeDocument/2006/relationships/image" Target="../media/image25.png"/><Relationship Id="rId47" Type="http://schemas.openxmlformats.org/officeDocument/2006/relationships/slide" Target="slide27.xml"/><Relationship Id="rId48" Type="http://schemas.openxmlformats.org/officeDocument/2006/relationships/image" Target="../media/image26.png"/><Relationship Id="rId4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Calibri"/>
              </a:rPr>
              <a:t>Историко-краеведческая интеллектуальная  игра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5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ила игры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0" name="Picture 4" descr="C:\Users\user\Desktop\1511766609_0.jpg"/>
          <p:cNvPicPr/>
          <p:nvPr/>
        </p:nvPicPr>
        <p:blipFill>
          <a:blip r:embed="rId2"/>
          <a:stretch/>
        </p:blipFill>
        <p:spPr>
          <a:xfrm>
            <a:off x="2124000" y="2766960"/>
            <a:ext cx="4896000" cy="29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357120" y="142884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Из чего был сделан каменный цветок, который Даниле Мастеру так хотелось увидеть?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Из малахита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7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38" name="Picture 19" descr="Рисунок7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4000"/>
                            </p:stCondLst>
                            <p:childTnLst>
                              <p:par>
                                <p:cTn id="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6000"/>
                            </p:stCondLst>
                            <p:childTnLst>
                              <p:par>
                                <p:cTn id="938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9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9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9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9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2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033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395280" y="1341360"/>
            <a:ext cx="8353440" cy="187164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 каком году на Северском железоделательном заводе была выпущена первая продукция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1739 год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4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55" name="Picture 19" descr="Рисунок8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156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395280" y="1341360"/>
            <a:ext cx="8353440" cy="187164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В каком году была открыта первая словесная школа при Северском железоделательном заводе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 1941 году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1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72" name="Picture 19" descr="Рисунок9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8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279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250920" y="1341360"/>
            <a:ext cx="8497800" cy="223200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7 ноября1955 год дата выпуска одной из газет в городе Полевском. Вначале она называлась «Белая жесть». 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ак она называется сейчас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7" name="AutoShape 6"/>
          <p:cNvSpPr/>
          <p:nvPr/>
        </p:nvSpPr>
        <p:spPr>
          <a:xfrm rot="10800000">
            <a:off x="5148360" y="3716280"/>
            <a:ext cx="3311280" cy="1944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«Северский рабочий»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4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6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8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89" name="Picture 19" descr="Рисунок10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0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40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В каком году состоялось открытие кинотеатра «Металлург»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4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Октябрь 1952г.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5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06" name="Picture 19" descr="Рисунок11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0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4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8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529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Назовите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город побратим города Полевского, в Чехии.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латовы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8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1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2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23" name="Picture 19" descr="Рисунок12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0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7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5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7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652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395280" y="981000"/>
            <a:ext cx="8353440" cy="244800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онус 3 балла!!!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о время строительства этой горы происходили тайные сходки мастеровых, поэтому гора и получила такое название. Какое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Думная гора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5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8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9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40" name="Picture 19" descr="Рисунок13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0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8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0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6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4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775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звание этой реки переводится от коми-пермятского светлая, чистая река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 rot="10800000">
            <a:off x="5219280" y="3500280"/>
            <a:ext cx="331164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Река Чусовая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5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6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57" name="Picture 19" descr="Рисунок14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0" dur="indefinite" restart="never" nodeType="tmRoot">
          <p:childTnLst>
            <p:seq>
              <p:cTn id="1781" dur="indefinite" nodeType="mainSeq">
                <p:childTnLst>
                  <p:par>
                    <p:cTn id="1782" fill="hold">
                      <p:stCondLst>
                        <p:cond delay="0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3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7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1898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395280" y="1268280"/>
            <a:ext cx="8353440" cy="144144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азовите как ранее называлась улица Вершинина.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2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ролетарская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3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74" name="Picture 19" descr="Рисунок15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0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6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4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2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0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2021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95280" y="1052640"/>
            <a:ext cx="8353440" cy="201600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олевской… Город, известный едва ли не каждому. Как правило, знакомство с ним происходит в раннем детстве благодаря замечательным сказам? Кого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ahoma"/>
              </a:rPr>
              <a:t>Павла Петровича Бажова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8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0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391" name="Picture 19" descr="Рисунок16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6" dur="indefinite" restart="never" nodeType="tmRoot">
          <p:childTnLst>
            <p:seq>
              <p:cTn id="2027" dur="indefinite" nodeType="mainSeq">
                <p:childTnLst>
                  <p:par>
                    <p:cTn id="2028" fill="hold">
                      <p:stCondLst>
                        <p:cond delay="0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5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9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8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4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3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2144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2916360" y="404640"/>
            <a:ext cx="3384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ahoma"/>
              </a:rPr>
              <a:t>Правила игр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ahoma"/>
              <a:ea typeface="Tahoma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24000" y="1773360"/>
            <a:ext cx="8496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Выберите ячейку.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Прочитайте вопрос.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. Через 3 секунды после появления вопроса запускается таймер.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4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Время на обдумывание – 10 секунд.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3300"/>
                </a:solidFill>
                <a:latin typeface="Arial"/>
              </a:rPr>
              <a:t>5</a:t>
            </a:r>
            <a:r>
              <a:rPr b="0" i="1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После звукового сигнала через 10 секунд запишите ответ на «бланке ответов» и сдайте членам жюри.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AutoShape 6">
            <a:hlinkClick r:id="rId3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ча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395280" y="119700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 каком году город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олевской получил стутус города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6" name="AutoShape 6"/>
          <p:cNvSpPr/>
          <p:nvPr/>
        </p:nvSpPr>
        <p:spPr>
          <a:xfrm rot="10800000">
            <a:off x="5148000" y="3500280"/>
            <a:ext cx="3671640" cy="2592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Указом Президиума Верховного Совета РСФСР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от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27 марта 1942 года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8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2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3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4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5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6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7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08" name="Picture 19" descr="Рисунок17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9" dur="indefinite" restart="never" nodeType="tmRoot">
          <p:childTnLst>
            <p:seq>
              <p:cTn id="2150" dur="indefinite" nodeType="mainSeq">
                <p:childTnLst>
                  <p:par>
                    <p:cTn id="2151" fill="hold">
                      <p:stCondLst>
                        <p:cond delay="0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6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0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9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2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5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4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7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6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2267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Бонус 5 баллов!!!!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то изображено на Гербе города Полевского?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3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Каменный цветок,  коронованная ящерица, знак Венеры, восьмиконечная звезда.</a:t>
            </a:r>
            <a:br>
              <a:rPr sz="2000"/>
            </a:br>
            <a:endParaRPr b="1" lang="en-US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0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1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2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3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4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25" name="Picture 19" descr="Рисунок18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2" dur="indefinite" restart="never" nodeType="tmRoot">
          <p:childTnLst>
            <p:seq>
              <p:cTn id="2273" dur="indefinite" nodeType="mainSeq">
                <p:childTnLst>
                  <p:par>
                    <p:cTn id="2274" fill="hold">
                      <p:stCondLst>
                        <p:cond delay="0"/>
                      </p:stCondLst>
                      <p:childTnLst>
                        <p:par>
                          <p:cTn id="2275" fill="hold">
                            <p:stCondLst>
                              <p:cond delay="0"/>
                            </p:stCondLst>
                            <p:childTnLst>
                              <p:par>
                                <p:cTn id="2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1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9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3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1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4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9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2390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395280" y="1341360"/>
            <a:ext cx="8353440" cy="1800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Имя какого Почётного гражданина города Полевского присвоено школе №16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0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Чебыкина Геннадия Ивановича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5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7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8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9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0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1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42" name="Picture 19" descr="Рисунок19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5" dur="indefinite" restart="never" nodeType="tmRoot">
          <p:childTnLst>
            <p:seq>
              <p:cTn id="2396" dur="indefinite" nodeType="mainSeq">
                <p:childTnLst>
                  <p:par>
                    <p:cTn id="2397" fill="hold">
                      <p:stCondLst>
                        <p:cond delay="0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2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6" dur="2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8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8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4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4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4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2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8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2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2513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Какой пруд раньше назывался   «Казенным»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7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ерхний пруд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9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3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4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5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6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7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8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59" name="Picture 19" descr="Рисунок20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8" dur="indefinite" restart="never" nodeType="tmRoot">
          <p:childTnLst>
            <p:seq>
              <p:cTn id="2519" dur="indefinite" nodeType="mainSeq">
                <p:childTnLst>
                  <p:par>
                    <p:cTn id="2520" fill="hold">
                      <p:stCondLst>
                        <p:cond delay="0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7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1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9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1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5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7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3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2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8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7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0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5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2636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а каком пруду Полевского была создана первая гидроэлектростанция?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4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На Штанговом пруду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2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3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4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5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76" name="Picture 19" descr="Рисунок22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1" dur="indefinite" restart="never" nodeType="tmRoot">
          <p:childTnLst>
            <p:seq>
              <p:cTn id="2642" dur="indefinite" nodeType="mainSeq">
                <p:childTnLst>
                  <p:par>
                    <p:cTn id="2643" fill="hold">
                      <p:stCondLst>
                        <p:cond delay="0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0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4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8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2" dur="2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3" fill="hold">
                            <p:stCondLst>
                              <p:cond delay="6000"/>
                            </p:stCondLst>
                            <p:childTnLst>
                              <p:par>
                                <p:cTn id="2664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4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0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0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6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3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4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6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9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8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2759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От названия какой речки произошло название нашего города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1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Речка Полевая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7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8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9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0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1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2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493" name="Picture 19" descr="Рисунок23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4" dur="indefinite" restart="never" nodeType="tmRoot">
          <p:childTnLst>
            <p:seq>
              <p:cTn id="2765" dur="indefinite" nodeType="mainSeq">
                <p:childTnLst>
                  <p:par>
                    <p:cTn id="2766" fill="hold">
                      <p:stCondLst>
                        <p:cond delay="0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3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7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1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5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7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7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3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7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9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5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28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8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1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0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6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5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1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2882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очему на Железянском пруду поселились лебеди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8" name="AutoShape 6"/>
          <p:cNvSpPr/>
          <p:nvPr/>
        </p:nvSpPr>
        <p:spPr>
          <a:xfrm rot="10800000">
            <a:off x="5076360" y="3500280"/>
            <a:ext cx="331164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лучшилась экология </a:t>
            </a:r>
            <a:br>
              <a:rPr sz="2800"/>
            </a:b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уда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3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4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5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6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8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9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10" name="Picture 19" descr="Рисунок24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87" dur="indefinite" restart="never" nodeType="tmRoot">
          <p:childTnLst>
            <p:seq>
              <p:cTn id="2888" dur="indefinite" nodeType="mainSeq">
                <p:childTnLst>
                  <p:par>
                    <p:cTn id="2889" fill="hold">
                      <p:stCondLst>
                        <p:cond delay="0"/>
                      </p:stCondLst>
                      <p:childTnLst>
                        <p:par>
                          <p:cTn id="2890" fill="hold">
                            <p:stCondLst>
                              <p:cond delay="0"/>
                            </p:stCondLst>
                            <p:childTnLst>
                              <p:par>
                                <p:cTn id="28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6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7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4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8" dur="2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0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6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8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4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5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6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9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1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4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7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6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2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4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3005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95280" y="1341360"/>
            <a:ext cx="8353440" cy="158292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акая единственная река в мире протекает по двум частям света из Азии в Европу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5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Река Чусовая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9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1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3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4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5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6" name="AutoShape 17"/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527" name="Picture 19" descr="Рисунок25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0" dur="indefinite" restart="never" nodeType="tmRoot">
          <p:childTnLst>
            <p:seq>
              <p:cTn id="3011" dur="indefinite" nodeType="mainSeq">
                <p:childTnLst>
                  <p:par>
                    <p:cTn id="3012" fill="hold">
                      <p:stCondLst>
                        <p:cond delay="0"/>
                      </p:stCondLst>
                      <p:childTnLst>
                        <p:par>
                          <p:cTn id="3013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9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3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1" dur="2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3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7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6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1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2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7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9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2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8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7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3128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4"/>
          <p:cNvSpPr/>
          <p:nvPr/>
        </p:nvSpPr>
        <p:spPr>
          <a:xfrm>
            <a:off x="611280" y="2667600"/>
            <a:ext cx="773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Вы –Молодцы!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iming>
    <p:tnLst>
      <p:par>
        <p:cTn id="3133" dur="indefinite" restart="never" nodeType="tmRoot">
          <p:childTnLst>
            <p:seq>
              <p:cTn id="3134" dur="indefinite" nodeType="mainSeq">
                <p:childTnLst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Рисунок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528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Рисунок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Рисунок3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27672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Рисунок4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1636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Рисунок5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15636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Рисунок6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601040" y="47628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Рисунок7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9528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Рисунок8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83528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Рисунок9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327672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Рисунок10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471636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Рисунок11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615636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Рисунок12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7596360" y="184464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Рисунок13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9528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Рисунок14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183528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Рисунок15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327672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Рисунок16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471636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Рисунок17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615636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Рисунок18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7596360" y="321300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2" descr="Рисунок19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39528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3" descr="Рисунок20">
            <a:hlinkClick r:id="rId39" action="ppaction://hlinksldjump"/>
          </p:cNvPr>
          <p:cNvPicPr/>
          <p:nvPr/>
        </p:nvPicPr>
        <p:blipFill>
          <a:blip r:embed="rId40"/>
          <a:stretch/>
        </p:blipFill>
        <p:spPr>
          <a:xfrm>
            <a:off x="183528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4" descr="Рисунок22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327672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5" descr="Рисунок23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471636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6" descr="Рисунок24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6156360" y="4579920"/>
            <a:ext cx="1255680" cy="1255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7" descr="Рисунок25">
            <a:hlinkClick r:id="rId47" action="ppaction://hlinksldjump"/>
          </p:cNvPr>
          <p:cNvPicPr/>
          <p:nvPr/>
        </p:nvPicPr>
        <p:blipFill>
          <a:blip r:embed="rId48"/>
          <a:stretch/>
        </p:blipFill>
        <p:spPr>
          <a:xfrm>
            <a:off x="7596360" y="4579920"/>
            <a:ext cx="1255680" cy="12556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8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AutoShape 29">
            <a:hlinkClick r:id="" action="ppaction://hlinkshowjump?jump=endshow"/>
          </p:cNvPr>
          <p:cNvSpPr/>
          <p:nvPr/>
        </p:nvSpPr>
        <p:spPr>
          <a:xfrm>
            <a:off x="7740720" y="6237360"/>
            <a:ext cx="1224000" cy="431640"/>
          </a:xfrm>
          <a:prstGeom prst="roundRect">
            <a:avLst>
              <a:gd name="adj" fmla="val 16667"/>
            </a:avLst>
          </a:prstGeom>
          <a:solidFill>
            <a:srgbClr val="73f1ac"/>
          </a:solidFill>
          <a:ln w="0">
            <a:noFill/>
          </a:ln>
          <a:effectLst>
            <a:outerShdw dist="17819" dir="2700000" blurRad="0" rotWithShape="0">
              <a:srgbClr val="4591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Выход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908000" y="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32400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Год основания города Полевского?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 rot="10800000">
            <a:off x="514368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В 1718 год.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35" name="Picture 21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22">
            <a:hlinkClick r:id="rId2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8" name="AutoShape 4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95280" y="1268280"/>
            <a:ext cx="8353440" cy="172908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noAutofit/>
          </a:bodyPr>
          <a:p>
            <a:pPr marL="343080" indent="-343080" algn="ctr">
              <a:lnSpc>
                <a:spcPct val="7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Каким изображением клеймили продукцию Сысертского горного округа, куда и входил город Полевской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Цапля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3" name="Picture 20" descr="Рисунок2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70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9000"/>
                            </p:stCondLst>
                            <p:childTnLst>
                              <p:par>
                                <p:cTn id="3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Гумёшевское считается первым на Урале месторождением этого минерала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ahoma"/>
              </a:rPr>
              <a:t>малахит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8" name="Rectangle 18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69" name="Picture 20" descr="Рисунок3"/>
          <p:cNvPicPr/>
          <p:nvPr/>
        </p:nvPicPr>
        <p:blipFill>
          <a:blip r:embed="rId1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21">
            <a:hlinkClick r:id="rId2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60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9000"/>
                            </p:stCondLst>
                            <p:childTnLst>
                              <p:par>
                                <p:cTn id="5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79280" y="1413000"/>
            <a:ext cx="8785440" cy="1584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каком году началось строительство Северского железоделательного завода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 rot="10800000">
            <a:off x="5076360" y="3500280"/>
            <a:ext cx="331164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1735 год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6" name="AutoShape 18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87" name="Picture 19" descr="Рисунок4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6000"/>
                            </p:stCondLst>
                            <p:childTnLst>
                              <p:par>
                                <p:cTn id="569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7000"/>
                            </p:stCondLst>
                            <p:childTnLst>
                              <p:par>
                                <p:cTn id="6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9000"/>
                            </p:stCondLst>
                            <p:childTnLst>
                              <p:par>
                                <p:cTn id="6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664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95280" y="1341360"/>
            <a:ext cx="8353440" cy="1368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Назовите самое высокое место в окрестностях города Полевского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 rot="10800000">
            <a:off x="5148360" y="3500280"/>
            <a:ext cx="3311280" cy="2160720"/>
          </a:xfrm>
          <a:prstGeom prst="wedgeRectCallout">
            <a:avLst>
              <a:gd name="adj1" fmla="val 117592"/>
              <a:gd name="adj2" fmla="val 980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Азов гора, 558 м.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3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04" name="Picture 19" descr="Рисунок5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600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7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7000"/>
                            </p:stCondLst>
                            <p:childTnLst>
                              <p:par>
                                <p:cTn id="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9000"/>
                            </p:stCondLst>
                            <p:childTnLst>
                              <p:par>
                                <p:cTn id="7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78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2050920" y="260280"/>
            <a:ext cx="5832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НИМАНИЕ !  ВОПРОС !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395280" y="1341360"/>
            <a:ext cx="8353440" cy="1800360"/>
          </a:xfrm>
          <a:prstGeom prst="rect">
            <a:avLst/>
          </a:prstGeom>
          <a:solidFill>
            <a:srgbClr val="ffff00">
              <a:alpha val="13000"/>
            </a:srgbClr>
          </a:solidFill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Tahoma"/>
              </a:rPr>
              <a:t>В 1936 году был опубликован первый сборник П.П. Бажова. Как он назывался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84360" y="4076640"/>
            <a:ext cx="194472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Arial"/>
              </a:rPr>
              <a:t>Ответ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 rot="10800000">
            <a:off x="5003280" y="3573360"/>
            <a:ext cx="3816360" cy="2160720"/>
          </a:xfrm>
          <a:prstGeom prst="wedgeRectCallout">
            <a:avLst>
              <a:gd name="adj1" fmla="val 105611"/>
              <a:gd name="adj2" fmla="val 12745"/>
            </a:avLst>
          </a:prstGeom>
          <a:solidFill>
            <a:srgbClr val="ffff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«Девка Азовка»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7928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539640" y="6359400"/>
            <a:ext cx="28908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89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125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61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197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33856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269892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305928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3419640" y="6359400"/>
            <a:ext cx="288720" cy="289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0" name="AutoShape 17">
            <a:hlinkClick r:id="rId1" action="ppaction://hlinksldjump"/>
          </p:cNvPr>
          <p:cNvSpPr/>
          <p:nvPr/>
        </p:nvSpPr>
        <p:spPr>
          <a:xfrm>
            <a:off x="6012000" y="6237360"/>
            <a:ext cx="2952720" cy="431640"/>
          </a:xfrm>
          <a:prstGeom prst="roundRect">
            <a:avLst>
              <a:gd name="adj" fmla="val 16667"/>
            </a:avLst>
          </a:prstGeom>
          <a:solidFill>
            <a:srgbClr val="f2f56f"/>
          </a:solidFill>
          <a:ln w="0">
            <a:noFill/>
          </a:ln>
          <a:effectLst>
            <a:outerShdw dist="17819" dir="2700000" blurRad="0" rotWithShape="0">
              <a:srgbClr val="91934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одолжить игру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21" name="Picture 19" descr="Рисунок6"/>
          <p:cNvPicPr/>
          <p:nvPr/>
        </p:nvPicPr>
        <p:blipFill>
          <a:blip r:embed="rId2"/>
          <a:stretch/>
        </p:blipFill>
        <p:spPr>
          <a:xfrm>
            <a:off x="0" y="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mph" presetID="3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7000"/>
                            </p:stCondLst>
                            <p:childTnLst>
                              <p:par>
                                <p:cTn id="8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8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0000"/>
                            </p:stCondLst>
                            <p:childTnLst>
                              <p:par>
                                <p:cTn id="9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1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9:03:40Z</dcterms:created>
  <dc:creator>СЕРГЕЙ</dc:creator>
  <dc:description/>
  <dc:language>en-US</dc:language>
  <cp:lastModifiedBy>user</cp:lastModifiedBy>
  <dcterms:modified xsi:type="dcterms:W3CDTF">2018-03-17T18:32:44Z</dcterms:modified>
  <cp:revision>81</cp:revision>
  <dc:subject/>
  <dc:title>Слайд 1</dc:title>
</cp:coreProperties>
</file>