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602-410F-4B40-A69D-E61347A9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DF2-9A96-4A18-9453-AC703473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464-BF27-4CB0-9100-EF74A9EA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848-8351-4786-A7DE-0666DC42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4EA9-9530-4F80-BE2F-9E3318AD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466-FF6B-43D3-A027-3AB6A9E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DA4E-7628-47D1-AEB7-C8C445A2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9752-6E03-412F-9615-405EDB0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DBD3-0412-4912-95B2-BF693D97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121-8C8C-44E0-80DC-1D8A5225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E322-B0D1-4CF1-89C7-501A857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778-FE07-4C41-A6C1-19446A73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0A95-A63C-4DCF-9CD7-241BB05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0F3-45B0-4C8F-86C8-8EE165D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0982-7CCD-4D23-869F-94BF485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9B3D-C943-487F-9AC1-47F16121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89A2-EF61-4174-9045-19CD23F0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D0E-E49A-4BAA-B781-D5DD3B4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B44-C9ED-49B8-87DF-65DCAB26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B38-6802-4731-A386-69C84928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D16-8270-4B68-8A3F-EB094440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66A-9046-4CF6-A470-973995D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3F8-6376-479D-8F7B-FBC813B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CCA-51CD-4702-B0CD-916A611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DB2-1239-47E2-9B3E-9D4B83372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5D7-47A1-4D1A-873F-BD6F56551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4.png"/><Relationship Id="rId5" Type="http://schemas.openxmlformats.org/officeDocument/2006/relationships/slide" Target="slide6.xml"/><Relationship Id="rId6" Type="http://schemas.openxmlformats.org/officeDocument/2006/relationships/image" Target="../media/image5.png"/><Relationship Id="rId7" Type="http://schemas.openxmlformats.org/officeDocument/2006/relationships/slide" Target="slide7.xml"/><Relationship Id="rId8" Type="http://schemas.openxmlformats.org/officeDocument/2006/relationships/image" Target="../media/image6.png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" Target="slide10.xml"/><Relationship Id="rId14" Type="http://schemas.openxmlformats.org/officeDocument/2006/relationships/image" Target="../media/image9.png"/><Relationship Id="rId15" Type="http://schemas.openxmlformats.org/officeDocument/2006/relationships/slide" Target="slide11.xml"/><Relationship Id="rId16" Type="http://schemas.openxmlformats.org/officeDocument/2006/relationships/image" Target="../media/image10.png"/><Relationship Id="rId17" Type="http://schemas.openxmlformats.org/officeDocument/2006/relationships/slide" Target="slide12.xml"/><Relationship Id="rId18" Type="http://schemas.openxmlformats.org/officeDocument/2006/relationships/image" Target="../media/image11.png"/><Relationship Id="rId19" Type="http://schemas.openxmlformats.org/officeDocument/2006/relationships/slide" Target="slide13.xml"/><Relationship Id="rId20" Type="http://schemas.openxmlformats.org/officeDocument/2006/relationships/image" Target="../media/image12.png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16.xml"/><Relationship Id="rId26" Type="http://schemas.openxmlformats.org/officeDocument/2006/relationships/image" Target="../media/image15.png"/><Relationship Id="rId27" Type="http://schemas.openxmlformats.org/officeDocument/2006/relationships/slide" Target="slide17.xml"/><Relationship Id="rId28" Type="http://schemas.openxmlformats.org/officeDocument/2006/relationships/image" Target="../media/image16.png"/><Relationship Id="rId29" Type="http://schemas.openxmlformats.org/officeDocument/2006/relationships/slide" Target="slide18.xml"/><Relationship Id="rId30" Type="http://schemas.openxmlformats.org/officeDocument/2006/relationships/image" Target="../media/image17.png"/><Relationship Id="rId31" Type="http://schemas.openxmlformats.org/officeDocument/2006/relationships/slide" Target="slide19.xml"/><Relationship Id="rId32" Type="http://schemas.openxmlformats.org/officeDocument/2006/relationships/image" Target="../media/image18.png"/><Relationship Id="rId33" Type="http://schemas.openxmlformats.org/officeDocument/2006/relationships/slide" Target="slide20.xml"/><Relationship Id="rId34" Type="http://schemas.openxmlformats.org/officeDocument/2006/relationships/image" Target="../media/image19.png"/><Relationship Id="rId35" Type="http://schemas.openxmlformats.org/officeDocument/2006/relationships/slide" Target="slide21.xml"/><Relationship Id="rId36" Type="http://schemas.openxmlformats.org/officeDocument/2006/relationships/image" Target="../media/image20.png"/><Relationship Id="rId37" Type="http://schemas.openxmlformats.org/officeDocument/2006/relationships/slide" Target="slide22.xml"/><Relationship Id="rId38" Type="http://schemas.openxmlformats.org/officeDocument/2006/relationships/image" Target="../media/image21.png"/><Relationship Id="rId39" Type="http://schemas.openxmlformats.org/officeDocument/2006/relationships/slide" Target="slide23.xml"/><Relationship Id="rId40" Type="http://schemas.openxmlformats.org/officeDocument/2006/relationships/image" Target="../media/image22.png"/><Relationship Id="rId41" Type="http://schemas.openxmlformats.org/officeDocument/2006/relationships/slide" Target="slide24.xml"/><Relationship Id="rId42" Type="http://schemas.openxmlformats.org/officeDocument/2006/relationships/image" Target="../media/image23.png"/><Relationship Id="rId43" Type="http://schemas.openxmlformats.org/officeDocument/2006/relationships/slide" Target="slide25.xml"/><Relationship Id="rId44" Type="http://schemas.openxmlformats.org/officeDocument/2006/relationships/image" Target="../media/image24.png"/><Relationship Id="rId45" Type="http://schemas.openxmlformats.org/officeDocument/2006/relationships/slide" Target="slide26.xml"/><Relationship Id="rId46" Type="http://schemas.openxmlformats.org/officeDocument/2006/relationships/image" Target="../media/image25.png"/><Relationship Id="rId47" Type="http://schemas.openxmlformats.org/officeDocument/2006/relationships/slide" Target="slide27.xml"/><Relationship Id="rId48" Type="http://schemas.openxmlformats.org/officeDocument/2006/relationships/image" Target="../media/image26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Calibri"/>
              </a:rPr>
              <a:t>Историко-краеведческая интеллектуальная  игра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а игр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Picture 4" descr="C:\Users\user\Desktop\1511766609_0.jpg"/>
          <p:cNvPicPr/>
          <p:nvPr/>
        </p:nvPicPr>
        <p:blipFill>
          <a:blip r:embed="rId2"/>
          <a:stretch/>
        </p:blipFill>
        <p:spPr>
          <a:xfrm>
            <a:off x="2124000" y="2766960"/>
            <a:ext cx="489600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57120" y="142884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з чего был сделан каменный цветок, который Даниле Мастеру так хотелось увидеть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з малахита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8" name="Picture 19" descr="Рисунок7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6000"/>
                            </p:stCondLst>
                            <p:childTnLst>
                              <p:par>
                                <p:cTn id="93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3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95280" y="1341360"/>
            <a:ext cx="8353440" cy="187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каком году на Северском железоделательном заводе была выпущена первая продукция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739 год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4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55" name="Picture 19" descr="Рисунок8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5280" y="1341360"/>
            <a:ext cx="8353440" cy="187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каком году была открыта первая словесная школа при Северском железоделательном заводе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1941 году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1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2" name="Picture 19" descr="Рисунок9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279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250920" y="1341360"/>
            <a:ext cx="8497800" cy="2232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7 ноября1955 год дата выпуска одной из газет в городе Полевском. Вначале она называлась «Белая жесть».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к она называется сейчас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 rot="10800000">
            <a:off x="5148360" y="3716280"/>
            <a:ext cx="3311280" cy="1944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«Северский рабочий»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8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9" name="Picture 19" descr="Рисунок10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каком году состоялось открытие кинотеатра «Металлург»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ктябрь 1952г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5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6" name="Picture 19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азовите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город побратим города Полевского, в Чехии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латовы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2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3" name="Picture 19" descr="Рисунок1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5280" y="981000"/>
            <a:ext cx="8353440" cy="2448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нус 3 балла!!!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о время строительства этой горы происходили тайные сходки мастеровых, поэтому гора и получила такое название. Какое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умная гора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9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40" name="Picture 19" descr="Рисунок13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0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77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звание этой реки переводится от коми-пермятского светлая, чистая рек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 rot="10800000">
            <a:off x="521928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ка Чусов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57" name="Picture 19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0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395280" y="1268280"/>
            <a:ext cx="8353440" cy="14414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зовите как ранее называлась улица Вершинина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летарск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4" name="Picture 19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02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1052640"/>
            <a:ext cx="8353440" cy="2016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олевской… Город, известный едва ли не каждому. Как правило, знакомство с ним происходит в раннем детстве благодаря замечательным сказам? Кого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Павла Петровича Бажова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91" name="Picture 19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6" dur="indefinite" restart="never" nodeType="tmRoot">
          <p:childTnLst>
            <p:seq>
              <p:cTn id="2027" dur="indefinite" nodeType="mainSeq">
                <p:childTnLst>
                  <p:par>
                    <p:cTn id="2028" fill="hold">
                      <p:stCondLst>
                        <p:cond delay="0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1773360"/>
            <a:ext cx="8496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берите ячейку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читайте вопрос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Через 3 секунды после появления вопроса запускается таймер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ремя на обдумывание – 10 секунд.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сле звукового сигнала через 10 секунд запишите ответ на «бланке ответов» и сдайте членам жюри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AutoShape 6">
            <a:hlinkClick r:id="rId3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ча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95280" y="119700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каком году город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левской получил стутус города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10800000">
            <a:off x="5148000" y="3500280"/>
            <a:ext cx="3671640" cy="2592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казом Президиума Верховного Совета РСФСР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от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7 марта 1942 года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7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08" name="Picture 19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9" dur="indefinite" restart="never" nodeType="tmRoot">
          <p:childTnLst>
            <p:seq>
              <p:cTn id="2150" dur="indefinite" nodeType="mainSeq">
                <p:childTnLst>
                  <p:par>
                    <p:cTn id="2151" fill="hold">
                      <p:stCondLst>
                        <p:cond delay="0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267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Бонус 5 баллов!!!!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то изображено на Гербе города Полевского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аменный цветок,  коронованная ящерица, знак Венеры, восьмиконечная звезда.</a:t>
            </a:r>
            <a:br>
              <a:rPr sz="2000"/>
            </a:b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25" name="Picture 19" descr="Рисунок1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39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Имя какого Почётного гражданина города Полевского присвоено школе №16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0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Чебыкина Геннадия Ивановича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42" name="Picture 19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51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акой пруд раньше назывался   «Казенным»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ерхний пруд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9" name="Picture 19" descr="Рисунок2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8" dur="indefinite" restart="never" nodeType="tmRoot">
          <p:childTnLst>
            <p:seq>
              <p:cTn id="2519" dur="indefinite" nodeType="mainSeq">
                <p:childTnLst>
                  <p:par>
                    <p:cTn id="2520" fill="hold">
                      <p:stCondLst>
                        <p:cond delay="0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5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2636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каком пруду Полевского была создана первая гидроэлектростанция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 Штанговом пруду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6" name="Picture 1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2" dur="2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2759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 названия какой речки произошло название нашего города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чка Полев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3" name="Picture 19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4" dur="indefinite" restart="never" nodeType="tmRoot">
          <p:childTnLst>
            <p:seq>
              <p:cTn id="2765" dur="indefinite" nodeType="mainSeq">
                <p:childTnLst>
                  <p:par>
                    <p:cTn id="2766" fill="hold">
                      <p:stCondLst>
                        <p:cond delay="0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5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88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чему на Железянском пруду поселились лебеди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 rot="10800000">
            <a:off x="507636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лучшилась экология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уда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0" name="Picture 19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7" dur="indefinite" restart="never" nodeType="tmRoot">
          <p:childTnLst>
            <p:seq>
              <p:cTn id="2888" dur="indefinite" nodeType="mainSeq">
                <p:childTnLst>
                  <p:par>
                    <p:cTn id="2889" fill="hold">
                      <p:stCondLst>
                        <p:cond delay="0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300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1341360"/>
            <a:ext cx="8353440" cy="1582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ая единственная река в мире протекает по двум частям света из Азии в Европу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5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ка Чусов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27" name="Picture 19" descr="Рисунок2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0" dur="indefinite" restart="never" nodeType="tmRoot">
          <p:childTnLst>
            <p:seq>
              <p:cTn id="3011" dur="indefinite" nodeType="mainSeq">
                <p:childTnLst>
                  <p:par>
                    <p:cTn id="3012" fill="hold">
                      <p:stCondLst>
                        <p:cond delay="0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312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611280" y="2667600"/>
            <a:ext cx="77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Вы –Молодцы!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Рисунок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Рисунок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Рисунок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Рисунок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Рисунок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0104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Рисунок7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9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Рисунок8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Рисунок9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7672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Рисунок1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71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Рисунок1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15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Рисунок12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59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Рисунок13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Рисунок1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3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Рисунок15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7672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Рисунок16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71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Рисунок17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15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Рисунок18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59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Рисунок19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39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Рисунок2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3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Рисунок2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7672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Рисунок23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71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Рисунок24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15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Рисунок25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6360" y="457992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8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AutoShape 29">
            <a:hlinkClick r:id="" action="ppaction://hlinkshowjump?jump=endshow"/>
          </p:cNvPr>
          <p:cNvSpPr/>
          <p:nvPr/>
        </p:nvSpPr>
        <p:spPr>
          <a:xfrm>
            <a:off x="7740720" y="623736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73f1ac"/>
          </a:solidFill>
          <a:ln w="0">
            <a:noFill/>
          </a:ln>
          <a:effectLst>
            <a:outerShdw dist="17819" dir="2700000" blurRad="0" rotWithShape="0">
              <a:srgbClr val="4591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908000" y="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2400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д основания города Полевского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 rot="10800000">
            <a:off x="514368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 1718 год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5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2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1268280"/>
            <a:ext cx="8353440" cy="17290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им изображением клеймили продукцию Сысертского горного округа, куда и входил город Полевской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Цапля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Picture 20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Гумёшевское считается первым на Урале месторождением этого минерала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малахи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9" name="Picture 20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1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79280" y="1413000"/>
            <a:ext cx="8785440" cy="1584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каком году началось строительство Северского железоделательного завода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rot="10800000">
            <a:off x="507636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735 год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7" name="Picture 19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азовите самое высокое место в окрестностях города Полевского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зов гора, 558 м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4" name="Picture 19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 1936 году был опубликован первый сборник П.П. Бажова. Как он назывался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 rot="10800000">
            <a:off x="5003280" y="3573360"/>
            <a:ext cx="3816360" cy="2160720"/>
          </a:xfrm>
          <a:prstGeom prst="wedgeRectCallout">
            <a:avLst>
              <a:gd name="adj1" fmla="val 105611"/>
              <a:gd name="adj2" fmla="val 1274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«Девка Азовка»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1" name="Picture 19" descr="Рисунок6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03:40Z</dcterms:created>
  <dc:creator>СЕРГЕЙ</dc:creator>
  <dc:description/>
  <dc:language>en-US</dc:language>
  <cp:lastModifiedBy>user</cp:lastModifiedBy>
  <dcterms:modified xsi:type="dcterms:W3CDTF">2018-03-17T18:32:44Z</dcterms:modified>
  <cp:revision>81</cp:revision>
  <dc:subject/>
  <dc:title>Слайд 1</dc:title>
</cp:coreProperties>
</file>