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8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21.gif" ContentType="image/gif"/>
  <Override PartName="/ppt/media/image18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CA5-ACC0-4AF9-B428-DE5CAAAC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01E-CB47-4CA9-A4CB-BFCA8790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912A-FECD-4A89-8CCF-CEEACE8A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22C-EDEC-49A0-8188-29613AD1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F18-E165-4DA3-BFBF-A6FCE59FF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C19-0E07-4A19-8AA0-1285DFE1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239-E141-4D82-A5FD-11746A34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290-575C-47FC-A84E-63ECD6EF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1BC-A9BC-4205-8456-74B03C07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F86-1F6B-4163-B73A-3E71D64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042-FEFE-4968-BFC8-C6877EF7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63D-B299-4C15-BF3F-8E1F2871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4D02-98D0-4B69-9163-D67B1F510F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53DF-2CD8-45FD-A721-6F83C1C1C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hyperlink" Target="http://fotki.yandex.ru/users/ALMAZ-sofiko/view/7667/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 язы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0920" y="1483920"/>
            <a:ext cx="8064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«Омонимы»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начальных классов Акимова Л.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07AE-BF01-4211-B7B8-96D4EF5192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E66F-192E-4A4B-A24D-BA298B4519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72BC-6ED4-4DCB-B62A-5337360823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BAD8-9BC3-41C3-AB47-2A18A0ECEE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24000" y="404640"/>
            <a:ext cx="734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 мы нашли старый зам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ttp://74214s006.edusite.ru/images/p108_pic_10.jpg"/>
          <p:cNvPicPr/>
          <p:nvPr/>
        </p:nvPicPr>
        <p:blipFill>
          <a:blip r:embed="rId1"/>
          <a:stretch/>
        </p:blipFill>
        <p:spPr>
          <a:xfrm>
            <a:off x="324000" y="1916280"/>
            <a:ext cx="3240000" cy="2639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www.mir-snab.ru/img/item/ZamokAmbar.jpg"/>
          <p:cNvPicPr/>
          <p:nvPr/>
        </p:nvPicPr>
        <p:blipFill>
          <a:blip r:embed="rId2"/>
          <a:stretch/>
        </p:blipFill>
        <p:spPr>
          <a:xfrm>
            <a:off x="4788000" y="1936800"/>
            <a:ext cx="3344760" cy="25988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611280" y="485460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5796000" y="485460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708360" y="508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8"/>
          <p:cNvSpPr/>
          <p:nvPr/>
        </p:nvSpPr>
        <p:spPr>
          <a:xfrm flipV="1">
            <a:off x="1258920" y="4854240"/>
            <a:ext cx="144360" cy="23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4"/>
          <p:cNvSpPr/>
          <p:nvPr/>
        </p:nvSpPr>
        <p:spPr>
          <a:xfrm flipV="1">
            <a:off x="7118280" y="4854240"/>
            <a:ext cx="144360" cy="230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B14B-CA2F-4DB8-B340-34C74BE338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A67-65AB-4645-8662-7CF162062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08000" y="33336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газине продавался старинный атл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sport-trenazhor.ru/d/2834-1/tkanevij-m0.jpg"/>
          <p:cNvPicPr/>
          <p:nvPr/>
        </p:nvPicPr>
        <p:blipFill>
          <a:blip r:embed="rId1"/>
          <a:stretch/>
        </p:blipFill>
        <p:spPr>
          <a:xfrm>
            <a:off x="5219640" y="15224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komok.bvf.ru/image/do/1118_7_s2.jpg"/>
          <p:cNvPicPr/>
          <p:nvPr/>
        </p:nvPicPr>
        <p:blipFill>
          <a:blip r:embed="rId2"/>
          <a:stretch/>
        </p:blipFill>
        <p:spPr>
          <a:xfrm>
            <a:off x="324000" y="1222200"/>
            <a:ext cx="2447640" cy="3262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6"/>
          <p:cNvSpPr/>
          <p:nvPr/>
        </p:nvSpPr>
        <p:spPr>
          <a:xfrm>
            <a:off x="503280" y="481644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л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3595680" y="4940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867280" y="484668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л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1"/>
          <p:cNvSpPr/>
          <p:nvPr/>
        </p:nvSpPr>
        <p:spPr>
          <a:xfrm flipV="1">
            <a:off x="900000" y="4708440"/>
            <a:ext cx="14292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2"/>
          <p:cNvSpPr/>
          <p:nvPr/>
        </p:nvSpPr>
        <p:spPr>
          <a:xfrm flipV="1">
            <a:off x="7093080" y="4792680"/>
            <a:ext cx="142920" cy="231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  с  текс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58920" y="1483920"/>
            <a:ext cx="542124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бота с учебнико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тр. 46  упр. 77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малыш.jpg"/>
          <p:cNvPicPr/>
          <p:nvPr/>
        </p:nvPicPr>
        <p:blipFill>
          <a:blip r:embed="rId1"/>
          <a:stretch/>
        </p:blipFill>
        <p:spPr>
          <a:xfrm>
            <a:off x="5214960" y="3000240"/>
            <a:ext cx="2928960" cy="35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 rot="20307600">
            <a:off x="569880" y="2446200"/>
            <a:ext cx="2795760" cy="36385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ить и записать предло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A4B2-0523-4CEB-9509-59E305DF16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1CBD-12E5-4D52-80DB-A406E6D83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324000" y="191628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, месяц, мостик, кран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9280" y="260280"/>
            <a:ext cx="9288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Запишите словосочетания, вставляя пропущенные буквы и в скобочках указав проверочное сло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Зал..зать  на дерево – зал..зать рану, зап..вать куплет – зап..вать лекарство, пол..скать бельё – пол..скать  котён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A07F-4031-4828-AC1C-21C1742A34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564E-0D6F-4E1D-B8E0-872765957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цени 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1" descr="3476-3"/>
          <p:cNvPicPr/>
          <p:nvPr/>
        </p:nvPicPr>
        <p:blipFill>
          <a:blip r:embed="rId1"/>
          <a:stretch/>
        </p:blipFill>
        <p:spPr>
          <a:xfrm>
            <a:off x="214200" y="10000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3475-4"/>
          <p:cNvPicPr/>
          <p:nvPr/>
        </p:nvPicPr>
        <p:blipFill>
          <a:blip r:embed="rId2"/>
          <a:stretch/>
        </p:blipFill>
        <p:spPr>
          <a:xfrm>
            <a:off x="6357960" y="32860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0_1df3_1f74d598_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14800" y="1928880"/>
            <a:ext cx="2357280" cy="22143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310320" y="3500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все яс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9"/>
          <p:cNvSpPr/>
          <p:nvPr/>
        </p:nvSpPr>
        <p:spPr>
          <a:xfrm>
            <a:off x="3200760" y="43578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сомневаю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590616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многое не поня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76092"/>
                </a:solidFill>
                <a:latin typeface="Calibri"/>
              </a:rPr>
              <a:t>Спасибо за работу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7928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Вы умничк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BCA0-532F-4D5A-A306-230336412D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B639-C9F5-40C7-A898-8A01362F94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3314880" y="3143160"/>
            <a:ext cx="2514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79280" y="426960"/>
            <a:ext cx="62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линный и зеленый, я солены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усен и сырой. Кто же я та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149400" y="1716120"/>
            <a:ext cx="44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жидкое — но не вод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нег, а б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165240" y="321300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из золота отли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ломинке сто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im2.tourbina.ru/photos.3/7/2/726632/big.photo.jpg"/>
          <p:cNvPicPr/>
          <p:nvPr/>
        </p:nvPicPr>
        <p:blipFill>
          <a:blip r:embed="rId1"/>
          <a:stretch/>
        </p:blipFill>
        <p:spPr>
          <a:xfrm>
            <a:off x="826920" y="4443480"/>
            <a:ext cx="181944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cs11427.vkontakte.ru/u353937/-6/x_a336d008.jpg"/>
          <p:cNvPicPr/>
          <p:nvPr/>
        </p:nvPicPr>
        <p:blipFill>
          <a:blip r:embed="rId2"/>
          <a:stretch/>
        </p:blipFill>
        <p:spPr>
          <a:xfrm>
            <a:off x="6381720" y="260280"/>
            <a:ext cx="2367000" cy="14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img-2007-12.photosight.ru/01/2439262.jpg"/>
          <p:cNvPicPr/>
          <p:nvPr/>
        </p:nvPicPr>
        <p:blipFill>
          <a:blip r:embed="rId3"/>
          <a:stretch/>
        </p:blipFill>
        <p:spPr>
          <a:xfrm>
            <a:off x="4427640" y="1736640"/>
            <a:ext cx="1846080" cy="122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http://img0.liveinternet.ru/images/attach/c/2/67/570/67570977_1.jpg"/>
          <p:cNvPicPr/>
          <p:nvPr/>
        </p:nvPicPr>
        <p:blipFill>
          <a:blip r:embed="rId4"/>
          <a:stretch/>
        </p:blipFill>
        <p:spPr>
          <a:xfrm>
            <a:off x="4708440" y="3143160"/>
            <a:ext cx="1284480" cy="1710000"/>
          </a:xfrm>
          <a:prstGeom prst="rect">
            <a:avLst/>
          </a:prstGeom>
          <a:ln w="0">
            <a:noFill/>
          </a:ln>
        </p:spPr>
      </p:pic>
      <p:cxnSp>
        <p:nvCxnSpPr>
          <p:cNvPr id="53" name="Прямая со стрелкой 7"/>
          <p:cNvCxnSpPr/>
          <p:nvPr/>
        </p:nvCxnSpPr>
        <p:spPr>
          <a:xfrm flipH="1">
            <a:off x="2194920" y="4508280"/>
            <a:ext cx="1440360" cy="1081800"/>
          </a:xfrm>
          <a:prstGeom prst="straightConnector1">
            <a:avLst/>
          </a:prstGeom>
          <a:ln w="6660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TextBox 8"/>
          <p:cNvSpPr/>
          <p:nvPr/>
        </p:nvSpPr>
        <p:spPr>
          <a:xfrm>
            <a:off x="2809800" y="5100480"/>
            <a:ext cx="323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78000" y="1901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землею с давних п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рыто много нор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ним туда-сюд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ездят поез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www.vitbichi.by/wp-content/uploads/2011/04/221.jpg"/>
          <p:cNvPicPr/>
          <p:nvPr/>
        </p:nvPicPr>
        <p:blipFill>
          <a:blip r:embed="rId1"/>
          <a:stretch/>
        </p:blipFill>
        <p:spPr>
          <a:xfrm>
            <a:off x="5076720" y="2708280"/>
            <a:ext cx="2662200" cy="177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http://im6-tub-ru.yandex.net/i?id=142321438-35-72&amp;n=21"/>
          <p:cNvPicPr/>
          <p:nvPr/>
        </p:nvPicPr>
        <p:blipFill>
          <a:blip r:embed="rId2"/>
          <a:stretch/>
        </p:blipFill>
        <p:spPr>
          <a:xfrm>
            <a:off x="5292720" y="333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50920" y="4762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остуды помог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аем в самый раз бы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324000" y="33336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исать в тетрад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рвого слова – первую бук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торого слова – первую букву букв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ретьего слова – первую бук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твертого слова – последнюю бук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ятого слова – ударную букв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шестого слова – первую бу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124000" y="3645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Какое слово получи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476360" y="4365720"/>
            <a:ext cx="57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ОНИ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484360" y="90792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343353"/>
          <p:cNvPicPr/>
          <p:nvPr/>
        </p:nvPicPr>
        <p:blipFill>
          <a:blip r:embed="rId1"/>
          <a:stretch/>
        </p:blipFill>
        <p:spPr>
          <a:xfrm>
            <a:off x="6248520" y="4076640"/>
            <a:ext cx="2895480" cy="2781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08000" y="692280"/>
            <a:ext cx="87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монимы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лова, которые звучат (и пишутся) одинаково, а по смыслу не имеют ничего общег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611280" y="220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6084720" y="3716280"/>
            <a:ext cx="18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ой л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im7-tub-ru.yandex.net/i?id=491792089-47-72&amp;n=21"/>
          <p:cNvPicPr/>
          <p:nvPr/>
        </p:nvPicPr>
        <p:blipFill>
          <a:blip r:embed="rId1"/>
          <a:stretch/>
        </p:blipFill>
        <p:spPr>
          <a:xfrm>
            <a:off x="108000" y="635040"/>
            <a:ext cx="3959280" cy="2970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76360" y="379404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ький л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://papa-vlad.narod.ru/data/predmety/Igrushki-6.files/0004-006-Luk-i-strela.jpg"/>
          <p:cNvPicPr/>
          <p:nvPr/>
        </p:nvPicPr>
        <p:blipFill>
          <a:blip r:embed="rId2"/>
          <a:stretch/>
        </p:blipFill>
        <p:spPr>
          <a:xfrm>
            <a:off x="4716360" y="817560"/>
            <a:ext cx="432756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B814-D242-4B62-96E9-F5BF40D2780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B88C-043E-46F0-8547-9CE03D3F8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7648-6DA0-4177-98B7-3CA6FBD569B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D394-A831-4C69-AD7B-78EE073016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11280" y="290520"/>
            <a:ext cx="811368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бота с учебником стр.45 упр. 75(уст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BB1C-1862-48A4-B22E-5188812BF8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3A08-935D-4DD5-8B65-4FEF32F51D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ttp://im3-tub-ru.yandex.net/i?id=303129369-00-72&amp;n=21"/>
          <p:cNvPicPr/>
          <p:nvPr/>
        </p:nvPicPr>
        <p:blipFill>
          <a:blip r:embed="rId1"/>
          <a:stretch/>
        </p:blipFill>
        <p:spPr>
          <a:xfrm>
            <a:off x="250920" y="1052640"/>
            <a:ext cx="3309840" cy="1947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468360" y="306864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ичья к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http://www.shkolasadovoda.ru/gallery/2767.jpg"/>
          <p:cNvPicPr/>
          <p:nvPr/>
        </p:nvPicPr>
        <p:blipFill>
          <a:blip r:embed="rId2"/>
          <a:stretch/>
        </p:blipFill>
        <p:spPr>
          <a:xfrm>
            <a:off x="5076720" y="1063800"/>
            <a:ext cx="2828880" cy="193644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5364000" y="306864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ая к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9:23:25Z</dcterms:created>
  <dc:creator>1</dc:creator>
  <dc:description/>
  <dc:language>en-US</dc:language>
  <cp:lastModifiedBy>Люда</cp:lastModifiedBy>
  <dcterms:modified xsi:type="dcterms:W3CDTF">2020-03-25T10:21:35Z</dcterms:modified>
  <cp:revision>39</cp:revision>
  <dc:subject/>
  <dc:title>Слайд 1</dc:title>
</cp:coreProperties>
</file>