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21.gif" ContentType="image/gif"/>
  <Override PartName="/ppt/media/image18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5DD-E5E2-4F70-9F6E-E017ED10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37D-AEC4-49D5-A262-5D7A963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F80-C8FA-4DCE-9044-31DF80B7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BBA-E1D5-458D-B197-D2E6CE30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B54-02B4-41E5-A036-6EB5AF5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067-CF38-4CA3-B6F5-E4A3AE86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BF2-459F-4D74-A220-8B2CD0A4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B81-58F8-41C0-BA00-734171A9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DB5-A2FB-4B36-82DF-5E654028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1A6-8FED-4729-A2DC-6FC0C86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A6A-581E-484F-970A-666A7EC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AFD-A6B1-4A8D-A6D9-75312819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14F3-8A53-40F3-889A-34DAF5509E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3A6B-2CD8-4A2D-9E7C-353D5E723A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hyperlink" Target="http://fotki.yandex.ru/users/ALMAZ-sofiko/view/7667/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0920" y="1483920"/>
            <a:ext cx="8064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«Омонимы»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начальных классов Акимова Л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D5F3-DEF7-4F70-81B2-03370D26C6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7111-BB0B-4EA6-B5AD-5EB3D32EF4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5552-2361-4EB6-8286-C6DBFF22AD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1C39-10F4-444D-AC0D-8E7E1911C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24000" y="404640"/>
            <a:ext cx="73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 мы нашли старый зам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ttp://74214s006.edusite.ru/images/p108_pic_10.jpg"/>
          <p:cNvPicPr/>
          <p:nvPr/>
        </p:nvPicPr>
        <p:blipFill>
          <a:blip r:embed="rId1"/>
          <a:stretch/>
        </p:blipFill>
        <p:spPr>
          <a:xfrm>
            <a:off x="324000" y="1916280"/>
            <a:ext cx="3240000" cy="263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www.mir-snab.ru/img/item/ZamokAmbar.jpg"/>
          <p:cNvPicPr/>
          <p:nvPr/>
        </p:nvPicPr>
        <p:blipFill>
          <a:blip r:embed="rId2"/>
          <a:stretch/>
        </p:blipFill>
        <p:spPr>
          <a:xfrm>
            <a:off x="4788000" y="1936800"/>
            <a:ext cx="3344760" cy="2598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11280" y="48546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5796000" y="48546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708360" y="508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8"/>
          <p:cNvSpPr/>
          <p:nvPr/>
        </p:nvSpPr>
        <p:spPr>
          <a:xfrm flipV="1">
            <a:off x="1258920" y="4854240"/>
            <a:ext cx="144360" cy="23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4"/>
          <p:cNvSpPr/>
          <p:nvPr/>
        </p:nvSpPr>
        <p:spPr>
          <a:xfrm flipV="1">
            <a:off x="7118280" y="4854240"/>
            <a:ext cx="144360" cy="23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9D55-14BF-47F1-A942-86C8E66F83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4490-889D-4F24-87BC-3DF5CF4DB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08000" y="33336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газине продавался старинный атл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sport-trenazhor.ru/d/2834-1/tkanevij-m0.jpg"/>
          <p:cNvPicPr/>
          <p:nvPr/>
        </p:nvPicPr>
        <p:blipFill>
          <a:blip r:embed="rId1"/>
          <a:stretch/>
        </p:blipFill>
        <p:spPr>
          <a:xfrm>
            <a:off x="5219640" y="15224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komok.bvf.ru/image/do/1118_7_s2.jpg"/>
          <p:cNvPicPr/>
          <p:nvPr/>
        </p:nvPicPr>
        <p:blipFill>
          <a:blip r:embed="rId2"/>
          <a:stretch/>
        </p:blipFill>
        <p:spPr>
          <a:xfrm>
            <a:off x="324000" y="1222200"/>
            <a:ext cx="2447640" cy="3262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503280" y="481644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л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595680" y="4940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867280" y="484668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л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 flipV="1">
            <a:off x="900000" y="4708440"/>
            <a:ext cx="14292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2"/>
          <p:cNvSpPr/>
          <p:nvPr/>
        </p:nvSpPr>
        <p:spPr>
          <a:xfrm flipV="1">
            <a:off x="7093080" y="4792680"/>
            <a:ext cx="14292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 с  текс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58920" y="1483920"/>
            <a:ext cx="542124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бота с учебник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тр. 46  упр. 77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малыш.jpg"/>
          <p:cNvPicPr/>
          <p:nvPr/>
        </p:nvPicPr>
        <p:blipFill>
          <a:blip r:embed="rId1"/>
          <a:stretch/>
        </p:blipFill>
        <p:spPr>
          <a:xfrm>
            <a:off x="5214960" y="3000240"/>
            <a:ext cx="2928960" cy="35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 rot="20307600">
            <a:off x="569880" y="2446200"/>
            <a:ext cx="2795760" cy="3638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ить и записать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46BE-460D-467A-977F-1CB72E34AC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0D50-E7B4-45B9-879C-A770E064D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24000" y="191628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, месяц, мостик, кра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9280" y="260280"/>
            <a:ext cx="9288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пишите словосочетания, вставляя пропущенные буквы и в скобочках указав проверочное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Зал..зать  на дерево – зал..зать рану, зап..вать куплет – зап..вать лекарство, пол..скать бельё – пол..скать  котён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A97F-705A-4C67-9EF1-6A05F370D6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D9CB-E982-44E1-9CB6-E65CCEEB2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цени 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1" descr="3476-3"/>
          <p:cNvPicPr/>
          <p:nvPr/>
        </p:nvPicPr>
        <p:blipFill>
          <a:blip r:embed="rId1"/>
          <a:stretch/>
        </p:blipFill>
        <p:spPr>
          <a:xfrm>
            <a:off x="214200" y="10000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3475-4"/>
          <p:cNvPicPr/>
          <p:nvPr/>
        </p:nvPicPr>
        <p:blipFill>
          <a:blip r:embed="rId2"/>
          <a:stretch/>
        </p:blipFill>
        <p:spPr>
          <a:xfrm>
            <a:off x="6357960" y="32860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0_1df3_1f74d598_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14800" y="1928880"/>
            <a:ext cx="2357280" cy="22143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310320" y="3500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все я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3200760" y="43578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омневаю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590616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многое не пон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Вы умничк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A5A3-648E-4DE5-9E93-A23A1C2ADE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949-8923-4C02-88AD-541DAD31B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3314880" y="3143160"/>
            <a:ext cx="2514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79280" y="426960"/>
            <a:ext cx="62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линный и зеленый, я солен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ен и сырой. Кто же я т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49400" y="1716120"/>
            <a:ext cx="44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жидкое — но не вод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нег, а б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165240" y="321300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из золота отли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ломинке ст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im2.tourbina.ru/photos.3/7/2/726632/big.photo.jpg"/>
          <p:cNvPicPr/>
          <p:nvPr/>
        </p:nvPicPr>
        <p:blipFill>
          <a:blip r:embed="rId1"/>
          <a:stretch/>
        </p:blipFill>
        <p:spPr>
          <a:xfrm>
            <a:off x="826920" y="4443480"/>
            <a:ext cx="181944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cs11427.vkontakte.ru/u353937/-6/x_a336d008.jpg"/>
          <p:cNvPicPr/>
          <p:nvPr/>
        </p:nvPicPr>
        <p:blipFill>
          <a:blip r:embed="rId2"/>
          <a:stretch/>
        </p:blipFill>
        <p:spPr>
          <a:xfrm>
            <a:off x="6381720" y="260280"/>
            <a:ext cx="2367000" cy="14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img-2007-12.photosight.ru/01/2439262.jpg"/>
          <p:cNvPicPr/>
          <p:nvPr/>
        </p:nvPicPr>
        <p:blipFill>
          <a:blip r:embed="rId3"/>
          <a:stretch/>
        </p:blipFill>
        <p:spPr>
          <a:xfrm>
            <a:off x="4427640" y="1736640"/>
            <a:ext cx="1846080" cy="12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img0.liveinternet.ru/images/attach/c/2/67/570/67570977_1.jpg"/>
          <p:cNvPicPr/>
          <p:nvPr/>
        </p:nvPicPr>
        <p:blipFill>
          <a:blip r:embed="rId4"/>
          <a:stretch/>
        </p:blipFill>
        <p:spPr>
          <a:xfrm>
            <a:off x="4708440" y="3143160"/>
            <a:ext cx="1284480" cy="171000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7"/>
          <p:cNvCxnSpPr/>
          <p:nvPr/>
        </p:nvCxnSpPr>
        <p:spPr>
          <a:xfrm flipH="1">
            <a:off x="2194920" y="4508280"/>
            <a:ext cx="1440360" cy="108180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TextBox 8"/>
          <p:cNvSpPr/>
          <p:nvPr/>
        </p:nvSpPr>
        <p:spPr>
          <a:xfrm>
            <a:off x="2809800" y="5100480"/>
            <a:ext cx="323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78000" y="1901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землею с давних п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рыто много нор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ним туда-сю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ездят поез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vitbichi.by/wp-content/uploads/2011/04/221.jpg"/>
          <p:cNvPicPr/>
          <p:nvPr/>
        </p:nvPicPr>
        <p:blipFill>
          <a:blip r:embed="rId1"/>
          <a:stretch/>
        </p:blipFill>
        <p:spPr>
          <a:xfrm>
            <a:off x="5076720" y="2708280"/>
            <a:ext cx="2662200" cy="177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://im6-tub-ru.yandex.net/i?id=142321438-35-72&amp;n=21"/>
          <p:cNvPicPr/>
          <p:nvPr/>
        </p:nvPicPr>
        <p:blipFill>
          <a:blip r:embed="rId2"/>
          <a:stretch/>
        </p:blipFill>
        <p:spPr>
          <a:xfrm>
            <a:off x="5292720" y="333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50920" y="4762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студы помог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аем в самый раз 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24000" y="33336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исать в тетрад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рвого слова – первую бук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торого слова – первую букву букв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ретьего слова – первую бук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твертого слова – последнюю бук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ятого слова – ударную бук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шестого слова – первую бу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124000" y="3645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Какое слово по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476360" y="4365720"/>
            <a:ext cx="57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ОНИ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484360" y="90792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343353"/>
          <p:cNvPicPr/>
          <p:nvPr/>
        </p:nvPicPr>
        <p:blipFill>
          <a:blip r:embed="rId1"/>
          <a:stretch/>
        </p:blipFill>
        <p:spPr>
          <a:xfrm>
            <a:off x="6248520" y="4076640"/>
            <a:ext cx="2895480" cy="278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08000" y="692280"/>
            <a:ext cx="87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онимы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лова, которые звучат (и пишутся) одинаково, а по смыслу не имеют ничего обще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6084720" y="3716280"/>
            <a:ext cx="18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ой л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im7-tub-ru.yandex.net/i?id=491792089-47-72&amp;n=21"/>
          <p:cNvPicPr/>
          <p:nvPr/>
        </p:nvPicPr>
        <p:blipFill>
          <a:blip r:embed="rId1"/>
          <a:stretch/>
        </p:blipFill>
        <p:spPr>
          <a:xfrm>
            <a:off x="108000" y="635040"/>
            <a:ext cx="3959280" cy="2970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76360" y="379404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ький л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://papa-vlad.narod.ru/data/predmety/Igrushki-6.files/0004-006-Luk-i-strela.jpg"/>
          <p:cNvPicPr/>
          <p:nvPr/>
        </p:nvPicPr>
        <p:blipFill>
          <a:blip r:embed="rId2"/>
          <a:stretch/>
        </p:blipFill>
        <p:spPr>
          <a:xfrm>
            <a:off x="4716360" y="817560"/>
            <a:ext cx="43275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20F3-19D4-4C8E-BBBD-7C31BBF201D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226D-5989-4A9B-BC07-064ED009A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A50F-0F70-47C2-8428-B047B8B0D0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8902-34BA-4A3F-9889-EC9509A2B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11280" y="290520"/>
            <a:ext cx="811368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учебником стр.45 упр. 75(уст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E90C-AF41-49FF-88FB-8FA09137AB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A7D3-50B7-461A-B8B2-D1B287D2E8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ttp://im3-tub-ru.yandex.net/i?id=303129369-00-72&amp;n=21"/>
          <p:cNvPicPr/>
          <p:nvPr/>
        </p:nvPicPr>
        <p:blipFill>
          <a:blip r:embed="rId1"/>
          <a:stretch/>
        </p:blipFill>
        <p:spPr>
          <a:xfrm>
            <a:off x="250920" y="1052640"/>
            <a:ext cx="3309840" cy="1947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468360" y="306864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чья к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ttp://www.shkolasadovoda.ru/gallery/2767.jpg"/>
          <p:cNvPicPr/>
          <p:nvPr/>
        </p:nvPicPr>
        <p:blipFill>
          <a:blip r:embed="rId2"/>
          <a:stretch/>
        </p:blipFill>
        <p:spPr>
          <a:xfrm>
            <a:off x="5076720" y="1063800"/>
            <a:ext cx="2828880" cy="193644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5364000" y="306864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к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9:23:25Z</dcterms:created>
  <dc:creator>1</dc:creator>
  <dc:description/>
  <dc:language>en-US</dc:language>
  <cp:lastModifiedBy>Люда</cp:lastModifiedBy>
  <dcterms:modified xsi:type="dcterms:W3CDTF">2020-03-25T10:21:35Z</dcterms:modified>
  <cp:revision>39</cp:revision>
  <dc:subject/>
  <dc:title>Слайд 1</dc:title>
</cp:coreProperties>
</file>