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8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gif" ContentType="image/gif"/>
  <Override PartName="/ppt/media/image21.gif" ContentType="image/gif"/>
  <Override PartName="/ppt/media/image19.wmf" ContentType="image/x-wmf"/>
  <Override PartName="/ppt/media/image17.wmf" ContentType="image/x-wmf"/>
  <Override PartName="/ppt/media/image16.gif" ContentType="image/gif"/>
  <Override PartName="/ppt/media/image1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10.gif" ContentType="image/gif"/>
  <Override PartName="/ppt/media/image33.wmf" ContentType="image/x-wmf"/>
  <Override PartName="/ppt/media/image37.jpeg" ContentType="image/jpeg"/>
  <Override PartName="/ppt/media/image32.wmf" ContentType="image/x-wmf"/>
  <Override PartName="/ppt/media/image30.gif" ContentType="image/gif"/>
  <Override PartName="/ppt/media/image34.wmf" ContentType="image/x-wmf"/>
  <Override PartName="/ppt/media/image42.jpeg" ContentType="image/jpeg"/>
  <Override PartName="/ppt/media/image35.wmf" ContentType="image/x-wmf"/>
  <Override PartName="/ppt/media/image13.gif" ContentType="image/gif"/>
  <Override PartName="/ppt/media/image40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43.jpeg" ContentType="image/jpeg"/>
  <Override PartName="/ppt/media/image11.gif" ContentType="image/gif"/>
  <Override PartName="/ppt/media/image44.wmf" ContentType="image/x-wmf"/>
  <Override PartName="/ppt/media/image31.wmf" ContentType="image/x-wmf"/>
  <Override PartName="/ppt/media/image7.jpeg" ContentType="image/jpeg"/>
  <Override PartName="/ppt/media/image4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38.png" ContentType="image/png"/>
  <Override PartName="/ppt/media/image8.jpeg" ContentType="image/jpeg"/>
  <Override PartName="/ppt/media/image3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26A-C37D-405D-98AF-60A7DF6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BAB-0B4A-4DED-A868-8CBD10E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471-C76D-4802-A007-EEE8B95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C3D-42D3-4C87-86B6-98BB309A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DD4D-135A-4E99-8D10-B926B45C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6E2-AB69-4143-B358-B146AABF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FD0-957E-49F1-83CB-53450168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E4C8-6B88-47B1-83D5-149952A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BCE1-32AE-4C68-AC71-0BD1128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1477-7D24-4740-AEF9-E55024E1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F74D-3BD3-4158-8459-92F1B08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FE4-8E10-44CB-83F2-934C7F9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A9D7-F74D-4A71-81C1-D77E8BF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063-9628-4364-B015-04FE8AB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A16-347F-4513-AC44-A8C824A2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BE3A-2F60-43E1-B3FB-8860E04C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D26F-C4F2-49D1-B92C-05908E9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378F-FE5C-4D27-A797-E41171F7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2909-35F4-4BFE-AC77-23156FA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F321-85C9-48B8-93A6-C893A1ED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A71F-D5A7-48EA-8C1C-8A06F858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5169-4D9C-451C-B9B1-103AE367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66A-7EE0-4CE6-B552-24AADD0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E444-EF41-4B54-9BAE-1756DC01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220E-47A9-4792-8E3A-E01C85C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EE76-6407-429D-88AF-15C3533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64F2-18AD-4AD4-8C9B-BCD4CC2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45CB-88DA-46C8-B89F-67441740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E3FC-2045-4D32-851B-B1A3FEFA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1DE9-D015-45DA-B480-110C3E2A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25DD-5ADC-48CA-8E01-FF60D44E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1B47-3571-49AC-ACC7-C897A2BC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8F2C-B598-4E1A-AE52-089F036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43C-B7C9-41A4-A101-3378381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8B8C-7F8C-4061-A320-F181F53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29C3-C740-48E0-AFF3-8EC3DB7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4A55-637D-4FDF-B97E-D01065DE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22AE-1407-4D29-B884-A3405E2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4503-92CA-409C-A933-D31509B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816C-B9AF-4A7B-8B3B-1722B0F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5B3C-BA1B-4199-8DB4-4FC0A1EE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2FB1-CB64-4438-AC7A-B7727649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98A7-60B6-4CB5-B1FB-804EB86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589F-3BFD-4718-8B84-B2E29EDA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E39-94B3-426A-BBCD-4E258AE3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D268-A827-4EAA-ACFE-57FEEF2A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939F-6D6D-4CC6-87A5-384B690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E69B-A476-4B0E-911F-8F115CFA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7A4A-EEE8-43A8-B7AE-1CA0208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1F81-BC3E-499B-85CF-762B820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68558-A307-411C-9CEC-4078BC1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B57F-708D-4AB5-9079-4D77595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9ECD-E3AA-462F-B847-985015D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22EA-2DE4-4482-94CB-825DA9E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9FA5-B117-4DB5-9EE1-710C7DA2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A9D-F507-45B9-A7E2-52EC09D5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DAF0-6727-4A6F-A6EF-D89AD428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00B1-6C7B-47C9-83DB-39AD3CA6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C555-01AA-4793-B393-4CACB66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1AE09-6A51-492B-A99A-C47F8260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CF6E-9AAF-4F5D-8493-609A208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5DF7-7558-4DC2-97A7-FDF7044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4ACC-F799-4AA1-8992-0621AB1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9108-8B7D-413B-B01A-02E5FAA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18DC-48B1-4EBC-B661-EBF63B13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9113-FC32-4CAE-889B-7F3FC12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941-04FB-48A2-B449-33B3B7B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DC18-F6EC-4B65-828B-0B34DEC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9A62-F06C-4FED-95D5-FCF6210A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333F-DC4E-40F3-B870-99DECE0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B04-E1B5-4272-94F8-17AA45B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D41-0AEC-4147-BE25-990512E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C7A-4CEC-4FE7-B491-DE11246ED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310-34DB-4110-8704-5630A144B8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0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20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21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130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133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6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139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142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145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148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15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7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66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175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17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181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186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195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198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0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210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13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16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1864-497E-44A8-8DB1-09DDD8A040D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7DA-AB96-4B3C-84E7-B5B4F1C8EB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277-F655-4C1F-B048-C3A07DD31B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632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6320"/>
                    <a:ext cx="3039840" cy="2529000"/>
                    <a:chOff x="5787720" y="214632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1916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1400"/>
                    <a:ext cx="2557440" cy="2742120"/>
                    <a:chOff x="2646360" y="2471400"/>
                    <a:chExt cx="255744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240" y="2495520"/>
                      <a:ext cx="20678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8280" y="2095560"/>
                    <a:ext cx="2936520" cy="1001520"/>
                    <a:chOff x="2168280" y="2095560"/>
                    <a:chExt cx="2936520" cy="100152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1560"/>
                      <a:ext cx="19036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0040"/>
                    <a:ext cx="2658600" cy="448560"/>
                    <a:chOff x="2403720" y="2030040"/>
                    <a:chExt cx="2658600" cy="44856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676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840" y="1519560"/>
                    <a:ext cx="2363760" cy="787320"/>
                    <a:chOff x="2760840" y="1519560"/>
                    <a:chExt cx="236376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920" y="1608120"/>
                      <a:ext cx="81612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600"/>
                    <a:ext cx="2323800" cy="1082520"/>
                    <a:chOff x="2887200" y="123660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3600" y="17863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000" y="13705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0440" y="828000"/>
                    <a:ext cx="2170800" cy="1508400"/>
                    <a:chOff x="3160440" y="828000"/>
                    <a:chExt cx="2170800" cy="15084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0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6520" y="101952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6920" y="434520"/>
                    <a:ext cx="1987920" cy="1831680"/>
                    <a:chOff x="3436920" y="434520"/>
                    <a:chExt cx="1987920" cy="183168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320" y="149868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000" y="66456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7320" y="327960"/>
                    <a:ext cx="1462680" cy="1892160"/>
                    <a:chOff x="4027320" y="327960"/>
                    <a:chExt cx="1462680" cy="189216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920" y="1441440"/>
                      <a:ext cx="1358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3080" y="538560"/>
                      <a:ext cx="72828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160" y="245160"/>
                    <a:ext cx="1123920" cy="1948320"/>
                    <a:chOff x="4448160" y="245160"/>
                    <a:chExt cx="1123920" cy="19483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360" y="948240"/>
                    <a:ext cx="2319480" cy="1114920"/>
                    <a:chOff x="5661360" y="948240"/>
                    <a:chExt cx="2319480" cy="111492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240" y="152100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86120"/>
                      <a:ext cx="8175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6400" y="1462680"/>
                    <a:ext cx="12657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6800" y="268200"/>
                    <a:ext cx="1193400" cy="1899000"/>
                    <a:chOff x="5356800" y="268200"/>
                    <a:chExt cx="1193400" cy="189900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7880" y="141444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5280" y="484200"/>
                      <a:ext cx="7034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3760"/>
                    <a:ext cx="1890000" cy="1796760"/>
                    <a:chOff x="5350320" y="383760"/>
                    <a:chExt cx="1890000" cy="179676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49880" y="1383120"/>
                      <a:ext cx="14270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2960" y="580680"/>
                      <a:ext cx="76788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040" y="290160"/>
                    <a:ext cx="425160" cy="1796040"/>
                    <a:chOff x="5459040" y="290160"/>
                    <a:chExt cx="425160" cy="1796040"/>
                  </a:xfrm>
                </p:grpSpPr>
                <p:sp>
                  <p:nvSpPr>
                    <p:cNvPr id="469" name="Freeform 84"/>
                    <p:cNvSpPr/>
                    <p:nvPr/>
                  </p:nvSpPr>
                  <p:spPr>
                    <a:xfrm rot="16696200">
                      <a:off x="5006880" y="1442520"/>
                      <a:ext cx="117828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85"/>
                    <p:cNvSpPr/>
                    <p:nvPr/>
                  </p:nvSpPr>
                  <p:spPr>
                    <a:xfrm rot="16696200">
                      <a:off x="5441040" y="53100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0800" y="2648880"/>
                    <a:ext cx="1481760" cy="3000600"/>
                    <a:chOff x="3790800" y="2648880"/>
                    <a:chExt cx="1481760" cy="30006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7880" y="3439800"/>
                      <a:ext cx="196668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1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560" y="2697480"/>
                    <a:ext cx="876960" cy="2931840"/>
                    <a:chOff x="4507560" y="2697480"/>
                    <a:chExt cx="876960" cy="293184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6000" y="3484800"/>
                      <a:ext cx="18903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5720" y="480708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6960" y="2593440"/>
                    <a:ext cx="1756080" cy="3029400"/>
                    <a:chOff x="5646960" y="2593440"/>
                    <a:chExt cx="1756080" cy="302940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4640" y="3395160"/>
                      <a:ext cx="203328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480" y="4718880"/>
                      <a:ext cx="108864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760" y="2708280"/>
                    <a:ext cx="1227960" cy="2988720"/>
                    <a:chOff x="5576760" y="2708280"/>
                    <a:chExt cx="1227960" cy="298872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8280" y="3539520"/>
                      <a:ext cx="19717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80960" y="488088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6440"/>
                    <a:ext cx="696600" cy="2782800"/>
                    <a:chOff x="5521320" y="2836440"/>
                    <a:chExt cx="696600" cy="278280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3960"/>
                      <a:ext cx="1813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5040"/>
                      <a:ext cx="9745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2600" y="2883960"/>
                    <a:ext cx="666000" cy="2718000"/>
                    <a:chOff x="4962600" y="2883960"/>
                    <a:chExt cx="666000" cy="271800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2640"/>
                      <a:ext cx="177516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7440" y="4926960"/>
                      <a:ext cx="951480" cy="36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7932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3440"/>
                    <a:ext cx="94068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6576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52080"/>
                <a:ext cx="123804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382C-D1FB-4DAA-9BBD-2F872540775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тгадайте загад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TextBox 3"/>
          <p:cNvSpPr/>
          <p:nvPr/>
        </p:nvSpPr>
        <p:spPr>
          <a:xfrm flipH="1">
            <a:off x="456480" y="3276720"/>
            <a:ext cx="84582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Кудри в речку опуст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 чем-то загрусти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о чем она груст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му не говор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380880" y="14479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Этот глаз - особый гл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о взглянет он на ва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явится на с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точный ваш портр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33520" y="5257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вернешь - кл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рнешь - бл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ктр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жение и отталкивание наэлектризованны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BD19823_"/>
          <p:cNvPicPr/>
          <p:nvPr/>
        </p:nvPicPr>
        <p:blipFill>
          <a:blip r:embed="rId1"/>
          <a:stretch/>
        </p:blipFill>
        <p:spPr>
          <a:xfrm>
            <a:off x="5257800" y="3236760"/>
            <a:ext cx="3538440" cy="3345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AG00005_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гнитн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магнитов на 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Земли на стрелку ком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нитное взаимодействие 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HH02313_"/>
          <p:cNvPicPr/>
          <p:nvPr/>
        </p:nvPicPr>
        <p:blipFill>
          <a:blip r:embed="rId1"/>
          <a:stretch/>
        </p:blipFill>
        <p:spPr>
          <a:xfrm flipH="1" rot="2869800">
            <a:off x="-14040" y="3949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BD19819_"/>
          <p:cNvPicPr/>
          <p:nvPr/>
        </p:nvPicPr>
        <p:blipFill>
          <a:blip r:embed="rId2"/>
          <a:stretch/>
        </p:blipFill>
        <p:spPr>
          <a:xfrm>
            <a:off x="2895480" y="3886200"/>
            <a:ext cx="36576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пл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283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яние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сн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электронагреватель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J0076206"/>
          <p:cNvPicPr/>
          <p:nvPr/>
        </p:nvPicPr>
        <p:blipFill>
          <a:blip r:embed="rId1"/>
          <a:stretch/>
        </p:blipFill>
        <p:spPr>
          <a:xfrm>
            <a:off x="228600" y="304920"/>
            <a:ext cx="695160" cy="1361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SO00505_"/>
          <p:cNvPicPr/>
          <p:nvPr/>
        </p:nvPicPr>
        <p:blipFill>
          <a:blip r:embed="rId2"/>
          <a:stretch/>
        </p:blipFill>
        <p:spPr>
          <a:xfrm>
            <a:off x="6862680" y="3581280"/>
            <a:ext cx="1935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вук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чание камертона, музыкального инструмента (гитары),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MC900237560[1]"/>
          <p:cNvPicPr/>
          <p:nvPr/>
        </p:nvPicPr>
        <p:blipFill>
          <a:blip r:embed="rId1"/>
          <a:stretch/>
        </p:blipFill>
        <p:spPr>
          <a:xfrm>
            <a:off x="380880" y="228600"/>
            <a:ext cx="1249560" cy="1371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MC900280947[1]"/>
          <p:cNvPicPr/>
          <p:nvPr/>
        </p:nvPicPr>
        <p:blipFill>
          <a:blip r:embed="rId2"/>
          <a:stretch/>
        </p:blipFill>
        <p:spPr>
          <a:xfrm>
            <a:off x="2133720" y="3124080"/>
            <a:ext cx="2189160" cy="2336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MC900352048[1]"/>
          <p:cNvPicPr/>
          <p:nvPr/>
        </p:nvPicPr>
        <p:blipFill>
          <a:blip r:embed="rId3"/>
          <a:stretch/>
        </p:blipFill>
        <p:spPr>
          <a:xfrm>
            <a:off x="5181480" y="3581280"/>
            <a:ext cx="1806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вет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ение света в различных сре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жение света от зер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чение различ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BD13635_"/>
          <p:cNvPicPr/>
          <p:nvPr/>
        </p:nvPicPr>
        <p:blipFill>
          <a:blip r:embed="rId1"/>
          <a:stretch/>
        </p:blipFill>
        <p:spPr>
          <a:xfrm>
            <a:off x="304920" y="533520"/>
            <a:ext cx="504720" cy="12189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AG00433_"/>
          <p:cNvPicPr/>
          <p:nvPr/>
        </p:nvPicPr>
        <p:blipFill>
          <a:blip r:embed="rId2"/>
          <a:stretch/>
        </p:blipFill>
        <p:spPr>
          <a:xfrm>
            <a:off x="5867280" y="4191120"/>
            <a:ext cx="2895840" cy="2286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HH00241_"/>
          <p:cNvPicPr/>
          <p:nvPr/>
        </p:nvPicPr>
        <p:blipFill>
          <a:blip r:embed="rId3"/>
          <a:stretch/>
        </p:blipFill>
        <p:spPr>
          <a:xfrm>
            <a:off x="3809880" y="541008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BD19827_"/>
          <p:cNvPicPr/>
          <p:nvPr/>
        </p:nvPicPr>
        <p:blipFill>
          <a:blip r:embed="rId4"/>
          <a:stretch/>
        </p:blipFill>
        <p:spPr>
          <a:xfrm>
            <a:off x="838080" y="4419720"/>
            <a:ext cx="22734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лавная задача физ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82640"/>
            <a:ext cx="79250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законы, которые связывают между собой различные физические явления, происходящие в природе, найти связь и причины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BS00809_"/>
          <p:cNvPicPr/>
          <p:nvPr/>
        </p:nvPicPr>
        <p:blipFill>
          <a:blip r:embed="rId1"/>
          <a:stretch/>
        </p:blipFill>
        <p:spPr>
          <a:xfrm>
            <a:off x="5791320" y="4008600"/>
            <a:ext cx="27828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терм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2582640"/>
            <a:ext cx="792504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cc"/>
                </a:solidFill>
                <a:latin typeface="Arial"/>
              </a:rPr>
              <a:t>Мате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зическое 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изическое тело –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едметы,  которые нас окружаю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3" descr="PH01120J"/>
          <p:cNvPicPr/>
          <p:nvPr/>
        </p:nvPicPr>
        <p:blipFill>
          <a:blip r:embed="rId1"/>
          <a:stretch/>
        </p:blipFill>
        <p:spPr>
          <a:xfrm>
            <a:off x="3886200" y="457200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AG00058_"/>
          <p:cNvPicPr/>
          <p:nvPr/>
        </p:nvPicPr>
        <p:blipFill>
          <a:blip r:embed="rId2"/>
          <a:stretch/>
        </p:blipFill>
        <p:spPr>
          <a:xfrm>
            <a:off x="6095880" y="2209680"/>
            <a:ext cx="2038320" cy="1354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BD13638_"/>
          <p:cNvPicPr/>
          <p:nvPr/>
        </p:nvPicPr>
        <p:blipFill>
          <a:blip r:embed="rId3"/>
          <a:stretch/>
        </p:blipFill>
        <p:spPr>
          <a:xfrm>
            <a:off x="0" y="0"/>
            <a:ext cx="912960" cy="12762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BS01638_"/>
          <p:cNvPicPr/>
          <p:nvPr/>
        </p:nvPicPr>
        <p:blipFill>
          <a:blip r:embed="rId4"/>
          <a:stretch/>
        </p:blipFill>
        <p:spPr>
          <a:xfrm>
            <a:off x="1523880" y="2133720"/>
            <a:ext cx="1136880" cy="1625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J0076186"/>
          <p:cNvPicPr/>
          <p:nvPr/>
        </p:nvPicPr>
        <p:blipFill>
          <a:blip r:embed="rId5"/>
          <a:stretch/>
        </p:blipFill>
        <p:spPr>
          <a:xfrm flipH="1">
            <a:off x="1371600" y="4724280"/>
            <a:ext cx="1944720" cy="1305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J0079077"/>
          <p:cNvPicPr/>
          <p:nvPr/>
        </p:nvPicPr>
        <p:blipFill>
          <a:blip r:embed="rId6"/>
          <a:stretch/>
        </p:blipFill>
        <p:spPr>
          <a:xfrm>
            <a:off x="6172200" y="4724280"/>
            <a:ext cx="2209680" cy="1285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J0079082"/>
          <p:cNvPicPr/>
          <p:nvPr/>
        </p:nvPicPr>
        <p:blipFill>
          <a:blip r:embed="rId7"/>
          <a:stretch/>
        </p:blipFill>
        <p:spPr>
          <a:xfrm flipH="1">
            <a:off x="3809520" y="2362320"/>
            <a:ext cx="908280" cy="993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Рисунок1"/>
          <p:cNvPicPr/>
          <p:nvPr/>
        </p:nvPicPr>
        <p:blipFill>
          <a:blip r:embed="rId8"/>
          <a:stretch/>
        </p:blipFill>
        <p:spPr>
          <a:xfrm>
            <a:off x="8469360" y="6172200"/>
            <a:ext cx="674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тер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есь мир – материя, мой др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е та, что для штанов иль пла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 всё, что только есть в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атериально. Должен знать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 ты запом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о мир материи, так ж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ллюзий нас лишает ско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ть вещество и есть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оля, конечно, не с картошк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агнитное несет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 гравитации немнож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 из веществ – и ты, и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втомобиль, и дом, и ко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я – всё то, что существует во Вселенной независимо от нашего со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о – то из чего состоит физическое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 – особый вид материи, который обнаруживается по его дейст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гадайте загад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762120" y="1523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аленького роста 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нкая и о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сом путь себе ищ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собою хвост тащ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838080" y="3124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е куст, а с листоч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рубашка, а сши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человек, а рассказыв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838080" y="4572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День и ночь стою на кры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ушей, но все я слыш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даль гляжу, хотя без гл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кране мой расск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ученые изучают физические явле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4264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BD19712_"/>
          <p:cNvPicPr/>
          <p:nvPr/>
        </p:nvPicPr>
        <p:blipFill>
          <a:blip r:embed="rId1"/>
          <a:stretch/>
        </p:blipFill>
        <p:spPr>
          <a:xfrm>
            <a:off x="6705720" y="2133720"/>
            <a:ext cx="2074680" cy="19396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BD05179_"/>
          <p:cNvPicPr/>
          <p:nvPr/>
        </p:nvPicPr>
        <p:blipFill>
          <a:blip r:embed="rId2"/>
          <a:stretch/>
        </p:blipFill>
        <p:spPr>
          <a:xfrm>
            <a:off x="3733920" y="3962520"/>
            <a:ext cx="241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3" descr="aristotel2"/>
          <p:cNvPicPr/>
          <p:nvPr/>
        </p:nvPicPr>
        <p:blipFill>
          <a:blip r:embed="rId1"/>
          <a:stretch/>
        </p:blipFill>
        <p:spPr>
          <a:xfrm>
            <a:off x="1066680" y="1905120"/>
            <a:ext cx="1793880" cy="21333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arhimed"/>
          <p:cNvPicPr/>
          <p:nvPr/>
        </p:nvPicPr>
        <p:blipFill>
          <a:blip r:embed="rId2"/>
          <a:stretch/>
        </p:blipFill>
        <p:spPr>
          <a:xfrm>
            <a:off x="2971800" y="2362320"/>
            <a:ext cx="1509840" cy="22096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1187640" y="4070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3107880" y="4572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хим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954320" y="52578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6612840" y="5867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icture 9" descr="Heron_of_Alexandria1"/>
          <p:cNvPicPr/>
          <p:nvPr/>
        </p:nvPicPr>
        <p:blipFill>
          <a:blip r:embed="rId3"/>
          <a:stretch/>
        </p:blipFill>
        <p:spPr>
          <a:xfrm>
            <a:off x="4495680" y="2590920"/>
            <a:ext cx="1811520" cy="2394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Image13_7_5a"/>
          <p:cNvPicPr/>
          <p:nvPr/>
        </p:nvPicPr>
        <p:blipFill>
          <a:blip r:embed="rId4"/>
          <a:stretch/>
        </p:blipFill>
        <p:spPr>
          <a:xfrm>
            <a:off x="6553080" y="3200400"/>
            <a:ext cx="1936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Ы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3" descr="Galilei"/>
          <p:cNvPicPr/>
          <p:nvPr/>
        </p:nvPicPr>
        <p:blipFill>
          <a:blip r:embed="rId1"/>
          <a:stretch/>
        </p:blipFill>
        <p:spPr>
          <a:xfrm>
            <a:off x="6532560" y="1927080"/>
            <a:ext cx="2001960" cy="2292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Descartes"/>
          <p:cNvPicPr/>
          <p:nvPr/>
        </p:nvPicPr>
        <p:blipFill>
          <a:blip r:embed="rId2"/>
          <a:stretch/>
        </p:blipFill>
        <p:spPr>
          <a:xfrm>
            <a:off x="457200" y="1752480"/>
            <a:ext cx="191772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bpascal"/>
          <p:cNvPicPr/>
          <p:nvPr/>
        </p:nvPicPr>
        <p:blipFill>
          <a:blip r:embed="rId3"/>
          <a:stretch/>
        </p:blipFill>
        <p:spPr>
          <a:xfrm>
            <a:off x="2514600" y="1981080"/>
            <a:ext cx="1884240" cy="2291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torichel"/>
          <p:cNvPicPr/>
          <p:nvPr/>
        </p:nvPicPr>
        <p:blipFill>
          <a:blip r:embed="rId4"/>
          <a:srcRect l="2630" t="1798" r="4606" b="3463"/>
          <a:stretch/>
        </p:blipFill>
        <p:spPr>
          <a:xfrm>
            <a:off x="4572000" y="3200400"/>
            <a:ext cx="1758960" cy="21337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7"/>
          <p:cNvSpPr/>
          <p:nvPr/>
        </p:nvSpPr>
        <p:spPr>
          <a:xfrm>
            <a:off x="459720" y="40384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не Дек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2519640" y="449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ез Паск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4484520" y="548640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ванджел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орричел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6797880" y="449568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лил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3506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изучает наука физик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3276720" y="1523880"/>
            <a:ext cx="220968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352680" y="2590920"/>
            <a:ext cx="221004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ка о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533520" y="259092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276720" y="3581280"/>
            <a:ext cx="220968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6248520" y="2590920"/>
            <a:ext cx="19047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533520" y="3733920"/>
            <a:ext cx="19047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ни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п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у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3276720" y="4572000"/>
            <a:ext cx="22096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6248520" y="3581280"/>
            <a:ext cx="198108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чет и выв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4419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 flipH="1">
            <a:off x="25146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5562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44197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14479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7238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ка объясняе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ка изучает и объясняет все явления, происходящие в природе: грозу, ветер, замерзание и таяние рек, северное сияние, магнитные бури, солнечное и лунное затмения. Как образуются снег и лед? Почему осадки выпадают то в виде дождя, то в виде снега, то в виде гра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ка объясняет многие явления в нашей жиз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мы скользим на льду, а машину заносит на скользкой или мокрой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бутерброд всегда падает маслом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масло в воде всплы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ужно сделать, чтобы стакан не лопнул от кипя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окна зимой замерз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нельзя работать со сваркой под дожд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в деревянном доме теплее, чем в камен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ко весит тело, когда оно пад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физики является то, что она изучает в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Закрепление материала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Что из перечисленного является физическим телом 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е из слов обозначает вещество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ля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йсбе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ите на три группы понятий следующие слова: стул, древесина, дождь, железо, звезда, воздух, кислород, ветер, молния, землетрясение, масло, комп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14400" y="3886200"/>
          <a:ext cx="7467480" cy="144792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е т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в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лучайно спрятали в карман шоколадку, и она там растаяла. Можно ли случившееся назвать явл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00"/>
                </a:solidFill>
                <a:latin typeface="Times New Roman"/>
              </a:rPr>
              <a:t>ФИЗ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наука о природ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Picture 4" descr="сова"/>
          <p:cNvPicPr/>
          <p:nvPr/>
        </p:nvPicPr>
        <p:blipFill>
          <a:blip r:embed="rId1"/>
          <a:srcRect l="0" t="0" r="12094" b="0"/>
          <a:stretch/>
        </p:blipFill>
        <p:spPr>
          <a:xfrm>
            <a:off x="0" y="0"/>
            <a:ext cx="1333440" cy="2133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GPH_1B02_00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362320" y="1828800"/>
            <a:ext cx="447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во сне явился добрый волшебник, подарил много мороженого, и Вы угостили им всех своих друзей. Жаль только, что это был сон. Можно ли считать появление доброго волшебника физическим явл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толкал девчонок в лужу и старательно измерял глубину погружения каждой девочки. Толя только стоял рядышком и смотрел, как девчонки барахтаются. Чем отличаются Колины действия от Толиных, и как такие действия называют физ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1 – 3, ответить на вопросы в конце парагра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4" descr="BD00146_"/>
          <p:cNvPicPr/>
          <p:nvPr/>
        </p:nvPicPr>
        <p:blipFill>
          <a:blip r:embed="rId1"/>
          <a:stretch/>
        </p:blipFill>
        <p:spPr>
          <a:xfrm>
            <a:off x="6172200" y="3967200"/>
            <a:ext cx="2513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809520" y="15235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истотел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чинениях древнегреческого ученого Аристотеля впервые появилось слово физика («фюзис» - прир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лат. Aristot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84 до н. э., Стагира, полуостров Халкидика, Северная Греция — 322 до н. э., Халкис, остров Эвбея, Средняя Греция), древнегреческий ученый, философ, основатель Ликея, учитель Александра Македо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895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505320" y="1447560"/>
            <a:ext cx="487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усский язык слово «физика» ввел в 18 веке М. В. Ломоносов, когда в переводе с немецкого он издал первый учебник физ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МОНОСОВ Михаил Васильевич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инициативе Ломоносова основан Московский университет (175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Ломоносов"/>
          <p:cNvPicPr/>
          <p:nvPr/>
        </p:nvPicPr>
        <p:blipFill>
          <a:blip r:embed="rId1"/>
          <a:stretch/>
        </p:blipFill>
        <p:spPr>
          <a:xfrm>
            <a:off x="533520" y="1676520"/>
            <a:ext cx="2590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685800" y="1523880"/>
          <a:ext cx="7924680" cy="441972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762120"/>
                <a:gridCol w="41907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WordArt 47"/>
          <p:cNvSpPr txBox="1"/>
          <p:nvPr/>
        </p:nvSpPr>
        <p:spPr>
          <a:xfrm>
            <a:off x="762120" y="16002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9" name="WordArt 50"/>
          <p:cNvSpPr txBox="1"/>
          <p:nvPr/>
        </p:nvSpPr>
        <p:spPr>
          <a:xfrm>
            <a:off x="762120" y="3048120"/>
            <a:ext cx="1143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Биологи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580" name="WordArt 52"/>
          <p:cNvSpPr txBox="1"/>
          <p:nvPr/>
        </p:nvSpPr>
        <p:spPr>
          <a:xfrm>
            <a:off x="838080" y="4572000"/>
            <a:ext cx="11430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строномия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81" name="WordArt 54"/>
          <p:cNvSpPr txBox="1"/>
          <p:nvPr/>
        </p:nvSpPr>
        <p:spPr>
          <a:xfrm rot="5400000">
            <a:off x="2013840" y="3471840"/>
            <a:ext cx="39625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изика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Box 6"/>
          <p:cNvSpPr/>
          <p:nvPr/>
        </p:nvSpPr>
        <p:spPr>
          <a:xfrm>
            <a:off x="4495680" y="16765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 причину возникновения именно таких климатических условий, зарождение циклонов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"/>
          <p:cNvSpPr/>
          <p:nvPr/>
        </p:nvSpPr>
        <p:spPr>
          <a:xfrm>
            <a:off x="449568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, например, как вода из почвы поступает к веткам; почему окунь и камбала имеют разное строение скел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22860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2133720" y="304812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растения и животный 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2209680" y="45720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звезды,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4495680" y="46483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, почему планеты движутся вокруг Солнца, а не улетают от него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Явления –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зменения, происходящие в окружающем нас ми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3" descr="00018788"/>
          <p:cNvPicPr/>
          <p:nvPr/>
        </p:nvPicPr>
        <p:blipFill>
          <a:blip r:embed="rId1"/>
          <a:srcRect l="0" t="10376" r="0" b="7696"/>
          <a:stretch/>
        </p:blipFill>
        <p:spPr>
          <a:xfrm>
            <a:off x="1066680" y="1828800"/>
            <a:ext cx="3543480" cy="2322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00041422"/>
          <p:cNvPicPr/>
          <p:nvPr/>
        </p:nvPicPr>
        <p:blipFill>
          <a:blip r:embed="rId2"/>
          <a:stretch/>
        </p:blipFill>
        <p:spPr>
          <a:xfrm>
            <a:off x="5105520" y="1828800"/>
            <a:ext cx="3504960" cy="2314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00040841"/>
          <p:cNvPicPr/>
          <p:nvPr/>
        </p:nvPicPr>
        <p:blipFill>
          <a:blip r:embed="rId3"/>
          <a:stretch/>
        </p:blipFill>
        <p:spPr>
          <a:xfrm>
            <a:off x="1066680" y="4267080"/>
            <a:ext cx="3581640" cy="23893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00044541"/>
          <p:cNvPicPr/>
          <p:nvPr/>
        </p:nvPicPr>
        <p:blipFill>
          <a:blip r:embed="rId4"/>
          <a:stretch/>
        </p:blipFill>
        <p:spPr>
          <a:xfrm>
            <a:off x="5105520" y="4267080"/>
            <a:ext cx="3504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Меха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Элект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Магни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66"/>
                </a:solidFill>
                <a:uFillTx/>
                <a:latin typeface="Arial"/>
              </a:rPr>
              <a:t>Тепл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66"/>
                </a:solidFill>
                <a:uFillTx/>
                <a:latin typeface="Arial"/>
              </a:rPr>
              <a:t>Зву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Свет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хан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жение самолетов и автомоб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е Земли вокруг Солнца и спутников вокруг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ание мая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BD19718_"/>
          <p:cNvPicPr/>
          <p:nvPr/>
        </p:nvPicPr>
        <p:blipFill>
          <a:blip r:embed="rId1"/>
          <a:stretch/>
        </p:blipFill>
        <p:spPr>
          <a:xfrm>
            <a:off x="6324480" y="3962520"/>
            <a:ext cx="2503440" cy="2600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076174"/>
          <p:cNvPicPr/>
          <p:nvPr/>
        </p:nvPicPr>
        <p:blipFill>
          <a:blip r:embed="rId2"/>
          <a:stretch/>
        </p:blipFill>
        <p:spPr>
          <a:xfrm>
            <a:off x="3429000" y="5410080"/>
            <a:ext cx="2209680" cy="1121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095725"/>
          <p:cNvPicPr/>
          <p:nvPr/>
        </p:nvPicPr>
        <p:blipFill>
          <a:blip r:embed="rId3"/>
          <a:stretch/>
        </p:blipFill>
        <p:spPr>
          <a:xfrm>
            <a:off x="0" y="0"/>
            <a:ext cx="1295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9-09-02T18:26:4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