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4F8-C43B-49E7-869D-A122302D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45A-638E-4E9D-8242-A1F5D72A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DDA-D217-4232-B1A7-87F8F93F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1E1-DE41-4344-A97B-2B6EE65D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002-CC61-4E12-811C-A6FF5DA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7BBB-755B-4A68-8AB1-EDFF8F53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6BDA-BD69-4312-AE55-F322A796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B490-F7F8-4456-895F-AF444C60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AD0-7B1A-480C-BC1F-8A0C0E4A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84F6-A9E1-4520-A01B-D62D690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16B-20C6-4A07-B5D2-2E8163E4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0419-4CA6-4C2F-9A19-89823CB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3242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3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63242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63242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423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D7B7-3CED-4014-8878-C968AC6065B4}" type="datetime">
              <a:rPr b="0" lang="en-US" sz="1200" spc="-1" strike="noStrike">
                <a:solidFill>
                  <a:srgbClr val="9e8c8c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e8c8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079-1450-4CF9-8646-8DADCBEADC93}" type="slidenum">
              <a:rPr b="0" lang="en-US" sz="1200" spc="-1" strike="noStrike">
                <a:solidFill>
                  <a:srgbClr val="9e8c8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commons.wikimedia.org/wiki/File:Re-Horakhty.svg%3Fuselang=ru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Боги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Georgia"/>
              </a:rPr>
              <a:t>Древнего Египта</a:t>
            </a:r>
            <a:endParaRPr b="0" lang="en-US" sz="60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3527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Подготовил: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Симонов К.В.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учитель истории и обществознания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МКОУ СОШ № 11 ГО Первоуральск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0000ff"/>
                </a:solidFill>
                <a:latin typeface="Georgia"/>
              </a:rPr>
              <a:t> квалификационная категория</a:t>
            </a:r>
            <a:endParaRPr b="0" lang="en-US" sz="16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267840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8360" y="981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5219640" y="76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ет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213372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йна, хаос, песчаные бури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4005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голова осла с длинными ушами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473" t="2748" r="1236" b="2446"/>
          <a:stretch/>
        </p:blipFill>
        <p:spPr>
          <a:xfrm>
            <a:off x="684360" y="1341360"/>
            <a:ext cx="4824360" cy="3619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rcRect l="54957" t="0" r="21118" b="0"/>
          <a:stretch/>
        </p:blipFill>
        <p:spPr>
          <a:xfrm>
            <a:off x="6084720" y="836640"/>
            <a:ext cx="1779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195640" y="620640"/>
            <a:ext cx="2504880" cy="571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2665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31960" y="588960"/>
            <a:ext cx="2727360" cy="5648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42861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9840" y="1989000"/>
            <a:ext cx="9074160" cy="3969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09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Georgia"/>
              </a:rPr>
              <a:t>Суд Осириса. Рисунок. Книга мертвых. Британский музей. Лондон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549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Царство мертвых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850920" y="1341360"/>
            <a:ext cx="5041800" cy="4608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Тело умершего бальзамировали-натирали специальными мазями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Затем мумию заворачивали в несколько слоев ткани и помещали в специальные ящики-саркофаги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Чем знатнее был умерший тем больше было саркофагов, вставляемых друг в друга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Мумия фараона Тутанхамона (на слайде) помещалась в 9 саркофагов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imes New Roman"/>
              </a:rPr>
              <a:t>Верхним саркофагам придавались черты умершего.</a:t>
            </a: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32423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3665520" cy="6048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Погребальные обряды Египта.</a:t>
            </a:r>
            <a:endParaRPr b="0" lang="en-US" sz="32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137440" cy="488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Обряд отверзания уст и очей</a:t>
            </a:r>
            <a:r>
              <a:rPr b="0" lang="en-US" sz="1800" spc="-1" strike="noStrike">
                <a:solidFill>
                  <a:srgbClr val="63242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3242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Re-Horakhty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068640"/>
            <a:ext cx="160812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635280" y="620640"/>
            <a:ext cx="1871640" cy="1770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5" name="" descr="Standing Osiris edit1.svg"/>
          <p:cNvPicPr/>
          <p:nvPr/>
        </p:nvPicPr>
        <p:blipFill>
          <a:blip r:embed="rId5"/>
          <a:stretch/>
        </p:blipFill>
        <p:spPr>
          <a:xfrm>
            <a:off x="1979640" y="3068640"/>
            <a:ext cx="1641600" cy="3559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6" name="" descr="Isis.svg"/>
          <p:cNvPicPr/>
          <p:nvPr/>
        </p:nvPicPr>
        <p:blipFill>
          <a:blip r:embed="rId6"/>
          <a:stretch/>
        </p:blipFill>
        <p:spPr>
          <a:xfrm>
            <a:off x="3780000" y="3068640"/>
            <a:ext cx="160632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7" name="" descr="Anubis standing.svg"/>
          <p:cNvPicPr/>
          <p:nvPr/>
        </p:nvPicPr>
        <p:blipFill>
          <a:blip r:embed="rId7"/>
          <a:stretch/>
        </p:blipFill>
        <p:spPr>
          <a:xfrm>
            <a:off x="179280" y="3068640"/>
            <a:ext cx="1670040" cy="3583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7432560" y="3068640"/>
            <a:ext cx="1711440" cy="3529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2211480" cy="453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47640" y="1052640"/>
            <a:ext cx="1687680" cy="44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0" b="34706"/>
          <a:stretch/>
        </p:blipFill>
        <p:spPr>
          <a:xfrm>
            <a:off x="1547640" y="1700280"/>
            <a:ext cx="6048720" cy="3386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264360" cy="487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4248000" cy="255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900000" y="3500280"/>
            <a:ext cx="3240360" cy="267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59280" y="836640"/>
            <a:ext cx="26874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47640" y="692280"/>
            <a:ext cx="2583000" cy="518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4062600" cy="424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05272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620640"/>
            <a:ext cx="258588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6:13:16Z</dcterms:created>
  <dc:creator>Константин</dc:creator>
  <dc:description>http://aida.ucoz.ru</dc:description>
  <dc:language>en-US</dc:language>
  <cp:lastModifiedBy>ученик18</cp:lastModifiedBy>
  <dcterms:modified xsi:type="dcterms:W3CDTF">2018-11-19T20:00:25Z</dcterms:modified>
  <cp:revision>81</cp:revision>
  <dc:subject/>
  <dc:title>АНАЛИТИЧЕСКИЙ ОТЧЕТ  за межаттестационный период  с 2008 по 2013 годы</dc:title>
</cp:coreProperties>
</file>