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359-8F78-4E63-81A2-FCBC798E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BEF-E742-493A-B77A-74A6A385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038-66B8-4F1D-938A-3248B3D3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AC6-D643-4DA9-B38B-D906FF88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6B2-360C-4F7B-A6DD-116A557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840-DA11-4249-8BE2-465EFD52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07A-758C-467E-BBD1-51A11358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937-D5EE-461B-B2C7-E9BCB2D6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8B4-F2AE-45DD-80E7-D77C36CC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B45-522B-4C15-B2DE-3CFCBF9F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DBB-90C0-4E2B-A3E4-7514E94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A3D-706B-4DF5-B443-92DF408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42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E23-7873-431C-820A-1683B6E55C0C}" type="datetime">
              <a:rPr b="0" lang="en-US" sz="1200" spc="-1" strike="noStrike">
                <a:solidFill>
                  <a:srgbClr val="9e8c8c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705-E8EA-4A6F-A99A-CDD5F6CA212A}" type="slidenum">
              <a:rPr b="0" lang="en-US" sz="1200" spc="-1" strike="noStrike">
                <a:solidFill>
                  <a:srgbClr val="9e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commons.wikimedia.org/wiki/File:Re-Horakhty.svg%3Fuselang=ru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Боги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Древнего Египта</a:t>
            </a:r>
            <a:endParaRPr b="0" lang="en-US" sz="60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000" y="4581000"/>
            <a:ext cx="43527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Подготовил: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Симонов К.В.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учитель истории и обществознания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МКОУ СОШ № 11 ГО Первоуральск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квалификационная категория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2678400" cy="55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8360" y="981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76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т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213372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йна, хаос, песчаные бури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400536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голова осла с длинными ушами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473" t="2748" r="1236" b="2446"/>
          <a:stretch/>
        </p:blipFill>
        <p:spPr>
          <a:xfrm>
            <a:off x="684360" y="1341360"/>
            <a:ext cx="4824360" cy="361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4957" t="0" r="21118" b="0"/>
          <a:stretch/>
        </p:blipFill>
        <p:spPr>
          <a:xfrm>
            <a:off x="6084720" y="836640"/>
            <a:ext cx="1779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2504880" cy="571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2665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31960" y="588960"/>
            <a:ext cx="2727360" cy="5648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4286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9840" y="1989000"/>
            <a:ext cx="9074160" cy="396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09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Суд Осириса. Рисунок. Книга мертвых. Британский музей. Лондон</a:t>
            </a: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549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Царство мертвых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0920" y="1341360"/>
            <a:ext cx="5041800" cy="46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Тело умершего бальзамировали-натирали специальными мазями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Затем мумию заворачивали в несколько слоев ткани и помещали в специальные ящики-саркофаги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Чем знатнее был умерший тем больше было саркофагов, вставляемых друг в друга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Мумия фараона Тутанхамона (на слайде) помещалась в 9 саркофагов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Верхним саркофагам придавались черты умершего.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665520" cy="604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Погребальные обряды Египта.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137440" cy="4883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92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Обряд отверзания уст и очей</a:t>
            </a:r>
            <a:r>
              <a:rPr b="0" lang="en-US" sz="1800" spc="-1" strike="noStrike">
                <a:solidFill>
                  <a:srgbClr val="63242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Re-Horakhty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3068640"/>
            <a:ext cx="1608120" cy="3529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635280" y="620640"/>
            <a:ext cx="1871640" cy="1770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5" name="" descr="Standing Osiris edit1.svg"/>
          <p:cNvPicPr/>
          <p:nvPr/>
        </p:nvPicPr>
        <p:blipFill>
          <a:blip r:embed="rId5"/>
          <a:stretch/>
        </p:blipFill>
        <p:spPr>
          <a:xfrm>
            <a:off x="1979640" y="3068640"/>
            <a:ext cx="1641600" cy="3559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6" name="" descr="Isis.svg"/>
          <p:cNvPicPr/>
          <p:nvPr/>
        </p:nvPicPr>
        <p:blipFill>
          <a:blip r:embed="rId6"/>
          <a:stretch/>
        </p:blipFill>
        <p:spPr>
          <a:xfrm>
            <a:off x="3780000" y="3068640"/>
            <a:ext cx="1606320" cy="3529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7" name="" descr="Anubis standing.svg"/>
          <p:cNvPicPr/>
          <p:nvPr/>
        </p:nvPicPr>
        <p:blipFill>
          <a:blip r:embed="rId7"/>
          <a:stretch/>
        </p:blipFill>
        <p:spPr>
          <a:xfrm>
            <a:off x="179280" y="3068640"/>
            <a:ext cx="1670040" cy="3583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7432560" y="3068640"/>
            <a:ext cx="1711440" cy="3529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2211480" cy="45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47640" y="1052640"/>
            <a:ext cx="1687680" cy="44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0" b="34706"/>
          <a:stretch/>
        </p:blipFill>
        <p:spPr>
          <a:xfrm>
            <a:off x="1547640" y="1700280"/>
            <a:ext cx="6048720" cy="3386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264360" cy="487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4248000" cy="255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3240360" cy="267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2687400" cy="51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2583000" cy="51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4062600" cy="424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0527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620640"/>
            <a:ext cx="258588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6:13:16Z</dcterms:created>
  <dc:creator>Константин</dc:creator>
  <dc:description>http://aida.ucoz.ru</dc:description>
  <dc:language>en-US</dc:language>
  <cp:lastModifiedBy>ученик18</cp:lastModifiedBy>
  <dcterms:modified xsi:type="dcterms:W3CDTF">2018-11-19T20:00:25Z</dcterms:modified>
  <cp:revision>81</cp:revision>
  <dc:subject/>
  <dc:title>АНАЛИТИЧЕСКИЙ ОТЧЕТ  за межаттестационный период  с 2008 по 2013 годы</dc:title>
</cp:coreProperties>
</file>