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D7F-036A-4EED-ACB4-E33776E7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397-747C-46DC-9097-D9CD4056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E95-10C5-4445-923F-C3546F10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3EE-4C25-414E-9F66-E9ADE488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364-8670-4991-B45E-B92DD5D1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AC7-022D-482F-B20F-58A55797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45C-A4FB-4CEF-B5E3-E27C4958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C51-B8E3-4653-B7F5-AF7A0964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034-8051-4B4E-B08A-77BA90ED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52D-0323-433A-A49D-7D220717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C44-0C92-44BD-95B3-169B789E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75D-AAEB-4609-BBD5-19705BFA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6830-A489-4A33-B424-09B697E6C9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Число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Меся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День не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612720" y="-243000"/>
            <a:ext cx="10042560" cy="7532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252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бери однокоренные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94160" y="530064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ч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607400">
            <a:off x="3286800" y="3855960"/>
            <a:ext cx="2015640" cy="158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571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57112"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9607400">
            <a:off x="6384240" y="5079960"/>
            <a:ext cx="2015640" cy="158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571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57112"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9607400">
            <a:off x="190800" y="5008320"/>
            <a:ext cx="2015640" cy="15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571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57112"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0000" y="5229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ворец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6360" y="414972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уравль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6720" y="2133720"/>
            <a:ext cx="2376360" cy="23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11970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СТ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3876840"/>
            <a:ext cx="59036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1844640"/>
            <a:ext cx="10792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84464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844640"/>
            <a:ext cx="10792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3800" y="2060640"/>
            <a:ext cx="10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д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3800" y="2060640"/>
            <a:ext cx="10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д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732720" y="1773360"/>
            <a:ext cx="1079280" cy="736200"/>
            <a:chOff x="6732720" y="1773360"/>
            <a:chExt cx="1079280" cy="736200"/>
          </a:xfrm>
        </p:grpSpPr>
        <p:grpSp>
          <p:nvGrpSpPr>
            <p:cNvPr id="107" name=""/>
            <p:cNvGrpSpPr/>
            <p:nvPr/>
          </p:nvGrpSpPr>
          <p:grpSpPr>
            <a:xfrm>
              <a:off x="6732720" y="1773360"/>
              <a:ext cx="1079280" cy="360000"/>
              <a:chOff x="6732720" y="1773360"/>
              <a:chExt cx="1079280" cy="360000"/>
            </a:xfrm>
          </p:grpSpPr>
          <p:sp>
            <p:nvSpPr>
              <p:cNvPr id="108" name=""/>
              <p:cNvSpPr/>
              <p:nvPr/>
            </p:nvSpPr>
            <p:spPr>
              <a:xfrm>
                <a:off x="7812000" y="1773360"/>
                <a:ext cx="0" cy="3600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32720" y="1773360"/>
                <a:ext cx="107928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6733800" y="1989000"/>
              <a:ext cx="91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За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067280" y="2492280"/>
            <a:ext cx="1196280" cy="736560"/>
            <a:chOff x="4067280" y="2492280"/>
            <a:chExt cx="1196280" cy="736560"/>
          </a:xfrm>
        </p:grpSpPr>
        <p:grpSp>
          <p:nvGrpSpPr>
            <p:cNvPr id="112" name=""/>
            <p:cNvGrpSpPr/>
            <p:nvPr/>
          </p:nvGrpSpPr>
          <p:grpSpPr>
            <a:xfrm>
              <a:off x="4067280" y="2492280"/>
              <a:ext cx="1079280" cy="360360"/>
              <a:chOff x="4067280" y="2492280"/>
              <a:chExt cx="1079280" cy="360360"/>
            </a:xfrm>
          </p:grpSpPr>
          <p:sp>
            <p:nvSpPr>
              <p:cNvPr id="113" name=""/>
              <p:cNvSpPr/>
              <p:nvPr/>
            </p:nvSpPr>
            <p:spPr>
              <a:xfrm>
                <a:off x="5146560" y="2492280"/>
                <a:ext cx="0" cy="360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67280" y="2492280"/>
                <a:ext cx="107928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069440" y="2708280"/>
              <a:ext cx="119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д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067280" y="3573360"/>
            <a:ext cx="1367280" cy="736560"/>
            <a:chOff x="4067280" y="3573360"/>
            <a:chExt cx="1367280" cy="736560"/>
          </a:xfrm>
        </p:grpSpPr>
        <p:grpSp>
          <p:nvGrpSpPr>
            <p:cNvPr id="117" name=""/>
            <p:cNvGrpSpPr/>
            <p:nvPr/>
          </p:nvGrpSpPr>
          <p:grpSpPr>
            <a:xfrm>
              <a:off x="4067280" y="3573360"/>
              <a:ext cx="1079280" cy="360360"/>
              <a:chOff x="4067280" y="3573360"/>
              <a:chExt cx="1079280" cy="360360"/>
            </a:xfrm>
          </p:grpSpPr>
          <p:sp>
            <p:nvSpPr>
              <p:cNvPr id="118" name=""/>
              <p:cNvSpPr/>
              <p:nvPr/>
            </p:nvSpPr>
            <p:spPr>
              <a:xfrm>
                <a:off x="5146560" y="3573360"/>
                <a:ext cx="0" cy="360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67280" y="3573360"/>
                <a:ext cx="107928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069800" y="3789360"/>
              <a:ext cx="13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ре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067280" y="4797360"/>
            <a:ext cx="1089000" cy="736560"/>
            <a:chOff x="4067280" y="4797360"/>
            <a:chExt cx="1089000" cy="736560"/>
          </a:xfrm>
        </p:grpSpPr>
        <p:grpSp>
          <p:nvGrpSpPr>
            <p:cNvPr id="122" name=""/>
            <p:cNvGrpSpPr/>
            <p:nvPr/>
          </p:nvGrpSpPr>
          <p:grpSpPr>
            <a:xfrm>
              <a:off x="4067280" y="4797360"/>
              <a:ext cx="1079280" cy="360360"/>
              <a:chOff x="4067280" y="4797360"/>
              <a:chExt cx="1079280" cy="360360"/>
            </a:xfrm>
          </p:grpSpPr>
          <p:sp>
            <p:nvSpPr>
              <p:cNvPr id="123" name=""/>
              <p:cNvSpPr/>
              <p:nvPr/>
            </p:nvSpPr>
            <p:spPr>
              <a:xfrm>
                <a:off x="5146560" y="4797360"/>
                <a:ext cx="0" cy="360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67280" y="4797360"/>
                <a:ext cx="107928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070520" y="5013360"/>
              <a:ext cx="108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971640" y="4581360"/>
            <a:ext cx="1079280" cy="736560"/>
            <a:chOff x="971640" y="4581360"/>
            <a:chExt cx="1079280" cy="736560"/>
          </a:xfrm>
        </p:grpSpPr>
        <p:grpSp>
          <p:nvGrpSpPr>
            <p:cNvPr id="127" name=""/>
            <p:cNvGrpSpPr/>
            <p:nvPr/>
          </p:nvGrpSpPr>
          <p:grpSpPr>
            <a:xfrm>
              <a:off x="971640" y="4581360"/>
              <a:ext cx="1079280" cy="360360"/>
              <a:chOff x="971640" y="4581360"/>
              <a:chExt cx="1079280" cy="360360"/>
            </a:xfrm>
          </p:grpSpPr>
          <p:sp>
            <p:nvSpPr>
              <p:cNvPr id="128" name=""/>
              <p:cNvSpPr/>
              <p:nvPr/>
            </p:nvSpPr>
            <p:spPr>
              <a:xfrm>
                <a:off x="2050920" y="4581360"/>
                <a:ext cx="0" cy="360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71640" y="4581360"/>
                <a:ext cx="107928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973800" y="4797360"/>
              <a:ext cx="96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95640" y="1341360"/>
            <a:ext cx="1079280" cy="736560"/>
            <a:chOff x="3995640" y="1341360"/>
            <a:chExt cx="1079280" cy="736560"/>
          </a:xfrm>
        </p:grpSpPr>
        <p:grpSp>
          <p:nvGrpSpPr>
            <p:cNvPr id="132" name=""/>
            <p:cNvGrpSpPr/>
            <p:nvPr/>
          </p:nvGrpSpPr>
          <p:grpSpPr>
            <a:xfrm>
              <a:off x="3995640" y="1341360"/>
              <a:ext cx="1079280" cy="360360"/>
              <a:chOff x="3995640" y="1341360"/>
              <a:chExt cx="1079280" cy="360360"/>
            </a:xfrm>
          </p:grpSpPr>
          <p:sp>
            <p:nvSpPr>
              <p:cNvPr id="133" name=""/>
              <p:cNvSpPr/>
              <p:nvPr/>
            </p:nvSpPr>
            <p:spPr>
              <a:xfrm>
                <a:off x="5074920" y="1341360"/>
                <a:ext cx="0" cy="360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95640" y="1341360"/>
                <a:ext cx="107928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997080" y="155736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804000" y="3284640"/>
            <a:ext cx="1109880" cy="736200"/>
            <a:chOff x="6804000" y="3284640"/>
            <a:chExt cx="1109880" cy="736200"/>
          </a:xfrm>
        </p:grpSpPr>
        <p:grpSp>
          <p:nvGrpSpPr>
            <p:cNvPr id="137" name=""/>
            <p:cNvGrpSpPr/>
            <p:nvPr/>
          </p:nvGrpSpPr>
          <p:grpSpPr>
            <a:xfrm>
              <a:off x="6804000" y="3284640"/>
              <a:ext cx="1079280" cy="360000"/>
              <a:chOff x="6804000" y="3284640"/>
              <a:chExt cx="1079280" cy="360000"/>
            </a:xfrm>
          </p:grpSpPr>
          <p:sp>
            <p:nvSpPr>
              <p:cNvPr id="138" name=""/>
              <p:cNvSpPr/>
              <p:nvPr/>
            </p:nvSpPr>
            <p:spPr>
              <a:xfrm>
                <a:off x="7883280" y="3284640"/>
                <a:ext cx="0" cy="3600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04000" y="3284640"/>
                <a:ext cx="107928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805080" y="3500280"/>
              <a:ext cx="110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аз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77080" y="4653000"/>
            <a:ext cx="1079280" cy="736560"/>
            <a:chOff x="6877080" y="4653000"/>
            <a:chExt cx="1079280" cy="736560"/>
          </a:xfrm>
        </p:grpSpPr>
        <p:grpSp>
          <p:nvGrpSpPr>
            <p:cNvPr id="142" name=""/>
            <p:cNvGrpSpPr/>
            <p:nvPr/>
          </p:nvGrpSpPr>
          <p:grpSpPr>
            <a:xfrm>
              <a:off x="6877080" y="4653000"/>
              <a:ext cx="1079280" cy="360360"/>
              <a:chOff x="6877080" y="4653000"/>
              <a:chExt cx="1079280" cy="360360"/>
            </a:xfrm>
          </p:grpSpPr>
          <p:sp>
            <p:nvSpPr>
              <p:cNvPr id="143" name=""/>
              <p:cNvSpPr/>
              <p:nvPr/>
            </p:nvSpPr>
            <p:spPr>
              <a:xfrm>
                <a:off x="7956360" y="4653000"/>
                <a:ext cx="0" cy="360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877080" y="4653000"/>
                <a:ext cx="107928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878520" y="4869000"/>
              <a:ext cx="105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ы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71640" y="1844640"/>
            <a:ext cx="10792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3800" y="2060640"/>
            <a:ext cx="10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д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1844640"/>
            <a:ext cx="10792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4160" y="2060640"/>
            <a:ext cx="10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1844640"/>
            <a:ext cx="1079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71640" y="3284640"/>
            <a:ext cx="1079280" cy="736200"/>
            <a:chOff x="971640" y="3284640"/>
            <a:chExt cx="1079280" cy="736200"/>
          </a:xfrm>
        </p:grpSpPr>
        <p:sp>
          <p:nvSpPr>
            <p:cNvPr id="152" name=""/>
            <p:cNvSpPr/>
            <p:nvPr/>
          </p:nvSpPr>
          <p:spPr>
            <a:xfrm>
              <a:off x="2050920" y="3284640"/>
              <a:ext cx="0" cy="3600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73440" y="3500280"/>
              <a:ext cx="65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71640" y="3284640"/>
              <a:ext cx="107928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896920" y="297000"/>
            <a:ext cx="245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ЛЕТ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5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95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НИ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ял ноябрь. Мама открыла форточку.  Случайно  в комнату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_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иничка. Он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__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 подоконника и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 комнате. Птичк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_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кухню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ерез стол, снов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 форточке и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у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76720" y="2133720"/>
            <a:ext cx="2376360" cy="23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9240" y="1197000"/>
            <a:ext cx="3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ФФИ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4508640"/>
            <a:ext cx="59036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826920" y="1844640"/>
            <a:ext cx="1513080" cy="1655640"/>
            <a:chOff x="826920" y="1844640"/>
            <a:chExt cx="1513080" cy="1655640"/>
          </a:xfrm>
        </p:grpSpPr>
        <p:sp>
          <p:nvSpPr>
            <p:cNvPr id="162" name=""/>
            <p:cNvSpPr/>
            <p:nvPr/>
          </p:nvSpPr>
          <p:spPr>
            <a:xfrm>
              <a:off x="826920" y="2464560"/>
              <a:ext cx="1513080" cy="103572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ЫШ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6920" y="1844640"/>
              <a:ext cx="1513080" cy="619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924360" y="1773360"/>
            <a:ext cx="1584360" cy="1582560"/>
            <a:chOff x="3924360" y="1773360"/>
            <a:chExt cx="1584360" cy="1582560"/>
          </a:xfrm>
        </p:grpSpPr>
        <p:sp>
          <p:nvSpPr>
            <p:cNvPr id="165" name=""/>
            <p:cNvSpPr/>
            <p:nvPr/>
          </p:nvSpPr>
          <p:spPr>
            <a:xfrm>
              <a:off x="3924360" y="2365920"/>
              <a:ext cx="1584360" cy="990000"/>
            </a:xfrm>
            <a:prstGeom prst="beve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24360" y="1773360"/>
              <a:ext cx="1584360" cy="59256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020000" y="1773360"/>
            <a:ext cx="1439640" cy="1510920"/>
            <a:chOff x="7020000" y="1773360"/>
            <a:chExt cx="1439640" cy="1510920"/>
          </a:xfrm>
        </p:grpSpPr>
        <p:sp>
          <p:nvSpPr>
            <p:cNvPr id="168" name=""/>
            <p:cNvSpPr/>
            <p:nvPr/>
          </p:nvSpPr>
          <p:spPr>
            <a:xfrm>
              <a:off x="7020000" y="2338920"/>
              <a:ext cx="1439640" cy="945360"/>
            </a:xfrm>
            <a:prstGeom prst="bevel">
              <a:avLst>
                <a:gd name="adj" fmla="val 125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-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20000" y="1773360"/>
              <a:ext cx="1439640" cy="56556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267640" y="770400"/>
            <a:ext cx="49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6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Кто в домике живё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6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3933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нездо,  птица,    клюв, дом,   перо, крыло, нос, глаза, хвост, шея, горл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ч качался в гама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и - в  волнах на р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мо голуби ле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 веточку прис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точка кач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лохо получ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5904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76720" y="2133720"/>
            <a:ext cx="2376360" cy="23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9960" y="1197000"/>
            <a:ext cx="35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КОНЧ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4360" y="3876840"/>
            <a:ext cx="59036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ставь из данных слов предло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ень, собираться, журавли, далёкий, путь,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лёт, перед,  они, покружиться, над, болото, род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, воздух,  зазвенеть, крик, прощальный, п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уравли, клин, потянуться, юг,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, весна, встр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020000" y="5425920"/>
            <a:ext cx="21240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76720" y="2133720"/>
            <a:ext cx="2376360" cy="23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6680" y="1268280"/>
            <a:ext cx="48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СТАВЬ СЛ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4360" y="3876840"/>
            <a:ext cx="59036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Ь СЛО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ставка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ереде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ень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лёт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ффикс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риб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ончание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одвод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11280" y="3085200"/>
            <a:ext cx="7993080" cy="3971520"/>
            <a:chOff x="611280" y="3085200"/>
            <a:chExt cx="7993080" cy="3971520"/>
          </a:xfrm>
        </p:grpSpPr>
        <p:sp>
          <p:nvSpPr>
            <p:cNvPr id="187" name=""/>
            <p:cNvSpPr/>
            <p:nvPr/>
          </p:nvSpPr>
          <p:spPr>
            <a:xfrm>
              <a:off x="7020000" y="4149360"/>
              <a:ext cx="1584360" cy="86508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786200" y="3500280"/>
              <a:ext cx="1944720" cy="576000"/>
              <a:chOff x="4786200" y="3500280"/>
              <a:chExt cx="1944720" cy="576000"/>
            </a:xfrm>
          </p:grpSpPr>
          <p:sp>
            <p:nvSpPr>
              <p:cNvPr id="189" name=""/>
              <p:cNvSpPr/>
              <p:nvPr/>
            </p:nvSpPr>
            <p:spPr>
              <a:xfrm flipV="1">
                <a:off x="4786200" y="3500280"/>
                <a:ext cx="936720" cy="5760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22920" y="3500280"/>
                <a:ext cx="1008000" cy="504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930920" y="4149360"/>
              <a:ext cx="158436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3749000">
              <a:off x="2250000" y="3708000"/>
              <a:ext cx="2894400" cy="27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23" y="69"/>
                  </a:moveTo>
                  <a:arcTo wR="10800" hR="10800" stAng="-5009790" swAng="5009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23" y="69"/>
                  </a:moveTo>
                  <a:arcTo wR="10800" hR="10800" stAng="-5009790" swAng="5009790"/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43280" y="4149360"/>
              <a:ext cx="158436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4200" y="4149360"/>
              <a:ext cx="158436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11280" y="3860640"/>
              <a:ext cx="1871640" cy="504360"/>
              <a:chOff x="611280" y="3860640"/>
              <a:chExt cx="1871640" cy="504360"/>
            </a:xfrm>
          </p:grpSpPr>
          <p:sp>
            <p:nvSpPr>
              <p:cNvPr id="196" name=""/>
              <p:cNvSpPr/>
              <p:nvPr/>
            </p:nvSpPr>
            <p:spPr>
              <a:xfrm>
                <a:off x="2482920" y="3860640"/>
                <a:ext cx="0" cy="504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11280" y="3860640"/>
                <a:ext cx="187164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7020000" y="5734080"/>
            <a:ext cx="1584360" cy="86508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788000" y="5084280"/>
            <a:ext cx="1944720" cy="576360"/>
            <a:chOff x="4788000" y="5084280"/>
            <a:chExt cx="1944720" cy="576360"/>
          </a:xfrm>
        </p:grpSpPr>
        <p:sp>
          <p:nvSpPr>
            <p:cNvPr id="200" name=""/>
            <p:cNvSpPr/>
            <p:nvPr/>
          </p:nvSpPr>
          <p:spPr>
            <a:xfrm flipV="1">
              <a:off x="4788000" y="5084280"/>
              <a:ext cx="93672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24720" y="5084640"/>
              <a:ext cx="1008000" cy="5047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932360" y="5734080"/>
            <a:ext cx="1584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 rot="13749000">
            <a:off x="2249280" y="5293080"/>
            <a:ext cx="2895480" cy="272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23" y="69"/>
                </a:moveTo>
                <a:arcTo wR="10800" hR="10800" stAng="-5009790" swAng="5009790"/>
                <a:lnTo>
                  <a:pt x="10800" y="10800"/>
                </a:lnTo>
                <a:close/>
              </a:path>
              <a:path fill="none" w="21600" h="21600">
                <a:moveTo>
                  <a:pt x="12023" y="69"/>
                </a:moveTo>
                <a:arcTo wR="10800" hR="10800" stAng="-5009790" swAng="5009790"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5734080"/>
            <a:ext cx="1584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5734080"/>
            <a:ext cx="1584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11280" y="5445000"/>
            <a:ext cx="1871640" cy="504720"/>
            <a:chOff x="611280" y="5445000"/>
            <a:chExt cx="1871640" cy="504720"/>
          </a:xfrm>
        </p:grpSpPr>
        <p:sp>
          <p:nvSpPr>
            <p:cNvPr id="207" name=""/>
            <p:cNvSpPr/>
            <p:nvPr/>
          </p:nvSpPr>
          <p:spPr>
            <a:xfrm>
              <a:off x="2482920" y="5445000"/>
              <a:ext cx="0" cy="5047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1280" y="5445000"/>
              <a:ext cx="187164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3876840"/>
            <a:ext cx="59036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08720" y="189000"/>
            <a:ext cx="2981160" cy="2236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2981160" cy="2237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63640" y="4149720"/>
            <a:ext cx="3167280" cy="2533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292720" y="2637000"/>
            <a:ext cx="1820880" cy="244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3120840" cy="234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6300720" y="414972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гда гусь улетает, снег выпад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45007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годня на уроке мы буде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бирать однокорен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ывать слова с помощью приставок и суффик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бирать слова по сост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станавливать деформированные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ать инсц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5904000" cy="2981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5516640"/>
            <a:ext cx="1079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4005360"/>
            <a:ext cx="10796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589720"/>
            <a:ext cx="1079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40720" y="5516640"/>
            <a:ext cx="1079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24360" y="4005360"/>
            <a:ext cx="10796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87280" y="4797360"/>
            <a:ext cx="1008360" cy="936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88000" y="4797360"/>
            <a:ext cx="1008000" cy="936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4724280"/>
            <a:ext cx="1152720" cy="936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4797360"/>
            <a:ext cx="1152360" cy="936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422160" y="0"/>
            <a:ext cx="255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43640" y="836640"/>
            <a:ext cx="2232000" cy="161280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2592360" cy="165420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419640" y="5013360"/>
            <a:ext cx="2663640" cy="160344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877080" y="2708280"/>
            <a:ext cx="1511280" cy="216072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924360" y="2637000"/>
            <a:ext cx="1590480" cy="216036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539640" y="836640"/>
            <a:ext cx="2519640" cy="156528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971640" y="2708280"/>
            <a:ext cx="1584360" cy="208764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6372360" y="5084640"/>
            <a:ext cx="2484360" cy="159876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3635280" y="836640"/>
            <a:ext cx="2336760" cy="153360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10"/>
          <a:stretch/>
        </p:blipFill>
        <p:spPr>
          <a:xfrm>
            <a:off x="6372360" y="5084640"/>
            <a:ext cx="2484360" cy="159876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ь предложени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64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беди, гуси, 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урав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к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сточки, скворцы, гр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77080" y="4941720"/>
            <a:ext cx="1636560" cy="1636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451640" y="3141720"/>
            <a:ext cx="1692360" cy="1655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1800360" cy="164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29272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2560" y="225108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рениц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4000" y="383544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одиноч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46274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та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63640" y="3068640"/>
            <a:ext cx="11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л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76720" y="2133720"/>
            <a:ext cx="2376360" cy="23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4320" y="1125360"/>
            <a:ext cx="442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ЕНЬ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3876840"/>
            <a:ext cx="5904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08:59Z</dcterms:created>
  <dc:creator>Хомми</dc:creator>
  <dc:description/>
  <dc:language>en-US</dc:language>
  <cp:lastModifiedBy>Пользователь</cp:lastModifiedBy>
  <dcterms:modified xsi:type="dcterms:W3CDTF">2009-02-17T20:04:34Z</dcterms:modified>
  <cp:revision>15</cp:revision>
  <dc:subject/>
  <dc:title> 1. Число 2. Месяц 3. День недели</dc:title>
</cp:coreProperties>
</file>