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EFB-35D9-4A18-B530-6649078C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AED-1474-4FB1-9A09-F02281DE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175-5CE6-4878-95B7-E9F4D724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20F6-3F87-4F69-B651-8F62FAAE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03E-A9E8-43B2-A6F7-BAD73341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F77-C269-4095-8FF5-2878B17D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0E9-9018-472F-BEC5-7376510C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EA9-F3EA-4D9C-B289-8B24F9D1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F554-2F0E-48D6-BE96-1B5B6762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A4C-920B-473A-8F2C-4086044B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940-977E-41ED-A160-44DCE1B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FD5-A122-440B-9CEE-6B4017C1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7B97-59DC-461F-811D-4AC345D3B4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Число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Месяц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День нед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612720" y="-243000"/>
            <a:ext cx="10042560" cy="7532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252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бери однокоренные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94160" y="530064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ач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607400">
            <a:off x="3286800" y="3855960"/>
            <a:ext cx="2015640" cy="158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571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57112"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9607400">
            <a:off x="6384240" y="5079960"/>
            <a:ext cx="2015640" cy="158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571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57112"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607400">
            <a:off x="190800" y="5008320"/>
            <a:ext cx="2015640" cy="15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5711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57112"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0000" y="522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ворец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6360" y="41497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уравль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11970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ТА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8768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184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844640"/>
            <a:ext cx="0" cy="360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84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3800" y="2060640"/>
            <a:ext cx="10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д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3800" y="2060640"/>
            <a:ext cx="10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д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732720" y="1773360"/>
            <a:ext cx="1079280" cy="736200"/>
            <a:chOff x="6732720" y="1773360"/>
            <a:chExt cx="1079280" cy="736200"/>
          </a:xfrm>
        </p:grpSpPr>
        <p:grpSp>
          <p:nvGrpSpPr>
            <p:cNvPr id="107" name=""/>
            <p:cNvGrpSpPr/>
            <p:nvPr/>
          </p:nvGrpSpPr>
          <p:grpSpPr>
            <a:xfrm>
              <a:off x="6732720" y="1773360"/>
              <a:ext cx="1079280" cy="360000"/>
              <a:chOff x="6732720" y="1773360"/>
              <a:chExt cx="1079280" cy="360000"/>
            </a:xfrm>
          </p:grpSpPr>
          <p:sp>
            <p:nvSpPr>
              <p:cNvPr id="108" name=""/>
              <p:cNvSpPr/>
              <p:nvPr/>
            </p:nvSpPr>
            <p:spPr>
              <a:xfrm>
                <a:off x="7812000" y="1773360"/>
                <a:ext cx="0" cy="3600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32720" y="1773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6733800" y="1989000"/>
              <a:ext cx="91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За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067280" y="2492280"/>
            <a:ext cx="1196280" cy="736560"/>
            <a:chOff x="4067280" y="2492280"/>
            <a:chExt cx="1196280" cy="736560"/>
          </a:xfrm>
        </p:grpSpPr>
        <p:grpSp>
          <p:nvGrpSpPr>
            <p:cNvPr id="112" name=""/>
            <p:cNvGrpSpPr/>
            <p:nvPr/>
          </p:nvGrpSpPr>
          <p:grpSpPr>
            <a:xfrm>
              <a:off x="4067280" y="2492280"/>
              <a:ext cx="1079280" cy="360360"/>
              <a:chOff x="4067280" y="2492280"/>
              <a:chExt cx="1079280" cy="360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146560" y="249228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67280" y="249228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069440" y="2708280"/>
              <a:ext cx="119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д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067280" y="3573360"/>
            <a:ext cx="1367280" cy="736560"/>
            <a:chOff x="4067280" y="3573360"/>
            <a:chExt cx="1367280" cy="736560"/>
          </a:xfrm>
        </p:grpSpPr>
        <p:grpSp>
          <p:nvGrpSpPr>
            <p:cNvPr id="117" name=""/>
            <p:cNvGrpSpPr/>
            <p:nvPr/>
          </p:nvGrpSpPr>
          <p:grpSpPr>
            <a:xfrm>
              <a:off x="4067280" y="3573360"/>
              <a:ext cx="1079280" cy="360360"/>
              <a:chOff x="4067280" y="3573360"/>
              <a:chExt cx="1079280" cy="360360"/>
            </a:xfrm>
          </p:grpSpPr>
          <p:sp>
            <p:nvSpPr>
              <p:cNvPr id="118" name=""/>
              <p:cNvSpPr/>
              <p:nvPr/>
            </p:nvSpPr>
            <p:spPr>
              <a:xfrm>
                <a:off x="5146560" y="357336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67280" y="3573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069800" y="378936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ре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067280" y="4797360"/>
            <a:ext cx="1089000" cy="736560"/>
            <a:chOff x="4067280" y="4797360"/>
            <a:chExt cx="1089000" cy="736560"/>
          </a:xfrm>
        </p:grpSpPr>
        <p:grpSp>
          <p:nvGrpSpPr>
            <p:cNvPr id="122" name=""/>
            <p:cNvGrpSpPr/>
            <p:nvPr/>
          </p:nvGrpSpPr>
          <p:grpSpPr>
            <a:xfrm>
              <a:off x="4067280" y="4797360"/>
              <a:ext cx="1079280" cy="360360"/>
              <a:chOff x="4067280" y="4797360"/>
              <a:chExt cx="1079280" cy="360360"/>
            </a:xfrm>
          </p:grpSpPr>
          <p:sp>
            <p:nvSpPr>
              <p:cNvPr id="123" name=""/>
              <p:cNvSpPr/>
              <p:nvPr/>
            </p:nvSpPr>
            <p:spPr>
              <a:xfrm>
                <a:off x="5146560" y="479736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067280" y="4797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070520" y="5013360"/>
              <a:ext cx="108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71640" y="4581360"/>
            <a:ext cx="1079280" cy="736560"/>
            <a:chOff x="971640" y="4581360"/>
            <a:chExt cx="1079280" cy="736560"/>
          </a:xfrm>
        </p:grpSpPr>
        <p:grpSp>
          <p:nvGrpSpPr>
            <p:cNvPr id="127" name=""/>
            <p:cNvGrpSpPr/>
            <p:nvPr/>
          </p:nvGrpSpPr>
          <p:grpSpPr>
            <a:xfrm>
              <a:off x="971640" y="4581360"/>
              <a:ext cx="1079280" cy="360360"/>
              <a:chOff x="971640" y="4581360"/>
              <a:chExt cx="1079280" cy="360360"/>
            </a:xfrm>
          </p:grpSpPr>
          <p:sp>
            <p:nvSpPr>
              <p:cNvPr id="128" name=""/>
              <p:cNvSpPr/>
              <p:nvPr/>
            </p:nvSpPr>
            <p:spPr>
              <a:xfrm>
                <a:off x="2050920" y="458136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71640" y="4581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973800" y="4797360"/>
              <a:ext cx="96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995640" y="1341360"/>
            <a:ext cx="1079280" cy="736560"/>
            <a:chOff x="3995640" y="1341360"/>
            <a:chExt cx="1079280" cy="736560"/>
          </a:xfrm>
        </p:grpSpPr>
        <p:grpSp>
          <p:nvGrpSpPr>
            <p:cNvPr id="132" name=""/>
            <p:cNvGrpSpPr/>
            <p:nvPr/>
          </p:nvGrpSpPr>
          <p:grpSpPr>
            <a:xfrm>
              <a:off x="3995640" y="1341360"/>
              <a:ext cx="1079280" cy="360360"/>
              <a:chOff x="3995640" y="1341360"/>
              <a:chExt cx="1079280" cy="360360"/>
            </a:xfrm>
          </p:grpSpPr>
          <p:sp>
            <p:nvSpPr>
              <p:cNvPr id="133" name=""/>
              <p:cNvSpPr/>
              <p:nvPr/>
            </p:nvSpPr>
            <p:spPr>
              <a:xfrm>
                <a:off x="5074920" y="134136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95640" y="134136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997080" y="155736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804000" y="3284640"/>
            <a:ext cx="1109880" cy="736200"/>
            <a:chOff x="6804000" y="3284640"/>
            <a:chExt cx="1109880" cy="736200"/>
          </a:xfrm>
        </p:grpSpPr>
        <p:grpSp>
          <p:nvGrpSpPr>
            <p:cNvPr id="137" name=""/>
            <p:cNvGrpSpPr/>
            <p:nvPr/>
          </p:nvGrpSpPr>
          <p:grpSpPr>
            <a:xfrm>
              <a:off x="6804000" y="3284640"/>
              <a:ext cx="1079280" cy="360000"/>
              <a:chOff x="6804000" y="3284640"/>
              <a:chExt cx="1079280" cy="360000"/>
            </a:xfrm>
          </p:grpSpPr>
          <p:sp>
            <p:nvSpPr>
              <p:cNvPr id="138" name=""/>
              <p:cNvSpPr/>
              <p:nvPr/>
            </p:nvSpPr>
            <p:spPr>
              <a:xfrm>
                <a:off x="7883280" y="3284640"/>
                <a:ext cx="0" cy="3600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804000" y="328464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6805080" y="3500280"/>
              <a:ext cx="11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Раз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77080" y="4653000"/>
            <a:ext cx="1079280" cy="736560"/>
            <a:chOff x="6877080" y="4653000"/>
            <a:chExt cx="1079280" cy="736560"/>
          </a:xfrm>
        </p:grpSpPr>
        <p:grpSp>
          <p:nvGrpSpPr>
            <p:cNvPr id="142" name=""/>
            <p:cNvGrpSpPr/>
            <p:nvPr/>
          </p:nvGrpSpPr>
          <p:grpSpPr>
            <a:xfrm>
              <a:off x="6877080" y="4653000"/>
              <a:ext cx="1079280" cy="360360"/>
              <a:chOff x="6877080" y="4653000"/>
              <a:chExt cx="1079280" cy="360360"/>
            </a:xfrm>
          </p:grpSpPr>
          <p:sp>
            <p:nvSpPr>
              <p:cNvPr id="143" name=""/>
              <p:cNvSpPr/>
              <p:nvPr/>
            </p:nvSpPr>
            <p:spPr>
              <a:xfrm>
                <a:off x="7956360" y="4653000"/>
                <a:ext cx="0" cy="360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877080" y="4653000"/>
                <a:ext cx="107928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878520" y="4869000"/>
              <a:ext cx="105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ы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71640" y="184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3800" y="2060640"/>
            <a:ext cx="10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д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844640"/>
            <a:ext cx="10792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4160" y="2060640"/>
            <a:ext cx="10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1844640"/>
            <a:ext cx="107964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971640" y="3284640"/>
            <a:ext cx="1079280" cy="736200"/>
            <a:chOff x="971640" y="3284640"/>
            <a:chExt cx="1079280" cy="736200"/>
          </a:xfrm>
        </p:grpSpPr>
        <p:sp>
          <p:nvSpPr>
            <p:cNvPr id="152" name=""/>
            <p:cNvSpPr/>
            <p:nvPr/>
          </p:nvSpPr>
          <p:spPr>
            <a:xfrm>
              <a:off x="2050920" y="3284640"/>
              <a:ext cx="0" cy="360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73440" y="3500280"/>
              <a:ext cx="65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71640" y="3284640"/>
              <a:ext cx="107928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896920" y="297000"/>
            <a:ext cx="245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ЛЕТ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90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950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НИ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оял ноябрь. Мама открыла форточку.  Случайно  в комнат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иничка. Он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_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 подоконника 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 комнате. Птичк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_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кухню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через стол, снова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 форточке и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9240" y="1197000"/>
            <a:ext cx="3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УФФИ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45086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826920" y="1844640"/>
            <a:ext cx="1513080" cy="1655640"/>
            <a:chOff x="826920" y="1844640"/>
            <a:chExt cx="1513080" cy="1655640"/>
          </a:xfrm>
        </p:grpSpPr>
        <p:sp>
          <p:nvSpPr>
            <p:cNvPr id="162" name=""/>
            <p:cNvSpPr/>
            <p:nvPr/>
          </p:nvSpPr>
          <p:spPr>
            <a:xfrm>
              <a:off x="826920" y="2464560"/>
              <a:ext cx="1513080" cy="1035720"/>
            </a:xfrm>
            <a:prstGeom prst="beve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 ЫШ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6920" y="1844640"/>
              <a:ext cx="1513080" cy="61992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924360" y="1773360"/>
            <a:ext cx="1584360" cy="1582560"/>
            <a:chOff x="3924360" y="1773360"/>
            <a:chExt cx="1584360" cy="1582560"/>
          </a:xfrm>
        </p:grpSpPr>
        <p:sp>
          <p:nvSpPr>
            <p:cNvPr id="165" name=""/>
            <p:cNvSpPr/>
            <p:nvPr/>
          </p:nvSpPr>
          <p:spPr>
            <a:xfrm>
              <a:off x="3924360" y="2365920"/>
              <a:ext cx="1584360" cy="990000"/>
            </a:xfrm>
            <a:prstGeom prst="beve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И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24360" y="1773360"/>
              <a:ext cx="1584360" cy="59256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020000" y="1773360"/>
            <a:ext cx="1439640" cy="1510920"/>
            <a:chOff x="7020000" y="1773360"/>
            <a:chExt cx="1439640" cy="1510920"/>
          </a:xfrm>
        </p:grpSpPr>
        <p:sp>
          <p:nvSpPr>
            <p:cNvPr id="168" name=""/>
            <p:cNvSpPr/>
            <p:nvPr/>
          </p:nvSpPr>
          <p:spPr>
            <a:xfrm>
              <a:off x="7020000" y="2338920"/>
              <a:ext cx="1439640" cy="945360"/>
            </a:xfrm>
            <a:prstGeom prst="bevel">
              <a:avLst>
                <a:gd name="adj" fmla="val 125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-к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20000" y="1773360"/>
              <a:ext cx="1439640" cy="56556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267640" y="770400"/>
            <a:ext cx="493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06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Кто в домике живё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067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нездо,  птица,    клюв, дом,   перо, крыло, нос, глаза, хвост, шея, горло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ач качался в гама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и - в  волнах на р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мо голуби ле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а веточку прис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точка кача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лохо полу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5904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9960" y="1197000"/>
            <a:ext cx="35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НЧ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4360" y="38768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тавь из данных слов предлож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ень, собираться, журавли, далёкий, путь,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лёт, перед,  они, покружиться, над, болото, род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, воздух,  зазвенеть, крик, прощальный, пт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уравли, клин, потянуться, юг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, весна, встре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20000" y="5425920"/>
            <a:ext cx="21240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6680" y="1268280"/>
            <a:ext cx="48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СТАВЬ СЛ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4360" y="38768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5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 СЛО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ставка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ередел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ень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лёт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ффикс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гриб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нчание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двод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11280" y="3085200"/>
            <a:ext cx="7993080" cy="3971520"/>
            <a:chOff x="611280" y="3085200"/>
            <a:chExt cx="7993080" cy="3971520"/>
          </a:xfrm>
        </p:grpSpPr>
        <p:sp>
          <p:nvSpPr>
            <p:cNvPr id="187" name=""/>
            <p:cNvSpPr/>
            <p:nvPr/>
          </p:nvSpPr>
          <p:spPr>
            <a:xfrm>
              <a:off x="7020000" y="4149360"/>
              <a:ext cx="1584360" cy="865080"/>
            </a:xfrm>
            <a:prstGeom prst="rect">
              <a:avLst/>
            </a:prstGeom>
            <a:solidFill>
              <a:srgbClr val="ffffff"/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786200" y="3500280"/>
              <a:ext cx="1944720" cy="576000"/>
              <a:chOff x="4786200" y="3500280"/>
              <a:chExt cx="1944720" cy="57600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4786200" y="3500280"/>
                <a:ext cx="936720" cy="57600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22920" y="3500280"/>
                <a:ext cx="1008000" cy="504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930920" y="4149360"/>
              <a:ext cx="158436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3749000">
              <a:off x="2250000" y="3708000"/>
              <a:ext cx="2894400" cy="272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023" y="69"/>
                  </a:moveTo>
                  <a:arcTo wR="10800" hR="10800" stAng="-5009790" swAng="50097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023" y="69"/>
                  </a:moveTo>
                  <a:arcTo wR="10800" hR="10800" stAng="-5009790" swAng="5009790"/>
                </a:path>
              </a:pathLst>
            </a:cu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43280" y="4149360"/>
              <a:ext cx="158436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4200" y="4149360"/>
              <a:ext cx="158436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11280" y="3860640"/>
              <a:ext cx="1871640" cy="504360"/>
              <a:chOff x="611280" y="3860640"/>
              <a:chExt cx="1871640" cy="504360"/>
            </a:xfrm>
          </p:grpSpPr>
          <p:sp>
            <p:nvSpPr>
              <p:cNvPr id="196" name=""/>
              <p:cNvSpPr/>
              <p:nvPr/>
            </p:nvSpPr>
            <p:spPr>
              <a:xfrm>
                <a:off x="2482920" y="3860640"/>
                <a:ext cx="0" cy="50436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1280" y="3860640"/>
                <a:ext cx="1871640" cy="0"/>
              </a:xfrm>
              <a:prstGeom prst="line">
                <a:avLst/>
              </a:prstGeom>
              <a:ln w="63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7020000" y="5734080"/>
            <a:ext cx="1584360" cy="865080"/>
          </a:xfrm>
          <a:prstGeom prst="rect">
            <a:avLst/>
          </a:prstGeom>
          <a:solidFill>
            <a:srgbClr val="ffffff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788000" y="5084280"/>
            <a:ext cx="1944720" cy="576360"/>
            <a:chOff x="4788000" y="5084280"/>
            <a:chExt cx="1944720" cy="576360"/>
          </a:xfrm>
        </p:grpSpPr>
        <p:sp>
          <p:nvSpPr>
            <p:cNvPr id="200" name=""/>
            <p:cNvSpPr/>
            <p:nvPr/>
          </p:nvSpPr>
          <p:spPr>
            <a:xfrm flipV="1">
              <a:off x="4788000" y="5084280"/>
              <a:ext cx="93672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24720" y="5084640"/>
              <a:ext cx="1008000" cy="504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932360" y="5734080"/>
            <a:ext cx="1584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 rot="13749000">
            <a:off x="2249280" y="5293080"/>
            <a:ext cx="2895480" cy="272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23" y="69"/>
                </a:moveTo>
                <a:arcTo wR="10800" hR="10800" stAng="-5009790" swAng="5009790"/>
                <a:lnTo>
                  <a:pt x="10800" y="10800"/>
                </a:lnTo>
                <a:close/>
              </a:path>
              <a:path fill="none" w="21600" h="21600">
                <a:moveTo>
                  <a:pt x="12023" y="69"/>
                </a:moveTo>
                <a:arcTo wR="10800" hR="10800" stAng="-5009790" swAng="5009790"/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5734080"/>
            <a:ext cx="1584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5734080"/>
            <a:ext cx="1584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11280" y="5445000"/>
            <a:ext cx="1871640" cy="504720"/>
            <a:chOff x="611280" y="5445000"/>
            <a:chExt cx="1871640" cy="504720"/>
          </a:xfrm>
        </p:grpSpPr>
        <p:sp>
          <p:nvSpPr>
            <p:cNvPr id="207" name=""/>
            <p:cNvSpPr/>
            <p:nvPr/>
          </p:nvSpPr>
          <p:spPr>
            <a:xfrm>
              <a:off x="2482920" y="5445000"/>
              <a:ext cx="0" cy="504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280" y="5445000"/>
              <a:ext cx="187164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3876840"/>
            <a:ext cx="5903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2981160" cy="223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2981160" cy="2237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63640" y="4149720"/>
            <a:ext cx="3167280" cy="2533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292720" y="2637000"/>
            <a:ext cx="1820880" cy="244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3120840" cy="234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300720" y="4149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1483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да гусь улетает, снег выпад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4500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годня на уроке мы буд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бирать однокорен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ывать слова с помощью приставок и суффик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бирать слова по соста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станавливать деформированные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лать инсцениров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5904000" cy="2981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0920" y="5516640"/>
            <a:ext cx="1079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4005360"/>
            <a:ext cx="10796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589720"/>
            <a:ext cx="1079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720" y="5516640"/>
            <a:ext cx="10792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24360" y="4005360"/>
            <a:ext cx="10796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187280" y="4797360"/>
            <a:ext cx="1008360" cy="9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88000" y="4797360"/>
            <a:ext cx="1008000" cy="9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4724280"/>
            <a:ext cx="1152720" cy="9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797360"/>
            <a:ext cx="1152360" cy="936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422160" y="0"/>
            <a:ext cx="255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443640" y="836640"/>
            <a:ext cx="2232000" cy="161280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2592360" cy="165420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419640" y="5013360"/>
            <a:ext cx="2663640" cy="160344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877080" y="2708280"/>
            <a:ext cx="1511280" cy="216072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924360" y="2637000"/>
            <a:ext cx="1590480" cy="216036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539640" y="836640"/>
            <a:ext cx="2519640" cy="156528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971640" y="2708280"/>
            <a:ext cx="1584360" cy="208764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6372360" y="5084640"/>
            <a:ext cx="2484360" cy="159876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3635280" y="836640"/>
            <a:ext cx="2336760" cy="153360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10"/>
          <a:stretch/>
        </p:blipFill>
        <p:spPr>
          <a:xfrm>
            <a:off x="6372360" y="5084640"/>
            <a:ext cx="2484360" cy="1598760"/>
          </a:xfrm>
          <a:prstGeom prst="rect">
            <a:avLst/>
          </a:prstGeom>
          <a:ln w="63360">
            <a:solidFill>
              <a:srgbClr val="66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ставь предложени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4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беди, гуси, 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ура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ук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сточки, скворцы, гр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77080" y="4941720"/>
            <a:ext cx="1636560" cy="1636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451640" y="3141720"/>
            <a:ext cx="169236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948360" y="1268280"/>
            <a:ext cx="1800360" cy="1646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292720" y="162864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2560" y="22510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ерен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383544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поодиноч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462744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ста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63640" y="3068640"/>
            <a:ext cx="11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кл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cc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76720" y="2133720"/>
            <a:ext cx="2376360" cy="23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4320" y="1125360"/>
            <a:ext cx="442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3876840"/>
            <a:ext cx="59040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08:59Z</dcterms:created>
  <dc:creator>Хомми</dc:creator>
  <dc:description/>
  <dc:language>en-US</dc:language>
  <cp:lastModifiedBy>Пользователь</cp:lastModifiedBy>
  <dcterms:modified xsi:type="dcterms:W3CDTF">2009-02-17T20:04:34Z</dcterms:modified>
  <cp:revision>15</cp:revision>
  <dc:subject/>
  <dc:title> 1. Число 2. Месяц 3. День недели</dc:title>
</cp:coreProperties>
</file>