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DD9D-5B15-44DF-B02B-1C3B84DECB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925A-F6C5-47D4-AFAF-84537F9EF1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FE9-0398-4675-B851-47C69835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280-A23B-4FBE-8572-3DF94BEC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4D8-71E1-425C-A37C-6CC9B932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BF6-8E1E-46A1-92DE-C87A2710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416-F004-44F7-94EC-D092A670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8347-53EA-46B1-8A28-5B4D4EC7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4BD-1B8E-419D-AB33-D4853F95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AFA-8E3E-4C2A-A720-6EC8AFA2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A49-009E-411C-AE1B-85032A7E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4F1D-D69B-4424-92F3-906DA2F0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B61-E75D-4FF1-8262-BEEADCD5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298-D730-46DF-806C-E19522DA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40E4-5B8E-4BF5-A9A0-0F0E9901C6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CCA2-2896-4E0E-8048-50378C51E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бота с числами с плавающей точкой 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ая часть частного 498 и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498.jpg"/>
          <p:cNvPicPr/>
          <p:nvPr/>
        </p:nvPicPr>
        <p:blipFill>
          <a:blip r:embed="rId1"/>
          <a:stretch/>
        </p:blipFill>
        <p:spPr>
          <a:xfrm>
            <a:off x="0" y="2395440"/>
            <a:ext cx="9144000" cy="206712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85*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3" descr="685x6.jpg"/>
          <p:cNvPicPr/>
          <p:nvPr/>
        </p:nvPicPr>
        <p:blipFill>
          <a:blip r:embed="rId1"/>
          <a:stretch/>
        </p:blipFill>
        <p:spPr>
          <a:xfrm>
            <a:off x="0" y="2395440"/>
            <a:ext cx="9144000" cy="20671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ость 658 и 36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658-365.jpg"/>
          <p:cNvPicPr/>
          <p:nvPr/>
        </p:nvPicPr>
        <p:blipFill>
          <a:blip r:embed="rId1"/>
          <a:stretch/>
        </p:blipFill>
        <p:spPr>
          <a:xfrm>
            <a:off x="0" y="240984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ое от деления 56 и 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3" descr="частное 56 и 8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9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числах с плавающей точко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а с плавающей точкой в программировании представляют собой аналог дробей. Причем, как обыкнове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обыкновенная дробь.jpg"/>
          <p:cNvPicPr/>
          <p:nvPr/>
        </p:nvPicPr>
        <p:blipFill>
          <a:blip r:embed="rId1"/>
          <a:stretch/>
        </p:blipFill>
        <p:spPr>
          <a:xfrm>
            <a:off x="0" y="3143160"/>
            <a:ext cx="9144000" cy="1638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213480" y="5000760"/>
            <a:ext cx="328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 и десятич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 числах с плавающей точк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преобразовать целое число в число с плавающей точкой, необходим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нести запятую влево на столько знаков, сколько необходимо для того, чтобы осталось число, меньшее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ножить получившееся число на 10 в отрицательной  степени, соответствующей количеству цифр, на которое перенесена запят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число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сло с плавающей точкой занимает 32 бита в памя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получить число с плавающей точкой в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yth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реобразования числа в формат с плавающей точкой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ет функц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3" descr="float.jpg"/>
          <p:cNvPicPr/>
          <p:nvPr/>
        </p:nvPicPr>
        <p:blipFill>
          <a:blip r:embed="rId1"/>
          <a:stretch/>
        </p:blipFill>
        <p:spPr>
          <a:xfrm>
            <a:off x="0" y="3143160"/>
            <a:ext cx="9144000" cy="250056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ить в формате числа с плавающей точкой следующие числа, организовав ввод с помощью операто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: 485, 652,21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8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4258, 3687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-32.48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8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485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314316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ипы данных 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данные в python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3" descr="652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21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8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3" descr="float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220500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25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3" descr="4258.jpg"/>
          <p:cNvPicPr/>
          <p:nvPr/>
        </p:nvPicPr>
        <p:blipFill>
          <a:blip r:embed="rId1"/>
          <a:stretch/>
        </p:blipFill>
        <p:spPr>
          <a:xfrm>
            <a:off x="0" y="2400480"/>
            <a:ext cx="9144000" cy="310032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687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36874.jpg"/>
          <p:cNvPicPr/>
          <p:nvPr/>
        </p:nvPicPr>
        <p:blipFill>
          <a:blip r:embed="rId1"/>
          <a:stretch/>
        </p:blipFill>
        <p:spPr>
          <a:xfrm>
            <a:off x="0" y="2367000"/>
            <a:ext cx="9144000" cy="327672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3248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Рисунок 3" descr="-32486.jpg"/>
          <p:cNvPicPr/>
          <p:nvPr/>
        </p:nvPicPr>
        <p:blipFill>
          <a:blip r:embed="rId1"/>
          <a:stretch/>
        </p:blipFill>
        <p:spPr>
          <a:xfrm>
            <a:off x="0" y="2419200"/>
            <a:ext cx="9144000" cy="32245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же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Рисунок 3" descr="сложение.jpg"/>
          <p:cNvPicPr/>
          <p:nvPr/>
        </p:nvPicPr>
        <p:blipFill>
          <a:blip r:embed="rId1"/>
          <a:stretch/>
        </p:blipFill>
        <p:spPr>
          <a:xfrm>
            <a:off x="0" y="2390760"/>
            <a:ext cx="9144000" cy="296712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т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Рисунок 3" descr="вычитание.jpg"/>
          <p:cNvPicPr/>
          <p:nvPr/>
        </p:nvPicPr>
        <p:blipFill>
          <a:blip r:embed="rId1"/>
          <a:stretch/>
        </p:blipFill>
        <p:spPr>
          <a:xfrm>
            <a:off x="0" y="2395440"/>
            <a:ext cx="9144000" cy="2067120"/>
          </a:xfrm>
          <a:prstGeom prst="rect">
            <a:avLst/>
          </a:prstGeom>
          <a:ln w="0">
            <a:noFill/>
          </a:ln>
        </p:spPr>
      </p:pic>
      <p:sp>
        <p:nvSpPr>
          <p:cNvPr id="1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н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3" descr="489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3" descr="частное.jpg"/>
          <p:cNvPicPr/>
          <p:nvPr/>
        </p:nvPicPr>
        <p:blipFill>
          <a:blip r:embed="rId1"/>
          <a:stretch/>
        </p:blipFill>
        <p:spPr>
          <a:xfrm>
            <a:off x="0" y="2419200"/>
            <a:ext cx="9144000" cy="351000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меч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о символы в качестве отдельного типа данных не выделяютс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очисленное де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3" descr="целочисленное деление.jpg"/>
          <p:cNvPicPr/>
          <p:nvPr/>
        </p:nvPicPr>
        <p:blipFill>
          <a:blip r:embed="rId1"/>
          <a:stretch/>
        </p:blipFill>
        <p:spPr>
          <a:xfrm>
            <a:off x="0" y="2324160"/>
            <a:ext cx="9144000" cy="296208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мотр остат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3" descr="остаток от деления.jpg"/>
          <p:cNvPicPr/>
          <p:nvPr/>
        </p:nvPicPr>
        <p:blipFill>
          <a:blip r:embed="rId1"/>
          <a:stretch/>
        </p:blipFill>
        <p:spPr>
          <a:xfrm>
            <a:off x="0" y="2214720"/>
            <a:ext cx="914400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ерации с числами с плавающей точ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г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округление до целых.jpg"/>
          <p:cNvPicPr/>
          <p:nvPr/>
        </p:nvPicPr>
        <p:blipFill>
          <a:blip r:embed="rId1"/>
          <a:stretch/>
        </p:blipFill>
        <p:spPr>
          <a:xfrm>
            <a:off x="0" y="2071800"/>
            <a:ext cx="9144000" cy="21049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на засып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тбросить дробную ча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вет пр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исать число оператор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3" descr="int2.79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1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елить 2,4 на 0,8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Содержимое 3" descr="2,4 на 0,8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321480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цело разделить 2,7 на 4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Содержимое 3" descr="целочисленное деление.jpg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07196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4" descr=""/>
          <p:cNvPicPr/>
          <p:nvPr/>
        </p:nvPicPr>
        <p:blipFill>
          <a:blip r:embed="rId2"/>
          <a:stretch/>
        </p:blipFill>
        <p:spPr>
          <a:xfrm>
            <a:off x="-512640" y="5589720"/>
            <a:ext cx="8407440" cy="115236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тому, ч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 деления равен 0,6. Дробную часть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бросил. И остался 0, но, поскольку тип данных мы не указали, по умолчанию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ставил плавающую точк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помн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ые числа не имеют ограничений по длин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есть из 4,9 0,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3" descr="должно получиться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714400"/>
          </a:xfrm>
          <a:prstGeom prst="rect">
            <a:avLst/>
          </a:prstGeom>
          <a:ln w="0">
            <a:noFill/>
          </a:ln>
        </p:spPr>
      </p:pic>
      <p:sp>
        <p:nvSpPr>
          <p:cNvPr id="19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 на засып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брать 0 в результат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вот и отв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объявить результат целым числ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Рисунок 3" descr="получили целое число.jpg"/>
          <p:cNvPicPr/>
          <p:nvPr/>
        </p:nvPicPr>
        <p:blipFill>
          <a:blip r:embed="rId1"/>
          <a:stretch/>
        </p:blipFill>
        <p:spPr>
          <a:xfrm>
            <a:off x="0" y="2714760"/>
            <a:ext cx="9144000" cy="21906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36360" y="5143680"/>
            <a:ext cx="790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называется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явным объявлением типов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ычно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используе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o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ь результат выполнения выра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*9+9/6. результат округлить до цел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*8-6/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-6*9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+9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+9/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Содержимое 3" descr="int d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2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читайте в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python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*2.4+3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*0.9-0.6/0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6*6+69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9-6*0.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98*5/0.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/0.6+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руглить числа 485,695; 0,32; 1985,5 до цел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 примеров из учебника математики расписать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рез переменные. В результатах отбросить дробные части, представить их как целы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спомн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операции с целыми числами.jpg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348768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прим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5 и 8 вычисляется та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5+8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203832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пробуйте с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числит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у 6 и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ток от деления 48 на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ую часть частного 498/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едение 685 и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ность 658 и 3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ое от деления 56 и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6 и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6.jpg"/>
          <p:cNvPicPr/>
          <p:nvPr/>
        </p:nvPicPr>
        <p:blipFill>
          <a:blip r:embed="rId1"/>
          <a:stretch/>
        </p:blipFill>
        <p:spPr>
          <a:xfrm>
            <a:off x="0" y="2214720"/>
            <a:ext cx="9144000" cy="2786040"/>
          </a:xfrm>
          <a:prstGeom prst="rect">
            <a:avLst/>
          </a:prstGeom>
          <a:ln w="0">
            <a:noFill/>
          </a:ln>
        </p:spPr>
      </p:pic>
      <p:sp>
        <p:nvSpPr>
          <p:cNvPr id="7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лжно получить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ток от деления 48 на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остаток.jpg"/>
          <p:cNvPicPr/>
          <p:nvPr/>
        </p:nvPicPr>
        <p:blipFill>
          <a:blip r:embed="rId1"/>
          <a:stretch/>
        </p:blipFill>
        <p:spPr>
          <a:xfrm>
            <a:off x="0" y="2143080"/>
            <a:ext cx="9144000" cy="1505160"/>
          </a:xfrm>
          <a:prstGeom prst="rect">
            <a:avLst/>
          </a:prstGeom>
          <a:ln w="0">
            <a:noFill/>
          </a:ln>
        </p:spPr>
      </p:pic>
      <p:sp>
        <p:nvSpPr>
          <p:cNvPr id="7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© Радченко Александр Валерьевич, 20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0-17T04:31:54Z</dcterms:created>
  <dc:creator>User</dc:creator>
  <dc:description/>
  <dc:language>en-US</dc:language>
  <cp:lastModifiedBy>User</cp:lastModifiedBy>
  <dcterms:modified xsi:type="dcterms:W3CDTF">2023-11-13T13:41:26Z</dcterms:modified>
  <cp:revision>6</cp:revision>
  <dc:subject/>
  <dc:title>Работа с числами с плавающей точкой в python</dc:title>
</cp:coreProperties>
</file>