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227E-AF84-4529-823B-82D8CB2DC0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FF28-3591-43B9-8A2F-5AB938D82E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B00A-00F8-4158-9AD7-7AD51F7B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7195-B616-4200-9D44-9F59C788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17E-F3D7-468A-B773-E168DCF6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F993-8237-422E-9D1B-982F4C05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9D8-8149-4999-85BD-AC70DF58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5A5-409F-4A20-8EBF-44D1DFEC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0D15-C2E9-4E9F-94B2-136F2F2A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3CE-356E-4BB1-9AD2-E26AAC98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C42F-674A-4481-AB61-8ACFB5EE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475A-3E7B-4D43-BC3A-A1D1991E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D2B4-983C-4030-875B-3CEFEEAA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010-8D38-4197-A7AA-540E3F1A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1D6F-62F0-4C74-B135-F5940E492F9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FDEF-28AC-42E1-BF70-67D1A2388D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числами с плавающей точкой в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th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ая часть частного 498 и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498.jpg"/>
          <p:cNvPicPr/>
          <p:nvPr/>
        </p:nvPicPr>
        <p:blipFill>
          <a:blip r:embed="rId1"/>
          <a:stretch/>
        </p:blipFill>
        <p:spPr>
          <a:xfrm>
            <a:off x="0" y="2395440"/>
            <a:ext cx="9144000" cy="2067120"/>
          </a:xfrm>
          <a:prstGeom prst="rect">
            <a:avLst/>
          </a:prstGeom>
          <a:ln w="0">
            <a:noFill/>
          </a:ln>
        </p:spPr>
      </p:pic>
      <p:sp>
        <p:nvSpPr>
          <p:cNvPr id="8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85*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3" descr="685x6.jpg"/>
          <p:cNvPicPr/>
          <p:nvPr/>
        </p:nvPicPr>
        <p:blipFill>
          <a:blip r:embed="rId1"/>
          <a:stretch/>
        </p:blipFill>
        <p:spPr>
          <a:xfrm>
            <a:off x="0" y="2395440"/>
            <a:ext cx="9144000" cy="206712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ность 658 и 36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658-365.jpg"/>
          <p:cNvPicPr/>
          <p:nvPr/>
        </p:nvPicPr>
        <p:blipFill>
          <a:blip r:embed="rId1"/>
          <a:stretch/>
        </p:blipFill>
        <p:spPr>
          <a:xfrm>
            <a:off x="0" y="2409840"/>
            <a:ext cx="9144000" cy="2038320"/>
          </a:xfrm>
          <a:prstGeom prst="rect">
            <a:avLst/>
          </a:prstGeom>
          <a:ln w="0">
            <a:noFill/>
          </a:ln>
        </p:spPr>
      </p:pic>
      <p:sp>
        <p:nvSpPr>
          <p:cNvPr id="8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ное от деления 56 и 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3" descr="частное 56 и 8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9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 числах с плавающей точко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а с плавающей точкой в программировании представляют собой аналог дробей. Причем, как обыкнове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3" descr="обыкновенная дробь.jpg"/>
          <p:cNvPicPr/>
          <p:nvPr/>
        </p:nvPicPr>
        <p:blipFill>
          <a:blip r:embed="rId1"/>
          <a:stretch/>
        </p:blipFill>
        <p:spPr>
          <a:xfrm>
            <a:off x="0" y="3143160"/>
            <a:ext cx="9144000" cy="163836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213480" y="500076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 и десятич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 числах с плавающей точк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преобразовать целое число в число с плавающей точкой, необходим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нести запятую влево на столько знаков, сколько необходимо для того, чтобы осталось число, меньшее 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ножить получившееся число на 10 в отрицательной  степени, соответствующей количеству цифр, на которое перенесена запят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такое число с плавающей точк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о с плавающей точкой занимает 32 бита в памя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получить число с плавающей точкой в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yth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реобразования числа в формат с плавающей точкой 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o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ществует функци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3" descr="float.jpg"/>
          <p:cNvPicPr/>
          <p:nvPr/>
        </p:nvPicPr>
        <p:blipFill>
          <a:blip r:embed="rId1"/>
          <a:stretch/>
        </p:blipFill>
        <p:spPr>
          <a:xfrm>
            <a:off x="0" y="3143160"/>
            <a:ext cx="9144000" cy="250056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пробуйте с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ить в формате числа с плавающей точкой следующие числа, организовав ввод с помощью оператор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put: 485, 652,21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8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4258, 3687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-32.48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485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3143160"/>
          </a:xfrm>
          <a:prstGeom prst="rect">
            <a:avLst/>
          </a:prstGeom>
          <a:ln w="0">
            <a:noFill/>
          </a:ln>
        </p:spPr>
      </p:pic>
      <p:sp>
        <p:nvSpPr>
          <p:cNvPr id="11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данных в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данные в python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3" descr="652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3286080"/>
          </a:xfrm>
          <a:prstGeom prst="rect">
            <a:avLst/>
          </a:prstGeom>
          <a:ln w="0">
            <a:noFill/>
          </a:ln>
        </p:spPr>
      </p:pic>
      <p:sp>
        <p:nvSpPr>
          <p:cNvPr id="11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3" descr="21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3571920"/>
          </a:xfrm>
          <a:prstGeom prst="rect">
            <a:avLst/>
          </a:prstGeom>
          <a:ln w="0">
            <a:noFill/>
          </a:ln>
        </p:spPr>
      </p:pic>
      <p:sp>
        <p:nvSpPr>
          <p:cNvPr id="12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8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3" descr="float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2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25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3" descr="4258.jpg"/>
          <p:cNvPicPr/>
          <p:nvPr/>
        </p:nvPicPr>
        <p:blipFill>
          <a:blip r:embed="rId1"/>
          <a:stretch/>
        </p:blipFill>
        <p:spPr>
          <a:xfrm>
            <a:off x="0" y="2400480"/>
            <a:ext cx="9144000" cy="310032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68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3" descr="36874.jpg"/>
          <p:cNvPicPr/>
          <p:nvPr/>
        </p:nvPicPr>
        <p:blipFill>
          <a:blip r:embed="rId1"/>
          <a:stretch/>
        </p:blipFill>
        <p:spPr>
          <a:xfrm>
            <a:off x="0" y="2367000"/>
            <a:ext cx="9144000" cy="327672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3248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Рисунок 3" descr="-32486.jpg"/>
          <p:cNvPicPr/>
          <p:nvPr/>
        </p:nvPicPr>
        <p:blipFill>
          <a:blip r:embed="rId1"/>
          <a:stretch/>
        </p:blipFill>
        <p:spPr>
          <a:xfrm>
            <a:off x="0" y="2419200"/>
            <a:ext cx="9144000" cy="322452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ерации с числами с плавающей точк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ж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3" descr="сложение.jpg"/>
          <p:cNvPicPr/>
          <p:nvPr/>
        </p:nvPicPr>
        <p:blipFill>
          <a:blip r:embed="rId1"/>
          <a:stretch/>
        </p:blipFill>
        <p:spPr>
          <a:xfrm>
            <a:off x="0" y="2390760"/>
            <a:ext cx="9144000" cy="2967120"/>
          </a:xfrm>
          <a:prstGeom prst="rect">
            <a:avLst/>
          </a:prstGeom>
          <a:ln w="0">
            <a:noFill/>
          </a:ln>
        </p:spPr>
      </p:pic>
      <p:sp>
        <p:nvSpPr>
          <p:cNvPr id="14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ерации с числами с плавающей точк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чит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вычитание.jpg"/>
          <p:cNvPicPr/>
          <p:nvPr/>
        </p:nvPicPr>
        <p:blipFill>
          <a:blip r:embed="rId1"/>
          <a:stretch/>
        </p:blipFill>
        <p:spPr>
          <a:xfrm>
            <a:off x="0" y="2395440"/>
            <a:ext cx="9144000" cy="2067120"/>
          </a:xfrm>
          <a:prstGeom prst="rect">
            <a:avLst/>
          </a:prstGeom>
          <a:ln w="0">
            <a:noFill/>
          </a:ln>
        </p:spPr>
      </p:pic>
      <p:sp>
        <p:nvSpPr>
          <p:cNvPr id="14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ерации с числами с плавающей точк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но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Рисунок 3" descr="489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227664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ерации с числами с плавающей точко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Рисунок 3" descr="частное.jpg"/>
          <p:cNvPicPr/>
          <p:nvPr/>
        </p:nvPicPr>
        <p:blipFill>
          <a:blip r:embed="rId1"/>
          <a:stretch/>
        </p:blipFill>
        <p:spPr>
          <a:xfrm>
            <a:off x="0" y="2419200"/>
            <a:ext cx="9144000" cy="3510000"/>
          </a:xfrm>
          <a:prstGeom prst="rect">
            <a:avLst/>
          </a:prstGeom>
          <a:ln w="0">
            <a:noFill/>
          </a:ln>
        </p:spPr>
      </p:pic>
      <p:sp>
        <p:nvSpPr>
          <p:cNvPr id="15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меч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о символы в качестве отдельного типа данных не выделяютс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ерации с числами с плавающей точк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очисленное де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3" descr="целочисленное деление.jpg"/>
          <p:cNvPicPr/>
          <p:nvPr/>
        </p:nvPicPr>
        <p:blipFill>
          <a:blip r:embed="rId1"/>
          <a:stretch/>
        </p:blipFill>
        <p:spPr>
          <a:xfrm>
            <a:off x="0" y="2324160"/>
            <a:ext cx="9144000" cy="2962080"/>
          </a:xfrm>
          <a:prstGeom prst="rect">
            <a:avLst/>
          </a:prstGeom>
          <a:ln w="0">
            <a:noFill/>
          </a:ln>
        </p:spPr>
      </p:pic>
      <p:sp>
        <p:nvSpPr>
          <p:cNvPr id="15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ерации с числами с плавающей точко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мотр остат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3" descr="остаток от деления.jpg"/>
          <p:cNvPicPr/>
          <p:nvPr/>
        </p:nvPicPr>
        <p:blipFill>
          <a:blip r:embed="rId1"/>
          <a:stretch/>
        </p:blipFill>
        <p:spPr>
          <a:xfrm>
            <a:off x="0" y="2214720"/>
            <a:ext cx="9144000" cy="2857320"/>
          </a:xfrm>
          <a:prstGeom prst="rect">
            <a:avLst/>
          </a:prstGeom>
          <a:ln w="0">
            <a:noFill/>
          </a:ln>
        </p:spPr>
      </p:pic>
      <p:sp>
        <p:nvSpPr>
          <p:cNvPr id="16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ерации с числами с плавающей точк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руг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Рисунок 3" descr="округление до целых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210492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 на засып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тбросить дробную час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 пр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исать число операторо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Рисунок 3" descr="int2.79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3286080"/>
          </a:xfrm>
          <a:prstGeom prst="rect">
            <a:avLst/>
          </a:prstGeom>
          <a:ln w="0">
            <a:noFill/>
          </a:ln>
        </p:spPr>
      </p:pic>
      <p:sp>
        <p:nvSpPr>
          <p:cNvPr id="1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пробуйте с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делить 2,4 на 0,8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Содержимое 3" descr="2,4 на 0,8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321480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пробуйте с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цело разделить 2,7 на 4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Содержимое 3" descr="целочисленное деление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07196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4" descr=""/>
          <p:cNvPicPr/>
          <p:nvPr/>
        </p:nvPicPr>
        <p:blipFill>
          <a:blip r:embed="rId2"/>
          <a:stretch/>
        </p:blipFill>
        <p:spPr>
          <a:xfrm>
            <a:off x="-512640" y="5589720"/>
            <a:ext cx="8407440" cy="115236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ому, ч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 деления равен 0,6. Дробную часть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o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бросил. И остался 0, но, поскольку тип данных мы не указали, по умолчанию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o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тавил плавающую точк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помни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ые числа не имеют ограничений по длине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пробуйте с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честь из 4,9 0,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Содержимое 3" descr="должно получиться.jpg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2714400"/>
          </a:xfrm>
          <a:prstGeom prst="rect">
            <a:avLst/>
          </a:prstGeom>
          <a:ln w="0">
            <a:noFill/>
          </a:ln>
        </p:spPr>
      </p:pic>
      <p:sp>
        <p:nvSpPr>
          <p:cNvPr id="19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 на засып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убрать 0 в результа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вот и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 объявить результат целым числ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Рисунок 3" descr="получили целое число.jpg"/>
          <p:cNvPicPr/>
          <p:nvPr/>
        </p:nvPicPr>
        <p:blipFill>
          <a:blip r:embed="rId1"/>
          <a:stretch/>
        </p:blipFill>
        <p:spPr>
          <a:xfrm>
            <a:off x="0" y="2714760"/>
            <a:ext cx="9144000" cy="21906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36360" y="5143680"/>
            <a:ext cx="790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называется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явным объявлением типо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ычно 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ython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используе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o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пробуйте с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числить результат выполнения выраж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*9+9/6. результат округлить до цел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*8-6/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-6*9/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+9/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+9/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Содержимое 3" descr="int d.jp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21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читайте в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python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*2.4+3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*0.9-0.6/0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6*6+6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89-6*0.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8*5/0.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/0.6+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руглить числа 485,695; 0,32; 1985,5 до цел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5 примеров из учебника математики расписать 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o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ез переменные. В результатах отбросить дробные части, представить их как целы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помни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5" descr="операции с целыми числами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348768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прим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мма 5 и 8 вычисляется так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5+8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2038320"/>
          </a:xfrm>
          <a:prstGeom prst="rect">
            <a:avLst/>
          </a:prstGeom>
          <a:ln w="0">
            <a:noFill/>
          </a:ln>
        </p:spPr>
      </p:pic>
      <p:sp>
        <p:nvSpPr>
          <p:cNvPr id="6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пробуйте с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числит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мму 6 и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таток от деления 48 на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ую часть частного 498/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зведение 685 и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ность 658 и 3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ное от деления 56 и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мма 6 и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6.jpg"/>
          <p:cNvPicPr/>
          <p:nvPr/>
        </p:nvPicPr>
        <p:blipFill>
          <a:blip r:embed="rId1"/>
          <a:stretch/>
        </p:blipFill>
        <p:spPr>
          <a:xfrm>
            <a:off x="0" y="2214720"/>
            <a:ext cx="9144000" cy="2786040"/>
          </a:xfrm>
          <a:prstGeom prst="rect">
            <a:avLst/>
          </a:prstGeom>
          <a:ln w="0">
            <a:noFill/>
          </a:ln>
        </p:spPr>
      </p:pic>
      <p:sp>
        <p:nvSpPr>
          <p:cNvPr id="7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таток от деления 48 на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остаток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1505160"/>
          </a:xfrm>
          <a:prstGeom prst="rect">
            <a:avLst/>
          </a:prstGeom>
          <a:ln w="0">
            <a:noFill/>
          </a:ln>
        </p:spPr>
      </p:pic>
      <p:sp>
        <p:nvSpPr>
          <p:cNvPr id="7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0-17T04:31:54Z</dcterms:created>
  <dc:creator>User</dc:creator>
  <dc:description/>
  <dc:language>en-US</dc:language>
  <cp:lastModifiedBy>User</cp:lastModifiedBy>
  <dcterms:modified xsi:type="dcterms:W3CDTF">2023-11-13T13:41:26Z</dcterms:modified>
  <cp:revision>6</cp:revision>
  <dc:subject/>
  <dc:title>Работа с числами с плавающей точкой в python</dc:title>
</cp:coreProperties>
</file>