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7.jpeg" ContentType="image/jpeg"/>
  <Override PartName="/ppt/media/image20.png" ContentType="image/pn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588-36D2-420A-AFDA-7FB4C701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1769-EEC3-4687-A7B2-22276ACA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0F2C-75D3-4192-92FC-1823EA66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53B-84E8-42CE-AA28-430BC6D0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EFBB-A27E-4DAF-80FB-45D0A551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6C6-98D3-4AA5-BE9E-20A8FACB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56FF-1414-4F9E-8DB7-F2DB515A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8C45-7A93-48DC-B3B0-CE7E45A1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AD18-BCFE-44A2-9E7A-F759D515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FBA-4F9B-4E83-A088-9624D840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415-12C1-489F-B7A5-D34982DF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DC88-3FFE-4506-AB0E-91D9B057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5C5C-6C6C-4A2B-AF68-3D3591CCFB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море.JPG"/>
          <p:cNvPicPr/>
          <p:nvPr/>
        </p:nvPicPr>
        <p:blipFill>
          <a:blip r:embed="rId2"/>
          <a:stretch/>
        </p:blipFill>
        <p:spPr>
          <a:xfrm>
            <a:off x="1116000" y="2133720"/>
            <a:ext cx="5977080" cy="43196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3"/>
          <a:stretch/>
        </p:blipFill>
        <p:spPr>
          <a:xfrm>
            <a:off x="-182520" y="-212760"/>
            <a:ext cx="966132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Самые высокие и разрушительные волн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Причины возникновения: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подводные землетрясен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Последствия цунами: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приносит бедствия жителям прибрежных территорий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Прямоугольник 4" descr=""/>
          <p:cNvPicPr/>
          <p:nvPr/>
        </p:nvPicPr>
        <p:blipFill>
          <a:blip r:embed="rId2"/>
          <a:stretch/>
        </p:blipFill>
        <p:spPr>
          <a:xfrm>
            <a:off x="2846520" y="231840"/>
            <a:ext cx="34509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980640"/>
            <a:ext cx="8229600" cy="5877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Постоянные или периодические горизонтальные потоки воды в океанах или морях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Причины образования: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постоянные ветры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Течения: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поверхностные, компенсационные, придонные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Теплые течения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– переносит воды от экватора к полюсам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Холодные течения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– переносит воды от полюсов к экватору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Значение: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перераспределение тепла между широтами, влияние на климат прибрежных территорий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Прямоугольник 3" descr=""/>
          <p:cNvPicPr/>
          <p:nvPr/>
        </p:nvPicPr>
        <p:blipFill>
          <a:blip r:embed="rId2"/>
          <a:stretch/>
        </p:blipFill>
        <p:spPr>
          <a:xfrm>
            <a:off x="311040" y="12600"/>
            <a:ext cx="85154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Ритмические поднятия и опускания уровня океан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Причина возникновения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– действие силы притяжения Луны на земную поверхност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Значение: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энергию приливных волн для получения электричества на приливных электростанциях (ПЭС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Прямоугольник 3" descr=""/>
          <p:cNvPicPr/>
          <p:nvPr/>
        </p:nvPicPr>
        <p:blipFill>
          <a:blip r:embed="rId2"/>
          <a:stretch/>
        </p:blipFill>
        <p:spPr>
          <a:xfrm>
            <a:off x="847800" y="12600"/>
            <a:ext cx="743724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Задача урока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3000"/>
            <a:ext cx="8229600" cy="4968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Мировой океан находится в постоянном движении, наша задача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познакомиться  с основными видами движения воды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причинами их возникновения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географией их действ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Содержимое 3" descr="схем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Движение частичек воды по замкнутому круг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Гребень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– вершина волн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Подошва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– самая нижняя точка круг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Причины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образования волн: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переменные ветры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Значение: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перемешивают морские воды, обогащают их кислородо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Прямоугольник 4" descr=""/>
          <p:cNvPicPr/>
          <p:nvPr/>
        </p:nvPicPr>
        <p:blipFill>
          <a:blip r:embed="rId2"/>
          <a:stretch/>
        </p:blipFill>
        <p:spPr>
          <a:xfrm>
            <a:off x="2620800" y="12600"/>
            <a:ext cx="41878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Текст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02:22:59Z</dcterms:created>
  <dc:creator>школа</dc:creator>
  <dc:description/>
  <dc:language>en-US</dc:language>
  <cp:lastModifiedBy>наташа</cp:lastModifiedBy>
  <dcterms:modified xsi:type="dcterms:W3CDTF">2012-02-16T08:14:11Z</dcterms:modified>
  <cp:revision>26</cp:revision>
  <dc:subject/>
  <dc:title>Движение воды в океане</dc:title>
</cp:coreProperties>
</file>