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4.jpeg" ContentType="image/jpeg"/>
  <Override PartName="/ppt/media/image15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6.jpeg" ContentType="image/jpeg"/>
  <Override PartName="/ppt/media/image7.jpeg" ContentType="image/jpeg"/>
  <Override PartName="/ppt/media/image20.png" ContentType="image/pn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86F9-F35C-41B5-9FF0-7BA667649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17E1-A29D-4EF8-9C36-03853D6F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861F-CC67-4CE4-99FF-2B51DDD9D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4D91-0C28-4FE5-BFD8-0C349958D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DB8B-B9CB-499A-91AD-CB7F8A44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65AC-4548-48D6-8ADF-9E230B53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20EB-185F-4A32-AC16-FBED080A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5292-A0F6-4BA9-999A-312FF65F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1802-2F94-46BA-868B-63C1FBE8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3671-A88A-4A49-9927-B1BB0988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0370-3F9E-4DA5-8E2D-63DB3D50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0979-BE04-430D-AA2B-3035DBB7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D9EE-8A02-4050-813B-7FC99CCB9AC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море.JPG"/>
          <p:cNvPicPr/>
          <p:nvPr/>
        </p:nvPicPr>
        <p:blipFill>
          <a:blip r:embed="rId2"/>
          <a:stretch/>
        </p:blipFill>
        <p:spPr>
          <a:xfrm>
            <a:off x="1116000" y="2133720"/>
            <a:ext cx="5977080" cy="431964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3" descr=""/>
          <p:cNvPicPr/>
          <p:nvPr/>
        </p:nvPicPr>
        <p:blipFill>
          <a:blip r:embed="rId3"/>
          <a:stretch/>
        </p:blipFill>
        <p:spPr>
          <a:xfrm>
            <a:off x="-182520" y="-212760"/>
            <a:ext cx="966132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Текст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Текст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Текст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Текст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Самые высокие и разрушительные волны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Причины возникновения: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подводные землетрясени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Последствия цунами: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приносит бедствия жителям прибрежных территорий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Прямоугольник 4" descr=""/>
          <p:cNvPicPr/>
          <p:nvPr/>
        </p:nvPicPr>
        <p:blipFill>
          <a:blip r:embed="rId2"/>
          <a:stretch/>
        </p:blipFill>
        <p:spPr>
          <a:xfrm>
            <a:off x="2846520" y="231840"/>
            <a:ext cx="345096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Текст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980640"/>
            <a:ext cx="8229600" cy="5877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Постоянные или периодические горизонтальные потоки воды в океанах или морях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Причины образования: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постоянные ветры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Течения: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поверхностные, компенсационные, придонные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Теплые течения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– переносит воды от экватора к полюсам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Холодные течения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– переносит воды от полюсов к экватору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Значение: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перераспределение тепла между широтами, влияние на климат прибрежных территорий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Прямоугольник 3" descr=""/>
          <p:cNvPicPr/>
          <p:nvPr/>
        </p:nvPicPr>
        <p:blipFill>
          <a:blip r:embed="rId2"/>
          <a:stretch/>
        </p:blipFill>
        <p:spPr>
          <a:xfrm>
            <a:off x="311040" y="12600"/>
            <a:ext cx="85154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Текст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Текст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Ритмические поднятия и опускания уровня океан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Причина возникновения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– действие силы притяжения Луны на земную поверхность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Значение: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энергию приливных волн для получения электричества на приливных электростанциях (ПЭС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Прямоугольник 3" descr=""/>
          <p:cNvPicPr/>
          <p:nvPr/>
        </p:nvPicPr>
        <p:blipFill>
          <a:blip r:embed="rId2"/>
          <a:stretch/>
        </p:blipFill>
        <p:spPr>
          <a:xfrm>
            <a:off x="847800" y="12600"/>
            <a:ext cx="74372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Задача урока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413000"/>
            <a:ext cx="8229600" cy="4968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Мировой океан находится в постоянном движении, наша задача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познакомиться  с основными видами движения воды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причинами их возникновения;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географией их действи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Содержимое 3" descr="схема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Текст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Движение частичек воды по замкнутому кругу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Гребень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– вершина волны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Подошва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– самая нижняя точка круг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Причины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образования волн: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переменные ветры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Значение: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перемешивают морские воды, обогащают их кислородом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Прямоугольник 4" descr=""/>
          <p:cNvPicPr/>
          <p:nvPr/>
        </p:nvPicPr>
        <p:blipFill>
          <a:blip r:embed="rId2"/>
          <a:stretch/>
        </p:blipFill>
        <p:spPr>
          <a:xfrm>
            <a:off x="2620800" y="12600"/>
            <a:ext cx="41878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Текст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Текст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Текст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Текст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Текст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02:22:59Z</dcterms:created>
  <dc:creator>школа</dc:creator>
  <dc:description/>
  <dc:language>en-US</dc:language>
  <cp:lastModifiedBy>наташа</cp:lastModifiedBy>
  <dcterms:modified xsi:type="dcterms:W3CDTF">2012-02-16T08:14:11Z</dcterms:modified>
  <cp:revision>26</cp:revision>
  <dc:subject/>
  <dc:title>Движение воды в океане</dc:title>
</cp:coreProperties>
</file>