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D3C2-7EA4-4179-A56C-E766809C73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Сегодня, в 4 часа утра, без предъ­явления каких-либо претензий к Советскому Союзу, без объявления войны, германские войска напали на нашу страну.  ...Наше дело правое. Враг будет разбит. Победа будет за 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BE5-A9D4-4A53-B4C1-F26621D9B0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аничная застава, расположенная в крепости, построенной почти за столетие до начала Великой Отечественной войны, первой вступила в борьбу с врагом. В подвальном помещении была оставлена на стене надпись: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Я умираю, но не сдаюсь. Прощай, Родина! 20/VII-41 г.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 Эта надпись была сделана защитником крепости военнослужащим Федором Рябовым месяц спустя после начала войны, когда немцы уже ворвались в Смолен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0A6-57E1-41EF-8CD1-CABCE7F35D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62F-F268-4A2B-974B-724622BA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323-EE0C-4210-AD9B-5D06BED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D3C-060D-4E5B-949A-8934700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32A-F0B3-42CD-B4D7-80522865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84E-52AA-445E-A44D-C3E0DC8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DD2-F9B4-462E-8C94-F4873F61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6A2-70B1-4D21-9786-83C1773D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968-3040-4D1A-A758-AD9EA89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ECB-F11A-42E7-A63D-E5D7285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31A-8B90-4069-BB8E-DB3C3F2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FBC-976D-4B14-81CE-E46BBB4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A3B-BF7A-4B53-BC81-D125527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D488-B060-4828-AFE4-496A47971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« Я помню, я горжус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116000" y="2276640"/>
            <a:ext cx="683892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65f91"/>
                  </a:solidFill>
                  <a:miter/>
                </a:ln>
                <a:solidFill>
                  <a:srgbClr val="c6d9f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365f91"/>
                </a:solidFill>
                <a:miter/>
              </a:ln>
              <a:solidFill>
                <a:srgbClr val="c6d9f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 Черноморский город, который называли «городом русских моряков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http://citykey.net/images/product/366/421366/memorial-v-chest-geroicheskoy-oboronyi-sevastopolya-1941-1942-gg.jpg"/>
          <p:cNvPicPr/>
          <p:nvPr/>
        </p:nvPicPr>
        <p:blipFill>
          <a:blip r:embed="rId1"/>
          <a:stretch/>
        </p:blipFill>
        <p:spPr>
          <a:xfrm>
            <a:off x="611280" y="1628640"/>
            <a:ext cx="691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. Символ Великой Отечественн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Titov\Desktop\ВОВ\ГЕОРГИЕВСКАЯ ЛЕНТА\imgpreview (3).jpg"/>
          <p:cNvPicPr/>
          <p:nvPr/>
        </p:nvPicPr>
        <p:blipFill>
          <a:blip r:embed="rId1"/>
          <a:stretch/>
        </p:blipFill>
        <p:spPr>
          <a:xfrm>
            <a:off x="1403280" y="2276640"/>
            <a:ext cx="619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. Маршал СССР, четырежды Герой Советского Союза, который 9 мая 1945 года принял безоговорочную капитуляцию Герма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Users\Titov\Desktop\mediapreview.jpg"/>
          <p:cNvPicPr/>
          <p:nvPr/>
        </p:nvPicPr>
        <p:blipFill>
          <a:blip r:embed="rId1"/>
          <a:stretch/>
        </p:blipFill>
        <p:spPr>
          <a:xfrm>
            <a:off x="2905200" y="2298600"/>
            <a:ext cx="28191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еши ребус и узнай, как немецкие захватчики назвали план нападения Германии на Советский Союз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403280" y="4221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4" descr=""/>
          <p:cNvPicPr/>
          <p:nvPr/>
        </p:nvPicPr>
        <p:blipFill>
          <a:blip r:embed="rId1"/>
          <a:srcRect l="0" t="0" r="0" b="135"/>
          <a:stretch/>
        </p:blipFill>
        <p:spPr>
          <a:xfrm>
            <a:off x="826920" y="2349360"/>
            <a:ext cx="7483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908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Великая Отечественная война 1941—1945 годов была решающей стади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Войны против Наполео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Перв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Холодн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Главный противник Советского Союза в годы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Герм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С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Фра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Япо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Великая Отечественная война на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1 сентября 1939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23 феврал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22 июн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1 сентябр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1"/>
          <a:stretch/>
        </p:blipFill>
        <p:spPr>
          <a:xfrm>
            <a:off x="5148360" y="2708280"/>
            <a:ext cx="37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8 мая 1965 года этой крепости было присвоено почетное звание «Крепость-герой». Её защита стала первым подвигом советских бойцов в Великой Отечественной вой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Брест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Новгород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Петропавлов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Смолен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7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794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Этот город-музей с прекрасными дворцами, величественными храмами и разнообразными памятниками посещают туристы со всего мира. Его история сохранила страшные страницы военного времени и навсегда связала с ним слово «блокада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К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Ленингра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Мо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Сталин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 Великая Отечественная война заверши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1 сентября 194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23 феврал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9 ма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7 ноябр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Говорят, что название этой боевой машины связано с именем девушки из очень популярной песни. Действительно, уже на 23 день войны это орудие стреляло  с высокой крутой горы (как в песне: « …на высокий берег, на крутой»).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звали эту боевую машин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816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5400720" cy="295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Какой танк стал легендой Великой Отечественн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ё234</cp:lastModifiedBy>
  <dcterms:modified xsi:type="dcterms:W3CDTF">2020-05-01T14:02:31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70000000000010243100207f6000400038000</vt:lpwstr>
  </property>
</Properties>
</file>