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8F1B-2042-4257-89C8-EEC348353BF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Сегодня, в 4 часа утра, без предъ­явления каких-либо претензий к Советскому Союзу, без объявления войны, германские войска напали на нашу страну.  ...Наше дело правое. Враг будет разбит. Победа будет за 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5E18-E868-492A-9C1D-3FDF021D15F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граничная застава, расположенная в крепости, построенной почти за столетие до начала Великой Отечественной войны, первой вступила в борьбу с врагом. В подвальном помещении была оставлена на стене надпись: 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Я умираю, но не сдаюсь. Прощай, Родина! 20/VII-41 г.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 Эта надпись была сделана защитником крепости военнослужащим Федором Рябовым месяц спустя после начала войны, когда немцы уже ворвались в Смоленс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2A3D-0275-4254-ACCC-6D323F8B924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958F-3C71-40CE-B61A-344180EFD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BFC5-724F-45C7-B7FA-7B393FBA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C60D-67D7-438B-97B8-675F38BC2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2E68-8DD4-4BBA-BDE2-B557C0614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5E8F-7477-436A-8264-20C406CA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2D2F-409B-41C1-9F25-C8776C1D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C1C3-99DA-45D0-8FA6-F9E58CDB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88C8-2073-47D3-8B9D-B9D4419F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C471-A464-476E-B843-CCC46A20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E0DB-C74A-44E4-BACA-6C60FA1E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437F-4007-4A47-ADE6-5CF0AA44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52C9-FF11-434C-B9C4-346DD1E5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C3E0-EAC2-4B25-8B5D-3981A61A23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820000"/>
                </a:solidFill>
                <a:latin typeface="Times New Roman"/>
              </a:rPr>
              <a:t>ВИКТОРИНА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« Я помню, я горжусь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1116000" y="2276640"/>
            <a:ext cx="6838920" cy="14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365f91"/>
                  </a:solidFill>
                  <a:miter/>
                </a:ln>
                <a:solidFill>
                  <a:srgbClr val="c6d9f1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19080">
                <a:solidFill>
                  <a:srgbClr val="365f91"/>
                </a:solidFill>
                <a:miter/>
              </a:ln>
              <a:solidFill>
                <a:srgbClr val="c6d9f1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0. Черноморский город, который называли «городом русских моряков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Рисунок 4" descr="http://citykey.net/images/product/366/421366/memorial-v-chest-geroicheskoy-oboronyi-sevastopolya-1941-1942-gg.jpg"/>
          <p:cNvPicPr/>
          <p:nvPr/>
        </p:nvPicPr>
        <p:blipFill>
          <a:blip r:embed="rId1"/>
          <a:stretch/>
        </p:blipFill>
        <p:spPr>
          <a:xfrm>
            <a:off x="611280" y="1628640"/>
            <a:ext cx="69134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1. Символ Великой Отечественной вой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2" descr="C:\Users\Titov\Desktop\ВОВ\ГЕОРГИЕВСКАЯ ЛЕНТА\imgpreview (3).jpg"/>
          <p:cNvPicPr/>
          <p:nvPr/>
        </p:nvPicPr>
        <p:blipFill>
          <a:blip r:embed="rId1"/>
          <a:stretch/>
        </p:blipFill>
        <p:spPr>
          <a:xfrm>
            <a:off x="1403280" y="2276640"/>
            <a:ext cx="61912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2. Маршал СССР, четырежды Герой Советского Союза, который 9 мая 1945 года принял безоговорочную капитуляцию Герман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2" descr="C:\Users\Titov\Desktop\mediapreview.jpg"/>
          <p:cNvPicPr/>
          <p:nvPr/>
        </p:nvPicPr>
        <p:blipFill>
          <a:blip r:embed="rId1"/>
          <a:stretch/>
        </p:blipFill>
        <p:spPr>
          <a:xfrm>
            <a:off x="2905200" y="2298600"/>
            <a:ext cx="28191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3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Реши ребус и узнай, как немецкие захватчики назвали план нападения Германии на Советский Союз.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Подзаголовок 2"/>
          <p:cNvSpPr/>
          <p:nvPr/>
        </p:nvSpPr>
        <p:spPr>
          <a:xfrm>
            <a:off x="1403280" y="422100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Рисунок 14" descr=""/>
          <p:cNvPicPr/>
          <p:nvPr/>
        </p:nvPicPr>
        <p:blipFill>
          <a:blip r:embed="rId1"/>
          <a:srcRect l="0" t="0" r="0" b="135"/>
          <a:stretch/>
        </p:blipFill>
        <p:spPr>
          <a:xfrm>
            <a:off x="826920" y="2349360"/>
            <a:ext cx="74836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209080" cy="17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. Великая Отечественная война 1941—1945 годов была решающей стадие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2491920"/>
            <a:ext cx="84247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. Войны против Наполео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. Первой мировой вой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. Второй мировой вой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. Холодной вой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 Главный противник Советского Союза в годы Великой Отечественной вой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. Герм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. СШ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. Фран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. Япо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 Великая Отечественная война началас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. 1 сентября 1939 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. 23 февраля 1941 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. 22 июня 1941 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. 1 сентября 1941 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Рисунок 13" descr=""/>
          <p:cNvPicPr/>
          <p:nvPr/>
        </p:nvPicPr>
        <p:blipFill>
          <a:blip r:embed="rId1"/>
          <a:stretch/>
        </p:blipFill>
        <p:spPr>
          <a:xfrm>
            <a:off x="5148360" y="2708280"/>
            <a:ext cx="3744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. 8 мая 1965 года этой крепости было присвоено почетное звание «Крепость-герой». Её защита стала первым подвигом советских бойцов в Великой Отечественной войн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. Брестская креп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. Новгородская креп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. Петропавловская креп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. Смоленская креп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Рисунок 17" descr=""/>
          <p:cNvPicPr/>
          <p:nvPr/>
        </p:nvPicPr>
        <p:blipFill>
          <a:blip r:embed="rId1"/>
          <a:stretch/>
        </p:blipFill>
        <p:spPr>
          <a:xfrm>
            <a:off x="6084720" y="4076640"/>
            <a:ext cx="279432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53964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. Этот город-музей с прекрасными дворцами, величественными храмами и разнообразными памятниками посещают туристы со всего мира. Его история сохранила страшные страницы военного времени и навсегда связала с ним слово «блокада»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. Кие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. Ленинград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. Моск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. Сталингр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53964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.  Великая Отечественная война завершилас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. 1 сентября 1944 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. 23 февраля 1945 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. 9 мая 1945 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. 7 ноября 1945 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53964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7. Говорят, что название этой боевой машины связано с именем девушки из очень популярной песни. Действительно, уже на 23 день войны это орудие стреляло  с высокой крутой горы (как в песне: « …на высокий берег, на крутой»).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прозвали эту боевую машину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5076720" y="3645000"/>
            <a:ext cx="381636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2" descr=""/>
          <p:cNvPicPr/>
          <p:nvPr/>
        </p:nvPicPr>
        <p:blipFill>
          <a:blip r:embed="rId1"/>
          <a:stretch/>
        </p:blipFill>
        <p:spPr>
          <a:xfrm>
            <a:off x="3348000" y="2852640"/>
            <a:ext cx="5400720" cy="2952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8. Какой танк стал легендой Великой Отечественной войны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1ё234</cp:lastModifiedBy>
  <dcterms:modified xsi:type="dcterms:W3CDTF">2020-05-01T14:02:31Z</dcterms:modified>
  <cp:revision>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070000000000010243100207f6000400038000</vt:lpwstr>
  </property>
</Properties>
</file>