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7.png" ContentType="image/png"/>
  <Override PartName="/ppt/media/image22.jpeg" ContentType="image/jpeg"/>
  <Override PartName="/ppt/media/image3.gif" ContentType="image/gif"/>
  <Override PartName="/ppt/media/image26.jpeg" ContentType="image/jpeg"/>
  <Override PartName="/ppt/media/image19.png" ContentType="image/png"/>
  <Override PartName="/ppt/media/image23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1.gif" ContentType="image/gif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6BF-E35E-45FC-A3AB-D913E124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28C-4F3C-464B-9D19-CDFC3FE3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A2D-A2BC-4026-82D0-C98966A8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625-2EF1-47BA-AE0E-53075DF8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4F23-0600-45CB-AA34-CC79F22E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B12-0004-468D-9927-6C77762C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181-BEC2-4407-B0AC-06FA308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3E4-89A7-4501-A3B7-34FA1BBC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DEE-A79E-4694-8057-CA36400B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AB0-05D1-4AFD-BA82-3F9A8D15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DD7-B48D-4048-9A8A-8129EF2A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D47-9B3B-4ED7-9C4F-84142EF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CF4-ECE8-4177-AF8F-466B0695C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hyperlink" Target="http://www.radikal.ru/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484280"/>
            <a:ext cx="6697800" cy="33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БАЛКАНЫ И МАЛАЯ АЗИЯ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В XIII-XIV вв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ЗАВОЕВАНИЯ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ТУРОК-ОСМАНОВ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6920" y="3144960"/>
            <a:ext cx="7488360" cy="371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03840" y="2365200"/>
            <a:ext cx="1614240" cy="1692360"/>
          </a:xfrm>
          <a:custGeom>
            <a:avLst/>
            <a:gdLst/>
            <a:ahLst/>
            <a:rect l="l" t="t" r="r" b="b"/>
            <a:pathLst>
              <a:path w="1017" h="1066">
                <a:moveTo>
                  <a:pt x="951" y="0"/>
                </a:moveTo>
                <a:cubicBezTo>
                  <a:pt x="942" y="6"/>
                  <a:pt x="934" y="14"/>
                  <a:pt x="924" y="19"/>
                </a:cubicBezTo>
                <a:cubicBezTo>
                  <a:pt x="906" y="27"/>
                  <a:pt x="869" y="37"/>
                  <a:pt x="869" y="37"/>
                </a:cubicBezTo>
                <a:cubicBezTo>
                  <a:pt x="832" y="93"/>
                  <a:pt x="874" y="42"/>
                  <a:pt x="823" y="73"/>
                </a:cubicBezTo>
                <a:cubicBezTo>
                  <a:pt x="800" y="87"/>
                  <a:pt x="787" y="119"/>
                  <a:pt x="768" y="137"/>
                </a:cubicBezTo>
                <a:cubicBezTo>
                  <a:pt x="734" y="244"/>
                  <a:pt x="436" y="183"/>
                  <a:pt x="430" y="183"/>
                </a:cubicBezTo>
                <a:cubicBezTo>
                  <a:pt x="439" y="189"/>
                  <a:pt x="451" y="192"/>
                  <a:pt x="458" y="201"/>
                </a:cubicBezTo>
                <a:cubicBezTo>
                  <a:pt x="494" y="246"/>
                  <a:pt x="434" y="218"/>
                  <a:pt x="494" y="238"/>
                </a:cubicBezTo>
                <a:cubicBezTo>
                  <a:pt x="467" y="256"/>
                  <a:pt x="443" y="261"/>
                  <a:pt x="421" y="284"/>
                </a:cubicBezTo>
                <a:cubicBezTo>
                  <a:pt x="400" y="347"/>
                  <a:pt x="366" y="327"/>
                  <a:pt x="302" y="320"/>
                </a:cubicBezTo>
                <a:cubicBezTo>
                  <a:pt x="299" y="311"/>
                  <a:pt x="301" y="297"/>
                  <a:pt x="293" y="293"/>
                </a:cubicBezTo>
                <a:cubicBezTo>
                  <a:pt x="262" y="277"/>
                  <a:pt x="258" y="332"/>
                  <a:pt x="256" y="339"/>
                </a:cubicBezTo>
                <a:cubicBezTo>
                  <a:pt x="235" y="336"/>
                  <a:pt x="213" y="334"/>
                  <a:pt x="192" y="329"/>
                </a:cubicBezTo>
                <a:cubicBezTo>
                  <a:pt x="174" y="325"/>
                  <a:pt x="138" y="311"/>
                  <a:pt x="138" y="311"/>
                </a:cubicBezTo>
                <a:cubicBezTo>
                  <a:pt x="88" y="321"/>
                  <a:pt x="88" y="326"/>
                  <a:pt x="55" y="357"/>
                </a:cubicBezTo>
                <a:cubicBezTo>
                  <a:pt x="47" y="388"/>
                  <a:pt x="30" y="439"/>
                  <a:pt x="55" y="467"/>
                </a:cubicBezTo>
                <a:cubicBezTo>
                  <a:pt x="69" y="483"/>
                  <a:pt x="98" y="473"/>
                  <a:pt x="119" y="476"/>
                </a:cubicBezTo>
                <a:cubicBezTo>
                  <a:pt x="112" y="574"/>
                  <a:pt x="118" y="641"/>
                  <a:pt x="37" y="695"/>
                </a:cubicBezTo>
                <a:cubicBezTo>
                  <a:pt x="11" y="773"/>
                  <a:pt x="0" y="748"/>
                  <a:pt x="92" y="759"/>
                </a:cubicBezTo>
                <a:cubicBezTo>
                  <a:pt x="101" y="768"/>
                  <a:pt x="107" y="782"/>
                  <a:pt x="119" y="787"/>
                </a:cubicBezTo>
                <a:cubicBezTo>
                  <a:pt x="139" y="795"/>
                  <a:pt x="171" y="778"/>
                  <a:pt x="183" y="796"/>
                </a:cubicBezTo>
                <a:cubicBezTo>
                  <a:pt x="197" y="816"/>
                  <a:pt x="177" y="845"/>
                  <a:pt x="174" y="869"/>
                </a:cubicBezTo>
                <a:cubicBezTo>
                  <a:pt x="177" y="884"/>
                  <a:pt x="181" y="900"/>
                  <a:pt x="183" y="915"/>
                </a:cubicBezTo>
                <a:cubicBezTo>
                  <a:pt x="187" y="939"/>
                  <a:pt x="185" y="965"/>
                  <a:pt x="192" y="988"/>
                </a:cubicBezTo>
                <a:cubicBezTo>
                  <a:pt x="194" y="995"/>
                  <a:pt x="234" y="1023"/>
                  <a:pt x="238" y="1024"/>
                </a:cubicBezTo>
                <a:cubicBezTo>
                  <a:pt x="296" y="1032"/>
                  <a:pt x="354" y="1030"/>
                  <a:pt x="412" y="1033"/>
                </a:cubicBezTo>
                <a:cubicBezTo>
                  <a:pt x="415" y="1042"/>
                  <a:pt x="430" y="1056"/>
                  <a:pt x="421" y="1061"/>
                </a:cubicBezTo>
                <a:cubicBezTo>
                  <a:pt x="412" y="1066"/>
                  <a:pt x="402" y="1050"/>
                  <a:pt x="394" y="1043"/>
                </a:cubicBezTo>
                <a:cubicBezTo>
                  <a:pt x="358" y="1014"/>
                  <a:pt x="395" y="1031"/>
                  <a:pt x="348" y="1015"/>
                </a:cubicBezTo>
                <a:cubicBezTo>
                  <a:pt x="342" y="1006"/>
                  <a:pt x="330" y="999"/>
                  <a:pt x="330" y="988"/>
                </a:cubicBezTo>
                <a:cubicBezTo>
                  <a:pt x="330" y="979"/>
                  <a:pt x="343" y="976"/>
                  <a:pt x="348" y="969"/>
                </a:cubicBezTo>
                <a:cubicBezTo>
                  <a:pt x="396" y="905"/>
                  <a:pt x="361" y="923"/>
                  <a:pt x="412" y="905"/>
                </a:cubicBezTo>
                <a:cubicBezTo>
                  <a:pt x="421" y="896"/>
                  <a:pt x="433" y="889"/>
                  <a:pt x="439" y="878"/>
                </a:cubicBezTo>
                <a:cubicBezTo>
                  <a:pt x="448" y="861"/>
                  <a:pt x="458" y="823"/>
                  <a:pt x="458" y="823"/>
                </a:cubicBezTo>
                <a:cubicBezTo>
                  <a:pt x="475" y="682"/>
                  <a:pt x="446" y="796"/>
                  <a:pt x="494" y="723"/>
                </a:cubicBezTo>
                <a:cubicBezTo>
                  <a:pt x="516" y="689"/>
                  <a:pt x="506" y="648"/>
                  <a:pt x="531" y="613"/>
                </a:cubicBezTo>
                <a:cubicBezTo>
                  <a:pt x="523" y="562"/>
                  <a:pt x="520" y="514"/>
                  <a:pt x="476" y="485"/>
                </a:cubicBezTo>
                <a:cubicBezTo>
                  <a:pt x="490" y="282"/>
                  <a:pt x="476" y="341"/>
                  <a:pt x="714" y="329"/>
                </a:cubicBezTo>
                <a:cubicBezTo>
                  <a:pt x="785" y="279"/>
                  <a:pt x="760" y="303"/>
                  <a:pt x="796" y="265"/>
                </a:cubicBezTo>
                <a:cubicBezTo>
                  <a:pt x="845" y="101"/>
                  <a:pt x="779" y="220"/>
                  <a:pt x="915" y="165"/>
                </a:cubicBezTo>
                <a:cubicBezTo>
                  <a:pt x="945" y="153"/>
                  <a:pt x="973" y="98"/>
                  <a:pt x="997" y="73"/>
                </a:cubicBezTo>
                <a:cubicBezTo>
                  <a:pt x="1017" y="12"/>
                  <a:pt x="1010" y="12"/>
                  <a:pt x="951" y="0"/>
                </a:cubicBezTo>
                <a:close/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урки-османы устремили свой взгляд на богатые владения Византии. К началу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. им удалось захватить всю территорию Малой Азии на запа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060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1352 г. османы приступили к захватам на Балканах. Первой их победой захват крепости Цимпе, близ Константинополя. А в 1362 г. турецкие войска во главе с Мурадом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вым захватили Анрианополь, превратив его в свою столицу. Мурад был про-возглашен султан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 rot="18908400">
            <a:off x="4212720" y="2493720"/>
            <a:ext cx="381240" cy="600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19638600">
            <a:off x="3995640" y="2349000"/>
            <a:ext cx="381240" cy="432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51280" y="2276640"/>
            <a:ext cx="216000" cy="215640"/>
          </a:xfrm>
          <a:custGeom>
            <a:avLst/>
            <a:gdLst>
              <a:gd name="textAreaLeft" fmla="*/ 49320 w 216000"/>
              <a:gd name="textAreaRight" fmla="*/ 166680 w 216000"/>
              <a:gd name="textAreaTop" fmla="*/ 48960 h 215640"/>
              <a:gd name="textAreaBottom" fmla="*/ 1666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иа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а 15 из 25"/>
          <p:cNvPicPr/>
          <p:nvPr/>
        </p:nvPicPr>
        <p:blipFill>
          <a:blip r:embed="rId5"/>
          <a:stretch/>
        </p:blipFill>
        <p:spPr>
          <a:xfrm>
            <a:off x="0" y="0"/>
            <a:ext cx="2502000" cy="328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 rot="17073000">
            <a:off x="3230640" y="1873440"/>
            <a:ext cx="380880" cy="86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71640" y="1989000"/>
            <a:ext cx="287640" cy="287640"/>
          </a:xfrm>
          <a:custGeom>
            <a:avLst/>
            <a:gdLst>
              <a:gd name="textAreaLeft" fmla="*/ 65520 w 287640"/>
              <a:gd name="textAreaRight" fmla="*/ 222120 w 287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162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сово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4211640" cy="2863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36 из 269"/>
          <p:cNvPicPr/>
          <p:nvPr/>
        </p:nvPicPr>
        <p:blipFill>
          <a:blip r:embed="rId3"/>
          <a:stretch/>
        </p:blipFill>
        <p:spPr>
          <a:xfrm>
            <a:off x="0" y="0"/>
            <a:ext cx="5076720" cy="371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03640" y="0"/>
            <a:ext cx="4140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яжелым выдался для народов Балкан 1389 год. Болгарский царь был раз-бит и признал власть туре-цкого правителя. Теперь турки могли покорять Сер-бию. Сербский князь Лазарь собрал большое войско и надеялся остано-вить наступление завоева-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364500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ешающая битва произошла на Косовом поле летом 138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12000" y="4365720"/>
            <a:ext cx="79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4940280"/>
            <a:ext cx="49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читайте текст параграфа на стр. 244 ( абз. 4) и ответтье на вопрос:                                    -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Чем завершилось сражение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8176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59280" y="3735360"/>
            <a:ext cx="4284720" cy="3122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51640" y="0"/>
            <a:ext cx="349236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 турки-османы обрушились на Визан-тию и балканские стра-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канские страны-Болгария и Сербия в этот период переживали феодальную раздроб-ленность, а Византия ослабла. Она стала приглашать турок для борьбы с Сербией и Болга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0"/>
            <a:ext cx="3203640" cy="378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43640" y="189000"/>
            <a:ext cx="1905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05264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чтите пункт № 4 (стр. 243-244) и начните заполнять таблицу на стр. 2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87280" y="189000"/>
            <a:ext cx="57438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Домашнее  задание: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970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Параграф № 29, вопросы к  параграфу – у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Задание стр. 246 – письменно в тетрад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Доклад по теме « Падение Константинополя в 1453 г.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жел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16000" y="3429000"/>
            <a:ext cx="574344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План урока: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581360"/>
            <a:ext cx="8351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изантия и страны Балканского полуострова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I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Возникновение Османск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Завоевания турок-османов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70760" y="0"/>
            <a:ext cx="2073240" cy="239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65880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4360" y="0"/>
            <a:ext cx="694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ЗАНТИЯ В XIII-XIV вв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549360"/>
            <a:ext cx="27003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204 г. Византия пала под ударами крестоносцев.  На ее территории возникли государ-ства крестоносцев. Самым крупным из них была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атин-ская импе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В этих государствах установились за-падноевропейские поря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20000" y="4724280"/>
            <a:ext cx="129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5546880"/>
            <a:ext cx="2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спомните, что характерно было для этих поряд-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7280" y="3192480"/>
            <a:ext cx="2985840" cy="2976480"/>
          </a:xfrm>
          <a:custGeom>
            <a:avLst/>
            <a:gdLst/>
            <a:ahLst/>
            <a:rect l="l" t="t" r="r" b="b"/>
            <a:pathLst>
              <a:path w="1881" h="1875">
                <a:moveTo>
                  <a:pt x="585" y="1555"/>
                </a:moveTo>
                <a:cubicBezTo>
                  <a:pt x="560" y="1593"/>
                  <a:pt x="561" y="1635"/>
                  <a:pt x="539" y="1674"/>
                </a:cubicBezTo>
                <a:cubicBezTo>
                  <a:pt x="514" y="1719"/>
                  <a:pt x="511" y="1719"/>
                  <a:pt x="485" y="1747"/>
                </a:cubicBezTo>
                <a:cubicBezTo>
                  <a:pt x="473" y="1780"/>
                  <a:pt x="453" y="1786"/>
                  <a:pt x="430" y="1811"/>
                </a:cubicBezTo>
                <a:cubicBezTo>
                  <a:pt x="420" y="1842"/>
                  <a:pt x="406" y="1852"/>
                  <a:pt x="384" y="1875"/>
                </a:cubicBezTo>
                <a:cubicBezTo>
                  <a:pt x="312" y="1869"/>
                  <a:pt x="261" y="1857"/>
                  <a:pt x="192" y="1847"/>
                </a:cubicBezTo>
                <a:cubicBezTo>
                  <a:pt x="149" y="1818"/>
                  <a:pt x="128" y="1773"/>
                  <a:pt x="91" y="1738"/>
                </a:cubicBezTo>
                <a:cubicBezTo>
                  <a:pt x="63" y="1653"/>
                  <a:pt x="83" y="1565"/>
                  <a:pt x="55" y="1482"/>
                </a:cubicBezTo>
                <a:cubicBezTo>
                  <a:pt x="43" y="1410"/>
                  <a:pt x="40" y="1350"/>
                  <a:pt x="0" y="1290"/>
                </a:cubicBezTo>
                <a:cubicBezTo>
                  <a:pt x="19" y="1194"/>
                  <a:pt x="55" y="1225"/>
                  <a:pt x="165" y="1216"/>
                </a:cubicBezTo>
                <a:cubicBezTo>
                  <a:pt x="205" y="1189"/>
                  <a:pt x="191" y="1178"/>
                  <a:pt x="219" y="1143"/>
                </a:cubicBezTo>
                <a:cubicBezTo>
                  <a:pt x="277" y="1071"/>
                  <a:pt x="195" y="1190"/>
                  <a:pt x="256" y="1098"/>
                </a:cubicBezTo>
                <a:cubicBezTo>
                  <a:pt x="252" y="1027"/>
                  <a:pt x="272" y="910"/>
                  <a:pt x="210" y="851"/>
                </a:cubicBezTo>
                <a:cubicBezTo>
                  <a:pt x="203" y="823"/>
                  <a:pt x="199" y="795"/>
                  <a:pt x="192" y="768"/>
                </a:cubicBezTo>
                <a:cubicBezTo>
                  <a:pt x="187" y="750"/>
                  <a:pt x="174" y="714"/>
                  <a:pt x="174" y="714"/>
                </a:cubicBezTo>
                <a:cubicBezTo>
                  <a:pt x="177" y="699"/>
                  <a:pt x="171" y="678"/>
                  <a:pt x="183" y="668"/>
                </a:cubicBezTo>
                <a:cubicBezTo>
                  <a:pt x="197" y="656"/>
                  <a:pt x="221" y="666"/>
                  <a:pt x="238" y="659"/>
                </a:cubicBezTo>
                <a:cubicBezTo>
                  <a:pt x="248" y="655"/>
                  <a:pt x="270" y="619"/>
                  <a:pt x="274" y="613"/>
                </a:cubicBezTo>
                <a:cubicBezTo>
                  <a:pt x="261" y="369"/>
                  <a:pt x="278" y="514"/>
                  <a:pt x="238" y="394"/>
                </a:cubicBezTo>
                <a:cubicBezTo>
                  <a:pt x="254" y="344"/>
                  <a:pt x="233" y="381"/>
                  <a:pt x="283" y="357"/>
                </a:cubicBezTo>
                <a:cubicBezTo>
                  <a:pt x="309" y="344"/>
                  <a:pt x="317" y="313"/>
                  <a:pt x="347" y="302"/>
                </a:cubicBezTo>
                <a:cubicBezTo>
                  <a:pt x="405" y="281"/>
                  <a:pt x="450" y="281"/>
                  <a:pt x="512" y="275"/>
                </a:cubicBezTo>
                <a:cubicBezTo>
                  <a:pt x="573" y="255"/>
                  <a:pt x="623" y="214"/>
                  <a:pt x="695" y="211"/>
                </a:cubicBezTo>
                <a:cubicBezTo>
                  <a:pt x="811" y="205"/>
                  <a:pt x="926" y="205"/>
                  <a:pt x="1042" y="202"/>
                </a:cubicBezTo>
                <a:cubicBezTo>
                  <a:pt x="1078" y="166"/>
                  <a:pt x="1072" y="127"/>
                  <a:pt x="1088" y="83"/>
                </a:cubicBezTo>
                <a:cubicBezTo>
                  <a:pt x="1092" y="73"/>
                  <a:pt x="1096" y="60"/>
                  <a:pt x="1106" y="55"/>
                </a:cubicBezTo>
                <a:cubicBezTo>
                  <a:pt x="1126" y="46"/>
                  <a:pt x="1149" y="49"/>
                  <a:pt x="1170" y="46"/>
                </a:cubicBezTo>
                <a:cubicBezTo>
                  <a:pt x="1315" y="0"/>
                  <a:pt x="1465" y="46"/>
                  <a:pt x="1609" y="64"/>
                </a:cubicBezTo>
                <a:cubicBezTo>
                  <a:pt x="1612" y="73"/>
                  <a:pt x="1613" y="84"/>
                  <a:pt x="1618" y="92"/>
                </a:cubicBezTo>
                <a:cubicBezTo>
                  <a:pt x="1623" y="99"/>
                  <a:pt x="1633" y="102"/>
                  <a:pt x="1637" y="110"/>
                </a:cubicBezTo>
                <a:cubicBezTo>
                  <a:pt x="1643" y="121"/>
                  <a:pt x="1639" y="136"/>
                  <a:pt x="1646" y="147"/>
                </a:cubicBezTo>
                <a:cubicBezTo>
                  <a:pt x="1658" y="166"/>
                  <a:pt x="1718" y="180"/>
                  <a:pt x="1728" y="183"/>
                </a:cubicBezTo>
                <a:cubicBezTo>
                  <a:pt x="1767" y="196"/>
                  <a:pt x="1800" y="217"/>
                  <a:pt x="1838" y="229"/>
                </a:cubicBezTo>
                <a:cubicBezTo>
                  <a:pt x="1847" y="238"/>
                  <a:pt x="1864" y="243"/>
                  <a:pt x="1865" y="256"/>
                </a:cubicBezTo>
                <a:cubicBezTo>
                  <a:pt x="1881" y="437"/>
                  <a:pt x="1872" y="453"/>
                  <a:pt x="1746" y="494"/>
                </a:cubicBezTo>
                <a:cubicBezTo>
                  <a:pt x="1707" y="554"/>
                  <a:pt x="1670" y="580"/>
                  <a:pt x="1618" y="631"/>
                </a:cubicBezTo>
                <a:cubicBezTo>
                  <a:pt x="1563" y="685"/>
                  <a:pt x="1595" y="670"/>
                  <a:pt x="1545" y="686"/>
                </a:cubicBezTo>
                <a:cubicBezTo>
                  <a:pt x="1532" y="706"/>
                  <a:pt x="1511" y="720"/>
                  <a:pt x="1499" y="741"/>
                </a:cubicBezTo>
                <a:cubicBezTo>
                  <a:pt x="1456" y="818"/>
                  <a:pt x="1496" y="806"/>
                  <a:pt x="1426" y="860"/>
                </a:cubicBezTo>
                <a:cubicBezTo>
                  <a:pt x="1417" y="867"/>
                  <a:pt x="1410" y="877"/>
                  <a:pt x="1399" y="878"/>
                </a:cubicBezTo>
                <a:cubicBezTo>
                  <a:pt x="1302" y="886"/>
                  <a:pt x="1204" y="884"/>
                  <a:pt x="1106" y="887"/>
                </a:cubicBezTo>
                <a:cubicBezTo>
                  <a:pt x="1082" y="961"/>
                  <a:pt x="1126" y="1048"/>
                  <a:pt x="1070" y="1107"/>
                </a:cubicBezTo>
                <a:cubicBezTo>
                  <a:pt x="1053" y="1155"/>
                  <a:pt x="1042" y="1202"/>
                  <a:pt x="1015" y="1244"/>
                </a:cubicBezTo>
                <a:cubicBezTo>
                  <a:pt x="1006" y="1341"/>
                  <a:pt x="1023" y="1339"/>
                  <a:pt x="960" y="1381"/>
                </a:cubicBezTo>
                <a:cubicBezTo>
                  <a:pt x="959" y="1378"/>
                  <a:pt x="938" y="1314"/>
                  <a:pt x="933" y="1299"/>
                </a:cubicBezTo>
                <a:cubicBezTo>
                  <a:pt x="930" y="1290"/>
                  <a:pt x="923" y="1271"/>
                  <a:pt x="923" y="1271"/>
                </a:cubicBezTo>
                <a:cubicBezTo>
                  <a:pt x="928" y="1139"/>
                  <a:pt x="919" y="1000"/>
                  <a:pt x="951" y="869"/>
                </a:cubicBezTo>
                <a:cubicBezTo>
                  <a:pt x="958" y="786"/>
                  <a:pt x="987" y="660"/>
                  <a:pt x="942" y="586"/>
                </a:cubicBezTo>
                <a:cubicBezTo>
                  <a:pt x="927" y="562"/>
                  <a:pt x="892" y="555"/>
                  <a:pt x="869" y="540"/>
                </a:cubicBezTo>
                <a:cubicBezTo>
                  <a:pt x="844" y="543"/>
                  <a:pt x="818" y="540"/>
                  <a:pt x="795" y="549"/>
                </a:cubicBezTo>
                <a:cubicBezTo>
                  <a:pt x="778" y="555"/>
                  <a:pt x="774" y="592"/>
                  <a:pt x="768" y="604"/>
                </a:cubicBezTo>
                <a:cubicBezTo>
                  <a:pt x="766" y="608"/>
                  <a:pt x="715" y="676"/>
                  <a:pt x="713" y="677"/>
                </a:cubicBezTo>
                <a:cubicBezTo>
                  <a:pt x="696" y="685"/>
                  <a:pt x="676" y="683"/>
                  <a:pt x="658" y="686"/>
                </a:cubicBezTo>
                <a:cubicBezTo>
                  <a:pt x="578" y="769"/>
                  <a:pt x="678" y="674"/>
                  <a:pt x="603" y="723"/>
                </a:cubicBezTo>
                <a:cubicBezTo>
                  <a:pt x="537" y="766"/>
                  <a:pt x="619" y="740"/>
                  <a:pt x="539" y="759"/>
                </a:cubicBezTo>
                <a:cubicBezTo>
                  <a:pt x="497" y="803"/>
                  <a:pt x="548" y="755"/>
                  <a:pt x="494" y="787"/>
                </a:cubicBezTo>
                <a:cubicBezTo>
                  <a:pt x="478" y="797"/>
                  <a:pt x="467" y="817"/>
                  <a:pt x="457" y="832"/>
                </a:cubicBezTo>
                <a:cubicBezTo>
                  <a:pt x="465" y="912"/>
                  <a:pt x="484" y="985"/>
                  <a:pt x="411" y="1034"/>
                </a:cubicBezTo>
                <a:cubicBezTo>
                  <a:pt x="423" y="1078"/>
                  <a:pt x="410" y="1130"/>
                  <a:pt x="430" y="1171"/>
                </a:cubicBezTo>
                <a:cubicBezTo>
                  <a:pt x="437" y="1185"/>
                  <a:pt x="460" y="1177"/>
                  <a:pt x="475" y="1180"/>
                </a:cubicBezTo>
                <a:cubicBezTo>
                  <a:pt x="484" y="1186"/>
                  <a:pt x="493" y="1194"/>
                  <a:pt x="503" y="1198"/>
                </a:cubicBezTo>
                <a:cubicBezTo>
                  <a:pt x="521" y="1206"/>
                  <a:pt x="558" y="1216"/>
                  <a:pt x="558" y="1216"/>
                </a:cubicBezTo>
                <a:cubicBezTo>
                  <a:pt x="576" y="1272"/>
                  <a:pt x="560" y="1330"/>
                  <a:pt x="594" y="1381"/>
                </a:cubicBezTo>
                <a:cubicBezTo>
                  <a:pt x="604" y="1421"/>
                  <a:pt x="609" y="1461"/>
                  <a:pt x="622" y="1500"/>
                </a:cubicBezTo>
                <a:cubicBezTo>
                  <a:pt x="609" y="1539"/>
                  <a:pt x="594" y="1537"/>
                  <a:pt x="567" y="1564"/>
                </a:cubicBezTo>
                <a:cubicBezTo>
                  <a:pt x="562" y="1569"/>
                  <a:pt x="579" y="1558"/>
                  <a:pt x="585" y="1555"/>
                </a:cubicBezTo>
                <a:close/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3573360"/>
            <a:ext cx="289080" cy="289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342900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Константиноп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357720"/>
            <a:ext cx="2157120" cy="3311280"/>
          </a:xfrm>
          <a:custGeom>
            <a:avLst/>
            <a:gdLst/>
            <a:ahLst/>
            <a:rect l="l" t="t" r="r" b="b"/>
            <a:pathLst>
              <a:path w="1359" h="2086">
                <a:moveTo>
                  <a:pt x="21" y="1267"/>
                </a:moveTo>
                <a:cubicBezTo>
                  <a:pt x="41" y="1432"/>
                  <a:pt x="21" y="1229"/>
                  <a:pt x="21" y="1477"/>
                </a:cubicBezTo>
                <a:cubicBezTo>
                  <a:pt x="21" y="1547"/>
                  <a:pt x="0" y="1629"/>
                  <a:pt x="39" y="1687"/>
                </a:cubicBezTo>
                <a:cubicBezTo>
                  <a:pt x="51" y="1705"/>
                  <a:pt x="112" y="1721"/>
                  <a:pt x="121" y="1724"/>
                </a:cubicBezTo>
                <a:cubicBezTo>
                  <a:pt x="142" y="1731"/>
                  <a:pt x="161" y="1754"/>
                  <a:pt x="176" y="1769"/>
                </a:cubicBezTo>
                <a:cubicBezTo>
                  <a:pt x="200" y="1843"/>
                  <a:pt x="164" y="1746"/>
                  <a:pt x="213" y="1824"/>
                </a:cubicBezTo>
                <a:cubicBezTo>
                  <a:pt x="222" y="1838"/>
                  <a:pt x="222" y="1856"/>
                  <a:pt x="231" y="1870"/>
                </a:cubicBezTo>
                <a:cubicBezTo>
                  <a:pt x="243" y="1888"/>
                  <a:pt x="262" y="1901"/>
                  <a:pt x="277" y="1916"/>
                </a:cubicBezTo>
                <a:cubicBezTo>
                  <a:pt x="294" y="1933"/>
                  <a:pt x="300" y="1959"/>
                  <a:pt x="313" y="1980"/>
                </a:cubicBezTo>
                <a:cubicBezTo>
                  <a:pt x="316" y="1998"/>
                  <a:pt x="315" y="2018"/>
                  <a:pt x="322" y="2035"/>
                </a:cubicBezTo>
                <a:cubicBezTo>
                  <a:pt x="330" y="2056"/>
                  <a:pt x="378" y="2069"/>
                  <a:pt x="395" y="2080"/>
                </a:cubicBezTo>
                <a:cubicBezTo>
                  <a:pt x="410" y="2077"/>
                  <a:pt x="438" y="2086"/>
                  <a:pt x="441" y="2071"/>
                </a:cubicBezTo>
                <a:cubicBezTo>
                  <a:pt x="465" y="1958"/>
                  <a:pt x="443" y="1839"/>
                  <a:pt x="459" y="1724"/>
                </a:cubicBezTo>
                <a:cubicBezTo>
                  <a:pt x="462" y="1702"/>
                  <a:pt x="464" y="1678"/>
                  <a:pt x="478" y="1660"/>
                </a:cubicBezTo>
                <a:cubicBezTo>
                  <a:pt x="496" y="1637"/>
                  <a:pt x="545" y="1594"/>
                  <a:pt x="569" y="1568"/>
                </a:cubicBezTo>
                <a:cubicBezTo>
                  <a:pt x="580" y="1536"/>
                  <a:pt x="581" y="1510"/>
                  <a:pt x="606" y="1486"/>
                </a:cubicBezTo>
                <a:cubicBezTo>
                  <a:pt x="616" y="1457"/>
                  <a:pt x="632" y="1442"/>
                  <a:pt x="642" y="1413"/>
                </a:cubicBezTo>
                <a:cubicBezTo>
                  <a:pt x="645" y="1386"/>
                  <a:pt x="644" y="1357"/>
                  <a:pt x="651" y="1331"/>
                </a:cubicBezTo>
                <a:cubicBezTo>
                  <a:pt x="664" y="1285"/>
                  <a:pt x="760" y="1280"/>
                  <a:pt x="789" y="1276"/>
                </a:cubicBezTo>
                <a:cubicBezTo>
                  <a:pt x="800" y="1244"/>
                  <a:pt x="808" y="1171"/>
                  <a:pt x="834" y="1148"/>
                </a:cubicBezTo>
                <a:cubicBezTo>
                  <a:pt x="851" y="1133"/>
                  <a:pt x="889" y="1111"/>
                  <a:pt x="889" y="1111"/>
                </a:cubicBezTo>
                <a:cubicBezTo>
                  <a:pt x="901" y="1076"/>
                  <a:pt x="909" y="1068"/>
                  <a:pt x="944" y="1056"/>
                </a:cubicBezTo>
                <a:cubicBezTo>
                  <a:pt x="965" y="1059"/>
                  <a:pt x="989" y="1055"/>
                  <a:pt x="1008" y="1065"/>
                </a:cubicBezTo>
                <a:cubicBezTo>
                  <a:pt x="1017" y="1069"/>
                  <a:pt x="1013" y="1084"/>
                  <a:pt x="1017" y="1093"/>
                </a:cubicBezTo>
                <a:cubicBezTo>
                  <a:pt x="1033" y="1126"/>
                  <a:pt x="1031" y="1119"/>
                  <a:pt x="1063" y="1129"/>
                </a:cubicBezTo>
                <a:cubicBezTo>
                  <a:pt x="1112" y="1126"/>
                  <a:pt x="1161" y="1130"/>
                  <a:pt x="1209" y="1120"/>
                </a:cubicBezTo>
                <a:cubicBezTo>
                  <a:pt x="1223" y="1117"/>
                  <a:pt x="1240" y="1057"/>
                  <a:pt x="1246" y="1038"/>
                </a:cubicBezTo>
                <a:cubicBezTo>
                  <a:pt x="1252" y="1020"/>
                  <a:pt x="1264" y="983"/>
                  <a:pt x="1264" y="983"/>
                </a:cubicBezTo>
                <a:cubicBezTo>
                  <a:pt x="1275" y="874"/>
                  <a:pt x="1276" y="768"/>
                  <a:pt x="1310" y="663"/>
                </a:cubicBezTo>
                <a:cubicBezTo>
                  <a:pt x="1319" y="596"/>
                  <a:pt x="1328" y="529"/>
                  <a:pt x="1337" y="462"/>
                </a:cubicBezTo>
                <a:cubicBezTo>
                  <a:pt x="1340" y="387"/>
                  <a:pt x="1359" y="86"/>
                  <a:pt x="1337" y="23"/>
                </a:cubicBezTo>
                <a:cubicBezTo>
                  <a:pt x="1329" y="0"/>
                  <a:pt x="1288" y="29"/>
                  <a:pt x="1264" y="32"/>
                </a:cubicBezTo>
                <a:cubicBezTo>
                  <a:pt x="1235" y="77"/>
                  <a:pt x="1181" y="121"/>
                  <a:pt x="1136" y="151"/>
                </a:cubicBezTo>
                <a:cubicBezTo>
                  <a:pt x="1124" y="188"/>
                  <a:pt x="1119" y="203"/>
                  <a:pt x="1081" y="215"/>
                </a:cubicBezTo>
                <a:cubicBezTo>
                  <a:pt x="1011" y="262"/>
                  <a:pt x="1051" y="251"/>
                  <a:pt x="926" y="261"/>
                </a:cubicBezTo>
                <a:cubicBezTo>
                  <a:pt x="892" y="293"/>
                  <a:pt x="911" y="277"/>
                  <a:pt x="853" y="316"/>
                </a:cubicBezTo>
                <a:cubicBezTo>
                  <a:pt x="844" y="322"/>
                  <a:pt x="825" y="334"/>
                  <a:pt x="825" y="334"/>
                </a:cubicBezTo>
                <a:cubicBezTo>
                  <a:pt x="780" y="402"/>
                  <a:pt x="740" y="470"/>
                  <a:pt x="670" y="517"/>
                </a:cubicBezTo>
                <a:cubicBezTo>
                  <a:pt x="638" y="563"/>
                  <a:pt x="639" y="562"/>
                  <a:pt x="578" y="572"/>
                </a:cubicBezTo>
                <a:cubicBezTo>
                  <a:pt x="537" y="634"/>
                  <a:pt x="558" y="612"/>
                  <a:pt x="523" y="645"/>
                </a:cubicBezTo>
                <a:cubicBezTo>
                  <a:pt x="502" y="710"/>
                  <a:pt x="516" y="684"/>
                  <a:pt x="487" y="727"/>
                </a:cubicBezTo>
                <a:cubicBezTo>
                  <a:pt x="468" y="785"/>
                  <a:pt x="453" y="774"/>
                  <a:pt x="386" y="782"/>
                </a:cubicBezTo>
                <a:cubicBezTo>
                  <a:pt x="295" y="873"/>
                  <a:pt x="443" y="737"/>
                  <a:pt x="139" y="819"/>
                </a:cubicBezTo>
                <a:cubicBezTo>
                  <a:pt x="132" y="821"/>
                  <a:pt x="116" y="897"/>
                  <a:pt x="112" y="910"/>
                </a:cubicBezTo>
                <a:cubicBezTo>
                  <a:pt x="107" y="929"/>
                  <a:pt x="94" y="965"/>
                  <a:pt x="94" y="965"/>
                </a:cubicBezTo>
                <a:cubicBezTo>
                  <a:pt x="86" y="1046"/>
                  <a:pt x="80" y="1075"/>
                  <a:pt x="39" y="1139"/>
                </a:cubicBezTo>
                <a:cubicBezTo>
                  <a:pt x="32" y="1173"/>
                  <a:pt x="11" y="1223"/>
                  <a:pt x="11" y="1257"/>
                </a:cubicBezTo>
                <a:cubicBezTo>
                  <a:pt x="11" y="1262"/>
                  <a:pt x="18" y="1264"/>
                  <a:pt x="21" y="1267"/>
                </a:cubicBezTo>
                <a:close/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4005360"/>
            <a:ext cx="287280" cy="287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4005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ик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93920" y="2782800"/>
            <a:ext cx="4127400" cy="3900600"/>
          </a:xfrm>
          <a:custGeom>
            <a:avLst/>
            <a:gdLst/>
            <a:ahLst/>
            <a:rect l="l" t="t" r="r" b="b"/>
            <a:pathLst>
              <a:path w="2600" h="2457">
                <a:moveTo>
                  <a:pt x="1097" y="844"/>
                </a:moveTo>
                <a:cubicBezTo>
                  <a:pt x="1057" y="830"/>
                  <a:pt x="1028" y="815"/>
                  <a:pt x="978" y="844"/>
                </a:cubicBezTo>
                <a:cubicBezTo>
                  <a:pt x="962" y="854"/>
                  <a:pt x="966" y="880"/>
                  <a:pt x="960" y="898"/>
                </a:cubicBezTo>
                <a:cubicBezTo>
                  <a:pt x="957" y="906"/>
                  <a:pt x="947" y="910"/>
                  <a:pt x="941" y="917"/>
                </a:cubicBezTo>
                <a:cubicBezTo>
                  <a:pt x="934" y="925"/>
                  <a:pt x="932" y="938"/>
                  <a:pt x="923" y="944"/>
                </a:cubicBezTo>
                <a:cubicBezTo>
                  <a:pt x="907" y="954"/>
                  <a:pt x="868" y="962"/>
                  <a:pt x="868" y="962"/>
                </a:cubicBezTo>
                <a:cubicBezTo>
                  <a:pt x="816" y="959"/>
                  <a:pt x="762" y="969"/>
                  <a:pt x="713" y="953"/>
                </a:cubicBezTo>
                <a:cubicBezTo>
                  <a:pt x="692" y="946"/>
                  <a:pt x="688" y="916"/>
                  <a:pt x="676" y="898"/>
                </a:cubicBezTo>
                <a:cubicBezTo>
                  <a:pt x="642" y="848"/>
                  <a:pt x="635" y="849"/>
                  <a:pt x="594" y="834"/>
                </a:cubicBezTo>
                <a:cubicBezTo>
                  <a:pt x="536" y="837"/>
                  <a:pt x="477" y="832"/>
                  <a:pt x="420" y="844"/>
                </a:cubicBezTo>
                <a:cubicBezTo>
                  <a:pt x="411" y="846"/>
                  <a:pt x="419" y="866"/>
                  <a:pt x="411" y="871"/>
                </a:cubicBezTo>
                <a:cubicBezTo>
                  <a:pt x="398" y="880"/>
                  <a:pt x="380" y="877"/>
                  <a:pt x="365" y="880"/>
                </a:cubicBezTo>
                <a:cubicBezTo>
                  <a:pt x="354" y="864"/>
                  <a:pt x="338" y="851"/>
                  <a:pt x="329" y="834"/>
                </a:cubicBezTo>
                <a:cubicBezTo>
                  <a:pt x="270" y="714"/>
                  <a:pt x="344" y="829"/>
                  <a:pt x="292" y="752"/>
                </a:cubicBezTo>
                <a:cubicBezTo>
                  <a:pt x="278" y="694"/>
                  <a:pt x="300" y="665"/>
                  <a:pt x="283" y="597"/>
                </a:cubicBezTo>
                <a:cubicBezTo>
                  <a:pt x="281" y="589"/>
                  <a:pt x="270" y="585"/>
                  <a:pt x="265" y="578"/>
                </a:cubicBezTo>
                <a:cubicBezTo>
                  <a:pt x="246" y="554"/>
                  <a:pt x="230" y="528"/>
                  <a:pt x="210" y="505"/>
                </a:cubicBezTo>
                <a:cubicBezTo>
                  <a:pt x="196" y="489"/>
                  <a:pt x="164" y="460"/>
                  <a:pt x="164" y="460"/>
                </a:cubicBezTo>
                <a:cubicBezTo>
                  <a:pt x="147" y="406"/>
                  <a:pt x="127" y="423"/>
                  <a:pt x="73" y="432"/>
                </a:cubicBezTo>
                <a:cubicBezTo>
                  <a:pt x="67" y="423"/>
                  <a:pt x="55" y="416"/>
                  <a:pt x="55" y="405"/>
                </a:cubicBezTo>
                <a:cubicBezTo>
                  <a:pt x="55" y="396"/>
                  <a:pt x="72" y="395"/>
                  <a:pt x="73" y="386"/>
                </a:cubicBezTo>
                <a:cubicBezTo>
                  <a:pt x="78" y="348"/>
                  <a:pt x="65" y="342"/>
                  <a:pt x="45" y="322"/>
                </a:cubicBezTo>
                <a:cubicBezTo>
                  <a:pt x="0" y="144"/>
                  <a:pt x="252" y="189"/>
                  <a:pt x="347" y="185"/>
                </a:cubicBezTo>
                <a:cubicBezTo>
                  <a:pt x="434" y="129"/>
                  <a:pt x="321" y="199"/>
                  <a:pt x="402" y="158"/>
                </a:cubicBezTo>
                <a:cubicBezTo>
                  <a:pt x="420" y="149"/>
                  <a:pt x="430" y="130"/>
                  <a:pt x="448" y="121"/>
                </a:cubicBezTo>
                <a:cubicBezTo>
                  <a:pt x="474" y="108"/>
                  <a:pt x="503" y="103"/>
                  <a:pt x="530" y="94"/>
                </a:cubicBezTo>
                <a:cubicBezTo>
                  <a:pt x="540" y="91"/>
                  <a:pt x="547" y="80"/>
                  <a:pt x="557" y="76"/>
                </a:cubicBezTo>
                <a:cubicBezTo>
                  <a:pt x="575" y="68"/>
                  <a:pt x="560" y="70"/>
                  <a:pt x="612" y="57"/>
                </a:cubicBezTo>
                <a:cubicBezTo>
                  <a:pt x="615" y="48"/>
                  <a:pt x="612" y="33"/>
                  <a:pt x="621" y="30"/>
                </a:cubicBezTo>
                <a:cubicBezTo>
                  <a:pt x="712" y="0"/>
                  <a:pt x="633" y="74"/>
                  <a:pt x="676" y="94"/>
                </a:cubicBezTo>
                <a:cubicBezTo>
                  <a:pt x="715" y="112"/>
                  <a:pt x="761" y="100"/>
                  <a:pt x="804" y="103"/>
                </a:cubicBezTo>
                <a:cubicBezTo>
                  <a:pt x="862" y="117"/>
                  <a:pt x="920" y="135"/>
                  <a:pt x="978" y="149"/>
                </a:cubicBezTo>
                <a:cubicBezTo>
                  <a:pt x="981" y="161"/>
                  <a:pt x="978" y="176"/>
                  <a:pt x="987" y="185"/>
                </a:cubicBezTo>
                <a:cubicBezTo>
                  <a:pt x="996" y="194"/>
                  <a:pt x="1011" y="193"/>
                  <a:pt x="1024" y="194"/>
                </a:cubicBezTo>
                <a:cubicBezTo>
                  <a:pt x="1076" y="199"/>
                  <a:pt x="1127" y="201"/>
                  <a:pt x="1179" y="204"/>
                </a:cubicBezTo>
                <a:cubicBezTo>
                  <a:pt x="1335" y="306"/>
                  <a:pt x="1394" y="252"/>
                  <a:pt x="1655" y="258"/>
                </a:cubicBezTo>
                <a:cubicBezTo>
                  <a:pt x="1766" y="299"/>
                  <a:pt x="1593" y="229"/>
                  <a:pt x="1700" y="295"/>
                </a:cubicBezTo>
                <a:cubicBezTo>
                  <a:pt x="1735" y="316"/>
                  <a:pt x="1802" y="318"/>
                  <a:pt x="1837" y="322"/>
                </a:cubicBezTo>
                <a:cubicBezTo>
                  <a:pt x="1846" y="325"/>
                  <a:pt x="1856" y="328"/>
                  <a:pt x="1865" y="332"/>
                </a:cubicBezTo>
                <a:cubicBezTo>
                  <a:pt x="1875" y="337"/>
                  <a:pt x="1882" y="346"/>
                  <a:pt x="1892" y="350"/>
                </a:cubicBezTo>
                <a:cubicBezTo>
                  <a:pt x="1963" y="381"/>
                  <a:pt x="2000" y="389"/>
                  <a:pt x="2048" y="460"/>
                </a:cubicBezTo>
                <a:cubicBezTo>
                  <a:pt x="2115" y="457"/>
                  <a:pt x="2183" y="461"/>
                  <a:pt x="2249" y="450"/>
                </a:cubicBezTo>
                <a:cubicBezTo>
                  <a:pt x="2253" y="449"/>
                  <a:pt x="2282" y="388"/>
                  <a:pt x="2304" y="377"/>
                </a:cubicBezTo>
                <a:cubicBezTo>
                  <a:pt x="2325" y="366"/>
                  <a:pt x="2355" y="365"/>
                  <a:pt x="2377" y="359"/>
                </a:cubicBezTo>
                <a:cubicBezTo>
                  <a:pt x="2396" y="354"/>
                  <a:pt x="2487" y="310"/>
                  <a:pt x="2432" y="341"/>
                </a:cubicBezTo>
                <a:cubicBezTo>
                  <a:pt x="2425" y="333"/>
                  <a:pt x="2408" y="327"/>
                  <a:pt x="2410" y="316"/>
                </a:cubicBezTo>
                <a:cubicBezTo>
                  <a:pt x="2416" y="285"/>
                  <a:pt x="2496" y="277"/>
                  <a:pt x="2496" y="277"/>
                </a:cubicBezTo>
                <a:cubicBezTo>
                  <a:pt x="2600" y="312"/>
                  <a:pt x="2531" y="279"/>
                  <a:pt x="2514" y="533"/>
                </a:cubicBezTo>
                <a:cubicBezTo>
                  <a:pt x="2513" y="542"/>
                  <a:pt x="2511" y="553"/>
                  <a:pt x="2505" y="560"/>
                </a:cubicBezTo>
                <a:cubicBezTo>
                  <a:pt x="2481" y="589"/>
                  <a:pt x="2426" y="592"/>
                  <a:pt x="2395" y="597"/>
                </a:cubicBezTo>
                <a:cubicBezTo>
                  <a:pt x="2294" y="663"/>
                  <a:pt x="2363" y="601"/>
                  <a:pt x="2331" y="661"/>
                </a:cubicBezTo>
                <a:cubicBezTo>
                  <a:pt x="2321" y="680"/>
                  <a:pt x="2303" y="695"/>
                  <a:pt x="2295" y="716"/>
                </a:cubicBezTo>
                <a:cubicBezTo>
                  <a:pt x="2290" y="731"/>
                  <a:pt x="2280" y="786"/>
                  <a:pt x="2258" y="789"/>
                </a:cubicBezTo>
                <a:cubicBezTo>
                  <a:pt x="2185" y="798"/>
                  <a:pt x="2112" y="795"/>
                  <a:pt x="2039" y="798"/>
                </a:cubicBezTo>
                <a:cubicBezTo>
                  <a:pt x="2004" y="831"/>
                  <a:pt x="2025" y="809"/>
                  <a:pt x="1984" y="871"/>
                </a:cubicBezTo>
                <a:cubicBezTo>
                  <a:pt x="1979" y="879"/>
                  <a:pt x="1981" y="890"/>
                  <a:pt x="1975" y="898"/>
                </a:cubicBezTo>
                <a:cubicBezTo>
                  <a:pt x="1962" y="915"/>
                  <a:pt x="1944" y="929"/>
                  <a:pt x="1929" y="944"/>
                </a:cubicBezTo>
                <a:cubicBezTo>
                  <a:pt x="1920" y="953"/>
                  <a:pt x="1901" y="972"/>
                  <a:pt x="1901" y="972"/>
                </a:cubicBezTo>
                <a:cubicBezTo>
                  <a:pt x="1831" y="1181"/>
                  <a:pt x="1955" y="1425"/>
                  <a:pt x="1828" y="1612"/>
                </a:cubicBezTo>
                <a:cubicBezTo>
                  <a:pt x="1802" y="1690"/>
                  <a:pt x="1786" y="1770"/>
                  <a:pt x="1764" y="1849"/>
                </a:cubicBezTo>
                <a:cubicBezTo>
                  <a:pt x="1752" y="1892"/>
                  <a:pt x="1752" y="1883"/>
                  <a:pt x="1719" y="1932"/>
                </a:cubicBezTo>
                <a:cubicBezTo>
                  <a:pt x="1713" y="1941"/>
                  <a:pt x="1700" y="1959"/>
                  <a:pt x="1700" y="1959"/>
                </a:cubicBezTo>
                <a:cubicBezTo>
                  <a:pt x="1684" y="2058"/>
                  <a:pt x="1658" y="2154"/>
                  <a:pt x="1636" y="2252"/>
                </a:cubicBezTo>
                <a:cubicBezTo>
                  <a:pt x="1625" y="2301"/>
                  <a:pt x="1626" y="2352"/>
                  <a:pt x="1591" y="2389"/>
                </a:cubicBezTo>
                <a:cubicBezTo>
                  <a:pt x="1566" y="2457"/>
                  <a:pt x="1521" y="2419"/>
                  <a:pt x="1490" y="2380"/>
                </a:cubicBezTo>
                <a:cubicBezTo>
                  <a:pt x="1482" y="2370"/>
                  <a:pt x="1462" y="2352"/>
                  <a:pt x="1453" y="2343"/>
                </a:cubicBezTo>
                <a:cubicBezTo>
                  <a:pt x="1435" y="2288"/>
                  <a:pt x="1385" y="2253"/>
                  <a:pt x="1353" y="2206"/>
                </a:cubicBezTo>
                <a:cubicBezTo>
                  <a:pt x="1328" y="2130"/>
                  <a:pt x="1363" y="2220"/>
                  <a:pt x="1325" y="2160"/>
                </a:cubicBezTo>
                <a:cubicBezTo>
                  <a:pt x="1284" y="2093"/>
                  <a:pt x="1350" y="2169"/>
                  <a:pt x="1298" y="2114"/>
                </a:cubicBezTo>
                <a:cubicBezTo>
                  <a:pt x="1284" y="2071"/>
                  <a:pt x="1275" y="2020"/>
                  <a:pt x="1243" y="1986"/>
                </a:cubicBezTo>
                <a:cubicBezTo>
                  <a:pt x="1229" y="1943"/>
                  <a:pt x="1222" y="1913"/>
                  <a:pt x="1197" y="1877"/>
                </a:cubicBezTo>
                <a:cubicBezTo>
                  <a:pt x="1179" y="1823"/>
                  <a:pt x="1174" y="1788"/>
                  <a:pt x="1133" y="1749"/>
                </a:cubicBezTo>
                <a:cubicBezTo>
                  <a:pt x="1099" y="1539"/>
                  <a:pt x="1121" y="1280"/>
                  <a:pt x="1188" y="1072"/>
                </a:cubicBezTo>
                <a:cubicBezTo>
                  <a:pt x="1182" y="972"/>
                  <a:pt x="1207" y="930"/>
                  <a:pt x="1143" y="880"/>
                </a:cubicBezTo>
                <a:cubicBezTo>
                  <a:pt x="1124" y="865"/>
                  <a:pt x="1125" y="855"/>
                  <a:pt x="1097" y="853"/>
                </a:cubicBezTo>
                <a:cubicBezTo>
                  <a:pt x="1054" y="851"/>
                  <a:pt x="1012" y="853"/>
                  <a:pt x="969" y="853"/>
                </a:cubicBezTo>
                <a:cubicBezTo>
                  <a:pt x="948" y="917"/>
                  <a:pt x="960" y="914"/>
                  <a:pt x="896" y="935"/>
                </a:cubicBezTo>
                <a:cubicBezTo>
                  <a:pt x="874" y="956"/>
                  <a:pt x="832" y="999"/>
                  <a:pt x="832" y="999"/>
                </a:cubicBezTo>
                <a:cubicBezTo>
                  <a:pt x="826" y="998"/>
                  <a:pt x="747" y="989"/>
                  <a:pt x="731" y="981"/>
                </a:cubicBezTo>
                <a:cubicBezTo>
                  <a:pt x="709" y="970"/>
                  <a:pt x="711" y="935"/>
                  <a:pt x="685" y="935"/>
                </a:cubicBezTo>
                <a:cubicBezTo>
                  <a:pt x="629" y="841"/>
                  <a:pt x="655" y="825"/>
                  <a:pt x="548" y="825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620640"/>
            <a:ext cx="2700360" cy="6237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620640"/>
            <a:ext cx="27003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падения Константинополя византийская знать перебралась в Малую Азию. Здесь возникла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икейская имп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3640" y="4146480"/>
            <a:ext cx="27003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1261 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икейцы захватили Констан-тинополь. Новым императором вос-становленной Ви-зантийской импе-рии стал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хаил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III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Палео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708360" y="1700280"/>
            <a:ext cx="669960" cy="2260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340000" y="1844640"/>
            <a:ext cx="1593720" cy="175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1285920" y="4149720"/>
            <a:ext cx="1746360" cy="270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140360" y="1197000"/>
            <a:ext cx="1895400" cy="189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64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08360" y="404640"/>
            <a:ext cx="543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ия была восстановлена. Теперь ее территория была нам-ного меньше, чем прежде; армия и флот тоже. Константинополь стоял полуразрушенным. Большой императорский дворец был в запустении. В Константино-поле хорошо чувствовали себя только купцы Венеции и Генуи, торговавшие итальянскими товарами. Императоры предо-ставили им большие привилегии. А свою власть они постепенно уступали крупным византийским землевладельцам, давая им все большие права 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33920" cy="515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5300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зантийские во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4360" y="189000"/>
            <a:ext cx="69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БАЛКАНЫ В XIII-XIV вв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6669000" cy="6021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88000" y="836640"/>
            <a:ext cx="255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чал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 Болгария отсто-яла свою незави-симость. В 30-е г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 преврати-лась  в могущест-венное государ-ство Балканского полуост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48360" y="3645000"/>
            <a:ext cx="1224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4076640"/>
            <a:ext cx="2484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ссмотрите карту на стр. 241 и назовите территории, которые были захвачены Болгарией в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III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в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765000"/>
            <a:ext cx="2484360" cy="609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692280"/>
            <a:ext cx="248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конц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 Болгария начала терять былое мо-гущество, а во второй полов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 Распалась на три враждова-вших между со-бой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164360" y="3645000"/>
            <a:ext cx="1440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77080" y="4365720"/>
            <a:ext cx="200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5013360"/>
            <a:ext cx="25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тр. 240 (абз. 3) и стр. 242 (абз. 1-2) и ответьте на воп-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712360" y="350028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3500280"/>
            <a:ext cx="216000" cy="216000"/>
          </a:xfrm>
          <a:custGeom>
            <a:avLst/>
            <a:gdLst>
              <a:gd name="textAreaLeft" fmla="*/ 49320 w 216000"/>
              <a:gd name="textAreaRight" fmla="*/ 166680 w 21600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66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3141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рн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32720" y="6669000"/>
            <a:ext cx="611280" cy="189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35200" cy="5300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300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братьям Асень. г. Тырн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-2160"/>
            <a:ext cx="558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Иване Асене II положение Болгарии значительно улучшилось. Царю прихо-дилось разделять власть с дворянами и монастырями, земли которых обрабаты-вались свободными или зависимыми крестьянами. В стране развивалась торговля, установились также торговые связи с Венецией и Генуей. Иван Асень II покровительствовал искусству, архитек-туре и литературе. После того как в 1230 г болгары одержали победу над армией правителя Эпирского государства, грани-цы Болгарии стали простираться от сов-ременного Белграда до области Эпир и от Черного моря до Адриатического. К исконной территории Болгарского госу-дарства теперь добавились Македония и большая часть Албании. Иван Асень II умер во время вторжения на Балканы монголо-татар, которые обложили болгар данью в пользу своего х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9640" y="2898720"/>
            <a:ext cx="2554560" cy="39592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172360" y="6453360"/>
            <a:ext cx="971640" cy="4046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5300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300640"/>
            <a:ext cx="22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ван Александр             (1331—1371 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-6480"/>
            <a:ext cx="475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Александр разделил Болгарию на два царства, которыми управляли его сыновья: Иван Срацимир (1365–1396) –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идинск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еверо-западная Болгария) и Иван Шишман III (1371–1393) –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ырновск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центральная Болгария). Северо-восточная Болгария (Добротица, современная Добруджа) стала независи-мым государством. После смерти отца братья не поддерживали друг друга и проводили самостоятельную политик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19640" cy="515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411280" cy="3357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219640" y="0"/>
            <a:ext cx="3924360" cy="3068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19640" y="3141720"/>
            <a:ext cx="3924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бия наивысшего могущества достигла при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тефане Душа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(1331-1355 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372360" y="429264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157720"/>
            <a:ext cx="62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те карту на стр. 241 и укажите терри-тории присоединенные к Сербии к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6156360"/>
            <a:ext cx="67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 второй половин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XIV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ека Сербское государ-ство распа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72080" cy="458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98960" y="2570040"/>
            <a:ext cx="4145040" cy="4287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1640" y="0"/>
            <a:ext cx="349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на территории Малой Азии, захваченной у Византии возникло государство турок-сельдж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государство пало под ударами татаро-монго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645336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сман Пер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013360"/>
            <a:ext cx="485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нц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 часть турецких княжеств объединилось под властью султана Османа. Жителей этого государства стали называть турками-осма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54:12Z</dcterms:created>
  <dc:creator>Ирина</dc:creator>
  <dc:description/>
  <dc:language>en-US</dc:language>
  <cp:lastModifiedBy>User</cp:lastModifiedBy>
  <dcterms:modified xsi:type="dcterms:W3CDTF">2010-01-10T11:32:56Z</dcterms:modified>
  <cp:revision>63</cp:revision>
  <dc:subject/>
  <dc:title>Слайд 1</dc:title>
</cp:coreProperties>
</file>