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A38-7BDE-4C4C-8C5A-0273EF37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19C-E309-4635-B6CA-A2A3742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DEE-DDBB-49BC-B12C-6FF556DD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068F-E56C-4D42-A5A1-2D78CDC3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1D59-489E-44D3-B89E-4F2FC609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A952-5C64-4DF4-BD6D-AEDA892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CDD2-6E38-4F0B-B911-75DF22B0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7D8F-8F90-4578-9A09-8C14AE1A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DBD-8AAD-4B27-985B-12B983BF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24A-7D96-4607-95CB-58EB4C14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3035-30CA-4334-A270-2BBA3EB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382-5676-4130-9710-1D05BFE7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15BD-D955-4526-BFAB-314584D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9BE-48EC-4A89-865C-4CDCBE20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C099-A96E-4A5D-AB9D-7E81F24D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6CF9-2309-4645-B3B3-BB801ECE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83FB-942D-45F2-9E2A-E2992878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58C-F786-4B53-AD52-12A90DC2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383-3979-417F-AEA5-044A83DB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1E0-DD89-423D-832C-AAFDE674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FC1-F20E-4E5B-995E-CAC9BB3B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E69-A1BD-4AE9-AEB9-28564F9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ACD-5029-4642-9017-C21548B9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4508-598C-4D48-A019-80768C28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47F7-1A92-4D3C-8F25-7356026984F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2E3-D7F7-4EA7-A389-A231DBE2E7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2b2b2"/>
                </a:solidFill>
                <a:latin typeface="Arial"/>
              </a:rPr>
              <a:t>Линейное уравнение и его корни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84000" y="3644640"/>
            <a:ext cx="66596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99"/>
                </a:solidFill>
                <a:latin typeface="Arial"/>
              </a:rPr>
              <a:t>П8 стр. 143, 144, 145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067280" y="5013360"/>
                <a:ext cx="324000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то написал это стихотворение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1557000"/>
            <a:ext cx="58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504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всем мне хочется дой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амой су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боте, в поисках пу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ердечной сму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ущности протекших дн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их причи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оснований, до корн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 сердцев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время схватывая н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деб, событ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ть, думать, чувствовать, люби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ршать открыт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55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2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2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975"/>
                            </p:stCondLst>
                            <p:childTnLst>
                              <p:par>
                                <p:cTn id="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975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85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1925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2700"/>
                            </p:stCondLst>
                            <p:childTnLst>
                              <p:par>
                                <p:cTn id="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700"/>
                            </p:stCondLst>
                            <p:childTnLst>
                              <p:par>
                                <p:cTn id="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6325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575"/>
                            </p:stCondLst>
                            <p:childTnLst>
                              <p:par>
                                <p:cTn id="1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2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читайте устно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 горизонталям умножать,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по вертикалям складывать,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найти сумму чисел диагоналей и сложить их модули – результат даст длину тела выхухоля.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2317680" y="2496960"/>
                <a:ext cx="317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6496200" y="2496960"/>
                <a:ext cx="342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5"/>
          <p:cNvSpPr/>
          <p:nvPr/>
        </p:nvSpPr>
        <p:spPr>
          <a:xfrm>
            <a:off x="3852720" y="2703600"/>
            <a:ext cx="501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3852720" y="2703600"/>
            <a:ext cx="457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68360" y="2205000"/>
          <a:ext cx="4608720" cy="4032360"/>
        </p:xfrm>
        <a:graphic>
          <a:graphicData uri="http://schemas.openxmlformats.org/drawingml/2006/table">
            <a:tbl>
              <a:tblPr/>
              <a:tblGrid>
                <a:gridCol w="1536840"/>
                <a:gridCol w="1535040"/>
                <a:gridCol w="1536840"/>
              </a:tblGrid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,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25"/>
              <p:cNvSpPr txBox="1"/>
              <p:nvPr/>
            </p:nvSpPr>
            <p:spPr>
              <a:xfrm>
                <a:off x="4211640" y="3716280"/>
                <a:ext cx="6778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5796000" y="2349360"/>
                <a:ext cx="74304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7"/>
              <p:cNvSpPr txBox="1"/>
              <p:nvPr/>
            </p:nvSpPr>
            <p:spPr>
              <a:xfrm>
                <a:off x="7380360" y="2565360"/>
                <a:ext cx="4712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8"/>
              <p:cNvSpPr txBox="1"/>
              <p:nvPr/>
            </p:nvSpPr>
            <p:spPr>
              <a:xfrm>
                <a:off x="7451640" y="3789360"/>
                <a:ext cx="4842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29"/>
              <p:cNvSpPr txBox="1"/>
              <p:nvPr/>
            </p:nvSpPr>
            <p:spPr>
              <a:xfrm>
                <a:off x="7308720" y="5445000"/>
                <a:ext cx="5191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0"/>
              <p:cNvSpPr txBox="1"/>
              <p:nvPr/>
            </p:nvSpPr>
            <p:spPr>
              <a:xfrm>
                <a:off x="2484360" y="6302520"/>
                <a:ext cx="1038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1"/>
              <p:cNvSpPr txBox="1"/>
              <p:nvPr/>
            </p:nvSpPr>
            <p:spPr>
              <a:xfrm>
                <a:off x="4067280" y="6302520"/>
                <a:ext cx="10382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32"/>
              <p:cNvSpPr txBox="1"/>
              <p:nvPr/>
            </p:nvSpPr>
            <p:spPr>
              <a:xfrm>
                <a:off x="5796000" y="6165720"/>
                <a:ext cx="6224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33"/>
              <p:cNvSpPr txBox="1"/>
              <p:nvPr/>
            </p:nvSpPr>
            <p:spPr>
              <a:xfrm>
                <a:off x="7236000" y="6156360"/>
                <a:ext cx="6998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4"/>
              <p:cNvSpPr txBox="1"/>
              <p:nvPr/>
            </p:nvSpPr>
            <p:spPr>
              <a:xfrm>
                <a:off x="1258920" y="6156360"/>
                <a:ext cx="7002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ыхухол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87138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животное занесено в Красную книгу распространенно только в Европе, в Новгородской области встречается очень редко. Длина тела выхухоли 18-22 с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шуйчатый хвост, равный длине тала и уплощенный с боков, на верхнем гребне имеет киль из густых и длинных волос. У самого основания хвост перетянут, а в первой трети длины грушевидно утолщен. В утолщении расположены мускусные железы, сильно пахнущий маслянистый мускус, который выдавливается из многочисленных отверстий расположенных на нижней стороне утолщ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00" y="3715920"/>
            <a:ext cx="4038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лосяной покров очень густой, ровный, мягкий, шелковистый у здоровых зверьков ненамокающий. Живут выхухоли в поймах малых рек, наиболее благоприятны для их жизни замкнутые пойменные водоемы (типа стариц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Выхухоль"/>
          <p:cNvPicPr/>
          <p:nvPr/>
        </p:nvPicPr>
        <p:blipFill>
          <a:blip r:embed="rId4"/>
          <a:stretch/>
        </p:blipFill>
        <p:spPr>
          <a:xfrm>
            <a:off x="4680000" y="3124080"/>
            <a:ext cx="44640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ешите задачу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ние 1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а тела выхухоли 520г, что в 130 раз больше, чем средняя продолжительность жизни выхухоли. Найдите, сколько лет живет выхухоль  при благоприятных условиях. Решите задачу уравн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1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2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Стерх (белый журавль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619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редкая и, по-видимому, исчезающая,  до последнего времени плохо изученная пти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ешний вид: цвет оперения белый, только первостепенные маховые и верхние кроющие черные, передняя часть головы лишена перьев и имеет красную расцветку; ноги черные, клюв буровато-красный, прямой, сильный; концы хвостовых перьев рассучены и пышным бугром прикрывают хв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Стерх"/>
          <p:cNvPicPr/>
          <p:nvPr/>
        </p:nvPicPr>
        <p:blipFill>
          <a:blip r:embed="rId3"/>
          <a:stretch/>
        </p:blipFill>
        <p:spPr>
          <a:xfrm>
            <a:off x="5556240" y="1557360"/>
            <a:ext cx="30193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2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6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6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Решите уравн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9930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 2. Решив следующие уравнения вы найде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мах крыльев стерха: 14 - у = 39 - 11у (в метра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 птицы:                                     (в кг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олько таких птиц встречается в Австрали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,4х + 3 = 0,2 (7х + 1) – 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55280" y="4292280"/>
            <a:ext cx="7859880" cy="24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рхи гнездятся в Западной Сибири по нижней Оби, Северо-восточной Якутии, не так давно эта птица была широко распространена в Западной Сибири и Казахстане, бытует мнение, что стерхи искони северные птицы; в нашей области эти птицы встречаются очень редко, сейчас насчитывается менее 10 гнезд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2987640" y="2492280"/>
                <a:ext cx="259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,2</m:t>
                        </m:r>
                        <m:r>
                          <m:t xml:space="preserve">−</m:t>
                        </m:r>
                        <m:r>
                          <m:t xml:space="preserve">0,9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8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8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77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770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оставьте уравнение и решите задач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акже в наших лесах обитают зайцы, лисы, волки, кабаны, лоси и т.д. Решим задачу, которую составил Артем Чесноков, она отображает количество этих животных в наших кра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дание 3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лесах Новгородской области водится в 12 раз больше лис, чем волков, а зайцев  2 раза больше чем волков и лис вместе. Количество кабанов и лосей примерно одинаково и вместе составляет 1/3 от числа лис. Сколько в наших лесах водится особей каждого вида, если всего животных 2150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8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Самостоятельная работа - тес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вари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ерите из приведенных уравнений линейные: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5 : х = 45; б). у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2,5 = 7,8; в). 87р = 89;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).                д). Нет линейных уравнений  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 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х + 6 = 3х + 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 (р-4) = 3р –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 13 –7,5 = 6 (4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3,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 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5;  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8; д). нет правильных решений. е). –5;  ж). –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2714760" y="5286240"/>
                <a:ext cx="142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11280" y="2205000"/>
                <a:ext cx="689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6"/>
          <p:cNvSpPr/>
          <p:nvPr/>
        </p:nvSpPr>
        <p:spPr>
          <a:xfrm>
            <a:off x="4572000" y="134136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 вариан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ерите из приведенных уравнений линейные: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56 : х = 4; б). 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= 89;  в). у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9,9 = 90;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). Нет линейных уравнений; г)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х + 24 = 7х + 6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в).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</a:t>
            </a:r>
            <a:br>
              <a:rPr sz="14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 (р-4) = 3р – 3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в). </a:t>
            </a:r>
            <a:r>
              <a:rPr b="0" lang="ru-RU" sz="16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+ 1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7,7 = 7 (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1,1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бесконечно много решений;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6; д). нет решений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12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йдите корень уравнения: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        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. 0;  б). 5;  в). </a:t>
            </a:r>
            <a:r>
              <a:rPr b="0" lang="ru-RU" sz="1400" spc="-1" strike="noStrike">
                <a:solidFill>
                  <a:srgbClr val="ffffff"/>
                </a:solidFill>
                <a:latin typeface="Symbol"/>
                <a:ea typeface="Symbol"/>
              </a:rPr>
              <a:t>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;   г). 8; д). нет правильных решений. е). –5;  ж). –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8244000" y="2276640"/>
                <a:ext cx="689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7572240" y="5010120"/>
                <a:ext cx="13575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Line 11"/>
          <p:cNvSpPr/>
          <p:nvPr/>
        </p:nvSpPr>
        <p:spPr>
          <a:xfrm>
            <a:off x="4427640" y="1484280"/>
            <a:ext cx="0" cy="5113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0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000"/>
                            </p:stCondLst>
                            <p:childTnLst>
                              <p:par>
                                <p:cTn id="3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58:53Z</dcterms:created>
  <dc:creator>Татьяна</dc:creator>
  <dc:description/>
  <dc:language>en-US</dc:language>
  <cp:lastModifiedBy>tbystrova</cp:lastModifiedBy>
  <dcterms:modified xsi:type="dcterms:W3CDTF">2010-10-04T10:43:16Z</dcterms:modified>
  <cp:revision>123</cp:revision>
  <dc:subject/>
  <dc:title>Устный счет</dc:title>
</cp:coreProperties>
</file>