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DB8C-4EBA-46A6-90DD-7431430B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B4F-C51A-470F-95AE-A8500EF4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3BD-9647-4180-819C-4804F86C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383-D784-418A-B79B-16F39A8A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A43A-5FE9-4A29-892A-F0CF783B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4902-946A-44E8-A5F0-1E635F67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B0AC-14B0-41F2-B764-ACB4DBAC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AA71-7F5D-4E9B-86D1-7AF2C4B4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FA92-A18F-4960-B6DA-EAC40813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9ACD-7945-4C37-BF82-E32722FE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5A13-22D1-437D-B5EA-709FA739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CCA1-248F-4E8E-A791-B6F8E557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1536-314B-4E01-ADD9-523344FC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CCAC-A133-4CFD-B373-21270698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F3B1-0005-45E5-8587-5D252947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AD80-FFA8-4D2B-BC09-A108E290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6B20-2DCC-4BA7-A349-3599569F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275-5221-4DFC-9B3A-1DE37150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4863-1BED-4B66-BE6B-49C11CB1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6A24-BCB2-45AA-9AD1-77066C1E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130C-A186-4302-AB12-CD4D0531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77B-8475-4895-ADC1-F8D36611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50D-C41D-49FF-B22D-C2F9696E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33B-955F-4039-858D-00A0C56E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ED9A-2C13-4A60-B002-FB4C75FBD12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E550-247B-4117-A8FD-10AE3772E52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b2b2b2"/>
                </a:solidFill>
                <a:latin typeface="Arial"/>
              </a:rPr>
              <a:t>Линейное уравнение и его корни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84000" y="3644640"/>
            <a:ext cx="66596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П8 стр. 143, 144, 145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4067280" y="5013360"/>
                <a:ext cx="324000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7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то написал это стихотворение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8000" y="1557000"/>
            <a:ext cx="58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504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 всем мне хочется дой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самой су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аботе, в поисках пут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ердечной сму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55412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сущности протекших дн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554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их причин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554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оснований, до корн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554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сердцев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0504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время схватывая н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деб, событи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ть, думать, чувствовать, люби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ершать открыть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554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2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20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975"/>
                            </p:stCondLst>
                            <p:childTnLst>
                              <p:par>
                                <p:cTn id="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975"/>
                            </p:stCondLst>
                            <p:childTnLst>
                              <p:par>
                                <p:cTn id="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850"/>
                            </p:stCondLst>
                            <p:childTnLst>
                              <p:par>
                                <p:cTn id="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1925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270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700"/>
                            </p:stCondLst>
                            <p:childTnLst>
                              <p:par>
                                <p:cTn id="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4500"/>
                            </p:stCondLst>
                            <p:childTnLst>
                              <p:par>
                                <p:cTn id="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6325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575"/>
                            </p:stCondLst>
                            <p:childTnLst>
                              <p:par>
                                <p:cTn id="1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2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читайте устно</a:t>
            </a: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По горизонталям умножать, </a:t>
            </a: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по вертикалям складывать, </a:t>
            </a: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найти сумму чисел диагоналей и сложить их модули – результат даст длину тела выхухоля.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2317680" y="2496960"/>
                <a:ext cx="3175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6496200" y="2496960"/>
                <a:ext cx="342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Rectangle 5"/>
          <p:cNvSpPr/>
          <p:nvPr/>
        </p:nvSpPr>
        <p:spPr>
          <a:xfrm>
            <a:off x="3852720" y="2703600"/>
            <a:ext cx="501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852720" y="2703600"/>
            <a:ext cx="457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68360" y="2205000"/>
          <a:ext cx="4608720" cy="4032360"/>
        </p:xfrm>
        <a:graphic>
          <a:graphicData uri="http://schemas.openxmlformats.org/drawingml/2006/table">
            <a:tbl>
              <a:tblPr/>
              <a:tblGrid>
                <a:gridCol w="1536840"/>
                <a:gridCol w="1535040"/>
                <a:gridCol w="1536840"/>
              </a:tblGrid>
              <a:tr h="13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1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,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Object 25"/>
              <p:cNvSpPr txBox="1"/>
              <p:nvPr/>
            </p:nvSpPr>
            <p:spPr>
              <a:xfrm>
                <a:off x="4211640" y="3716280"/>
                <a:ext cx="6778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26"/>
              <p:cNvSpPr txBox="1"/>
              <p:nvPr/>
            </p:nvSpPr>
            <p:spPr>
              <a:xfrm>
                <a:off x="5796000" y="2349360"/>
                <a:ext cx="74304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27"/>
              <p:cNvSpPr txBox="1"/>
              <p:nvPr/>
            </p:nvSpPr>
            <p:spPr>
              <a:xfrm>
                <a:off x="7380360" y="2565360"/>
                <a:ext cx="4712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28"/>
              <p:cNvSpPr txBox="1"/>
              <p:nvPr/>
            </p:nvSpPr>
            <p:spPr>
              <a:xfrm>
                <a:off x="7451640" y="3789360"/>
                <a:ext cx="4842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29"/>
              <p:cNvSpPr txBox="1"/>
              <p:nvPr/>
            </p:nvSpPr>
            <p:spPr>
              <a:xfrm>
                <a:off x="7308720" y="5445000"/>
                <a:ext cx="5191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30"/>
              <p:cNvSpPr txBox="1"/>
              <p:nvPr/>
            </p:nvSpPr>
            <p:spPr>
              <a:xfrm>
                <a:off x="2484360" y="6302520"/>
                <a:ext cx="10382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31"/>
              <p:cNvSpPr txBox="1"/>
              <p:nvPr/>
            </p:nvSpPr>
            <p:spPr>
              <a:xfrm>
                <a:off x="4067280" y="6302520"/>
                <a:ext cx="10382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32"/>
              <p:cNvSpPr txBox="1"/>
              <p:nvPr/>
            </p:nvSpPr>
            <p:spPr>
              <a:xfrm>
                <a:off x="5796000" y="6165720"/>
                <a:ext cx="6224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33"/>
              <p:cNvSpPr txBox="1"/>
              <p:nvPr/>
            </p:nvSpPr>
            <p:spPr>
              <a:xfrm>
                <a:off x="7236000" y="6156360"/>
                <a:ext cx="6998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34"/>
              <p:cNvSpPr txBox="1"/>
              <p:nvPr/>
            </p:nvSpPr>
            <p:spPr>
              <a:xfrm>
                <a:off x="1258920" y="6156360"/>
                <a:ext cx="7002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ыхухоль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87138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животное занесено в Красную книгу распространенно только в Европе, в Новгородской области встречается очень редко. Длина тела выхухоли 18-22 с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шуйчатый хвост, равный длине тала и уплощенный с боков, на верхнем гребне имеет киль из густых и длинных волос. У самого основания хвост перетянут, а в первой трети длины грушевидно утолщен. В утолщении расположены мускусные железы, сильно пахнущий маслянистый мускус, который выдавливается из многочисленных отверстий расположенных на нижней стороне утолщ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000" y="3715920"/>
            <a:ext cx="403848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лосяной покров очень густой, ровный, мягкий, шелковистый у здоровых зверьков ненамокающий. Живут выхухоли в поймах малых рек, наиболее благоприятны для их жизни замкнутые пойменные водоемы (типа стариц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Выхухоль"/>
          <p:cNvPicPr/>
          <p:nvPr/>
        </p:nvPicPr>
        <p:blipFill>
          <a:blip r:embed="rId4"/>
          <a:stretch/>
        </p:blipFill>
        <p:spPr>
          <a:xfrm>
            <a:off x="4680000" y="3124080"/>
            <a:ext cx="446400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Решите задачу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дание 1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сса тела выхухоли 520г, что в 130 раз больше, чем средняя продолжительность жизни выхухоли. Найдите, сколько лет живет выхухоль  при благоприятных условиях. Решите задачу уравнени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6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2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Стерх (белый журавль)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619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редкая и, по-видимому, исчезающая,  до последнего времени плохо изученная пти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ешний вид: цвет оперения белый, только первостепенные маховые и верхние кроющие черные, передняя часть головы лишена перьев и имеет красную расцветку; ноги черные, клюв буровато-красный, прямой, сильный; концы хвостовых перьев рассучены и пышным бугром прикрывают хво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Стерх"/>
          <p:cNvPicPr/>
          <p:nvPr/>
        </p:nvPicPr>
        <p:blipFill>
          <a:blip r:embed="rId3"/>
          <a:stretch/>
        </p:blipFill>
        <p:spPr>
          <a:xfrm>
            <a:off x="5556240" y="1557360"/>
            <a:ext cx="3019320" cy="4535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2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6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6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Решите уравн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993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ние 2. Решив следующие уравнения вы найде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мах крыльев стерха: 14 - у = 39 - 11у (в метра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с птицы:                                     (в кг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олько таких птиц встречается в Австрали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,4х + 3 = 0,2 (7х + 1) – 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755280" y="4292280"/>
            <a:ext cx="7859880" cy="24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ерхи гнездятся в Западной Сибири по нижней Оби, Северо-восточной Якутии, не так давно эта птица была широко распространена в Западной Сибири и Казахстане, бытует мнение, что стерхи искони северные птицы; в нашей области эти птицы встречаются очень редко, сейчас насчитывается менее 10 гнездо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5"/>
              <p:cNvSpPr txBox="1"/>
              <p:nvPr/>
            </p:nvSpPr>
            <p:spPr>
              <a:xfrm>
                <a:off x="2987640" y="2492280"/>
                <a:ext cx="2592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,2</m:t>
                        </m:r>
                        <m:r>
                          <m:t xml:space="preserve">−</m:t>
                        </m:r>
                        <m:r>
                          <m:t xml:space="preserve">0,9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8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8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оставьте уравнение и решите задачу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же в наших лесах обитают зайцы, лисы, волки, кабаны, лоси и т.д. Решим задачу, которую составил Артем Чесноков, она отображает количество этих животных в наших кра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дание 3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лесах Новгородской области водится в 12 раз больше лис, чем волков, а зайцев  2 раза больше чем волков и лис вместе. Количество кабанов и лосей примерно одинаково и вместе составляет 1/3 от числа лис. Сколько в наших лесах водится особей каждого вида, если всего животных 21500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85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3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амостоятельная работа - тест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вариан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берите из приведенных уравнений линейные: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). 5 : х = 45; б). у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2,5 = 7,8; в). 87р = 89;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).                д). Нет линейных уравнений  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йдите корень уравнения  </a:t>
            </a:r>
            <a:br>
              <a:rPr sz="14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х + 6 = 3х + 6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). 0;  б). бесконечно много решений; 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). </a:t>
            </a:r>
            <a:r>
              <a:rPr b="0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;   г). 6; д). нет решений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йдите корень уравнения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 (р-4) = 3р –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). 0;  б). бесконечно много решений; 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). </a:t>
            </a:r>
            <a:r>
              <a:rPr b="0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;   г). 6; д). нет решений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12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йдите корень уравн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+ 13 –7,5 = 6 (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3,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). 0;  б). бесконечно много решений; 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). </a:t>
            </a:r>
            <a:r>
              <a:rPr b="0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;   г). 6; д). нет решений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12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йдите корень уравнения: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       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). 0;  б). 5;  в). </a:t>
            </a:r>
            <a:r>
              <a:rPr b="0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;   г). 8; д). нет правильных решений. е). –5;  ж). –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2714760" y="5286240"/>
                <a:ext cx="14284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611280" y="2205000"/>
                <a:ext cx="6890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Rectangle 6"/>
          <p:cNvSpPr/>
          <p:nvPr/>
        </p:nvSpPr>
        <p:spPr>
          <a:xfrm>
            <a:off x="4572000" y="134136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вариан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берите из приведенных уравнений линейные: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). 56 : х = 4; б). 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= 89;  в). 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9,9 = 90;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). Нет линейных уравнений; г)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йдите корень уравнения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х + 24 = 7х + 6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). 0;  б). бесконечно много решений;  в). </a:t>
            </a:r>
            <a:r>
              <a:rPr b="0" lang="ru-RU" sz="16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   г). 6; д). нет решений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йдите корень уравнения</a:t>
            </a:r>
            <a:br>
              <a:rPr sz="14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 (р-4) = 3р – 3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br>
              <a:rPr sz="14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). 0;  б). бесконечно много решений;  в). </a:t>
            </a:r>
            <a:r>
              <a:rPr b="0" lang="ru-RU" sz="16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   г). 6; д). нет решений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12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йдите корень уравн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+ 1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7,7 = 7 (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1,1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). 0;  б). бесконечно много решений; 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). </a:t>
            </a:r>
            <a:r>
              <a:rPr b="0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;   г). 6; д). нет решений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12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йдите корень уравнения: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       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). 0;  б). 5;  в). </a:t>
            </a:r>
            <a:r>
              <a:rPr b="0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;   г). 8; д). нет правильных решений. е). –5;  ж). –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8244000" y="2276640"/>
                <a:ext cx="6890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7572240" y="5010120"/>
                <a:ext cx="13575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Line 11"/>
          <p:cNvSpPr/>
          <p:nvPr/>
        </p:nvSpPr>
        <p:spPr>
          <a:xfrm>
            <a:off x="4427640" y="1484280"/>
            <a:ext cx="0" cy="5113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04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000"/>
                            </p:stCondLst>
                            <p:childTnLst>
                              <p:par>
                                <p:cTn id="3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7000"/>
                            </p:stCondLst>
                            <p:childTnLst>
                              <p:par>
                                <p:cTn id="3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8:58:53Z</dcterms:created>
  <dc:creator>Татьяна</dc:creator>
  <dc:description/>
  <dc:language>en-US</dc:language>
  <cp:lastModifiedBy>tbystrova</cp:lastModifiedBy>
  <dcterms:modified xsi:type="dcterms:W3CDTF">2010-10-04T10:43:16Z</dcterms:modified>
  <cp:revision>123</cp:revision>
  <dc:subject/>
  <dc:title>Устный счет</dc:title>
</cp:coreProperties>
</file>