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63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019160" y="721800"/>
            <a:ext cx="4819680" cy="361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9153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9153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D319-B06B-4CBD-A09A-A242688175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D4A0-F211-431C-9595-6797B71DE0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A9CE-ABC8-4EC5-9FDA-FD220B872F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CD5A-1809-4340-B95E-C189E7504A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200-E50B-4EA8-9E5B-FB91A149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74F-9588-4DCE-AD62-09052656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5E8-115D-4904-9732-15AE4376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2FA-83D3-4146-92E2-144E1F04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A375-AE3D-4324-9138-412A31F3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CAB9-6565-487D-A89F-B4905551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042A-A8BA-427C-B4B6-F5BFC6E0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CE80-CF3A-45B0-BA02-6A1BF18E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ACF0-E8C4-4BEF-BBF4-7715B05C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CFE3-8089-4BC3-B45A-5CCAC762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182B-EDD0-44F5-A4CC-FB6606A6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D70-2D41-4589-B7F5-885EAA1A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693B-7A35-4991-91A9-C069E622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F179-C061-41B9-B42D-1E1E2F72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82CE-95B7-441E-99F7-C0DCFBDA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F9D2-7583-4502-8E4C-1F3A4278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DBFF-F628-435E-AC45-E4CD4C5E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E23-1CFA-4E10-8D71-BB3AE494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AA4-B348-451B-86DE-B177D692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9FF-8E4A-4C91-B6F5-8E9948F9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CC1-FF59-4A78-904F-CAF69EEE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36A-8202-4B4F-827F-C064E2D9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343-4113-4B83-9D72-0FBCE435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BECE-593B-4356-A965-8D2ABF0E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E12F-F549-441A-AA8C-2BF243A5D95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6ECC-22EF-48B2-B908-9D3084FFD96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c06.deviantart.net/fs45/f/2009/139/d/7/Good_vs_Evil_by_shlomit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lt.ru/uploads/2010/09/8d07c61fd264d5297a011ac4a7f7c776_x1024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hyperlink" Target="http://www.livebase.ru/uploads/images/4/b3cabfacdd.jpg" TargetMode="External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1EF4-36E3-439C-AECE-D8272E3F802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Мы очень разные, но мы вместе</a:t>
            </a:r>
            <a:endParaRPr b="1" lang="en-US" sz="9600" spc="-1" strike="noStrike">
              <a:solidFill>
                <a:srgbClr val="dcf1f4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F657-4C06-4B6F-9F39-C93891F9F66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905120" y="5516640"/>
            <a:ext cx="501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ветлое пятно – добро, темное пятно - зл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04920" y="152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 каждом из нас есть светла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 темная сторо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8" descr="http://fc06.deviantart.net/fs45/f/2009/139/d/7/Good_vs_Evil_by_shlomi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1219320"/>
            <a:ext cx="5245200" cy="44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EBD1-2C92-4E28-A4B4-DF836034221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2" name="Group 7"/>
          <p:cNvGrpSpPr/>
          <p:nvPr/>
        </p:nvGrpSpPr>
        <p:grpSpPr>
          <a:xfrm>
            <a:off x="838080" y="304920"/>
            <a:ext cx="7578720" cy="6067800"/>
            <a:chOff x="838080" y="304920"/>
            <a:chExt cx="7578720" cy="6067800"/>
          </a:xfrm>
        </p:grpSpPr>
        <p:pic>
          <p:nvPicPr>
            <p:cNvPr id="153" name="Picture 4" descr="Изображение 017"/>
            <p:cNvPicPr/>
            <p:nvPr/>
          </p:nvPicPr>
          <p:blipFill>
            <a:blip r:embed="rId1"/>
            <a:srcRect l="2011" t="3689" r="3271" b="5368"/>
            <a:stretch/>
          </p:blipFill>
          <p:spPr>
            <a:xfrm>
              <a:off x="838080" y="304920"/>
              <a:ext cx="7578720" cy="54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5"/>
            <p:cNvSpPr/>
            <p:nvPr/>
          </p:nvSpPr>
          <p:spPr>
            <a:xfrm>
              <a:off x="1066680" y="579132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Один сажает цветы, другой - их рвет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949B-8F10-4E6D-B09A-66774B48B9B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95280" y="59436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Добро помни, а зло забыва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7" descr="http://img-fotki.yandex.ru/get/4301/svlinkevich.6a/0_49197_a06069f_L"/>
          <p:cNvPicPr/>
          <p:nvPr/>
        </p:nvPicPr>
        <p:blipFill>
          <a:blip r:embed="rId1"/>
          <a:stretch/>
        </p:blipFill>
        <p:spPr>
          <a:xfrm>
            <a:off x="609480" y="609480"/>
            <a:ext cx="8355240" cy="50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14E6-7FF7-460B-A52E-0EDABF6CA7D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Times New Roman"/>
              </a:rPr>
              <a:t>«Чтобы поверить  в добро, надо начать его делать».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Times New Roman"/>
              </a:rPr>
              <a:t>Л. Толстой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7F5C-5405-4D35-BDC6-A5DFF50A2D6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762120" y="53341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Внимание к старшим – проявление добро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7" descr="http://image.subscribe.ru/group/uploads/po/pozitiv/image/I5OGZlZDU.jpg"/>
          <p:cNvPicPr/>
          <p:nvPr/>
        </p:nvPicPr>
        <p:blipFill>
          <a:blip r:embed="rId1"/>
          <a:stretch/>
        </p:blipFill>
        <p:spPr>
          <a:xfrm>
            <a:off x="1143000" y="152280"/>
            <a:ext cx="6858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7B5A-3DFB-4865-A1FE-DC913016FD1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533520" y="533520"/>
            <a:ext cx="8001000" cy="5839200"/>
            <a:chOff x="533520" y="533520"/>
            <a:chExt cx="8001000" cy="5839200"/>
          </a:xfrm>
        </p:grpSpPr>
        <p:pic>
          <p:nvPicPr>
            <p:cNvPr id="165" name="Picture 4" descr="Мы разные но мы помогаем друг другу"/>
            <p:cNvPicPr/>
            <p:nvPr/>
          </p:nvPicPr>
          <p:blipFill>
            <a:blip r:embed="rId1"/>
            <a:srcRect l="0" t="0" r="0" b="14073"/>
            <a:stretch/>
          </p:blipFill>
          <p:spPr>
            <a:xfrm>
              <a:off x="533520" y="533520"/>
              <a:ext cx="8001000" cy="5170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6" name="Text Box 5"/>
            <p:cNvSpPr/>
            <p:nvPr/>
          </p:nvSpPr>
          <p:spPr>
            <a:xfrm>
              <a:off x="685800" y="579132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Мы разные, но мы помогаем друг другу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3BD1-863D-4F7D-842C-E7969890CE6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572000" y="838080"/>
            <a:ext cx="434340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Ты здоров и силен, а рядом есть больные, инвалиды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Им не нужна твоя жалость, им нужна твоя дружба, помощ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6" descr="Картинка 2 из 95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1120" y="990720"/>
            <a:ext cx="454536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07D6-2965-44ED-8E84-A44EDA3D85C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</a:rPr>
              <a:t>Сделав добро, человек сам становится лучше, чище, светлее. Если мы будем внимательны к любому человеку, с кем мы общаемся, это и будет проявление доброты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7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ADBC-5564-438D-9B28-644A745B9D1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imes New Roman"/>
              </a:rPr>
              <a:t>Человек должен стремиться к тому, чтобы изменить себя в лучшую сторону, жить в мире с собой и миром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CAA1-5C0E-4F55-AB29-214AFF7FDBB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914400" y="380880"/>
            <a:ext cx="7467480" cy="6053040"/>
            <a:chOff x="914400" y="380880"/>
            <a:chExt cx="7467480" cy="6053040"/>
          </a:xfrm>
        </p:grpSpPr>
        <p:pic>
          <p:nvPicPr>
            <p:cNvPr id="176" name="Picture 4" descr="Цените людей"/>
            <p:cNvPicPr/>
            <p:nvPr/>
          </p:nvPicPr>
          <p:blipFill>
            <a:blip r:embed="rId1"/>
            <a:srcRect l="6890" t="4215" r="6890" b="4215"/>
            <a:stretch/>
          </p:blipFill>
          <p:spPr>
            <a:xfrm>
              <a:off x="2438280" y="380880"/>
              <a:ext cx="4641840" cy="554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5"/>
            <p:cNvSpPr/>
            <p:nvPr/>
          </p:nvSpPr>
          <p:spPr>
            <a:xfrm>
              <a:off x="914400" y="5791320"/>
              <a:ext cx="746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Не оценивайте людей, а цените их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8674-688B-4B30-9449-548461C7D05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6" descr="E:\КСЮХА\документы\еееееееееееееееее.jpeg"/>
          <p:cNvPicPr/>
          <p:nvPr/>
        </p:nvPicPr>
        <p:blipFill>
          <a:blip r:embed="rId1"/>
          <a:stretch/>
        </p:blipFill>
        <p:spPr>
          <a:xfrm>
            <a:off x="1447920" y="685800"/>
            <a:ext cx="679284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02DC-0B40-4236-B050-606DFABF4C3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762120" y="1219320"/>
            <a:ext cx="7391160" cy="54864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WordArt 6"/>
          <p:cNvSpPr txBox="1"/>
          <p:nvPr/>
        </p:nvSpPr>
        <p:spPr>
          <a:xfrm rot="20383200">
            <a:off x="1142640" y="1752480"/>
            <a:ext cx="1986120" cy="90720"/>
          </a:xfrm>
          <a:prstGeom prst="rect">
            <a:avLst/>
          </a:prstGeom>
        </p:spPr>
        <p:txBody>
          <a:bodyPr wrap="none" fromWordArt="1" lIns="90000" rIns="90000" tIns="44280" bIns="44280" anchor="t" anchorCtr="1">
            <a:prstTxWarp prst="textArchUp">
              <a:avLst>
                <a:gd name="adj" fmla="val 10800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Times New Roman"/>
              </a:rPr>
              <a:t>Друж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Times New Roman"/>
              <a:ea typeface="Times New Roman"/>
            </a:endParaRPr>
          </a:p>
        </p:txBody>
      </p:sp>
      <p:sp>
        <p:nvSpPr>
          <p:cNvPr id="181" name="WordArt 7"/>
          <p:cNvSpPr txBox="1"/>
          <p:nvPr/>
        </p:nvSpPr>
        <p:spPr>
          <a:xfrm rot="712200">
            <a:off x="5334120" y="1752480"/>
            <a:ext cx="2028600" cy="23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Добр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8"/>
          <p:cNvSpPr txBox="1"/>
          <p:nvPr/>
        </p:nvSpPr>
        <p:spPr>
          <a:xfrm>
            <a:off x="2895480" y="3581280"/>
            <a:ext cx="3114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ерпимос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WordArt 9"/>
          <p:cNvSpPr txBox="1"/>
          <p:nvPr/>
        </p:nvSpPr>
        <p:spPr>
          <a:xfrm>
            <a:off x="3429000" y="2514600"/>
            <a:ext cx="15336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Любов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84" name="WordArt 10"/>
          <p:cNvSpPr txBox="1"/>
          <p:nvPr/>
        </p:nvSpPr>
        <p:spPr>
          <a:xfrm rot="20013600">
            <a:off x="1523880" y="2514240"/>
            <a:ext cx="2303640" cy="41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Неж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11"/>
          <p:cNvSpPr txBox="1"/>
          <p:nvPr/>
        </p:nvSpPr>
        <p:spPr>
          <a:xfrm rot="1171200">
            <a:off x="4952880" y="2514240"/>
            <a:ext cx="2432160" cy="912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Милосерд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186" name="WordArt 12"/>
          <p:cNvSpPr txBox="1"/>
          <p:nvPr/>
        </p:nvSpPr>
        <p:spPr>
          <a:xfrm rot="19956600">
            <a:off x="4267080" y="4419720"/>
            <a:ext cx="232416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32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Душев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87" name="WordArt 13"/>
          <p:cNvSpPr txBox="1"/>
          <p:nvPr/>
        </p:nvSpPr>
        <p:spPr>
          <a:xfrm rot="1643400">
            <a:off x="2743200" y="4952880"/>
            <a:ext cx="243828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4407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Искрен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380880" y="152280"/>
            <a:ext cx="8229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Пусть твое сердце наполняют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1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1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9" dur="1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1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1" dur="1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1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1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3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1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469E-F4D3-45E8-A16C-DB43F863976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1349"/>
              </a:spcBef>
              <a:buClr>
                <a:srgbClr val="0033cc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страдани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чувстви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действи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знани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единени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09480" y="304920"/>
            <a:ext cx="815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28600" y="152280"/>
            <a:ext cx="8686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Пусть тебе всегда сопутствуют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62F7-520F-4670-806D-9429726CC9E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4" name="Group 7"/>
          <p:cNvGrpSpPr/>
          <p:nvPr/>
        </p:nvGrpSpPr>
        <p:grpSpPr>
          <a:xfrm>
            <a:off x="1066680" y="380880"/>
            <a:ext cx="6934320" cy="5976720"/>
            <a:chOff x="1066680" y="380880"/>
            <a:chExt cx="6934320" cy="5976720"/>
          </a:xfrm>
        </p:grpSpPr>
        <p:pic>
          <p:nvPicPr>
            <p:cNvPr id="195" name="Picture 4" descr="Ты нам нужен"/>
            <p:cNvPicPr/>
            <p:nvPr/>
          </p:nvPicPr>
          <p:blipFill>
            <a:blip r:embed="rId1"/>
            <a:stretch/>
          </p:blipFill>
          <p:spPr>
            <a:xfrm>
              <a:off x="2262240" y="380880"/>
              <a:ext cx="4413240" cy="52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5"/>
            <p:cNvSpPr/>
            <p:nvPr/>
          </p:nvSpPr>
          <p:spPr>
            <a:xfrm>
              <a:off x="1066680" y="5715000"/>
              <a:ext cx="693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Мы очень разные, но мы вместе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2397-8A31-449E-B622-90A9229C005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200" spc="-1" strike="noStrike">
                <a:solidFill>
                  <a:srgbClr val="cc3300"/>
                </a:solidFill>
                <a:latin typeface="Times New Roman"/>
              </a:rPr>
              <a:t>Что же такое толерантность? </a:t>
            </a:r>
            <a:endParaRPr b="0" lang="en-US" sz="8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F114-E68C-457E-B75D-88DD1850C47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 русском языке “толерантность” означает “способность, умение терпеть, мириться с чужим мнением, быть снисходительным к поступкам других людей, мягко относиться к их промахам, ошибкам”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Толерантность-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16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Garamond"/>
              </a:rPr>
              <a:t>это терпимость, стремление и способность к установлению и поддержанию общности с людьми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D7EC-7FAE-4F01-90F2-0B41F3FA9C0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3" descr="E:\КСЮХА\документы\dgbgbgb.jpeg"/>
          <p:cNvPicPr/>
          <p:nvPr/>
        </p:nvPicPr>
        <p:blipFill>
          <a:blip r:embed="rId1"/>
          <a:stretch/>
        </p:blipFill>
        <p:spPr>
          <a:xfrm>
            <a:off x="3505320" y="3429000"/>
            <a:ext cx="28191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BE8C-C644-438F-BAFC-3695649E14C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1447920" y="1143000"/>
            <a:ext cx="541008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aramond"/>
              </a:rPr>
              <a:t>Толерантность</a:t>
            </a:r>
            <a:r>
              <a:rPr b="0" lang="ru-RU" sz="2400" spc="-1" strike="noStrike">
                <a:solidFill>
                  <a:srgbClr val="0033cc"/>
                </a:solidFill>
                <a:latin typeface="Garamond"/>
              </a:rPr>
              <a:t> - трудное и редкое достижение по той простой причине, что фундаментом сообщества является родовое сознание. Мы объединяемся с теми, у кого такие же интересы либо такое же происхождение. Мы склонны враждебно или со страхом относиться к «другим» - тем, кто от нас отличается. Различие может иметь место на любом уровне биологической, культурной или политической реаль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1523880" y="457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Garamond"/>
              </a:rPr>
              <a:t>Толерантность – гармония в многообраз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Picture 4" descr="93541_380"/>
          <p:cNvPicPr/>
          <p:nvPr/>
        </p:nvPicPr>
        <p:blipFill>
          <a:blip r:embed="rId1"/>
          <a:stretch/>
        </p:blipFill>
        <p:spPr>
          <a:xfrm>
            <a:off x="6477120" y="304920"/>
            <a:ext cx="20415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2CCA-C7CF-4F3C-84F7-6ADF2A85E1C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10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11" name="Group 86"/>
          <p:cNvGrpSpPr/>
          <p:nvPr/>
        </p:nvGrpSpPr>
        <p:grpSpPr>
          <a:xfrm>
            <a:off x="533520" y="1143000"/>
            <a:ext cx="8001000" cy="5563800"/>
            <a:chOff x="533520" y="1143000"/>
            <a:chExt cx="8001000" cy="5563800"/>
          </a:xfrm>
        </p:grpSpPr>
        <p:sp>
          <p:nvSpPr>
            <p:cNvPr id="212" name="AutoShape 72"/>
            <p:cNvSpPr/>
            <p:nvPr/>
          </p:nvSpPr>
          <p:spPr>
            <a:xfrm>
              <a:off x="533520" y="1295280"/>
              <a:ext cx="7391160" cy="525888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Text Box 74"/>
            <p:cNvSpPr/>
            <p:nvPr/>
          </p:nvSpPr>
          <p:spPr>
            <a:xfrm>
              <a:off x="2666880" y="3353040"/>
              <a:ext cx="373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cc"/>
                  </a:solidFill>
                  <a:latin typeface="Times New Roman"/>
                </a:rPr>
                <a:t>Толерантность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Text Box 75"/>
            <p:cNvSpPr/>
            <p:nvPr/>
          </p:nvSpPr>
          <p:spPr>
            <a:xfrm>
              <a:off x="3962520" y="1295280"/>
              <a:ext cx="1143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Text Box 77"/>
            <p:cNvSpPr/>
            <p:nvPr/>
          </p:nvSpPr>
          <p:spPr>
            <a:xfrm flipV="1" rot="5400000">
              <a:off x="3521160" y="165996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Прощение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Text Box 78"/>
            <p:cNvSpPr/>
            <p:nvPr/>
          </p:nvSpPr>
          <p:spPr>
            <a:xfrm rot="5400000">
              <a:off x="3519360" y="5851440"/>
              <a:ext cx="13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Милосердие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7" name="Text Box 79"/>
            <p:cNvSpPr/>
            <p:nvPr/>
          </p:nvSpPr>
          <p:spPr>
            <a:xfrm>
              <a:off x="838080" y="37342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страдание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8" name="Text Box 80"/>
            <p:cNvSpPr/>
            <p:nvPr/>
          </p:nvSpPr>
          <p:spPr>
            <a:xfrm rot="2105400">
              <a:off x="1523520" y="236196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Терпимость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9" name="Text Box 81"/>
            <p:cNvSpPr/>
            <p:nvPr/>
          </p:nvSpPr>
          <p:spPr>
            <a:xfrm rot="19110600">
              <a:off x="5486400" y="2285640"/>
              <a:ext cx="15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Times New Roman"/>
                </a:rPr>
                <a:t>Сочувствие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0" name="Text Box 82"/>
            <p:cNvSpPr/>
            <p:nvPr/>
          </p:nvSpPr>
          <p:spPr>
            <a:xfrm rot="2068800">
              <a:off x="5645880" y="52596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Times New Roman"/>
                </a:rPr>
                <a:t>Уважение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1" name="Text Box 83"/>
            <p:cNvSpPr/>
            <p:nvPr/>
          </p:nvSpPr>
          <p:spPr>
            <a:xfrm rot="19128600">
              <a:off x="1209600" y="51850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действие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2" name="Text Box 84"/>
            <p:cNvSpPr/>
            <p:nvPr/>
          </p:nvSpPr>
          <p:spPr>
            <a:xfrm>
              <a:off x="6324480" y="365796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Times New Roman"/>
                </a:rPr>
                <a:t>Взаимопонимание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3" name="Text Box 85"/>
          <p:cNvSpPr/>
          <p:nvPr/>
        </p:nvSpPr>
        <p:spPr>
          <a:xfrm>
            <a:off x="609480" y="1522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Толерантность это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373A-F359-4B98-B8AC-1595E88C136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равила толерантного общения</a:t>
            </a:r>
            <a:endParaRPr b="1" lang="en-US" sz="5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Уважай собеседни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Старайся понять то, о чем говорят друг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Отстаивай свое мнение тактичн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Ищи лучшие аргумент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Будь справедливым, готовым признать правоту другог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Стремись учитывать интересы други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0C81-3B4E-4B5F-B608-3C5F210BBD0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Наша школа, каждый класс - это маленькая семья. И хочется, чтобы в нашей семье всегда царили доброта, уважение, взаимопонимани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Garamond"/>
              </a:rPr>
              <a:t>ЮНЕСКО и толерантность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Согласно Декларации принципов толерантности, принятой Генеральной конференцией ЮНЕСКО (1995), «толерантность означает 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..., это гармония в многообразии, это добродетель, которая делает возможным достижение мира и способствует замене культуры войны культурой мира...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DA65-C365-4B90-872F-154987724F5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2" descr="E:\КСЮХА\документы\hgnghn.jpeg"/>
          <p:cNvPicPr/>
          <p:nvPr/>
        </p:nvPicPr>
        <p:blipFill>
          <a:blip r:embed="rId1"/>
          <a:stretch/>
        </p:blipFill>
        <p:spPr>
          <a:xfrm>
            <a:off x="685800" y="1752480"/>
            <a:ext cx="40100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Вывод.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340000" y="148428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 </a:t>
            </a: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1. Относись к окружающим с уважение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   </a:t>
            </a: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2. Никогда не думай, что твое мнение важнее     мнения другого челове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   </a:t>
            </a: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3. Не суди о ценностях других, отталкиваясь от своих собственны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   </a:t>
            </a: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4. Не навязывай свое мнение други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   </a:t>
            </a: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5. Никогда не думай, что твоя религия в чем-то превосходит другую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   </a:t>
            </a: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6. Помни, что каждый волен выбирать свой имидж и стиль, свои привычки и пристраст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   </a:t>
            </a: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7. Умей видеть ценность и самобытность культуры каждой н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       </a:t>
            </a:r>
            <a:r>
              <a:rPr b="1" i="1" lang="ru-RU" sz="2000" spc="-1" strike="noStrike">
                <a:solidFill>
                  <a:srgbClr val="0033cc"/>
                </a:solidFill>
                <a:latin typeface="Garamond"/>
              </a:rPr>
              <a:t>Помни, что мнение одного человека не может быть единственно верным.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Picture 7" descr="Картинка 1 из 454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0880" y="1071720"/>
            <a:ext cx="2322720" cy="2809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Garamond"/>
              </a:rPr>
              <a:t>Толерантность в картинках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3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693A-3F48-4628-9787-40AAE42564D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Picture 3" descr="E:\КСЮХА\документы\еееееееее.jpeg"/>
          <p:cNvPicPr/>
          <p:nvPr/>
        </p:nvPicPr>
        <p:blipFill>
          <a:blip r:embed="rId1"/>
          <a:stretch/>
        </p:blipFill>
        <p:spPr>
          <a:xfrm>
            <a:off x="714240" y="1928880"/>
            <a:ext cx="1714680" cy="1890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E:\КСЮХА\документы\тптпрт.jpeg"/>
          <p:cNvPicPr/>
          <p:nvPr/>
        </p:nvPicPr>
        <p:blipFill>
          <a:blip r:embed="rId2"/>
          <a:stretch/>
        </p:blipFill>
        <p:spPr>
          <a:xfrm>
            <a:off x="2857680" y="1928880"/>
            <a:ext cx="2714400" cy="2027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E:\КСЮХА\документы\fgbgg.jpeg"/>
          <p:cNvPicPr/>
          <p:nvPr/>
        </p:nvPicPr>
        <p:blipFill>
          <a:blip r:embed="rId3"/>
          <a:stretch/>
        </p:blipFill>
        <p:spPr>
          <a:xfrm>
            <a:off x="5857920" y="1928880"/>
            <a:ext cx="2967120" cy="1971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E:\КСЮХА\документы\еееееееееееееееее.jpeg"/>
          <p:cNvPicPr/>
          <p:nvPr/>
        </p:nvPicPr>
        <p:blipFill>
          <a:blip r:embed="rId4"/>
          <a:stretch/>
        </p:blipFill>
        <p:spPr>
          <a:xfrm>
            <a:off x="0" y="4214880"/>
            <a:ext cx="2786040" cy="2103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E:\КСЮХА\документы\ар.jpeg"/>
          <p:cNvPicPr/>
          <p:nvPr/>
        </p:nvPicPr>
        <p:blipFill>
          <a:blip r:embed="rId5"/>
          <a:stretch/>
        </p:blipFill>
        <p:spPr>
          <a:xfrm>
            <a:off x="3071880" y="4286160"/>
            <a:ext cx="2643120" cy="1903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E:\КСЮХА\документы\птпрт.jpeg"/>
          <p:cNvPicPr/>
          <p:nvPr/>
        </p:nvPicPr>
        <p:blipFill>
          <a:blip r:embed="rId6"/>
          <a:stretch/>
        </p:blipFill>
        <p:spPr>
          <a:xfrm>
            <a:off x="6072120" y="4214880"/>
            <a:ext cx="28339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B9A1-6192-4356-BBC4-50442FB2EEC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Times New Roman"/>
              </a:rPr>
              <a:t>Нас объединяет то, что</a:t>
            </a:r>
            <a:endParaRPr b="1" lang="en-US" sz="60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Все мы люд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Живем на одной планет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Живем в одном городе, республик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Учимся в одной школе, в одном класс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Живем на одних улица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Носим одну одежду, очк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анимаемся одним дел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Похожи глаза, волос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3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3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9078-AF19-4F91-B400-BAB758FA3C0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914400" y="4572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Garamond"/>
              </a:rPr>
              <a:t>         </a:t>
            </a:r>
            <a:r>
              <a:rPr b="0" lang="ru-RU" sz="5400" spc="-1" strike="noStrike">
                <a:solidFill>
                  <a:srgbClr val="0033cc"/>
                </a:solidFill>
                <a:latin typeface="Garamond"/>
              </a:rPr>
              <a:t>Другие люди…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2" descr="E:\КСЮХА\документы\ghg.jpeg"/>
          <p:cNvPicPr/>
          <p:nvPr/>
        </p:nvPicPr>
        <p:blipFill>
          <a:blip r:embed="rId1"/>
          <a:stretch/>
        </p:blipFill>
        <p:spPr>
          <a:xfrm>
            <a:off x="762120" y="1676520"/>
            <a:ext cx="3001680" cy="2666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E:\КСЮХА\документы\iеее.jpeg"/>
          <p:cNvPicPr/>
          <p:nvPr/>
        </p:nvPicPr>
        <p:blipFill>
          <a:blip r:embed="rId2"/>
          <a:stretch/>
        </p:blipFill>
        <p:spPr>
          <a:xfrm>
            <a:off x="4800600" y="3124080"/>
            <a:ext cx="3948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5E4E-BA2A-4902-9023-24C3410AF18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Garamond"/>
              </a:rPr>
              <a:t>Нас различает</a:t>
            </a:r>
            <a:endParaRPr b="1" lang="en-US" sz="72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Ро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Цвет волос и гла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Одеж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Знан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циональност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Фигу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Возраст (старые и молодые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Характе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Культу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DE49-AEA4-4743-B4CA-5FFE27D0E02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Не толерантно!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04920" y="533520"/>
            <a:ext cx="4513320" cy="5486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4876920" y="609480"/>
            <a:ext cx="358128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Мы разные, но должны жить в мире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е толерантно доказывать свое право на разность подобным образо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9417-CF42-4562-BFC5-42A18DD78D3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Различия дополняют и обогащают общество. Чтобы жить в мире, людям надо научиться жить, решая проблемы и задачи на основе сотрудничеств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496A-93E0-4CD8-B71F-A97FEADEEB9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Этому способствуют человеческие качества:</a:t>
            </a:r>
            <a:endParaRPr b="1" lang="en-US" sz="48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cc"/>
                </a:solidFill>
                <a:latin typeface="Times New Roman"/>
              </a:rPr>
              <a:t>взаимопонимание, взаимоуважение, ответственность, доброжелательность, сдержанность, уступчивость, 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cc"/>
                </a:solidFill>
                <a:latin typeface="Times New Roman"/>
              </a:rPr>
              <a:t>терпимость… 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монова Н.И.</dc:creator>
  <dc:description/>
  <dc:language>en-US</dc:language>
  <cp:lastModifiedBy>ширяев</cp:lastModifiedBy>
  <dcterms:modified xsi:type="dcterms:W3CDTF">2017-11-15T14:50:22Z</dcterms:modified>
  <cp:revision>356</cp:revision>
  <dc:subject>Толерантность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