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F73-D6D0-4F85-B441-316CE71B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4C0-AD1E-4AFB-BB35-17C48CB1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31D-FC1C-4A93-B631-EA8FA468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F71-F4C0-421F-BEA5-CCF2AEA6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CF1F-58E8-44FD-B66B-675ECDB6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5F6B-A714-49E5-9364-475CE7A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F24-BFDF-4FB2-9D72-29609DA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9739-84D2-4279-852B-55271516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B041-6CD9-4D1A-96DC-2E188CD7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1885-E640-43D7-9027-596C2BDA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E661-E9D0-4DB5-AFE6-A90107B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5B1-93A9-47CF-BEC1-6D3E1DDF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6250-0651-47A2-A45D-12A2632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8901-555A-41CB-A8E7-DB8659E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27E9-5F9E-46E9-9F3B-19715174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AE89-900C-49FF-A9F0-8D03A5B3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AC0E-50CA-4815-8BAF-CB6615A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BE1-A25C-4D16-AEF6-05687839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645-5022-4337-9B4A-7AC1E5F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823-CE34-453F-A5FD-9B2C94E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D82-43A8-4EBD-BE01-08CA8EB8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0DC-4A41-44E4-BF3C-ECF889B7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767-7EE2-4A3A-B3E4-1BB559C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341-509C-458F-B5D2-E7A9D730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115-B475-4401-8026-99E0FE3A11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342-63CA-476A-ABE7-65BB36F59B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 Black"/>
              </a:rPr>
              <a:t>Луч и угол</a:t>
            </a:r>
            <a:endParaRPr b="0" lang="en-US" sz="4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21264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2,3 П3,4,5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11, 13, 14, 71, 7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6960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Луч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651640" y="1046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3056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411280" y="816120"/>
            <a:ext cx="3382920" cy="60480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5292720" y="909360"/>
            <a:ext cx="3384720" cy="143964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274920" y="94464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948360" y="160020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724360" y="1384200"/>
            <a:ext cx="7164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804000" y="1263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403280" y="3213000"/>
            <a:ext cx="774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уч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ометрическая фигура, часть прямой, имеющая начало, но не имеющая ко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шут луч: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A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ополнительные луч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дополняют друг друга до прямой (точка разбивает пряму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219640" y="1911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388360" y="982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332000" y="1563840"/>
            <a:ext cx="3024000" cy="172872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V="1">
            <a:off x="1476360" y="1707840"/>
            <a:ext cx="3024360" cy="143964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476360" y="134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4140360" y="2860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332000" y="27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068720" y="1420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728800" y="2068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4859280" y="2600280"/>
            <a:ext cx="3382920" cy="60480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2"/>
          <p:cNvSpPr/>
          <p:nvPr/>
        </p:nvSpPr>
        <p:spPr>
          <a:xfrm>
            <a:off x="4844880" y="256392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774072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Black"/>
              </a:rPr>
              <a:t>Определение луча в словаре</a:t>
            </a:r>
            <a:endParaRPr b="0" lang="en-US" sz="36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557000"/>
            <a:ext cx="7696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уч или замкнутая полупрям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совокупность точек прямой лежащих по одну сторону от некоторой точки этой прямой, если сама эта точка (граница полупрямой) причисляется к этой полупря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атематическая энциклопе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66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Продолжи фразу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ая точка делит прямую на … части. Каждая такая часть называе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 обозначае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луч можно обозначить …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уч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зывае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точки луча АВ расположены по … от точки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анном чертеже изображено … луч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1690560" y="3500280"/>
            <a:ext cx="5400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1619280" y="3684600"/>
            <a:ext cx="7128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3564000" y="3603600"/>
            <a:ext cx="7128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474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49092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5167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1474920" y="6021360"/>
            <a:ext cx="5400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1403280" y="620568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348000" y="612468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630072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2411280" y="6165720"/>
            <a:ext cx="7164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4859280" y="6060960"/>
            <a:ext cx="7164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332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2268360" y="6308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20364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859280" y="61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15776400">
            <a:off x="4882320" y="-2057040"/>
            <a:ext cx="4054680" cy="78598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Угол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3357360"/>
            <a:ext cx="769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гол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метрическая фигура, образованная двумя лучами исходящими из одной точки. Данная точка называется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ершиной угл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лучи –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торонами угл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FG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ршина в цент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k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роны у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25644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77164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910120" y="749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184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нутренняя область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979640" y="1341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нешняя область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V="1">
            <a:off x="2987640" y="980640"/>
            <a:ext cx="3529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987640" y="2349360"/>
            <a:ext cx="374508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2973240" y="230508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30072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630072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Black"/>
              </a:rPr>
              <a:t>Ответьте на вопросы по чертежу</a:t>
            </a:r>
            <a:endParaRPr b="0" lang="en-US" sz="36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2340000" y="2421000"/>
            <a:ext cx="3672000" cy="22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1332000" y="2852640"/>
            <a:ext cx="5832360" cy="20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5076720" y="2924280"/>
            <a:ext cx="1798920" cy="33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3794040" y="371628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5076720" y="292428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2627280" y="328464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5076720" y="293832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627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40328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56400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484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485928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79600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94036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702000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87708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3851280" y="4941720"/>
            <a:ext cx="7128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0"/>
          <p:cNvSpPr/>
          <p:nvPr/>
        </p:nvSpPr>
        <p:spPr>
          <a:xfrm>
            <a:off x="6877080" y="3573360"/>
            <a:ext cx="7128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1"/>
          <p:cNvSpPr/>
          <p:nvPr/>
        </p:nvSpPr>
        <p:spPr>
          <a:xfrm>
            <a:off x="3635280" y="234936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2"/>
          <p:cNvSpPr/>
          <p:nvPr/>
        </p:nvSpPr>
        <p:spPr>
          <a:xfrm>
            <a:off x="6227640" y="220500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3708360" y="2054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3708360" y="4575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66596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6156360" y="18381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Решите №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1623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067280" y="2276640"/>
            <a:ext cx="1623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0:22:18Z</dcterms:created>
  <dc:creator>user</dc:creator>
  <dc:description/>
  <cp:keywords/>
  <dc:language>en-US</dc:language>
  <cp:lastModifiedBy>tbystrova</cp:lastModifiedBy>
  <dcterms:modified xsi:type="dcterms:W3CDTF">2010-09-14T11:20:51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