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E9C-FE3B-4ADF-9077-A4A8DAE0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233-3799-459C-9410-8C1752A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8B8-30E3-4DC7-8DD9-FEF9D10D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91D-6C81-4AC9-A2AA-9928AA35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6EA7-2F30-4537-A6E4-8883264B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8523-A62B-470D-BECB-DF249DD9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66DF-9EC7-4355-A156-99308617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72D6-74A2-40AD-80AE-96D305AA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F280-48F1-46B0-8487-29531BB3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B22-EF79-46EA-9A34-4E6C2B02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1FBE-379A-45C1-BD63-2B944AE9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9D5-873A-4773-8513-892DEADE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CC54-7952-4263-90F3-958D6397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98B-70F6-4584-8D5C-3A5F6938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CFC0-46CF-4C6C-9344-CCA37927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6E11-8BB3-457A-B03B-2670476D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CBA1-709E-4EFE-B4AF-9D3261D2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B141-A400-4496-8A2C-EDC27073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3D2-DDCE-4403-A7C3-1B5F468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60B-8092-43CC-B332-2ABCAF8F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123-10F4-49A9-8B78-8FEDEB4A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5DC-5768-41E1-A521-EE71ED89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D98-8BBA-410B-B76A-4DF50D88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AC1-8A6F-4A75-B85B-461D4E9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C66E-240C-4018-83AE-890B8635BF6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816A-A189-4DE0-8A6F-3CB27A33725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 Black"/>
              </a:rPr>
              <a:t>Луч и угол</a:t>
            </a:r>
            <a:endParaRPr b="0" lang="en-US" sz="4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212640"/>
            <a:ext cx="64008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2,3 П3,4,5,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№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11, 13, 14, 71, 7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69608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Луч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651640" y="1046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13056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2411280" y="816120"/>
            <a:ext cx="3382920" cy="60480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 flipV="1">
            <a:off x="5292720" y="909360"/>
            <a:ext cx="3384720" cy="143964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3274920" y="94464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6948360" y="160020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9"/>
          <p:cNvSpPr/>
          <p:nvPr/>
        </p:nvSpPr>
        <p:spPr>
          <a:xfrm>
            <a:off x="5724360" y="138420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804000" y="1263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1403280" y="3213000"/>
            <a:ext cx="7740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уч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ометрическая фигура, часть прямой, имеющая начало, но не имеющая кон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ишут луч: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BA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ополнительные луч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дополняют друг друга до прямой (точка разбивает пряму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5219640" y="19112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8388360" y="982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Verdana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>
            <a:off x="1332000" y="1563840"/>
            <a:ext cx="3024000" cy="172872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V="1">
            <a:off x="1476360" y="1707840"/>
            <a:ext cx="3024360" cy="143964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476360" y="134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4140360" y="2860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332000" y="274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4068720" y="14209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2728800" y="2068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1"/>
          <p:cNvSpPr/>
          <p:nvPr/>
        </p:nvSpPr>
        <p:spPr>
          <a:xfrm>
            <a:off x="4859280" y="2600280"/>
            <a:ext cx="3382920" cy="604800"/>
          </a:xfrm>
          <a:prstGeom prst="line">
            <a:avLst/>
          </a:prstGeom>
          <a:ln w="28440">
            <a:solidFill>
              <a:srgbClr val="ffff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2"/>
          <p:cNvSpPr/>
          <p:nvPr/>
        </p:nvSpPr>
        <p:spPr>
          <a:xfrm>
            <a:off x="4844880" y="256392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3"/>
          <p:cNvSpPr/>
          <p:nvPr/>
        </p:nvSpPr>
        <p:spPr>
          <a:xfrm>
            <a:off x="7740720" y="2781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Black"/>
              </a:rPr>
              <a:t>Определение луча в словаре</a:t>
            </a:r>
            <a:endParaRPr b="0" lang="en-US" sz="36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557000"/>
            <a:ext cx="7696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уч или замкнутая полупряма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совокупность точек прямой лежащих по одну сторону от некоторой точки этой прямой, если сама эта точка (граница полупрямой) причисляется к этой полупря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атематическая энциклопе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66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Продолжи фразу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ая точка делит прямую на … части. Каждая такая часть называе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уч обозначае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луч можно обозначить …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уч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называется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точки луча АВ расположены по … от точки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анном чертеже изображено … луч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1690560" y="3500280"/>
            <a:ext cx="5400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1619280" y="3684600"/>
            <a:ext cx="7128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3564000" y="3603600"/>
            <a:ext cx="7128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47492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49092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5167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1474920" y="6021360"/>
            <a:ext cx="540072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1403280" y="620568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348000" y="612468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6300720" y="602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2411280" y="616572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4859280" y="6060960"/>
            <a:ext cx="71640" cy="7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1332000" y="630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268360" y="6308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203640" y="623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859280" y="61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15776400">
            <a:off x="4882320" y="-2057040"/>
            <a:ext cx="4054680" cy="785988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Угол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560" y="3357360"/>
            <a:ext cx="769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гол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метрическая фигура, образованная двумя лучами исходящими из одной точки. Данная точка называется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ершиной угл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лучи –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торонами угл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FG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ершина в цент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k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тороны уг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256440" y="28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77164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5910120" y="749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184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нутренняя область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1979640" y="1341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нешняя область уг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2987640" y="980640"/>
            <a:ext cx="3529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2987640" y="2349360"/>
            <a:ext cx="3745080" cy="503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2973240" y="2305080"/>
            <a:ext cx="71640" cy="712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30072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630072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 Black"/>
              </a:rPr>
              <a:t>Ответьте на вопросы по чертежу</a:t>
            </a:r>
            <a:endParaRPr b="0" lang="en-US" sz="36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2340000" y="2421000"/>
            <a:ext cx="3672000" cy="22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1332000" y="2852640"/>
            <a:ext cx="5832360" cy="2089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5076720" y="2924280"/>
            <a:ext cx="1798920" cy="331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3794040" y="371628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5076720" y="292428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2627280" y="328464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5076720" y="293832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62728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140328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56400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2484360" y="450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4859280" y="256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79600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9403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702000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877080" y="58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19"/>
          <p:cNvSpPr/>
          <p:nvPr/>
        </p:nvSpPr>
        <p:spPr>
          <a:xfrm>
            <a:off x="3851280" y="4941720"/>
            <a:ext cx="7128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0"/>
          <p:cNvSpPr/>
          <p:nvPr/>
        </p:nvSpPr>
        <p:spPr>
          <a:xfrm>
            <a:off x="6877080" y="3573360"/>
            <a:ext cx="7128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1"/>
          <p:cNvSpPr/>
          <p:nvPr/>
        </p:nvSpPr>
        <p:spPr>
          <a:xfrm>
            <a:off x="3635280" y="234936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2"/>
          <p:cNvSpPr/>
          <p:nvPr/>
        </p:nvSpPr>
        <p:spPr>
          <a:xfrm>
            <a:off x="6227640" y="2205000"/>
            <a:ext cx="71640" cy="73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3708360" y="2054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3708360" y="4575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66596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6156360" y="18381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Arial Black"/>
              </a:rPr>
              <a:t>Решите №</a:t>
            </a:r>
            <a:endParaRPr b="0" lang="en-US" sz="40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1623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067280" y="2276640"/>
            <a:ext cx="1623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0:22:18Z</dcterms:created>
  <dc:creator>user</dc:creator>
  <dc:description/>
  <cp:keywords/>
  <dc:language>en-US</dc:language>
  <cp:lastModifiedBy>tbystrova</cp:lastModifiedBy>
  <dcterms:modified xsi:type="dcterms:W3CDTF">2010-09-14T11:20:51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49</vt:lpwstr>
  </property>
</Properties>
</file>