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C37C-A05B-4FD1-835D-35E89AC3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080A-5FCF-451D-9798-BCC88832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F68E-6A38-402A-93BE-EFC5634E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CFEA-9D99-4694-A8E8-A1DB3EF1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D939-2B85-4832-A836-963AABE7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D911-8A87-413F-B405-81D223B4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5EFF-FEDE-467A-A3A8-02239073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A91-9108-44EA-9B0B-C253C6CF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B143-7FD3-4012-AD8D-8E4107BB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4112-703A-49A9-B916-3502AE23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1DA8-7ED7-4699-800A-D3D328CF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F17B-7540-4875-B899-FE3F36A0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56A5-89B6-4B48-BD7E-1F0AEA8F99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5584_html_cfd93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708360" y="5661000"/>
            <a:ext cx="5184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843280" y="2565360"/>
            <a:ext cx="367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0e14"/>
                </a:solidFill>
                <a:latin typeface="Times New Roman"/>
              </a:rPr>
              <a:t>1 СЕНТЯБР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324000" y="18900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2484"/>
                </a:solidFill>
                <a:latin typeface="MS Gothic"/>
              </a:rPr>
              <a:t>ПРАЗДНИК</a:t>
            </a:r>
            <a:r>
              <a:rPr b="1" i="1" lang="ru-RU" sz="4000" spc="-1" strike="noStrike">
                <a:solidFill>
                  <a:srgbClr val="e42484"/>
                </a:solidFill>
                <a:latin typeface="MS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42484"/>
                </a:solidFill>
                <a:latin typeface="MS Gothic"/>
              </a:rPr>
              <a:t>«ДЕНЬ ЗНАНИЙ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307440" cy="70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209160" cy="70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21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24732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Объект 3" descr=""/>
          <p:cNvPicPr/>
          <p:nvPr/>
        </p:nvPicPr>
        <p:blipFill>
          <a:blip r:embed="rId1"/>
          <a:stretch/>
        </p:blipFill>
        <p:spPr>
          <a:xfrm>
            <a:off x="1068480" y="93600"/>
            <a:ext cx="6826320" cy="67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9" descr="neskolko_tsvetov_uchitelyu"/>
          <p:cNvPicPr/>
          <p:nvPr/>
        </p:nvPicPr>
        <p:blipFill>
          <a:blip r:embed="rId1"/>
          <a:stretch/>
        </p:blipFill>
        <p:spPr>
          <a:xfrm>
            <a:off x="3564000" y="3068640"/>
            <a:ext cx="5076720" cy="340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956166498%5b1%5d"/>
          <p:cNvPicPr/>
          <p:nvPr/>
        </p:nvPicPr>
        <p:blipFill>
          <a:blip r:embed="rId2"/>
          <a:stretch/>
        </p:blipFill>
        <p:spPr>
          <a:xfrm>
            <a:off x="324000" y="189000"/>
            <a:ext cx="4319280" cy="244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i?id=a2b35474b1d244435291374ab0936121&amp;n=33&amp;h=215&amp;w=151"/>
          <p:cNvPicPr/>
          <p:nvPr/>
        </p:nvPicPr>
        <p:blipFill>
          <a:blip r:embed="rId3"/>
          <a:stretch/>
        </p:blipFill>
        <p:spPr>
          <a:xfrm>
            <a:off x="179280" y="2997360"/>
            <a:ext cx="2578320" cy="3671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sm_full"/>
          <p:cNvPicPr/>
          <p:nvPr/>
        </p:nvPicPr>
        <p:blipFill>
          <a:blip r:embed="rId4"/>
          <a:stretch/>
        </p:blipFill>
        <p:spPr>
          <a:xfrm>
            <a:off x="5003640" y="189000"/>
            <a:ext cx="3816360" cy="2863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1" descr="post-7668-1409578603"/>
          <p:cNvPicPr/>
          <p:nvPr/>
        </p:nvPicPr>
        <p:blipFill>
          <a:blip r:embed="rId5"/>
          <a:stretch/>
        </p:blipFill>
        <p:spPr>
          <a:xfrm>
            <a:off x="0" y="0"/>
            <a:ext cx="9144000" cy="71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3715920"/>
            <a:ext cx="878544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онстантин Велик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имский император, сделавший христианство господствующей религией (первый христианский император), созвал первый Вселенский собор, на котором, помимо прочего, было решено начинать 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новый год с 1 сентябр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4 век нашей эры 325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constantine-york1"/>
          <p:cNvPicPr/>
          <p:nvPr/>
        </p:nvPicPr>
        <p:blipFill>
          <a:blip r:embed="rId1"/>
          <a:stretch/>
        </p:blipFill>
        <p:spPr>
          <a:xfrm>
            <a:off x="2340000" y="0"/>
            <a:ext cx="488304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3747600"/>
            <a:ext cx="8640720" cy="31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онц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5 век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ославная Русь начала отмечать начало нового год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ервого сентябр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м годом, начавшимся на Руси с 1 сентября, был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1492-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И случилось это по указу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оанна III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еликий (Первый российский государь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smotret-online-tv-ivan-tretij_dwJV2bw"/>
          <p:cNvPicPr/>
          <p:nvPr/>
        </p:nvPicPr>
        <p:blipFill>
          <a:blip r:embed="rId1"/>
          <a:stretch/>
        </p:blipFill>
        <p:spPr>
          <a:xfrm>
            <a:off x="1332000" y="0"/>
            <a:ext cx="676908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860640"/>
            <a:ext cx="88916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lang="ru-RU" sz="1800" spc="-1" strike="noStrike">
                <a:solidFill>
                  <a:srgbClr val="fa0e14"/>
                </a:solidFill>
                <a:latin typeface="Times New Roman"/>
              </a:rPr>
              <a:t>1699 году </a:t>
            </a:r>
            <a:r>
              <a:rPr b="1" lang="ru-RU" sz="1800" spc="-1" strike="noStrike">
                <a:solidFill>
                  <a:srgbClr val="fa0e14"/>
                </a:solidFill>
                <a:latin typeface="Times New Roman"/>
              </a:rPr>
              <a:t>Петр Перв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здал указ о переносе Нового года на 1 января, чтобы не отличаться от Европ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к получилось, что 1699 год длился всего 4 месяца – с 1 сентябр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1 января, когда начался новый 1700 год. Традицию начинать учебный год по старинке 1 сентября оставили нетронутой. </a:t>
            </a:r>
            <a:br>
              <a:rPr sz="1800"/>
            </a:b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от почему именно 1 сентября дети идут в школу – потому что раньше этот день был первым днем не только учебного, но и календарного года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i?id=a05af287a5635765819e15e84929d783&amp;n=33&amp;h=215&amp;w=287"/>
          <p:cNvPicPr/>
          <p:nvPr/>
        </p:nvPicPr>
        <p:blipFill>
          <a:blip r:embed="rId1"/>
          <a:stretch/>
        </p:blipFill>
        <p:spPr>
          <a:xfrm>
            <a:off x="2484360" y="0"/>
            <a:ext cx="496908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5300640"/>
            <a:ext cx="903600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84 году Верховный Совет СССР учредил новый 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раздник– День Знаний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той же праздника стал самый любимый день всех первоклашек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– 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ервое сентября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i?id=cb4db5d5084562f3ef714737cc6b4a86&amp;n=33&amp;h=215&amp;w=275"/>
          <p:cNvPicPr/>
          <p:nvPr/>
        </p:nvPicPr>
        <p:blipFill>
          <a:blip r:embed="rId1"/>
          <a:stretch/>
        </p:blipFill>
        <p:spPr>
          <a:xfrm>
            <a:off x="1403280" y="189000"/>
            <a:ext cx="6408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47654925"/>
          <p:cNvPicPr/>
          <p:nvPr/>
        </p:nvPicPr>
        <p:blipFill>
          <a:blip r:embed="rId1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547640" y="6237360"/>
            <a:ext cx="592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Объект 1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41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6T17:37:43Z</dcterms:created>
  <dc:creator>User</dc:creator>
  <dc:description/>
  <dc:language>en-US</dc:language>
  <cp:lastModifiedBy>Admin</cp:lastModifiedBy>
  <dcterms:modified xsi:type="dcterms:W3CDTF">2023-08-31T10:20:27Z</dcterms:modified>
  <cp:revision>33</cp:revision>
  <dc:subject/>
  <dc:title>Слайд 1</dc:title>
</cp:coreProperties>
</file>