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D3E-7E0D-4346-A941-CEE0DC5E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6A9-16C2-4F61-B8B3-3D5A7CB8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192-9F80-47B2-8998-8E07DF1F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6AC-C180-48E2-B578-D381BF18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C32-7E38-4C8C-81AA-73F45EF2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244-556D-49B9-B6FF-13057DA2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FDA-1861-49F0-B6DF-AF27E02E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020-CF9C-4BFD-9150-0DEE896E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141-12DF-4850-848A-EA2E8280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5CA-E971-474D-BC3E-D002E233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ACB-A28E-4D75-9F9B-067DA7F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8FA-9FA1-488F-9823-690E2F2C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624-56D1-42AB-95AF-1CD9FEB10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5584_html_cfd9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708360" y="566100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43280" y="25653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e14"/>
                </a:solidFill>
                <a:latin typeface="Times New Roman"/>
              </a:rPr>
              <a:t>1 СЕНТЯБ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4000" y="1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2484"/>
                </a:solidFill>
                <a:latin typeface="MS Gothic"/>
              </a:rPr>
              <a:t>ПРАЗДНИК</a:t>
            </a:r>
            <a:r>
              <a:rPr b="1" i="1" lang="ru-RU" sz="4000" spc="-1" strike="noStrike">
                <a:solidFill>
                  <a:srgbClr val="e42484"/>
                </a:solidFill>
                <a:latin typeface="MS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2484"/>
                </a:solidFill>
                <a:latin typeface="MS Gothic"/>
              </a:rPr>
              <a:t>«ДЕНЬ ЗНАНИ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30744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09160" cy="70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473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1068480" y="93600"/>
            <a:ext cx="682632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neskolko_tsvetov_uchitelyu"/>
          <p:cNvPicPr/>
          <p:nvPr/>
        </p:nvPicPr>
        <p:blipFill>
          <a:blip r:embed="rId1"/>
          <a:stretch/>
        </p:blipFill>
        <p:spPr>
          <a:xfrm>
            <a:off x="3564000" y="3068640"/>
            <a:ext cx="5076720" cy="340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956166498%5b1%5d"/>
          <p:cNvPicPr/>
          <p:nvPr/>
        </p:nvPicPr>
        <p:blipFill>
          <a:blip r:embed="rId2"/>
          <a:stretch/>
        </p:blipFill>
        <p:spPr>
          <a:xfrm>
            <a:off x="324000" y="189000"/>
            <a:ext cx="4319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i?id=a2b35474b1d244435291374ab0936121&amp;n=33&amp;h=215&amp;w=151"/>
          <p:cNvPicPr/>
          <p:nvPr/>
        </p:nvPicPr>
        <p:blipFill>
          <a:blip r:embed="rId3"/>
          <a:stretch/>
        </p:blipFill>
        <p:spPr>
          <a:xfrm>
            <a:off x="179280" y="2997360"/>
            <a:ext cx="2578320" cy="36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sm_full"/>
          <p:cNvPicPr/>
          <p:nvPr/>
        </p:nvPicPr>
        <p:blipFill>
          <a:blip r:embed="rId4"/>
          <a:stretch/>
        </p:blipFill>
        <p:spPr>
          <a:xfrm>
            <a:off x="5003640" y="18900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post-7668-1409578603"/>
          <p:cNvPicPr/>
          <p:nvPr/>
        </p:nvPicPr>
        <p:blipFill>
          <a:blip r:embed="rId5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3715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стантин Вели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имский император, сделавший христианство господствующей религией (первый христианский император), созвал первый Вселенский собор, на котором, помимо прочего, было решено начинать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вый год с 1 сентяб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 век нашей эры 32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onstantine-york1"/>
          <p:cNvPicPr/>
          <p:nvPr/>
        </p:nvPicPr>
        <p:blipFill>
          <a:blip r:embed="rId1"/>
          <a:stretch/>
        </p:blipFill>
        <p:spPr>
          <a:xfrm>
            <a:off x="2340000" y="0"/>
            <a:ext cx="48830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747600"/>
            <a:ext cx="8640720" cy="31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5 ве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славная Русь начала отмечать начало нового год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вого сентяб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годом, начавшимся на Руси с 1 сентября, бы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92-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 случилось это по указу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оанна III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еликий (Первый российский государ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smotret-online-tv-ivan-tretij_dwJV2bw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860640"/>
            <a:ext cx="8891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800" spc="-1" strike="noStrike">
                <a:solidFill>
                  <a:srgbClr val="fa0e14"/>
                </a:solidFill>
                <a:latin typeface="Times New Roman"/>
              </a:rPr>
              <a:t>1699 году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Петр Перв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ал указ о переносе Нового года на 1 января, чтобы не отличаться от Евро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получилось, что 1699 год длился всего 4 месяца – с 1 сентябр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1 января, когда начался новый 1700 год. Традицию начинать учебный год по старинке 1 сентября оставили нетронутой.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т почему именно 1 сентября дети идут в школу – потому что раньше этот день был первым днем не только учебного, но и календарного года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?id=a05af287a5635765819e15e84929d783&amp;n=33&amp;h=215&amp;w=287"/>
          <p:cNvPicPr/>
          <p:nvPr/>
        </p:nvPicPr>
        <p:blipFill>
          <a:blip r:embed="rId1"/>
          <a:stretch/>
        </p:blipFill>
        <p:spPr>
          <a:xfrm>
            <a:off x="2484360" y="0"/>
            <a:ext cx="49690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00640"/>
            <a:ext cx="90360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84 году Верховный Совет СССР учредил новый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аздник– День Знани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ой же праздника стал самый любимый день всех первоклашек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рвое сентябр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i?id=cb4db5d5084562f3ef714737cc6b4a86&amp;n=33&amp;h=215&amp;w=275"/>
          <p:cNvPicPr/>
          <p:nvPr/>
        </p:nvPicPr>
        <p:blipFill>
          <a:blip r:embed="rId1"/>
          <a:stretch/>
        </p:blipFill>
        <p:spPr>
          <a:xfrm>
            <a:off x="1403280" y="189000"/>
            <a:ext cx="6408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47654925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547640" y="6237360"/>
            <a:ext cx="592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1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41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6T17:37:43Z</dcterms:created>
  <dc:creator>User</dc:creator>
  <dc:description/>
  <dc:language>en-US</dc:language>
  <cp:lastModifiedBy>Admin</cp:lastModifiedBy>
  <dcterms:modified xsi:type="dcterms:W3CDTF">2023-08-31T10:20:27Z</dcterms:modified>
  <cp:revision>33</cp:revision>
  <dc:subject/>
  <dc:title>Слайд 1</dc:title>
</cp:coreProperties>
</file>