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6A24-FC27-46A9-ACA6-AD01056BC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78A3-271E-4E23-B608-6F0208120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FB8B-D458-4976-850F-F4DEE27D1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42D7-D661-4438-AFDB-5D3FFD3E2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8EB16-1843-4D21-8AAA-E204BC110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7E15F-363C-46F0-A94A-9F5862450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5BC0D-5B31-4055-BBBA-BAF719C5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AAAE7-66F7-42D6-AC96-6427A2008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268D8-A180-4B90-8DAA-BB4C8CE3F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FD9BC-E208-49B0-ADF5-AE5AB417E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8AD30-FBEC-4D69-8C65-AB0BC771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0B94-B528-42EF-B2BD-9D06030C0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63BF8-AC05-492D-94E9-29F4656A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DFC79-4CDC-4131-8F4E-AC93E9CC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2A46E-DDCC-4FAE-81E6-1BCEB0DA9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C27ED-2059-496F-9320-3E1E43222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EF267-8A1E-4ECF-B049-78484AB90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E5F1-2B52-438C-A70E-F23F08D27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123A-B830-4B49-B515-7C7A007A0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20C6-7D9D-4FD5-B9D3-63A7C2655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223F-1997-4E70-9B93-372F364B8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D77B-7792-4FAB-AA1A-7E6874FC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E792-C9AD-4612-B85E-E9A17682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E735-848A-4663-9F6C-1DD72B61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8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1" name="Rectangle 2"/>
            <p:cNvSpPr/>
            <p:nvPr/>
          </p:nvSpPr>
          <p:spPr>
            <a:xfrm>
              <a:off x="0" y="1600200"/>
              <a:ext cx="9166320" cy="52880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0" y="0"/>
              <a:ext cx="9142560" cy="137160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grpSp>
          <p:nvGrpSpPr>
            <p:cNvPr id="3" name="Group 6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4" name="Freeform 4"/>
              <p:cNvSpPr/>
              <p:nvPr/>
            </p:nvSpPr>
            <p:spPr>
              <a:xfrm>
                <a:off x="8415360" y="-17640"/>
                <a:ext cx="382680" cy="6801120"/>
              </a:xfrm>
              <a:prstGeom prst="pie">
                <a:avLst/>
              </a:pr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5" name="Freeform 5"/>
              <p:cNvSpPr/>
              <p:nvPr/>
            </p:nvSpPr>
            <p:spPr>
              <a:xfrm>
                <a:off x="8796240" y="-17640"/>
                <a:ext cx="382680" cy="6801120"/>
              </a:xfrm>
              <a:prstGeom prst="pie">
                <a:avLst/>
              </a:pr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6" name="Group 9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7" name="Freeform 7"/>
              <p:cNvSpPr/>
              <p:nvPr/>
            </p:nvSpPr>
            <p:spPr>
              <a:xfrm>
                <a:off x="0" y="0"/>
                <a:ext cx="382680" cy="6783480"/>
              </a:xfrm>
              <a:prstGeom prst="pie">
                <a:avLst/>
              </a:pr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8" name="Freeform 8"/>
              <p:cNvSpPr/>
              <p:nvPr/>
            </p:nvSpPr>
            <p:spPr>
              <a:xfrm>
                <a:off x="380880" y="0"/>
                <a:ext cx="382680" cy="6783480"/>
              </a:xfrm>
              <a:prstGeom prst="pie">
                <a:avLst/>
              </a:pr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9" name="Group 47"/>
            <p:cNvGrpSpPr/>
            <p:nvPr/>
          </p:nvGrpSpPr>
          <p:grpSpPr>
            <a:xfrm>
              <a:off x="130320" y="34920"/>
              <a:ext cx="8874000" cy="1414440"/>
              <a:chOff x="130320" y="34920"/>
              <a:chExt cx="8874000" cy="1414440"/>
            </a:xfrm>
          </p:grpSpPr>
          <p:grpSp>
            <p:nvGrpSpPr>
              <p:cNvPr id="10" name="Group 28"/>
              <p:cNvGrpSpPr/>
              <p:nvPr/>
            </p:nvGrpSpPr>
            <p:grpSpPr>
              <a:xfrm>
                <a:off x="212760" y="34920"/>
                <a:ext cx="8791560" cy="1349280"/>
                <a:chOff x="212760" y="34920"/>
                <a:chExt cx="8791560" cy="1349280"/>
              </a:xfrm>
            </p:grpSpPr>
            <p:sp>
              <p:nvSpPr>
                <p:cNvPr id="11" name="Freeform 10"/>
                <p:cNvSpPr/>
                <p:nvPr/>
              </p:nvSpPr>
              <p:spPr>
                <a:xfrm>
                  <a:off x="8364600" y="1165320"/>
                  <a:ext cx="247680" cy="18576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2" name="Freeform 11"/>
                <p:cNvSpPr/>
                <p:nvPr/>
              </p:nvSpPr>
              <p:spPr>
                <a:xfrm>
                  <a:off x="8358120" y="1184400"/>
                  <a:ext cx="139680" cy="11880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3" name="Freeform 12"/>
                <p:cNvSpPr/>
                <p:nvPr/>
              </p:nvSpPr>
              <p:spPr>
                <a:xfrm>
                  <a:off x="754200" y="1150920"/>
                  <a:ext cx="247680" cy="18576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4" name="Freeform 13"/>
                <p:cNvSpPr/>
                <p:nvPr/>
              </p:nvSpPr>
              <p:spPr>
                <a:xfrm>
                  <a:off x="868320" y="1171440"/>
                  <a:ext cx="139680" cy="11916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5" name="Line 14"/>
                <p:cNvSpPr/>
                <p:nvPr/>
              </p:nvSpPr>
              <p:spPr>
                <a:xfrm flipV="1">
                  <a:off x="3206880" y="490320"/>
                  <a:ext cx="304560" cy="13788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6" name="Freeform 15"/>
                <p:cNvSpPr/>
                <p:nvPr/>
              </p:nvSpPr>
              <p:spPr>
                <a:xfrm>
                  <a:off x="2235240" y="34920"/>
                  <a:ext cx="4710240" cy="72540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7" name="Freeform 16"/>
                <p:cNvSpPr/>
                <p:nvPr/>
              </p:nvSpPr>
              <p:spPr>
                <a:xfrm>
                  <a:off x="963720" y="187200"/>
                  <a:ext cx="1306440" cy="68436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8" name="Freeform 17"/>
                <p:cNvSpPr/>
                <p:nvPr/>
              </p:nvSpPr>
              <p:spPr>
                <a:xfrm>
                  <a:off x="244440" y="846000"/>
                  <a:ext cx="874800" cy="53820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9" name="Freeform 18"/>
                <p:cNvSpPr/>
                <p:nvPr/>
              </p:nvSpPr>
              <p:spPr>
                <a:xfrm>
                  <a:off x="212760" y="189000"/>
                  <a:ext cx="754200" cy="87624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0" name="Freeform 19"/>
                <p:cNvSpPr/>
                <p:nvPr/>
              </p:nvSpPr>
              <p:spPr>
                <a:xfrm>
                  <a:off x="669960" y="1090440"/>
                  <a:ext cx="247680" cy="18576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1" name="Freeform 20"/>
                <p:cNvSpPr/>
                <p:nvPr/>
              </p:nvSpPr>
              <p:spPr>
                <a:xfrm>
                  <a:off x="784080" y="1111320"/>
                  <a:ext cx="139680" cy="11736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2" name="Freeform 21"/>
                <p:cNvSpPr/>
                <p:nvPr/>
              </p:nvSpPr>
              <p:spPr>
                <a:xfrm>
                  <a:off x="612720" y="760320"/>
                  <a:ext cx="506520" cy="45396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3" name="Freeform 22"/>
                <p:cNvSpPr/>
                <p:nvPr/>
              </p:nvSpPr>
              <p:spPr>
                <a:xfrm>
                  <a:off x="8097840" y="852480"/>
                  <a:ext cx="874800" cy="53172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4" name="Freeform 23"/>
                <p:cNvSpPr/>
                <p:nvPr/>
              </p:nvSpPr>
              <p:spPr>
                <a:xfrm>
                  <a:off x="8250120" y="189000"/>
                  <a:ext cx="754200" cy="87624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5" name="Freeform 24"/>
                <p:cNvSpPr/>
                <p:nvPr/>
              </p:nvSpPr>
              <p:spPr>
                <a:xfrm>
                  <a:off x="8299440" y="1090440"/>
                  <a:ext cx="247680" cy="18576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6" name="Freeform 25"/>
                <p:cNvSpPr/>
                <p:nvPr/>
              </p:nvSpPr>
              <p:spPr>
                <a:xfrm>
                  <a:off x="8292960" y="1109520"/>
                  <a:ext cx="139680" cy="11916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7" name="Freeform 26"/>
                <p:cNvSpPr/>
                <p:nvPr/>
              </p:nvSpPr>
              <p:spPr>
                <a:xfrm>
                  <a:off x="8097840" y="760320"/>
                  <a:ext cx="506520" cy="45396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8" name="Freeform 27"/>
                <p:cNvSpPr/>
                <p:nvPr/>
              </p:nvSpPr>
              <p:spPr>
                <a:xfrm>
                  <a:off x="6939000" y="189000"/>
                  <a:ext cx="1320840" cy="66672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</p:grpSp>
          <p:sp>
            <p:nvSpPr>
              <p:cNvPr id="29" name="Freeform 29"/>
              <p:cNvSpPr/>
              <p:nvPr/>
            </p:nvSpPr>
            <p:spPr>
              <a:xfrm>
                <a:off x="8282160" y="1228680"/>
                <a:ext cx="247320" cy="187200"/>
              </a:xfrm>
              <a:prstGeom prst="pie">
                <a:avLst/>
              </a:pr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0" name="Freeform 30"/>
              <p:cNvSpPr/>
              <p:nvPr/>
            </p:nvSpPr>
            <p:spPr>
              <a:xfrm>
                <a:off x="8275680" y="1249200"/>
                <a:ext cx="139680" cy="117720"/>
              </a:xfrm>
              <a:prstGeom prst="pie">
                <a:avLst/>
              </a:pr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1" name="Freeform 31"/>
              <p:cNvSpPr/>
              <p:nvPr/>
            </p:nvSpPr>
            <p:spPr>
              <a:xfrm>
                <a:off x="671400" y="1214280"/>
                <a:ext cx="247680" cy="187560"/>
              </a:xfrm>
              <a:prstGeom prst="pie">
                <a:avLst/>
              </a:pr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2" name="Freeform 32"/>
              <p:cNvSpPr/>
              <p:nvPr/>
            </p:nvSpPr>
            <p:spPr>
              <a:xfrm>
                <a:off x="785880" y="1236600"/>
                <a:ext cx="139680" cy="117360"/>
              </a:xfrm>
              <a:prstGeom prst="pie">
                <a:avLst/>
              </a:pr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3" name="Line 33"/>
              <p:cNvSpPr/>
              <p:nvPr/>
            </p:nvSpPr>
            <p:spPr>
              <a:xfrm flipV="1">
                <a:off x="3124080" y="555480"/>
                <a:ext cx="304920" cy="13824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4" name="Freeform 34"/>
              <p:cNvSpPr/>
              <p:nvPr/>
            </p:nvSpPr>
            <p:spPr>
              <a:xfrm>
                <a:off x="2152800" y="100080"/>
                <a:ext cx="4709880" cy="72540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5" name="Freeform 35"/>
              <p:cNvSpPr/>
              <p:nvPr/>
            </p:nvSpPr>
            <p:spPr>
              <a:xfrm>
                <a:off x="880920" y="252360"/>
                <a:ext cx="1306800" cy="68436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6" name="Freeform 36"/>
              <p:cNvSpPr/>
              <p:nvPr/>
            </p:nvSpPr>
            <p:spPr>
              <a:xfrm>
                <a:off x="162000" y="909720"/>
                <a:ext cx="874800" cy="539640"/>
              </a:xfrm>
              <a:prstGeom prst="pie">
                <a:avLst/>
              </a:pr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7" name="Freeform 37"/>
              <p:cNvSpPr/>
              <p:nvPr/>
            </p:nvSpPr>
            <p:spPr>
              <a:xfrm>
                <a:off x="130320" y="254160"/>
                <a:ext cx="753840" cy="87624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8" name="Freeform 38"/>
              <p:cNvSpPr/>
              <p:nvPr/>
            </p:nvSpPr>
            <p:spPr>
              <a:xfrm>
                <a:off x="587520" y="1154160"/>
                <a:ext cx="247680" cy="187200"/>
              </a:xfrm>
              <a:prstGeom prst="pie">
                <a:avLst/>
              </a:pr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9" name="Freeform 39"/>
              <p:cNvSpPr/>
              <p:nvPr/>
            </p:nvSpPr>
            <p:spPr>
              <a:xfrm>
                <a:off x="701640" y="1176480"/>
                <a:ext cx="139680" cy="11736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0" name="Freeform 40"/>
              <p:cNvSpPr/>
              <p:nvPr/>
            </p:nvSpPr>
            <p:spPr>
              <a:xfrm>
                <a:off x="530280" y="825480"/>
                <a:ext cx="506520" cy="45396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1" name="Freeform 41"/>
              <p:cNvSpPr/>
              <p:nvPr/>
            </p:nvSpPr>
            <p:spPr>
              <a:xfrm>
                <a:off x="8015400" y="917640"/>
                <a:ext cx="874440" cy="53172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2" name="Freeform 42"/>
              <p:cNvSpPr/>
              <p:nvPr/>
            </p:nvSpPr>
            <p:spPr>
              <a:xfrm>
                <a:off x="8167680" y="254160"/>
                <a:ext cx="754200" cy="87624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3" name="Freeform 43"/>
              <p:cNvSpPr/>
              <p:nvPr/>
            </p:nvSpPr>
            <p:spPr>
              <a:xfrm>
                <a:off x="8217000" y="1154160"/>
                <a:ext cx="247680" cy="18720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4" name="Freeform 44"/>
              <p:cNvSpPr/>
              <p:nvPr/>
            </p:nvSpPr>
            <p:spPr>
              <a:xfrm>
                <a:off x="8210520" y="1174680"/>
                <a:ext cx="139680" cy="11772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5" name="Freeform 45"/>
              <p:cNvSpPr/>
              <p:nvPr/>
            </p:nvSpPr>
            <p:spPr>
              <a:xfrm>
                <a:off x="8015400" y="825480"/>
                <a:ext cx="506160" cy="45396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6" name="Freeform 46"/>
              <p:cNvSpPr/>
              <p:nvPr/>
            </p:nvSpPr>
            <p:spPr>
              <a:xfrm>
                <a:off x="6856560" y="254160"/>
                <a:ext cx="1320480" cy="66672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3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658E4-78C3-41A4-B66E-6E707E87CED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48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89" name="Rectangle 2"/>
            <p:cNvSpPr/>
            <p:nvPr/>
          </p:nvSpPr>
          <p:spPr>
            <a:xfrm>
              <a:off x="0" y="2895480"/>
              <a:ext cx="9166320" cy="3992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90" name="Rectangle 3"/>
            <p:cNvSpPr/>
            <p:nvPr/>
          </p:nvSpPr>
          <p:spPr>
            <a:xfrm>
              <a:off x="0" y="0"/>
              <a:ext cx="9142560" cy="289548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grpSp>
          <p:nvGrpSpPr>
            <p:cNvPr id="91" name="Group 6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92" name="Freeform 4"/>
              <p:cNvSpPr/>
              <p:nvPr/>
            </p:nvSpPr>
            <p:spPr>
              <a:xfrm>
                <a:off x="8415360" y="-17640"/>
                <a:ext cx="382680" cy="6801120"/>
              </a:xfrm>
              <a:prstGeom prst="pie">
                <a:avLst/>
              </a:pr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93" name="Freeform 5"/>
              <p:cNvSpPr/>
              <p:nvPr/>
            </p:nvSpPr>
            <p:spPr>
              <a:xfrm>
                <a:off x="8796240" y="-17640"/>
                <a:ext cx="382680" cy="6801120"/>
              </a:xfrm>
              <a:prstGeom prst="pie">
                <a:avLst/>
              </a:pr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94" name="Group 9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95" name="Freeform 7"/>
              <p:cNvSpPr/>
              <p:nvPr/>
            </p:nvSpPr>
            <p:spPr>
              <a:xfrm>
                <a:off x="0" y="0"/>
                <a:ext cx="382680" cy="6783480"/>
              </a:xfrm>
              <a:prstGeom prst="pie">
                <a:avLst/>
              </a:pr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96" name="Freeform 8"/>
              <p:cNvSpPr/>
              <p:nvPr/>
            </p:nvSpPr>
            <p:spPr>
              <a:xfrm>
                <a:off x="380880" y="0"/>
                <a:ext cx="382680" cy="6783480"/>
              </a:xfrm>
              <a:prstGeom prst="pie">
                <a:avLst/>
              </a:pr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97" name="Group 47"/>
            <p:cNvGrpSpPr/>
            <p:nvPr/>
          </p:nvGrpSpPr>
          <p:grpSpPr>
            <a:xfrm>
              <a:off x="130320" y="1330200"/>
              <a:ext cx="8874000" cy="1414440"/>
              <a:chOff x="130320" y="1330200"/>
              <a:chExt cx="8874000" cy="1414440"/>
            </a:xfrm>
          </p:grpSpPr>
          <p:grpSp>
            <p:nvGrpSpPr>
              <p:cNvPr id="98" name="Group 28"/>
              <p:cNvGrpSpPr/>
              <p:nvPr/>
            </p:nvGrpSpPr>
            <p:grpSpPr>
              <a:xfrm>
                <a:off x="212760" y="1330200"/>
                <a:ext cx="8791560" cy="1349640"/>
                <a:chOff x="212760" y="1330200"/>
                <a:chExt cx="8791560" cy="1349640"/>
              </a:xfrm>
            </p:grpSpPr>
            <p:sp>
              <p:nvSpPr>
                <p:cNvPr id="99" name="Freeform 10"/>
                <p:cNvSpPr/>
                <p:nvPr/>
              </p:nvSpPr>
              <p:spPr>
                <a:xfrm>
                  <a:off x="8364600" y="2460600"/>
                  <a:ext cx="247680" cy="18576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0" name="Freeform 11"/>
                <p:cNvSpPr/>
                <p:nvPr/>
              </p:nvSpPr>
              <p:spPr>
                <a:xfrm>
                  <a:off x="8358120" y="2479680"/>
                  <a:ext cx="139680" cy="11916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1" name="Freeform 12"/>
                <p:cNvSpPr/>
                <p:nvPr/>
              </p:nvSpPr>
              <p:spPr>
                <a:xfrm>
                  <a:off x="754200" y="2446200"/>
                  <a:ext cx="247680" cy="18576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2" name="Freeform 13"/>
                <p:cNvSpPr/>
                <p:nvPr/>
              </p:nvSpPr>
              <p:spPr>
                <a:xfrm>
                  <a:off x="868320" y="2467080"/>
                  <a:ext cx="139680" cy="11880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3" name="Line 14"/>
                <p:cNvSpPr/>
                <p:nvPr/>
              </p:nvSpPr>
              <p:spPr>
                <a:xfrm flipV="1">
                  <a:off x="3206880" y="1785960"/>
                  <a:ext cx="304560" cy="13824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4" name="Freeform 15"/>
                <p:cNvSpPr/>
                <p:nvPr/>
              </p:nvSpPr>
              <p:spPr>
                <a:xfrm>
                  <a:off x="2235240" y="1330200"/>
                  <a:ext cx="4710240" cy="72576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5" name="Freeform 16"/>
                <p:cNvSpPr/>
                <p:nvPr/>
              </p:nvSpPr>
              <p:spPr>
                <a:xfrm>
                  <a:off x="963720" y="1482840"/>
                  <a:ext cx="1306440" cy="68400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6" name="Freeform 17"/>
                <p:cNvSpPr/>
                <p:nvPr/>
              </p:nvSpPr>
              <p:spPr>
                <a:xfrm>
                  <a:off x="244440" y="2141640"/>
                  <a:ext cx="874800" cy="53820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7" name="Freeform 18"/>
                <p:cNvSpPr/>
                <p:nvPr/>
              </p:nvSpPr>
              <p:spPr>
                <a:xfrm>
                  <a:off x="212760" y="1484280"/>
                  <a:ext cx="754200" cy="87624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8" name="Freeform 19"/>
                <p:cNvSpPr/>
                <p:nvPr/>
              </p:nvSpPr>
              <p:spPr>
                <a:xfrm>
                  <a:off x="669960" y="2386080"/>
                  <a:ext cx="247680" cy="18576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9" name="Freeform 20"/>
                <p:cNvSpPr/>
                <p:nvPr/>
              </p:nvSpPr>
              <p:spPr>
                <a:xfrm>
                  <a:off x="784080" y="2406600"/>
                  <a:ext cx="139680" cy="11736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0" name="Freeform 21"/>
                <p:cNvSpPr/>
                <p:nvPr/>
              </p:nvSpPr>
              <p:spPr>
                <a:xfrm>
                  <a:off x="612720" y="2055960"/>
                  <a:ext cx="506520" cy="45396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1" name="Freeform 22"/>
                <p:cNvSpPr/>
                <p:nvPr/>
              </p:nvSpPr>
              <p:spPr>
                <a:xfrm>
                  <a:off x="8097840" y="2147760"/>
                  <a:ext cx="874800" cy="53208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2" name="Freeform 23"/>
                <p:cNvSpPr/>
                <p:nvPr/>
              </p:nvSpPr>
              <p:spPr>
                <a:xfrm>
                  <a:off x="8250120" y="1484280"/>
                  <a:ext cx="754200" cy="87624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3" name="Freeform 24"/>
                <p:cNvSpPr/>
                <p:nvPr/>
              </p:nvSpPr>
              <p:spPr>
                <a:xfrm>
                  <a:off x="8299440" y="2386080"/>
                  <a:ext cx="247680" cy="18576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4" name="Freeform 25"/>
                <p:cNvSpPr/>
                <p:nvPr/>
              </p:nvSpPr>
              <p:spPr>
                <a:xfrm>
                  <a:off x="8292960" y="2405160"/>
                  <a:ext cx="139680" cy="11880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5" name="Freeform 26"/>
                <p:cNvSpPr/>
                <p:nvPr/>
              </p:nvSpPr>
              <p:spPr>
                <a:xfrm>
                  <a:off x="8097840" y="2055960"/>
                  <a:ext cx="506520" cy="45396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6" name="Freeform 27"/>
                <p:cNvSpPr/>
                <p:nvPr/>
              </p:nvSpPr>
              <p:spPr>
                <a:xfrm>
                  <a:off x="6939000" y="1484280"/>
                  <a:ext cx="1320840" cy="66672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</p:grpSp>
          <p:sp>
            <p:nvSpPr>
              <p:cNvPr id="117" name="Freeform 29"/>
              <p:cNvSpPr/>
              <p:nvPr/>
            </p:nvSpPr>
            <p:spPr>
              <a:xfrm>
                <a:off x="8282160" y="2523960"/>
                <a:ext cx="247320" cy="187560"/>
              </a:xfrm>
              <a:prstGeom prst="pie">
                <a:avLst/>
              </a:pr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18" name="Freeform 30"/>
              <p:cNvSpPr/>
              <p:nvPr/>
            </p:nvSpPr>
            <p:spPr>
              <a:xfrm>
                <a:off x="8275680" y="2544840"/>
                <a:ext cx="139680" cy="117360"/>
              </a:xfrm>
              <a:prstGeom prst="pie">
                <a:avLst/>
              </a:pr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19" name="Freeform 31"/>
              <p:cNvSpPr/>
              <p:nvPr/>
            </p:nvSpPr>
            <p:spPr>
              <a:xfrm>
                <a:off x="671400" y="2509920"/>
                <a:ext cx="247680" cy="187200"/>
              </a:xfrm>
              <a:prstGeom prst="pie">
                <a:avLst/>
              </a:pr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0" name="Freeform 32"/>
              <p:cNvSpPr/>
              <p:nvPr/>
            </p:nvSpPr>
            <p:spPr>
              <a:xfrm>
                <a:off x="785880" y="2532240"/>
                <a:ext cx="139680" cy="117360"/>
              </a:xfrm>
              <a:prstGeom prst="pie">
                <a:avLst/>
              </a:pr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1" name="Line 33"/>
              <p:cNvSpPr/>
              <p:nvPr/>
            </p:nvSpPr>
            <p:spPr>
              <a:xfrm flipV="1">
                <a:off x="3124080" y="1850760"/>
                <a:ext cx="304920" cy="13788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2" name="Freeform 34"/>
              <p:cNvSpPr/>
              <p:nvPr/>
            </p:nvSpPr>
            <p:spPr>
              <a:xfrm>
                <a:off x="2152800" y="1395360"/>
                <a:ext cx="4709880" cy="72540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3" name="Freeform 35"/>
              <p:cNvSpPr/>
              <p:nvPr/>
            </p:nvSpPr>
            <p:spPr>
              <a:xfrm>
                <a:off x="880920" y="1547640"/>
                <a:ext cx="1306800" cy="68436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4" name="Freeform 36"/>
              <p:cNvSpPr/>
              <p:nvPr/>
            </p:nvSpPr>
            <p:spPr>
              <a:xfrm>
                <a:off x="162000" y="2205000"/>
                <a:ext cx="874800" cy="539640"/>
              </a:xfrm>
              <a:prstGeom prst="pie">
                <a:avLst/>
              </a:pr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5" name="Freeform 37"/>
              <p:cNvSpPr/>
              <p:nvPr/>
            </p:nvSpPr>
            <p:spPr>
              <a:xfrm>
                <a:off x="130320" y="1549440"/>
                <a:ext cx="753840" cy="87624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6" name="Freeform 38"/>
              <p:cNvSpPr/>
              <p:nvPr/>
            </p:nvSpPr>
            <p:spPr>
              <a:xfrm>
                <a:off x="587520" y="2449440"/>
                <a:ext cx="247680" cy="187560"/>
              </a:xfrm>
              <a:prstGeom prst="pie">
                <a:avLst/>
              </a:pr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7" name="Freeform 39"/>
              <p:cNvSpPr/>
              <p:nvPr/>
            </p:nvSpPr>
            <p:spPr>
              <a:xfrm>
                <a:off x="701640" y="2471760"/>
                <a:ext cx="139680" cy="11736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8" name="Freeform 40"/>
              <p:cNvSpPr/>
              <p:nvPr/>
            </p:nvSpPr>
            <p:spPr>
              <a:xfrm>
                <a:off x="530280" y="2120760"/>
                <a:ext cx="506520" cy="45432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9" name="Freeform 41"/>
              <p:cNvSpPr/>
              <p:nvPr/>
            </p:nvSpPr>
            <p:spPr>
              <a:xfrm>
                <a:off x="8015400" y="2212920"/>
                <a:ext cx="874440" cy="53172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0" name="Freeform 42"/>
              <p:cNvSpPr/>
              <p:nvPr/>
            </p:nvSpPr>
            <p:spPr>
              <a:xfrm>
                <a:off x="8167680" y="1549440"/>
                <a:ext cx="754200" cy="87624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1" name="Freeform 43"/>
              <p:cNvSpPr/>
              <p:nvPr/>
            </p:nvSpPr>
            <p:spPr>
              <a:xfrm>
                <a:off x="8217000" y="2449440"/>
                <a:ext cx="247680" cy="18756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2" name="Freeform 44"/>
              <p:cNvSpPr/>
              <p:nvPr/>
            </p:nvSpPr>
            <p:spPr>
              <a:xfrm>
                <a:off x="8210520" y="2470320"/>
                <a:ext cx="139680" cy="11736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3" name="Freeform 45"/>
              <p:cNvSpPr/>
              <p:nvPr/>
            </p:nvSpPr>
            <p:spPr>
              <a:xfrm>
                <a:off x="8015400" y="2120760"/>
                <a:ext cx="506160" cy="45432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4" name="Freeform 46"/>
              <p:cNvSpPr/>
              <p:nvPr/>
            </p:nvSpPr>
            <p:spPr>
              <a:xfrm>
                <a:off x="6856560" y="1549440"/>
                <a:ext cx="1320480" cy="66672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4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6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67EFC-0C01-410F-91AB-EEDD5199DE19}" type="slidenum">
              <a:rPr b="0" lang="ru-RU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cc00"/>
                </a:solidFill>
                <a:uFillTx/>
                <a:latin typeface="Times New Roman"/>
              </a:rPr>
              <a:t>Поэма Гомера «Одиссея»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716000" y="765000"/>
            <a:ext cx="4248360" cy="5940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Выслушав рассказ Одиссея феаки снарядили корабль и отправили его на Ита-ку. В это время в его доме женихи донимали его же-ну Пенелопу.Но она вери ла, что Одиссей жив и за-явила,что женится, когда соткет саван для отца Одиссея,который умирал. Весь день Пенелопа ткала ткань,а ночью-распуска-ла ее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760320" y="117360"/>
            <a:ext cx="7772400" cy="503280"/>
          </a:xfrm>
          <a:prstGeom prst="rect">
            <a:avLst/>
          </a:prstGeom>
          <a:solidFill>
            <a:srgbClr val="f8f8f8"/>
          </a:soli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5.Возвращение на Итаку.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471960" y="5559480"/>
            <a:ext cx="359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Пенелопа стенает перед</a:t>
            </a: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своим сыном Телемахом</a:t>
            </a: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pic>
        <p:nvPicPr>
          <p:cNvPr id="207" name="Picture 5" descr="1"/>
          <p:cNvPicPr/>
          <p:nvPr/>
        </p:nvPicPr>
        <p:blipFill>
          <a:blip r:embed="rId2"/>
          <a:stretch/>
        </p:blipFill>
        <p:spPr>
          <a:xfrm>
            <a:off x="250920" y="1052640"/>
            <a:ext cx="4176720" cy="411948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3" dur="1" fill="hold"/>
                                  <p:tgtEl>
                                    <p:spTgt spid="2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395280" y="3789000"/>
            <a:ext cx="8569440" cy="29163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Служанка раскрыла этот обман женихам.Пенелопе приш-лось объявить что она выйдет замуж за того,кто победит в стрельбе из огромного Лука Одиссея.Но никто из жени хов не смог даже согнуть лук.Тогда Одиссей, переодев-шийся нищим, взял свой лук и выстрелил а затем пере-бил всех женихов.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760320" y="189000"/>
            <a:ext cx="7772400" cy="503280"/>
          </a:xfrm>
          <a:prstGeom prst="rect">
            <a:avLst/>
          </a:prstGeom>
          <a:solidFill>
            <a:srgbClr val="f8f8f8"/>
          </a:soli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6.Расправа с женихами.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925200" y="2035080"/>
            <a:ext cx="306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Одиссей и Пенелопа.</a:t>
            </a: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pic>
        <p:nvPicPr>
          <p:cNvPr id="211" name="Picture 8" descr="odysseus_penelope"/>
          <p:cNvPicPr/>
          <p:nvPr/>
        </p:nvPicPr>
        <p:blipFill>
          <a:blip r:embed="rId2"/>
          <a:stretch/>
        </p:blipFill>
        <p:spPr>
          <a:xfrm>
            <a:off x="4262400" y="744480"/>
            <a:ext cx="4197240" cy="296712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2" dur="1" fill="hold"/>
                                  <p:tgtEl>
                                    <p:spTgt spid="2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cc00"/>
                </a:solidFill>
                <a:uFillTx/>
                <a:latin typeface="Times New Roman"/>
              </a:rPr>
              <a:t>План урока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420640"/>
            <a:ext cx="7772400" cy="3529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1.Одиссей находит приют у Алкиноя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2.На острове циклопов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3.Встреча с сиренами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4.Между Сциллой и Харибдой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5.Возвращение на Итаку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6.Расправа с Женихами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" dur="1" fill="hold"/>
                                  <p:tgtEl>
                                    <p:spTgt spid="17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cc00"/>
                </a:solidFill>
                <a:uFillTx/>
                <a:latin typeface="Times New Roman"/>
              </a:rPr>
              <a:t>Задание на урок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772400" cy="4392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3366"/>
                </a:solidFill>
                <a:latin typeface="Times New Roman"/>
              </a:rPr>
              <a:t>Докажите,что «Одиссею» можно использовать в качестве исторического источника?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0320" y="189000"/>
            <a:ext cx="7772400" cy="503280"/>
          </a:xfrm>
          <a:prstGeom prst="rect">
            <a:avLst/>
          </a:prstGeom>
          <a:solidFill>
            <a:srgbClr val="f8f8f8"/>
          </a:soli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1.Одиссей находит приют у Алкиноя.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82" name="Picture 11" descr="2"/>
          <p:cNvPicPr/>
          <p:nvPr/>
        </p:nvPicPr>
        <p:blipFill>
          <a:blip r:embed="rId1"/>
          <a:stretch/>
        </p:blipFill>
        <p:spPr>
          <a:xfrm>
            <a:off x="1547640" y="774720"/>
            <a:ext cx="6193080" cy="430200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23640" y="5084280"/>
            <a:ext cx="8569080" cy="16210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Вторая поэма Гомера,«Одиссея», посвящена стран-ствиям Одиссея, возвращавшегося домой, на о. Итака, из-под Трои. 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" dur="1" fill="hold"/>
                                  <p:tgtEl>
                                    <p:spTgt spid="1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5" descr="о у алкиноя"/>
          <p:cNvPicPr/>
          <p:nvPr/>
        </p:nvPicPr>
        <p:blipFill>
          <a:blip r:embed="rId1"/>
          <a:stretch/>
        </p:blipFill>
        <p:spPr>
          <a:xfrm>
            <a:off x="4500720" y="692280"/>
            <a:ext cx="3887640" cy="290340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23640" y="3500280"/>
            <a:ext cx="8569080" cy="32054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Через 10 лет Одиссей попал на остров где правил Алкиной.Одиссея нашла Навсикая,дочь царя.Ал киной ласково принял путешественников.На пи-ру сказитель запел о подвигах Ахилесса,Одиссей расплакался и рассказал Алкиною свою исто-рию.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760320" y="189000"/>
            <a:ext cx="7772400" cy="503280"/>
          </a:xfrm>
          <a:prstGeom prst="rect">
            <a:avLst/>
          </a:prstGeom>
          <a:solidFill>
            <a:srgbClr val="f8f8f8"/>
          </a:soli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1.Одиссей находит приют у Алкиноя.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124280" y="1989000"/>
            <a:ext cx="28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Одиссей у Алкиноя</a:t>
            </a: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8" dur="1" fill="hold"/>
                                  <p:tgtEl>
                                    <p:spTgt spid="18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642920" y="692280"/>
            <a:ext cx="4249800" cy="60134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Однажды заблудившись он пристал к острову циклопов.Греки вош-ли в пещеру где жил Полифем,сын Посей-дона.Он загнал в пе-щеру овец завалил вы ход камнями и съел 2 человек.Одиссей на-поил Полифема ви-ном и ослепил его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760320" y="189000"/>
            <a:ext cx="7772400" cy="503280"/>
          </a:xfrm>
          <a:prstGeom prst="rect">
            <a:avLst/>
          </a:prstGeom>
          <a:solidFill>
            <a:srgbClr val="f8f8f8"/>
          </a:soli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2.На острове циклопов.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1153080" y="6021360"/>
            <a:ext cx="30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Одиссей и Полифем.</a:t>
            </a: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pic>
        <p:nvPicPr>
          <p:cNvPr id="191" name="Picture 6" descr="polyphemus"/>
          <p:cNvPicPr/>
          <p:nvPr/>
        </p:nvPicPr>
        <p:blipFill>
          <a:blip r:embed="rId2"/>
          <a:stretch/>
        </p:blipFill>
        <p:spPr>
          <a:xfrm>
            <a:off x="907920" y="1125360"/>
            <a:ext cx="3519720" cy="446436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7" dur="1" fill="hold"/>
                                  <p:tgtEl>
                                    <p:spTgt spid="18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5" descr="polyphem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4067280" y="237960"/>
            <a:ext cx="4392360" cy="333396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23640" y="3610080"/>
            <a:ext cx="8569080" cy="3132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Греки связали баранов по три,спрятались под ни-ми и когда Полифем ощупывал выходящих, ока-зались незамеченными.Они сели на корабль и отплыли.Одисей закричал и назвал свое имя и тогда Полифем попросил Посейдона наказать Одиссея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760320" y="189000"/>
            <a:ext cx="7772400" cy="503280"/>
          </a:xfrm>
          <a:prstGeom prst="rect">
            <a:avLst/>
          </a:prstGeom>
          <a:solidFill>
            <a:srgbClr val="f8f8f8"/>
          </a:soli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2.На острове циклопов.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1045080" y="1963800"/>
            <a:ext cx="29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Одиссей и Полифем</a:t>
            </a: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6" dur="1" fill="hold"/>
                                  <p:tgtEl>
                                    <p:spTgt spid="19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6" descr="о мимо сирен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4140360" y="404640"/>
            <a:ext cx="4178160" cy="339732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250920" y="3573000"/>
            <a:ext cx="8640720" cy="31323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Однажды Одиссей проплывал у о.Сирен.Эти полу-птицы-полуженщины своим пением замнивали путешественников и съедали их.Одиссей приказ гребцам заткнуть уши, а его привязать к мачте. Таким образом он услышал прекрасное пение и смог остаться живым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760320" y="189000"/>
            <a:ext cx="7772400" cy="503280"/>
          </a:xfrm>
          <a:prstGeom prst="rect">
            <a:avLst/>
          </a:prstGeom>
          <a:solidFill>
            <a:srgbClr val="f8f8f8"/>
          </a:soli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3.Встреча с сиренами.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1118160" y="1916280"/>
            <a:ext cx="26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Одиссей и сирены</a:t>
            </a: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5" dur="1" fill="hold"/>
                                  <p:tgtEl>
                                    <p:spTgt spid="1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395280" y="3789000"/>
            <a:ext cx="8569440" cy="29163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Вскоре путники пережили смертельную опасность. Их корабль проплывал между пещерой где жила Сцилла и с другойстороны находилась Харибда, трижды в день засасывающая воду.Но Одиссей смог провести свой корабль мимо чудовищ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760320" y="189000"/>
            <a:ext cx="7772400" cy="503280"/>
          </a:xfrm>
          <a:prstGeom prst="rect">
            <a:avLst/>
          </a:prstGeom>
          <a:solidFill>
            <a:srgbClr val="f8f8f8"/>
          </a:soli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4.Между Сциллой и Харибдой.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807480" y="1886040"/>
            <a:ext cx="297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Скилла и корабль</a:t>
            </a: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Одиссея.Фреска.2.в.</a:t>
            </a: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pic>
        <p:nvPicPr>
          <p:cNvPr id="203" name="Picture 7" descr="scilla"/>
          <p:cNvPicPr/>
          <p:nvPr/>
        </p:nvPicPr>
        <p:blipFill>
          <a:blip r:embed="rId2"/>
          <a:stretch/>
        </p:blipFill>
        <p:spPr>
          <a:xfrm>
            <a:off x="3851280" y="738360"/>
            <a:ext cx="4321080" cy="294948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4" dur="1" fill="hold"/>
                                  <p:tgtEl>
                                    <p:spTgt spid="2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06T06:11:42Z</dcterms:created>
  <dc:creator>ЧЕРНОВ АЛЕКСЕЙ</dc:creator>
  <dc:description/>
  <dc:language>en-US</dc:language>
  <cp:lastModifiedBy>ученик</cp:lastModifiedBy>
  <dcterms:modified xsi:type="dcterms:W3CDTF">2012-12-11T06:52:51Z</dcterms:modified>
  <cp:revision>36</cp:revision>
  <dc:subject/>
  <dc:title>Заголовок слайда отсутствует</dc:title>
</cp:coreProperties>
</file>