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D9FF-B59D-4A8A-A592-6BB0CDD4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FA8-7B26-4C8B-948D-60A62115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B5D-C263-4FC6-A7D6-FE5224DB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5F4-5AC3-4AE8-80C0-92844A2D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67B1-143F-498D-98B5-D444D5F1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18D6-D2BC-4FEE-B718-6168E807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A51F-357B-4DC2-9FAC-BCAC3AEB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FE7C-82B1-430F-903C-B01757F7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93C7-6E12-4BB0-AEC0-DA24C021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CAA1-F2E9-408E-B4D8-88555DC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AE79-ACF7-4D36-BDFB-F6D36D99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8806-81CC-4640-A086-14F26D6D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69C6-CF8A-4005-934E-1A1F4C6D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89A1-63CC-47D9-AFE6-C90518E6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DB57-AE1E-402E-AF43-C83C81B7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EEE3-37A0-45DB-9017-BBF0B095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7F71-E4B6-414F-97D5-F9DC6524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F76-CCCB-4E66-896A-D61005B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DB9-085C-4F27-B4D5-21DC1EFA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F65-F049-40EE-A29A-CAF53D5D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91A-983D-4568-B1D6-27CCC972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75A-C94F-471A-8D81-DF3A267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76F-D84A-4BB0-A448-E0AA0DA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E7C-E937-4655-B89F-1FECBA4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2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47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28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0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1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2"/>
                <p:cNvSpPr/>
                <p:nvPr/>
              </p:nvSpPr>
              <p:spPr>
                <a:xfrm>
                  <a:off x="754200" y="115092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3"/>
                <p:cNvSpPr/>
                <p:nvPr/>
              </p:nvSpPr>
              <p:spPr>
                <a:xfrm>
                  <a:off x="868320" y="117144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4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5"/>
                <p:cNvSpPr/>
                <p:nvPr/>
              </p:nvSpPr>
              <p:spPr>
                <a:xfrm>
                  <a:off x="2235240" y="34920"/>
                  <a:ext cx="4710240" cy="7254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6"/>
                <p:cNvSpPr/>
                <p:nvPr/>
              </p:nvSpPr>
              <p:spPr>
                <a:xfrm>
                  <a:off x="963720" y="187200"/>
                  <a:ext cx="1306440" cy="684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17"/>
                <p:cNvSpPr/>
                <p:nvPr/>
              </p:nvSpPr>
              <p:spPr>
                <a:xfrm>
                  <a:off x="244440" y="84600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18"/>
                <p:cNvSpPr/>
                <p:nvPr/>
              </p:nvSpPr>
              <p:spPr>
                <a:xfrm>
                  <a:off x="21276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19"/>
                <p:cNvSpPr/>
                <p:nvPr/>
              </p:nvSpPr>
              <p:spPr>
                <a:xfrm>
                  <a:off x="66996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0"/>
                <p:cNvSpPr/>
                <p:nvPr/>
              </p:nvSpPr>
              <p:spPr>
                <a:xfrm>
                  <a:off x="784080" y="111132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1"/>
                <p:cNvSpPr/>
                <p:nvPr/>
              </p:nvSpPr>
              <p:spPr>
                <a:xfrm>
                  <a:off x="61272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2"/>
                <p:cNvSpPr/>
                <p:nvPr/>
              </p:nvSpPr>
              <p:spPr>
                <a:xfrm>
                  <a:off x="8097840" y="852480"/>
                  <a:ext cx="874800" cy="531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3"/>
                <p:cNvSpPr/>
                <p:nvPr/>
              </p:nvSpPr>
              <p:spPr>
                <a:xfrm>
                  <a:off x="8250120" y="18900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4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5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6"/>
                <p:cNvSpPr/>
                <p:nvPr/>
              </p:nvSpPr>
              <p:spPr>
                <a:xfrm>
                  <a:off x="8097840" y="76032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27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29"/>
              <p:cNvSpPr/>
              <p:nvPr/>
            </p:nvSpPr>
            <p:spPr>
              <a:xfrm>
                <a:off x="8282160" y="1228680"/>
                <a:ext cx="24732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8275680" y="1249200"/>
                <a:ext cx="139680" cy="11772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671400" y="1214280"/>
                <a:ext cx="24768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785880" y="123660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3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2152800" y="10008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880920" y="25236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162000" y="90972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130320" y="25416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58752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01640" y="117648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530280" y="825480"/>
                <a:ext cx="50652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15400" y="91764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8167680" y="25416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8217000" y="1154160"/>
                <a:ext cx="247680" cy="1872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8210520" y="1174680"/>
                <a:ext cx="139680" cy="117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8015400" y="825480"/>
                <a:ext cx="506160" cy="4539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6856560" y="25416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4614-1F42-4D2B-8FC7-809426B57F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8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2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3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6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4"/>
              <p:cNvSpPr/>
              <p:nvPr/>
            </p:nvSpPr>
            <p:spPr>
              <a:xfrm>
                <a:off x="841536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5"/>
              <p:cNvSpPr/>
              <p:nvPr/>
            </p:nvSpPr>
            <p:spPr>
              <a:xfrm>
                <a:off x="8796240" y="-17640"/>
                <a:ext cx="382680" cy="680112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9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7"/>
              <p:cNvSpPr/>
              <p:nvPr/>
            </p:nvSpPr>
            <p:spPr>
              <a:xfrm>
                <a:off x="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8"/>
              <p:cNvSpPr/>
              <p:nvPr/>
            </p:nvSpPr>
            <p:spPr>
              <a:xfrm>
                <a:off x="380880" y="0"/>
                <a:ext cx="382680" cy="6783480"/>
              </a:xfrm>
              <a:prstGeom prst="pie">
                <a:avLst/>
              </a:pr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47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28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0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1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2"/>
                <p:cNvSpPr/>
                <p:nvPr/>
              </p:nvSpPr>
              <p:spPr>
                <a:xfrm>
                  <a:off x="754200" y="244620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3"/>
                <p:cNvSpPr/>
                <p:nvPr/>
              </p:nvSpPr>
              <p:spPr>
                <a:xfrm>
                  <a:off x="868320" y="246708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4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5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6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17"/>
                <p:cNvSpPr/>
                <p:nvPr/>
              </p:nvSpPr>
              <p:spPr>
                <a:xfrm>
                  <a:off x="244440" y="2141640"/>
                  <a:ext cx="874800" cy="5382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18"/>
                <p:cNvSpPr/>
                <p:nvPr/>
              </p:nvSpPr>
              <p:spPr>
                <a:xfrm>
                  <a:off x="21276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19"/>
                <p:cNvSpPr/>
                <p:nvPr/>
              </p:nvSpPr>
              <p:spPr>
                <a:xfrm>
                  <a:off x="66996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0"/>
                <p:cNvSpPr/>
                <p:nvPr/>
              </p:nvSpPr>
              <p:spPr>
                <a:xfrm>
                  <a:off x="784080" y="2406600"/>
                  <a:ext cx="139680" cy="1173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1"/>
                <p:cNvSpPr/>
                <p:nvPr/>
              </p:nvSpPr>
              <p:spPr>
                <a:xfrm>
                  <a:off x="61272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2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3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4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5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6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27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prstGeom prst="pie">
                  <a:avLst/>
                </a:pr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29"/>
              <p:cNvSpPr/>
              <p:nvPr/>
            </p:nvSpPr>
            <p:spPr>
              <a:xfrm>
                <a:off x="8282160" y="2523960"/>
                <a:ext cx="247320" cy="1875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0"/>
              <p:cNvSpPr/>
              <p:nvPr/>
            </p:nvSpPr>
            <p:spPr>
              <a:xfrm>
                <a:off x="8275680" y="25448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1"/>
              <p:cNvSpPr/>
              <p:nvPr/>
            </p:nvSpPr>
            <p:spPr>
              <a:xfrm>
                <a:off x="671400" y="2509920"/>
                <a:ext cx="247680" cy="18720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2"/>
              <p:cNvSpPr/>
              <p:nvPr/>
            </p:nvSpPr>
            <p:spPr>
              <a:xfrm>
                <a:off x="785880" y="2532240"/>
                <a:ext cx="139680" cy="117360"/>
              </a:xfrm>
              <a:prstGeom prst="pie">
                <a:avLst/>
              </a:pr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4"/>
              <p:cNvSpPr/>
              <p:nvPr/>
            </p:nvSpPr>
            <p:spPr>
              <a:xfrm>
                <a:off x="2152800" y="1395360"/>
                <a:ext cx="4709880" cy="72540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5"/>
              <p:cNvSpPr/>
              <p:nvPr/>
            </p:nvSpPr>
            <p:spPr>
              <a:xfrm>
                <a:off x="880920" y="1547640"/>
                <a:ext cx="1306800" cy="684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6"/>
              <p:cNvSpPr/>
              <p:nvPr/>
            </p:nvSpPr>
            <p:spPr>
              <a:xfrm>
                <a:off x="162000" y="2205000"/>
                <a:ext cx="874800" cy="53964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7"/>
              <p:cNvSpPr/>
              <p:nvPr/>
            </p:nvSpPr>
            <p:spPr>
              <a:xfrm>
                <a:off x="130320" y="1549440"/>
                <a:ext cx="75384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38"/>
              <p:cNvSpPr/>
              <p:nvPr/>
            </p:nvSpPr>
            <p:spPr>
              <a:xfrm>
                <a:off x="58752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39"/>
              <p:cNvSpPr/>
              <p:nvPr/>
            </p:nvSpPr>
            <p:spPr>
              <a:xfrm>
                <a:off x="701640" y="247176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0"/>
              <p:cNvSpPr/>
              <p:nvPr/>
            </p:nvSpPr>
            <p:spPr>
              <a:xfrm>
                <a:off x="530280" y="2120760"/>
                <a:ext cx="50652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1"/>
              <p:cNvSpPr/>
              <p:nvPr/>
            </p:nvSpPr>
            <p:spPr>
              <a:xfrm>
                <a:off x="8015400" y="2212920"/>
                <a:ext cx="874440" cy="531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2"/>
              <p:cNvSpPr/>
              <p:nvPr/>
            </p:nvSpPr>
            <p:spPr>
              <a:xfrm>
                <a:off x="8167680" y="1549440"/>
                <a:ext cx="754200" cy="87624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3"/>
              <p:cNvSpPr/>
              <p:nvPr/>
            </p:nvSpPr>
            <p:spPr>
              <a:xfrm>
                <a:off x="8217000" y="2449440"/>
                <a:ext cx="247680" cy="1875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4"/>
              <p:cNvSpPr/>
              <p:nvPr/>
            </p:nvSpPr>
            <p:spPr>
              <a:xfrm>
                <a:off x="8210520" y="2470320"/>
                <a:ext cx="139680" cy="11736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5"/>
              <p:cNvSpPr/>
              <p:nvPr/>
            </p:nvSpPr>
            <p:spPr>
              <a:xfrm>
                <a:off x="8015400" y="2120760"/>
                <a:ext cx="506160" cy="4543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6"/>
              <p:cNvSpPr/>
              <p:nvPr/>
            </p:nvSpPr>
            <p:spPr>
              <a:xfrm>
                <a:off x="6856560" y="1549440"/>
                <a:ext cx="1320480" cy="666720"/>
              </a:xfrm>
              <a:prstGeom prst="pie">
                <a:avLst/>
              </a:pr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82E3-4145-4E77-872C-4184DB38B36E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оэма Гомера «Одиссея»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716000" y="765000"/>
            <a:ext cx="4248360" cy="594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ыслушав рассказ Одиссея феаки снарядили корабль и отправили его на Ита-ку. В это время в его доме женихи донимали его же-ну Пенелопу.Но она вери ла, что Одиссей жив и за-явила,что женится, когда соткет саван для отца Одиссея,который умирал. Весь день Пенелопа ткала ткань,а ночью-распуска-ла ее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760320" y="11736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5.Возвращение на Итаку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71960" y="555948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енелопа стенает перед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воим сыном Телемахом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7" name="Picture 5" descr="1"/>
          <p:cNvPicPr/>
          <p:nvPr/>
        </p:nvPicPr>
        <p:blipFill>
          <a:blip r:embed="rId2"/>
          <a:stretch/>
        </p:blipFill>
        <p:spPr>
          <a:xfrm>
            <a:off x="250920" y="1052640"/>
            <a:ext cx="4176720" cy="4119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" dur="1" fill="hold"/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95280" y="3789000"/>
            <a:ext cx="8569440" cy="291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лужанка раскрыла этот обман женихам.Пенелопе приш-лось объявить что она выйдет замуж за того,кто победит в стрельбе из огромного Лука Одиссея.Но никто из жени хов не смог даже согнуть лук.Тогда Одиссей, переодев-шийся нищим, взял свой лук и выстрелил а затем пере-бил всех женихов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6.Расправа с женихам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25200" y="20350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Пенелопа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11" name="Picture 8" descr="odysseus_penelope"/>
          <p:cNvPicPr/>
          <p:nvPr/>
        </p:nvPicPr>
        <p:blipFill>
          <a:blip r:embed="rId2"/>
          <a:stretch/>
        </p:blipFill>
        <p:spPr>
          <a:xfrm>
            <a:off x="4262400" y="744480"/>
            <a:ext cx="4197240" cy="2967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52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1.Одиссей находит приют у Алкиноя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2.На острове циклопов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3.Встреча с сирен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4.Между Сциллой и Харибдо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5.Возвращение на Итаку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6.Расправа с Женихами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" dur="1" fill="hold"/>
                                  <p:tgtEl>
                                    <p:spTgt spid="1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cc00"/>
                </a:solidFill>
                <a:uFillTx/>
                <a:latin typeface="Times New Roman"/>
              </a:rPr>
              <a:t>Задание на урок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66"/>
                </a:solidFill>
                <a:latin typeface="Times New Roman"/>
              </a:rPr>
              <a:t>Докажите,что «Одиссею» можно использовать в качестве исторического источника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.Одиссей находит приют у Алкино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82" name="Picture 11" descr="2"/>
          <p:cNvPicPr/>
          <p:nvPr/>
        </p:nvPicPr>
        <p:blipFill>
          <a:blip r:embed="rId1"/>
          <a:stretch/>
        </p:blipFill>
        <p:spPr>
          <a:xfrm>
            <a:off x="1547640" y="774720"/>
            <a:ext cx="6193080" cy="43020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5084280"/>
            <a:ext cx="8569080" cy="1621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торая поэма Гомера,«Одиссея», посвящена стран-ствиям Одиссея, возвращавшегося домой, на о. Итака, из-под Трои.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о у алкиноя"/>
          <p:cNvPicPr/>
          <p:nvPr/>
        </p:nvPicPr>
        <p:blipFill>
          <a:blip r:embed="rId1"/>
          <a:stretch/>
        </p:blipFill>
        <p:spPr>
          <a:xfrm>
            <a:off x="4500720" y="692280"/>
            <a:ext cx="3887640" cy="2903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8569080" cy="3205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Через 10 лет Одиссей попал на остров где правил Алкиной.Одиссея нашла Навсикая,дочь царя.Ал киной ласково принял путешественников.На пи-ру сказитель запел о подвигах Ахилесса,Одиссей расплакался и рассказал Алкиною свою исто-рию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1.Одиссей находит приют у Алкиноя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124280" y="19890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у Алкиноя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42920" y="692280"/>
            <a:ext cx="4249800" cy="60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днажды заблудившись он пристал к острову циклопов.Греки вош-ли в пещеру где жил Полифем,сын Посей-дона.Он загнал в пе-щеру овец завалил вы ход камнями и съел 2 человек.Одиссей на-поил Полифема ви-ном и ослепил его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.На острове циклопов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153080" y="602136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Полифем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1" name="Picture 6" descr="polyphemus"/>
          <p:cNvPicPr/>
          <p:nvPr/>
        </p:nvPicPr>
        <p:blipFill>
          <a:blip r:embed="rId2"/>
          <a:stretch/>
        </p:blipFill>
        <p:spPr>
          <a:xfrm>
            <a:off x="907920" y="1125360"/>
            <a:ext cx="3519720" cy="4464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polyphe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67280" y="237960"/>
            <a:ext cx="4392360" cy="33339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3610080"/>
            <a:ext cx="8569080" cy="313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Греки связали баранов по три,спрятались под ни-ми и когда Полифем ощупывал выходящих, ока-зались незамеченными.Они сели на корабль и отплыли.Одисей закричал и назвал свое имя и тогда Полифем попросил Посейдона наказать Одиссея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2.На острове циклопов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45080" y="196380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Полифем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о мимо сирен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140360" y="404640"/>
            <a:ext cx="4178160" cy="33973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50920" y="3573000"/>
            <a:ext cx="8640720" cy="3132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Однажды Одиссей проплывал у о.Сирен.Эти полу-птицы-полуженщины своим пением замнивали путешественников и съедали их.Одиссей приказ гребцам заткнуть уши, а его привязать к мачте. Таким образом он услышал прекрасное пение и смог остаться живым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3.Встреча с сиренами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18160" y="191628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й и сирены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5280" y="3789000"/>
            <a:ext cx="8569440" cy="291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Вскоре путники пережили смертельную опасность. Их корабль проплывал между пещерой где жила Сцилла и с другойстороны находилась Харибда, трижды в день засасывающая воду.Но Одиссей смог провести свой корабль мимо чудовищ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760320" y="189000"/>
            <a:ext cx="7772400" cy="503280"/>
          </a:xfrm>
          <a:prstGeom prst="rect">
            <a:avLst/>
          </a:prstGeom>
          <a:solidFill>
            <a:srgbClr val="f8f8f8"/>
          </a:soli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4.Между Сциллой и Харибдой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07480" y="1886040"/>
            <a:ext cx="297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килла и корабль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Одиссея.Фреска.2.в.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203" name="Picture 7" descr="scilla"/>
          <p:cNvPicPr/>
          <p:nvPr/>
        </p:nvPicPr>
        <p:blipFill>
          <a:blip r:embed="rId2"/>
          <a:stretch/>
        </p:blipFill>
        <p:spPr>
          <a:xfrm>
            <a:off x="3851280" y="738360"/>
            <a:ext cx="4321080" cy="2949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6T06:11:42Z</dcterms:created>
  <dc:creator>ЧЕРНОВ АЛЕКСЕЙ</dc:creator>
  <dc:description/>
  <dc:language>en-US</dc:language>
  <cp:lastModifiedBy>ученик</cp:lastModifiedBy>
  <dcterms:modified xsi:type="dcterms:W3CDTF">2012-12-11T06:52:51Z</dcterms:modified>
  <cp:revision>36</cp:revision>
  <dc:subject/>
  <dc:title>Заголовок слайда отсутствует</dc:title>
</cp:coreProperties>
</file>