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162-E761-4F8D-A8D5-C9223691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2D10-9A2E-4885-8665-B146502F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2A848-8250-4B43-AF87-2A8B5B3D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4559E-261B-40A8-BFDA-3683B26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D6B83-719F-4917-92C0-4D5D8664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779CC-18B9-4C0F-A813-917FF5DE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5CC15-2F58-401E-B72F-7C64E5A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E46BD-C036-462E-9B28-6C74B5C2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93029-1387-4D4D-9488-FB329BDD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EAEEC-3743-46A0-A5C6-BCF32F36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8C135-9C28-4528-B0A5-BBB2503F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87969-16BE-497B-A3AF-849CE1CE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DD5-AF68-4BB0-9B68-2A9AEB3F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9A320-FEF4-45D8-9736-079EB37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A913C-B107-49E9-995D-CA7E309A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E9E80-767E-41B1-A487-62E136B3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A6682-44C2-4F8A-9675-5914D9F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B0E05-949C-4D09-9551-9332DEEE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E119E-AEF6-4D7C-AECB-0CB1A31F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33FCA-B6FA-4325-B26D-71849474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DC732-04B7-418B-9109-4AE0C18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EE15F-88F8-46B2-BD14-97F963C5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F2085-777C-4680-B65E-674631C2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24C-A42E-4ABB-A6E8-A7702D7C8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4B192-DD14-4AF4-A6D6-8280E084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05D4B-9741-494A-9B53-E796AFC1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C08A1-A456-440B-8F7B-85D44C1C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4129E-A52B-467F-B3D4-D6E14BD0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2B993-F01D-40F6-A163-65FB8AE5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85332-1A34-4BD1-99C9-3568E353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58F56-B98F-450A-ABB1-CBF3C1B6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918BC-CDB8-45B0-BC7A-B45CDE8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BCDE5-BCD0-4B89-A5D0-0ECEC2A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718E-B2A4-41FD-B4C3-D43A2B8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4C3F-F95A-4224-A47D-DB7DB68F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BFF8F-3987-45B8-9D0A-78E30AB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8D6B8-D48D-416C-B7C5-5E03DCE3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57856-A869-48BE-BBCF-FAF3C849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FDFED-87C8-4BAC-AB53-FC3AC9D7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43803-22E9-4B7E-9DA7-45D916B2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10699D-F83C-4FA7-B42D-8816847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0A152-AA56-4A94-9DE1-D7CF878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8B76B-8D0F-4DDA-87D7-1114656D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DC66B-584A-4CAE-B41E-349C63D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1F84E-3BB8-402B-8D49-4BD0BAB4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180-F7BB-4986-ACEE-FD5D2F8E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2599A-325A-416D-B42D-6CC1072A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36CD5-5080-44FE-B156-F8316BFC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4FAC4-A6AB-40F9-8D31-FDF5A084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9EAA9-DAE4-4646-8D1C-A3BAE4CA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88752-76F3-47F1-AAA6-0DB15D2B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23563-26A6-4E56-A5C4-82734DD2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C0384-11B4-4FA0-99D6-81CCC90E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7145E-C7F3-492B-ACC0-003B476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C9C5A-6452-49B8-91AC-6A62729A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A0CE4-6A37-435C-8C8E-E7B1E83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B39D-6275-4D37-9A08-992E290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62A80-3C40-4AD9-B2F0-982F3A0F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0E12B-59ED-496B-BD1F-76FF208C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B87F5-3C13-4817-86CE-8A9565EB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F10AC-9FD3-41CA-9FD5-544E0B0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CA785-8386-456B-8EBD-006CF281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67C02-E4BF-4E1E-ADAD-7FBD1F86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2DFD9-0F00-4DE9-AE1B-62CFC6FB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F8C663-7690-4E9C-9B0C-98EC17F6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F0F08-63BE-4CA9-B848-8FAD8639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EA3B4-635A-4BE0-A58A-D02541D5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448-CC43-4E34-9BF9-4FE43619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3006F-56BA-4F19-B172-467D01B1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18D92-E25D-40F2-B722-9DABAEA4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18DA1-B91A-44E8-B902-1E7BA071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19D76-253A-43AE-A574-472BAB1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9CBA5-7522-41BE-8ADC-38992013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C0FA0-261E-4404-A3C1-1964AC36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09CDF-91C6-4F05-9245-839D5160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CB379-57CE-418F-A59E-9037BB29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1A75A-2C97-48C1-BF92-173CB3F6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75C39-1BD3-48B8-AE37-49F2682B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399C-7F82-4240-AD7E-6D4C80B1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CC696-00D3-48CD-B12C-93375E25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7E635-B530-4D11-BE24-78BDEEBB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1B765-8445-4DE0-9BF9-90248A3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5E7A20-02AA-41C1-98C0-DCA4369C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C270E-E87F-4EAB-A780-D565EC4C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FDB6E-70A0-4B7A-B259-DC83AFD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75263D-C757-4550-8F58-F99D9A4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C62E4-1671-47AA-8DDD-BA75E4B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ED9AE0-0C46-4E3B-9A78-C402C2C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C1709C-A4E3-4338-B9E8-726C7E68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6AE8-AFCA-48F4-BEA6-5F861B71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369A31-EB46-4943-AE45-80890F3A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7EC41-3867-4C44-AAD4-6F0A52BF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0707E-C9FA-484E-BD0E-115D791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38C89-C9C8-4A5B-A8EA-B9E5B014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7AEDB-2360-4BD2-BCA2-89C33AE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3A7A9-A27C-4D2D-9CC0-F861C81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02A46-1813-47A4-A9E5-A66E1281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427EE-54B8-42C3-9064-393EFE9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67359-94F8-4A3A-ACD6-5BBE643C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160F2-08FB-4479-84E4-D377E41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DA29-63BC-4D6A-B6A5-A27580F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C28F3-B5D4-4680-8832-81F5BE6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6E9BB0-67AF-45E0-824E-BDA60287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800D1-B6DE-49B9-9944-F2994222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66AB5-16C6-492C-A293-6C457D58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AEDEF-0488-45D7-8931-0ECD2567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FA1D7-A1A2-453A-9465-18920FE3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459AC-F166-441C-8B69-DA22906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F7571-6E9D-43C0-ABBF-60D3BB74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4C011-9ABC-45CB-8B17-C4B17AC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C1408-F85C-4B8B-8E61-2D2B57E7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F2F-80CA-4E6D-8D7A-D15FD39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0658-2BF5-4371-9E51-E722896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1FE5F-2324-4376-AFB5-D0BFB7CA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1D082F-62E6-46A4-9D5C-54F4981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24F3A1-F31C-4054-B017-19FF1F9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707062-45D3-4052-8931-BB18FC39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EA4E5-A14D-4C4A-93BF-4DB24943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1EFEA-35C1-48B4-B4EB-CAE53A85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3D00E8-8507-4868-9A4C-6ED4135D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F2CFA-C6CD-4503-AAA5-A1F24F8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1C453-0E7E-4768-B7C1-245C9260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28F6A-EDC6-4B30-9B0C-B0E4874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9354-F163-436D-AC01-03A93C5A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F13D3A-9533-414C-910B-F81DACC7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E03FE7-17D6-480A-8FAA-50FC2A6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AD70C-614C-4552-9D61-CFF29FD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E312B7-A161-494B-AF0E-4D147768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337C36-D3E1-4187-9231-46E5B89F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C0A0D-EE4E-4AEE-81C9-8D9F58A5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42023-74F3-4224-890C-55D002C7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977-B9F7-42F5-B44B-40B0ECEA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147-DD1E-4AC2-8BE3-61A7935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030-888D-49BF-B182-A833D148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BEBE4-2941-4A1F-AE67-F7A5D2AF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1B02-6CED-4900-8C33-02238DE7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9C79-3F8D-4693-AF1C-80D7CCE5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67F68-DA83-48FB-B613-8369BF02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37EC1-BA2A-41AD-A59D-56E75981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08D-50A9-4478-A4D5-4B11D10A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C7FA-E194-4B3C-93D6-988E02B6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35C26-E1B4-446A-B2AA-16EA2273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32EC-BD78-44C8-BD5B-B9B81211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B1A8-B2BC-493C-8197-2AC2C36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729FF-5791-4E67-B820-76C0DD34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BFA3-8E7E-4478-B795-70CC1149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EBC66-4A10-4332-B9D3-C3A8A4AE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027A-AD19-494C-97C0-0A153AA7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BAF45-1036-4D8E-B6A5-000221BB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2A59-D5B1-429D-8B60-FC08428D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187-92B9-4535-B530-5BD6B0B9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B010-9D2F-4942-8C0C-16C83F0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4ADA-E524-4B7E-8632-6CF33F5E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C5087-CD5F-4C9D-AE79-75CD6772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86489-D019-4680-BE39-4A69500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BE136-BB08-487F-8659-1664503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4146C-A8A6-411F-9579-624BCAF0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1F97-CF66-4CA3-8186-1BBB48AC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8465-DDC3-4427-BA7D-20757991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E9269-BF47-4632-9E01-64CA1B8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AE28B-4EC6-4CDA-8A4E-195B82CB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787-3C80-4F20-9B98-60687B5E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40449-FE82-4AB2-BEDD-CBA83783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917CB-3CA4-4DD5-A75D-9E20F0F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1226A-810A-487C-A379-4B41E7A7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435F5-E73C-4867-A839-9F4A9095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2E5A3-BD41-4A4E-B9FB-3233AF08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08DB8-D783-4D1D-9B67-C7D32B67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C596-7EC9-41B2-A1A8-7233B1A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A62DA-36C0-4C15-AE56-1BC4EBA3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5F15-6A7F-4143-BFFF-C00048C5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E6AE-33B7-4937-89F1-2E6DBD83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407-5EDA-4F7B-B42A-95F324EF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7764-A170-4871-AF5A-56FE2B9B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ABEE-DFB7-417D-B0A9-44AAE9BF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A8BF1-5C1C-4012-BB70-33D37FCE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4ED1-3CAB-4BED-B4EA-AF102C92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9261F-7477-4119-BB14-1EE173DA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E635-6422-4C26-9EFC-04AD4F23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667E0-D4D2-4B34-9834-3BA0C7F0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5053-DAE6-45C8-B8AC-A124486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9DC23-0D9A-4D08-A84C-F79841B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0F03-406A-4626-9077-EC256A8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B25-88BE-4030-BDC3-43131E83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B1F65-6EAB-4E9F-85C4-C9FB6195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80A6D-0E99-46E0-889F-819D694D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2210-7FB9-4909-AD4B-D3C05023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1E0D5-106A-4CB7-B50F-3AAADF87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30E0-AB03-465F-B41F-109D31DA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102D-F874-46F5-B226-213549F7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3B1A3-AD43-4506-ADB3-04913A9F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2683B-1FBA-4A24-8322-ABC836BC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C4563-FBA8-4F9C-AB37-E30A16D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1FAD-BA30-4CF0-9555-9A95BC66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C6FE-8EBB-44C1-AAA8-BF4915B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C7D45-21D9-4230-A0DA-FDFC1AF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89F80-4139-47D4-97BE-154BFC1B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00482-BD9F-4AD9-BD74-7256F78D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6EA56-2CEA-415B-89B0-F8685D2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6B26A-639C-49A7-8E05-A9A6C5B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EA63-D440-4BB6-92AF-7F9CAC4B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5B62E-184C-4845-9395-F5AEA777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36342-2DB9-4E14-BD3F-2B67E87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5646-7D11-4170-A6F1-634B31C0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312BC-7680-45E5-8AAD-D7BEF512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1EC4-F8BF-4858-9604-77C62D92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02C22-C37F-4E15-B3F3-7E94E90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EEB5-C548-49E1-8DBE-AE6364C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C1FE7-DB31-4EAB-A6A3-DFE89B5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E8643-C6E0-4B69-8BC5-E60F8B6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15AE3-E9BB-403F-B30F-C97DE530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68D2-68B4-4D28-BDA0-6DDB99B59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7A681-DB95-4C80-A676-C6D0B022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9C6A-F161-47CF-9883-EB58FE17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EB355-D5BC-426A-8A64-6AB281C0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E478B-0C22-4CAA-B007-ECBFB297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10654-7FEA-4821-A362-1A610D7DCA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9BD58-EAC0-4227-8836-CD2526BBFA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6D61D-E7DD-4774-B488-92CF7E6395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360D7-8A40-4960-B05D-94B15AFB15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61536-FAEA-4909-840C-AF50DC8B3E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818E3-E4BC-41DD-80D6-D190150DF0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70031-B6B0-4239-9CCC-02A1543FF4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BDFA4-8450-4772-9D67-8DADEE0C8B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DC364E-2A02-4F85-BE63-477121D4D2B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E661B-11C2-47E4-BB29-DFE54754DB5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246389-5014-4243-82C9-CD74E50AC7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71A00-A011-4C53-BADD-F7AE01A31DE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1F81D-A0BB-428A-8951-AADF3AC473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CA673-1BBD-4FD0-B951-8BFA99A8AF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E4BB9-694A-47FA-B2F0-D5348DF8B42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A51D9-6E08-4B89-9360-2F5A245A9F0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77154-4F38-4666-B14E-3CF2C18E59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DE10C-9278-4CCF-84E2-E5AA192DC1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Text Box 7"/>
          <p:cNvSpPr/>
          <p:nvPr/>
        </p:nvSpPr>
        <p:spPr>
          <a:xfrm>
            <a:off x="1934280" y="2052720"/>
            <a:ext cx="566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ая 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  <a:ea typeface="Arial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Данте Алигьер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468320" y="914400"/>
            <a:ext cx="4496040" cy="51069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Самым выдающимся поэ-том Средневековья стал Данте Алигьери. Родив-шись во Флоренции он окончил городскую школу и затем всю жизнь продолжал учитьс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Пережив несчастную любовь он описал свои чувства в стихах и вскоре стал известным поэтом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За борьбу против Папы его изгнали из Флоренции на 20 лет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4" name="Picture 5" descr="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4840" y="1052640"/>
            <a:ext cx="3995640" cy="394488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75" name="Text Box 6"/>
          <p:cNvSpPr/>
          <p:nvPr/>
        </p:nvSpPr>
        <p:spPr>
          <a:xfrm>
            <a:off x="552960" y="5559480"/>
            <a:ext cx="322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оменико де Микелин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анте и три царств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12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entury Gothic"/>
              </a:rPr>
              <a:t>Данте Алигьер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55160" y="4127400"/>
            <a:ext cx="8820360" cy="26352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изгнании Данте написал «Божественную комедию». В ней описывает путешествие в ад. Его проводником стала возлюбленная - Беатриче. В 9 кругах ада он встречает предателей, властолюбцев, корыстолюбцев и др. В поэме отражена картина мироустройства и поставлены важнейшие нравственные проблем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Text Box 5"/>
          <p:cNvSpPr/>
          <p:nvPr/>
        </p:nvSpPr>
        <p:spPr>
          <a:xfrm>
            <a:off x="282240" y="1413000"/>
            <a:ext cx="164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жованн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и Паол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Изгнание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Данте из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лоренци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9" name="Picture 6" descr="1"/>
          <p:cNvPicPr/>
          <p:nvPr/>
        </p:nvPicPr>
        <p:blipFill>
          <a:blip r:embed="rId1"/>
          <a:stretch/>
        </p:blipFill>
        <p:spPr>
          <a:xfrm>
            <a:off x="2268360" y="965160"/>
            <a:ext cx="6481800" cy="295272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ПЛАН УРОК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685800" y="1676160"/>
            <a:ext cx="7772400" cy="4267080"/>
          </a:xfrm>
          <a:prstGeom prst="rect">
            <a:avLst/>
          </a:prstGeom>
          <a:solidFill>
            <a:srgbClr val="ffccff"/>
          </a:solid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1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.Средневековый эпос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2.Рыцар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3.Город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4.Крестьянская литератур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5.Данте Алигьери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7520" y="108000"/>
            <a:ext cx="562608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Задание на урок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685800" y="1371240"/>
            <a:ext cx="7772400" cy="4876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b4a18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Century Gothic"/>
              </a:rPr>
              <a:t>Доказать, что на развитие средневековой литературы оказали влияние исторические события того периода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ый эпос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08640" y="996840"/>
            <a:ext cx="4495680" cy="48801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период средневековья бродячие музыканты соз-дали эпосы, посвященные героическим страницам истор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немецком эпосе «Песнь о Нибелунгах» отражено великое переселение на-родов. Герои совершают богатырские подвиги ради личных интерес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«Песне» ярко отражен рыцарский быт той эпох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47400" y="5734080"/>
            <a:ext cx="37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entury Gothic"/>
              </a:rPr>
              <a:t>Зигфрид.Трагический геро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entury Gothic"/>
              </a:rPr>
              <a:t>«Песнь о Нибелунгах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2" name="Рисунок 2" descr=""/>
          <p:cNvPicPr/>
          <p:nvPr/>
        </p:nvPicPr>
        <p:blipFill>
          <a:blip r:embed="rId1"/>
          <a:stretch/>
        </p:blipFill>
        <p:spPr>
          <a:xfrm>
            <a:off x="798480" y="1052640"/>
            <a:ext cx="320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" dur="1" fill="hold"/>
                                  <p:tgtEl>
                                    <p:spTgt spid="12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-1584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Средневековый эпос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0" y="907920"/>
            <a:ext cx="4495680" cy="525168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Лучше всего сохранился французский эпос - «Песнь о Роланде». Он рассказывает о гибели отряда графа Роланда и о мести Карла Великого за него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Роланд наделен чертами безупречного рыцаря-честен, благороден, верен клятве сеньор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«Песнь» воспевает патрио-тизм и ненависть к врагам Франц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5" name="Text Box 5"/>
          <p:cNvSpPr/>
          <p:nvPr/>
        </p:nvSpPr>
        <p:spPr>
          <a:xfrm>
            <a:off x="790200" y="56610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иниатюра 11 века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к «Песне о Роланде»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6" name="Рисунок 2" descr=""/>
          <p:cNvPicPr/>
          <p:nvPr/>
        </p:nvPicPr>
        <p:blipFill>
          <a:blip r:embed="rId1"/>
          <a:stretch/>
        </p:blipFill>
        <p:spPr>
          <a:xfrm>
            <a:off x="787320" y="1268280"/>
            <a:ext cx="2714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1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7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Рыцарская литература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07640" y="3933360"/>
            <a:ext cx="8915400" cy="285300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Англии и во Франции процветала рыцарская литера-тура, создаваемая трубадурами. Они были образован-ными и до нас дошли их имена. Трубадуры создавали образ идеального рыцаря, воспевали культ Прекрасной Дамы и рассматривали любовь как великое благо. Ры-царская поэзия создавалась на народных языках. Поэты стремились к изяществу языка и точности рифм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Rectangle 6"/>
          <p:cNvSpPr/>
          <p:nvPr/>
        </p:nvSpPr>
        <p:spPr>
          <a:xfrm>
            <a:off x="5952600" y="184464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Гильом де Машо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хвала дама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Миниатюра 14 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0" name="Picture 7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41240" y="777960"/>
            <a:ext cx="4103640" cy="292716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5" dur="1" fill="hold"/>
                                  <p:tgtEl>
                                    <p:spTgt spid="1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47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c000"/>
                </a:solidFill>
                <a:latin typeface="Arial"/>
                <a:ea typeface="Arial"/>
              </a:rPr>
              <a:t>Рыцарская литература</a:t>
            </a: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498920" y="980640"/>
            <a:ext cx="4495680" cy="554364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это же время возникли рыцарские романы и по-вести. В них широко от-разились легенды о Ко-роле Артуре и рыцарях Круглого стола. Окружение Артура, его двор представлялись как мир идеальных рыцар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громное количество про-изведений были посвя-щены любви Тристана и Изольды. Этот сюжет стал классикой мировой литерат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3" name="Picture 4" descr="Эдард Берн-Джонс Последний сон короля Артура в Аваллоне (1881-98)"/>
          <p:cNvPicPr/>
          <p:nvPr/>
        </p:nvPicPr>
        <p:blipFill>
          <a:blip r:embed="rId1"/>
          <a:stretch/>
        </p:blipFill>
        <p:spPr>
          <a:xfrm>
            <a:off x="755640" y="781200"/>
            <a:ext cx="3289320" cy="477360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64" name="Rectangle 5"/>
          <p:cNvSpPr/>
          <p:nvPr/>
        </p:nvSpPr>
        <p:spPr>
          <a:xfrm>
            <a:off x="675360" y="5554800"/>
            <a:ext cx="290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Эдард Берн-Джонс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оследний сон короля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Артура в Аваллоне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fill="hold"/>
                                  <p:tgtEl>
                                    <p:spTgt spid="1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Городская литература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419720" y="907920"/>
            <a:ext cx="4495680" cy="482472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12 в. литературные про-изведения стали созда-вать горожане. Они лю-били короткие басни и стихи. В «Романе о лисе» (Франция) под видом зверей изображаются люд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Лис-горожанин, в борьбе с волком – дворянином    -выходит победителем, но притесняя петуха и зай-ца, оказывается в проигрыше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6" descr="Рисунок1"/>
          <p:cNvPicPr/>
          <p:nvPr/>
        </p:nvPicPr>
        <p:blipFill>
          <a:blip r:embed="rId1"/>
          <a:stretch/>
        </p:blipFill>
        <p:spPr>
          <a:xfrm>
            <a:off x="755640" y="961920"/>
            <a:ext cx="3267000" cy="5234040"/>
          </a:xfrm>
          <a:prstGeom prst="rect">
            <a:avLst/>
          </a:prstGeom>
          <a:ln w="76320">
            <a:solidFill>
              <a:srgbClr val="766f54"/>
            </a:solidFill>
            <a:miter/>
          </a:ln>
        </p:spPr>
      </p:pic>
      <p:sp>
        <p:nvSpPr>
          <p:cNvPr id="1268" name="Text Box 7"/>
          <p:cNvSpPr/>
          <p:nvPr/>
        </p:nvSpPr>
        <p:spPr>
          <a:xfrm>
            <a:off x="608400" y="6338880"/>
            <a:ext cx="37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  <a:ea typeface="Arial"/>
              </a:rPr>
              <a:t>Роман о лисе. Миниатюра 13 в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1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22440" y="76320"/>
            <a:ext cx="7772400" cy="70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Крестьянская литература</a:t>
            </a: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478400" y="1279440"/>
            <a:ext cx="4495680" cy="5322960"/>
          </a:xfrm>
          <a:prstGeom prst="rect">
            <a:avLst/>
          </a:prstGeom>
          <a:solidFill>
            <a:srgbClr val="000000"/>
          </a:solidFill>
          <a:ln w="76320">
            <a:solidFill>
              <a:srgbClr val="766f54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Мировоззрение крестьян отразилось в устном на-родном творчестве. В пе-снях и сказках он стремится к добру и достигает цели с помошью волшебств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В Балладах ситуация иная. Робин Гуд активно про-тестует против неспра-ведливости и полагается на свою хитрость и помощь друзе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Рисунок 2" descr=""/>
          <p:cNvPicPr/>
          <p:nvPr/>
        </p:nvPicPr>
        <p:blipFill>
          <a:blip r:embed="rId1"/>
          <a:stretch/>
        </p:blipFill>
        <p:spPr>
          <a:xfrm>
            <a:off x="395280" y="893880"/>
            <a:ext cx="380052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1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66f5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/>
  <dc:description/>
  <dc:language>en-US</dc:language>
  <cp:lastModifiedBy/>
  <dcterms:modified xsi:type="dcterms:W3CDTF">2023-11-13T11:37:58Z</dcterms:modified>
  <cp:revision>34</cp:revision>
  <dc:subject/>
  <dc:title/>
</cp:coreProperties>
</file>