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5A9-6BAC-495B-9FCB-5ED8DD8F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953-B78D-4847-88F0-B5848889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B6090-8854-450D-85F4-87CE90DB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63A7D-6CA8-4075-9AB2-124F9D5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04BA5-1130-4FB5-85C4-53EA435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152F8-766E-4C91-8BE6-91182957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A62F5-510F-4EB8-A1B6-6FA70790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4EC9C-BBFB-41C1-AFA3-B1F886A6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D6FEC-544A-4DE5-B962-D604F441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AF95D-227D-462D-B625-90315777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F2DAB-A8E2-45A6-9BDF-704D26CC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EE69A-4E48-4B52-B868-9455D09D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2F7-40EC-4285-A715-6CD8AF09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AF4EF-C0F5-46A7-9AE3-074E1667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E57D2-1295-44CA-8D4A-DDBB8A62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61286-4D24-41FD-B560-BC90BB13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07C22-8F0A-4062-BF25-F77C45E9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3A8B1-6072-4B7D-9CFC-5D3F0F2C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1FB30-40C0-4062-AFD9-DA610824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80E33-8E65-4015-AC9F-4EF5F51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33AFD-60D6-4C30-A476-30E7A856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2408C-8BE8-47E6-ABC8-21F6667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19ED9-E56B-4A3B-BCBD-F32F63DC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E4F-0E18-4F4F-8C59-409B6B7B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60F57-19B0-4A2B-9B13-39EE38B1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45152-226A-4FF6-9E5A-CA3A1658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08552-1D15-4C97-8894-421D2279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97709-A015-4850-85DA-6689CDFD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4D0D6-000A-4BE5-9F0E-53936CD5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D3A83-157C-4AF5-8F7F-5FB50AD7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277F8-B23C-4F08-926D-12CAFB40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5DB7E-7772-4259-8D2B-7C44A54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B0722-9B39-49C6-B314-895F902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71424-A266-4D8F-9FDE-8C29BA7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B44-AE7F-408A-A21D-FCD23743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CCC97-2C73-4BE6-9B51-E57D9A9C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82D9E-6FB4-4CE6-AD2C-15E0E398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A54C3-FF4A-415B-BBF6-29228816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8BA17-C6CA-4D94-8374-836DF07B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AB85A-5BD8-4480-869A-C1EB4875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5D215-C2E1-47C7-8CB2-C74B0041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EEF53-18AD-42D8-BCC3-48D2D1E1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BB7DB-8CF3-4BEE-B5E0-8CAE3054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54BC5-E706-42CC-A931-42D5CAF8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3736B-E59C-4703-8E8E-FA9F465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48F6-2810-4515-9CC4-7DD14E61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3746E-FB2A-4CBD-974A-196FCF7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9E5D0-ABAB-491F-BC45-2740F5C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40974-6DCB-4BD7-935E-488DBF79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D724D-048D-459B-A5F8-30792C7C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11D2C-B9A9-4874-843E-F16598C1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BA546-C665-4F15-B000-C4CE80B1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F1896-CC4A-46FE-A8CF-DDAEB0D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4E649-C70B-49F2-AF7A-88D0D81F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E8518-B84C-4539-AE99-87D8A963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020E5-5D5E-42E5-A686-011CFF43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8268-7DB6-4C98-A25A-1B26120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156E7-A427-4475-8280-C966AD08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034B9-C3DB-4218-B2A3-6BC2611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3455C-7577-4B89-A539-CAC04FB9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93FD3-F402-464D-947F-F999861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11CD2-B154-4C34-A15C-3E329F23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D91FF-856C-4A12-9DFD-ADB1D9D5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9DC62-7E39-4CB2-B5A0-B8CEC600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CA950-0215-48A0-8565-F4595655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B046D-CAA7-4A58-9827-BF0EC5CE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7989A-85F7-4BE7-8825-A09152F7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EDB7-FDDA-447B-9039-59D711BD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E0EF0-80DA-4E1C-A3D4-62B2785D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EFB05-3FAE-4DBE-A73F-AD9040D7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8786F-0B49-49DA-B33F-61280252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2CE0C-EF77-43F0-B014-D567A33D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36805-765C-460F-8E8A-C13A7D39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1C789-5E85-42FB-95C9-D4858336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C734C-CAE2-484E-8ED8-B3D795DE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3F542-3CE9-4353-8B3D-23C87B66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73CFC-23C0-4917-87BA-FE788408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01911-D395-4E9C-A6F8-D3DC91FE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4B85-E587-471B-8AF1-D68A3B17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D8C17-85B3-4DF0-B370-7830DD64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16229-5958-4BB3-BE52-C44C0E3D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4DB3B-B77E-40A9-85C2-F805E17E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0151E-2558-4738-8C91-539D4956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F9583-F72E-435F-AB6E-F7D5337D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4C5C5-3628-42D0-B729-252EBBBD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621EB9-5A99-4721-BE4E-99800952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00876-9401-4CC3-A7B5-6769C7C0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10723-32BC-416E-90B2-99FA68BC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6BFC0-9CE7-45BA-B77D-A8D62BEF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70E5-850A-4827-9D89-17AEE6EE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C6698-FDD3-42C8-807E-C4331073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A35A4-4296-4ABC-9AA8-1795DE98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9A64E-5512-4BE9-ACF4-26DD22DB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F0562-00EA-4568-BE15-F5DB6C7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14D0B-538B-4024-A553-6A0BCE69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89A0C-A90A-49A1-8197-DBAC6605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FECA3-AC53-4EBA-9174-E8F17629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BA40F-B49E-441D-9E2A-BCC267B9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93A95-8A00-4356-8C2C-CC3E0C1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45651C-155F-4A71-B446-7F663036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4883-ACAA-4927-A89F-372BEC93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B08E0-3429-4C7A-A304-3982EFD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5967C-F355-4445-B2A4-183079A2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F8604-BADD-4570-A249-E5A790FD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4BA3D-26C9-4DAF-92EC-BAF2FFC4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9AFD7-29D2-4386-9729-0DA1766C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9EEBB-544B-4B29-A9EB-7071318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171B63-A79F-4E65-B1ED-100D356F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47226-7B0A-4373-889B-76F81231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2827C-26D2-44AC-AA01-E7982E3D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044A9-5C7A-4041-B1C6-7BD0FD8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418-78C6-49AC-A273-FA514FBC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D187-E2DC-4A85-ADB5-7D1C55F9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948F5-1CA6-4533-B713-67279CA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357080-76DB-4D7D-AFAE-35B42B85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E707C-6715-4078-A3BD-CB80AB94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C1061-E50B-4B36-9543-CECDC793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01DA9-358B-4A9E-BABC-728A288F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77461-F176-424E-A19D-7D2B259C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C5312-70F0-424C-95F1-C8BB787C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479612-AAFD-45EE-A1C9-BBF8654C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14DED-3694-437C-BC63-E459FF8F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13603-BC90-4DEC-BE3B-D7D6DA88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1FC0-17A0-4744-BF48-78D40D0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A0081-E15B-4054-98F0-E6A5302E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729BC-6E2F-426C-BCB7-8E266295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C2544-E586-4F87-BF7B-94C73091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9120A7-E1C2-45E0-B63A-B96BEF1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448E2-744C-42ED-B332-111B443B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F0348E-844C-4832-9F9D-53BF4821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9CA4D-FEEE-46E0-BC6B-2F27A70E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30E1-8B88-4EFE-A651-F75F7B48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DFB3-DBDB-4FDB-A43D-839B3C11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44AA-E954-4E6B-B091-C88FBADD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D456F-4ACD-4434-8FAF-FC79A875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9DB2-54E6-4ED3-AD97-461EBE70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015C-20A6-4D59-8730-E3C9D8D5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38C3-48E3-4E0E-B4A4-FE808DA0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8ECC-3F90-40B3-AB76-0B2AB014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6EC-E70A-4C9C-8907-DFF8266C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F622-9DB7-4253-94D4-225C1CB8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661D-F7F0-4743-807A-7DDF6128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2C5A-260E-4711-882F-D2A020AA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59BA-6D0B-40D1-B846-A246FAB1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51B2-70AE-4BCF-80FA-D266D5B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C476-0748-4CB1-83D2-9FE9FB6D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D8E3-4328-40FE-8FB0-89A26D9B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8A12-9A56-4774-8177-86B0535C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3DC8-409B-4551-A1C2-17A0F268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4BC4-1892-4480-BA9E-3F8D02FC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74C-C3E4-4A4C-A7D7-1D68B650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883D-DCA5-4688-B313-97D7ECED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B9E3-81F4-4DB0-B3F7-560673F6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02AA6-4123-4C99-8334-606CD5CA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E7BA-4C9B-47C4-AE82-1F227EC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2470E-EC45-416D-B10F-0E1BCB32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01B6-D0DE-41C8-A031-9E0F6C9C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5F9F8-D55E-40AC-A73B-1488CECE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FA16-D3BF-44A2-85A3-40BB674C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7693F-1A3E-4DB5-BC20-8A77E6CE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FEF0B-0253-471F-B082-C41C0F17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438-F755-443C-B98F-B31E12CE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74A9B-39AA-4FDE-964C-3F16E09D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D24F4-901B-43C9-84E1-6E9726A3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A90F0-1DE9-4633-A997-371C0018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5DBAC-AC32-48CC-944F-E7C9D07B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B2E33-E7D7-4F1D-8C5C-2A06F5C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157D-6122-4F7A-99E0-18B6FEFA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24D91-2B1B-4275-B33C-88F5D10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A7181-759C-4B81-A00D-74CDB0D3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7C442-5D37-4F68-9640-2EF8FDF2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84179-9F13-48FD-873F-43D8D3D6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714-9BF5-4BC9-8555-C797B24B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3367B-A348-4FEF-9C54-B5593D2D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08D6F-B32D-4CFB-9656-D4B1CC8E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E26FA-125B-4732-9617-DE9473CC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3F67-395D-42EF-A7F5-D771D140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40E4B-1DA3-4ABB-9024-8EC9F668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0263-F20B-4699-A97A-1F365DCB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B10B3-DE99-4D1F-A1C2-576C3BB6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B903E-8B54-4F8C-982B-DBB7BAC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3DA6B-0275-464A-90DA-3106559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0523-3066-4504-9CB5-9AF43965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A7C-52C4-46AE-A21D-54BE9D84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A080E-23FF-4811-AA38-4A8E531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3F63F-081B-4FE4-B68A-187B5BE9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B029-D025-429D-97B1-9400BEA3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6A6DC-6F58-442D-817C-54C855EB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7B0B1-3E57-4C60-8CF5-AD8DDF6A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76E26-5968-41C6-8B15-EB4DEE96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C281-0D1A-42B7-9097-43E5F160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F17FC-00C7-447F-B7E5-7F02AF0F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90835-873E-45F8-A37E-B5F42419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92A8C-02D3-43CF-B854-9431A20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6CC-5900-4D0F-9790-5D1137C3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62EE3-021B-4A27-B408-40D465F3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9059A-61B8-4C14-AC7E-E6E36D84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B318F-C4B3-4F0F-BDD9-33C7B8E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B471-DEAB-408D-B227-EEA3A456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CECC3-922B-418B-8C31-5D163423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CAFA5-9E80-49D5-9F40-624E6B8B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AD3F9-335E-4945-8AB8-2006B099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8A41-42E9-4DF8-9343-E3B49F5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A871-0F60-4ECE-A8BE-8EF49D44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4FF3B-90EB-47BD-9A08-B7FFF3A2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EDE-AEF5-4AA4-A99B-1FAB145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616A4-84F1-4F5C-8D21-2ACB3451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1AEA-A571-4577-AE72-D7D3091C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650C-421C-4B91-BF3B-8D22E643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29C1-791A-4201-94A5-2F0E20D6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272C7-B9B2-4218-B611-E70DFE6A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8594-67BE-4D93-8542-925B0813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96FC2-6B5B-4954-AA51-79FCCCC9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EF1F5-CDA0-45C6-AACD-E380239E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755AA-0A81-4891-9CB4-216CD7A2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5F39D-CE2C-4E37-88CE-83CB4128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B46E3-4ADF-4777-BDFC-457D57595C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E7DCF-7B26-4F40-8771-9EE57046B2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D9A69-0975-4A45-A644-691AE1266E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FB5A7-85A7-4DD0-8786-73096271DB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9AB6F-BC6E-44CF-AFE5-BEF755E24A8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67124-0BF6-46FE-A924-C647DC6F92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D4032-DB11-4824-BDCE-3FD89EE85AA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7E10A-4A32-476A-AFB6-DA96A45E26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B2F17-3352-4C82-A034-3CF914F7648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D36F4-0D5D-4C4B-AD69-3D7F87873CA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D18A2-D53B-4218-896C-2471935A00C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793FD-34A8-4E04-95C1-49DD896AD8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4DA59-0666-4E5F-A32C-F15223AF78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72380-50E5-4B99-9A61-EE638A10EF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4783A-5649-486D-AB27-8402B42F8E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A91D6-C067-4BDB-99BE-2854100F9BA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77A48-D89B-4D53-9E2C-7F9D387F5DB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D65A2-D46A-4A0F-A789-7966B30749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Text Box 7"/>
          <p:cNvSpPr/>
          <p:nvPr/>
        </p:nvSpPr>
        <p:spPr>
          <a:xfrm>
            <a:off x="1934280" y="2052720"/>
            <a:ext cx="566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  <a:ea typeface="Arial"/>
              </a:rPr>
              <a:t>Средневековая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  <a:ea typeface="Arial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Данте Алигьер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468320" y="914400"/>
            <a:ext cx="4496040" cy="51069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Самым выдающимся поэ-том Средневековья стал Данте Алигьери. Родив-шись во Флоренции он окончил городскую школу и затем всю жизнь продолжал учитьс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Пережив несчастную любовь он описал свои чувства в стихах и вскоре стал известным поэтом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За борьбу против Папы его изгнали из Флоренции на 20 лет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4" name="Picture 5" descr="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4840" y="1052640"/>
            <a:ext cx="3995640" cy="394488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  <p:sp>
        <p:nvSpPr>
          <p:cNvPr id="1275" name="Text Box 6"/>
          <p:cNvSpPr/>
          <p:nvPr/>
        </p:nvSpPr>
        <p:spPr>
          <a:xfrm>
            <a:off x="552960" y="5559480"/>
            <a:ext cx="322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Доменико де Микелино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Данте и три царств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6" dur="1" fill="hold"/>
                                  <p:tgtEl>
                                    <p:spTgt spid="1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Данте Алигьер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55160" y="4127400"/>
            <a:ext cx="8820360" cy="263520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изгнании Данте написал «Божественную комедию». В ней описывает путешествие в ад. Его проводником стала возлюбленная - Беатриче. В 9 кругах ада он встречает предателей, властолюбцев, корыстолюбцев и др. В поэме отражена картина мироустройства и поставлены важнейшие нравственные проблемы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8" name="Text Box 5"/>
          <p:cNvSpPr/>
          <p:nvPr/>
        </p:nvSpPr>
        <p:spPr>
          <a:xfrm>
            <a:off x="282240" y="1413000"/>
            <a:ext cx="164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жованн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и Паоло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згнани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анте из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лоренци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9" name="Picture 6" descr="1"/>
          <p:cNvPicPr/>
          <p:nvPr/>
        </p:nvPicPr>
        <p:blipFill>
          <a:blip r:embed="rId1"/>
          <a:stretch/>
        </p:blipFill>
        <p:spPr>
          <a:xfrm>
            <a:off x="2268360" y="965160"/>
            <a:ext cx="6481800" cy="295272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2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7520" y="10800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ПЛАН УРОК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85800" y="1676160"/>
            <a:ext cx="7772400" cy="4267080"/>
          </a:xfrm>
          <a:prstGeom prst="rect">
            <a:avLst/>
          </a:prstGeom>
          <a:solidFill>
            <a:srgbClr val="ffccff"/>
          </a:solidFill>
          <a:ln w="76320">
            <a:solidFill>
              <a:srgbClr val="fb4a1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1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.Средневековый эпос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2.Рыцарская литератур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3.Городская литератур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4.Крестьянская литератур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5.Данте Алигьер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7520" y="10800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Задание на урок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85800" y="1371240"/>
            <a:ext cx="7772400" cy="4876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b4a18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Доказать, что на развитие средневековой литературы оказали влияние исторические события того периода?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Средневековый эпос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08640" y="996840"/>
            <a:ext cx="4495680" cy="48801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период средневековья бродячие музыканты соз-дали эпосы, посвященные героическим страницам истор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немецком эпосе «Песнь о Нибелунгах» отражено великое переселение на-родов. Герои совершают богатырские подвиги ради личных интерес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«Песне» ярко отражен рыцарский быт той эпох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347400" y="573408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entury Gothic"/>
              </a:rPr>
              <a:t>Зигфрид.Трагический геро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entury Gothic"/>
              </a:rPr>
              <a:t>«Песнь о Нибелунгах»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2" name="Рисунок 2" descr=""/>
          <p:cNvPicPr/>
          <p:nvPr/>
        </p:nvPicPr>
        <p:blipFill>
          <a:blip r:embed="rId1"/>
          <a:stretch/>
        </p:blipFill>
        <p:spPr>
          <a:xfrm>
            <a:off x="798480" y="1052640"/>
            <a:ext cx="3205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12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-1584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Средневековый эпос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495680" cy="52516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Лучше всего сохранился французский эпос - «Песнь о Роланде». Он рассказывает о гибели отряда графа Роланда и о мести Карла Великого за него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Роланд наделен чертами безупречного рыцаря-честен, благороден, верен клятве сеньору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«Песнь» воспевает патрио-тизм и ненависть к врагам Франц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Text Box 5"/>
          <p:cNvSpPr/>
          <p:nvPr/>
        </p:nvSpPr>
        <p:spPr>
          <a:xfrm>
            <a:off x="790200" y="5661000"/>
            <a:ext cx="27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иниатюра 11 века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 «Песне о Роланде»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6" name="Рисунок 2" descr=""/>
          <p:cNvPicPr/>
          <p:nvPr/>
        </p:nvPicPr>
        <p:blipFill>
          <a:blip r:embed="rId1"/>
          <a:stretch/>
        </p:blipFill>
        <p:spPr>
          <a:xfrm>
            <a:off x="787320" y="1268280"/>
            <a:ext cx="27147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12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7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Рыцарская литература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07640" y="3933360"/>
            <a:ext cx="8915400" cy="285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Англии и во Франции процветала рыцарская литера-тура, создаваемая трубадурами. Они были образован-ными и до нас дошли их имена. Трубадуры создавали образ идеального рыцаря, воспевали культ Прекрасной Дамы и рассматривали любовь как великое благо. Ры-царская поэзия создавалась на народных языках. Поэты стремились к изяществу языка и точности рифм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Rectangle 6"/>
          <p:cNvSpPr/>
          <p:nvPr/>
        </p:nvSpPr>
        <p:spPr>
          <a:xfrm>
            <a:off x="5952600" y="1844640"/>
            <a:ext cx="22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Гильом де Машо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хвала дама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иниатюра 14 в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0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41240" y="777960"/>
            <a:ext cx="4103640" cy="292716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5" dur="1" fill="hold"/>
                                  <p:tgtEl>
                                    <p:spTgt spid="1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7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Arial"/>
                <a:ea typeface="Arial"/>
              </a:rPr>
              <a:t>Рыцарская литература</a:t>
            </a:r>
            <a:r>
              <a:rPr b="1" lang="ru-RU" sz="2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498920" y="980640"/>
            <a:ext cx="4495680" cy="554364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это же время возникли рыцарские романы и по-вести. В них широко от-разились легенды о Ко-роле Артуре и рыцарях Круглого стола. Окружение Артура, его двор представлялись как мир идеальных рыцаре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громное количество про-изведений были посвя-щены любви Тристана и Изольды. Этот сюжет стал классикой мировой литератур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3" name="Picture 4" descr="Эдард Берн-Джонс Последний сон короля Артура в Аваллоне (1881-98)"/>
          <p:cNvPicPr/>
          <p:nvPr/>
        </p:nvPicPr>
        <p:blipFill>
          <a:blip r:embed="rId1"/>
          <a:stretch/>
        </p:blipFill>
        <p:spPr>
          <a:xfrm>
            <a:off x="755640" y="781200"/>
            <a:ext cx="3289320" cy="477360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  <p:sp>
        <p:nvSpPr>
          <p:cNvPr id="1264" name="Rectangle 5"/>
          <p:cNvSpPr/>
          <p:nvPr/>
        </p:nvSpPr>
        <p:spPr>
          <a:xfrm>
            <a:off x="675360" y="5554800"/>
            <a:ext cx="29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дард Берн-Джонс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следний сон коро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ртура в Аваллон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Городская литература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419720" y="907920"/>
            <a:ext cx="4495680" cy="482472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12 в. литературные про-изведения стали созда-вать горожане. Они лю-били короткие басни и стихи. В «Романе о лисе» (Франция) под видом зверей изображаются люд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Лис-горожанин, в борьбе с волком – дворянином    -выходит победителем, но притесняя петуха и зай-ца, оказывается в проигрыше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6" descr="Рисунок1"/>
          <p:cNvPicPr/>
          <p:nvPr/>
        </p:nvPicPr>
        <p:blipFill>
          <a:blip r:embed="rId1"/>
          <a:stretch/>
        </p:blipFill>
        <p:spPr>
          <a:xfrm>
            <a:off x="755640" y="961920"/>
            <a:ext cx="3267000" cy="523404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  <p:sp>
        <p:nvSpPr>
          <p:cNvPr id="1268" name="Text Box 7"/>
          <p:cNvSpPr/>
          <p:nvPr/>
        </p:nvSpPr>
        <p:spPr>
          <a:xfrm>
            <a:off x="608400" y="633888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Роман о лисе. Миниатюра 13 в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12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Крестьянская литература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478400" y="1279440"/>
            <a:ext cx="4495680" cy="53229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Мировоззрение крестьян отразилось в устном на-родном творчестве. В пе-снях и сказках он стремится к добру и достигает цели с помошью волшебств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Балладах ситуация иная. Робин Гуд активно про-тестует против неспра-ведливости и полагается на свою хитрость и помощь друзе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Рисунок 2" descr=""/>
          <p:cNvPicPr/>
          <p:nvPr/>
        </p:nvPicPr>
        <p:blipFill>
          <a:blip r:embed="rId1"/>
          <a:stretch/>
        </p:blipFill>
        <p:spPr>
          <a:xfrm>
            <a:off x="395280" y="893880"/>
            <a:ext cx="380052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1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/>
  <dc:description/>
  <dc:language>en-US</dc:language>
  <cp:lastModifiedBy/>
  <dcterms:modified xsi:type="dcterms:W3CDTF">2023-11-13T11:37:58Z</dcterms:modified>
  <cp:revision>34</cp:revision>
  <dc:subject/>
  <dc:title/>
</cp:coreProperties>
</file>