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8123-59D5-4A67-B5BE-50F26C2F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A5F-9CB9-4BC3-9F56-5194069A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AED1F-A62C-42FC-BA05-E6D0E90A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D37DE-6357-4AC2-A20E-B2C4AFC9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67EDA-002B-4EEB-8C94-30FA21F7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5E067-DF99-4C4A-B64A-B7364D9C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0DC91-2776-411D-828D-1D53C297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FBBAA-EF73-4547-943B-DDF9101C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E429E-A88A-4368-8EF9-37EAD019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5A1EB-764A-4D42-A7F5-238AFC45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1C502-8F91-4565-8B88-F996472B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1A9D4-DD49-433C-B18C-0161CFE1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3DD8-B228-402C-BE1D-33BC3D1A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C8514-A4F8-4D09-88B4-58575E06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C9066-0AB8-410E-936B-F029BB53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331AA-C14D-4E80-8F40-B48AA81A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C3066-14A0-40EC-8224-CB4A5833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87231-318B-4D86-B47E-D62DD42A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E1F7E-E741-41F0-AE58-164D9371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2A25B-BD6A-4FDD-8BEF-C4144F82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544CD-5CBF-4AC6-9A25-08F1AA3E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E16F7-4A7A-4F3D-B043-D4886C5D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D1C87-040A-46F1-8C1C-3C06240C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CB16-FB68-4635-849A-69D29D45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FB244-F316-4F84-A3E8-162F35C9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32F40-0A35-4A7E-8A1D-84771CC1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3677B-752D-4BC2-AD93-E8C15199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546F0-789E-4DFE-90DB-CAC3DC4C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8E2EC-C4CD-4008-AC4E-5A16C4B7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62571-0D9A-47CD-B114-571E65E0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33595-EE9A-4E0E-A0B4-5400A79B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A6792-C9BB-43A5-8D06-5896A367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D7021-B1BD-4E00-B847-0822A629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8923E-2F98-4AE8-B3EA-4F619F37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AB9B-E50B-4DE8-8ADE-AD7065D8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3E2A5-E28C-417C-8CBA-9D714DFB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2C3BA-07B2-485D-979D-A66BD53D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AF6E2-3737-4D36-BED6-3E357257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42341-875D-4AE0-8381-BF30105A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A082F-9ED2-4524-90BE-AB3E5AB2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A231A-D3DA-46D7-8303-F0BDA10C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BD361-A28A-4673-A4B7-05FCFE1E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BEAFC-F9F1-4F1C-8E7A-48F260E5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EF0BB-017F-4142-8A75-7B7F5A65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2EF67-49A3-4756-BA8D-A08CBEDA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0EE7-6B8A-4420-B7CD-BB12DC29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776A3-11B3-4922-A07C-12267D8F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FFD82-5CF3-4259-B88E-8E4448D1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D0878-CA9F-45D1-A38E-D9F9829A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CE84A-6E73-48F4-BE51-075C95CC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A344D-3647-48BD-A019-E7E87E77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945A5-E314-4160-8ECB-4B5B9EBC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813BC-E849-40A4-A54A-5202F555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A4622-3CB5-4C23-ADB5-E43F51C0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E860E-45D7-402D-A61B-37931918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8657D1-7E7F-4C53-AC34-6AD57947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85A5-824E-4308-AF82-CB7C5B09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F7EA7-FB42-4C75-A8A3-A79CAF96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5FEA9-423B-4636-AC02-8DC916DC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3B5546-0723-4C03-B94A-571D57F3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15CD60-FE88-43D9-AFA8-ABFC2761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81CDDF-1F3A-44F4-B03E-EACA4EA1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D23C3-3F2B-4959-BA4E-6FD89ABE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8F48F-9746-4BEF-B8B0-3C22E5E5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02A1C6-B1A7-4C6D-AD1C-2C8AB2AA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1D4697-73F0-4A01-ABC4-45A8FE9C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72A80A-1467-4286-A0E7-BA0B48DA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4C01-ABB4-4207-9F7A-8C9483E4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CF6A65-4E61-48AE-89BE-A1C3A350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D005BA-4049-4745-B2C7-F8DCEA2D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FA7C71-29A6-4281-9775-9067DB5A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80F44B-40E6-4340-A423-0921770F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F680F5-F370-4A3B-BBA7-0E305BAC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E3867E-4CF7-45C5-864E-EAD5CFBF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6900CB-A012-47A7-847A-934C74CD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6AFFED-83FD-441F-8F20-5A44EF9D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C7BA84-896B-405A-A55F-4C5CF18D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158274-A187-4225-863F-ABE6DBC0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6AE1-4F3E-41ED-A88E-B7958AA3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74822B-4486-49E7-BC91-CE434CED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D4CD09-BB5F-4989-9CC6-B12DA6A3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38C2D5-CFA9-4DD6-8036-88D6AE97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6D4E35-F3DA-498A-BB0F-4DD87E9A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E71739-2356-4774-A4F3-093F0B9E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57EB19-71B5-42F4-AD28-9576F70D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1E7621-D2CE-4661-83FD-696D5A5C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9C7596-3B36-4B7E-BCB0-BDF6D226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07CBAD-4D96-4857-9766-5B55CEED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58BBE3-EC5E-442A-89DD-B92F789A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C502-FCC2-4514-A72A-ADD50F20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EC7BB6-FD28-4DBF-B8CD-2C3272D3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F2B58B-59C0-46F9-8668-A578E1F8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6FF7DE-8E02-44D9-9886-F627F39C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0F14A8-BBE2-404F-B86C-6BD30335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F33E63-458C-4D12-B81A-5AEC3199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3CB512-985A-4601-B45A-03700E8A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E9D6A2-8365-4955-BDF3-14749A05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80ADB3-7E8D-4AB5-916B-0A0E37B5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DD5F9B-80C7-4399-876A-FDC1FBB8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C19010-0E1C-41D5-A99F-DFD77B45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31A3-2020-4108-AF3D-B2C2F33A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0E5639-04E3-46AE-A661-775B7401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14BA81-D789-4A3F-BC12-5E8A6D2E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A44CFF-77DE-4D87-B561-F8ACCD27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521C4A-42FA-4523-9CA7-95FABD62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C510D1-489D-4243-86AA-D5F06F1C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72EA39-2B9C-4D4A-BA9C-B0A2B137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6724D4-4B50-4B4A-8F82-964DF7B5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329863-4152-4C6E-978A-0CE06B86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F1E7F0-59BE-4973-8D67-1D28413C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19E41A-68A8-4649-A019-EF935450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656-1E1A-43CC-B3E4-662F5678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3493-0B52-4289-B72D-DA9BEDD5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D6B8F-97BC-4D49-9094-815D5C53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4CA5AD-3001-479C-A3EA-78784AE4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5DD85E-8011-49F6-B352-A2F864DF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22A837-02A3-4CD0-9399-481C1E3D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8935F1-7199-4181-9D7B-C48F19A3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E3A01B-9B74-436C-BC10-56B57A0B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CBBB38-C7E2-4DD5-97D6-0D88DB83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5D08E3-72CC-4AEA-AE0A-295DD633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AF502E-1EC0-43A2-A77C-09B9598C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8674AA-E863-4622-B0FD-0A706D2C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CDA4-A95A-44FD-8573-928897DE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5A1303-21A7-44BD-8982-C7788666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F54E3E-8B0A-4B82-BD6F-6CE755E0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E7DF68-8DAB-48A9-9D75-925EDB62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C15CC3-17A3-491E-877E-52E67151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120ED4-8461-4019-901C-EE08A33C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A08475-BB45-41C1-9B4D-44EA49F1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3A011C-2A58-418E-BBC3-453AE1D0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F4D5-5675-408D-A76C-A196C2BC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8D67-F807-43F0-9D7D-D878B8D2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615A-ABC1-43E1-8903-80CE9D2B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5F44F-790D-44C0-835D-031D110D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152CB-8E89-4F89-8064-55AFF000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A3991-3719-448F-887B-62823C95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7CD59-4471-46E7-B329-E6490428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552C-4644-4BC2-8815-1962BBD6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9B39-166E-48CD-926D-A377E9DD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CF215-5A8E-4702-A88C-73E818C8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4C9DD-4F6B-49B9-973D-38ACAA4A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FC9A2-7093-41D1-B688-4A932A89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CB91B-E388-44A9-BACD-C3873EDC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47B94-7997-43E6-8F64-BF3B9779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63643-3DC2-4798-BA46-05E01A94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1C0F0-C87B-4E42-8B3D-4BD54357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6B4BC-E2F5-40C3-86D3-1CDCC44D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1EB99-210B-45E1-A59A-4D4D9E2B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463DB-4840-4787-9482-9A2245A1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009-2B71-4E58-A067-A47F6961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47DDA-17BE-42AA-93C8-12A747F7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365BF-C81B-4CAD-B117-392A078A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F7E94-F371-48D3-996E-ACB0B36F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D799E-187E-40CA-B48A-3567E63B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98819-DD1C-44C0-A31E-F95075A9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75A29-C190-4300-9595-CD41B899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A6102-81E8-4477-92D2-25B0AE73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776EA-EEA7-4475-A413-74388D02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27EAC-2E24-43BB-A72F-8BD6B739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A239F-A8EA-4A87-81CC-130D23C3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51D8-75B7-41F0-80F0-0BFC6767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79C10-69B9-4072-A783-C5714690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C8644-2877-4EFB-A3C7-4DE7456F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BA0ED-DD4B-4AFE-8351-66B55934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62A7C-CE4C-481A-AFA3-9C32EC0E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BFF21-B918-45FC-A60C-C25CBB48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A4062-2EFB-4FDA-932E-7715DB80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40549-30C2-4F82-B88D-F9EA2AB5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7ADC7-E7EA-40B9-981A-1DFCF152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B94A0-CCD9-4BD6-AD1A-4CD3D3D5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EC2A6-2468-4058-997E-4804228A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82C-8BCA-44A7-BE18-BD1F1A79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9042A-5877-4BB2-B638-792CD92F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87B2B-706F-4D70-9882-00AB659C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04AD5-5B3D-40DE-8AFA-C0BAF997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7D9D1-E357-4315-A8E8-018EEB58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C8B37-8FE7-4663-B693-4602CC47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A54B2-6362-482B-9BA0-92C5DE49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56F70-D016-41BB-B1AC-D614D1BD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25A7C-0203-489D-8C90-C220A9BA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78756-162D-4576-9037-22679459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A2A76-2B53-4CB0-ABB5-DFE7E8B7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F1B3-77ED-4697-8727-6056195A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28C64-8774-4E79-B96F-7E37DB43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452CA-4807-48FB-9C9D-0E964698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88180-6EA6-43A1-B953-3401DE2A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50314-6F1F-4A10-AA72-D0FFC4EB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35359-23D4-479F-9A53-312A1898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8FC66-95BA-4DD5-945B-CCAAB05C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B116A-4816-450F-A3E8-C6DE00E4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7FFFD-2822-4CAB-A943-765F86BF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07923-61D6-4289-B320-13347960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74CA5-68B0-462B-8AFE-FE47980D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C60-0D1B-4958-8C48-774B01AF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9EB39-EC17-4C12-B030-011843A6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00751-28C2-4F9C-8DEB-989E5EF7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4F6E8-53C8-446D-8D83-168D7A68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CB489-D00A-471A-8DAB-78738843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114BF-2114-4D1E-83FE-F5EE4CDE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17AFC-B9B7-421C-9826-89706229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74038-4962-4D55-A53C-8CD18380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D0733-1542-46F3-8244-2C845F0C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5B3AC-B44D-41B7-9DB8-AE5456C0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05213-E0AF-416D-B2B5-6D10E82C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B0F-061E-4BA8-9AFA-B5A87CB0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72A8D-3D1B-422F-A900-A6B90752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80030-50BC-49C1-8AFA-DBD97B14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49C01-1ACF-426E-87F0-ACD3A39C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D66C3-C318-4278-9ECE-C5A1AD74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54D90-A553-4865-A68F-0D10C591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EE67A-1E97-4890-BDB8-6D4EF850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1422A-2DB6-4BB5-BDE1-91DC519B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59501-D609-435A-8D81-DEF3740F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E1F62-6F0C-43A8-9D7A-377C00BC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4E531-9BFF-4247-9C38-299C9B35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03F7DC-4C66-4065-8943-6575CDAF995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6DBED-4ADB-4033-8E55-3A03D9A85B3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0727A-1E3C-48B8-826D-83B94747FF4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E39A5-9A24-4467-AEB4-94150BBDFAC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788EA4-4F1F-44A7-B897-D1810E2B4FD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1A8D82-F1C0-49A6-B4F5-7C1FA034CB9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C785D-7DA5-43B4-B894-B9D16CD354E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748D1-139F-4EC4-A87E-E346D75A875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F32AA-560D-4E6C-B9E0-2D9C4F855D1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1FCEB-E34A-4D80-B77C-BDD818B381F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8CB86-0A70-47F2-9CE1-99588273D42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62BE5-CA87-4CA7-B919-BB13A426D86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6AA5B-6843-4BA0-A5E4-D0D861C0B9C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90519-430C-4B9A-97EE-7857C8AF711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3CC33-4369-4970-A2AB-0BDF76D2082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83DF7-DBC4-43DA-8369-BFF07750284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7B97D-091D-4A97-9B22-0E1481A9E04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ABC45-067A-4506-AE41-991A051B5A2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Text Box 5"/>
          <p:cNvSpPr/>
          <p:nvPr/>
        </p:nvSpPr>
        <p:spPr>
          <a:xfrm>
            <a:off x="1530360" y="1828800"/>
            <a:ext cx="653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entury Gothic"/>
              </a:rPr>
              <a:t>КУЛЬТУРА ВИЗАНТИИ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Живопись</a:t>
            </a: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419720" y="837720"/>
            <a:ext cx="4495680" cy="579132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Перед алтарем размещался иконостас, состоящий из нескольких рядов икон с изображениями Христа, апостолов, святых и вели комучеников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Иконы можно было пере-носить, поэтому они ста-вились и в домах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Одна из византийских икон- «Владимирская Бо гоматерь»-стала русской святыней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86" name="Picture 8" descr="Рисунок6"/>
          <p:cNvPicPr/>
          <p:nvPr/>
        </p:nvPicPr>
        <p:blipFill>
          <a:blip r:embed="rId1"/>
          <a:stretch/>
        </p:blipFill>
        <p:spPr>
          <a:xfrm>
            <a:off x="250920" y="1092240"/>
            <a:ext cx="4006800" cy="536112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12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22440" y="75960"/>
            <a:ext cx="7772400" cy="904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entury Gothic"/>
              </a:rPr>
              <a:t>5.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Влияние Византии на развитие культуры соседних стран</a:t>
            </a:r>
            <a:r>
              <a:rPr b="1" lang="ru-RU" sz="25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787640" y="1127160"/>
            <a:ext cx="4127400" cy="550368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Византия оказала влияние на соседние государств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Принятие христианства по Византийскому образцу объединяло эти народ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В Византию приезжали за знаниями со всей Евро-пы.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Здесь обучались бу-дущие математики, вра-чи, юристы, художники и т. д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89" name="Picture 6" descr="Рисунок8"/>
          <p:cNvPicPr/>
          <p:nvPr/>
        </p:nvPicPr>
        <p:blipFill>
          <a:blip r:embed="rId1"/>
          <a:stretch/>
        </p:blipFill>
        <p:spPr>
          <a:xfrm>
            <a:off x="442800" y="1127160"/>
            <a:ext cx="3878280" cy="525456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2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7520" y="108000"/>
            <a:ext cx="562608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ПЛАН УРОКА.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685800" y="2057040"/>
            <a:ext cx="7772400" cy="3027240"/>
          </a:xfrm>
          <a:prstGeom prst="rect">
            <a:avLst/>
          </a:prstGeom>
          <a:solidFill>
            <a:srgbClr val="ffccff"/>
          </a:solidFill>
          <a:ln w="76320">
            <a:solidFill>
              <a:srgbClr val="fb4a18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1.Развитие образовани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2.Наук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3.Архитектур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4.Живопись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5.Влияние византийской культуры  на развитие культуры соседних стран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8960" y="181080"/>
            <a:ext cx="562608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  <a:ea typeface="Arial"/>
              </a:rPr>
              <a:t>Задание на урок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685800" y="1989000"/>
            <a:ext cx="7772400" cy="3438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b4a18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a53010"/>
                </a:solidFill>
                <a:latin typeface="Century Gothic"/>
              </a:rPr>
              <a:t>ПОЧЕМУ ВИЗАНТИЮ НАЗЫВАЛИ «ВТОРЫМ РИМОМ»?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Развитие образования.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858920" y="980640"/>
            <a:ext cx="4186440" cy="571500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Византия стала наследни-цей античной культур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Государственным языком был греческий язык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По всей стране были отк-рыты школы для детей простолюдинов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В специальных школах готовили чиновников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В Константинополе рабо-тала высшая школа , ста-вшая университетом.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Text Box 5"/>
          <p:cNvSpPr/>
          <p:nvPr/>
        </p:nvSpPr>
        <p:spPr>
          <a:xfrm>
            <a:off x="1003680" y="5584680"/>
            <a:ext cx="2899440" cy="36828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Карта Константинополя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2" name="Рисунок 2" descr=""/>
          <p:cNvPicPr/>
          <p:nvPr/>
        </p:nvPicPr>
        <p:blipFill>
          <a:blip r:embed="rId1"/>
          <a:stretch/>
        </p:blipFill>
        <p:spPr>
          <a:xfrm>
            <a:off x="250920" y="1703520"/>
            <a:ext cx="44798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12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Picture 7" descr="Рисунок1"/>
          <p:cNvPicPr/>
          <p:nvPr/>
        </p:nvPicPr>
        <p:blipFill>
          <a:blip r:embed="rId1"/>
          <a:stretch/>
        </p:blipFill>
        <p:spPr>
          <a:xfrm>
            <a:off x="4870440" y="800280"/>
            <a:ext cx="4176720" cy="165708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4360" y="75960"/>
            <a:ext cx="7772400" cy="6159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Наука в Византии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543280" y="2565360"/>
            <a:ext cx="3544920" cy="422136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fc000"/>
                </a:solidFill>
                <a:latin typeface="Arial"/>
                <a:ea typeface="Arial"/>
              </a:rPr>
              <a:t>-Византийцы сохранили многие античные знания. Они применяли на практике труды греческих математиков- Пифагора, Евклида, Архимеда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ffc000"/>
                </a:solidFill>
                <a:latin typeface="Arial"/>
                <a:ea typeface="Arial"/>
              </a:rPr>
              <a:t>В 9 веке, при императорском дворце работал Лев Ма-тематик. Он ввел буквенные обозначения в алгебре, и создал множество приспособлений в императорском дворце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Rectangle 5"/>
          <p:cNvSpPr/>
          <p:nvPr/>
        </p:nvSpPr>
        <p:spPr>
          <a:xfrm>
            <a:off x="331920" y="1638360"/>
            <a:ext cx="3600360" cy="520704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-Высокого уровня достигла медицина- врачи делали сложные операции. Для подготовки медиков в 11 в. было открыто медучилище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-В Византии развивались химия(производство стекла, красок, «греческого огня», география(составлялись карты), История(писались хроники и другие сочине-ния.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7" name="Text Box 8"/>
          <p:cNvSpPr/>
          <p:nvPr/>
        </p:nvSpPr>
        <p:spPr>
          <a:xfrm>
            <a:off x="1760040" y="83664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Греческий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огонь»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Архитектур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643280" y="1268280"/>
            <a:ext cx="4361040" cy="527688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Принятие христианства привело к изменению ар-хитектуры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 основное вни мание уделялось внутрен нему убранству, ведь вну три проводилось основ-ное богослужение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Своды храма расписыва-лись фресками на темы из Библии и Евангелий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В центр храма падал свет изо всех окон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0" name="Picture 8" descr="Рисунок3"/>
          <p:cNvPicPr/>
          <p:nvPr/>
        </p:nvPicPr>
        <p:blipFill>
          <a:blip r:embed="rId1"/>
          <a:stretch/>
        </p:blipFill>
        <p:spPr>
          <a:xfrm>
            <a:off x="468360" y="965160"/>
            <a:ext cx="3624120" cy="544680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12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9"/>
          <p:cNvSpPr/>
          <p:nvPr/>
        </p:nvSpPr>
        <p:spPr>
          <a:xfrm>
            <a:off x="2666880" y="5334120"/>
            <a:ext cx="457200" cy="457200"/>
          </a:xfrm>
          <a:prstGeom prst="rect">
            <a:avLst/>
          </a:prstGeom>
          <a:solidFill>
            <a:srgbClr val="a530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6062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Arial"/>
                <a:ea typeface="Arial"/>
              </a:rPr>
              <a:t>Архитектура</a:t>
            </a: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560400" y="723960"/>
            <a:ext cx="2647800" cy="510840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Христианские храмы стро-ились по строгому кано-ну(порядку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-Алтарь всегда был обра-щен на Восток,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где нахо-дится святой Иерусалим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-Большие храмы имели боковые нефы- 3 или 5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-Образцом для строительства стал храм св. Софи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-Он был сооружен за 5 лет 10 тысячами рабочих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4" name="Oval 6"/>
          <p:cNvSpPr/>
          <p:nvPr/>
        </p:nvSpPr>
        <p:spPr>
          <a:xfrm>
            <a:off x="1523880" y="5334120"/>
            <a:ext cx="457200" cy="457200"/>
          </a:xfrm>
          <a:prstGeom prst="ellipse">
            <a:avLst/>
          </a:prstGeom>
          <a:solidFill>
            <a:srgbClr val="a530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5" name="Oval 7"/>
          <p:cNvSpPr/>
          <p:nvPr/>
        </p:nvSpPr>
        <p:spPr>
          <a:xfrm>
            <a:off x="1676520" y="5562720"/>
            <a:ext cx="457200" cy="457200"/>
          </a:xfrm>
          <a:prstGeom prst="ellipse">
            <a:avLst/>
          </a:prstGeom>
          <a:solidFill>
            <a:srgbClr val="a530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6" name="Oval 8"/>
          <p:cNvSpPr/>
          <p:nvPr/>
        </p:nvSpPr>
        <p:spPr>
          <a:xfrm>
            <a:off x="1676520" y="5105520"/>
            <a:ext cx="457200" cy="457200"/>
          </a:xfrm>
          <a:prstGeom prst="ellipse">
            <a:avLst/>
          </a:prstGeom>
          <a:solidFill>
            <a:srgbClr val="a530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7" name="Rectangle 5"/>
          <p:cNvSpPr/>
          <p:nvPr/>
        </p:nvSpPr>
        <p:spPr>
          <a:xfrm>
            <a:off x="1981080" y="5105520"/>
            <a:ext cx="914400" cy="914400"/>
          </a:xfrm>
          <a:prstGeom prst="rect">
            <a:avLst/>
          </a:prstGeom>
          <a:solidFill>
            <a:srgbClr val="a5301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8" name="Text Box 10"/>
          <p:cNvSpPr/>
          <p:nvPr/>
        </p:nvSpPr>
        <p:spPr>
          <a:xfrm>
            <a:off x="2090520" y="4025880"/>
            <a:ext cx="653040" cy="36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76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неф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9" name="AutoShape 11"/>
          <p:cNvSpPr/>
          <p:nvPr/>
        </p:nvSpPr>
        <p:spPr>
          <a:xfrm>
            <a:off x="2257560" y="4572000"/>
            <a:ext cx="333360" cy="533520"/>
          </a:xfrm>
          <a:prstGeom prst="downArrow">
            <a:avLst>
              <a:gd name="adj1" fmla="val 50000"/>
              <a:gd name="adj2" fmla="val 40011"/>
            </a:avLst>
          </a:prstGeom>
          <a:solidFill>
            <a:srgbClr val="ffcc66"/>
          </a:solidFill>
          <a:ln w="38160">
            <a:solidFill>
              <a:srgbClr val="76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0" name="Text Box 12"/>
          <p:cNvSpPr/>
          <p:nvPr/>
        </p:nvSpPr>
        <p:spPr>
          <a:xfrm>
            <a:off x="3051720" y="6083280"/>
            <a:ext cx="1195560" cy="36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76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притвор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1" name="AutoShape 13"/>
          <p:cNvSpPr/>
          <p:nvPr/>
        </p:nvSpPr>
        <p:spPr>
          <a:xfrm rot="16200000">
            <a:off x="3276360" y="5486400"/>
            <a:ext cx="533520" cy="533160"/>
          </a:xfrm>
          <a:custGeom>
            <a:avLst/>
            <a:gdLst>
              <a:gd name="textAreaLeft" fmla="*/ 0 w 533520"/>
              <a:gd name="textAreaRight" fmla="*/ 457560 w 533520"/>
              <a:gd name="textAreaTop" fmla="*/ 35568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cc66"/>
          </a:solidFill>
          <a:ln w="38160">
            <a:solidFill>
              <a:srgbClr val="76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2" name="Text Box 14"/>
          <p:cNvSpPr/>
          <p:nvPr/>
        </p:nvSpPr>
        <p:spPr>
          <a:xfrm>
            <a:off x="1505160" y="6248520"/>
            <a:ext cx="1017360" cy="36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76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алтарь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3" name="AutoShape 15"/>
          <p:cNvSpPr/>
          <p:nvPr/>
        </p:nvSpPr>
        <p:spPr>
          <a:xfrm flipV="1">
            <a:off x="1800360" y="5638680"/>
            <a:ext cx="333360" cy="533520"/>
          </a:xfrm>
          <a:prstGeom prst="downArrow">
            <a:avLst>
              <a:gd name="adj1" fmla="val 50000"/>
              <a:gd name="adj2" fmla="val 40011"/>
            </a:avLst>
          </a:prstGeom>
          <a:solidFill>
            <a:srgbClr val="ffcc66"/>
          </a:solidFill>
          <a:ln w="38160">
            <a:solidFill>
              <a:srgbClr val="76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4" name="Text Box 16"/>
          <p:cNvSpPr/>
          <p:nvPr/>
        </p:nvSpPr>
        <p:spPr>
          <a:xfrm>
            <a:off x="436680" y="4635360"/>
            <a:ext cx="1098000" cy="368280"/>
          </a:xfrm>
          <a:prstGeom prst="rect">
            <a:avLst/>
          </a:prstGeom>
          <a:solidFill>
            <a:srgbClr val="000000"/>
          </a:solidFill>
          <a:ln w="12600">
            <a:solidFill>
              <a:srgbClr val="76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апсиды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5" name="AutoShape 17"/>
          <p:cNvSpPr/>
          <p:nvPr/>
        </p:nvSpPr>
        <p:spPr>
          <a:xfrm flipH="1" flipV="1" rot="16200000">
            <a:off x="914400" y="5181480"/>
            <a:ext cx="533520" cy="533520"/>
          </a:xfrm>
          <a:custGeom>
            <a:avLst/>
            <a:gdLst>
              <a:gd name="textAreaLeft" fmla="*/ 360 w 533520"/>
              <a:gd name="textAreaRight" fmla="*/ 457920 w 533520"/>
              <a:gd name="textAreaTop" fmla="*/ 356040 h 533520"/>
              <a:gd name="textAreaBottom" fmla="*/ 534240 h 5335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cc66"/>
          </a:solidFill>
          <a:ln w="38160">
            <a:solidFill>
              <a:srgbClr val="76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6" name="Rectangle 18"/>
          <p:cNvSpPr/>
          <p:nvPr/>
        </p:nvSpPr>
        <p:spPr>
          <a:xfrm>
            <a:off x="6248520" y="757080"/>
            <a:ext cx="2908080" cy="596124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В плане храма основу сос-тавлял крест, образованный основным и  боко-выми нефами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-Центральный неф увенчан 31 метровым куполом, сделанным из легкого кирпича.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Купол опирался на барабан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-Внешнее убранство было оформлено белым и крас ным кирпичом и камен-ными узорами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7" name="Picture 20" descr="1"/>
          <p:cNvPicPr/>
          <p:nvPr/>
        </p:nvPicPr>
        <p:blipFill>
          <a:blip r:embed="rId1"/>
          <a:stretch/>
        </p:blipFill>
        <p:spPr>
          <a:xfrm>
            <a:off x="352440" y="932040"/>
            <a:ext cx="2647800" cy="181260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72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Живопись</a:t>
            </a: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52280" y="4033440"/>
            <a:ext cx="8839440" cy="248436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-Огромную роль в оформлении храма играла живопись. Храм был моделью мира, поэтому в центральном куполе помещали изображение Христа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-Церковь олицетворяла собой святую Палестину и верующие передвигаясь по храму, как бы совершали по ней экскурсию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-Рядом с изображениями Христа были его ученики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80" name="Picture 9" descr="Рисунок5"/>
          <p:cNvPicPr/>
          <p:nvPr/>
        </p:nvPicPr>
        <p:blipFill>
          <a:blip r:embed="rId1"/>
          <a:stretch/>
        </p:blipFill>
        <p:spPr>
          <a:xfrm>
            <a:off x="1008000" y="1125360"/>
            <a:ext cx="7128000" cy="248472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3" dur="1" fill="hold"/>
                                  <p:tgtEl>
                                    <p:spTgt spid="12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Живопись</a:t>
            </a: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1640" y="874800"/>
            <a:ext cx="4419720" cy="586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Изображения в храме дела-лись из мозаики, или рисо вались по сырой штука-турке (фрески)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Живописцы вешали леса и укладывали мозаику, под-бирая оттенки маленьких кусочков смальты, непро-зрачного стекла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-Соборная живопись под-черкивала величие бога и ничтожность человека перед богом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83" name="Picture 12" descr="Рисунок7"/>
          <p:cNvPicPr/>
          <p:nvPr/>
        </p:nvPicPr>
        <p:blipFill>
          <a:blip r:embed="rId1"/>
          <a:stretch/>
        </p:blipFill>
        <p:spPr>
          <a:xfrm>
            <a:off x="468360" y="1125360"/>
            <a:ext cx="3832200" cy="500724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2" dur="1" fill="hold"/>
                                  <p:tgtEl>
                                    <p:spTgt spid="12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2T07:19:48Z</dcterms:created>
  <dc:creator/>
  <dc:description/>
  <dc:language>en-US</dc:language>
  <cp:lastModifiedBy/>
  <dcterms:modified xsi:type="dcterms:W3CDTF">2023-11-09T10:01:43Z</dcterms:modified>
  <cp:revision>39</cp:revision>
  <dc:subject/>
  <dc:title/>
</cp:coreProperties>
</file>