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365-D7C3-45D5-A46A-883C7864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CAA-6EAC-453D-98DE-465ED08F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2C0AC-6855-4F73-9FDA-824CE4E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AE1D-B88E-4243-BA26-718DF681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F8FCF-D2E0-4959-B670-30930D7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7D204-E2DB-4571-9D64-DE70CAB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57C7-B22E-453F-B3A6-4FF04A2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8699D-730C-4E75-9BF7-C7B21105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BC100-BA8A-4F95-8D40-92D8DCA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61B6-FDBF-4382-8E60-92BA6C67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47012-F9EB-4722-8CE8-871B9E72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1375-AD22-42D2-955D-0DC46277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55C-EA65-4834-8A80-CF9A4D17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0C304-0DC2-45A3-A68B-125D35E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8E37-41D6-464D-8682-3FA356B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A52D-C5BC-4F33-BBE7-D95218B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E7CBA-B2A8-4B41-92CA-BDD6E66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02085-E561-47D2-B3D5-C7D8BD4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A3F1C-DE7E-460A-AC12-62C75333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CD0A7-5E31-410F-9118-4B2FCBF6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35849-03E5-4DF2-9DA9-438E99D7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6087E-EF08-44BB-8793-AEA2B9B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0E8B9-B838-478F-A72A-E1012289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839-0BE1-4C90-A480-8072AF60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26D04-1453-41EE-8A34-0593C720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F1462-0DE8-4C82-8B8E-C63966F2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75433-CA08-45D6-ACF9-BDC78113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DE9F8-FC66-498B-9A79-94D807C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8714F-4261-448D-A378-8B09306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E9525-BC2A-4FFF-B110-19B19E46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FF1B-1866-4C58-BC3D-0688750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40A00-8416-448F-963A-25F58C4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26F4-B09F-4C33-A177-2859C88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DA785-0688-4140-B5BC-4BDF15D0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2F5-657A-4A0F-BA31-A85DE0DE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2CF04-B199-487E-BC94-A5DB4939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A20D8-D4E9-4749-91F1-DAE32405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8DEB3-D655-4A2E-B043-7DC665FE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68D52-42AD-4585-872C-8B5FBE1B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2FBA-50EF-4E4B-B879-A3047D0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25983-9615-4E9E-A043-27B3C06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A65D3-8CAF-4341-A956-2C2F9EB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2FEDF-5BE1-4969-A0C8-C8D1B019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B2471-9206-4578-BEA9-BD5D69C1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11151-1055-4A2A-8846-3039182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FDDF-23E0-437D-8756-C296DDE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594FD-0E11-4C38-8D46-F33716F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80827-CE69-4FB8-B494-51145A8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A8DC-9E9E-4BCE-B99D-3F9CB8D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698CF-AD94-4702-B569-47E3A848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C29D5-D48F-4128-A4EF-AEC8B567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215ED-D714-4E61-8EB3-870DEAE2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AA13E-36AF-4B03-9794-40B522E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D8B6F-7E1F-4394-A49C-B7918CD9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77794-F5A6-40DE-9704-7D592F6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3C453-D5E5-4FF5-BE85-38695697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51F5-4677-4E04-BCA5-2579EF35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424BB-1BE6-4A7B-A879-E7C253B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0B860-7CDF-456D-B2AD-038AA74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AC64B-B9A9-40ED-926E-FB49200C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06997-F222-48FD-878C-A9F0FDE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CCE32-69F6-493C-89DF-8005232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E848B-FE01-4F77-9873-3719AB2A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9F9C8-3C6D-4779-8D70-FC641E4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CE7AE-8C03-4066-91AE-A481B370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8FB7E-366E-4BFE-9CB2-211143E3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1B85D-4EED-49BC-9516-4AB892CD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9C4-9BBC-4079-8566-4CA1BC0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91BAA-C9D9-4AB3-8148-39B03E0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988A3-F9DE-4C4D-AB85-7F199CB6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9AEB5-074E-407F-A6C2-253053F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2C227-E71A-4F0E-AD3D-DE98D4D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EBE9D-F161-488E-AA38-9CBD7A3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04836-1B3D-4DF3-ACC9-6EC5817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9345F-7DB1-4969-BDBC-ECFABBB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85631-56A5-48CA-A4F1-4D29AAF6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E3BA0-F692-4E23-BFC9-45E1B41B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CBC0D-BB92-4FD1-B97A-E9847729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6B7-09E5-4E49-B9C8-85E6BE07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B80B8-1E18-473A-89C3-D8D924BE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D0BF9-3167-4FAA-AFF3-DD1DB4D2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EF55E-B7E3-460B-8738-56AE4E46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02E91-9B54-4C0E-840E-4BB4C99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B4743-34FD-466F-BFAE-0B1CE0D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E3699-3CE6-4BCD-B53B-F4614CA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CC607-4F7C-4249-8213-E9DD65E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DBB66-EC72-4049-BDEA-B57D0E4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78A7E-73B7-400B-B163-4618C5B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7D932-54C8-4C23-A23A-C9B02EDD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CD3B-8973-41AB-8426-BD4CF413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6EA9F-96F1-4DB4-BC9D-7A91C27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3ECF5-090C-4600-8A03-0EA7A537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B5120-5D4B-40F1-BA0E-E8B10B0B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D5757-3D95-4FB6-8687-5248C2DA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C8747-5569-4764-A7D4-56126526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7F9E5-DA10-4083-B86B-D4F0840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5BBE2-74F2-4CE5-8251-A67A68BD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90E94-63D4-4C3D-B009-2CB9612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91A00-59FE-43CD-9C42-5361624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448FC-180E-4157-B9BA-8BCE64B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5CBA-74BC-43D0-A794-F63E835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49B42-105F-4B1C-BB13-F864233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10686-1F0B-436F-A0DD-E64C64D6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7AF50-94CD-4AB9-BB0E-DE063AE2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C9566-AC05-4380-BCB0-95F1E9AF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F6C57-7277-4038-B71F-DE644A1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B315B-AC47-4B68-90AA-876763F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58595-B835-424D-9D50-1E501227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C02C2-B333-40C5-B5C9-5EE80A2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4E5BC-6596-4B12-A130-56CC3D50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4B18B-631A-4167-BA45-63412B3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7B5-CDAB-4FFB-8D93-0707846F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10C4-9D21-40C5-B633-DC693EC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06F59-2402-481D-BC91-5B26307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C7D6F-E6C0-4A0D-BEB4-B0221B3B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10C21-CD8E-4AC5-B52A-70EEEA0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A6FBE-EF99-43D5-B6A4-943B3EAB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3687C-CEE0-4157-B613-DA8D2C38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C861D-9F53-4FA1-ADAB-907B7C4A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79F2F-83AB-493C-A7AF-8900EE94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AD0C5-B3DF-4581-9283-6857A7C7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19E76-85EA-43D0-B67E-FA3695BC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BF965-4FBD-41F0-B964-D3169892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E3E-350C-4141-9DA7-A4189C89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0CB98-1C24-4268-9058-FE30E4C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C8387-E137-4370-B64F-B6ED489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34052-E33E-4F2B-B35F-42A7612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08884-5E27-44C5-87FF-BC3C624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CAB78-2AFC-4E69-90EA-5858424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98201-4C6F-4D03-A004-5E472BB1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58172-B434-4479-90EB-58BE02A8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8BF0-7E9A-45AA-A10D-3B50F9E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3DD3-1FC6-474E-96FC-C54896C8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743-F6A6-4DC1-BFA8-FD845A35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0F80-142E-498B-8561-AD2E8B9F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3F7F-1CDB-4544-8DB9-115B1CE9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071F-0A58-4D0A-A792-F939E3C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E7EA-CDEF-49C2-8B05-F8484E29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2824-0A93-43A3-96F2-687CD1C6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49D-F96A-467D-92AC-A3DDFAB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A0D4-EF5E-46A1-9A47-1B0EA843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E228-3FE2-44F1-BD39-385E6F7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BD6-2400-4029-A3C5-A5655AE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9751-56F4-40BC-A43F-8CC6742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FDA0-4205-4D79-BCBA-628CEEA2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0E29-3D79-4FF9-82BD-DF45D5BF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E3ED-5C3E-4A3E-A9E8-40A147ED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85E1-1652-424C-AE23-798D719C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49706-E575-4DB1-9E83-20ABF4F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EC77-C757-48AF-B0D9-F12F678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970-D7D3-4A6F-8511-609336A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9301-E8A6-44DE-A3F3-B28E538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C581-BA51-4972-B4AC-F6F1735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A9D2-A066-465C-91AF-8DFA12A5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8988-66AF-4EE4-B39E-3B57164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A341-5856-47CB-B1E5-80DA69C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313B-70C7-4D78-869B-6BFA3FF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7B93-28E4-4EFC-94B5-E2B54E5F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29EA-FC35-4D5D-BA3D-5376FEA3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4D92-B542-43F2-A81D-B28BBB01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8E9C-C435-42BF-BDC5-78E6D6E2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013-7EC5-4A0F-B8CD-7ACFE07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0B48-99DE-4EBC-9A43-DA05125B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49E1-0A08-4E85-8593-F914DF8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B1CB-2907-4AB3-9497-87AAF6D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7CD8-E9C3-408E-9356-5C98587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9F4A-2B7B-4C25-B254-69A19CF6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B18C-C874-4376-A246-6C2EEF1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BCCD-5076-4667-BA1D-545B350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5066-EE29-46B6-8370-34AE4A2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B146-E89D-4C6F-8D37-22DF6E3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F265-D5DF-486E-B145-E151E5FA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BEF-9D45-48F2-AC2C-2CE50F2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750D-090A-4F5D-9B0C-6ED3EA0E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72CF-5B4D-4C8E-A023-834B4414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90F7D-C76A-4E16-918D-1784F17D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AD19-BCD5-426C-9722-B64AAE4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8D32-77B9-4A34-A585-812AE5F0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6B44-AB1A-45F9-BF7D-069B32F3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7428-DA0A-45D8-8647-02304CE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3B7F-9546-4E20-AEC9-2060E42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FCBB-37E1-44BB-9DAD-6DEED2E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8AE5B-6BEE-44D9-9E6A-233CE3C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AAA-813F-4912-B2A5-4B7A2C2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375E-C7DF-4FA5-9A67-30A3C5B0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41DC-D6E2-4870-A5AE-E398BEF8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B7A8-4EE2-4F12-B408-12C7A9EA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F95C-5DC7-4C99-BC33-54AD0D10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19CE-F3D2-47F3-8009-86638005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1B061-3D15-4DE2-973F-55EC51A1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DAC2-E9B0-493E-A914-68009D7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E9F7-F6BC-4277-A995-F89144B7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3030E-FC65-4B20-A529-B91739B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DAC9-BE2F-43DD-82CB-29BC579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D6D-75EC-4140-A307-50221C3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C338-F652-4541-A58E-7CF288F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D4DF-E9BA-46BC-92CA-3C972E6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50F44-5DA4-4100-BC5B-FAEF609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6D69-29E3-4678-B198-DF0A57C4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8EF3A-D356-42AC-9DFC-EC48E1B8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F8C53-6263-43CB-9232-837D707D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371C3-C190-4A31-9E27-1377751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3EC4-4D6C-4C86-B353-758AE7F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FC2A-D34D-4FDD-B87D-ED5D602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48A1-7EBD-4458-82D0-AF52C1B7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AB6-5542-4C5C-B4FA-448FA23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FBAE-A424-4EE3-9568-C1837A6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3CCF-E35B-4D25-B3A2-628B5D8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D96A-2B54-4F88-85BB-9B40CFB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E5411-7664-4364-9446-FCAB4BC4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AC8C5-BD69-41ED-BF72-2AD15FE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388C0-4AAC-4EFE-9810-40E3888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1A2EA-E8E2-4993-A1B6-82D0233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88CAA-7774-4D5D-A488-E523449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618C-9E97-4846-AA0A-8D007A5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6C9AB-3930-4965-8A05-AEEB7B6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45843-48A0-47BC-A7A4-F3BC1616E7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23C97-8780-4242-91BA-9A910B40E9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386EB-16F4-4F95-9EA4-8453294372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E227-D606-4567-B3EC-679A641D8D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805E3-87B7-4EC9-9F88-8ABCEB91FD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4D83-8915-4C57-9022-1B2CE336B1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3397B-5CFC-4BBE-9599-342D75C1F3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9F458-E363-4BC5-B14A-BEF6341126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87FB1-4C57-43B0-A5FD-020F198FFEE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BE326-E5A3-40EA-AB10-A2C770944D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31679-28AA-49AE-B433-DED6C66149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52B84-0DC2-4458-A36E-D5C15F7BBD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B3B08-ECEA-43D6-B238-6A8EBDA3039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85E5C-7F83-4F51-805F-84F09AB935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9A9E4-B056-470B-B944-365D4C2FF8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C53D6-18E0-4C15-99CB-F15519AE70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E8BBB-13AB-49D3-9DA6-7401E9BF12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5B36A-0FDF-41D2-8B8B-6F0A92FB8C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5"/>
          <p:cNvSpPr/>
          <p:nvPr/>
        </p:nvSpPr>
        <p:spPr>
          <a:xfrm>
            <a:off x="1530360" y="1828800"/>
            <a:ext cx="653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КУЛЬТУРА ВИЗАНТИИ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419720" y="837720"/>
            <a:ext cx="4495680" cy="579132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еред алтарем размещался иконостас, состоящий из нескольких рядов икон с изображениями Христа, апостолов, святых и вели комученик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Иконы можно было пере-носить, поэтому они ста-вились и в дома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Одна из византийских икон- «Владимирская Бо гоматерь»-стала русской святын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6" name="Picture 8" descr="Рисунок6"/>
          <p:cNvPicPr/>
          <p:nvPr/>
        </p:nvPicPr>
        <p:blipFill>
          <a:blip r:embed="rId1"/>
          <a:stretch/>
        </p:blipFill>
        <p:spPr>
          <a:xfrm>
            <a:off x="250920" y="1092240"/>
            <a:ext cx="4006800" cy="53611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2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90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5.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лияние Византии на развитие культуры соседних стран</a:t>
            </a: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787640" y="1127160"/>
            <a:ext cx="4127400" cy="55036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изантия оказала влияние на соседние государ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ринятие христианства по Византийскому образцу объединяло эти наро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Византию приезжали за знаниями со всей Евро-пы.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десь обучались бу-дущие математики, вра-чи, юристы, художники и т. д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9" name="Picture 6" descr="Рисунок8"/>
          <p:cNvPicPr/>
          <p:nvPr/>
        </p:nvPicPr>
        <p:blipFill>
          <a:blip r:embed="rId1"/>
          <a:stretch/>
        </p:blipFill>
        <p:spPr>
          <a:xfrm>
            <a:off x="442800" y="1127160"/>
            <a:ext cx="3878280" cy="525456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2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ПЛАН УРОКА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2057040"/>
            <a:ext cx="7772400" cy="3027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1.Развитие образ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2.Наук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3.Архитектур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4.Живопис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5.Влияние византийской культуры  на развитие культуры соседних стран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8960" y="18108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  <a:ea typeface="Arial"/>
              </a:rPr>
              <a:t>Задание на урок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800" y="1989000"/>
            <a:ext cx="7772400" cy="3438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a53010"/>
                </a:solidFill>
                <a:latin typeface="Century Gothic"/>
              </a:rPr>
              <a:t>ПОЧЕМУ ВИЗАНТИЮ НАЗЫВАЛИ «ВТОРЫМ РИМОМ»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Развитие образования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858920" y="980640"/>
            <a:ext cx="4186440" cy="57150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изантия стала наследни-цей античной культ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Государственным языком был греческий язы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о всей стране были отк-рыты школы для детей простолюдин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специальных школах готовили чиновник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Константинополе рабо-тала высшая школа , ста-вшая университетом.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1003680" y="5584680"/>
            <a:ext cx="2899440" cy="3682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Карта Константинопо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2" name="Рисунок 2" descr=""/>
          <p:cNvPicPr/>
          <p:nvPr/>
        </p:nvPicPr>
        <p:blipFill>
          <a:blip r:embed="rId1"/>
          <a:stretch/>
        </p:blipFill>
        <p:spPr>
          <a:xfrm>
            <a:off x="250920" y="1703520"/>
            <a:ext cx="4479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12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7" descr="Рисунок1"/>
          <p:cNvPicPr/>
          <p:nvPr/>
        </p:nvPicPr>
        <p:blipFill>
          <a:blip r:embed="rId1"/>
          <a:stretch/>
        </p:blipFill>
        <p:spPr>
          <a:xfrm>
            <a:off x="4870440" y="800280"/>
            <a:ext cx="4176720" cy="165708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4360" y="75960"/>
            <a:ext cx="7772400" cy="61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Наука в Византии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543280" y="2565360"/>
            <a:ext cx="3544920" cy="42213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  <a:ea typeface="Arial"/>
              </a:rPr>
              <a:t>-Византийцы сохранили многие античные знания. Они применяли на практике труды греческих математиков- Пифагора, Евклида, Архиме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  <a:ea typeface="Arial"/>
              </a:rPr>
              <a:t>В 9 веке, при императорском дворце работал Лев Ма-тематик. Он ввел буквенные обозначения в алгебре, и создал множество приспособлений в императорском дворце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331920" y="1638360"/>
            <a:ext cx="3600360" cy="52070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ысокого уровня достигла медицина- врачи делали сложные операции. Для подготовки медиков в 11 в. было открыто медучилищ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 Византии развивались химия(производство стекла, красок, «греческого огня», география(составлялись карты), История(писались хроники и другие сочине-ния.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8"/>
          <p:cNvSpPr/>
          <p:nvPr/>
        </p:nvSpPr>
        <p:spPr>
          <a:xfrm>
            <a:off x="1760040" y="8366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Гре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гонь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Архитектур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643280" y="1268280"/>
            <a:ext cx="4361040" cy="52768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ринятие христианства привело к изменению ар-хитектуры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 основное вни мание уделялось внутрен нему убранству, ведь вну три проводилось основ-ное богослужени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Своды храма расписыва-лись фресками на темы из Библии и Евангел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центр храма падал свет изо всех окон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0" name="Picture 8" descr="Рисунок3"/>
          <p:cNvPicPr/>
          <p:nvPr/>
        </p:nvPicPr>
        <p:blipFill>
          <a:blip r:embed="rId1"/>
          <a:stretch/>
        </p:blipFill>
        <p:spPr>
          <a:xfrm>
            <a:off x="468360" y="965160"/>
            <a:ext cx="3624120" cy="54468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9"/>
          <p:cNvSpPr/>
          <p:nvPr/>
        </p:nvSpPr>
        <p:spPr>
          <a:xfrm>
            <a:off x="2666880" y="5334120"/>
            <a:ext cx="457200" cy="457200"/>
          </a:xfrm>
          <a:prstGeom prst="rect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606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"/>
                <a:ea typeface="Arial"/>
              </a:rPr>
              <a:t>Архитектура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560400" y="723960"/>
            <a:ext cx="2647800" cy="51084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Христианские храмы стро-ились по строгому кано-ну(порядк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Алтарь всегда был обра-щен на Восток,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где нахо-дится святой Иерусали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Большие храмы имели боковые нефы- 3 или 5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Образцом для строительства стал храм св. Софи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Он был сооружен за 5 лет 10 тысячами рабочи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523880" y="53341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676520" y="55627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676520" y="51055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Rectangle 5"/>
          <p:cNvSpPr/>
          <p:nvPr/>
        </p:nvSpPr>
        <p:spPr>
          <a:xfrm>
            <a:off x="1981080" y="5105520"/>
            <a:ext cx="914400" cy="914400"/>
          </a:xfrm>
          <a:prstGeom prst="rect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8" name="Text Box 10"/>
          <p:cNvSpPr/>
          <p:nvPr/>
        </p:nvSpPr>
        <p:spPr>
          <a:xfrm>
            <a:off x="2090520" y="4025880"/>
            <a:ext cx="65304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е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AutoShape 11"/>
          <p:cNvSpPr/>
          <p:nvPr/>
        </p:nvSpPr>
        <p:spPr>
          <a:xfrm>
            <a:off x="2257560" y="4572000"/>
            <a:ext cx="333360" cy="533520"/>
          </a:xfrm>
          <a:prstGeom prst="downArrow">
            <a:avLst>
              <a:gd name="adj1" fmla="val 50000"/>
              <a:gd name="adj2" fmla="val 40011"/>
            </a:avLst>
          </a:pr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Text Box 12"/>
          <p:cNvSpPr/>
          <p:nvPr/>
        </p:nvSpPr>
        <p:spPr>
          <a:xfrm>
            <a:off x="3051720" y="6083280"/>
            <a:ext cx="119556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итв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AutoShape 13"/>
          <p:cNvSpPr/>
          <p:nvPr/>
        </p:nvSpPr>
        <p:spPr>
          <a:xfrm rot="16200000">
            <a:off x="3276360" y="5486400"/>
            <a:ext cx="533520" cy="533160"/>
          </a:xfrm>
          <a:custGeom>
            <a:avLst/>
            <a:gdLst>
              <a:gd name="textAreaLeft" fmla="*/ 0 w 533520"/>
              <a:gd name="textAreaRight" fmla="*/ 457560 w 53352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2" name="Text Box 14"/>
          <p:cNvSpPr/>
          <p:nvPr/>
        </p:nvSpPr>
        <p:spPr>
          <a:xfrm>
            <a:off x="1505160" y="6248520"/>
            <a:ext cx="101736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лтар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3" name="AutoShape 15"/>
          <p:cNvSpPr/>
          <p:nvPr/>
        </p:nvSpPr>
        <p:spPr>
          <a:xfrm flipV="1">
            <a:off x="1800360" y="5638680"/>
            <a:ext cx="333360" cy="533520"/>
          </a:xfrm>
          <a:prstGeom prst="downArrow">
            <a:avLst>
              <a:gd name="adj1" fmla="val 50000"/>
              <a:gd name="adj2" fmla="val 40011"/>
            </a:avLst>
          </a:pr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Text Box 16"/>
          <p:cNvSpPr/>
          <p:nvPr/>
        </p:nvSpPr>
        <p:spPr>
          <a:xfrm>
            <a:off x="436680" y="4635360"/>
            <a:ext cx="109800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псид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AutoShape 17"/>
          <p:cNvSpPr/>
          <p:nvPr/>
        </p:nvSpPr>
        <p:spPr>
          <a:xfrm flipH="1" flipV="1" rot="16200000">
            <a:off x="914400" y="5181480"/>
            <a:ext cx="533520" cy="533520"/>
          </a:xfrm>
          <a:custGeom>
            <a:avLst/>
            <a:gdLst>
              <a:gd name="textAreaLeft" fmla="*/ 360 w 533520"/>
              <a:gd name="textAreaRight" fmla="*/ 457920 w 533520"/>
              <a:gd name="textAreaTop" fmla="*/ 35604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6" name="Rectangle 18"/>
          <p:cNvSpPr/>
          <p:nvPr/>
        </p:nvSpPr>
        <p:spPr>
          <a:xfrm>
            <a:off x="6248520" y="757080"/>
            <a:ext cx="2908080" cy="59612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В плане храма основу сос-тавлял крест, образованный основным и  боко-выми нефам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Центральный неф увенчан 31 метровым куполом, сделанным из легкого кирпича.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Купол опирался на барабан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нешнее убранство было оформлено белым и крас ным кирпичом и камен-ными узорам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7" name="Picture 20" descr="1"/>
          <p:cNvPicPr/>
          <p:nvPr/>
        </p:nvPicPr>
        <p:blipFill>
          <a:blip r:embed="rId1"/>
          <a:stretch/>
        </p:blipFill>
        <p:spPr>
          <a:xfrm>
            <a:off x="352440" y="932040"/>
            <a:ext cx="2647800" cy="18126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72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52280" y="4033440"/>
            <a:ext cx="8839440" cy="24843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Огромную роль в оформлении храма играла живопись. Храм был моделью мира, поэтому в центральном куполе помещали изображение Христ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Церковь олицетворяла собой святую Палестину и верующие передвигаясь по храму, как бы совершали по ней экскурсию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Рядом с изображениями Христа были его ученик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0" name="Picture 9" descr="Рисунок5"/>
          <p:cNvPicPr/>
          <p:nvPr/>
        </p:nvPicPr>
        <p:blipFill>
          <a:blip r:embed="rId1"/>
          <a:stretch/>
        </p:blipFill>
        <p:spPr>
          <a:xfrm>
            <a:off x="1008000" y="1125360"/>
            <a:ext cx="7128000" cy="24847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2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1640" y="874800"/>
            <a:ext cx="4419720" cy="586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Изображения в храме дела-лись из мозаики, или рисо вались по сырой штука-турке (фреск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Живописцы вешали леса и укладывали мозаику, под-бирая оттенки маленьких кусочков смальты, непро-зрачного стекл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Соборная живопись под-черкивала величие бога и ничтожность человека перед бого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3" name="Picture 12" descr="Рисунок7"/>
          <p:cNvPicPr/>
          <p:nvPr/>
        </p:nvPicPr>
        <p:blipFill>
          <a:blip r:embed="rId1"/>
          <a:stretch/>
        </p:blipFill>
        <p:spPr>
          <a:xfrm>
            <a:off x="468360" y="1125360"/>
            <a:ext cx="3832200" cy="500724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2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/>
  <dc:description/>
  <dc:language>en-US</dc:language>
  <cp:lastModifiedBy/>
  <dcterms:modified xsi:type="dcterms:W3CDTF">2023-11-09T10:01:43Z</dcterms:modified>
  <cp:revision>39</cp:revision>
  <dc:subject/>
  <dc:title/>
</cp:coreProperties>
</file>