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48D-2377-46A3-9C84-DD253ECB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324-0025-4CB0-9FD1-C1B22021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C01-74AE-4FEC-949D-0AE2BEC2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00A-6ADA-4B78-91A8-06DFA807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60D-5FF7-4F63-92D3-7E522C36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3A4-F022-4768-97E2-C11F7FE0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E23-C6B1-4826-8F75-85889EBF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094-B845-4B4F-9DD7-652A727F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5E76-DD2B-4886-87FA-37DC9882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83D-0903-4AAF-A560-5E89CD6E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D87-C49F-4994-BEE4-E378C2F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868-777C-45D2-BCD5-79A0081A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F051-4779-4D8D-B902-CE2C5BFD8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itech.werd.ru/uploads/posts/thumbs/2008-07-29/1217300388_dna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54;&#1091;&#1101;&#1085;,_&#1056;&#1080;&#1095;&#1072;&#1088;&#1076;" TargetMode="External"/><Relationship Id="rId3" Type="http://schemas.openxmlformats.org/officeDocument/2006/relationships/hyperlink" Target="http://ru.wikipedia.org/wiki/&#1057;&#1082;&#1077;&#1083;&#1077;&#1090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colier/o170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0/00/MendelCOLOR188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ealth.sumy.ua/uploads/posts/2009-04/thumbs/1239473507_1239466179_bioximia_s_upragnencd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wer.ru/files/u1198296/fiziologia_cheloveka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ология — наука о жиз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frog0000"/>
          <p:cNvPicPr/>
          <p:nvPr/>
        </p:nvPicPr>
        <p:blipFill>
          <a:blip r:embed="rId1"/>
          <a:stretch/>
        </p:blipFill>
        <p:spPr>
          <a:xfrm>
            <a:off x="1143000" y="1643040"/>
            <a:ext cx="33861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492000" y="475920"/>
            <a:ext cx="53276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уровнем организации живой материи выделились такие научные дисциплины, как молекулярная биология, цитология — учение о клетке, гистология — учение о тканях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Картинка 14 из 1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2050920" cy="5904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2700360" y="4208760"/>
            <a:ext cx="565164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3360" rIns="0" tIns="39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лекуле ДНК важна любая мело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356000" y="475920"/>
            <a:ext cx="433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логия использует самые различные методы. Один из важнейших — исторический, служащий основой осмысления получаемых фактов. К традиционным относится описательный метод; широко используются инструментальные методы: микроскопия (светооптическая и электронная), электрография, радиолокация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micr-guk_b"/>
          <p:cNvPicPr/>
          <p:nvPr/>
        </p:nvPicPr>
        <p:blipFill>
          <a:blip r:embed="rId1"/>
          <a:stretch/>
        </p:blipFill>
        <p:spPr>
          <a:xfrm>
            <a:off x="395280" y="54936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042920" y="5157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рвиновский м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скоп Р. Гу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image005"/>
          <p:cNvPicPr/>
          <p:nvPr/>
        </p:nvPicPr>
        <p:blipFill>
          <a:blip r:embed="rId1"/>
          <a:stretch/>
        </p:blipFill>
        <p:spPr>
          <a:xfrm>
            <a:off x="1042920" y="549360"/>
            <a:ext cx="2570400" cy="2185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427280" y="549000"/>
            <a:ext cx="4259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амых различных областях биологии все больше возрастает значение пограничных дисциплин, связывающих биологию с другими науками — физикой, химией, математикой, кибернетикой и др. Так возникли биофизика, биохимия, био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p5"/>
          <p:cNvPicPr/>
          <p:nvPr/>
        </p:nvPicPr>
        <p:blipFill>
          <a:blip r:embed="rId2"/>
          <a:stretch/>
        </p:blipFill>
        <p:spPr>
          <a:xfrm>
            <a:off x="971640" y="2924280"/>
            <a:ext cx="2555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038480" cy="3456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никновение жизни и функционирование живых организмов обусловлены естественными законами. Познание этих законов позволяет не только составить точную картину мира, но и использовать их для практических ц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3988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ижения биологии последнего времени привели к возникновению принципиально новых направлений в науке, ставших самостоятельными разделами в комплексе биологических дисциплин. Так, раскрытие молекулярного строения структурных единиц наследственности (генов) послужило основой для создания генной инжене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big_pic_238263"/>
          <p:cNvPicPr/>
          <p:nvPr/>
        </p:nvPicPr>
        <p:blipFill>
          <a:blip r:embed="rId1"/>
          <a:srcRect l="18276" t="12043" r="19646" b="9988"/>
          <a:stretch/>
        </p:blipFill>
        <p:spPr>
          <a:xfrm>
            <a:off x="395280" y="333360"/>
            <a:ext cx="3745080" cy="2863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"/>
          <p:cNvSpPr/>
          <p:nvPr/>
        </p:nvSpPr>
        <p:spPr>
          <a:xfrm>
            <a:off x="324000" y="3429720"/>
            <a:ext cx="38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ериканские биологи предложили использовать методы генной инженерии для борьбы с глобальным потеплением. По их мнению, стоимость проведения генетических исследований уменьшилась настолько, что создание специальных сортов просо для переработки в топливо стало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генной инженерии создают организмы с новыми, в том числе и с не встречающимися в природе, комбинациями наследственных признаков и свойств. Практическое применение достижений современной биологии уже в настоящее время позволяет получать промышленным путем значительные количества биологически актив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P_006"/>
          <p:cNvPicPr/>
          <p:nvPr/>
        </p:nvPicPr>
        <p:blipFill>
          <a:blip r:embed="rId1"/>
          <a:stretch/>
        </p:blipFill>
        <p:spPr>
          <a:xfrm>
            <a:off x="468360" y="333360"/>
            <a:ext cx="2476440" cy="2735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843280" y="476280"/>
            <a:ext cx="5843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снове изучения взаимоотношений между организмами созданы биологические методы борьбы с вредителями сельскохозяйственных культур, многие приспособления живых организмов послужили моделями для конструирования эффективных искусственных сооружений и механизм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32_1138648688"/>
          <p:cNvPicPr/>
          <p:nvPr/>
        </p:nvPicPr>
        <p:blipFill>
          <a:blip r:embed="rId2"/>
          <a:stretch/>
        </p:blipFill>
        <p:spPr>
          <a:xfrm>
            <a:off x="539640" y="3284640"/>
            <a:ext cx="2376720" cy="1782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539640" y="5445000"/>
            <a:ext cx="5113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ция пчелиных сот легла в основу для изготовления «сотовых панелей» для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семья 080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то же время незнание или игнорирование законов биологии приводит к тяжелым последствиям как для природы, так и для человека. Настало время, когда от поведения каждого из нас зависит сохранность окружающего мира. Хорошо отрегулировать двигатель автомобиля, предотвратить сброс ядовитых отходов в реку, предусмотреть в проекте гидроэлектростанции обводные каналы для рыбы, удержаться от желания собрать букет полевых цветов — все это позволит сохранить окружающую среду, среду наш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635280" y="404280"/>
            <a:ext cx="505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лючительная способность живой природы к восстановлению создала иллюзию ее неуязвимости к разрушительным воздействиям человека, безграничности ее ресурсов. Теперь мы знаем, что это не так. Поэтому вся хозяйственная деятельность человека сейчас должна строиться с учетом принципов организации биосф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Картинка 34 из 238"/>
          <p:cNvPicPr/>
          <p:nvPr/>
        </p:nvPicPr>
        <p:blipFill>
          <a:blip r:embed="rId1"/>
          <a:stretch/>
        </p:blipFill>
        <p:spPr>
          <a:xfrm>
            <a:off x="826920" y="404640"/>
            <a:ext cx="2457720" cy="38163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8"/>
          <p:cNvSpPr/>
          <p:nvPr/>
        </p:nvSpPr>
        <p:spPr>
          <a:xfrm>
            <a:off x="755640" y="437832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himbat.ru/forum/viewtopic.php?t=20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артинка 22 из 48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6"/>
          <p:cNvSpPr/>
          <p:nvPr/>
        </p:nvSpPr>
        <p:spPr>
          <a:xfrm>
            <a:off x="2411280" y="2420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загрязнения воздуха пострадало около 5,5 миллионов человек в Сантьяго, Ч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имок сделан 30 июля 1999 го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97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ология — наука о жизни. Ее название возникло из сочетания двух греческих сло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жизнь)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лово, учение). Биология изучает строение, проявления жизнедеятельности, среду обитания всех живых организмов: бактерий, грибов, растений, животных,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31068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492360" y="2060640"/>
            <a:ext cx="2951280" cy="21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3035160" cy="2187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3419640" y="4292640"/>
            <a:ext cx="3024000" cy="218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039_019"/>
          <p:cNvPicPr/>
          <p:nvPr/>
        </p:nvPicPr>
        <p:blipFill>
          <a:blip r:embed="rId5"/>
          <a:stretch/>
        </p:blipFill>
        <p:spPr>
          <a:xfrm>
            <a:off x="6478560" y="2743200"/>
            <a:ext cx="2414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katastrt"/>
          <p:cNvPicPr/>
          <p:nvPr/>
        </p:nvPicPr>
        <p:blipFill>
          <a:blip r:embed="rId1"/>
          <a:srcRect l="0" t="0" r="13317" b="0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456840" y="5084280"/>
            <a:ext cx="86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рубка лесов в Амазонии, Бразилия. Фотография сделана 7 марта 1997 год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в мире вырубается 11,3 миллиона гектаров лес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2" descr="Картинка 14 из 1496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11280" y="620640"/>
            <a:ext cx="271440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780000" y="692280"/>
            <a:ext cx="4906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биологии для человека огромно. Общебиологические закономерности используются при решении самых разных вопросов во многих отраслях народного хозяйства. Благодаря знанию законов наследственности и изменчивости достигнуты большие успехи в сельском хозяйстве при создании новых высокопродуктивных пород домашних животных и сортов культур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ые вывели сотни сортов зерновых, бобовых, масличных и других культур, отличающихся от предшественников высокой продуктивностью и другими полезными качествами. На основе этих знаний проводится селекция микроорганизмов, продуцирующих антибио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6 из 1438"/>
          <p:cNvPicPr/>
          <p:nvPr/>
        </p:nvPicPr>
        <p:blipFill>
          <a:blip r:embed="rId1"/>
          <a:stretch/>
        </p:blipFill>
        <p:spPr>
          <a:xfrm>
            <a:off x="1835280" y="404640"/>
            <a:ext cx="54734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ое значение в биологии придается решению проблем, связанных с выяснением тонких механизмов биосинтеза белка, тайн фотосинтеза, которые откроют путь синтезу органических пищевых веществ вне растительных и животных организмов. Кроме того, использование в промышленности (в строительстве, при создании новых машин и механизмов) принципов организации живых существ (бионика) приносит в настоящее время и даст в будущем значительный экономический эфф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практическое значение биологии еще больше возрастет. Это связано с быстрыми темпами роста населения планеты, а также с постоянно возрастающей численностью городского населения, непосредственно не участвующего в сельскохозяйственном произв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Картинка 1 из 9708"/>
          <p:cNvPicPr/>
          <p:nvPr/>
        </p:nvPicPr>
        <p:blipFill>
          <a:blip r:embed="rId1"/>
          <a:stretch/>
        </p:blipFill>
        <p:spPr>
          <a:xfrm>
            <a:off x="900000" y="404640"/>
            <a:ext cx="5543640" cy="36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акой ситуации основой увеличения пищевых ресурсов может быть лишь интенсификация сельского хозяйства. Важную роль в этом процессе будет играть выведение новых высокопродуктивных форм микроорганизмов, растений и животных, рациональное, научно обоснованное использование природных богат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Картинка 15 из 7119"/>
          <p:cNvPicPr/>
          <p:nvPr/>
        </p:nvPicPr>
        <p:blipFill>
          <a:blip r:embed="rId1"/>
          <a:stretch/>
        </p:blipFill>
        <p:spPr>
          <a:xfrm>
            <a:off x="1908000" y="404640"/>
            <a:ext cx="5077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95280" y="620280"/>
            <a:ext cx="4691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вое на Земле представлено необычайным разнообразием форм, множеством видов живых существ. В настоящее время уже известно около 600 тыс. видов растений, более 2,5 млн. видов животных, большое количество видов грибов и прокариот, населяющих нашу планету. Ученые постоянно обнаруживают и описывают новые виды, как существующие в современных условиях, так и вымершие в минувшие геологические эпо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Dinornis1387"/>
          <p:cNvPicPr/>
          <p:nvPr/>
        </p:nvPicPr>
        <p:blipFill>
          <a:blip r:embed="rId1"/>
          <a:stretch/>
        </p:blipFill>
        <p:spPr>
          <a:xfrm>
            <a:off x="468360" y="476280"/>
            <a:ext cx="36180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611640" y="5300640"/>
            <a:ext cx="3434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чард Оуэ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скеле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08000" y="691920"/>
            <a:ext cx="4978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тие общих свойств живых организмов и объяснение причин их многообразия, выявление связей между строением и условиями окружающей среды относятся к основным задачам биологии. Важное место в этой науке занимают вопросы возникновения и законы развития жизни на Земле — эволюционное учение. Понимание этих законов является основой научного мировоззрения и необходимо для решения практ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Картинка 6 из 3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765000"/>
            <a:ext cx="2685960" cy="400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7"/>
          <p:cNvSpPr/>
          <p:nvPr/>
        </p:nvSpPr>
        <p:spPr>
          <a:xfrm>
            <a:off x="395280" y="494172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эволюционной теории Ч. Дар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логию подразделяют на отдельные науки по предмету из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59160" cy="3341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, микробиология изучает мир бактер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118880" y="530064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едная спирох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87640" cy="29304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42920" y="475920"/>
            <a:ext cx="40388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таника исследует строение и жизнедеятельность представителей царства растений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829800" y="3933720"/>
            <a:ext cx="25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еск обыкно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4643280" y="2708280"/>
            <a:ext cx="3961080" cy="29862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652000" y="595008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илё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925800" cy="2959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42920" y="980640"/>
            <a:ext cx="40388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ология — царства животных и т. 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903600" y="3933720"/>
            <a:ext cx="24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ка обыкнов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889440" cy="2931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6374520" y="6021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к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95280" y="620280"/>
            <a:ext cx="469116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е с тем развиваются области биологии, изучающие общие свойства живых организмов: генетика — закономерности наследования призна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Файл:MendelCOLOR188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549360"/>
            <a:ext cx="34704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4431240" y="357336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дель, Грегор Иога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427640" y="4365720"/>
            <a:ext cx="34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65. Открыты законы наслед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11280" y="404280"/>
            <a:ext cx="4475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химия — пути превращения органических молекул, экология —взаимоотношения популяций с окружающей средой. Функции живых организмов изучает физи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Картинка 1 из 73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286704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Картинка 1 из 1704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2133720"/>
            <a:ext cx="30420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9:31:02Z</dcterms:created>
  <dc:creator>Свиридова</dc:creator>
  <dc:description/>
  <dc:language>en-US</dc:language>
  <cp:lastModifiedBy>User</cp:lastModifiedBy>
  <dcterms:modified xsi:type="dcterms:W3CDTF">2023-11-13T12:25:39Z</dcterms:modified>
  <cp:revision>15</cp:revision>
  <dc:subject/>
  <dc:title>Биология — наука о жизни</dc:title>
</cp:coreProperties>
</file>