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B1C-1536-4433-8117-8A6ADB10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4FB-EA90-4908-A23B-D1D30C0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723-9740-478B-B5FD-A50E158B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E80-D9C5-487C-8B4C-862549E6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6EE-BD8E-4547-9C30-64AF956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57A-8666-4467-BF2D-BBB8121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E88-D7CA-4FCC-AFDB-FA1554D1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FCE-A530-4B94-83BB-6E15E877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0D3-54F7-4FC8-A479-55F3654F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7AE-C76D-40EA-9BD2-AD55ED5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634-F824-4A16-A926-CEFB1D62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A43-F1E9-44D6-83D2-5FB923A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6F0-6838-4A59-8C36-BC755B48B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тый урок: </a:t>
            </a:r>
            <a:br>
              <a:rPr sz="4400"/>
            </a:br>
            <a:r>
              <a:rPr b="1" i="1" lang="ru-RU" sz="6000" spc="-1" strike="noStrike">
                <a:solidFill>
                  <a:srgbClr val="31859c"/>
                </a:solidFill>
                <a:latin typeface="Calibri"/>
              </a:rPr>
              <a:t>«Ручные швы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1471680" y="3860640"/>
            <a:ext cx="62006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Перлик Маргарита Гарик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технологии МКОУ «Защит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Щигровского района, Курской области,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"/>
          <p:cNvPicPr/>
          <p:nvPr/>
        </p:nvPicPr>
        <p:blipFill>
          <a:blip r:embed="rId1"/>
          <a:srcRect l="0" t="23786" r="0" b="7829"/>
          <a:stretch/>
        </p:blipFill>
        <p:spPr>
          <a:xfrm>
            <a:off x="2195640" y="1413000"/>
            <a:ext cx="4321080" cy="1655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404640"/>
            <a:ext cx="77025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ы с вами научимся выполнять строчку временного назначения швом «вперед иголка» или сметочный ш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835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ила выполнения ручных раб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1. Стежки временного назначения выполняют светлыми хлопчатобумажными нитками, хорошо видными на тка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2. Строчки постоянного назначения выполняют нитками в цвет тка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3. Длина ручных стежков должна соответствовать технологическим требованиям (0.5-1.5 см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4. Длина нити около 30 см, шьем нитью в одно сло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5. Сметочные стежки удаляют после стачивания дета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6. Начало и конец строчки закрепляют не узелком, а двумя-тремя короткими стеж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 rot="183600">
            <a:off x="5468760" y="3720600"/>
            <a:ext cx="2897280" cy="262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кже задача нашего сегодняшнего урока - научиться правильно и прочно пришивать пуговицы различными способ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7640" y="2027160"/>
            <a:ext cx="80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авайте вспомним, что мы знаем о пуговицах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ля чего служат пугови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говицы служат для застегивания и отделки различных издел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ие пуговицы бываю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бывают разных размеров, цветов и форм. По форме- круглые, овальные квадратные и треуго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з чего изготавливаю пуговиц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различных материалов (пласт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л, дерево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Пуговицы со сквозными отверсти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пришивают нитками в цвет пугов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rcRect l="0" t="15898" r="0" b="7276"/>
          <a:stretch/>
        </p:blipFill>
        <p:spPr>
          <a:xfrm>
            <a:off x="3851280" y="4292640"/>
            <a:ext cx="4897440" cy="2257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15968"/>
                </a:solidFill>
                <a:uFillTx/>
                <a:latin typeface="Calibri"/>
                <a:ea typeface="Calibri"/>
              </a:rPr>
              <a:t>Физкультминут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одзаголовок 2" descr=""/>
          <p:cNvPicPr/>
          <p:nvPr/>
        </p:nvPicPr>
        <p:blipFill>
          <a:blip r:embed="rId2"/>
          <a:stretch/>
        </p:blipFill>
        <p:spPr>
          <a:xfrm>
            <a:off x="371520" y="1292400"/>
            <a:ext cx="8443800" cy="3792240"/>
          </a:xfrm>
          <a:prstGeom prst="rect">
            <a:avLst/>
          </a:prstGeom>
          <a:ln w="0">
            <a:noFill/>
          </a:ln>
        </p:spPr>
      </p:pic>
      <p:pic>
        <p:nvPicPr>
          <p:cNvPr id="79" name="минус - Разминка на середине.mp3" descr=""/>
          <p:cNvPicPr/>
          <p:nvPr/>
        </p:nvPicPr>
        <p:blipFill>
          <a:blip r:embed="rId3"/>
          <a:stretch/>
        </p:blipFill>
        <p:spPr>
          <a:xfrm>
            <a:off x="78804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2084400" cy="2087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369720"/>
            <a:ext cx="619308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:</a:t>
            </a:r>
            <a:br>
              <a:rPr sz="3200"/>
            </a:b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«Выполнение ручного стежка и строчки,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 пришивание пуговиц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827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ы и инструменты для практической работы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хлопчатобумажная ткань размером 10х15см, различные пуговицы, линейка, ручная игла, нитки, наперсток, ножницы, учеб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сделать всего 10 стежков швом «вперёд игол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тку закрепляют у правого края ткани, делая стежок в 5 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м иглу вводят в точку второго прокола и протаскивают ее вместе с петелькой на изнанку. Пропуская такое же расстояние, иглу выводят на лицевую сторону, делают второй стежок и т.д. стежки располагают в направлении справа нале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ыполним ручной стежок или «сметочную» стр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учимся пришивать пугов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6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104080" cy="828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"/>
          <p:cNvPicPr/>
          <p:nvPr/>
        </p:nvPicPr>
        <p:blipFill>
          <a:blip r:embed="rId2"/>
          <a:stretch/>
        </p:blipFill>
        <p:spPr>
          <a:xfrm>
            <a:off x="717480" y="2403360"/>
            <a:ext cx="3538440" cy="3600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3"/>
          <a:stretch/>
        </p:blipFill>
        <p:spPr>
          <a:xfrm>
            <a:off x="4479840" y="2343240"/>
            <a:ext cx="4098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 rot="21205200">
            <a:off x="431280" y="4093920"/>
            <a:ext cx="2217960" cy="221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2"/>
          <a:stretch/>
        </p:blipFill>
        <p:spPr>
          <a:xfrm>
            <a:off x="6643800" y="426960"/>
            <a:ext cx="2101680" cy="2290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6643800" y="4008600"/>
            <a:ext cx="2101680" cy="2338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468360" y="51912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340000" y="1226880"/>
            <a:ext cx="46800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Я вам предлагаю дополнить фраз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 узнал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 научился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не понравилось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не пригодится это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1619280" y="958680"/>
            <a:ext cx="7216920" cy="5575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682308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д вами карточки в этих карточках подчеркните фразы которые характеризуют вашу работу на уроке. Можно подчеркнуть одну или две фр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67280" y="5744160"/>
            <a:ext cx="36036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1618920"/>
            <a:ext cx="7200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знакомить с приемами выполнения ручных стежков и строчек, сформировать навыки  по их выполнению, научить пришивать пуговицы разными способами, соблюдая технологическую последовательность и технику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3643200" cy="2519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заключение нашего урока хочу привести русские народные пословицы: </a:t>
            </a:r>
            <a:r>
              <a:rPr b="1" i="1" lang="ru-RU" sz="4000" spc="-1" strike="noStrike">
                <a:solidFill>
                  <a:srgbClr val="31859c"/>
                </a:solidFill>
                <a:latin typeface="Calibri"/>
              </a:rPr>
              <a:t>«Не игла шьёт, а руки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4000" spc="-1" strike="noStrike">
                <a:solidFill>
                  <a:srgbClr val="31859c"/>
                </a:solidFill>
                <a:latin typeface="Calibri"/>
              </a:rPr>
              <a:t>«Терпение и труд всё перетру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rcRect l="0" t="0" r="47693" b="25779"/>
          <a:stretch/>
        </p:blipFill>
        <p:spPr>
          <a:xfrm>
            <a:off x="5508720" y="1125360"/>
            <a:ext cx="3336840" cy="473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297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525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 с терминологией по теме </a:t>
            </a:r>
            <a:r>
              <a:rPr b="0" lang="ru-RU" sz="2400" spc="-1" strike="noStrike">
                <a:solidFill>
                  <a:srgbClr val="31859c"/>
                </a:solidFill>
                <a:latin typeface="Calibri"/>
              </a:rPr>
              <a:t>«Ручные швы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авилами выполнения прямых стежков, со способами пришивания пуговиц с различными отверстия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мотно распредели время на выполнение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самостоятельности во время выполнения твор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528120"/>
            <a:ext cx="548316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_Albionic"/>
                <a:ea typeface="Calibri"/>
              </a:rPr>
              <a:t>Поигр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1087560"/>
            <a:ext cx="79308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бята, прежде чем начнём урок мы немного поиграем, будем отгадывать кроссворд, отгадав кроссворд мы узнаем тему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6240" y="1988640"/>
            <a:ext cx="389412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линная …-ленивая шв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Для того … сделан, чтобы палец не наколо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Два кольца, два конца - посередине гвозд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стра, длинна, одноуха - всему миру кра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дёт пароход, то взад, то вперёд, а за ним такая гладь – ни морщинки не ви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4720" y="1773360"/>
          <a:ext cx="4032360" cy="442440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6840"/>
                <a:gridCol w="366480"/>
                <a:gridCol w="366840"/>
                <a:gridCol w="365040"/>
                <a:gridCol w="357120"/>
                <a:gridCol w="376560"/>
                <a:gridCol w="366480"/>
                <a:gridCol w="366840"/>
                <a:gridCol w="366840"/>
              </a:tblGrid>
              <a:tr h="2156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1268280"/>
            <a:ext cx="79930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Ребята, прежде чем начнём урок мы немного поиграем, будем отгадывать кроссворд, отгадав кроссворд мы узнаем тему уро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1040" y="1989000"/>
            <a:ext cx="38293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линная …-ленивая шв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Для того … сделан, чтобы палец не наколо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Два кольца, два конца - посередине гвозд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стра, длинна, одноуха - всему миру кра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дёт пароход, то взад, то вперёд, а за ним такая гладь – ни морщинки не ви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4720" y="1706400"/>
          <a:ext cx="3959280" cy="4602240"/>
        </p:xfrm>
        <a:graphic>
          <a:graphicData uri="http://schemas.openxmlformats.org/drawingml/2006/table">
            <a:tbl>
              <a:tblPr/>
              <a:tblGrid>
                <a:gridCol w="360360"/>
                <a:gridCol w="358560"/>
                <a:gridCol w="360360"/>
                <a:gridCol w="360360"/>
                <a:gridCol w="360360"/>
                <a:gridCol w="358920"/>
                <a:gridCol w="349200"/>
                <a:gridCol w="371520"/>
                <a:gridCol w="360360"/>
                <a:gridCol w="358920"/>
                <a:gridCol w="360360"/>
              </a:tblGrid>
              <a:tr h="223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6"/>
          <p:cNvSpPr/>
          <p:nvPr/>
        </p:nvSpPr>
        <p:spPr>
          <a:xfrm>
            <a:off x="3228120" y="4064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_Albionic"/>
                <a:ea typeface="Calibri"/>
              </a:rPr>
              <a:t>По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ма урока :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215968"/>
                </a:solidFill>
                <a:latin typeface="Calibri"/>
              </a:rPr>
              <a:t>«Ручные шв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826920" y="2394000"/>
            <a:ext cx="367380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4788000" y="3544920"/>
            <a:ext cx="377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337440" cy="422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149720"/>
            <a:ext cx="813744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Шитье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— это скрепление деталей из ткани при помощи иглы и нитки. Это было одно из первых умений, развитых челове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2556000" y="2330280"/>
            <a:ext cx="3384360" cy="253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9120" y="620280"/>
            <a:ext cx="662292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Шагает мастер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 шелку да по ситц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чень мал ее шажок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 зовется он ... 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  <a:ea typeface="Calibri"/>
              </a:rPr>
              <a:t>стежо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3640" y="472716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04a7b"/>
                </a:solidFill>
                <a:uFillTx/>
                <a:latin typeface="Calibri"/>
                <a:ea typeface="Calibri"/>
              </a:rPr>
              <a:t>Стеж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- это законченный процесс переплетения ниток на тка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15968"/>
                </a:solidFill>
                <a:uFillTx/>
                <a:latin typeface="a_BentTitul"/>
              </a:rPr>
              <a:t>Строч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ряд повторяющихся стежков на тка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6040" y="4221000"/>
            <a:ext cx="799308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ные стежки образуют строчки временного и постоянного назна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1"/>
          <a:srcRect l="0" t="22859" r="0" b="20364"/>
          <a:stretch/>
        </p:blipFill>
        <p:spPr>
          <a:xfrm>
            <a:off x="1488960" y="2060640"/>
            <a:ext cx="6088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8:51:38Z</dcterms:created>
  <dc:creator>Татьяна Владимировна</dc:creator>
  <dc:description/>
  <dc:language>en-US</dc:language>
  <cp:lastModifiedBy>Admin</cp:lastModifiedBy>
  <dcterms:modified xsi:type="dcterms:W3CDTF">2023-11-11T07:25:37Z</dcterms:modified>
  <cp:revision>49</cp:revision>
  <dc:subject/>
  <dc:title>Слайд 1</dc:title>
</cp:coreProperties>
</file>