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8E9-CADC-44F6-BB98-3F1A8A44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584-D0CA-48C6-8EFF-846C6816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A64-5340-4556-9570-ED4C22E8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853-565A-4D51-B949-B4326133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E37-14CE-4E9F-BD93-21B21188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15B-D440-47C1-ACB0-CE94549E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137-3ED9-41FB-A0DE-3AA0AE8F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6EE-7096-48A2-9AA9-46C1A6D1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4DE9-3B59-4B9B-A58D-17DF5EDB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6ED-2250-49F7-9267-D32DF6E6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456-1D27-498B-9E40-29BEE9F2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C7F-AA3F-4F12-A579-DDD383AE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9724-3CEA-40E9-B900-5CC405C197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крытый урок: </a:t>
            </a:r>
            <a:br>
              <a:rPr sz="4400"/>
            </a:br>
            <a:r>
              <a:rPr b="1" i="1" lang="ru-RU" sz="6000" spc="-1" strike="noStrike">
                <a:solidFill>
                  <a:srgbClr val="31859c"/>
                </a:solidFill>
                <a:latin typeface="Calibri"/>
              </a:rPr>
              <a:t>«Ручные швы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1471680" y="3860640"/>
            <a:ext cx="620064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втор: Перлик Маргарита Гарик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читель технологии МКОУ «Защите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Щигровского района, Курской области,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4" descr=""/>
          <p:cNvPicPr/>
          <p:nvPr/>
        </p:nvPicPr>
        <p:blipFill>
          <a:blip r:embed="rId1"/>
          <a:srcRect l="0" t="23786" r="0" b="7829"/>
          <a:stretch/>
        </p:blipFill>
        <p:spPr>
          <a:xfrm>
            <a:off x="2195640" y="1413000"/>
            <a:ext cx="4321080" cy="1655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0720" y="404640"/>
            <a:ext cx="770256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годня мы с вами научимся выполнять строчку временного назначения швом «вперед иголка» или сметочный ш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68000" y="3068640"/>
            <a:ext cx="8351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равила выполнения ручных раб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1. Стежки временного назначения выполняют светлыми хлопчатобумажными нитками, хорошо видными на тка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2. Строчки постоянного назначения выполняют нитками в цвет тка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3. Длина ручных стежков должна соответствовать технологическим требованиям (0.5-1.5 см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4. Длина нити около 30 см, шьем нитью в одно сложени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5. Сметочные стежки удаляют после стачивания детал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6. Начало и конец строчки закрепляют не узелком, а двумя-тремя короткими стежк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 rot="183600">
            <a:off x="5468760" y="3720600"/>
            <a:ext cx="2897280" cy="2629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9185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акже задача нашего сегодняшнего урока - научиться правильно и прочно пришивать пуговицы различными способ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47640" y="2027160"/>
            <a:ext cx="802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авайте вспомним, что мы знаем о пуговицах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ля чего служат пуговицы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говицы служат для застегивания и отделки различных издел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акие пуговицы бывают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и бывают разных размеров, цветов и форм. По форме- круглые, овальные квадратные и треуголь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з чего изготавливаю пуговицы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различных материалов (пласти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тал, дерево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1737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Пуговицы со сквозными отверстиям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7375e"/>
                </a:solidFill>
                <a:latin typeface="Calibri"/>
              </a:rPr>
              <a:t>пришивают нитками в цвет пуговиц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3" descr=""/>
          <p:cNvPicPr/>
          <p:nvPr/>
        </p:nvPicPr>
        <p:blipFill>
          <a:blip r:embed="rId1"/>
          <a:srcRect l="0" t="15898" r="0" b="7276"/>
          <a:stretch/>
        </p:blipFill>
        <p:spPr>
          <a:xfrm>
            <a:off x="3851280" y="4292640"/>
            <a:ext cx="4897440" cy="2257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215968"/>
                </a:solidFill>
                <a:uFillTx/>
                <a:latin typeface="Calibri"/>
                <a:ea typeface="Calibri"/>
              </a:rPr>
              <a:t>Физкультминутк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Подзаголовок 2" descr=""/>
          <p:cNvPicPr/>
          <p:nvPr/>
        </p:nvPicPr>
        <p:blipFill>
          <a:blip r:embed="rId2"/>
          <a:stretch/>
        </p:blipFill>
        <p:spPr>
          <a:xfrm>
            <a:off x="371520" y="1292400"/>
            <a:ext cx="8443800" cy="3792240"/>
          </a:xfrm>
          <a:prstGeom prst="rect">
            <a:avLst/>
          </a:prstGeom>
          <a:ln w="0">
            <a:noFill/>
          </a:ln>
        </p:spPr>
      </p:pic>
      <p:pic>
        <p:nvPicPr>
          <p:cNvPr id="79" name="минус - Разминка на середине.mp3" descr=""/>
          <p:cNvPicPr/>
          <p:nvPr/>
        </p:nvPicPr>
        <p:blipFill>
          <a:blip r:embed="rId3"/>
          <a:stretch/>
        </p:blipFill>
        <p:spPr>
          <a:xfrm>
            <a:off x="788040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6732720" y="549360"/>
            <a:ext cx="2084400" cy="2087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369720"/>
            <a:ext cx="619308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актическая работа:</a:t>
            </a:r>
            <a:br>
              <a:rPr sz="3200"/>
            </a:br>
            <a:r>
              <a:rPr b="1" i="1" lang="ru-RU" sz="2800" spc="-1" strike="noStrike">
                <a:solidFill>
                  <a:srgbClr val="ff0066"/>
                </a:solidFill>
                <a:latin typeface="Calibri"/>
              </a:rPr>
              <a:t>«Выполнение ручного стежка и строчки,</a:t>
            </a:r>
            <a:br>
              <a:rPr sz="2800"/>
            </a:br>
            <a:r>
              <a:rPr b="1" i="1" lang="ru-RU" sz="2800" spc="-1" strike="noStrike">
                <a:solidFill>
                  <a:srgbClr val="ff0066"/>
                </a:solidFill>
                <a:latin typeface="Calibri"/>
              </a:rPr>
              <a:t> пришивание пуговиц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9280" y="2636640"/>
            <a:ext cx="82774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атериалы и инструменты для практической работы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хлопчатобумажная ткань размером 10х15см, различные пуговицы, линейка, ручная игла, нитки, наперсток, ножницы, учебн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ходимо сделать всего 10 стежков швом «вперёд игол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тку закрепляют у правого края ткани, делая стежок в 5 м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тем иглу вводят в точку второго прокола и протаскивают ее вместе с петелькой на изнанку. Пропуская такое же расстояние, иглу выводят на лицевую сторону, делают второй стежок и т.д. стежки располагают в направлении справа нале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Выполним ручной стежок или «сметочную» строч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2" descr=""/>
          <p:cNvPicPr/>
          <p:nvPr/>
        </p:nvPicPr>
        <p:blipFill>
          <a:blip r:embed="rId1"/>
          <a:stretch/>
        </p:blipFill>
        <p:spPr>
          <a:xfrm>
            <a:off x="457200" y="1382760"/>
            <a:ext cx="822960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Научимся пришивать пугов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6" descr=""/>
          <p:cNvPicPr/>
          <p:nvPr/>
        </p:nvPicPr>
        <p:blipFill>
          <a:blip r:embed="rId1"/>
          <a:stretch/>
        </p:blipFill>
        <p:spPr>
          <a:xfrm>
            <a:off x="1908000" y="1125360"/>
            <a:ext cx="5104080" cy="8287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7" descr=""/>
          <p:cNvPicPr/>
          <p:nvPr/>
        </p:nvPicPr>
        <p:blipFill>
          <a:blip r:embed="rId2"/>
          <a:stretch/>
        </p:blipFill>
        <p:spPr>
          <a:xfrm>
            <a:off x="717480" y="2403360"/>
            <a:ext cx="3538440" cy="3600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8" descr=""/>
          <p:cNvPicPr/>
          <p:nvPr/>
        </p:nvPicPr>
        <p:blipFill>
          <a:blip r:embed="rId3"/>
          <a:stretch/>
        </p:blipFill>
        <p:spPr>
          <a:xfrm>
            <a:off x="4479840" y="2343240"/>
            <a:ext cx="409896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4" descr=""/>
          <p:cNvPicPr/>
          <p:nvPr/>
        </p:nvPicPr>
        <p:blipFill>
          <a:blip r:embed="rId1"/>
          <a:stretch/>
        </p:blipFill>
        <p:spPr>
          <a:xfrm rot="21205200">
            <a:off x="431280" y="4093920"/>
            <a:ext cx="2217960" cy="22176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"/>
          <p:cNvPicPr/>
          <p:nvPr/>
        </p:nvPicPr>
        <p:blipFill>
          <a:blip r:embed="rId2"/>
          <a:stretch/>
        </p:blipFill>
        <p:spPr>
          <a:xfrm>
            <a:off x="6643800" y="426960"/>
            <a:ext cx="2101680" cy="22906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"/>
          <p:cNvPicPr/>
          <p:nvPr/>
        </p:nvPicPr>
        <p:blipFill>
          <a:blip r:embed="rId3"/>
          <a:stretch/>
        </p:blipFill>
        <p:spPr>
          <a:xfrm>
            <a:off x="6643800" y="4008600"/>
            <a:ext cx="2101680" cy="23382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"/>
          <p:cNvPicPr/>
          <p:nvPr/>
        </p:nvPicPr>
        <p:blipFill>
          <a:blip r:embed="rId4"/>
          <a:stretch/>
        </p:blipFill>
        <p:spPr>
          <a:xfrm>
            <a:off x="468360" y="519120"/>
            <a:ext cx="2050920" cy="2133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340000" y="1226880"/>
            <a:ext cx="468000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Calibri"/>
              </a:rPr>
              <a:t>Я вам предлагаю дополнить фразу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Я узнал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Я научился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не понравилось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не пригодится это 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1619280" y="958680"/>
            <a:ext cx="7216920" cy="55753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557000"/>
            <a:ext cx="682308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д вами карточки в этих карточках подчеркните фразы которые характеризуют вашу работу на уроке. Можно подчеркнуть одну или две фраз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67280" y="5744160"/>
            <a:ext cx="360360" cy="48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71640" y="1618920"/>
            <a:ext cx="720072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знакомить с приемами выполнения ручных стежков и строчек, сформировать навыки  по их выполнению, научить пришивать пуговицы разными способами, соблюдая технологическую последовательность и технику безопас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5" descr=""/>
          <p:cNvPicPr/>
          <p:nvPr/>
        </p:nvPicPr>
        <p:blipFill>
          <a:blip r:embed="rId1"/>
          <a:stretch/>
        </p:blipFill>
        <p:spPr>
          <a:xfrm>
            <a:off x="2556000" y="404640"/>
            <a:ext cx="3643200" cy="2519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заключение нашего урока хочу привести русские народные пословицы: </a:t>
            </a:r>
            <a:r>
              <a:rPr b="1" i="1" lang="ru-RU" sz="4000" spc="-1" strike="noStrike">
                <a:solidFill>
                  <a:srgbClr val="31859c"/>
                </a:solidFill>
                <a:latin typeface="Calibri"/>
              </a:rPr>
              <a:t>«Не игла шьёт, а руки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4000" spc="-1" strike="noStrike">
                <a:solidFill>
                  <a:srgbClr val="31859c"/>
                </a:solidFill>
                <a:latin typeface="Calibri"/>
              </a:rPr>
              <a:t>«Терпение и труд всё перетру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"/>
          <p:cNvPicPr/>
          <p:nvPr/>
        </p:nvPicPr>
        <p:blipFill>
          <a:blip r:embed="rId1"/>
          <a:srcRect l="0" t="0" r="47693" b="25779"/>
          <a:stretch/>
        </p:blipFill>
        <p:spPr>
          <a:xfrm>
            <a:off x="5508720" y="1125360"/>
            <a:ext cx="3336840" cy="4734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6297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341360"/>
            <a:ext cx="5256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накомить с терминологией по теме </a:t>
            </a:r>
            <a:r>
              <a:rPr b="0" lang="ru-RU" sz="2400" spc="-1" strike="noStrike">
                <a:solidFill>
                  <a:srgbClr val="31859c"/>
                </a:solidFill>
                <a:latin typeface="Calibri"/>
              </a:rPr>
              <a:t>«Ручные швы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авилами выполнения прямых стежков, со способами пришивания пуговиц с различными отверстия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мотно распредели время на выполнение технологических операц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учить самостоятельности во время выполнения творческой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528120"/>
            <a:ext cx="548316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a_Albionic"/>
                <a:ea typeface="Calibri"/>
              </a:rPr>
              <a:t>Поиграе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71680" y="1087560"/>
            <a:ext cx="793080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ебята, прежде чем начнём урок мы немного поиграем, будем отгадывать кроссворд, отгадав кроссворд мы узнаем тему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6240" y="1988640"/>
            <a:ext cx="389412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Длинная …-ленивая шве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Для того … сделан, чтобы палец не наколо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Два кольца, два конца - посередине гвозд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Остра, длинна, одноуха - всему миру крас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Идёт пароход, то взад, то вперёд, а за ним такая гладь – ни морщинки не вид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284720" y="1773360"/>
          <a:ext cx="4032360" cy="4424400"/>
        </p:xfrm>
        <a:graphic>
          <a:graphicData uri="http://schemas.openxmlformats.org/drawingml/2006/table">
            <a:tbl>
              <a:tblPr/>
              <a:tblGrid>
                <a:gridCol w="366480"/>
                <a:gridCol w="366840"/>
                <a:gridCol w="366840"/>
                <a:gridCol w="366480"/>
                <a:gridCol w="366840"/>
                <a:gridCol w="365040"/>
                <a:gridCol w="357120"/>
                <a:gridCol w="376560"/>
                <a:gridCol w="366480"/>
                <a:gridCol w="366840"/>
                <a:gridCol w="366840"/>
              </a:tblGrid>
              <a:tr h="2156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1268280"/>
            <a:ext cx="799308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-34308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-Ребята, прежде чем начнём урок мы немного поиграем, будем отгадывать кроссворд, отгадав кроссворд мы узнаем тему урок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71040" y="1989000"/>
            <a:ext cx="38293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Длинная …-ленивая шве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Для того … сделан, чтобы палец не наколо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Два кольца, два конца - посередине гвозд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Остра, длинна, одноуха - всему миру крас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Идёт пароход, то взад, то вперёд, а за ним такая гладь – ни морщинки не вид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284720" y="1706400"/>
          <a:ext cx="3959280" cy="4602240"/>
        </p:xfrm>
        <a:graphic>
          <a:graphicData uri="http://schemas.openxmlformats.org/drawingml/2006/table">
            <a:tbl>
              <a:tblPr/>
              <a:tblGrid>
                <a:gridCol w="360360"/>
                <a:gridCol w="358560"/>
                <a:gridCol w="360360"/>
                <a:gridCol w="360360"/>
                <a:gridCol w="360360"/>
                <a:gridCol w="358920"/>
                <a:gridCol w="349200"/>
                <a:gridCol w="371520"/>
                <a:gridCol w="360360"/>
                <a:gridCol w="358920"/>
                <a:gridCol w="360360"/>
              </a:tblGrid>
              <a:tr h="2239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ё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ж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12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Прямоугольник 6"/>
          <p:cNvSpPr/>
          <p:nvPr/>
        </p:nvSpPr>
        <p:spPr>
          <a:xfrm>
            <a:off x="3228120" y="406440"/>
            <a:ext cx="24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15968"/>
                </a:solidFill>
                <a:latin typeface="a_Albionic"/>
                <a:ea typeface="Calibri"/>
              </a:rPr>
              <a:t>Поигра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Тема урока :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5400" spc="-1" strike="noStrike">
                <a:solidFill>
                  <a:srgbClr val="215968"/>
                </a:solidFill>
                <a:latin typeface="Calibri"/>
              </a:rPr>
              <a:t>«Ручные швы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826920" y="2394000"/>
            <a:ext cx="3673800" cy="3672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4788000" y="3544920"/>
            <a:ext cx="3779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337440" cy="4224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4149720"/>
            <a:ext cx="8137440" cy="22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Шитье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— это скрепление деталей из ткани при помощи иглы и нитки. Это было одно из первых умений, развитых человеко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"/>
          <p:cNvPicPr/>
          <p:nvPr/>
        </p:nvPicPr>
        <p:blipFill>
          <a:blip r:embed="rId1"/>
          <a:stretch/>
        </p:blipFill>
        <p:spPr>
          <a:xfrm>
            <a:off x="2556000" y="2330280"/>
            <a:ext cx="3384360" cy="2530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9120" y="620280"/>
            <a:ext cx="6622920" cy="23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Шагает мастериц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 шелку да по ситцу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чень мал ее шажок,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А зовется он ... </a:t>
            </a:r>
            <a:r>
              <a:rPr b="1" i="1" lang="ru-RU" sz="3200" spc="-1" strike="noStrike">
                <a:solidFill>
                  <a:srgbClr val="604a7b"/>
                </a:solidFill>
                <a:latin typeface="Calibri"/>
                <a:ea typeface="Calibri"/>
              </a:rPr>
              <a:t>стежок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3640" y="472716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04a7b"/>
                </a:solidFill>
                <a:uFillTx/>
                <a:latin typeface="Calibri"/>
                <a:ea typeface="Calibri"/>
              </a:rPr>
              <a:t>Стежок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 - это законченный процесс переплетения ниток на ткан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215968"/>
                </a:solidFill>
                <a:uFillTx/>
                <a:latin typeface="a_BentTitul"/>
              </a:rPr>
              <a:t>Строчк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 это ряд повторяющихся стежков на ткани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6040" y="4221000"/>
            <a:ext cx="7993080" cy="16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чные стежки образуют строчки временного и постоянного назнач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8" descr=""/>
          <p:cNvPicPr/>
          <p:nvPr/>
        </p:nvPicPr>
        <p:blipFill>
          <a:blip r:embed="rId1"/>
          <a:srcRect l="0" t="22859" r="0" b="20364"/>
          <a:stretch/>
        </p:blipFill>
        <p:spPr>
          <a:xfrm>
            <a:off x="1488960" y="2060640"/>
            <a:ext cx="60883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2T08:51:38Z</dcterms:created>
  <dc:creator>Татьяна Владимировна</dc:creator>
  <dc:description/>
  <dc:language>en-US</dc:language>
  <cp:lastModifiedBy>Admin</cp:lastModifiedBy>
  <dcterms:modified xsi:type="dcterms:W3CDTF">2023-11-11T07:25:37Z</dcterms:modified>
  <cp:revision>49</cp:revision>
  <dc:subject/>
  <dc:title>Слайд 1</dc:title>
</cp:coreProperties>
</file>