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.png" ContentType="image/png"/>
  <Override PartName="/ppt/media/image14.wmf" ContentType="image/x-wmf"/>
  <Override PartName="/ppt/media/image3.gif" ContentType="image/gif"/>
  <Override PartName="/ppt/media/image11.wmf" ContentType="image/x-wmf"/>
  <Override PartName="/ppt/media/image48.wmf" ContentType="image/x-wmf"/>
  <Override PartName="/ppt/media/image15.wmf" ContentType="image/x-wmf"/>
  <Override PartName="/ppt/media/image4.gif" ContentType="image/gif"/>
  <Override PartName="/ppt/media/image30.wmf" ContentType="image/x-wmf"/>
  <Override PartName="/ppt/media/image12.wmf" ContentType="image/x-wmf"/>
  <Override PartName="/ppt/media/image49.wmf" ContentType="image/x-wmf"/>
  <Override PartName="/ppt/media/image16.wmf" ContentType="image/x-wmf"/>
  <Override PartName="/ppt/media/image5.gif" ContentType="image/gif"/>
  <Override PartName="/ppt/media/image31.wmf" ContentType="image/x-wmf"/>
  <Override PartName="/ppt/media/image10.gif" ContentType="image/gif"/>
  <Override PartName="/ppt/media/image43.wmf" ContentType="image/x-wmf"/>
  <Override PartName="/ppt/media/image13.wmf" ContentType="image/x-wmf"/>
  <Override PartName="/ppt/media/image17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7.wmf" ContentType="image/x-wmf"/>
  <Override PartName="/ppt/media/image39.wmf" ContentType="image/x-wmf"/>
  <Override PartName="/ppt/media/image41.wmf" ContentType="image/x-wmf"/>
  <Override PartName="/ppt/media/image50.wmf" ContentType="image/x-wmf"/>
  <Override PartName="/ppt/media/image51.wmf" ContentType="image/x-wmf"/>
  <Override PartName="/ppt/media/image40.wmf" ContentType="image/x-wmf"/>
  <Override PartName="/ppt/media/image38.wmf" ContentType="image/x-wmf"/>
  <Override PartName="/ppt/media/image52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37.wmf" ContentType="image/x-wmf"/>
  <Override PartName="/ppt/media/image36.wmf" ContentType="image/x-wmf"/>
  <Override PartName="/ppt/media/image35.wmf" ContentType="image/x-wmf"/>
  <Override PartName="/ppt/media/image9.gif" ContentType="image/gif"/>
  <Override PartName="/ppt/media/image22.wmf" ContentType="image/x-wmf"/>
  <Override PartName="/ppt/media/image34.wmf" ContentType="image/x-wmf"/>
  <Override PartName="/ppt/media/image8.gif" ContentType="image/gif"/>
  <Override PartName="/ppt/media/image19.wmf" ContentType="image/x-wmf"/>
  <Override PartName="/ppt/media/image21.wmf" ContentType="image/x-wmf"/>
  <Override PartName="/ppt/media/image33.wmf" ContentType="image/x-wmf"/>
  <Override PartName="/ppt/media/image7.gif" ContentType="image/gif"/>
  <Override PartName="/ppt/media/image18.wmf" ContentType="image/x-wmf"/>
  <Override PartName="/ppt/media/image20.wmf" ContentType="image/x-wmf"/>
  <Override PartName="/ppt/media/image6.gif" ContentType="image/gif"/>
  <Override PartName="/ppt/media/image3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D105-5815-428A-A3A0-9B4078089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07A9-3A95-4878-8467-495F706B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3A65-56D2-443D-B62E-9F37862B6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D972-0FFF-4286-A7FD-E247BF61C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6245-D736-4686-8BDD-496CE5FD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43D4-34ED-47A4-B49C-16C16D86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CDDC-3A53-489E-A628-8B802379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2584-BA86-45E5-A4FD-D2C75C3C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16F0-F5D0-4CC3-9F36-DA470DD4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8FE4-863D-499F-B89A-50ED7DA1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A2A3-0690-4676-8455-B65E46BF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790C-0C6F-486F-A877-ABB777D8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362320" y="645768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57200" y="6460920"/>
            <a:ext cx="1752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648320" y="647676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0A81-4C78-4A68-B09B-7B688A4347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5f0c"/>
              </a:buClr>
              <a:buSzPct val="7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3a71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720a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4598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115920"/>
            <a:ext cx="8785440" cy="6553080"/>
          </a:xfrm>
          <a:prstGeom prst="roundRect">
            <a:avLst>
              <a:gd name="adj" fmla="val 3986"/>
            </a:avLst>
          </a:prstGeom>
          <a:solidFill>
            <a:srgbClr val="e7ffe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22412" t="16378" r="0" b="27484"/>
          <a:stretch/>
        </p:blipFill>
        <p:spPr>
          <a:xfrm>
            <a:off x="108000" y="0"/>
            <a:ext cx="1368360" cy="118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981080"/>
            <a:ext cx="4257720" cy="2068560"/>
          </a:xfrm>
          <a:custGeom>
            <a:avLst/>
            <a:gdLst/>
            <a:ahLst/>
            <a:rect l="l" t="t" r="r" b="b"/>
            <a:pathLst>
              <a:path w="2682" h="1303">
                <a:moveTo>
                  <a:pt x="0" y="0"/>
                </a:moveTo>
                <a:cubicBezTo>
                  <a:pt x="185" y="34"/>
                  <a:pt x="775" y="34"/>
                  <a:pt x="1109" y="196"/>
                </a:cubicBezTo>
                <a:cubicBezTo>
                  <a:pt x="1443" y="358"/>
                  <a:pt x="1747" y="792"/>
                  <a:pt x="2006" y="975"/>
                </a:cubicBezTo>
                <a:cubicBezTo>
                  <a:pt x="2265" y="1158"/>
                  <a:pt x="2682" y="1289"/>
                  <a:pt x="2666" y="1296"/>
                </a:cubicBezTo>
                <a:cubicBezTo>
                  <a:pt x="2650" y="1303"/>
                  <a:pt x="2170" y="1154"/>
                  <a:pt x="1911" y="1015"/>
                </a:cubicBezTo>
                <a:cubicBezTo>
                  <a:pt x="1652" y="876"/>
                  <a:pt x="1428" y="555"/>
                  <a:pt x="1111" y="460"/>
                </a:cubicBezTo>
                <a:cubicBezTo>
                  <a:pt x="794" y="365"/>
                  <a:pt x="238" y="449"/>
                  <a:pt x="9" y="446"/>
                </a:cubicBezTo>
              </a:path>
            </a:pathLst>
          </a:cu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c9c9c9">
                  <a:alpha val="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11160" y="0"/>
            <a:ext cx="5145120" cy="4338720"/>
          </a:xfrm>
          <a:custGeom>
            <a:avLst/>
            <a:gdLst/>
            <a:ahLst/>
            <a:rect l="l" t="t" r="r" b="b"/>
            <a:pathLst>
              <a:path w="3241" h="2733">
                <a:moveTo>
                  <a:pt x="7" y="0"/>
                </a:moveTo>
                <a:cubicBezTo>
                  <a:pt x="265" y="141"/>
                  <a:pt x="1159" y="489"/>
                  <a:pt x="1552" y="847"/>
                </a:cubicBezTo>
                <a:cubicBezTo>
                  <a:pt x="1945" y="1205"/>
                  <a:pt x="2107" y="1845"/>
                  <a:pt x="2365" y="2148"/>
                </a:cubicBezTo>
                <a:cubicBezTo>
                  <a:pt x="2623" y="2451"/>
                  <a:pt x="3126" y="2648"/>
                  <a:pt x="3098" y="2664"/>
                </a:cubicBezTo>
                <a:cubicBezTo>
                  <a:pt x="3241" y="2733"/>
                  <a:pt x="2487" y="2487"/>
                  <a:pt x="2197" y="2247"/>
                </a:cubicBezTo>
                <a:cubicBezTo>
                  <a:pt x="1893" y="2018"/>
                  <a:pt x="1640" y="1512"/>
                  <a:pt x="1274" y="1288"/>
                </a:cubicBezTo>
                <a:cubicBezTo>
                  <a:pt x="927" y="1034"/>
                  <a:pt x="265" y="982"/>
                  <a:pt x="0" y="901"/>
                </a:cubicBezTo>
              </a:path>
            </a:pathLst>
          </a:custGeom>
          <a:gradFill rotWithShape="0">
            <a:gsLst>
              <a:gs pos="0">
                <a:srgbClr val="c9c9c9">
                  <a:alpha val="6274"/>
                </a:srgbClr>
              </a:gs>
              <a:gs pos="100000">
                <a:srgbClr val="ffffff">
                  <a:alpha val="2117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0"/>
            <a:ext cx="2522520" cy="4613400"/>
          </a:xfrm>
          <a:custGeom>
            <a:avLst/>
            <a:gdLst/>
            <a:ahLst/>
            <a:rect l="l" t="t" r="r" b="b"/>
            <a:pathLst>
              <a:path w="1589" h="2906">
                <a:moveTo>
                  <a:pt x="0" y="12"/>
                </a:moveTo>
                <a:cubicBezTo>
                  <a:pt x="160" y="181"/>
                  <a:pt x="767" y="660"/>
                  <a:pt x="959" y="1027"/>
                </a:cubicBezTo>
                <a:cubicBezTo>
                  <a:pt x="1151" y="1394"/>
                  <a:pt x="1048" y="1903"/>
                  <a:pt x="1153" y="2216"/>
                </a:cubicBezTo>
                <a:cubicBezTo>
                  <a:pt x="1258" y="2529"/>
                  <a:pt x="1564" y="2906"/>
                  <a:pt x="1589" y="2905"/>
                </a:cubicBezTo>
                <a:cubicBezTo>
                  <a:pt x="1554" y="2859"/>
                  <a:pt x="1334" y="2527"/>
                  <a:pt x="1302" y="2209"/>
                </a:cubicBezTo>
                <a:cubicBezTo>
                  <a:pt x="1270" y="1891"/>
                  <a:pt x="1470" y="1362"/>
                  <a:pt x="1399" y="994"/>
                </a:cubicBezTo>
                <a:cubicBezTo>
                  <a:pt x="1328" y="626"/>
                  <a:pt x="985" y="207"/>
                  <a:pt x="876" y="0"/>
                </a:cubicBezTo>
              </a:path>
            </a:pathLst>
          </a:cu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c9c9c9">
                  <a:alpha val="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94600" y="1366920"/>
            <a:ext cx="2849400" cy="3324240"/>
          </a:xfrm>
          <a:custGeom>
            <a:avLst/>
            <a:gdLst/>
            <a:ahLst/>
            <a:rect l="l" t="t" r="r" b="b"/>
            <a:pathLst>
              <a:path w="1795" h="2094">
                <a:moveTo>
                  <a:pt x="1788" y="0"/>
                </a:moveTo>
                <a:lnTo>
                  <a:pt x="1795" y="1185"/>
                </a:lnTo>
                <a:cubicBezTo>
                  <a:pt x="1504" y="1538"/>
                  <a:pt x="746" y="1250"/>
                  <a:pt x="453" y="1409"/>
                </a:cubicBezTo>
                <a:cubicBezTo>
                  <a:pt x="156" y="1558"/>
                  <a:pt x="13" y="2094"/>
                  <a:pt x="13" y="2080"/>
                </a:cubicBezTo>
                <a:cubicBezTo>
                  <a:pt x="13" y="2066"/>
                  <a:pt x="0" y="1389"/>
                  <a:pt x="501" y="1145"/>
                </a:cubicBezTo>
                <a:cubicBezTo>
                  <a:pt x="1002" y="901"/>
                  <a:pt x="1619" y="860"/>
                  <a:pt x="1781" y="13"/>
                </a:cubicBezTo>
              </a:path>
            </a:pathLst>
          </a:cu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c9c9c9">
                  <a:alpha val="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62720" y="-22320"/>
            <a:ext cx="3290760" cy="4702320"/>
          </a:xfrm>
          <a:custGeom>
            <a:avLst/>
            <a:gdLst/>
            <a:ahLst/>
            <a:rect l="l" t="t" r="r" b="b"/>
            <a:pathLst>
              <a:path w="2073" h="2962">
                <a:moveTo>
                  <a:pt x="0" y="8"/>
                </a:moveTo>
                <a:cubicBezTo>
                  <a:pt x="65" y="173"/>
                  <a:pt x="358" y="640"/>
                  <a:pt x="392" y="997"/>
                </a:cubicBezTo>
                <a:cubicBezTo>
                  <a:pt x="426" y="1354"/>
                  <a:pt x="202" y="1823"/>
                  <a:pt x="203" y="2149"/>
                </a:cubicBezTo>
                <a:cubicBezTo>
                  <a:pt x="204" y="2475"/>
                  <a:pt x="347" y="2962"/>
                  <a:pt x="399" y="2955"/>
                </a:cubicBezTo>
                <a:cubicBezTo>
                  <a:pt x="399" y="2962"/>
                  <a:pt x="389" y="2371"/>
                  <a:pt x="514" y="2108"/>
                </a:cubicBezTo>
                <a:cubicBezTo>
                  <a:pt x="660" y="1851"/>
                  <a:pt x="901" y="1728"/>
                  <a:pt x="1273" y="1410"/>
                </a:cubicBezTo>
                <a:cubicBezTo>
                  <a:pt x="1645" y="1092"/>
                  <a:pt x="1750" y="974"/>
                  <a:pt x="1883" y="739"/>
                </a:cubicBezTo>
                <a:cubicBezTo>
                  <a:pt x="2016" y="504"/>
                  <a:pt x="2034" y="154"/>
                  <a:pt x="2073" y="0"/>
                </a:cubicBezTo>
              </a:path>
            </a:pathLst>
          </a:custGeom>
          <a:gradFill rotWithShape="0">
            <a:gsLst>
              <a:gs pos="0">
                <a:srgbClr val="ffffff">
                  <a:alpha val="17254"/>
                </a:srgbClr>
              </a:gs>
              <a:gs pos="100000">
                <a:srgbClr val="c9c9c9">
                  <a:alpha val="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14839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1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178920" y="65242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55640" y="3645000"/>
            <a:ext cx="2771640" cy="2771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rcRect l="22412" t="16378" r="0" b="27484"/>
          <a:stretch/>
        </p:blipFill>
        <p:spPr>
          <a:xfrm>
            <a:off x="755640" y="393372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720a0"/>
              </a:buClr>
              <a:buFont typeface="Arial"/>
              <a:buChar char="●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c4598"/>
              </a:buClr>
              <a:buFont typeface="Arial"/>
              <a:buChar char="●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●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1.wmf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7.wmf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4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993080" cy="432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1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Tw Cen MT"/>
              </a:rPr>
              <a:t>Многочлен. Вычисление значений многочлена.</a:t>
            </a:r>
            <a:br>
              <a:rPr sz="5400"/>
            </a:br>
            <a:r>
              <a:rPr b="1" lang="ru-RU" sz="5400" spc="-1" strike="noStrike">
                <a:solidFill>
                  <a:srgbClr val="ccecff"/>
                </a:solidFill>
                <a:latin typeface="Tw Cen MT"/>
              </a:rPr>
              <a:t>Стандартный вид многочлена.</a:t>
            </a:r>
            <a:endParaRPr b="1" lang="en-US" sz="5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08000" y="476280"/>
            <a:ext cx="6102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f5f5f"/>
                </a:solidFill>
                <a:latin typeface="Arial"/>
              </a:rPr>
              <a:t>Я МНОГОЧЛЕН ОТ СЛОВА «</a:t>
            </a:r>
            <a:r>
              <a:rPr b="1" i="1" lang="ru-RU" sz="2400" spc="-1" strike="noStrike">
                <a:solidFill>
                  <a:srgbClr val="1c4598"/>
                </a:solidFill>
                <a:latin typeface="Arial"/>
              </a:rPr>
              <a:t>МНОГО</a:t>
            </a:r>
            <a:r>
              <a:rPr b="1" i="1" lang="ru-RU" sz="2400" spc="-1" strike="noStrike">
                <a:solidFill>
                  <a:srgbClr val="5f5f5f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f5f5f"/>
                </a:solidFill>
                <a:latin typeface="Arial"/>
              </a:rPr>
              <a:t>ВО МНЕ ВСЕГДА СИДИТ ТРЕВОГ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f5f5f"/>
                </a:solidFill>
                <a:latin typeface="Arial"/>
              </a:rPr>
              <a:t>КАК </a:t>
            </a:r>
            <a:r>
              <a:rPr b="1" i="1" lang="ru-RU" sz="2400" spc="-1" strike="noStrike">
                <a:solidFill>
                  <a:srgbClr val="1c4598"/>
                </a:solidFill>
                <a:latin typeface="Arial"/>
              </a:rPr>
              <a:t>ОДНОЧЛЕНЫ</a:t>
            </a:r>
            <a:r>
              <a:rPr b="1" i="1" lang="ru-RU" sz="2400" spc="-1" strike="noStrike">
                <a:solidFill>
                  <a:srgbClr val="5f5f5f"/>
                </a:solidFill>
                <a:latin typeface="Arial"/>
              </a:rPr>
              <a:t> ВСЕ СОБРА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f5f5f"/>
                </a:solidFill>
                <a:latin typeface="Arial"/>
              </a:rPr>
              <a:t>В КАКУЮ </a:t>
            </a:r>
            <a:r>
              <a:rPr b="1" i="1" lang="ru-RU" sz="2400" spc="-1" strike="noStrike">
                <a:solidFill>
                  <a:srgbClr val="1c4598"/>
                </a:solidFill>
                <a:latin typeface="Arial"/>
              </a:rPr>
              <a:t>СУММУ </a:t>
            </a:r>
            <a:r>
              <a:rPr b="1" i="1" lang="ru-RU" sz="2400" spc="-1" strike="noStrike">
                <a:solidFill>
                  <a:srgbClr val="5f5f5f"/>
                </a:solidFill>
                <a:latin typeface="Arial"/>
              </a:rPr>
              <a:t>ЗАПИСА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211640" y="2781360"/>
            <a:ext cx="1706400" cy="1054080"/>
            <a:chOff x="4211640" y="2781360"/>
            <a:chExt cx="1706400" cy="1054080"/>
          </a:xfrm>
        </p:grpSpPr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4211640" y="2781360"/>
              <a:ext cx="1297080" cy="10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5003640" y="2997360"/>
              <a:ext cx="914400" cy="838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68360" y="4581360"/>
            <a:ext cx="914400" cy="80964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5435640" y="4797360"/>
            <a:ext cx="2100240" cy="944280"/>
            <a:chOff x="5435640" y="4797360"/>
            <a:chExt cx="2100240" cy="944280"/>
          </a:xfrm>
        </p:grpSpPr>
        <p:pic>
          <p:nvPicPr>
            <p:cNvPr id="96" name="" descr=""/>
            <p:cNvPicPr/>
            <p:nvPr/>
          </p:nvPicPr>
          <p:blipFill>
            <a:blip r:embed="rId4"/>
            <a:stretch/>
          </p:blipFill>
          <p:spPr>
            <a:xfrm>
              <a:off x="6659640" y="5086080"/>
              <a:ext cx="87624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5"/>
            <a:stretch/>
          </p:blipFill>
          <p:spPr>
            <a:xfrm>
              <a:off x="6154920" y="4870080"/>
              <a:ext cx="74268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6"/>
            <a:stretch/>
          </p:blipFill>
          <p:spPr>
            <a:xfrm>
              <a:off x="5435640" y="4797360"/>
              <a:ext cx="1079640" cy="94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"/>
          <p:cNvGrpSpPr/>
          <p:nvPr/>
        </p:nvGrpSpPr>
        <p:grpSpPr>
          <a:xfrm>
            <a:off x="755640" y="2565360"/>
            <a:ext cx="1654200" cy="987480"/>
            <a:chOff x="755640" y="2565360"/>
            <a:chExt cx="1654200" cy="987480"/>
          </a:xfrm>
        </p:grpSpPr>
        <p:pic>
          <p:nvPicPr>
            <p:cNvPr id="100" name="" descr=""/>
            <p:cNvPicPr/>
            <p:nvPr/>
          </p:nvPicPr>
          <p:blipFill>
            <a:blip r:embed="rId7"/>
            <a:stretch/>
          </p:blipFill>
          <p:spPr>
            <a:xfrm>
              <a:off x="755640" y="2565360"/>
              <a:ext cx="1058760" cy="9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8"/>
            <a:stretch/>
          </p:blipFill>
          <p:spPr>
            <a:xfrm>
              <a:off x="1476360" y="2781360"/>
              <a:ext cx="933480" cy="77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"/>
          <p:cNvSpPr/>
          <p:nvPr/>
        </p:nvSpPr>
        <p:spPr>
          <a:xfrm>
            <a:off x="2413080" y="27813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29080" y="27813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05440" y="28526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8160" y="4869000"/>
            <a:ext cx="839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c4598"/>
                </a:solidFill>
                <a:latin typeface="Arial"/>
              </a:rPr>
              <a:t>Многочлен – это сумма одночлен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7.61046E-007 L -0.16146 -0.01504 E">
                                      <p:cBhvr>
                                        <p:cTn id="80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23525E-006 L 0.54045 -0.24798 E">
                                      <p:cBhvr>
                                        <p:cTn id="82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87462E-006 L -0.06302 -0.28915 E">
                                      <p:cBhvr>
                                        <p:cTn id="84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95280" y="1341360"/>
            <a:ext cx="1152360" cy="1059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92360" y="1916280"/>
            <a:ext cx="28800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59640" y="2060640"/>
            <a:ext cx="2016000" cy="936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35640" y="5589720"/>
            <a:ext cx="3454200" cy="91440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15280" y="4437000"/>
            <a:ext cx="2233440" cy="9144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5013360"/>
            <a:ext cx="2736720" cy="14400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48360" y="4437000"/>
            <a:ext cx="914400" cy="1274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11640" y="5157720"/>
            <a:ext cx="914400" cy="914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59280" y="4581360"/>
            <a:ext cx="1274760" cy="9144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3141720"/>
            <a:ext cx="6946920" cy="1224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2997360"/>
            <a:ext cx="914400" cy="914400"/>
          </a:xfrm>
          <a:prstGeom prst="ellips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16360" y="5734080"/>
            <a:ext cx="1512720" cy="914400"/>
          </a:xfrm>
          <a:prstGeom prst="ellipse">
            <a:avLst/>
          </a:prstGeom>
          <a:solidFill>
            <a:srgbClr val="93a71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76360" y="2276640"/>
            <a:ext cx="1800360" cy="914400"/>
          </a:xfrm>
          <a:prstGeom prst="ellipse">
            <a:avLst/>
          </a:prstGeom>
          <a:solidFill>
            <a:srgbClr val="019e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4005360"/>
            <a:ext cx="2160360" cy="914400"/>
          </a:xfrm>
          <a:prstGeom prst="ellipse">
            <a:avLst/>
          </a:prstGeom>
          <a:solidFill>
            <a:srgbClr val="ce5f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11"/>
              <p:cNvSpPr txBox="1"/>
              <p:nvPr/>
            </p:nvSpPr>
            <p:spPr>
              <a:xfrm>
                <a:off x="4356000" y="5300640"/>
                <a:ext cx="674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3"/>
              <p:cNvSpPr txBox="1"/>
              <p:nvPr/>
            </p:nvSpPr>
            <p:spPr>
              <a:xfrm>
                <a:off x="755640" y="3173400"/>
                <a:ext cx="7509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5"/>
              <p:cNvSpPr txBox="1"/>
              <p:nvPr/>
            </p:nvSpPr>
            <p:spPr>
              <a:xfrm>
                <a:off x="3203640" y="4724280"/>
                <a:ext cx="10494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7"/>
              <p:cNvSpPr txBox="1"/>
              <p:nvPr/>
            </p:nvSpPr>
            <p:spPr>
              <a:xfrm>
                <a:off x="6659640" y="4581360"/>
                <a:ext cx="191304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9"/>
              <p:cNvSpPr txBox="1"/>
              <p:nvPr/>
            </p:nvSpPr>
            <p:spPr>
              <a:xfrm>
                <a:off x="1763640" y="2421000"/>
                <a:ext cx="12081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23"/>
              <p:cNvSpPr txBox="1"/>
              <p:nvPr/>
            </p:nvSpPr>
            <p:spPr>
              <a:xfrm>
                <a:off x="3203640" y="5877000"/>
                <a:ext cx="917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6" name=""/>
          <p:cNvGraphicFramePr/>
          <p:nvPr/>
        </p:nvGraphicFramePr>
        <p:xfrm>
          <a:off x="5435640" y="4437000"/>
          <a:ext cx="450720" cy="11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4437000"/>
                    <a:ext cx="4507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468360" y="5157720"/>
          <a:ext cx="2278080" cy="117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5157720"/>
                    <a:ext cx="227808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580000" y="5734080"/>
          <a:ext cx="3125880" cy="52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80000" y="5734080"/>
                    <a:ext cx="31258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2195640" y="3213000"/>
          <a:ext cx="6489720" cy="1035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95640" y="3213000"/>
                    <a:ext cx="648972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4" name="Object 21"/>
              <p:cNvSpPr txBox="1"/>
              <p:nvPr/>
            </p:nvSpPr>
            <p:spPr>
              <a:xfrm>
                <a:off x="611280" y="4149720"/>
                <a:ext cx="16254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1887480" y="352440"/>
            <a:ext cx="693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f5f5f"/>
                </a:solidFill>
                <a:latin typeface="Arial"/>
              </a:rPr>
              <a:t>Среди данных выражений исключите те, которые не являются многочленами</a:t>
            </a:r>
            <a:r>
              <a:rPr b="1" lang="ru-RU" sz="1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732720" y="2060640"/>
          <a:ext cx="1800000" cy="979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32720" y="2060640"/>
                    <a:ext cx="180000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564000" y="2060640"/>
          <a:ext cx="2808360" cy="498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64000" y="2060640"/>
                    <a:ext cx="2808360" cy="49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539640" y="1341360"/>
          <a:ext cx="874800" cy="936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9640" y="1341360"/>
                    <a:ext cx="8748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2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3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3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4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5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6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7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1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19eaf"/>
                                      </p:to>
                                    </p:animClr>
                                    <p:animClr clrSpc="rgb">
                                      <p:cBhvr>
                                        <p:cTn id="182" dur="1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19eaf"/>
                                      </p:to>
                                    </p:animClr>
                                    <p:set>
                                      <p:cBhvr>
                                        <p:cTn id="183" dur="1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animClr clrSpc="rgb">
                                      <p:cBhvr>
                                        <p:cTn id="194" dur="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  <p:set>
                                      <p:cBhvr>
                                        <p:cTn id="195" dur="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1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animClr clrSpc="rgb">
                                      <p:cBhvr>
                                        <p:cTn id="206" dur="1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07" dur="1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7" dur="1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e5f0c"/>
                                      </p:to>
                                    </p:animClr>
                                    <p:animClr clrSpc="rgb">
                                      <p:cBhvr>
                                        <p:cTn id="218" dur="1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e5f0c"/>
                                      </p:to>
                                    </p:animClr>
                                    <p:set>
                                      <p:cBhvr>
                                        <p:cTn id="219" dur="1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1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animClr clrSpc="rgb">
                                      <p:cBhvr>
                                        <p:cTn id="230" dur="1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ff"/>
                                      </p:to>
                                    </p:animClr>
                                    <p:set>
                                      <p:cBhvr>
                                        <p:cTn id="231" dur="1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animClr clrSpc="rgb">
                                      <p:cBhvr>
                                        <p:cTn id="242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243" dur="1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3" dur="1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66ff"/>
                                      </p:to>
                                    </p:animClr>
                                    <p:animClr clrSpc="rgb">
                                      <p:cBhvr>
                                        <p:cTn id="254" dur="1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66ff"/>
                                      </p:to>
                                    </p:animClr>
                                    <p:set>
                                      <p:cBhvr>
                                        <p:cTn id="255" dur="1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042920" y="1268280"/>
            <a:ext cx="715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f5f5f"/>
                </a:solidFill>
                <a:latin typeface="Arial"/>
              </a:rPr>
              <a:t>Если в многочлене все члены записаны в стандартном виде и приведе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f5f5f"/>
                </a:solidFill>
                <a:latin typeface="Arial"/>
              </a:rPr>
              <a:t>подобные слагаемые, то говорят, что многочлен приведен к  </a:t>
            </a:r>
            <a:r>
              <a:rPr b="1" lang="ru-RU" sz="2400" spc="-1" strike="noStrike">
                <a:solidFill>
                  <a:srgbClr val="1c4598"/>
                </a:solidFill>
                <a:latin typeface="Arial"/>
              </a:rPr>
              <a:t>стандартному виду</a:t>
            </a:r>
            <a:r>
              <a:rPr b="1" lang="ru-RU" sz="2400" spc="-1" strike="noStrike">
                <a:solidFill>
                  <a:srgbClr val="5f5f5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42920" y="3716280"/>
            <a:ext cx="664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4598"/>
                </a:solidFill>
                <a:latin typeface="Arial"/>
              </a:rPr>
              <a:t>Подобные слагаемые</a:t>
            </a:r>
            <a:r>
              <a:rPr b="1" lang="ru-RU" sz="2400" spc="-1" strike="noStrike">
                <a:solidFill>
                  <a:srgbClr val="5f5f5f"/>
                </a:solidFill>
                <a:latin typeface="Arial"/>
              </a:rPr>
              <a:t> – это слагаемые с одинаковой буквенной часть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435640" y="5589720"/>
            <a:ext cx="3454200" cy="91440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15280" y="4437000"/>
            <a:ext cx="2233440" cy="9144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59280" y="4581360"/>
            <a:ext cx="1274760" cy="9144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4005360"/>
            <a:ext cx="2160360" cy="914400"/>
          </a:xfrm>
          <a:prstGeom prst="ellipse">
            <a:avLst/>
          </a:prstGeom>
          <a:solidFill>
            <a:srgbClr val="ce5f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79640" y="3141720"/>
            <a:ext cx="6946920" cy="1224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2276640"/>
            <a:ext cx="1800360" cy="914400"/>
          </a:xfrm>
          <a:prstGeom prst="ellipse">
            <a:avLst/>
          </a:prstGeom>
          <a:solidFill>
            <a:srgbClr val="019ea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92360" y="1916280"/>
            <a:ext cx="28800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5"/>
              <p:cNvSpPr txBox="1"/>
              <p:nvPr/>
            </p:nvSpPr>
            <p:spPr>
              <a:xfrm>
                <a:off x="3203640" y="4724280"/>
                <a:ext cx="10494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7"/>
              <p:cNvSpPr txBox="1"/>
              <p:nvPr/>
            </p:nvSpPr>
            <p:spPr>
              <a:xfrm>
                <a:off x="6659640" y="4581360"/>
                <a:ext cx="191304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9"/>
              <p:cNvSpPr txBox="1"/>
              <p:nvPr/>
            </p:nvSpPr>
            <p:spPr>
              <a:xfrm>
                <a:off x="1763640" y="2421000"/>
                <a:ext cx="12081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54" name=""/>
          <p:cNvGraphicFramePr/>
          <p:nvPr/>
        </p:nvGraphicFramePr>
        <p:xfrm>
          <a:off x="5580000" y="5734080"/>
          <a:ext cx="3125880" cy="52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5734080"/>
                    <a:ext cx="31258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2195640" y="3213000"/>
          <a:ext cx="6489720" cy="103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3213000"/>
                    <a:ext cx="648972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8" name="Object 21"/>
              <p:cNvSpPr txBox="1"/>
              <p:nvPr/>
            </p:nvSpPr>
            <p:spPr>
              <a:xfrm>
                <a:off x="611280" y="4149720"/>
                <a:ext cx="16254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1887480" y="352440"/>
            <a:ext cx="693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f5f5f"/>
                </a:solidFill>
                <a:latin typeface="Arial"/>
              </a:rPr>
              <a:t>Среди  данных многочленов исключите те, которые в стандартном ви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564000" y="2060640"/>
          <a:ext cx="2808360" cy="498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64000" y="2060640"/>
                    <a:ext cx="2808360" cy="49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3348000" y="1484280"/>
          <a:ext cx="2195640" cy="500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48000" y="1484280"/>
                    <a:ext cx="219564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50920" y="3716280"/>
          <a:ext cx="5864040" cy="1015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0920" y="3716280"/>
                    <a:ext cx="586404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6012000" y="3716280"/>
          <a:ext cx="2927160" cy="925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12000" y="3716280"/>
                    <a:ext cx="292716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92360" y="4869000"/>
          <a:ext cx="2881440" cy="542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92360" y="4869000"/>
                    <a:ext cx="28814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02105E-006 L -0.34653 -0.08396 E">
                                      <p:cBhvr>
                                        <p:cTn id="266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664 0.01434 L -0.5724 -0.12191 E">
                                      <p:cBhvr>
                                        <p:cTn id="268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97872E-006 L -0.22101 -0.04395 E">
                                      <p:cBhvr>
                                        <p:cTn id="270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92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9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0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10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1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2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28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1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7ffed"/>
                                      </p:to>
                                    </p:animClr>
                                    <p:animClr clrSpc="rgb">
                                      <p:cBhvr>
                                        <p:cTn id="332" dur="1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7ffed"/>
                                      </p:to>
                                    </p:animClr>
                                    <p:set>
                                      <p:cBhvr>
                                        <p:cTn id="333" dur="1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4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7ffed"/>
                                      </p:to>
                                    </p:animClr>
                                    <p:animClr clrSpc="rgb">
                                      <p:cBhvr>
                                        <p:cTn id="347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7ffed"/>
                                      </p:to>
                                    </p:animClr>
                                    <p:set>
                                      <p:cBhvr>
                                        <p:cTn id="348" dur="1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5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7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58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1" dur="1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7ffed"/>
                                      </p:to>
                                    </p:animClr>
                                    <p:animClr clrSpc="rgb">
                                      <p:cBhvr>
                                        <p:cTn id="362" dur="1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7ffed"/>
                                      </p:to>
                                    </p:animClr>
                                    <p:set>
                                      <p:cBhvr>
                                        <p:cTn id="363" dur="1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7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692720" y="404640"/>
            <a:ext cx="708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f5f5f"/>
                </a:solidFill>
                <a:latin typeface="Arial"/>
              </a:rPr>
              <a:t>Приведите многочлены к стандартному ви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826920" y="1413000"/>
          <a:ext cx="3673800" cy="54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413000"/>
                    <a:ext cx="367380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826920" y="2133720"/>
          <a:ext cx="4753080" cy="66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2133720"/>
                    <a:ext cx="475308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826920" y="2890800"/>
          <a:ext cx="3529080" cy="104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2890800"/>
                    <a:ext cx="352908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826920" y="4017960"/>
          <a:ext cx="5832720" cy="59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6920" y="4017960"/>
                    <a:ext cx="583272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755640" y="4869000"/>
          <a:ext cx="7559640" cy="618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5640" y="4869000"/>
                    <a:ext cx="755964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319680" y="5805360"/>
            <a:ext cx="84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4598"/>
                </a:solidFill>
                <a:latin typeface="Arial"/>
              </a:rPr>
              <a:t>Кликни мышью на многочлен, чтобы проверить отв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403280" y="1341360"/>
          <a:ext cx="1952640" cy="540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03280" y="1341360"/>
                    <a:ext cx="195264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1403280" y="2133720"/>
          <a:ext cx="2448000" cy="627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03280" y="2133720"/>
                    <a:ext cx="244800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1403280" y="3141720"/>
          <a:ext cx="1584360" cy="504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403280" y="3141720"/>
                    <a:ext cx="15843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116000" y="4076640"/>
          <a:ext cx="4176720" cy="590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116000" y="4076640"/>
                    <a:ext cx="417672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476360" y="4869000"/>
          <a:ext cx="380880" cy="591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476360" y="4869000"/>
                    <a:ext cx="38088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7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386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9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398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1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3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1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422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5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47640" y="333360"/>
            <a:ext cx="7148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f5f5f"/>
                </a:solidFill>
                <a:latin typeface="Arial"/>
              </a:rPr>
              <a:t>Обычно многочлены обозначают буквой </a:t>
            </a:r>
            <a:r>
              <a:rPr b="1" lang="ru-RU" sz="2400" spc="-1" strike="noStrike">
                <a:solidFill>
                  <a:srgbClr val="1c4598"/>
                </a:solidFill>
                <a:latin typeface="Arial"/>
              </a:rPr>
              <a:t>р</a:t>
            </a:r>
            <a:r>
              <a:rPr b="1" lang="ru-RU" sz="2400" spc="-1" strike="noStrike">
                <a:solidFill>
                  <a:srgbClr val="5f5f5f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1c4598"/>
                </a:solidFill>
                <a:latin typeface="Arial"/>
              </a:rPr>
              <a:t>Р </a:t>
            </a:r>
            <a:r>
              <a:rPr b="1" lang="ru-RU" sz="2400" spc="-1" strike="noStrike">
                <a:solidFill>
                  <a:srgbClr val="5f5f5f"/>
                </a:solidFill>
                <a:latin typeface="Arial"/>
              </a:rPr>
              <a:t>– с этой буквы начинается греческое слово </a:t>
            </a:r>
            <a:r>
              <a:rPr b="1" i="1" lang="en-US" sz="2400" spc="-1" strike="noStrike">
                <a:solidFill>
                  <a:srgbClr val="1c4598"/>
                </a:solidFill>
                <a:latin typeface="Arial"/>
              </a:rPr>
              <a:t>polys </a:t>
            </a:r>
            <a:r>
              <a:rPr b="1" lang="ru-RU" sz="2400" spc="-1" strike="noStrike">
                <a:solidFill>
                  <a:srgbClr val="5f5f5f"/>
                </a:solidFill>
                <a:latin typeface="Arial"/>
              </a:rPr>
              <a:t>(«многий», «многочисленный»). В обозначение включают и переменные, из которых состоят члены многочле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8920" y="2492280"/>
            <a:ext cx="14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4598"/>
                </a:solidFill>
                <a:latin typeface="Arial"/>
              </a:rPr>
              <a:t>Пример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484360" y="2421000"/>
          <a:ext cx="3384720" cy="69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421000"/>
                    <a:ext cx="33847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2411280" y="3141720"/>
          <a:ext cx="410400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3141720"/>
                    <a:ext cx="410400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735480" y="4024440"/>
            <a:ext cx="65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4598"/>
                </a:solidFill>
                <a:latin typeface="Arial"/>
              </a:rPr>
              <a:t>Как обозначить следующие многочлен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826920" y="4653000"/>
          <a:ext cx="2665440" cy="56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4653000"/>
                    <a:ext cx="266544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826920" y="5373720"/>
          <a:ext cx="3313440" cy="59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6920" y="5373720"/>
                    <a:ext cx="331344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3492360" y="4653000"/>
          <a:ext cx="1656000" cy="692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92360" y="4653000"/>
                    <a:ext cx="165600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4140360" y="5300640"/>
          <a:ext cx="2158920" cy="730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40360" y="5300640"/>
                    <a:ext cx="215892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815120" y="135000"/>
            <a:ext cx="35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4598"/>
                </a:solidFill>
                <a:latin typeface="Arial"/>
              </a:rPr>
              <a:t>Пример:  </a:t>
            </a:r>
            <a:r>
              <a:rPr b="1" lang="ru-RU" sz="2000" spc="-1" strike="noStrike">
                <a:solidFill>
                  <a:srgbClr val="5f5f5f"/>
                </a:solidFill>
                <a:latin typeface="Arial"/>
              </a:rPr>
              <a:t>дан многочле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476360" y="692280"/>
          <a:ext cx="7451640" cy="52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692280"/>
                    <a:ext cx="745164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369000" y="1263600"/>
            <a:ext cx="481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f5f5f"/>
                </a:solidFill>
                <a:latin typeface="Arial"/>
              </a:rPr>
              <a:t>а) записать его в стандартном вид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f5f5f"/>
                </a:solidFill>
                <a:latin typeface="Arial"/>
              </a:rPr>
              <a:t>б) вычислить </a:t>
            </a:r>
            <a:r>
              <a:rPr b="1" i="1" lang="en-US" sz="2000" spc="-1" strike="noStrike">
                <a:solidFill>
                  <a:srgbClr val="5f5f5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(1,2), </a:t>
            </a:r>
            <a:r>
              <a:rPr b="1" i="1" lang="en-US" sz="2000" spc="-1" strike="noStrike">
                <a:solidFill>
                  <a:srgbClr val="5f5f5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(-1,1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897640" y="193500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4598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50920" y="2622600"/>
          <a:ext cx="856908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2622600"/>
                    <a:ext cx="85690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250920" y="3284640"/>
          <a:ext cx="5776920" cy="49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3284640"/>
                    <a:ext cx="577692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39640" y="3789360"/>
            <a:ext cx="720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95640" y="3789360"/>
            <a:ext cx="720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547640" y="3789360"/>
            <a:ext cx="647640" cy="71280"/>
            <a:chOff x="1547640" y="3789360"/>
            <a:chExt cx="647640" cy="71280"/>
          </a:xfrm>
        </p:grpSpPr>
        <p:sp>
          <p:nvSpPr>
            <p:cNvPr id="219" name=""/>
            <p:cNvSpPr/>
            <p:nvPr/>
          </p:nvSpPr>
          <p:spPr>
            <a:xfrm>
              <a:off x="1547640" y="3789360"/>
              <a:ext cx="6476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547640" y="3860640"/>
              <a:ext cx="6476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2340000" y="3789360"/>
            <a:ext cx="647640" cy="71280"/>
            <a:chOff x="2340000" y="3789360"/>
            <a:chExt cx="647640" cy="71280"/>
          </a:xfrm>
        </p:grpSpPr>
        <p:sp>
          <p:nvSpPr>
            <p:cNvPr id="222" name=""/>
            <p:cNvSpPr/>
            <p:nvPr/>
          </p:nvSpPr>
          <p:spPr>
            <a:xfrm>
              <a:off x="2340000" y="3789360"/>
              <a:ext cx="6476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40000" y="3860640"/>
              <a:ext cx="6476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24" name=""/>
          <p:cNvGraphicFramePr/>
          <p:nvPr/>
        </p:nvGraphicFramePr>
        <p:xfrm>
          <a:off x="4932360" y="3789360"/>
          <a:ext cx="3887640" cy="506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32360" y="3789360"/>
                    <a:ext cx="388764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250920" y="4508640"/>
          <a:ext cx="6192720" cy="558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0920" y="4508640"/>
                    <a:ext cx="619272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5600880" y="4941720"/>
          <a:ext cx="2769840" cy="387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00880" y="4941720"/>
                    <a:ext cx="276984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8317080" y="4941720"/>
          <a:ext cx="502920" cy="439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17080" y="4941720"/>
                    <a:ext cx="502920" cy="4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250920" y="5300640"/>
          <a:ext cx="7561080" cy="636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0920" y="5300640"/>
                    <a:ext cx="75610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5724360" y="6021360"/>
          <a:ext cx="2737080" cy="446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724360" y="6021360"/>
                    <a:ext cx="273708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8459640" y="6021360"/>
          <a:ext cx="293760" cy="380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459640" y="6021360"/>
                    <a:ext cx="29376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a5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835280" y="260280"/>
            <a:ext cx="6429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4598"/>
                </a:solidFill>
                <a:latin typeface="Arial"/>
              </a:rPr>
              <a:t>Реши самостоятельно</a:t>
            </a:r>
            <a:r>
              <a:rPr b="1" lang="ru-RU" sz="2000" spc="-1" strike="noStrike">
                <a:solidFill>
                  <a:srgbClr val="5f5f5f"/>
                </a:solidFill>
                <a:latin typeface="Arial"/>
              </a:rPr>
              <a:t>: Приведите многочлен </a:t>
            </a:r>
            <a:r>
              <a:rPr b="1" i="1" lang="en-US" sz="2000" spc="-1" strike="noStrike">
                <a:solidFill>
                  <a:srgbClr val="5f5f5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(a,b) </a:t>
            </a:r>
            <a:r>
              <a:rPr b="1" lang="ru-RU" sz="2000" spc="-1" strike="noStrike">
                <a:solidFill>
                  <a:srgbClr val="5f5f5f"/>
                </a:solidFill>
                <a:latin typeface="Arial"/>
              </a:rPr>
              <a:t>к стандартному виду и найдите значение </a:t>
            </a:r>
            <a:r>
              <a:rPr b="1" i="1" lang="en-US" sz="2000" spc="-1" strike="noStrike">
                <a:solidFill>
                  <a:srgbClr val="5f5f5f"/>
                </a:solidFill>
                <a:latin typeface="Arial"/>
              </a:rPr>
              <a:t>p</a:t>
            </a:r>
            <a:r>
              <a:rPr b="1" lang="ru-RU" sz="2000" spc="-1" strike="noStrike">
                <a:solidFill>
                  <a:srgbClr val="5f5f5f"/>
                </a:solidFill>
                <a:latin typeface="Arial"/>
              </a:rPr>
              <a:t>(3,1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627280" y="1268280"/>
          <a:ext cx="4260960" cy="9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268280"/>
                    <a:ext cx="426096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3637080" y="206064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4598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08000" y="2637000"/>
          <a:ext cx="4321080" cy="96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2637000"/>
                    <a:ext cx="432108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4356000" y="2637000"/>
          <a:ext cx="4619880" cy="923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6000" y="2637000"/>
                    <a:ext cx="461988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4643280" y="3573360"/>
            <a:ext cx="5032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16720" y="3357720"/>
            <a:ext cx="5032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580000" y="3357720"/>
            <a:ext cx="504720" cy="71280"/>
            <a:chOff x="5580000" y="3357720"/>
            <a:chExt cx="504720" cy="71280"/>
          </a:xfrm>
        </p:grpSpPr>
        <p:sp>
          <p:nvSpPr>
            <p:cNvPr id="249" name=""/>
            <p:cNvSpPr/>
            <p:nvPr/>
          </p:nvSpPr>
          <p:spPr>
            <a:xfrm>
              <a:off x="5581440" y="3357720"/>
              <a:ext cx="503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80000" y="3429000"/>
              <a:ext cx="503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7524720" y="3357720"/>
            <a:ext cx="504720" cy="71280"/>
            <a:chOff x="7524720" y="3357720"/>
            <a:chExt cx="504720" cy="71280"/>
          </a:xfrm>
        </p:grpSpPr>
        <p:sp>
          <p:nvSpPr>
            <p:cNvPr id="252" name=""/>
            <p:cNvSpPr/>
            <p:nvPr/>
          </p:nvSpPr>
          <p:spPr>
            <a:xfrm>
              <a:off x="7526160" y="3357720"/>
              <a:ext cx="503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24720" y="3429000"/>
              <a:ext cx="503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54" name=""/>
          <p:cNvGraphicFramePr/>
          <p:nvPr/>
        </p:nvGraphicFramePr>
        <p:xfrm>
          <a:off x="5651640" y="3645000"/>
          <a:ext cx="2952720" cy="934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51640" y="3645000"/>
                    <a:ext cx="295272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250920" y="4653000"/>
          <a:ext cx="4248000" cy="92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0920" y="4653000"/>
                    <a:ext cx="424800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4500720" y="4653000"/>
          <a:ext cx="2761920" cy="973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00720" y="4653000"/>
                    <a:ext cx="276192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6443640" y="5445000"/>
          <a:ext cx="2232000" cy="446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43640" y="5445000"/>
                    <a:ext cx="223200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09:02:05Z</dcterms:created>
  <dc:creator>1</dc:creator>
  <dc:description/>
  <dc:language>en-US</dc:language>
  <cp:lastModifiedBy>comp</cp:lastModifiedBy>
  <dcterms:modified xsi:type="dcterms:W3CDTF">2011-11-03T09:15:01Z</dcterms:modified>
  <cp:revision>17</cp:revision>
  <dc:subject/>
  <dc:title>Themegallery PowerTemplate</dc:title>
</cp:coreProperties>
</file>