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7.png" ContentType="image/png"/>
  <Override PartName="/ppt/media/image2.jpeg" ContentType="image/jpeg"/>
  <Override PartName="/ppt/media/image3.jpeg" ContentType="image/jpeg"/>
  <Override PartName="/ppt/media/image30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2.jpeg" ContentType="image/jpeg"/>
  <Override PartName="/ppt/media/image6.png" ContentType="image/png"/>
  <Override PartName="/ppt/media/image8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2.png" ContentType="image/png"/>
  <Override PartName="/ppt/media/image11.jpeg" ContentType="image/jpeg"/>
  <Override PartName="/ppt/media/image24.png" ContentType="image/png"/>
  <Override PartName="/ppt/media/image25.jpeg" ContentType="image/jpeg"/>
  <Override PartName="/ppt/media/image2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4A9-6414-44B8-B4FD-6FA5709E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43F-DE04-4C5D-BA09-7971D0D4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7FC-3647-4D40-AB85-046901B4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6EDA-3EF7-4809-B013-96B0FC20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20E-82FD-468B-BA13-6B43FD69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94A5-A3AC-4475-80D0-EB6B09D2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992D-E6AF-46CE-8D7B-9AB00A95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B2E5-AE2C-4058-9ADA-A38080D7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ACEE-594D-48A2-AE49-7A761A41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18DD-7DC3-4D67-B01C-5A02D744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E647-7911-4FA0-BC3D-A1BB06EF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BBB8-2165-4394-9181-7DB9ED0F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775E-8973-4734-815B-D7279F227FE2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9D68-4E45-4C16-BB86-57F4C3F6896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0/38/804/38804958_4401.jpg" TargetMode="External"/><Relationship Id="rId2" Type="http://schemas.openxmlformats.org/officeDocument/2006/relationships/hyperlink" Target="http://www.stihi.ru/pics/2008/09/24/1799.jpg" TargetMode="External"/><Relationship Id="rId3" Type="http://schemas.openxmlformats.org/officeDocument/2006/relationships/hyperlink" Target="http://www.fresher.ru/manager_content/images/zolotaya-osen-na-bajkale/2.jpg" TargetMode="External"/><Relationship Id="rId4" Type="http://schemas.openxmlformats.org/officeDocument/2006/relationships/hyperlink" Target="http://www.artlib.ru/objects/gallery_36/artlib_gallery-18033-b.jpg" TargetMode="External"/><Relationship Id="rId5" Type="http://schemas.openxmlformats.org/officeDocument/2006/relationships/hyperlink" Target="http://upload.wikimedia.org/wikipedia/commons/thumb/5/56/Kiprensky_Pushkin.jpg/250px-Kiprensky_Pushkin.jpg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34F0-35C5-4EF4-9193-DE8C176820B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Рисунок 2" descr="1339.jpg"/>
          <p:cNvPicPr/>
          <p:nvPr/>
        </p:nvPicPr>
        <p:blipFill>
          <a:blip r:embed="rId1"/>
          <a:stretch/>
        </p:blipFill>
        <p:spPr>
          <a:xfrm>
            <a:off x="312840" y="0"/>
            <a:ext cx="85183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835280" y="476280"/>
            <a:ext cx="5402160" cy="143460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«Музыка осен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1" descr=""/>
          <p:cNvPicPr/>
          <p:nvPr/>
        </p:nvPicPr>
        <p:blipFill>
          <a:blip r:embed="rId1"/>
          <a:stretch/>
        </p:blipFill>
        <p:spPr>
          <a:xfrm>
            <a:off x="274680" y="171360"/>
            <a:ext cx="7027920" cy="1108080"/>
          </a:xfrm>
          <a:prstGeom prst="rect">
            <a:avLst/>
          </a:prstGeom>
          <a:ln w="0">
            <a:noFill/>
          </a:ln>
        </p:spPr>
      </p:pic>
      <p:sp>
        <p:nvSpPr>
          <p:cNvPr id="7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7914-3E8C-411F-A3E3-C7749A39D37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" descr="http://samsebeemu.ru/wp-content/uploads/2011/04/179cd4a0f0b8547d7317fe4d98a35ed9.jpg"/>
          <p:cNvPicPr/>
          <p:nvPr/>
        </p:nvPicPr>
        <p:blipFill>
          <a:blip r:embed="rId2"/>
          <a:stretch/>
        </p:blipFill>
        <p:spPr>
          <a:xfrm>
            <a:off x="684360" y="1484280"/>
            <a:ext cx="7253280" cy="5092560"/>
          </a:xfrm>
          <a:prstGeom prst="rect">
            <a:avLst/>
          </a:prstGeom>
          <a:ln w="0">
            <a:noFill/>
          </a:ln>
        </p:spPr>
      </p:pic>
      <p:pic>
        <p:nvPicPr>
          <p:cNvPr id="81" name="10 - Т. Попатенко. Скворушка прощается..mp3" descr=""/>
          <p:cNvPicPr/>
          <p:nvPr/>
        </p:nvPicPr>
        <p:blipFill>
          <a:blip r:embed="rId3"/>
          <a:stretch/>
        </p:blipFill>
        <p:spPr>
          <a:xfrm>
            <a:off x="7632720" y="611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2786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1428840" y="142920"/>
            <a:ext cx="6072120" cy="398880"/>
          </a:xfrm>
          <a:prstGeom prst="rect">
            <a:avLst/>
          </a:prstGeom>
          <a:solidFill>
            <a:srgbClr val="ffff66"/>
          </a:solidFill>
          <a:ln w="255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Разучите песню «Скворушка прощаетс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214200" y="714240"/>
            <a:ext cx="3286080" cy="5854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Осень-непогодушка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Тополь пожелтел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руг на ветке скворушк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сенку запе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пев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тка чуть качается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ждик не кончается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ами старый скворушк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весны прощ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В путь дорогу дальнюю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Скворушке лететь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сенку прощальную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ему не спе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пе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Где ты, солнце вешнее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Ясный небосвод?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 пустой скворечнею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ворушка поё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Рисунок 4" descr="foto047-2.jpg"/>
          <p:cNvPicPr/>
          <p:nvPr/>
        </p:nvPicPr>
        <p:blipFill>
          <a:blip r:embed="rId1"/>
          <a:stretch/>
        </p:blipFill>
        <p:spPr>
          <a:xfrm>
            <a:off x="3851280" y="981000"/>
            <a:ext cx="4894200" cy="364356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2D39-9AD2-43FB-AF96-609CAB3F1E7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Скворушка МИНУС.mp3" descr=""/>
          <p:cNvPicPr/>
          <p:nvPr/>
        </p:nvPicPr>
        <p:blipFill>
          <a:blip r:embed="rId2"/>
          <a:stretch/>
        </p:blipFill>
        <p:spPr>
          <a:xfrm>
            <a:off x="6588000" y="53006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2819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B8E2-ACFA-4DD7-B015-8AB3500F01D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428760" y="571680"/>
            <a:ext cx="46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Рисунок 10" descr="63098398_5576.jpg"/>
          <p:cNvPicPr/>
          <p:nvPr/>
        </p:nvPicPr>
        <p:blipFill>
          <a:blip r:embed="rId1"/>
          <a:stretch/>
        </p:blipFill>
        <p:spPr>
          <a:xfrm>
            <a:off x="2268360" y="333360"/>
            <a:ext cx="4653000" cy="6186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EA69-B0D6-4395-BF99-EB94F2E23A2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Рисунок 2" descr="smart_objects_013.jpg"/>
          <p:cNvPicPr/>
          <p:nvPr/>
        </p:nvPicPr>
        <p:blipFill>
          <a:blip r:embed="rId1"/>
          <a:stretch/>
        </p:blipFill>
        <p:spPr>
          <a:xfrm rot="760200">
            <a:off x="734760" y="1796760"/>
            <a:ext cx="855720" cy="939600"/>
          </a:xfrm>
          <a:prstGeom prst="rect">
            <a:avLst/>
          </a:prstGeom>
          <a:ln cap="sq" w="381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2" name="Рисунок 3" descr="phpThumb_generated_thumbnail.jpeg"/>
          <p:cNvPicPr/>
          <p:nvPr/>
        </p:nvPicPr>
        <p:blipFill>
          <a:blip r:embed="rId2"/>
          <a:stretch/>
        </p:blipFill>
        <p:spPr>
          <a:xfrm rot="20466000">
            <a:off x="7234200" y="1742760"/>
            <a:ext cx="804960" cy="1136520"/>
          </a:xfrm>
          <a:prstGeom prst="rect">
            <a:avLst/>
          </a:prstGeom>
          <a:ln cap="sq" w="381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3" name="Рисунок 7" descr="eufeliz.jpg"/>
          <p:cNvPicPr/>
          <p:nvPr/>
        </p:nvPicPr>
        <p:blipFill>
          <a:blip r:embed="rId3"/>
          <a:stretch/>
        </p:blipFill>
        <p:spPr>
          <a:xfrm>
            <a:off x="2000160" y="357120"/>
            <a:ext cx="4562640" cy="4619520"/>
          </a:xfrm>
          <a:prstGeom prst="rect">
            <a:avLst/>
          </a:prstGeom>
          <a:ln w="0">
            <a:noFill/>
          </a:ln>
        </p:spPr>
      </p:pic>
      <p:sp>
        <p:nvSpPr>
          <p:cNvPr id="94" name="TextBox 8"/>
          <p:cNvSpPr/>
          <p:nvPr/>
        </p:nvSpPr>
        <p:spPr>
          <a:xfrm>
            <a:off x="1980720" y="5429160"/>
            <a:ext cx="472212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ОЛОДЦЫ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774F-0F3F-458E-A6F1-21BE049BE7E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539640" y="1167480"/>
            <a:ext cx="7883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сылки на изображения в презентац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img1.liveinternet.ru/images/attach/c/0/38/804/38804958_4401.jpg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Муз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stihi.ru/pics/2008/09/24/1799.jpg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ос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fresher.ru/manager_content/images/zolotaya-osen-na-bajkale/2.jpg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ос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artlib.ru/objects/gallery_36/artlib_gallery-18033-b.jpg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ос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upload.wikimedia.org/wikipedia/commons/thumb/5/56/Kiprensky_Pushkin.jpg/250px-Kiprensky_Pushkin.jpg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А.С.Пушки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://content.foto.mail.ru/mail/eirlineage/_answers/i-27.jpg  Свиридов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://krichevsky.info/wp-content/uploads/2013/04/114.jpg скрип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://samsebeemu.ru/wp-content/uploads/2011/04/179cd4a0f0b8547d7317fe4d98a35ed9.jpg скворц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://vadimtrunov.35photo.ru/photos/20101026/189753.jpg хмурая ос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ttp://www.pikipedia.ru/wp-content/uploads/1316141818_76799479_large_a11.jpg солнечная ос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925D-F989-42D6-8D50-CE4CC69E497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Рисунок 2" descr="47886896_401.jpg"/>
          <p:cNvPicPr/>
          <p:nvPr/>
        </p:nvPicPr>
        <p:blipFill>
          <a:blip r:embed="rId1"/>
          <a:stretch/>
        </p:blipFill>
        <p:spPr>
          <a:xfrm>
            <a:off x="4716360" y="333360"/>
            <a:ext cx="4029120" cy="5869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"/>
          <p:cNvSpPr/>
          <p:nvPr/>
        </p:nvSpPr>
        <p:spPr>
          <a:xfrm>
            <a:off x="645120" y="5017680"/>
            <a:ext cx="8084160" cy="11912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от художник так художник, все леса позолоти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же самый сильный дождик эту краску не отмы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гадать загадку просим – кто художник этот?»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E20E-0768-49F3-BB44-DA3DD8CD8B9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http://www.stihi.ru/pics/2008/09/24/1799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004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3" descr=""/>
          <p:cNvPicPr/>
          <p:nvPr/>
        </p:nvPicPr>
        <p:blipFill>
          <a:blip r:embed="rId2"/>
          <a:stretch/>
        </p:blipFill>
        <p:spPr>
          <a:xfrm>
            <a:off x="4664160" y="4797360"/>
            <a:ext cx="4101840" cy="1822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49120" y="2706840"/>
            <a:ext cx="2975040" cy="38829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3" descr=""/>
          <p:cNvPicPr/>
          <p:nvPr/>
        </p:nvPicPr>
        <p:blipFill>
          <a:blip r:embed="rId2"/>
          <a:stretch/>
        </p:blipFill>
        <p:spPr>
          <a:xfrm>
            <a:off x="3949560" y="1292400"/>
            <a:ext cx="4743720" cy="3286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3"/>
          <a:stretch/>
        </p:blipFill>
        <p:spPr>
          <a:xfrm rot="208800">
            <a:off x="635040" y="4996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4"/>
          <a:stretch/>
        </p:blipFill>
        <p:spPr>
          <a:xfrm rot="18351000">
            <a:off x="2857320" y="48852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5"/>
          <a:stretch/>
        </p:blipFill>
        <p:spPr>
          <a:xfrm rot="3743400">
            <a:off x="7353360" y="556704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6"/>
          <a:stretch/>
        </p:blipFill>
        <p:spPr>
          <a:xfrm rot="16360800">
            <a:off x="4232160" y="558936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FA88-D0F8-480D-B76C-1F86A21B49E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7"/>
          <a:stretch/>
        </p:blipFill>
        <p:spPr>
          <a:xfrm>
            <a:off x="285840" y="1847880"/>
            <a:ext cx="3639960" cy="4748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Левитан И"/>
          <p:cNvPicPr/>
          <p:nvPr/>
        </p:nvPicPr>
        <p:blipFill>
          <a:blip r:embed="rId1"/>
          <a:stretch/>
        </p:blipFill>
        <p:spPr>
          <a:xfrm>
            <a:off x="-115920" y="0"/>
            <a:ext cx="93013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4" descr=""/>
          <p:cNvPicPr/>
          <p:nvPr/>
        </p:nvPicPr>
        <p:blipFill>
          <a:blip r:embed="rId2"/>
          <a:stretch/>
        </p:blipFill>
        <p:spPr>
          <a:xfrm>
            <a:off x="3554280" y="-42840"/>
            <a:ext cx="5443560" cy="1530360"/>
          </a:xfrm>
          <a:prstGeom prst="rect">
            <a:avLst/>
          </a:prstGeom>
          <a:ln w="0">
            <a:noFill/>
          </a:ln>
        </p:spPr>
      </p:pic>
      <p:sp>
        <p:nvSpPr>
          <p:cNvPr id="6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54EF-9FB5-49CC-A3BA-549A6F5E44C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" descr="C:\Users\admin\Desktop\59953695_1275807826_5.jpg"/>
          <p:cNvPicPr/>
          <p:nvPr/>
        </p:nvPicPr>
        <p:blipFill>
          <a:blip r:embed="rId3"/>
          <a:stretch/>
        </p:blipFill>
        <p:spPr>
          <a:xfrm>
            <a:off x="250920" y="3357720"/>
            <a:ext cx="2728800" cy="316044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Левитан  Исаак  Ильич   (1861-190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0001-001-Muzyka-noty.jpg"/>
          <p:cNvPicPr/>
          <p:nvPr/>
        </p:nvPicPr>
        <p:blipFill>
          <a:blip r:embed="rId2"/>
          <a:stretch/>
        </p:blipFill>
        <p:spPr>
          <a:xfrm>
            <a:off x="4932360" y="333360"/>
            <a:ext cx="3743280" cy="280836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DF3B-7A90-432E-BBCB-97813F51D90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1" descr="C:\Users\admin\Desktop\9a6edab59ceb102d3c0c89432e6.jpg"/>
          <p:cNvPicPr/>
          <p:nvPr/>
        </p:nvPicPr>
        <p:blipFill>
          <a:blip r:embed="rId3"/>
          <a:stretch/>
        </p:blipFill>
        <p:spPr>
          <a:xfrm>
            <a:off x="468360" y="2125800"/>
            <a:ext cx="3095640" cy="4351320"/>
          </a:xfrm>
          <a:prstGeom prst="rect">
            <a:avLst/>
          </a:prstGeom>
          <a:ln w="0">
            <a:noFill/>
          </a:ln>
        </p:spPr>
      </p:pic>
      <p:pic>
        <p:nvPicPr>
          <p:cNvPr id="66" name="09 - Г. Свиридов. Осень..mp3" descr=""/>
          <p:cNvPicPr/>
          <p:nvPr/>
        </p:nvPicPr>
        <p:blipFill>
          <a:blip r:embed="rId4"/>
          <a:stretch/>
        </p:blipFill>
        <p:spPr>
          <a:xfrm>
            <a:off x="5724360" y="3792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1443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452a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E930-2E0E-4958-911C-BFFEA7B2D8E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Прямоугольник 3" descr=""/>
          <p:cNvPicPr/>
          <p:nvPr/>
        </p:nvPicPr>
        <p:blipFill>
          <a:blip r:embed="rId1"/>
          <a:stretch/>
        </p:blipFill>
        <p:spPr>
          <a:xfrm>
            <a:off x="128520" y="139680"/>
            <a:ext cx="2187720" cy="153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http://vadimtrunov.35photo.ru/photos/20101026/189753.jpg"/>
          <p:cNvPicPr/>
          <p:nvPr/>
        </p:nvPicPr>
        <p:blipFill>
          <a:blip r:embed="rId2"/>
          <a:stretch/>
        </p:blipFill>
        <p:spPr>
          <a:xfrm>
            <a:off x="324000" y="1628640"/>
            <a:ext cx="8447040" cy="4896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6DE2-EDBB-4B0E-B580-BEE1ECEDB27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http://www.pikipedia.ru/wp-content/uploads/1316141818_76799479_large_a11.jpg"/>
          <p:cNvPicPr/>
          <p:nvPr/>
        </p:nvPicPr>
        <p:blipFill>
          <a:blip r:embed="rId1"/>
          <a:stretch/>
        </p:blipFill>
        <p:spPr>
          <a:xfrm>
            <a:off x="324000" y="250920"/>
            <a:ext cx="8208720" cy="615636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5" descr=""/>
          <p:cNvPicPr/>
          <p:nvPr/>
        </p:nvPicPr>
        <p:blipFill>
          <a:blip r:embed="rId2"/>
          <a:stretch/>
        </p:blipFill>
        <p:spPr>
          <a:xfrm>
            <a:off x="6595920" y="66600"/>
            <a:ext cx="2071800" cy="1542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DA8A-9925-40A2-85DD-077B978137C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http://go2.imgsmail.ru/imgpreview?key=e9bb9171c5a479f&amp;mb=imgdb_preview_1536"/>
          <p:cNvPicPr/>
          <p:nvPr/>
        </p:nvPicPr>
        <p:blipFill>
          <a:blip r:embed="rId1"/>
          <a:stretch/>
        </p:blipFill>
        <p:spPr>
          <a:xfrm>
            <a:off x="4859280" y="1773360"/>
            <a:ext cx="3411720" cy="42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go4.imgsmail.ru/imgpreview?key=350acf907d19f608&amp;mb=imgdb_preview_1503"/>
          <p:cNvPicPr/>
          <p:nvPr/>
        </p:nvPicPr>
        <p:blipFill>
          <a:blip r:embed="rId2"/>
          <a:stretch/>
        </p:blipFill>
        <p:spPr>
          <a:xfrm>
            <a:off x="826920" y="1773360"/>
            <a:ext cx="3097440" cy="42796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5" descr=""/>
          <p:cNvPicPr/>
          <p:nvPr/>
        </p:nvPicPr>
        <p:blipFill>
          <a:blip r:embed="rId3"/>
          <a:stretch/>
        </p:blipFill>
        <p:spPr>
          <a:xfrm>
            <a:off x="853920" y="523800"/>
            <a:ext cx="3048120" cy="136548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6" descr=""/>
          <p:cNvPicPr/>
          <p:nvPr/>
        </p:nvPicPr>
        <p:blipFill>
          <a:blip r:embed="rId4"/>
          <a:stretch/>
        </p:blipFill>
        <p:spPr>
          <a:xfrm>
            <a:off x="4956120" y="523800"/>
            <a:ext cx="304812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5T06:03:47Z</dcterms:created>
  <dc:creator>Admin</dc:creator>
  <dc:description/>
  <dc:language>en-US</dc:language>
  <cp:lastModifiedBy>ТитоваТ</cp:lastModifiedBy>
  <dcterms:modified xsi:type="dcterms:W3CDTF">2023-11-13T07:27:20Z</dcterms:modified>
  <cp:revision>71</cp:revision>
  <dc:subject/>
  <dc:title>Слайд 1</dc:title>
</cp:coreProperties>
</file>