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56F-94F2-42BA-85F1-34E32FD7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E94-36E7-4DB5-B391-7CE0E4C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4B8-C049-4565-A3C4-6869EFD8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CEA-F344-435D-914B-869C85E8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927-D9C6-43B8-A133-3B06865E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067-8266-4C64-9AB5-BE5597E4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7E1-3C0A-4362-BFFD-F77ACE91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058-8E3D-4C29-96FE-7F65A403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88B-631E-489B-87EF-F27069DE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CF1-0D9F-4DCB-9D2D-9132F35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0E4-E944-4753-8688-8F1473F4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C0A-22FD-4CCD-B2E3-CA6803FE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10D7-CD99-4E91-BAD6-C2EBEB0C6EC2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36D-D12A-45CF-90DA-E1239AE3B0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38/804/38804958_4401.jpg" TargetMode="External"/><Relationship Id="rId2" Type="http://schemas.openxmlformats.org/officeDocument/2006/relationships/hyperlink" Target="http://www.stihi.ru/pics/2008/09/24/1799.jpg" TargetMode="External"/><Relationship Id="rId3" Type="http://schemas.openxmlformats.org/officeDocument/2006/relationships/hyperlink" Target="http://www.fresher.ru/manager_content/images/zolotaya-osen-na-bajkale/2.jpg" TargetMode="External"/><Relationship Id="rId4" Type="http://schemas.openxmlformats.org/officeDocument/2006/relationships/hyperlink" Target="http://www.artlib.ru/objects/gallery_36/artlib_gallery-18033-b.jpg" TargetMode="External"/><Relationship Id="rId5" Type="http://schemas.openxmlformats.org/officeDocument/2006/relationships/hyperlink" Target="http://upload.wikimedia.org/wikipedia/commons/thumb/5/56/Kiprensky_Pushkin.jpg/250px-Kiprensky_Pushkin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5341-B897-4508-B952-2D99BBE982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Рисунок 2" descr="1339.jpg"/>
          <p:cNvPicPr/>
          <p:nvPr/>
        </p:nvPicPr>
        <p:blipFill>
          <a:blip r:embed="rId1"/>
          <a:stretch/>
        </p:blipFill>
        <p:spPr>
          <a:xfrm>
            <a:off x="312840" y="0"/>
            <a:ext cx="851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835280" y="476280"/>
            <a:ext cx="5402160" cy="143460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Музыка осен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7027920" cy="110808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BDA-5DF0-4EDD-9BE5-F7561BBE44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http://samsebeemu.ru/wp-content/uploads/2011/04/179cd4a0f0b8547d7317fe4d98a35ed9.jpg"/>
          <p:cNvPicPr/>
          <p:nvPr/>
        </p:nvPicPr>
        <p:blipFill>
          <a:blip r:embed="rId2"/>
          <a:stretch/>
        </p:blipFill>
        <p:spPr>
          <a:xfrm>
            <a:off x="684360" y="1484280"/>
            <a:ext cx="7253280" cy="5092560"/>
          </a:xfrm>
          <a:prstGeom prst="rect">
            <a:avLst/>
          </a:prstGeom>
          <a:ln w="0">
            <a:noFill/>
          </a:ln>
        </p:spPr>
      </p:pic>
      <p:pic>
        <p:nvPicPr>
          <p:cNvPr id="81" name="10 - Т. Попатенко. Скворушка прощается..mp3" descr=""/>
          <p:cNvPicPr/>
          <p:nvPr/>
        </p:nvPicPr>
        <p:blipFill>
          <a:blip r:embed="rId3"/>
          <a:stretch/>
        </p:blipFill>
        <p:spPr>
          <a:xfrm>
            <a:off x="7632720" y="611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786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428840" y="142920"/>
            <a:ext cx="6072120" cy="398880"/>
          </a:xfrm>
          <a:prstGeom prst="rect">
            <a:avLst/>
          </a:prstGeom>
          <a:solidFill>
            <a:srgbClr val="ffff66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зучите песню «Скворушка прощаетс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14200" y="714240"/>
            <a:ext cx="3286080" cy="585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сень-непогодушк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Тополь пожелте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руг на ветке скворуш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енку запе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пев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ка чуть качаетс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ждик не кончаетс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ми старый скворуш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есны прощ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 путь дорогу дальню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Скворушке лете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енку прощальну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ему не спе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п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де ты, солнце вешне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Ясный небосвод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пустой скворечне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ворушка поё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4" descr="foto047-2.jpg"/>
          <p:cNvPicPr/>
          <p:nvPr/>
        </p:nvPicPr>
        <p:blipFill>
          <a:blip r:embed="rId1"/>
          <a:stretch/>
        </p:blipFill>
        <p:spPr>
          <a:xfrm>
            <a:off x="3851280" y="981000"/>
            <a:ext cx="4894200" cy="364356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F38A-2413-4B1A-A69B-F049347CA9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кворушка МИНУС.mp3" descr=""/>
          <p:cNvPicPr/>
          <p:nvPr/>
        </p:nvPicPr>
        <p:blipFill>
          <a:blip r:embed="rId2"/>
          <a:stretch/>
        </p:blipFill>
        <p:spPr>
          <a:xfrm>
            <a:off x="6588000" y="5300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819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44FD-8BFA-44BE-95F9-622A13B1F6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28760" y="5716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10" descr="63098398_5576.jpg"/>
          <p:cNvPicPr/>
          <p:nvPr/>
        </p:nvPicPr>
        <p:blipFill>
          <a:blip r:embed="rId1"/>
          <a:stretch/>
        </p:blipFill>
        <p:spPr>
          <a:xfrm>
            <a:off x="2268360" y="333360"/>
            <a:ext cx="4653000" cy="6186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CC0B-8A92-4521-BCD7-E272BB10DC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2" descr="smart_objects_013.jpg"/>
          <p:cNvPicPr/>
          <p:nvPr/>
        </p:nvPicPr>
        <p:blipFill>
          <a:blip r:embed="rId1"/>
          <a:stretch/>
        </p:blipFill>
        <p:spPr>
          <a:xfrm rot="760200">
            <a:off x="734760" y="1796760"/>
            <a:ext cx="855720" cy="939600"/>
          </a:xfrm>
          <a:prstGeom prst="rect">
            <a:avLst/>
          </a:prstGeom>
          <a:ln cap="sq" w="381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Рисунок 3" descr="phpThumb_generated_thumbnail.jpeg"/>
          <p:cNvPicPr/>
          <p:nvPr/>
        </p:nvPicPr>
        <p:blipFill>
          <a:blip r:embed="rId2"/>
          <a:stretch/>
        </p:blipFill>
        <p:spPr>
          <a:xfrm rot="20466000">
            <a:off x="7234200" y="1742760"/>
            <a:ext cx="804960" cy="1136520"/>
          </a:xfrm>
          <a:prstGeom prst="rect">
            <a:avLst/>
          </a:prstGeom>
          <a:ln cap="sq" w="381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Рисунок 7" descr="eufeliz.jpg"/>
          <p:cNvPicPr/>
          <p:nvPr/>
        </p:nvPicPr>
        <p:blipFill>
          <a:blip r:embed="rId3"/>
          <a:stretch/>
        </p:blipFill>
        <p:spPr>
          <a:xfrm>
            <a:off x="2000160" y="357120"/>
            <a:ext cx="4562640" cy="4619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1980720" y="5429160"/>
            <a:ext cx="472212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ОЛОДЦЫ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D67D-7FCF-4F90-B006-AB047460DC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39640" y="1167480"/>
            <a:ext cx="7883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сылки на изображения в презент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g1.liveinternet.ru/images/attach/c/0/38/804/38804958_4401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Муз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tihi.ru/pics/2008/09/24/1799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fresher.ru/manager_content/images/zolotaya-osen-na-bajkale/2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artlib.ru/objects/gallery_36/artlib_gallery-18033-b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upload.wikimedia.org/wikipedia/commons/thumb/5/56/Kiprensky_Pushkin.jpg/250px-Kiprensky_Pushkin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А.С.Пушк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content.foto.mail.ru/mail/eirlineage/_answers/i-27.jpg  Свиридов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krichevsky.info/wp-content/uploads/2013/04/114.jpg скрип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samsebeemu.ru/wp-content/uploads/2011/04/179cd4a0f0b8547d7317fe4d98a35ed9.jpg сквор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vadimtrunov.35photo.ru/photos/20101026/189753.jpg хмурая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www.pikipedia.ru/wp-content/uploads/1316141818_76799479_large_a11.jpg солнечная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BACB-5BBF-497E-9FEC-820E3C84D7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2" descr="47886896_401.jpg"/>
          <p:cNvPicPr/>
          <p:nvPr/>
        </p:nvPicPr>
        <p:blipFill>
          <a:blip r:embed="rId1"/>
          <a:stretch/>
        </p:blipFill>
        <p:spPr>
          <a:xfrm>
            <a:off x="4716360" y="333360"/>
            <a:ext cx="4029120" cy="5869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645120" y="5017680"/>
            <a:ext cx="8084160" cy="11912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т художник так художник, все леса позолоти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же самый сильный дождик эту краску не отмы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гадать загадку просим – кто художник этот?»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08DB-5215-406C-9899-9337A8B476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http://www.stihi.ru/pics/2008/09/24/1799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00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4664160" y="4797360"/>
            <a:ext cx="4101840" cy="1822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9120" y="2706840"/>
            <a:ext cx="2975040" cy="3882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3949560" y="1292400"/>
            <a:ext cx="4743720" cy="328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3"/>
          <a:stretch/>
        </p:blipFill>
        <p:spPr>
          <a:xfrm rot="208800">
            <a:off x="635040" y="4996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 rot="18351000">
            <a:off x="2857320" y="4885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 rot="3743400">
            <a:off x="7353360" y="55670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 rot="16360800">
            <a:off x="4232160" y="5589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CEB7-A272-43FB-9F30-8299F730B5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7"/>
          <a:stretch/>
        </p:blipFill>
        <p:spPr>
          <a:xfrm>
            <a:off x="285840" y="1847880"/>
            <a:ext cx="3639960" cy="4748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Левитан И"/>
          <p:cNvPicPr/>
          <p:nvPr/>
        </p:nvPicPr>
        <p:blipFill>
          <a:blip r:embed="rId1"/>
          <a:stretch/>
        </p:blipFill>
        <p:spPr>
          <a:xfrm>
            <a:off x="-115920" y="0"/>
            <a:ext cx="9301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2"/>
          <a:stretch/>
        </p:blipFill>
        <p:spPr>
          <a:xfrm>
            <a:off x="3554280" y="-42840"/>
            <a:ext cx="5443560" cy="1530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E530-C836-4009-9CB8-C6841F835D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" descr="C:\Users\admin\Desktop\59953695_1275807826_5.jpg"/>
          <p:cNvPicPr/>
          <p:nvPr/>
        </p:nvPicPr>
        <p:blipFill>
          <a:blip r:embed="rId3"/>
          <a:stretch/>
        </p:blipFill>
        <p:spPr>
          <a:xfrm>
            <a:off x="250920" y="3357720"/>
            <a:ext cx="2728800" cy="31604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Левитан  Исаак  Ильич   (1861-19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001-001-Muzyka-noty.jpg"/>
          <p:cNvPicPr/>
          <p:nvPr/>
        </p:nvPicPr>
        <p:blipFill>
          <a:blip r:embed="rId2"/>
          <a:stretch/>
        </p:blipFill>
        <p:spPr>
          <a:xfrm>
            <a:off x="4932360" y="333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75F-5485-4A18-A2E2-42F99C781C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" descr="C:\Users\admin\Desktop\9a6edab59ceb102d3c0c89432e6.jpg"/>
          <p:cNvPicPr/>
          <p:nvPr/>
        </p:nvPicPr>
        <p:blipFill>
          <a:blip r:embed="rId3"/>
          <a:stretch/>
        </p:blipFill>
        <p:spPr>
          <a:xfrm>
            <a:off x="468360" y="2125800"/>
            <a:ext cx="3095640" cy="4351320"/>
          </a:xfrm>
          <a:prstGeom prst="rect">
            <a:avLst/>
          </a:prstGeom>
          <a:ln w="0">
            <a:noFill/>
          </a:ln>
        </p:spPr>
      </p:pic>
      <p:pic>
        <p:nvPicPr>
          <p:cNvPr id="66" name="09 - Г. Свиридов. Осень..mp3" descr=""/>
          <p:cNvPicPr/>
          <p:nvPr/>
        </p:nvPicPr>
        <p:blipFill>
          <a:blip r:embed="rId4"/>
          <a:stretch/>
        </p:blipFill>
        <p:spPr>
          <a:xfrm>
            <a:off x="5724360" y="3792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144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FF3F-F5D5-4E5F-BCDB-6EAFCD2B41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2187720" cy="153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vadimtrunov.35photo.ru/photos/20101026/189753.jpg"/>
          <p:cNvPicPr/>
          <p:nvPr/>
        </p:nvPicPr>
        <p:blipFill>
          <a:blip r:embed="rId2"/>
          <a:stretch/>
        </p:blipFill>
        <p:spPr>
          <a:xfrm>
            <a:off x="324000" y="1628640"/>
            <a:ext cx="8447040" cy="489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4BE2-8DE6-4259-B7E1-9A787A531C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http://www.pikipedia.ru/wp-content/uploads/1316141818_76799479_large_a11.jpg"/>
          <p:cNvPicPr/>
          <p:nvPr/>
        </p:nvPicPr>
        <p:blipFill>
          <a:blip r:embed="rId1"/>
          <a:stretch/>
        </p:blipFill>
        <p:spPr>
          <a:xfrm>
            <a:off x="324000" y="250920"/>
            <a:ext cx="8208720" cy="6156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6595920" y="66600"/>
            <a:ext cx="2071800" cy="1542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FB77-191A-4754-9E83-EA7D7CAE26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http://go2.imgsmail.ru/imgpreview?key=e9bb9171c5a479f&amp;mb=imgdb_preview_1536"/>
          <p:cNvPicPr/>
          <p:nvPr/>
        </p:nvPicPr>
        <p:blipFill>
          <a:blip r:embed="rId1"/>
          <a:stretch/>
        </p:blipFill>
        <p:spPr>
          <a:xfrm>
            <a:off x="4859280" y="1773360"/>
            <a:ext cx="3411720" cy="42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go4.imgsmail.ru/imgpreview?key=350acf907d19f608&amp;mb=imgdb_preview_1503"/>
          <p:cNvPicPr/>
          <p:nvPr/>
        </p:nvPicPr>
        <p:blipFill>
          <a:blip r:embed="rId2"/>
          <a:stretch/>
        </p:blipFill>
        <p:spPr>
          <a:xfrm>
            <a:off x="826920" y="1773360"/>
            <a:ext cx="3097440" cy="4279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3"/>
          <a:stretch/>
        </p:blipFill>
        <p:spPr>
          <a:xfrm>
            <a:off x="853920" y="523800"/>
            <a:ext cx="3048120" cy="13654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6" descr=""/>
          <p:cNvPicPr/>
          <p:nvPr/>
        </p:nvPicPr>
        <p:blipFill>
          <a:blip r:embed="rId4"/>
          <a:stretch/>
        </p:blipFill>
        <p:spPr>
          <a:xfrm>
            <a:off x="4956120" y="523800"/>
            <a:ext cx="30481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6:03:47Z</dcterms:created>
  <dc:creator>Admin</dc:creator>
  <dc:description/>
  <dc:language>en-US</dc:language>
  <cp:lastModifiedBy>ТитоваТ</cp:lastModifiedBy>
  <dcterms:modified xsi:type="dcterms:W3CDTF">2023-11-13T07:27:20Z</dcterms:modified>
  <cp:revision>71</cp:revision>
  <dc:subject/>
  <dc:title>Слайд 1</dc:title>
</cp:coreProperties>
</file>