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F649-DB76-45D6-9A3E-139C8869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721-ABC7-4555-A0B3-A8C5A021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A2F-6A31-4201-B3CD-BC91F4DF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D89-D8DC-4AE6-BB0F-12BD8819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7FE-EB82-46C2-8E55-34448ABB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55B-45E5-4B67-BC88-B183DBB1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2FC-9C4C-43A5-9CDC-00F1ED3D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E7F-E468-4812-93A8-64152DC9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CBE-BED7-4494-876E-C1F19AD8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5C4-3655-43A2-BDDF-E1B30084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F7F-C226-4300-813A-8FAD40B6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7FC-A2DA-4401-B370-AD611B2C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F00F-8A53-4EF8-ADB6-870B1DD6B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ww\Desktop\НЕ УДАЛЯТЬ !\ФОТОГРАФИИ\фон презентаций\06.jpg"/>
          <p:cNvPicPr/>
          <p:nvPr/>
        </p:nvPicPr>
        <p:blipFill>
          <a:blip r:embed="rId1"/>
          <a:srcRect l="0" t="0" r="0" b="48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395280" y="1268280"/>
            <a:ext cx="781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азвитие  функциональной грамотности  учащихся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начальной школы на уроках русского я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Мы идём по лесу. На тропинке попадаются сосновые шишки. Сосна уже давно сбросила их. А на ели ещё красуются зрелые шиш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1300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е еловые и сосновые шишки. Заполните табл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23880" y="4508640"/>
          <a:ext cx="6096240" cy="17287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х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зли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s://urok.1sept.ru/articles/606919/presentation/04.jpg"/>
          <p:cNvPicPr/>
          <p:nvPr/>
        </p:nvPicPr>
        <p:blipFill>
          <a:blip r:embed="rId1"/>
          <a:stretch/>
        </p:blipFill>
        <p:spPr>
          <a:xfrm>
            <a:off x="108000" y="260280"/>
            <a:ext cx="8796240" cy="659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ww\Desktop\НЕ УДАЛЯТЬ !\ФОТОГРАФИИ\фон презентаций\06.jpg"/>
          <p:cNvPicPr/>
          <p:nvPr/>
        </p:nvPicPr>
        <p:blipFill>
          <a:blip r:embed="rId1"/>
          <a:srcRect l="0" t="0" r="0" b="485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Заголовок 1"/>
          <p:cNvSpPr/>
          <p:nvPr/>
        </p:nvSpPr>
        <p:spPr>
          <a:xfrm>
            <a:off x="2050920" y="1125360"/>
            <a:ext cx="685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Орфографическая грамотность - это составная часть общей языковой культуры, залог точности выражения мысли и взаимопонимания, основа развития ключевых компетенций учащихся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одержимое 2"/>
          <p:cNvSpPr/>
          <p:nvPr/>
        </p:nvSpPr>
        <p:spPr>
          <a:xfrm>
            <a:off x="2484360" y="2924280"/>
            <a:ext cx="635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Формирование навыков грамотного письма у школьников  -  одна из самых трудных задач, которую приходится решать учителю. Но именно эта задача обозначается как важнейшая программная установка при формировании функционально грамотной личности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ебный предмет </a:t>
            </a:r>
            <a:r>
              <a:rPr b="1" i="1" lang="ru-RU" sz="2000" spc="-1" strike="noStrike">
                <a:solidFill>
                  <a:srgbClr val="7030a0"/>
                </a:solidFill>
                <a:latin typeface="Calibri"/>
              </a:rPr>
              <a:t>“Русский язык”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иентирован на овладение учащимися функциональной грамот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 и допиши слова в предложениях (читательская грамотность). 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https://imgs.euroki.org/books/gdzs/3706/1699070.png?v=1554223125"/>
          <p:cNvPicPr/>
          <p:nvPr/>
        </p:nvPicPr>
        <p:blipFill>
          <a:blip r:embed="rId1"/>
          <a:srcRect l="-585" t="46568" r="-870" b="22667"/>
          <a:stretch/>
        </p:blipFill>
        <p:spPr>
          <a:xfrm>
            <a:off x="395280" y="1557360"/>
            <a:ext cx="8353440" cy="2735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значат следущие выражения?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306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https://imgs.euroki.org/books/gdzs/3706/1699070.png?v=1554223125"/>
          <p:cNvPicPr/>
          <p:nvPr/>
        </p:nvPicPr>
        <p:blipFill>
          <a:blip r:embed="rId1"/>
          <a:srcRect l="215" t="82038" r="0" b="0"/>
          <a:stretch/>
        </p:blipFill>
        <p:spPr>
          <a:xfrm>
            <a:off x="755640" y="1484280"/>
            <a:ext cx="7993080" cy="1584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4932360" y="1700280"/>
            <a:ext cx="136836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468360" y="335772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Упражнение  «Толковый словарь».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айте определение слову часы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мостоятельно ученики записывают лексическое значение данного слова.  Затем зачитываются определения учащихся,  определение из словар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временно вырабатываются орфографические, пунктуационные, речевые навыки 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Ы́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бор для измерения времени в пределах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ие часы ты ещё знаешь? Объясни. Почему они так называются. От какого слова образовалось такое название часов. Напиш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https://imgs.euroki.org/books/gdzs/3706/1699070.png?v=1554223125"/>
          <p:cNvPicPr/>
          <p:nvPr/>
        </p:nvPicPr>
        <p:blipFill>
          <a:blip r:embed="rId1"/>
          <a:srcRect l="1114" t="77458" r="2955" b="16467"/>
          <a:stretch/>
        </p:blipFill>
        <p:spPr>
          <a:xfrm>
            <a:off x="719280" y="1413000"/>
            <a:ext cx="8424720" cy="720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042920" y="213372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стественно-научная и математическая грамо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17375e"/>
                </a:solidFill>
                <a:latin typeface="Calibri"/>
              </a:rPr>
              <a:t>Сколько минут в часах? Сколько часов в сутках?  Какие единицы времени ещё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еречислить пять дней недели, не называя 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вет: позавчера, вчера, сегодня, завтра, послезав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словар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 ты думаешь, почему часы - незаменимая вещь для всего человечества? Напиши сообщ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player.myshared.ru/17/1130506/slides/slide_13.jpg"/>
          <p:cNvPicPr/>
          <p:nvPr/>
        </p:nvPicPr>
        <p:blipFill>
          <a:blip r:embed="rId1"/>
          <a:srcRect l="6614" t="5039" r="-165" b="13065"/>
          <a:stretch/>
        </p:blipFill>
        <p:spPr>
          <a:xfrm>
            <a:off x="1125360" y="1600200"/>
            <a:ext cx="6893280" cy="4525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адайте ребус и запишите пословиц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700000" y="1599840"/>
            <a:ext cx="59864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Урок: 1 класс. И в шутку и всерьез. И. Токмакова «Мы играли в хохотушки»,  Я. Тайц «Волк», Г. Кружков «Ррры!»"/>
          <p:cNvPicPr/>
          <p:nvPr/>
        </p:nvPicPr>
        <p:blipFill>
          <a:blip r:embed="rId1"/>
          <a:stretch/>
        </p:blipFill>
        <p:spPr>
          <a:xfrm>
            <a:off x="1116000" y="1557360"/>
            <a:ext cx="7683480" cy="431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134 с.6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05264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бята вошли в берёзовую аллею и увидели памятник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то был памятник лётчикам — защитникам Ленинграда. Во время войны здесь был фронтовой аэродром. Отсюда взлетали самолёты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перь здесь парк. Высоко взметнулись берёзы, сосны, ели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 чём говорится в тексте? Озаглавь текст. </a:t>
            </a: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Выберите наиболее подходящее заглавие.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Найди однокоренные слова. Напиши ответы на вопросы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1.  Где ребята увидели памятник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2.  Кому был поставлен этот памятник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3.  Что здесь было в годы войны?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.  Как изменилось это место теперь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2500" spc="-1" strike="noStrike">
                <a:solidFill>
                  <a:srgbClr val="0070c0"/>
                </a:solidFill>
                <a:latin typeface="Calibri"/>
              </a:rPr>
              <a:t>Какие чувства испытывали ребята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475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положи события в той последовательности, как они были описаны в тексте, вписав в каждый квадратик цифры 1, 2,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перь здесь пар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бята увидели памятни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щитники Ленингра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ты считаешь, какая основная мысль этого текста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иши одно предлож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вет: 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826920" y="1628640"/>
            <a:ext cx="289080" cy="287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826920" y="2060640"/>
            <a:ext cx="289080" cy="28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826920" y="2565360"/>
            <a:ext cx="28908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3:50:52Z</dcterms:created>
  <dc:creator>я</dc:creator>
  <dc:description/>
  <dc:language>en-US</dc:language>
  <cp:lastModifiedBy>к-18</cp:lastModifiedBy>
  <dcterms:modified xsi:type="dcterms:W3CDTF">2022-11-11T07:24:57Z</dcterms:modified>
  <cp:revision>70</cp:revision>
  <dc:subject/>
  <dc:title>Развитие  функциональной грамотности  учащихся  начальной школы</dc:title>
</cp:coreProperties>
</file>