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906-77CB-43B7-8BE7-8755D175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376-0669-4DC2-B755-04A17003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1F3-B3AF-44C4-83A2-DEFF3DC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A03-7572-4A5D-9DAA-7564C14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7CA-3CD5-41E1-9934-ECC3DF3D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4CF-3F48-4709-8E38-9D8F4AA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523-803B-4927-A779-B9660655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8A8-6054-4CA2-BD01-7B6659C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425-07D6-4568-8D21-AF37D76A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D4B-8685-4289-B640-8ADF242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024-908A-4EA0-B8BC-4318FE7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9D9-6279-4130-9C1F-71428E5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261-3EE4-4CCD-A9D0-131EAA6D7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ww\Desktop\НЕ УДАЛЯТЬ !\ФОТОГРАФИИ\фон презентаций\06.jpg"/>
          <p:cNvPicPr/>
          <p:nvPr/>
        </p:nvPicPr>
        <p:blipFill>
          <a:blip r:embed="rId1"/>
          <a:srcRect l="0" t="0" r="0" b="48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95280" y="1268280"/>
            <a:ext cx="781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азвитие  функциональной грамотности  учащихся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начальной школы на уроках рус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ы идём по лесу. На тропинке попадаются сосновые шишки. Сосна уже давно сбросила их. А на ели ещё красуются зрелые шиш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еловые и сосновые шишки. 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4508640"/>
          <a:ext cx="6096240" cy="1728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х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urok.1sept.ru/articles/606919/presentation/04.jpg"/>
          <p:cNvPicPr/>
          <p:nvPr/>
        </p:nvPicPr>
        <p:blipFill>
          <a:blip r:embed="rId1"/>
          <a:stretch/>
        </p:blipFill>
        <p:spPr>
          <a:xfrm>
            <a:off x="108000" y="260280"/>
            <a:ext cx="8796240" cy="659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ww\Desktop\НЕ УДАЛЯТЬ !\ФОТОГРАФИИ\фон презентаций\06.jpg"/>
          <p:cNvPicPr/>
          <p:nvPr/>
        </p:nvPicPr>
        <p:blipFill>
          <a:blip r:embed="rId1"/>
          <a:srcRect l="0" t="0" r="0" b="48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2050920" y="1125360"/>
            <a:ext cx="68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Орфографическая грамотность - это составная часть общей языковой культуры, залог точности выражения мысли и взаимопонимания, основа развития ключевых компетенций учащихс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2484360" y="2924280"/>
            <a:ext cx="635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Формирование навыков грамотного письма у школьников  -  одна из самых трудных задач, которую приходится решать учителю. Но именно эта задача обозначается как важнейшая программная установка при формировании функционально грамотной личност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бный предмет 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“Русский язык”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иентирован на овладение учащимися функциональной грамот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и допиши слова в предложениях (читательская грамотность). 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https://imgs.euroki.org/books/gdzs/3706/1699070.png?v=1554223125"/>
          <p:cNvPicPr/>
          <p:nvPr/>
        </p:nvPicPr>
        <p:blipFill>
          <a:blip r:embed="rId1"/>
          <a:srcRect l="-585" t="46568" r="-870" b="22667"/>
          <a:stretch/>
        </p:blipFill>
        <p:spPr>
          <a:xfrm>
            <a:off x="395280" y="1557360"/>
            <a:ext cx="8353440" cy="2735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начат следущие выражения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06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https://imgs.euroki.org/books/gdzs/3706/1699070.png?v=1554223125"/>
          <p:cNvPicPr/>
          <p:nvPr/>
        </p:nvPicPr>
        <p:blipFill>
          <a:blip r:embed="rId1"/>
          <a:srcRect l="215" t="82038" r="0" b="0"/>
          <a:stretch/>
        </p:blipFill>
        <p:spPr>
          <a:xfrm>
            <a:off x="755640" y="1484280"/>
            <a:ext cx="7993080" cy="1584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4932360" y="1700280"/>
            <a:ext cx="136836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468360" y="3357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Упражнение  «Толковый словарь»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айте определение слову часы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остоятельно ученики записывают лексическое значение данного слова.  Затем зачитываются определения учащихся,  определение из слова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временно вырабатываются орфографические, пунктуационные, речевые навыки 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Ы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бор для измерения времени в пределах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часы ты ещё знаешь? Объясни. Почему они так называются. От какого слова образовалось такое название часов. Напиш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s://imgs.euroki.org/books/gdzs/3706/1699070.png?v=1554223125"/>
          <p:cNvPicPr/>
          <p:nvPr/>
        </p:nvPicPr>
        <p:blipFill>
          <a:blip r:embed="rId1"/>
          <a:srcRect l="1114" t="77458" r="2955" b="16467"/>
          <a:stretch/>
        </p:blipFill>
        <p:spPr>
          <a:xfrm>
            <a:off x="719280" y="1413000"/>
            <a:ext cx="8424720" cy="72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042920" y="213372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тественно-научная и математическая грамо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колько минут в часах? Сколько часов в сутках?  Какие единицы времени ещё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еречислить пять дней недели, не называя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 позавчера, вчера, сегодня, завтра, послезав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словар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ты думаешь, почему часы - незаменимая вещь для всего человечества? Напиши сообщ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player.myshared.ru/17/1130506/slides/slide_13.jpg"/>
          <p:cNvPicPr/>
          <p:nvPr/>
        </p:nvPicPr>
        <p:blipFill>
          <a:blip r:embed="rId1"/>
          <a:srcRect l="6614" t="5039" r="-165" b="13065"/>
          <a:stretch/>
        </p:blipFill>
        <p:spPr>
          <a:xfrm>
            <a:off x="1125360" y="1600200"/>
            <a:ext cx="689328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адайте ребус и запишите послов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000" y="1599840"/>
            <a:ext cx="59864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Урок: 1 класс. И в шутку и всерьез. И. Токмакова «Мы играли в хохотушки»,  Я. Тайц «Волк», Г. Кружков «Ррры!»"/>
          <p:cNvPicPr/>
          <p:nvPr/>
        </p:nvPicPr>
        <p:blipFill>
          <a:blip r:embed="rId1"/>
          <a:stretch/>
        </p:blipFill>
        <p:spPr>
          <a:xfrm>
            <a:off x="1116000" y="1557360"/>
            <a:ext cx="7683480" cy="431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134 с.6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бята вошли в берёзовую аллею и увидели памятник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о был памятник лётчикам — защитникам Ленинграда. Во время войны здесь был фронтовой аэродром. Отсюда взлетали самолёты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перь здесь парк. Высоко взметнулись берёзы, сосны, ел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 чём говорится в тексте? Озаглавь текст. </a:t>
            </a: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Выберите наиболее подходящее заглави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Найди однокоренные слова. Напиши ответы на вопросы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 Где ребята увидели памятник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 Кому был поставлен этот памятник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 Что здесь было в годы войны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 Как изменилось это место тепер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Какие чувства испытывали ребят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75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положи события в той последовательности, как они были описаны в тексте, вписав в каждый квадратик цифры 1, 2,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перь здесь пар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бята увидели памятни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ники Ленингра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ты считаешь, какая основная мысль этого текста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ши одно предло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вет: 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826920" y="162864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826920" y="2060640"/>
            <a:ext cx="2890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826920" y="2565360"/>
            <a:ext cx="2890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3:50:52Z</dcterms:created>
  <dc:creator>я</dc:creator>
  <dc:description/>
  <dc:language>en-US</dc:language>
  <cp:lastModifiedBy>к-18</cp:lastModifiedBy>
  <dcterms:modified xsi:type="dcterms:W3CDTF">2022-11-11T07:24:57Z</dcterms:modified>
  <cp:revision>70</cp:revision>
  <dc:subject/>
  <dc:title>Развитие  функциональной грамотности  учащихся  начальной школы</dc:title>
</cp:coreProperties>
</file>