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gif" ContentType="image/gif"/>
  <Override PartName="/ppt/media/image10.jpeg" ContentType="image/jpeg"/>
  <Override PartName="/ppt/media/image7.gif" ContentType="image/gif"/>
  <Override PartName="/ppt/media/image8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FE05-1AA2-4B9F-B4D3-4FF449D12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28C4-4D75-4783-B10F-D1C3A5538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AF3A-09CA-4F63-9A8E-5745A0FBF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8DED-77F2-4E69-93EF-CEEFD8854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59FF-A539-45D2-A308-ABB9F6DEB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CDCD-B3F8-4D42-95B8-3A15B6FFA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19C9-55A8-4A3E-820B-EED9709D8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EDA5-E7CC-4AF1-BC43-B6DF8D7DF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A84C-26DB-4F08-911A-A2C2D3B6D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CE62-866E-46F8-8EB9-0E55C530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6693-D9FE-447D-8A97-63155360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0CDE-CAB9-4427-82D5-74969422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C7893-AF0E-465D-8F2B-826E52A2B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"/>
          <p:cNvSpPr/>
          <p:nvPr/>
        </p:nvSpPr>
        <p:spPr>
          <a:xfrm>
            <a:off x="179280" y="2277360"/>
            <a:ext cx="914400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ff"/>
                </a:solidFill>
                <a:latin typeface="Arial"/>
              </a:rPr>
              <a:t>Выпускная квалификационная работа</a:t>
            </a:r>
            <a:r>
              <a:rPr b="1" i="1" lang="en-US" sz="5400" spc="-1" strike="noStrike">
                <a:solidFill>
                  <a:srgbClr val="c5070c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68360" y="333360"/>
            <a:ext cx="81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333360"/>
            <a:ext cx="86421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ыпускная квалификационная работа  состоит из трёх  гла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теоретическа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практическая о работе учителя по физической культуре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практическая о внедрении работы спортивной секции «Здоровячёк» заключени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иски литературы (28)и приложения(4)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4000" y="2781360"/>
            <a:ext cx="8642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дернизация российского образования открыла перед школьными учителями широкие возможности для творчества в решении проблем физического развития и воспитания, выборе современных технологий  организации образовательного процесса,  организации урочных и внеурочных занятий в соответствии с материальной базой школы, региональными и природно-климатическими условиями проживания, подготовленностью учащихся и другими фактор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0920" y="5084640"/>
            <a:ext cx="86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настоящее время  исследования  в области психологи,    физиологии,   педагогики рассматривают вопрос о физическом  развитии и совершенствовании детей школьного возра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2152440" y="40104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6608520" y="594612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9280" y="125640"/>
            <a:ext cx="86425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дутся исследования  по совершенствованию разработок в области технологии педагогического  процесса направленные на совершенствование умений ,навыков детей в физическом развитии.[5,87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омощью физических упражнений можно целенаправленно воздействовать на воспитание физических качеств человека, что, естественно, может улучшить его физическое развитие и физическую подготовленность, а это, в свою очередь, отразится на показателях здоровья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аботе мы рассматривали  выполнение детьми младшего школьного возраста  жизненно важных умений и навыков  (ходьба, бег, прыжки, метание предметов, лазание, ползание, перелезание, передвижение на лыжах, плавание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д современным учителем физической культуры стоит задача обеспечить высокий уровень активности учащихся на уроках. Для этого необходимо, чтобы школьники испытывали интерес к занятиям физическими упражнениями, стремились развивать необходимые для этого физические и психические качества и получали удовлетворение от этих урок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 опыт работы учителей  по физической культуре по    формированию умений и навыков у детей младшего школьного возраста, изученные   технологии, которые применяются в работе  учителями  по физической культуре   определили выбор правильной педагогической технологии, направленной на развитие физических умений и навыков у детей в младшем школьном  возрасте. [17,9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4708440" y="685080"/>
            <a:ext cx="443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2477880" y="594612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333360"/>
            <a:ext cx="86421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ши наблюдения показали, что командные виды спорта  хорошо подойдут общительным детям. Если ребенок необщительный и замкнутый, то эти виды спорта помогут развить в нем коммуникабельность, повысить самооценку. Занятия командными видами спорта предполагают большую подвижность и общение со сверстниками. Они направлены на: -тренировку вестибулярного аппарата, координацию движений;- развитие  мышц ног;- на улучшение работы дыхательной и сердечно-сосудистой систем;- на развитие  точности и быстроты реакции, ловкости, улучшение осан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ение вида восточных единоборств - дзюдо, ушу  в упражнениях показывают, что занятия с этими видами единоборств с младшего школьного  возраста уменьшают степень ожирения, риск сердечнососудистых заболеваний, поднимают самооценку детей. Они также являются средством лечения депрессии.[18,56]  Направлены на :- развитие ловкости, гибкости и быстроту реакции ; -на оздоровительное действие организма;-помогают учиться контролировать свое тело и эмо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ение занятий художественной гимнастики, аэробики, спортивных танцев как видами спорта наиболее полезны будут для девочек, хотя и некоторые мальчики с удовольствием посещают эти занятия, например занятия  спортивными  танцами. Эти занятия  направлены  на:- развитие гибкости и пластичности;- улучшения координации движений;-формированию красивой фигуры и пластики в движен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50920" y="333360"/>
            <a:ext cx="86421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 современной школе с помощью технологий здоровье сберегающей педагогики, которые рассматриваются как совокупность приемов и методов организации учебно-воспитательного процесса без ущерба для здоровья школьников и педагогов каждый ребенок должен расти здоровым физически и духовно. В этом помогают занятия физической культурой и внеурочной деятельностью – работа спортивных секций. [18,2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неурочные занятия способствуют общему физическому развитию, укрепляют здоровье, развивают ловкость и координацию движений, вырабатывают мышечную силу, силу воли, настойчивость, уверенность в себе, умение постоять за себя, умение терпеть боль и усталость, преодолевать препятствия, навыки работы в команде, дают возможность выплеснуть накопившуюся энергию в активн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еники,  которые посещают спортивную секцию, это дети одного возраста, но разного уровня физического развития.  Главная  задача работы секций - укрепить здоровье всех занимающихся и улучшить уровень физического развития  детей среднего и низкого уровня развития умений  и навыков с помощью подвижных игр, физических упражнений, командных видов спорта, применение упражнений из восточных единоборств (дзюдо, ушу),  художественной гимнастики, аэробики, спортивных танцев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3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6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9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6854760" y="479340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0920" y="260280"/>
            <a:ext cx="8713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ы разработа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ехнологию работы спортивной секции для детей младшего школьного возраста  «Здоровячёк»,которая включала четыре блока работы с детьми: 1- подбор и выполнение упражнений на формирование умений и навыков, проведение занятий по физической культуре в традиционной  и нетрадиционной форме;  2-командные виды спорта, 3-  виды восточных единоборств - дзюдо, ушу  в упражнениях, 4- занятий художественной гимнастики, аэробики, спортивных танцев как видами спорта. Работа спортивной секции проводилась два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ики всех уровней физического развития с помощью спортивной секции  «Здоровячёк» улучшили свое здоровье. Дети среднего и низкого уровня улучшили свой уровень физического развития, так как это дети которые любят заниматься физкультурой и спортом. С помощью подвижных игр, физических упражнений( дзюдо, ушу), художественной гимнастики, аэробики, спортивных танцев как видами спорта улучшили свое здоровье и свой физический уровень.  Физический уровень развития  физических умений и навыков у детей младшего школьного возраста, мы определили методом мониторин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ниторинг формирования физических  умений и навыков был проведён по технологии, разработанной  А.И Замогильнова.  [2 ]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468360" y="1341360"/>
          <a:ext cx="7931160" cy="5253120"/>
        </p:xfrm>
        <a:graphic>
          <a:graphicData uri="http://schemas.openxmlformats.org/drawingml/2006/table">
            <a:tbl>
              <a:tblPr/>
              <a:tblGrid>
                <a:gridCol w="390600"/>
                <a:gridCol w="2251080"/>
                <a:gridCol w="1322280"/>
                <a:gridCol w="1324080"/>
                <a:gridCol w="1320840"/>
                <a:gridCol w="13222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ы 2012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я.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ша С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ма.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ка 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ександр 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ка 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ексей 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я 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одя 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ман 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вгений 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ета 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ексей 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вгения 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дрей 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ета 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ка 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я 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ша 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ма 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"/>
          <p:cNvSpPr/>
          <p:nvPr/>
        </p:nvSpPr>
        <p:spPr>
          <a:xfrm>
            <a:off x="826920" y="549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аблица : Результаты оценивания достижений школь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0920" y="1484280"/>
            <a:ext cx="8642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таблице видно как уровень всех занимающихся улучшился  по сравнению с предыдущими достижениями в физическом личностном развит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ниторинг формирования умений и навыков проводился  при выполнении физических упражнений  детьми на уроках по физической культуре и их выполнение в  спортивной секции показали, что занимающиеся с высоким уровнем физического развития выполняют лучше упражнения и различные задания по физической культуре, и по  времени быстрее справляются  с заданиям чем дети среднего и низкого уровня физического развития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еники  высокого уровня физического развития это дети  с хорошими физическими данными. Они не только укрепляют своё здоровье, но и овладевают новыми умениям и навыкам на уроках физической культуры, проявляют интерес к конкретному виду спорта, самостоятельно или иногда  с консультацией  со стороны учителя, могут   овладеть новыми умениями и навыками,  в будущем будут их самостоятельно совершенство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50920" y="189000"/>
            <a:ext cx="86421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еникам  среднего уровня физического развития это дети, которым необходимо укреплять здоровье, улучшать формирующиеся и закреплять сформированные умения и навыки. На занятиях по физической культуре могут стать более ловкими и сильными, активными, внимательными при частичном контроле и консультации со стороны  учителя,  могут догнать детей высокого уровня физического развития. Для  этих детей необходимо разнообразить методы  и приёмы   при объяснении нового материала и выполнении  упражнений на занятиях или дополнительно отводить время для работы  над ни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еники  низкого уровня физического развития  это дети с  помощью  физической культуры и физических упражнений не всегда могут видеть и работать над своими  недостатками, проявляют нетерпимость или наоборот нерешительность. С ними надо работать дополнительно по  укреплению мышечного тонуса, проявлению смелости, решительности и исправлению действий опорно-двигательного аппарата, влияющего на осанку. Это с возрастом  поможет им стать сильнее, выносливее, быстрее, может исправить координацию движений в лучшую сторону. Для  этих детей необходимо разнообразить методы  и приёмы   при объяснении и выполнении  упражнений на занятиях или дополнительно отводить время для индивидуальной работы  с ни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тенциал у всех  детей разный ,естественно не все занимающиеся  дети разных уровней станут великими спортсменами, но улучшат своё здоровье и могут стать более крепкими в физическом развит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835280" y="5805360"/>
            <a:ext cx="61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76360" y="6021360"/>
            <a:ext cx="590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58920" y="260280"/>
            <a:ext cx="5857920" cy="96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за внимание.</a:t>
            </a:r>
            <a:endParaRPr b="0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8" dur="2000" fill="hold"/>
                                        <p:tgtEl>
                                          <p:spTgt spid="98"/>
                                        </p:tgtEl>
                                      </p:cBhvr>
                                      <p:to x="130000" y="13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25653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«Научно методические аспекты применения физических упражнений на уроках физической культуры с детьми младшего школьного возраста»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32000" y="3716280"/>
            <a:ext cx="6400800" cy="19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76280"/>
            <a:ext cx="684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На тему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79280" y="907560"/>
            <a:ext cx="878544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484360" y="2349360"/>
            <a:ext cx="6659640" cy="4508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580000" cy="39672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763640" y="3111480"/>
            <a:ext cx="5545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864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едметом исследования стал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изменения происходящие у детей младшего школьного возраста в процессе применения научно методических аспектов, при выполнении физических упражнений на уроках физической культ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2708280"/>
            <a:ext cx="820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бъектом исследования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дети младшего школьного возраста занимающиеся на уроках физической культуры физическими упражнения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8000" y="4653000"/>
            <a:ext cx="878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Цель исследования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учить научно -методические аспекты применения физических упражнений на уроках физической культуры  с детьми младшего школьного возра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824200" y="2584440"/>
            <a:ext cx="434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6920" y="692280"/>
            <a:ext cx="70567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Задачи исследова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37372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Разработать проект спортивной  секции «Здоровячёк» по совершенствованию физического и психического развития детей младшего школьного возраста и апробировать ее в школе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414972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Дать анализ работы учителя физической культуры и выявить уровень сформированности умений и навыков при выполнении физических упражнений детьми младшего школьного возраста на уроках физической куль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0920" y="292428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Выявить особенности физических и психических изменений происходящих  на уроках физической культуры с детьми младшего школьного возраста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177336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Провести анализ научно- методической литературы, раскрывающей применение  физических упражнений на уроках физической культуры  с детьми младшего школьного возра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10"/>
          <p:cNvGraphicFramePr/>
          <p:nvPr/>
        </p:nvGraphicFramePr>
        <p:xfrm>
          <a:off x="539640" y="1925640"/>
          <a:ext cx="4038840" cy="21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925640"/>
                    <a:ext cx="403884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00720" y="981000"/>
            <a:ext cx="4038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8" descr="24 161"/>
          <p:cNvPicPr/>
          <p:nvPr/>
        </p:nvPicPr>
        <p:blipFill>
          <a:blip r:embed="rId3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3708360" y="3645000"/>
            <a:ext cx="3821040" cy="1871640"/>
            <a:chOff x="3708360" y="3645000"/>
            <a:chExt cx="3821040" cy="1871640"/>
          </a:xfrm>
        </p:grpSpPr>
        <p:sp>
          <p:nvSpPr>
            <p:cNvPr id="66" name="AutoShape 13"/>
            <p:cNvSpPr/>
            <p:nvPr/>
          </p:nvSpPr>
          <p:spPr>
            <a:xfrm>
              <a:off x="4427280" y="3645000"/>
              <a:ext cx="2737080" cy="719280"/>
            </a:xfrm>
            <a:prstGeom prst="cloudCallout">
              <a:avLst>
                <a:gd name="adj1" fmla="val -42634"/>
                <a:gd name="adj2" fmla="val 51763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Picture 16" descr="b2"/>
            <p:cNvPicPr/>
            <p:nvPr/>
          </p:nvPicPr>
          <p:blipFill>
            <a:blip r:embed="rId4"/>
            <a:stretch/>
          </p:blipFill>
          <p:spPr>
            <a:xfrm>
              <a:off x="6443640" y="4653000"/>
              <a:ext cx="1085760" cy="74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9" descr="4"/>
            <p:cNvPicPr/>
            <p:nvPr/>
          </p:nvPicPr>
          <p:blipFill>
            <a:blip r:embed="rId5"/>
            <a:stretch/>
          </p:blipFill>
          <p:spPr>
            <a:xfrm>
              <a:off x="3708360" y="4437360"/>
              <a:ext cx="1143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Text Box 14"/>
            <p:cNvSpPr/>
            <p:nvPr/>
          </p:nvSpPr>
          <p:spPr>
            <a:xfrm>
              <a:off x="4859280" y="3645000"/>
              <a:ext cx="180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Слабеет тело без дела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" dur="1000" fill="hold"/>
                                        <p:tgtEl>
                                          <p:spTgt spid="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50920" y="260280"/>
            <a:ext cx="8642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ипотеза исследования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если раскроем  мониторинг формирования умений и навыков и обоснуем уровни их сформированности с  применением новых  технологий  в работе учителя по физической культуре с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ьми младшего школьного возраста, то определим значение  работы учителя по физическому воспитанию   для развития и совершенствования  умений и навыков у детей  младшего школьного возраста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3645000"/>
            <a:ext cx="8642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оды и методики исследования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теоретические метод анализ литературных источников,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ументации научных статей, анализ опыта работы учителя по физической культуре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эмп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и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ческие- дневник наблюдений (выявить детей, которые  не справляются с правильным выполнением упражнений на уроках физической культуры,- эксперимент,- игровые методы ,беседа, методика мониторинга  (автор А.И.Замогильнова) умений и навыков по выполнению уровня развития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0920" y="620640"/>
            <a:ext cx="8642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учная новиз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исследования- применение новой  педагогической  технологии   руководства по совершенствованию умений и навыков у детей младшего школьного возраста в процессе занятий физическими упражнениями  на основе мониторинга  выявления  уровней их сформированности у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278136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актическая значимо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исследования, определяется как применяет новые технологии в работе учитель по физической культуре на развитие умений и навыков на уроках физической культуры и  работы спортивной секции «Здоровячёк» для детей младшего школьного возраста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08464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за исследо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школа №9 город Новозыбков 3 классы (а,б,в,г).(23ученика,19 учеников,30 учеников,22 учени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836640"/>
            <a:ext cx="403848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2" dur="1000" fill="hold"/>
                                        <p:tgtEl>
                                          <p:spTgt spid="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30T13:15:10Z</dcterms:created>
  <dc:creator>User</dc:creator>
  <dc:description/>
  <dc:language>en-US</dc:language>
  <cp:lastModifiedBy>777</cp:lastModifiedBy>
  <dcterms:modified xsi:type="dcterms:W3CDTF">2013-06-15T13:35:56Z</dcterms:modified>
  <cp:revision>4</cp:revision>
  <dc:subject/>
  <dc:title>Слайд 1</dc:title>
</cp:coreProperties>
</file>