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BC8-FC22-4C7D-802F-A2C2E4B5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94E-CC93-4F82-BCF1-17CCAC63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74D-16CB-4C7C-B08D-B2E58EDC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F01-BC4B-4E61-A4D8-8846AA33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365-36F2-4EFD-88E4-41B00036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C65-25B6-493B-A162-36DE58FB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ECF-A84E-48DB-ABD6-327517F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4B0-987F-464F-929A-3432A8EE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391-B242-430D-9372-6737185D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E25-61BA-4C53-85D9-B67D4E4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E65-F3FC-4D53-A9A8-8A727CB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070-6D15-4AAB-BE28-69E7A922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08E5-EE1B-460D-8455-644BCB2D9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79280" y="2277360"/>
            <a:ext cx="9144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Выпускная квалификационная работа</a:t>
            </a:r>
            <a:r>
              <a:rPr b="1" i="1" lang="en-US" sz="5400" spc="-1" strike="noStrike">
                <a:solidFill>
                  <a:srgbClr val="c5070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333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3336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  состоит из трёх  гл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теоретическ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практическая о работе учителя по физической культуре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практическая о внедрении работы спортивной секции «Здоровячёк» заклю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иски литературы (28)и приложения(4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7813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рнизация российского образования открыла перед школьными учителями широкие возможности для творчества в решении проблем физического развития и воспитания, выборе современных технологий  организации образовательного процесса,  организации урочных и внеурочных занятий в соответствии с материальной базой школы, региональными и природно-климатическими условиями проживания, подготовленностью учащихся и другими фа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084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стоящее время  исследования  в области психологи,    физиологии,   педагогики рассматривают вопрос о физическом  развитии и совершенствовании детей 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152440" y="401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608520" y="59461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2564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тся исследования  по совершенствованию разработок в области технологии педагогического  процесса направленные на совершенствование умений ,навыков детей в физическом развитии.[5,8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физических упражнений можно целенаправленно воздействовать на воспитание физических качеств человека, что, естественно, может улучшить его физическое развитие и физическую подготовленность, а это, в свою очередь, отразится на показателях здоровь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мы рассматривали  выполнение детьми младшего школьного возраста  жизненно важных умений и навыков  (ходьба, бег, прыжки, метание предметов, лазание, ползание, перелезание, передвижение на лыжах, плава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современным учителем физической культуры стоит задача обеспечить высокий уровень активности учащихся на уроках. Для этого необходимо, чтобы школьники испытывали интерес к занятиям физическими упражнениями, стремились развивать необходимые для этого физические и психические качества и получали удовлетворение от этих уро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опыт работы учителей  по физической культуре по    формированию умений и навыков у детей младшего школьного возраста, изученные   технологии, которые применяются в работе  учителями  по физической культуре   определили выбор правильной педагогической технологии, направленной на развитие физических умений и навыков у детей в младшем школьном  возрасте. [17,9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708440" y="6850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477880" y="59461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наблюдения показали, что командные виды спорта  хорошо подойдут общительным детям. Если ребенок необщительный и замкнутый, то эти виды спорта помогут развить в нем коммуникабельность, повысить самооценку. Занятия командными видами спорта предполагают большую подвижность и общение со сверстниками. Они направлены на: -тренировку вестибулярного аппарата, координацию движений;- развитие  мышц ног;- на улучшение работы дыхательной и сердечно-сосудистой систем;- на развитие  точности и быстроты реакции, ловкости, улучшение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вида восточных единоборств - дзюдо, ушу  в упражнениях показывают, что занятия с этими видами единоборств с младшего школьного  возраста уменьшают степень ожирения, риск сердечнососудистых заболеваний, поднимают самооценку детей. Они также являются средством лечения депрессии.[18,56]  Направлены на :- развитие ловкости, гибкости и быстроту реакции ; -на оздоровительное действие организма;-помогают учиться контролировать свое тело и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занятий художественной гимнастики, аэробики, спортивных танцев как видами спорта наиболее полезны будут для девочек, хотя и некоторые мальчики с удовольствием посещают эти занятия, например занятия  спортивными  танцами. Эти занятия  направлены  на:- развитие гибкости и пластичности;- улучшения координации движений;-формированию красивой фигуры и пластики в дви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3336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современной школе с помощью технологий здоровье сберегающей педагогики, которые рассматриваются как совокупность приемов и методов организации учебно-воспитательного процесса без ущерба для здоровья школьников и педагогов каждый ребенок должен расти здоровым физически и духовно. В этом помогают занятия физической культурой и внеурочной деятельностью – работа спортивных секций. [18,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ые занятия способствуют общему физическому развитию, укрепляют здоровье, развивают ловкость и координацию движений, вырабатывают мышечную силу, силу воли, настойчивость, уверенность в себе, умение постоять за себя, умение терпеть боль и усталость, преодолевать препятствия, навыки работы в команде, дают возможность выплеснуть накопившуюся энергию в а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,  которые посещают спортивную секцию, это дети одного возраста, но разного уровня физического развития.  Главная  задача работы секций - укрепить здоровье всех занимающихся и улучшить уровень физического развития  детей среднего и низкого уровня развития умений  и навыков с помощью подвижных игр, физических упражнений, командных видов спорта, применение упражнений из восточных единоборств (дзюдо, ушу),  художественной гимнастики, аэробики, спортивных танце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4760" y="4793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6028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разработ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хнологию работы спортивной секции для детей младшего школьного возраста  «Здоровячёк»,которая включала четыре блока работы с детьми: 1- подбор и выполнение упражнений на формирование умений и навыков, проведение занятий по физической культуре в традиционной  и нетрадиционной форме;  2-командные виды спорта, 3-  виды восточных единоборств - дзюдо, ушу  в упражнениях, 4- занятий художественной гимнастики, аэробики, спортивных танцев как видами спорта. Работа спортивной секции проводилась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всех уровней физического развития с помощью спортивной секции  «Здоровячёк» улучшили свое здоровье. Дети среднего и низкого уровня улучшили свой уровень физического развития, так как это дети которые любят заниматься физкультурой и спортом. С помощью подвижных игр, физических упражнений( дзюдо, ушу), художественной гимнастики, аэробики, спортивных танцев как видами спорта улучшили свое здоровье и свой физический уровень.  Физический уровень развития  физических умений и навыков у детей младшего школьного возраста, мы определили методом монитор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 формирования физических  умений и навыков был проведён по технологии, разработанной  А.И Замогильнова.  [2 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1341360"/>
          <a:ext cx="7931160" cy="5253120"/>
        </p:xfrm>
        <a:graphic>
          <a:graphicData uri="http://schemas.openxmlformats.org/drawingml/2006/table">
            <a:tbl>
              <a:tblPr/>
              <a:tblGrid>
                <a:gridCol w="390600"/>
                <a:gridCol w="2251080"/>
                <a:gridCol w="1322280"/>
                <a:gridCol w="1324080"/>
                <a:gridCol w="1320840"/>
                <a:gridCol w="1322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2012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я.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а 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.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я 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дя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 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гений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гения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я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 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26920" y="549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ица : Результаты оценивания достижений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484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аблице видно как уровень всех занимающихся улучшился  по сравнению с предыдущими достижениями в физическом личностн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иторинг формирования умений и навыков проводился  при выполнении физических упражнений  детьми на уроках по физической культуре и их выполнение в  спортивной секции показали, что занимающиеся с высоким уровнем физического развития выполняют лучше упражнения и различные задания по физической культуре, и по  времени быстрее справляются  с заданиям чем дети среднего и низкого уровня физического развит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 высокого уровня физического развития это дети  с хорошими физическими данными. Они не только укрепляют своё здоровье, но и овладевают новыми умениям и навыкам на уроках физической культуры, проявляют интерес к конкретному виду спорта, самостоятельно или иногда  с консультацией  со стороны учителя, могут   овладеть новыми умениями и навыками,  в будущем будут их самостоятельно совершен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ам  среднего уровня физического развития это дети, которым необходимо укреплять здоровье, улучшать формирующиеся и закреплять сформированные умения и навыки. На занятиях по физической культуре могут стать более ловкими и сильными, активными, внимательными при частичном контроле и консультации со стороны  учителя,  могут догнать детей высокого уровня физического развития. Для  этих детей необходимо разнообразить методы  и приёмы   при объяснении нового материала и выполнении  упражнений на занятиях или дополнительно отводить время для работы  над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 низкого уровня физического развития  это дети с  помощью  физической культуры и физических упражнений не всегда могут видеть и работать над своими  недостатками, проявляют нетерпимость или наоборот нерешительность. С ними надо работать дополнительно по  укреплению мышечного тонуса, проявлению смелости, решительности и исправлению действий опорно-двигательного аппарата, влияющего на осанку. Это с возрастом  поможет им стать сильнее, выносливее, быстрее, может исправить координацию движений в лучшую сторону. Для  этих детей необходимо разнообразить методы  и приёмы   при объяснении и выполнении  упражнений на занятиях или дополнительно отводить время для индивидуальной работы 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 у всех  детей разный ,естественно не все занимающиеся  дети разных уровней станут великими спортсменами, но улучшат своё здоровье и могут стать более крепкими в физическом разви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35280" y="5805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02136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8920" y="260280"/>
            <a:ext cx="58579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.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«Научно методические аспекты применения физических упражнений на уроках физической культуры с детьми младшего школьного возраста»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7628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907560"/>
            <a:ext cx="8785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6659640" cy="450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311148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ом исследования ст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изменения происходящие у детей младшего школьного возраста в процессе применения научно методических аспектов, при выполнении физических упражнений на уроках физиче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708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ктом исследовани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ети младшего школьного возраста занимающиеся на уроках физической культуры физическими упражн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4653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исследования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аучно -методические аспекты применения физических упражнений на уроках физической культуры  с детьми младшего 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24200" y="258444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692280"/>
            <a:ext cx="705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3737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Разработать проект спортивной  секции «Здоровячёк» по совершенствованию физического и психического развития детей младшего школьного возраста и апробировать ее в школ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14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Дать анализ работы учителя физической культуры и выявить уровень сформированности умений и навыков при выполнении физических упражнений детьми младшего школьного возраста на уроках 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924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Выявить особенности физических и психических изменений происходящих  на уроках физической культуры с детьми младшего школьного возрас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77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овести анализ научно- методической литературы, раскрывающей применение  физических упражнений на уроках физической культуры  с детьми младшего 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539640" y="1925640"/>
          <a:ext cx="40388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25640"/>
                    <a:ext cx="40388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24 161"/>
          <p:cNvPicPr/>
          <p:nvPr/>
        </p:nvPicPr>
        <p:blipFill>
          <a:blip r:embed="rId3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708360" y="3645000"/>
            <a:ext cx="3821040" cy="1871640"/>
            <a:chOff x="3708360" y="3645000"/>
            <a:chExt cx="3821040" cy="1871640"/>
          </a:xfrm>
        </p:grpSpPr>
        <p:sp>
          <p:nvSpPr>
            <p:cNvPr id="66" name="AutoShape 13"/>
            <p:cNvSpPr/>
            <p:nvPr/>
          </p:nvSpPr>
          <p:spPr>
            <a:xfrm>
              <a:off x="4427280" y="3645000"/>
              <a:ext cx="2737080" cy="719280"/>
            </a:xfrm>
            <a:prstGeom prst="cloudCallout">
              <a:avLst>
                <a:gd name="adj1" fmla="val -42634"/>
                <a:gd name="adj2" fmla="val 5176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6" descr="b2"/>
            <p:cNvPicPr/>
            <p:nvPr/>
          </p:nvPicPr>
          <p:blipFill>
            <a:blip r:embed="rId4"/>
            <a:stretch/>
          </p:blipFill>
          <p:spPr>
            <a:xfrm>
              <a:off x="6443640" y="4653000"/>
              <a:ext cx="1085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" descr="4"/>
            <p:cNvPicPr/>
            <p:nvPr/>
          </p:nvPicPr>
          <p:blipFill>
            <a:blip r:embed="rId5"/>
            <a:stretch/>
          </p:blipFill>
          <p:spPr>
            <a:xfrm>
              <a:off x="3708360" y="4437360"/>
              <a:ext cx="1143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4"/>
            <p:cNvSpPr/>
            <p:nvPr/>
          </p:nvSpPr>
          <p:spPr>
            <a:xfrm>
              <a:off x="4859280" y="36450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лабеет тело без дел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26028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 исследования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раскроем  мониторинг формирования умений и навыков и обоснуем уровни их сформированности с  применением новых  технологий  в работе учителя по физической культуре 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ьми младшего школьного возраста, то определим значение  работы учителя по физическому воспитанию   для развития и совершенствования  умений и навыков у детей  младшего школьного возраст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645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 методики исследова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теоретические метод анализ литературных источников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и научных статей, анализ опыта работы учителя по физической культур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эмп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еские- дневник наблюдений (выявить детей, которые  не справляются с правильным выполнением упражнений на уроках физической культуры,- эксперимент,- игровые методы ,беседа, методика мониторинга  (автор А.И.Замогильнова) умений и навыков по выполнению уровня развит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ая новиз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сследования- применение новой  педагогической  технологии   руководства по совершенствованию умений и навыков у детей младшего школьного возраста в процессе занятий физическими упражнениями  на основе мониторинга  выявления  уровней их сформированности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781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сследования, определяется как применяет новые технологии в работе учитель по физической культуре на развитие умений и навыков на уроках физической культуры и  работы спортивной секции «Здоровячёк» для детей младшего школьного возрас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08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школа №9 город Новозыбков 3 классы (а,б,в,г).(23ученика,19 учеников,30 учеников,22 уче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15:10Z</dcterms:created>
  <dc:creator>User</dc:creator>
  <dc:description/>
  <dc:language>en-US</dc:language>
  <cp:lastModifiedBy>777</cp:lastModifiedBy>
  <dcterms:modified xsi:type="dcterms:W3CDTF">2013-06-15T13:35:56Z</dcterms:modified>
  <cp:revision>4</cp:revision>
  <dc:subject/>
  <dc:title>Слайд 1</dc:title>
</cp:coreProperties>
</file>